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8E1-4386-4CA7-90FC-FA9C9F1F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480-7891-4C5D-BE69-598995E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89A-1354-4DAE-8A4A-2868CAAB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05C-8A68-402A-A772-CC54B5C9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A2AE-7FE4-40AB-A51C-CFB6C1ED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AF3-D776-4D9E-AF6A-F550F3E3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472-4B28-4A89-AFD5-0C1DD57C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24AD-E4A0-4604-8963-6F77E1D1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9EA3-52F3-4EA3-9A1A-2A5A2DD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965-09E9-4673-9D5D-763C0AC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7993-D71D-4253-B729-F42070E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758-F98B-4F6A-9E48-BEAB18C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868-8DEF-4D99-9183-5148E22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516E-ED65-4972-B936-E24EE32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83B9-2C31-457D-9424-6A3BE34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07C5-095E-413A-8525-738038A9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C6E2-7324-4438-B9D1-AD790C43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DDA-4E21-4CFA-A8BE-1BE51AF5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761-D8BA-4555-8590-7C800517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5A8-89FC-408D-939C-6CA2F79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7E4-4D03-4FC3-AE4C-AF165AAF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1CC-E887-4E7A-9805-FCBA150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DEF-FF0D-4D6C-9795-512E74E6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A5C-CD0C-423D-9818-E7A9DBC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091-830F-4B55-BAED-57EC3A8DA9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0DAD-59CF-4A91-9C50-337AC58AC2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背景" descr="背景"/>
          <p:cNvPicPr/>
          <p:nvPr/>
        </p:nvPicPr>
        <p:blipFill>
          <a:blip r:embed="rId1"/>
          <a:stretch/>
        </p:blipFill>
        <p:spPr>
          <a:xfrm>
            <a:off x="0" y="-171360"/>
            <a:ext cx="9180360" cy="71182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-1614600" y="-1821240"/>
            <a:ext cx="18207000" cy="13279320"/>
            <a:chOff x="-1614600" y="-1821240"/>
            <a:chExt cx="18207000" cy="13279320"/>
          </a:xfrm>
        </p:grpSpPr>
        <p:sp>
          <p:nvSpPr>
            <p:cNvPr id="84" name="加号 6"/>
            <p:cNvSpPr/>
            <p:nvPr/>
          </p:nvSpPr>
          <p:spPr>
            <a:xfrm>
              <a:off x="7238880" y="4389840"/>
              <a:ext cx="428400" cy="999360"/>
            </a:xfrm>
            <a:custGeom>
              <a:avLst/>
              <a:gdLst>
                <a:gd name="textAreaLeft" fmla="*/ 56520 w 428400"/>
                <a:gd name="textAreaRight" fmla="*/ 371880 w 428400"/>
                <a:gd name="textAreaTop" fmla="*/ 461160 h 999360"/>
                <a:gd name="textAreaBottom" fmla="*/ 538200 h 999360"/>
              </a:gdLst>
              <a:ahLst/>
              <a:rect l="textAreaLeft" t="textAreaTop" r="textAreaRight" b="textAreaBottom"/>
              <a:pathLst>
                <a:path w="428628" h="1000132">
                  <a:moveTo>
                    <a:pt x="56815" y="461547"/>
                  </a:moveTo>
                  <a:lnTo>
                    <a:pt x="175795" y="461547"/>
                  </a:lnTo>
                  <a:lnTo>
                    <a:pt x="175795" y="132567"/>
                  </a:lnTo>
                  <a:lnTo>
                    <a:pt x="252833" y="132567"/>
                  </a:lnTo>
                  <a:lnTo>
                    <a:pt x="252833" y="461547"/>
                  </a:lnTo>
                  <a:lnTo>
                    <a:pt x="371813" y="461547"/>
                  </a:lnTo>
                  <a:lnTo>
                    <a:pt x="371813" y="538585"/>
                  </a:lnTo>
                  <a:lnTo>
                    <a:pt x="252833" y="538585"/>
                  </a:lnTo>
                  <a:lnTo>
                    <a:pt x="252833" y="867565"/>
                  </a:lnTo>
                  <a:lnTo>
                    <a:pt x="175795" y="867565"/>
                  </a:lnTo>
                  <a:lnTo>
                    <a:pt x="175795" y="538585"/>
                  </a:lnTo>
                  <a:lnTo>
                    <a:pt x="56815" y="538585"/>
                  </a:lnTo>
                  <a:lnTo>
                    <a:pt x="56815" y="4615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24"/>
            <p:cNvSpPr/>
            <p:nvPr/>
          </p:nvSpPr>
          <p:spPr>
            <a:xfrm>
              <a:off x="-1614600" y="4889880"/>
              <a:ext cx="18207000" cy="144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5"/>
            <p:cNvSpPr/>
            <p:nvPr/>
          </p:nvSpPr>
          <p:spPr>
            <a:xfrm flipV="1">
              <a:off x="7452360" y="-1821240"/>
              <a:ext cx="720" cy="1327932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-1614600" y="-1821240"/>
            <a:ext cx="18207000" cy="13279320"/>
            <a:chOff x="-1614600" y="-1821240"/>
            <a:chExt cx="18207000" cy="13279320"/>
          </a:xfrm>
        </p:grpSpPr>
        <p:sp>
          <p:nvSpPr>
            <p:cNvPr id="88" name="加号 6"/>
            <p:cNvSpPr/>
            <p:nvPr/>
          </p:nvSpPr>
          <p:spPr>
            <a:xfrm>
              <a:off x="7238880" y="4389840"/>
              <a:ext cx="428400" cy="999360"/>
            </a:xfrm>
            <a:custGeom>
              <a:avLst/>
              <a:gdLst>
                <a:gd name="textAreaLeft" fmla="*/ 56520 w 428400"/>
                <a:gd name="textAreaRight" fmla="*/ 371880 w 428400"/>
                <a:gd name="textAreaTop" fmla="*/ 461160 h 999360"/>
                <a:gd name="textAreaBottom" fmla="*/ 538200 h 999360"/>
              </a:gdLst>
              <a:ahLst/>
              <a:rect l="textAreaLeft" t="textAreaTop" r="textAreaRight" b="textAreaBottom"/>
              <a:pathLst>
                <a:path w="428628" h="1000132">
                  <a:moveTo>
                    <a:pt x="56815" y="461547"/>
                  </a:moveTo>
                  <a:lnTo>
                    <a:pt x="175795" y="461547"/>
                  </a:lnTo>
                  <a:lnTo>
                    <a:pt x="175795" y="132567"/>
                  </a:lnTo>
                  <a:lnTo>
                    <a:pt x="252833" y="132567"/>
                  </a:lnTo>
                  <a:lnTo>
                    <a:pt x="252833" y="461547"/>
                  </a:lnTo>
                  <a:lnTo>
                    <a:pt x="371813" y="461547"/>
                  </a:lnTo>
                  <a:lnTo>
                    <a:pt x="371813" y="538585"/>
                  </a:lnTo>
                  <a:lnTo>
                    <a:pt x="252833" y="538585"/>
                  </a:lnTo>
                  <a:lnTo>
                    <a:pt x="252833" y="867565"/>
                  </a:lnTo>
                  <a:lnTo>
                    <a:pt x="175795" y="867565"/>
                  </a:lnTo>
                  <a:lnTo>
                    <a:pt x="175795" y="538585"/>
                  </a:lnTo>
                  <a:lnTo>
                    <a:pt x="56815" y="538585"/>
                  </a:lnTo>
                  <a:lnTo>
                    <a:pt x="56815" y="4615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4"/>
            <p:cNvSpPr/>
            <p:nvPr/>
          </p:nvSpPr>
          <p:spPr>
            <a:xfrm>
              <a:off x="-1614600" y="4889880"/>
              <a:ext cx="18207000" cy="144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5"/>
            <p:cNvSpPr/>
            <p:nvPr/>
          </p:nvSpPr>
          <p:spPr>
            <a:xfrm flipV="1">
              <a:off x="7452360" y="-1821240"/>
              <a:ext cx="720" cy="13279320"/>
            </a:xfrm>
            <a:prstGeom prst="line">
              <a:avLst/>
            </a:prstGeom>
            <a:ln w="144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图片1" descr="图片1"/>
          <p:cNvPicPr/>
          <p:nvPr/>
        </p:nvPicPr>
        <p:blipFill>
          <a:blip r:embed="rId2"/>
          <a:stretch/>
        </p:blipFill>
        <p:spPr>
          <a:xfrm>
            <a:off x="4689360" y="2781360"/>
            <a:ext cx="2476440" cy="180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图片2" descr="图片4"/>
          <p:cNvPicPr/>
          <p:nvPr/>
        </p:nvPicPr>
        <p:blipFill>
          <a:blip r:embed="rId3"/>
          <a:stretch/>
        </p:blipFill>
        <p:spPr>
          <a:xfrm>
            <a:off x="4645080" y="2781360"/>
            <a:ext cx="2520720" cy="183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3" name="图片3" descr="图片3"/>
          <p:cNvPicPr/>
          <p:nvPr/>
        </p:nvPicPr>
        <p:blipFill>
          <a:blip r:embed="rId4"/>
          <a:stretch/>
        </p:blipFill>
        <p:spPr>
          <a:xfrm>
            <a:off x="3276720" y="1846440"/>
            <a:ext cx="2411280" cy="3617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图片2"/>
          <p:cNvPicPr/>
          <p:nvPr/>
        </p:nvPicPr>
        <p:blipFill>
          <a:blip r:embed="rId5"/>
          <a:stretch/>
        </p:blipFill>
        <p:spPr>
          <a:xfrm>
            <a:off x="1403280" y="1773360"/>
            <a:ext cx="4068720" cy="4066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5" name="Text Box 15"/>
          <p:cNvSpPr/>
          <p:nvPr/>
        </p:nvSpPr>
        <p:spPr>
          <a:xfrm>
            <a:off x="1547640" y="3429000"/>
            <a:ext cx="33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BY:   </a:t>
            </a:r>
            <a:r>
              <a:rPr b="1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看球听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4428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相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350208 -0.338796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350208 -0.338796 L 0.013819 -0.350648 E">
                                      <p:cBhvr>
                                        <p:cTn id="1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-0.350208 -0.002778 E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11806 -0.35037 L -0.476458 0.132686 E">
                                      <p:cBhvr>
                                        <p:cTn id="2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350486 0 L -0.176944 -0.475278 E">
                                      <p:cBhvr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3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-0.476389 0.122037 L -0.200764 -0.507963 E">
                                      <p:cBhvr>
                                        <p:cTn id="3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-0.20875 -0.497407 L -0.7125 0.217685 E">
                                      <p:cBhvr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1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-0.208681 -0.50787 L -0.208681 -0.148333 E">
                                      <p:cBhvr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-0.704861 0.200741 L -0.704583 -0.147222 E">
                                      <p:cBhvr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6" presetSubtype="26">
                                  <p:stCondLst>
                                    <p:cond delay="138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208681 -0.140463 L -0.437084 -0.140463 E">
                                      <p:cBhvr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704792 -0.140463 L -0.437084 -0.140463 E">
                                      <p:cBhvr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-0.436875 -0.147222 L -0.704722 -0.227037 E">
                                      <p:cBhvr>
                                        <p:cTn id="5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-0.441042 -0.150926 L -0.2425 -0.08 E">
                                      <p:cBhvr>
                                        <p:cTn id="5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BD9-4491-419F-82FE-2D69C76BD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YANGS</cp:lastModifiedBy>
  <dcterms:modified xsi:type="dcterms:W3CDTF">2015-07-21T06:33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