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rack02-2.26.wav" ContentType="audio/x-wav"/>
  <Override PartName="/ppt/media/image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E72-A434-4CAF-98F8-CE1EC8AF8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B34-9A3D-4D28-90DE-403BE8A1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EA0-BB4B-4885-B4FF-8B4C3E373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372C-04E2-41AD-8F1E-D5EECC3A3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FF98A-FA99-4CD8-BE27-C9A76A76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1D028D-21B8-4375-87E2-C09C200E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AB21E-2F21-48E5-BED1-2ED4C711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A5831-0353-4563-BF78-6953B12E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6A5F3-7729-4F30-A898-43F33C1A8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933C6-81F7-48AA-BBB1-6E668ED0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2768B-125B-4047-AC6D-BC9DDFBD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CFD-DF16-4297-9138-6C01E266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72D79-5EE6-4201-BD0F-1F1FB30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DB4E4-6CC6-48E3-B7A1-4E8C0031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CA539-1871-4A9A-B4B5-1B94A5F7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4D3EA-D861-44AC-B69F-A5E3B048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24531-1BEE-4D24-BBBA-C30E5FC00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EF1-A1C8-439E-84C6-421B52AB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B87-9D7F-4897-AE60-2D8142F4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179-2520-48FD-A7F1-2393FFD2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6A4-DD5B-48C8-A909-A17A2AF8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B2FC-37A2-47CD-9B02-B2DD30DB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2AA-C97F-48E2-B294-16FB87A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E11-4DA1-49C9-AB52-C72C7CFA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2E2C-5C98-4442-8EAA-60D81ABA359C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3E2D-8B2E-4879-BD7D-3A475EC6D214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Wingdings 2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429240" y="6214680"/>
            <a:ext cx="2476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96464"/>
                </a:solidFill>
                <a:latin typeface="黑体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90AD-45EB-4D6E-9101-09EB664DEFEE}" type="datetime">
              <a:rPr b="1" lang="en-US" sz="1400" spc="-1" strike="noStrike">
                <a:solidFill>
                  <a:srgbClr val="696464"/>
                </a:solidFill>
                <a:latin typeface="黑体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398D-6CD1-4567-B735-103DD33F85E1}" type="slidenum"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ack02-2.26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2306605-lg"/>
          <p:cNvPicPr/>
          <p:nvPr/>
        </p:nvPicPr>
        <p:blipFill>
          <a:blip r:embed="rId1"/>
          <a:stretch/>
        </p:blipFill>
        <p:spPr>
          <a:xfrm>
            <a:off x="-231840" y="0"/>
            <a:ext cx="960768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240c"/>
                </a:solidFill>
                <a:latin typeface="DFKai-SB"/>
                <a:ea typeface="DFKai-SB"/>
              </a:rPr>
              <a:t>友谊长存</a:t>
            </a:r>
            <a:r>
              <a:rPr b="0" lang="en-US" sz="4000" spc="-1" strike="noStrike">
                <a:solidFill>
                  <a:srgbClr val="69240c"/>
                </a:solidFill>
                <a:latin typeface="DFKai-SB"/>
                <a:ea typeface="DFKai-SB"/>
              </a:rPr>
              <a:t>PPT</a:t>
            </a:r>
            <a:r>
              <a:rPr b="0" lang="zh-CN" sz="4000" spc="-1" strike="noStrike">
                <a:solidFill>
                  <a:srgbClr val="69240c"/>
                </a:solidFill>
                <a:latin typeface="DFKai-SB"/>
                <a:ea typeface="DFKai-SB"/>
              </a:rPr>
              <a:t>模板免费下载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8" name="灯片编号占位符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56C0-20BB-4AB5-AEC6-D2CA75A0FA92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7017120" y="62150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自动或手动播放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53" name="Picture 14" descr="2568684-lg"/>
          <p:cNvPicPr/>
          <p:nvPr/>
        </p:nvPicPr>
        <p:blipFill>
          <a:blip r:embed="rId1"/>
          <a:stretch/>
        </p:blipFill>
        <p:spPr>
          <a:xfrm>
            <a:off x="0" y="-7920"/>
            <a:ext cx="9396360" cy="6865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685800" y="685800"/>
            <a:ext cx="4724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在乎的是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看到誰寄</a:t>
            </a:r>
            <a:r>
              <a:rPr b="1" lang="en-US" sz="3600" spc="-1" strike="noStrike">
                <a:solidFill>
                  <a:srgbClr val="ffff00"/>
                </a:solidFill>
                <a:latin typeface="DFKai-SB"/>
                <a:ea typeface="DFKai-SB"/>
              </a:rPr>
              <a:t>E-mail</a:t>
            </a:r>
            <a:r>
              <a:rPr b="1" lang="zh-CN" sz="3600" spc="-1" strike="noStrike">
                <a:solidFill>
                  <a:srgbClr val="ffff00"/>
                </a:solidFill>
                <a:latin typeface="DFKai-SB"/>
                <a:ea typeface="DFKai-SB"/>
              </a:rPr>
              <a:t>來了，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DFKai-SB"/>
                <a:ea typeface="DFKai-SB"/>
              </a:rPr>
              <a:t>感覺真好</a:t>
            </a:r>
            <a:r>
              <a:rPr b="1" lang="en-US" sz="3600" spc="-1" strike="noStrike">
                <a:solidFill>
                  <a:srgbClr val="ff0000"/>
                </a:solidFill>
                <a:latin typeface="DFKai-SB"/>
                <a:ea typeface="DFKai-SB"/>
              </a:rPr>
              <a:t>......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5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C6E2-0FAE-4081-B3E4-A9F3E4203276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感觉真好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内容占位符 3" descr="咖啡.jpg"/>
          <p:cNvPicPr/>
          <p:nvPr/>
        </p:nvPicPr>
        <p:blipFill>
          <a:blip r:embed="rId1"/>
          <a:stretch/>
        </p:blipFill>
        <p:spPr>
          <a:xfrm>
            <a:off x="355680" y="266760"/>
            <a:ext cx="8432640" cy="6324480"/>
          </a:xfrm>
          <a:prstGeom prst="rect">
            <a:avLst/>
          </a:prstGeom>
          <a:ln w="0">
            <a:noFill/>
          </a:ln>
        </p:spPr>
      </p:pic>
      <p:sp>
        <p:nvSpPr>
          <p:cNvPr id="92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6C26-00E4-41E2-90F4-9F70C882FD8A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00040" y="1356840"/>
            <a:ext cx="5214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喝杯咖啡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聽起來讓人很温馨且令人感動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聊一聊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和你說說話。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【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再忙，也要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些無聊的東東給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42960" y="1357200"/>
            <a:ext cx="55627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7" name="文字方塊 6"/>
          <p:cNvSpPr/>
          <p:nvPr/>
        </p:nvSpPr>
        <p:spPr>
          <a:xfrm>
            <a:off x="1214280" y="85716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DFKai-SB"/>
                <a:ea typeface="DFKai-SB"/>
              </a:rPr>
              <a:t>很特別的一句廣告詞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med" advTm="15000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0" name="Picture 10" descr="2281147-lg"/>
          <p:cNvPicPr/>
          <p:nvPr/>
        </p:nvPicPr>
        <p:blipFill>
          <a:blip r:embed="rId1"/>
          <a:stretch/>
        </p:blipFill>
        <p:spPr>
          <a:xfrm>
            <a:off x="0" y="0"/>
            <a:ext cx="9325080" cy="6935760"/>
          </a:xfrm>
          <a:prstGeom prst="rect">
            <a:avLst/>
          </a:prstGeom>
          <a:ln w="0">
            <a:noFill/>
          </a:ln>
        </p:spPr>
      </p:pic>
      <p:sp>
        <p:nvSpPr>
          <p:cNvPr id="101" name="內容版面配置區 11"/>
          <p:cNvSpPr/>
          <p:nvPr/>
        </p:nvSpPr>
        <p:spPr>
          <a:xfrm>
            <a:off x="928800" y="928800"/>
            <a:ext cx="75009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我們常怕打擾別人，而忽略要打個電話問候對方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久而久之，漸漸疏遠、漸漸陌生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直到有一天，連方的電話號碼都忘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DFKai-SB"/>
                <a:ea typeface="DFKai-SB"/>
              </a:rPr>
              <a:t>或者，怕對方早忘了你，而沒有勇氣再打電話給他了</a:t>
            </a:r>
            <a:r>
              <a:rPr b="1" lang="en-US" sz="2000" spc="-1" strike="noStrike">
                <a:solidFill>
                  <a:srgbClr val="000000"/>
                </a:solidFill>
                <a:latin typeface="DFKai-SB"/>
                <a:ea typeface="DFKai-SB"/>
              </a:rPr>
              <a:t>....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灯片编号占位符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D28C-2784-4195-AD85-C0EFE93DF164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打电话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3276720" y="4572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9" name="Picture 10" descr="1750131-l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1"/>
          <p:cNvSpPr/>
          <p:nvPr/>
        </p:nvSpPr>
        <p:spPr>
          <a:xfrm>
            <a:off x="755640" y="857160"/>
            <a:ext cx="488808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想現代人應該都是寂寞的吧？因為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總覺得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寂寞，與有沒有人陪在身邊，無關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那是一種心靈上的空虛，總在最脆弱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時分竄上心頭，引發出內心深層的孤寂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其實不很懂，為什麼我會覺得寂寞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大多時候，是忙得心力交瘁的，而不管如何地繁忙，我總是知道身邊至少還有個他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灯片编号占位符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6B6A-42E7-4694-B10E-A6357EEC6CE8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664000" y="6273720"/>
            <a:ext cx="46447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cc9900"/>
                </a:solidFill>
                <a:uFillTx/>
                <a:latin typeface="黑体"/>
                <a:hlinkClick r:id="rId2"/>
              </a:rPr>
              <a:t>ppt素材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http://www.eeppt.com/sucai/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advTm="22000">
    <p:diamond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18" name="Picture 11" descr="2930017-lg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9"/>
          <p:cNvSpPr/>
          <p:nvPr/>
        </p:nvSpPr>
        <p:spPr>
          <a:xfrm>
            <a:off x="1447920" y="2666880"/>
            <a:ext cx="655308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但為什麼還是會寂寞？我想或許是我太重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</a:t>
            </a:r>
            <a:r>
              <a:rPr b="1" lang="en-US" sz="2000" spc="-1" strike="noStrike">
                <a:solidFill>
                  <a:srgbClr val="002060"/>
                </a:solidFill>
                <a:latin typeface="DFKai-SB"/>
                <a:ea typeface="DFKai-SB"/>
              </a:rPr>
              <a:t>"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“</a:t>
            </a: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情”不單單是愛情，還有親情和友情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甚至還有一些無法定義的感情，都是情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我常捫心自問：「有這麼忙嗎？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廣告詞中的：「再忙，也要和你喝杯咖啡。」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說得多好啊！若有心，應該是這種境界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有時候，抓起話筒想和他說說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卻又顧忌到他是否有時間與我說話呢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DFKai-SB"/>
                <a:ea typeface="DFKai-SB"/>
              </a:rPr>
              <a:t>最後，還是放下了電話。只是，偶爾我會感到寂寞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FE07-9DAD-40AA-97DB-AE61D2B1A5B5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为什么寂寞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20000">
    <p:pull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6" name="Picture 8" descr="2486586-lg"/>
          <p:cNvPicPr/>
          <p:nvPr/>
        </p:nvPicPr>
        <p:blipFill>
          <a:blip r:embed="rId1"/>
          <a:stretch/>
        </p:blipFill>
        <p:spPr>
          <a:xfrm>
            <a:off x="0" y="-71280"/>
            <a:ext cx="9325080" cy="69292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1143000" y="3143160"/>
            <a:ext cx="58230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每當想起其他的好朋友時，心頭總是悵然的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曾經和我走過生命中某一段過程的朋友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我都很想念，不知道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現在好嗎？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是否偶爾也會想起我呢？或許將會永遠斷了聯絡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我永遠都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過得好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(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妳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)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們能夠幸福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8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18C2-F3D7-4194-8235-FEAD1586FB22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想念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trips dir="rd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34" name="Picture 8" descr="1903531-lg"/>
          <p:cNvPicPr/>
          <p:nvPr/>
        </p:nvPicPr>
        <p:blipFill>
          <a:blip r:embed="rId1"/>
          <a:stretch/>
        </p:blipFill>
        <p:spPr>
          <a:xfrm>
            <a:off x="-108000" y="-27000"/>
            <a:ext cx="9325080" cy="6932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9"/>
          <p:cNvSpPr/>
          <p:nvPr/>
        </p:nvSpPr>
        <p:spPr>
          <a:xfrm>
            <a:off x="428760" y="3714840"/>
            <a:ext cx="5603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看完這篇文章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...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希望大家不管多忙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都不要忘了找一個時間和朋友聚一聚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或者通個電話問候一下吧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世界有許多人在關心你，也需要你的關心呢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6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7431-E01C-4858-A20B-B1A0A373A6B6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聚一聚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newsflash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603440" y="2057400"/>
            <a:ext cx="546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352680" y="25909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5261040" y="2209680"/>
            <a:ext cx="546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7149960" y="228600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42" name="Picture 8" descr="3026017-lg"/>
          <p:cNvPicPr/>
          <p:nvPr/>
        </p:nvPicPr>
        <p:blipFill>
          <a:blip r:embed="rId1"/>
          <a:stretch/>
        </p:blipFill>
        <p:spPr>
          <a:xfrm>
            <a:off x="-144360" y="0"/>
            <a:ext cx="9396360" cy="68756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3429000" y="1066680"/>
            <a:ext cx="526896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不過感謝現在有</a:t>
            </a:r>
            <a:r>
              <a:rPr b="1" lang="en-US" sz="2000" spc="-1" strike="noStrike">
                <a:solidFill>
                  <a:srgbClr val="ffffff"/>
                </a:solidFill>
                <a:latin typeface="DFKai-SB"/>
                <a:ea typeface="DFKai-SB"/>
              </a:rPr>
              <a:t>e-mail</a:t>
            </a: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這麼方便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雖然隨著時間的流逝友情已不復當年濃鬱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但總是能知道一下對方的消息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DFKai-SB"/>
                <a:ea typeface="DFKai-SB"/>
              </a:rPr>
              <a:t>有的時候並不是真的寄信的內容多吸引人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灯片编号占位符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FDFB-6D7F-4EF8-8331-B75B30F94162}" type="slidenum"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/9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14240" y="-13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e-mail</a:t>
            </a:r>
            <a:r>
              <a:rPr b="0" lang="zh-CN" sz="2800" spc="-1" strike="noStrike">
                <a:solidFill>
                  <a:srgbClr val="696464"/>
                </a:solidFill>
                <a:latin typeface="Franklin Gothic Book"/>
              </a:rPr>
              <a:t>多方便</a:t>
            </a:r>
            <a:endParaRPr b="0" lang="en-US" sz="28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 advTm="15000">
    <p:split dir="out" orient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6464"/>
                </a:solidFill>
                <a:latin typeface="Franklin Gothic Book"/>
              </a:rPr>
              <a:t>使用规范说明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erpetu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9900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9900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erpetu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9900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06:01:08Z</dcterms:created>
  <dc:creator>Roger@sanshui</dc:creator>
  <dc:description/>
  <cp:keywords/>
  <dc:language>en-US</dc:language>
  <cp:lastModifiedBy>a</cp:lastModifiedBy>
  <dcterms:modified xsi:type="dcterms:W3CDTF">2015-07-21T02:57:52Z</dcterms:modified>
  <cp:revision>97</cp:revision>
  <dc:subject/>
  <dc:title>友好要说出口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