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91E83-A164-45CA-87F8-C48EC956ED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CAEE7-7AFB-43F6-8ED8-F8EE181B96D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2078CE-3A80-483B-A071-34B568CCD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861E647-9861-45D1-A796-C50DCA915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CB970F-3B27-409C-9738-E52CA076A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97B2D4-656F-493F-BE12-927AB3DC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E204D34-D1DF-4FF1-A33B-82E437A8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74AAFDD-C233-4D31-81F1-61177396F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AF01A7-0787-40E2-A3DF-1CCA39BDB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F638ECC-AC69-409A-9B8E-8D8FEB61F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1CDBA8-BB3F-41C4-96EB-954DEB110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D179E79-3768-43FB-BCC1-978237F3D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FB185-BC2F-4372-961A-109D1D1F6EB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C1A7BCF-5EF0-4596-9279-9D217FCA3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2EA83EF-F474-47CB-9D1E-89243DF95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8BC8FE0-6F91-4B77-9074-8104988B6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4997EED-CF37-4048-A470-189EAEAC7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FB04FA6-1960-4C6F-A919-AE3C60365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F6165ED-150D-4B93-AE82-9C432976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BD348CD-324A-492D-B98E-1E15D141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EE50998-EE1D-4B0A-9353-2142B85F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85F05A1-59EB-4301-95A0-94ED748DB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F409DD5-5FB6-4D0F-839D-ECABCBFEB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B94E6-F37B-426D-9473-6BC631CF528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9D2C3BF-0AE0-4051-8C3C-06E8E1EC8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B646990-3E66-4BB1-807C-FC79C0333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4810D17-BEAA-4D3D-B3B3-4289F6882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BDA7797-D75E-49D7-B3F5-3B633ED6C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9D3B94C-AC3C-4676-95E2-F30EC6EE3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F7D84D2-7E79-44B6-B529-B70B160E9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2354C37-1690-42E6-B618-50D5C6B77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8938AB5-82F6-40AA-B2A6-0839F9F2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DAF6BDD-C019-456E-98F6-F0713EA6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F596083-D42F-47D3-AF5B-87A7604A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92B1-D96B-4983-B361-32C85BE39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3F00930-D237-4BC6-A751-5912ED2D7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EEBDC55-10C6-4F65-B56F-F983E44E4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52D7CDE-A5DB-499C-9271-41F3372A1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C4FBD50-8B03-4201-A387-2BCDBF5D5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3DCF737-0B8F-4F87-9A77-DB450DBF6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3418699-5255-43EC-9364-70A61153E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E0C3714-29C2-4D12-9223-BD373990F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71978E6-9D00-4859-A105-DDC0B3427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D9F5912-F79A-453C-8BEE-4BCF6E1B6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196C113-B24F-46D6-A305-D540E29E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2F9F-50E1-444A-97C3-A70A91AF9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A5B67F9-3F6B-47C3-8724-AE72E75F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7A3F570-0F9E-4962-BCAD-E7996CFC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AE2BFE6-D430-4BC0-AA09-5A088FB81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CE096BD-0A10-4AFE-99FB-27C270DEF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75A2982-77B6-4978-80F7-1BC9A601A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55678BF-D932-4648-9C07-7CB6F4ECB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FE1CE0B-04CF-4B67-B8E5-78F6D1FAC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9BDC0B7-D1EB-4F7F-B4CF-5D38AE411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84FB591-EE59-4D63-8126-EF6F9E6F0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1554C1C-C34B-4687-B504-448FE9FE6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7C82-9784-410C-8E2B-E81B24FCD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10B8CB6-2D5E-469A-BB30-FCB9385A8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EB14286-37FD-4458-810A-2C1C21C4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E09A99F-5ADF-4018-B714-CBDC7A22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E5069C9-8D17-46A0-B4D5-16AF8317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87B86B2-AAF2-4504-8CEB-62F21C361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771C816-2C51-4735-8641-C8A3CE2FB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F579A57-C9BD-41F2-A12F-71B861FA9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5DD184D-7B1A-49A9-955A-8ED676A8E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2CD71AD-DDE8-4C0A-8050-1120647A2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774F619-882E-4BD9-AE53-23C5FC4FF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FC75-CA48-4732-BBC6-6A26B70D2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042E7CA-5A39-472B-9672-79AB1C215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338C636-A92B-41D6-BAAE-E3F6381FD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F5534F4-8ABB-4F27-9EC6-CFE299EBC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DAC265F-A574-4517-B5A1-B9749F10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486F5D5-1E45-4198-B947-E1E18226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25F9624-D289-4FBB-8DC7-B725AB58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39FEDE9-A564-4C7B-AF7C-2874C92FF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C69D2D1-4401-4BC7-942F-68767E189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83B0CE1-1B19-453C-B54B-E99E557E8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675A-0532-4399-853F-58AFB2C5D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7C63-97BB-4143-B934-10BBFE44E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3D19-C12C-410D-ABB5-42ACAF4F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07F83-7797-4276-8F20-773582EAD8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20FD-3684-4C42-B86A-7E2BAE863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4A59-42B2-45A8-A1AD-E0CAFE08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8188-74CB-45C1-AEEB-5B362C3FF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5044-6538-4D9F-AF58-2FFA6CC77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4D71-062C-449D-B6F3-DEF8B3B49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9320D6-F0CA-4AB8-A11B-728AEBF42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EA0BF3-858D-4D26-89BD-CCF9D25BF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D90966-E781-4C55-B1D7-07F895804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E5D7D5-7255-41A9-80C6-EC56E9BAF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4E8AF0-F514-41B1-B286-0F7DC8FF0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5A176-DDAF-45B3-8E09-16749D22637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1ACF27-A8ED-495D-A810-496D5E033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A7B5F4-EC10-4ABE-8347-AEF854F2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4C3236-B9DB-4600-9B8B-15B2999A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29DE55-5535-43CA-B452-420FF6FE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F65705-C577-4F18-B19F-731C8D1C3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FB458E-F77B-43CA-B55C-B31CFA52F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DC44E5-1A3C-439A-877D-4AF537F1E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ECAED9-6CAB-4FF5-B5CF-9434DA43D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C24444-BB7D-434F-B2D2-63CCBE18E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79ADE6-E98C-448C-9790-F7615364E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D309F-4DE0-4B79-9B50-B18625C09E1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9BA067-2BC1-4E2C-8C81-0FB71232F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D62511-EA2B-4A83-9581-28E5B26D1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67B9EA-D9CD-49D0-A4ED-30F523D4E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1A6F09-A940-4A9A-A0D8-E52BF383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C74169-4E71-435B-B40B-616A9B2DB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0A8E3C-FDD6-44B4-BFD1-B561DCEB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64C518-282E-47E2-B7AF-083223EBF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EF7E06-DA78-4E5D-BC05-D8534F61C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EF2D6A-C28A-4B04-9D4F-A8BA21795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34C139-C3AC-4A8E-9F6E-87C11910D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EDC88-B258-4DE8-8BF5-74054AC9F11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9A7A95-E40F-4FC1-8D32-8B2241AFB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030F02-A8B5-4B08-9A3B-43018D5DE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B750EA-822A-435C-B68F-6D45CF0D6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525CE8-D4E6-4D79-913C-4AFD5EFDE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956AEE-71B5-4339-AA19-9C04E0A17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09BF6D-BA46-45D1-B664-78BB758A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EE0D4C-547B-486D-BD20-4C027998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FD57DE-3927-4A50-99DB-A6E03A70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19D2C7-57AB-4809-8762-6D071EBD4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ABBFEC-75A7-454C-8794-E2117A563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47370-643B-4E9A-A768-C5E3C30F42F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1B0B74-65B3-4DE2-B58F-6BCC18320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0F782E-2718-4582-B344-CA9139439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C56C33-A007-4FC8-8CA0-0861FAAE6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721B1C-A4CA-463D-B271-CEB565391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0C1640-D112-4DB0-9FC0-74121D37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7041E8-AF74-4382-9277-0EDB8E1E4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95B4C5-88FB-4E05-AD22-9B3957FA1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423231-8AF3-4D03-926A-AF268B10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4A54EB-5E9F-4FE1-9B2F-7F7B513A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E6D023-2984-45C4-B28A-C82E8CEF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0E79C-EDB8-44E6-92A8-8FB3EB303FB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90FC18-7B30-4614-8CB4-C323A9EC4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4CF1B3-C212-4400-B690-52ACE34C8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EA9BDC-7D8F-4D34-BAFC-088A69180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F602DD-A382-4A4D-A399-0ADB21762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4B4D58-FC97-46FE-AE12-0110A551B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70BA1E-D898-4DE8-8E4A-328DCA7AA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57D682-77AE-403C-AF18-66F393B2A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2970B9-CBA0-44B8-B7B8-2393D3B9E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F38845-ABB6-4FD9-9210-254A31F84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DC0A92-DB14-45A7-8A77-5FB0FC92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1D18C-8E15-4947-8BE6-48951FD392D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642255-D523-4EF9-BA92-099A78D2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7E738D-D63F-4099-ACB1-179ECD68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98852F-0E46-40FA-949D-5448853EA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FBAD8E-C42B-4A36-9FE8-B56329524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6D595C-FD33-4FAE-952B-44E56A2CA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5D68DD-EE79-4ED5-A790-EE950CCC6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ADD22C-A28C-4E99-815D-6E01CBD67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59A123-59AB-47F8-99FC-2BEDC2FDD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E0EE5E-6309-4480-9F48-04092ED99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544539-439B-412D-8D92-7ECC7EB2E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ED6D1-7829-49EC-AD1E-83DE6F0BEEF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00ECF2-3A63-4956-B498-CC6AED590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B4868E-7BAF-49EF-9488-F650333F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4A6085-96C8-47EC-B534-6C86447D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5EA171-2E71-415E-BE4F-73734D26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0D66FC-B53B-4727-8AF8-C08B15648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51C6F2-B751-42B5-ADBC-BB06A36E1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E62BB5-B886-460C-90C9-E700FFBEB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D2F0B7-6CD9-4D5A-A01D-C09990921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612B72B-6AE6-422E-8048-5F92E262E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80C37E-AE3F-4BB9-9D70-408A03483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EA993-9769-4421-A6FE-E80AA0EDA2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46160" y="42840"/>
            <a:ext cx="59767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Text Box 46"/>
          <p:cNvSpPr/>
          <p:nvPr/>
        </p:nvSpPr>
        <p:spPr>
          <a:xfrm>
            <a:off x="7535880" y="60480"/>
            <a:ext cx="1428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Gulim"/>
              </a:rPr>
              <a:t>LOGO</a:t>
            </a:r>
            <a:endParaRPr b="0" lang="en-US" sz="26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5" name="Picture 79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53" descr="4"/>
          <p:cNvPicPr/>
          <p:nvPr/>
        </p:nvPicPr>
        <p:blipFill>
          <a:blip r:embed="rId3"/>
          <a:stretch/>
        </p:blipFill>
        <p:spPr>
          <a:xfrm>
            <a:off x="0" y="0"/>
            <a:ext cx="9144000" cy="220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46"/>
          <p:cNvSpPr/>
          <p:nvPr/>
        </p:nvSpPr>
        <p:spPr>
          <a:xfrm>
            <a:off x="7535880" y="60480"/>
            <a:ext cx="1428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Gulim"/>
              </a:rPr>
              <a:t>LOGO</a:t>
            </a:r>
            <a:endParaRPr b="0" lang="en-US" sz="26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394" name="Picture 79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53" descr="4"/>
          <p:cNvPicPr/>
          <p:nvPr/>
        </p:nvPicPr>
        <p:blipFill>
          <a:blip r:embed="rId3"/>
          <a:stretch/>
        </p:blipFill>
        <p:spPr>
          <a:xfrm>
            <a:off x="0" y="0"/>
            <a:ext cx="9144000" cy="220500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title"/>
          </p:nvPr>
        </p:nvSpPr>
        <p:spPr>
          <a:xfrm>
            <a:off x="146160" y="42840"/>
            <a:ext cx="59767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DB183-42BA-4C34-B303-7739E7BC2E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46"/>
          <p:cNvSpPr/>
          <p:nvPr/>
        </p:nvSpPr>
        <p:spPr>
          <a:xfrm>
            <a:off x="7535880" y="60480"/>
            <a:ext cx="1428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Gulim"/>
              </a:rPr>
              <a:t>LOGO</a:t>
            </a:r>
            <a:endParaRPr b="0" lang="en-US" sz="26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438" name="Picture 79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53" descr="4"/>
          <p:cNvPicPr/>
          <p:nvPr/>
        </p:nvPicPr>
        <p:blipFill>
          <a:blip r:embed="rId3"/>
          <a:stretch/>
        </p:blipFill>
        <p:spPr>
          <a:xfrm>
            <a:off x="0" y="0"/>
            <a:ext cx="9144000" cy="220500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title"/>
          </p:nvPr>
        </p:nvSpPr>
        <p:spPr>
          <a:xfrm>
            <a:off x="146160" y="42840"/>
            <a:ext cx="59767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FCBD9-9385-4446-B0C5-D00DEE195A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 Box 46"/>
          <p:cNvSpPr/>
          <p:nvPr/>
        </p:nvSpPr>
        <p:spPr>
          <a:xfrm>
            <a:off x="7535880" y="60480"/>
            <a:ext cx="1428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Gulim"/>
              </a:rPr>
              <a:t>LOGO</a:t>
            </a:r>
            <a:endParaRPr b="0" lang="en-US" sz="26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482" name="Picture 79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53" descr="4"/>
          <p:cNvPicPr/>
          <p:nvPr/>
        </p:nvPicPr>
        <p:blipFill>
          <a:blip r:embed="rId3"/>
          <a:stretch/>
        </p:blipFill>
        <p:spPr>
          <a:xfrm>
            <a:off x="0" y="0"/>
            <a:ext cx="9144000" cy="220500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title"/>
          </p:nvPr>
        </p:nvSpPr>
        <p:spPr>
          <a:xfrm>
            <a:off x="146160" y="42840"/>
            <a:ext cx="59767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F1862-200A-4BB4-98D9-CF33F5603B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 Box 46"/>
          <p:cNvSpPr/>
          <p:nvPr/>
        </p:nvSpPr>
        <p:spPr>
          <a:xfrm>
            <a:off x="7535880" y="60480"/>
            <a:ext cx="1428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Gulim"/>
              </a:rPr>
              <a:t>LOGO</a:t>
            </a:r>
            <a:endParaRPr b="0" lang="en-US" sz="26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526" name="Picture 79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53" descr="4"/>
          <p:cNvPicPr/>
          <p:nvPr/>
        </p:nvPicPr>
        <p:blipFill>
          <a:blip r:embed="rId3"/>
          <a:stretch/>
        </p:blipFill>
        <p:spPr>
          <a:xfrm>
            <a:off x="0" y="0"/>
            <a:ext cx="9144000" cy="220500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title"/>
          </p:nvPr>
        </p:nvSpPr>
        <p:spPr>
          <a:xfrm>
            <a:off x="146160" y="42840"/>
            <a:ext cx="59767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ftr" idx="3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sldNum" idx="3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F47EC-D67B-4386-B9D2-985D7730EA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Text Box 46"/>
          <p:cNvSpPr/>
          <p:nvPr/>
        </p:nvSpPr>
        <p:spPr>
          <a:xfrm>
            <a:off x="7535880" y="60480"/>
            <a:ext cx="1428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Gulim"/>
              </a:rPr>
              <a:t>LOGO</a:t>
            </a:r>
            <a:endParaRPr b="0" lang="en-US" sz="26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570" name="Picture 79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53" descr="4"/>
          <p:cNvPicPr/>
          <p:nvPr/>
        </p:nvPicPr>
        <p:blipFill>
          <a:blip r:embed="rId3"/>
          <a:stretch/>
        </p:blipFill>
        <p:spPr>
          <a:xfrm>
            <a:off x="0" y="0"/>
            <a:ext cx="9144000" cy="2205000"/>
          </a:xfrm>
          <a:prstGeom prst="rect">
            <a:avLst/>
          </a:prstGeom>
          <a:ln w="0">
            <a:noFill/>
          </a:ln>
        </p:spPr>
      </p:pic>
      <p:sp>
        <p:nvSpPr>
          <p:cNvPr id="57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title"/>
          </p:nvPr>
        </p:nvSpPr>
        <p:spPr>
          <a:xfrm>
            <a:off x="146160" y="42840"/>
            <a:ext cx="59767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dt" idx="3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ftr" idx="4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sldNum" idx="4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6196E-2D56-4E41-B812-E81ABEB744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00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WordArt 183"/>
          <p:cNvSpPr txBox="1"/>
          <p:nvPr/>
        </p:nvSpPr>
        <p:spPr>
          <a:xfrm>
            <a:off x="595440" y="476280"/>
            <a:ext cx="115236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Impact"/>
              </a:rPr>
              <a:t>' LOGO '</a:t>
            </a:r>
            <a:endParaRPr b="0" lang="en-US" sz="14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Impact"/>
              <a:ea typeface="Impact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457200" y="1589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146160" y="43920"/>
            <a:ext cx="59767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BB9B7-5C2D-4564-8CEC-7A30102632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00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01" descr="1"/>
          <p:cNvPicPr/>
          <p:nvPr/>
        </p:nvPicPr>
        <p:blipFill>
          <a:blip r:embed="rId3"/>
          <a:stretch/>
        </p:blipFill>
        <p:spPr>
          <a:xfrm>
            <a:off x="0" y="0"/>
            <a:ext cx="9144000" cy="10144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146160" y="43920"/>
            <a:ext cx="59767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20560-3D70-443A-BEB7-E291B00D64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46"/>
          <p:cNvSpPr/>
          <p:nvPr/>
        </p:nvSpPr>
        <p:spPr>
          <a:xfrm>
            <a:off x="7535880" y="60480"/>
            <a:ext cx="1428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Gulim"/>
              </a:rPr>
              <a:t>LOGO</a:t>
            </a:r>
            <a:endParaRPr b="0" lang="en-US" sz="26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30" name="Picture 79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3" descr="4"/>
          <p:cNvPicPr/>
          <p:nvPr/>
        </p:nvPicPr>
        <p:blipFill>
          <a:blip r:embed="rId3"/>
          <a:stretch/>
        </p:blipFill>
        <p:spPr>
          <a:xfrm>
            <a:off x="0" y="0"/>
            <a:ext cx="9144000" cy="2205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146160" y="42840"/>
            <a:ext cx="59767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176D7-9DBB-40CB-8CD9-3FCE823830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46"/>
          <p:cNvSpPr/>
          <p:nvPr/>
        </p:nvSpPr>
        <p:spPr>
          <a:xfrm>
            <a:off x="7535880" y="60480"/>
            <a:ext cx="1428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Gulim"/>
              </a:rPr>
              <a:t>LOGO</a:t>
            </a:r>
            <a:endParaRPr b="0" lang="en-US" sz="26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74" name="Picture 79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3" descr="4"/>
          <p:cNvPicPr/>
          <p:nvPr/>
        </p:nvPicPr>
        <p:blipFill>
          <a:blip r:embed="rId3"/>
          <a:stretch/>
        </p:blipFill>
        <p:spPr>
          <a:xfrm>
            <a:off x="0" y="0"/>
            <a:ext cx="9144000" cy="22050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146160" y="42840"/>
            <a:ext cx="59767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3860E-1228-468A-8995-4F6CA4979F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46"/>
          <p:cNvSpPr/>
          <p:nvPr/>
        </p:nvSpPr>
        <p:spPr>
          <a:xfrm>
            <a:off x="7535880" y="60480"/>
            <a:ext cx="1428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Gulim"/>
              </a:rPr>
              <a:t>LOGO</a:t>
            </a:r>
            <a:endParaRPr b="0" lang="en-US" sz="26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218" name="Picture 79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3" descr="4"/>
          <p:cNvPicPr/>
          <p:nvPr/>
        </p:nvPicPr>
        <p:blipFill>
          <a:blip r:embed="rId3"/>
          <a:stretch/>
        </p:blipFill>
        <p:spPr>
          <a:xfrm>
            <a:off x="0" y="0"/>
            <a:ext cx="9144000" cy="22050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146160" y="42840"/>
            <a:ext cx="59767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E50DB-F51D-4738-87F2-99C2D74643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46"/>
          <p:cNvSpPr/>
          <p:nvPr/>
        </p:nvSpPr>
        <p:spPr>
          <a:xfrm>
            <a:off x="7535880" y="60480"/>
            <a:ext cx="1428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Gulim"/>
              </a:rPr>
              <a:t>LOGO</a:t>
            </a:r>
            <a:endParaRPr b="0" lang="en-US" sz="26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262" name="Picture 79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3" descr="4"/>
          <p:cNvPicPr/>
          <p:nvPr/>
        </p:nvPicPr>
        <p:blipFill>
          <a:blip r:embed="rId3"/>
          <a:stretch/>
        </p:blipFill>
        <p:spPr>
          <a:xfrm>
            <a:off x="0" y="0"/>
            <a:ext cx="9144000" cy="220500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146160" y="42840"/>
            <a:ext cx="59767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78096-7E2A-4B67-ADB6-F3518D99A1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46"/>
          <p:cNvSpPr/>
          <p:nvPr/>
        </p:nvSpPr>
        <p:spPr>
          <a:xfrm>
            <a:off x="7535880" y="60480"/>
            <a:ext cx="1428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Gulim"/>
              </a:rPr>
              <a:t>LOGO</a:t>
            </a:r>
            <a:endParaRPr b="0" lang="en-US" sz="26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306" name="Picture 79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3" descr="4"/>
          <p:cNvPicPr/>
          <p:nvPr/>
        </p:nvPicPr>
        <p:blipFill>
          <a:blip r:embed="rId3"/>
          <a:stretch/>
        </p:blipFill>
        <p:spPr>
          <a:xfrm>
            <a:off x="0" y="0"/>
            <a:ext cx="9144000" cy="220500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title"/>
          </p:nvPr>
        </p:nvSpPr>
        <p:spPr>
          <a:xfrm>
            <a:off x="146160" y="42840"/>
            <a:ext cx="59767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AC069-49B6-4D64-B0BF-52F6940DB9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46"/>
          <p:cNvSpPr/>
          <p:nvPr/>
        </p:nvSpPr>
        <p:spPr>
          <a:xfrm>
            <a:off x="7535880" y="60480"/>
            <a:ext cx="1428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Gulim"/>
              </a:rPr>
              <a:t>LOGO</a:t>
            </a:r>
            <a:endParaRPr b="0" lang="en-US" sz="26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350" name="Picture 79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53" descr="4"/>
          <p:cNvPicPr/>
          <p:nvPr/>
        </p:nvPicPr>
        <p:blipFill>
          <a:blip r:embed="rId3"/>
          <a:stretch/>
        </p:blipFill>
        <p:spPr>
          <a:xfrm>
            <a:off x="0" y="0"/>
            <a:ext cx="9144000" cy="220500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title"/>
          </p:nvPr>
        </p:nvSpPr>
        <p:spPr>
          <a:xfrm>
            <a:off x="146160" y="42840"/>
            <a:ext cx="59767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5D9F6-E0A7-4BDB-8DCD-580D5AE5B5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5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WordArt 8"/>
          <p:cNvSpPr txBox="1"/>
          <p:nvPr/>
        </p:nvSpPr>
        <p:spPr>
          <a:xfrm>
            <a:off x="179280" y="210960"/>
            <a:ext cx="547236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3e1f00">
                      <a:alpha val="50000"/>
                    </a:srgbClr>
                  </a:outerShdw>
                </a:effectLst>
                <a:latin typeface="Times New Roman"/>
              </a:rPr>
              <a:t>CLICK TO EDIT TITLE STYLE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ff66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3e1f00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WordArt 12"/>
          <p:cNvSpPr txBox="1"/>
          <p:nvPr/>
        </p:nvSpPr>
        <p:spPr>
          <a:xfrm>
            <a:off x="179280" y="155520"/>
            <a:ext cx="5472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9900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3e1f00">
                      <a:alpha val="50000"/>
                    </a:srgbClr>
                  </a:outerShdw>
                </a:effectLst>
                <a:latin typeface="Times New Roman"/>
              </a:rPr>
              <a:t>CLICK TO EDIT TITLE STYLE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9900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3e1f00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16" name="矩形 5"/>
          <p:cNvSpPr/>
          <p:nvPr/>
        </p:nvSpPr>
        <p:spPr>
          <a:xfrm>
            <a:off x="108000" y="65977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Gulim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Gulim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Gulim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Gulim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Gulim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Gulim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Gulim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Gulim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Gulim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Gulim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Gulim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Gulim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Gulim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Gulim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Gulim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Gulim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Gulim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Gulim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7" name="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ffffff"/>
                </a:solidFill>
                <a:latin typeface="Gulim"/>
              </a:rPr>
              <a:t>使用规范说明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Gulim"/>
              </a:rPr>
              <a:t>站点介绍</a:t>
            </a:r>
            <a:r>
              <a:rPr b="1" lang="ko-KR" sz="1500" spc="-1" strike="noStrike">
                <a:solidFill>
                  <a:srgbClr val="ededed"/>
                </a:solidFill>
                <a:latin typeface="Gulim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www.eeppt.com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为您提供免费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下载，有好看的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背景图片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素材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图表，动态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大全，幻灯片模板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owe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rPoint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模板等各类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助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您轻松制作出精美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ededed"/>
                </a:solidFill>
                <a:latin typeface="Gulim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模板收集于网络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Gulim"/>
              </a:rPr>
              <a:t>栏目推荐</a:t>
            </a:r>
            <a:r>
              <a:rPr b="1" lang="ko-KR" sz="1500" spc="-1" strike="noStrike">
                <a:solidFill>
                  <a:srgbClr val="ededed"/>
                </a:solidFill>
                <a:latin typeface="Gulim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Gulim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10F4BC-2EDB-48EC-9BD3-27C5DF00AE31}" type="slidenum">
              <a:t>4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-7920" y="0"/>
            <a:ext cx="8466120" cy="6858000"/>
            <a:chOff x="-7920" y="0"/>
            <a:chExt cx="8466120" cy="6858000"/>
          </a:xfrm>
        </p:grpSpPr>
        <p:sp>
          <p:nvSpPr>
            <p:cNvPr id="624" name="矩形 4"/>
            <p:cNvSpPr/>
            <p:nvPr/>
          </p:nvSpPr>
          <p:spPr>
            <a:xfrm>
              <a:off x="57024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pic>
          <p:nvPicPr>
            <p:cNvPr id="62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-792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TextBox 7"/>
            <p:cNvSpPr/>
            <p:nvPr/>
          </p:nvSpPr>
          <p:spPr>
            <a:xfrm rot="20926800">
              <a:off x="191304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5T06:36:06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21:45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