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DB84-05C3-434E-B598-40AF080D59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939E-CF4C-40FE-AF9C-BF61BE63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5D6C-6C5D-42E6-89E1-2777E8B6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4BE4-8A58-4E27-84A4-36B3397D2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7E80-0400-47AD-9B1E-F060C48F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E8D1-1EDE-41FA-8AF0-0A64EB2F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A9FC-E61E-4EC0-900B-9F2CF7B5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2610-C102-4216-9AB1-B579E6D6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E6B6-EBEA-4C0F-8B1A-351E569C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87B4-6BAE-487F-9280-163D5910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14A0-5EF2-41F9-9F81-86AB9004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3D30-3560-4A82-ACD7-DD0EAD2E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Object 85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3835-AA98-4D02-B67A-C290F44A277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5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>
                <a:gd name="textAreaLeft" fmla="*/ 0 w 2119320"/>
                <a:gd name="textAreaRight" fmla="*/ 2119680 w 21193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4"/>
          <p:cNvSpPr/>
          <p:nvPr/>
        </p:nvSpPr>
        <p:spPr>
          <a:xfrm>
            <a:off x="304920" y="47160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3"/>
          <p:cNvSpPr/>
          <p:nvPr/>
        </p:nvSpPr>
        <p:spPr>
          <a:xfrm>
            <a:off x="1676520" y="19051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615640"/>
            <a:ext cx="67057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680" y="6502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9160" y="7632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争夺第一蓝色酷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15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"/>
            <p:cNvSpPr/>
            <p:nvPr/>
          </p:nvSpPr>
          <p:spPr>
            <a:xfrm>
              <a:off x="60494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ffffff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>
              <a:off x="60494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>
              <a:off x="6182280" y="2349360"/>
              <a:ext cx="1761840" cy="178056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1d5661"/>
                </a:gs>
                <a:gs pos="100000">
                  <a:srgbClr val="36a1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"/>
            <p:cNvSpPr/>
            <p:nvPr/>
          </p:nvSpPr>
          <p:spPr>
            <a:xfrm>
              <a:off x="6211800" y="23601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265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9"/>
            <p:cNvSpPr/>
            <p:nvPr/>
          </p:nvSpPr>
          <p:spPr>
            <a:xfrm>
              <a:off x="6277320" y="243828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0"/>
            <p:cNvSpPr/>
            <p:nvPr/>
          </p:nvSpPr>
          <p:spPr>
            <a:xfrm>
              <a:off x="914400" y="22096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50000">
                  <a:srgbClr val="ffffff"/>
                </a:gs>
                <a:gs pos="100000">
                  <a:srgbClr val="9cc7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1"/>
            <p:cNvSpPr/>
            <p:nvPr/>
          </p:nvSpPr>
          <p:spPr>
            <a:xfrm>
              <a:off x="914400" y="22096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cc7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2"/>
            <p:cNvSpPr/>
            <p:nvPr/>
          </p:nvSpPr>
          <p:spPr>
            <a:xfrm>
              <a:off x="1046520" y="234324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50000">
                  <a:srgbClr val="536a38"/>
                </a:gs>
                <a:gs pos="100000">
                  <a:srgbClr val="9cc76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3"/>
            <p:cNvSpPr/>
            <p:nvPr/>
          </p:nvSpPr>
          <p:spPr>
            <a:xfrm>
              <a:off x="1048320" y="234648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617d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4"/>
            <p:cNvSpPr/>
            <p:nvPr/>
          </p:nvSpPr>
          <p:spPr>
            <a:xfrm>
              <a:off x="1134720" y="243252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6"/>
            <p:cNvGrpSpPr/>
            <p:nvPr/>
          </p:nvGrpSpPr>
          <p:grpSpPr>
            <a:xfrm>
              <a:off x="1160280" y="2456280"/>
              <a:ext cx="1535760" cy="1551960"/>
              <a:chOff x="1160280" y="2456280"/>
              <a:chExt cx="1535760" cy="1551960"/>
            </a:xfrm>
          </p:grpSpPr>
          <p:sp>
            <p:nvSpPr>
              <p:cNvPr id="228" name="Oval 16"/>
              <p:cNvSpPr/>
              <p:nvPr/>
            </p:nvSpPr>
            <p:spPr>
              <a:xfrm>
                <a:off x="116028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7"/>
              <p:cNvSpPr/>
              <p:nvPr/>
            </p:nvSpPr>
            <p:spPr>
              <a:xfrm>
                <a:off x="117972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18"/>
              <p:cNvSpPr/>
              <p:nvPr/>
            </p:nvSpPr>
            <p:spPr>
              <a:xfrm>
                <a:off x="119556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9"/>
              <p:cNvSpPr/>
              <p:nvPr/>
            </p:nvSpPr>
            <p:spPr>
              <a:xfrm>
                <a:off x="127908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Oval 20"/>
            <p:cNvSpPr/>
            <p:nvPr/>
          </p:nvSpPr>
          <p:spPr>
            <a:xfrm>
              <a:off x="34826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ffffff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1"/>
            <p:cNvSpPr/>
            <p:nvPr/>
          </p:nvSpPr>
          <p:spPr>
            <a:xfrm>
              <a:off x="34826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213e68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2"/>
            <p:cNvSpPr/>
            <p:nvPr/>
          </p:nvSpPr>
          <p:spPr>
            <a:xfrm>
              <a:off x="3615120" y="23493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27497a"/>
                </a:gs>
                <a:gs pos="100000">
                  <a:srgbClr val="4987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3"/>
            <p:cNvSpPr/>
            <p:nvPr/>
          </p:nvSpPr>
          <p:spPr>
            <a:xfrm>
              <a:off x="3616560" y="235260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d5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3702960" y="243828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6"/>
            <p:cNvGrpSpPr/>
            <p:nvPr/>
          </p:nvGrpSpPr>
          <p:grpSpPr>
            <a:xfrm>
              <a:off x="3728520" y="2456280"/>
              <a:ext cx="1535760" cy="1551960"/>
              <a:chOff x="3728520" y="2456280"/>
              <a:chExt cx="1535760" cy="1551960"/>
            </a:xfrm>
          </p:grpSpPr>
          <p:sp>
            <p:nvSpPr>
              <p:cNvPr id="238" name="Oval 26"/>
              <p:cNvSpPr/>
              <p:nvPr/>
            </p:nvSpPr>
            <p:spPr>
              <a:xfrm>
                <a:off x="372852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7"/>
              <p:cNvSpPr/>
              <p:nvPr/>
            </p:nvSpPr>
            <p:spPr>
              <a:xfrm>
                <a:off x="374796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8"/>
              <p:cNvSpPr/>
              <p:nvPr/>
            </p:nvSpPr>
            <p:spPr>
              <a:xfrm>
                <a:off x="376380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9"/>
              <p:cNvSpPr/>
              <p:nvPr/>
            </p:nvSpPr>
            <p:spPr>
              <a:xfrm>
                <a:off x="384732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1"/>
            <p:cNvGrpSpPr/>
            <p:nvPr/>
          </p:nvGrpSpPr>
          <p:grpSpPr>
            <a:xfrm>
              <a:off x="6305760" y="2456280"/>
              <a:ext cx="1535760" cy="1551960"/>
              <a:chOff x="6305760" y="2456280"/>
              <a:chExt cx="1535760" cy="1551960"/>
            </a:xfrm>
          </p:grpSpPr>
          <p:sp>
            <p:nvSpPr>
              <p:cNvPr id="243" name="Oval 31"/>
              <p:cNvSpPr/>
              <p:nvPr/>
            </p:nvSpPr>
            <p:spPr>
              <a:xfrm>
                <a:off x="630576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632520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33"/>
              <p:cNvSpPr/>
              <p:nvPr/>
            </p:nvSpPr>
            <p:spPr>
              <a:xfrm>
                <a:off x="634104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34"/>
              <p:cNvSpPr/>
              <p:nvPr/>
            </p:nvSpPr>
            <p:spPr>
              <a:xfrm>
                <a:off x="642456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7"/>
            <p:cNvSpPr/>
            <p:nvPr/>
          </p:nvSpPr>
          <p:spPr>
            <a:xfrm>
              <a:off x="610920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219320" y="1542960"/>
            <a:ext cx="7162200" cy="4400640"/>
            <a:chOff x="1219320" y="1542960"/>
            <a:chExt cx="7162200" cy="4400640"/>
          </a:xfrm>
        </p:grpSpPr>
        <p:sp>
          <p:nvSpPr>
            <p:cNvPr id="255" name="Freeform 3"/>
            <p:cNvSpPr/>
            <p:nvPr/>
          </p:nvSpPr>
          <p:spPr>
            <a:xfrm>
              <a:off x="1219320" y="1904760"/>
              <a:ext cx="5943240" cy="4038840"/>
            </a:xfrm>
            <a:custGeom>
              <a:avLst/>
              <a:gdLst>
                <a:gd name="textAreaLeft" fmla="*/ 0 w 5943240"/>
                <a:gd name="textAreaRight" fmla="*/ 5943600 w 5943240"/>
                <a:gd name="textAreaTop" fmla="*/ 0 h 4038840"/>
                <a:gd name="textAreaBottom" fmla="*/ 4039200 h 403884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2"/>
            <p:cNvSpPr/>
            <p:nvPr/>
          </p:nvSpPr>
          <p:spPr>
            <a:xfrm>
              <a:off x="5714640" y="34290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d1f6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 rot="20876400">
              <a:off x="3315960" y="497196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5"/>
            <p:cNvSpPr/>
            <p:nvPr/>
          </p:nvSpPr>
          <p:spPr>
            <a:xfrm>
              <a:off x="3247920" y="375264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6"/>
            <p:cNvSpPr/>
            <p:nvPr/>
          </p:nvSpPr>
          <p:spPr>
            <a:xfrm>
              <a:off x="32684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7"/>
            <p:cNvSpPr/>
            <p:nvPr/>
          </p:nvSpPr>
          <p:spPr>
            <a:xfrm>
              <a:off x="3285720" y="377820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38"/>
            <p:cNvSpPr/>
            <p:nvPr/>
          </p:nvSpPr>
          <p:spPr>
            <a:xfrm>
              <a:off x="3377880" y="382248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9"/>
            <p:cNvSpPr/>
            <p:nvPr/>
          </p:nvSpPr>
          <p:spPr>
            <a:xfrm>
              <a:off x="36651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 rot="20826600">
              <a:off x="1473120" y="436212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"/>
            <p:cNvGrpSpPr/>
            <p:nvPr/>
          </p:nvGrpSpPr>
          <p:grpSpPr>
            <a:xfrm>
              <a:off x="1396800" y="3371760"/>
              <a:ext cx="1370880" cy="1441080"/>
              <a:chOff x="1396800" y="3371760"/>
              <a:chExt cx="1370880" cy="1441080"/>
            </a:xfrm>
          </p:grpSpPr>
          <p:sp>
            <p:nvSpPr>
              <p:cNvPr id="265" name="Oval 42"/>
              <p:cNvSpPr/>
              <p:nvPr/>
            </p:nvSpPr>
            <p:spPr>
              <a:xfrm>
                <a:off x="1396800" y="337176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43"/>
              <p:cNvSpPr/>
              <p:nvPr/>
            </p:nvSpPr>
            <p:spPr>
              <a:xfrm>
                <a:off x="1414800" y="338004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44"/>
              <p:cNvSpPr/>
              <p:nvPr/>
            </p:nvSpPr>
            <p:spPr>
              <a:xfrm>
                <a:off x="142776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45"/>
              <p:cNvSpPr/>
              <p:nvPr/>
            </p:nvSpPr>
            <p:spPr>
              <a:xfrm>
                <a:off x="1499400" y="343008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46"/>
              <p:cNvSpPr/>
              <p:nvPr/>
            </p:nvSpPr>
            <p:spPr>
              <a:xfrm>
                <a:off x="16772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47"/>
            <p:cNvSpPr/>
            <p:nvPr/>
          </p:nvSpPr>
          <p:spPr>
            <a:xfrm>
              <a:off x="1295280" y="260676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8"/>
            <p:cNvSpPr/>
            <p:nvPr/>
          </p:nvSpPr>
          <p:spPr>
            <a:xfrm>
              <a:off x="1371240" y="20001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9"/>
            <p:cNvSpPr/>
            <p:nvPr/>
          </p:nvSpPr>
          <p:spPr>
            <a:xfrm>
              <a:off x="1384200" y="200484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50"/>
            <p:cNvSpPr/>
            <p:nvPr/>
          </p:nvSpPr>
          <p:spPr>
            <a:xfrm>
              <a:off x="13950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1"/>
            <p:cNvSpPr/>
            <p:nvPr/>
          </p:nvSpPr>
          <p:spPr>
            <a:xfrm>
              <a:off x="144900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52"/>
            <p:cNvSpPr/>
            <p:nvPr/>
          </p:nvSpPr>
          <p:spPr>
            <a:xfrm>
              <a:off x="156852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53"/>
            <p:cNvSpPr/>
            <p:nvPr/>
          </p:nvSpPr>
          <p:spPr>
            <a:xfrm>
              <a:off x="2562120" y="207648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4"/>
            <p:cNvSpPr/>
            <p:nvPr/>
          </p:nvSpPr>
          <p:spPr>
            <a:xfrm>
              <a:off x="2684160" y="154296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55"/>
            <p:cNvSpPr/>
            <p:nvPr/>
          </p:nvSpPr>
          <p:spPr>
            <a:xfrm>
              <a:off x="2693880" y="154620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56"/>
            <p:cNvSpPr/>
            <p:nvPr/>
          </p:nvSpPr>
          <p:spPr>
            <a:xfrm>
              <a:off x="2700000" y="155232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57"/>
            <p:cNvSpPr/>
            <p:nvPr/>
          </p:nvSpPr>
          <p:spPr>
            <a:xfrm>
              <a:off x="2736720" y="157140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8"/>
            <p:cNvSpPr/>
            <p:nvPr/>
          </p:nvSpPr>
          <p:spPr>
            <a:xfrm>
              <a:off x="275436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284" name="AutoShape 3"/>
            <p:cNvSpPr/>
            <p:nvPr/>
          </p:nvSpPr>
          <p:spPr>
            <a:xfrm rot="17973000">
              <a:off x="4556880" y="2530800"/>
              <a:ext cx="792360" cy="288720"/>
            </a:xfrm>
            <a:prstGeom prst="rightArrow">
              <a:avLst>
                <a:gd name="adj1" fmla="val 35176"/>
                <a:gd name="adj2" fmla="val 111135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4"/>
            <p:cNvSpPr/>
            <p:nvPr/>
          </p:nvSpPr>
          <p:spPr>
            <a:xfrm rot="3465600">
              <a:off x="4607280" y="464112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5"/>
            <p:cNvSpPr/>
            <p:nvPr/>
          </p:nvSpPr>
          <p:spPr>
            <a:xfrm rot="14368800">
              <a:off x="3387960" y="255276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 rot="7534800">
              <a:off x="3349440" y="460728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76"/>
                <a:gd name="adj2" fmla="val 120968"/>
              </a:avLst>
            </a:prstGeom>
            <a:solidFill>
              <a:srgbClr val="c0c0c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ead8c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ffffff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3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1d5661"/>
                </a:gs>
                <a:gs pos="100000">
                  <a:srgbClr val="36a1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5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265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09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16" name="AutoShape 48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49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50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/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51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dff6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52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23" name="Oval 55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56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57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58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59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60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1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31" name="AutoShape 63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4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65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4f2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66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1f6d5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67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68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69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70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71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2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73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4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75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45" name="AutoShape 77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8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9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e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0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4cd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50" name="Oval 82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83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84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85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86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87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88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89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90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0" y="1600200"/>
            <a:ext cx="9143640" cy="3963240"/>
            <a:chOff x="0" y="1600200"/>
            <a:chExt cx="9143640" cy="3963240"/>
          </a:xfrm>
        </p:grpSpPr>
        <p:grpSp>
          <p:nvGrpSpPr>
            <p:cNvPr id="361" name="Group 4"/>
            <p:cNvGrpSpPr/>
            <p:nvPr/>
          </p:nvGrpSpPr>
          <p:grpSpPr>
            <a:xfrm>
              <a:off x="0" y="2824200"/>
              <a:ext cx="9143640" cy="147240"/>
              <a:chOff x="0" y="2824200"/>
              <a:chExt cx="9143640" cy="147240"/>
            </a:xfrm>
          </p:grpSpPr>
          <p:sp>
            <p:nvSpPr>
              <p:cNvPr id="362" name="Rectangle 3"/>
              <p:cNvSpPr/>
              <p:nvPr/>
            </p:nvSpPr>
            <p:spPr>
              <a:xfrm>
                <a:off x="0" y="2824200"/>
                <a:ext cx="9143640" cy="39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b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4"/>
              <p:cNvSpPr/>
              <p:nvPr/>
            </p:nvSpPr>
            <p:spPr>
              <a:xfrm>
                <a:off x="0" y="2864160"/>
                <a:ext cx="9143640" cy="10728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7"/>
            <p:cNvGrpSpPr/>
            <p:nvPr/>
          </p:nvGrpSpPr>
          <p:grpSpPr>
            <a:xfrm>
              <a:off x="960480" y="2292480"/>
              <a:ext cx="1930680" cy="3205080"/>
              <a:chOff x="960480" y="2292480"/>
              <a:chExt cx="1930680" cy="3205080"/>
            </a:xfrm>
          </p:grpSpPr>
          <p:grpSp>
            <p:nvGrpSpPr>
              <p:cNvPr id="365" name="Group 8"/>
              <p:cNvGrpSpPr/>
              <p:nvPr/>
            </p:nvGrpSpPr>
            <p:grpSpPr>
              <a:xfrm>
                <a:off x="1380240" y="3115080"/>
                <a:ext cx="1510920" cy="2382480"/>
                <a:chOff x="1380240" y="3115080"/>
                <a:chExt cx="1510920" cy="2382480"/>
              </a:xfrm>
            </p:grpSpPr>
            <p:grpSp>
              <p:nvGrpSpPr>
                <p:cNvPr id="366" name="Group 9"/>
                <p:cNvGrpSpPr/>
                <p:nvPr/>
              </p:nvGrpSpPr>
              <p:grpSpPr>
                <a:xfrm>
                  <a:off x="1380240" y="3273120"/>
                  <a:ext cx="1400400" cy="2224440"/>
                  <a:chOff x="1380240" y="3273120"/>
                  <a:chExt cx="1400400" cy="2224440"/>
                </a:xfrm>
              </p:grpSpPr>
              <p:sp>
                <p:nvSpPr>
                  <p:cNvPr id="367" name="Freeform 60"/>
                  <p:cNvSpPr/>
                  <p:nvPr/>
                </p:nvSpPr>
                <p:spPr>
                  <a:xfrm rot="3876600">
                    <a:off x="965880" y="4139280"/>
                    <a:ext cx="2228760" cy="49212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2120"/>
                      <a:gd name="textAreaBottom" fmla="*/ 492480 h 4921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61"/>
                  <p:cNvSpPr/>
                  <p:nvPr/>
                </p:nvSpPr>
                <p:spPr>
                  <a:xfrm rot="3876600">
                    <a:off x="2305080" y="5000760"/>
                    <a:ext cx="350280" cy="40284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Group 12"/>
                <p:cNvGrpSpPr/>
                <p:nvPr/>
              </p:nvGrpSpPr>
              <p:grpSpPr>
                <a:xfrm>
                  <a:off x="1816560" y="3115080"/>
                  <a:ext cx="1074600" cy="1707120"/>
                  <a:chOff x="1816560" y="3115080"/>
                  <a:chExt cx="1074600" cy="1707120"/>
                </a:xfrm>
              </p:grpSpPr>
              <p:sp>
                <p:nvSpPr>
                  <p:cNvPr id="370" name="Freeform 63"/>
                  <p:cNvSpPr/>
                  <p:nvPr/>
                </p:nvSpPr>
                <p:spPr>
                  <a:xfrm flipV="1" rot="3876600">
                    <a:off x="1498320" y="3779640"/>
                    <a:ext cx="1710360" cy="37764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64"/>
                  <p:cNvSpPr/>
                  <p:nvPr/>
                </p:nvSpPr>
                <p:spPr>
                  <a:xfrm flipV="1" rot="3876600">
                    <a:off x="2510640" y="4448520"/>
                    <a:ext cx="268560" cy="30924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-360 h 309240"/>
                      <a:gd name="textAreaBottom" fmla="*/ 309240 h 3092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Group 15"/>
              <p:cNvGrpSpPr/>
              <p:nvPr/>
            </p:nvGrpSpPr>
            <p:grpSpPr>
              <a:xfrm>
                <a:off x="960480" y="2292480"/>
                <a:ext cx="1271520" cy="1282320"/>
                <a:chOff x="960480" y="2292480"/>
                <a:chExt cx="1271520" cy="1282320"/>
              </a:xfrm>
            </p:grpSpPr>
            <p:sp>
              <p:nvSpPr>
                <p:cNvPr id="373" name="Oval 66"/>
                <p:cNvSpPr/>
                <p:nvPr/>
              </p:nvSpPr>
              <p:spPr>
                <a:xfrm>
                  <a:off x="96048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67"/>
                <p:cNvSpPr/>
                <p:nvPr/>
              </p:nvSpPr>
              <p:spPr>
                <a:xfrm>
                  <a:off x="96048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68"/>
                <p:cNvSpPr/>
                <p:nvPr/>
              </p:nvSpPr>
              <p:spPr>
                <a:xfrm>
                  <a:off x="1044720" y="237564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959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Oval 69"/>
                <p:cNvSpPr/>
                <p:nvPr/>
              </p:nvSpPr>
              <p:spPr>
                <a:xfrm>
                  <a:off x="1044720" y="2378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5268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Oval 70"/>
                <p:cNvSpPr/>
                <p:nvPr/>
              </p:nvSpPr>
              <p:spPr>
                <a:xfrm>
                  <a:off x="1099080" y="243252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8" name="Group 21"/>
                <p:cNvGrpSpPr/>
                <p:nvPr/>
              </p:nvGrpSpPr>
              <p:grpSpPr>
                <a:xfrm>
                  <a:off x="1114560" y="2447640"/>
                  <a:ext cx="963000" cy="972360"/>
                  <a:chOff x="1114560" y="2447640"/>
                  <a:chExt cx="963000" cy="972360"/>
                </a:xfrm>
              </p:grpSpPr>
              <p:sp>
                <p:nvSpPr>
                  <p:cNvPr id="379" name="Oval 72"/>
                  <p:cNvSpPr/>
                  <p:nvPr/>
                </p:nvSpPr>
                <p:spPr>
                  <a:xfrm>
                    <a:off x="1114560" y="244764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73"/>
                  <p:cNvSpPr/>
                  <p:nvPr/>
                </p:nvSpPr>
                <p:spPr>
                  <a:xfrm>
                    <a:off x="1126800" y="245304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Oval 74"/>
                  <p:cNvSpPr/>
                  <p:nvPr/>
                </p:nvSpPr>
                <p:spPr>
                  <a:xfrm>
                    <a:off x="1136880" y="246240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Oval 75"/>
                  <p:cNvSpPr/>
                  <p:nvPr/>
                </p:nvSpPr>
                <p:spPr>
                  <a:xfrm>
                    <a:off x="1189080" y="248724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3" name="Text Box 76"/>
              <p:cNvSpPr/>
              <p:nvPr/>
            </p:nvSpPr>
            <p:spPr>
              <a:xfrm rot="3925800">
                <a:off x="1331640" y="4083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77"/>
              <p:cNvSpPr/>
              <p:nvPr/>
            </p:nvSpPr>
            <p:spPr>
              <a:xfrm rot="3925800">
                <a:off x="1786680" y="38030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8"/>
            <p:cNvGrpSpPr/>
            <p:nvPr/>
          </p:nvGrpSpPr>
          <p:grpSpPr>
            <a:xfrm>
              <a:off x="2711520" y="2292480"/>
              <a:ext cx="1930680" cy="3205080"/>
              <a:chOff x="2711520" y="2292480"/>
              <a:chExt cx="1930680" cy="3205080"/>
            </a:xfrm>
          </p:grpSpPr>
          <p:grpSp>
            <p:nvGrpSpPr>
              <p:cNvPr id="386" name="Group 29"/>
              <p:cNvGrpSpPr/>
              <p:nvPr/>
            </p:nvGrpSpPr>
            <p:grpSpPr>
              <a:xfrm>
                <a:off x="3131280" y="3115080"/>
                <a:ext cx="1510920" cy="2382480"/>
                <a:chOff x="3131280" y="3115080"/>
                <a:chExt cx="1510920" cy="2382480"/>
              </a:xfrm>
            </p:grpSpPr>
            <p:grpSp>
              <p:nvGrpSpPr>
                <p:cNvPr id="387" name="Group 30"/>
                <p:cNvGrpSpPr/>
                <p:nvPr/>
              </p:nvGrpSpPr>
              <p:grpSpPr>
                <a:xfrm>
                  <a:off x="3131280" y="3273120"/>
                  <a:ext cx="1400400" cy="2224440"/>
                  <a:chOff x="3131280" y="3273120"/>
                  <a:chExt cx="1400400" cy="2224440"/>
                </a:xfrm>
              </p:grpSpPr>
              <p:sp>
                <p:nvSpPr>
                  <p:cNvPr id="388" name="Freeform 42"/>
                  <p:cNvSpPr/>
                  <p:nvPr/>
                </p:nvSpPr>
                <p:spPr>
                  <a:xfrm rot="3876600">
                    <a:off x="2716920" y="4139280"/>
                    <a:ext cx="2228760" cy="492120"/>
                  </a:xfrm>
                  <a:custGeom>
                    <a:avLst/>
                    <a:gdLst>
                      <a:gd name="textAreaLeft" fmla="*/ 0 w 2228760"/>
                      <a:gd name="textAreaRight" fmla="*/ 2229120 w 2228760"/>
                      <a:gd name="textAreaTop" fmla="*/ 0 h 492120"/>
                      <a:gd name="textAreaBottom" fmla="*/ 492480 h 4921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43"/>
                  <p:cNvSpPr/>
                  <p:nvPr/>
                </p:nvSpPr>
                <p:spPr>
                  <a:xfrm rot="3876600">
                    <a:off x="4056120" y="5000760"/>
                    <a:ext cx="350280" cy="402840"/>
                  </a:xfrm>
                  <a:custGeom>
                    <a:avLst/>
                    <a:gdLst>
                      <a:gd name="textAreaLeft" fmla="*/ 0 w 350280"/>
                      <a:gd name="textAreaRight" fmla="*/ 350640 w 350280"/>
                      <a:gd name="textAreaTop" fmla="*/ 0 h 402840"/>
                      <a:gd name="textAreaBottom" fmla="*/ 403200 h 402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33"/>
                <p:cNvGrpSpPr/>
                <p:nvPr/>
              </p:nvGrpSpPr>
              <p:grpSpPr>
                <a:xfrm>
                  <a:off x="3567600" y="3115080"/>
                  <a:ext cx="1074600" cy="1707120"/>
                  <a:chOff x="3567600" y="3115080"/>
                  <a:chExt cx="1074600" cy="1707120"/>
                </a:xfrm>
              </p:grpSpPr>
              <p:sp>
                <p:nvSpPr>
                  <p:cNvPr id="391" name="Freeform 45"/>
                  <p:cNvSpPr/>
                  <p:nvPr/>
                </p:nvSpPr>
                <p:spPr>
                  <a:xfrm flipV="1" rot="3876600">
                    <a:off x="3249360" y="3779640"/>
                    <a:ext cx="1710360" cy="377640"/>
                  </a:xfrm>
                  <a:custGeom>
                    <a:avLst/>
                    <a:gdLst>
                      <a:gd name="textAreaLeft" fmla="*/ 0 w 1710360"/>
                      <a:gd name="textAreaRight" fmla="*/ 1710720 w 1710360"/>
                      <a:gd name="textAreaTop" fmla="*/ -360 h 377640"/>
                      <a:gd name="textAreaBottom" fmla="*/ 377640 h 37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46"/>
                  <p:cNvSpPr/>
                  <p:nvPr/>
                </p:nvSpPr>
                <p:spPr>
                  <a:xfrm flipV="1" rot="3876600">
                    <a:off x="4261680" y="4448520"/>
                    <a:ext cx="268560" cy="309240"/>
                  </a:xfrm>
                  <a:custGeom>
                    <a:avLst/>
                    <a:gdLst>
                      <a:gd name="textAreaLeft" fmla="*/ 0 w 268560"/>
                      <a:gd name="textAreaRight" fmla="*/ 268920 w 268560"/>
                      <a:gd name="textAreaTop" fmla="*/ -360 h 309240"/>
                      <a:gd name="textAreaBottom" fmla="*/ 309240 h 3092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3" name="Group 36"/>
              <p:cNvGrpSpPr/>
              <p:nvPr/>
            </p:nvGrpSpPr>
            <p:grpSpPr>
              <a:xfrm>
                <a:off x="2711520" y="2292480"/>
                <a:ext cx="1271520" cy="1282320"/>
                <a:chOff x="2711520" y="2292480"/>
                <a:chExt cx="1271520" cy="1282320"/>
              </a:xfrm>
            </p:grpSpPr>
            <p:sp>
              <p:nvSpPr>
                <p:cNvPr id="394" name="Oval 48"/>
                <p:cNvSpPr/>
                <p:nvPr/>
              </p:nvSpPr>
              <p:spPr>
                <a:xfrm>
                  <a:off x="271152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49"/>
                <p:cNvSpPr/>
                <p:nvPr/>
              </p:nvSpPr>
              <p:spPr>
                <a:xfrm>
                  <a:off x="271152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50"/>
                <p:cNvSpPr/>
                <p:nvPr/>
              </p:nvSpPr>
              <p:spPr>
                <a:xfrm>
                  <a:off x="2795760" y="237564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959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51"/>
                <p:cNvSpPr/>
                <p:nvPr/>
              </p:nvSpPr>
              <p:spPr>
                <a:xfrm>
                  <a:off x="2795760" y="2378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5268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52"/>
                <p:cNvSpPr/>
                <p:nvPr/>
              </p:nvSpPr>
              <p:spPr>
                <a:xfrm>
                  <a:off x="2850120" y="243252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42"/>
                <p:cNvGrpSpPr/>
                <p:nvPr/>
              </p:nvGrpSpPr>
              <p:grpSpPr>
                <a:xfrm>
                  <a:off x="2865600" y="2447640"/>
                  <a:ext cx="963000" cy="972360"/>
                  <a:chOff x="2865600" y="2447640"/>
                  <a:chExt cx="963000" cy="972360"/>
                </a:xfrm>
              </p:grpSpPr>
              <p:sp>
                <p:nvSpPr>
                  <p:cNvPr id="400" name="Oval 54"/>
                  <p:cNvSpPr/>
                  <p:nvPr/>
                </p:nvSpPr>
                <p:spPr>
                  <a:xfrm>
                    <a:off x="2865600" y="244764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55"/>
                  <p:cNvSpPr/>
                  <p:nvPr/>
                </p:nvSpPr>
                <p:spPr>
                  <a:xfrm>
                    <a:off x="2877840" y="245304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6"/>
                  <p:cNvSpPr/>
                  <p:nvPr/>
                </p:nvSpPr>
                <p:spPr>
                  <a:xfrm>
                    <a:off x="2887920" y="246240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7"/>
                  <p:cNvSpPr/>
                  <p:nvPr/>
                </p:nvSpPr>
                <p:spPr>
                  <a:xfrm>
                    <a:off x="2940120" y="248724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4" name="Text Box 78"/>
              <p:cNvSpPr/>
              <p:nvPr/>
            </p:nvSpPr>
            <p:spPr>
              <a:xfrm rot="3925800">
                <a:off x="3080880" y="4080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9"/>
              <p:cNvSpPr/>
              <p:nvPr/>
            </p:nvSpPr>
            <p:spPr>
              <a:xfrm rot="3925800">
                <a:off x="3532680" y="38030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49"/>
            <p:cNvGrpSpPr/>
            <p:nvPr/>
          </p:nvGrpSpPr>
          <p:grpSpPr>
            <a:xfrm>
              <a:off x="4521240" y="2292480"/>
              <a:ext cx="1929600" cy="3206160"/>
              <a:chOff x="4521240" y="2292480"/>
              <a:chExt cx="1929600" cy="3206160"/>
            </a:xfrm>
          </p:grpSpPr>
          <p:grpSp>
            <p:nvGrpSpPr>
              <p:cNvPr id="407" name="Group 50"/>
              <p:cNvGrpSpPr/>
              <p:nvPr/>
            </p:nvGrpSpPr>
            <p:grpSpPr>
              <a:xfrm>
                <a:off x="4934520" y="3109320"/>
                <a:ext cx="1516320" cy="2389320"/>
                <a:chOff x="4934520" y="3109320"/>
                <a:chExt cx="1516320" cy="2389320"/>
              </a:xfrm>
            </p:grpSpPr>
            <p:grpSp>
              <p:nvGrpSpPr>
                <p:cNvPr id="408" name="Group 51"/>
                <p:cNvGrpSpPr/>
                <p:nvPr/>
              </p:nvGrpSpPr>
              <p:grpSpPr>
                <a:xfrm>
                  <a:off x="4934520" y="3268080"/>
                  <a:ext cx="1405080" cy="2230560"/>
                  <a:chOff x="4934520" y="3268080"/>
                  <a:chExt cx="1405080" cy="2230560"/>
                </a:xfrm>
              </p:grpSpPr>
              <p:sp>
                <p:nvSpPr>
                  <p:cNvPr id="409" name="Freeform 7"/>
                  <p:cNvSpPr/>
                  <p:nvPr/>
                </p:nvSpPr>
                <p:spPr>
                  <a:xfrm rot="3876600">
                    <a:off x="4519800" y="4135680"/>
                    <a:ext cx="2234160" cy="495000"/>
                  </a:xfrm>
                  <a:custGeom>
                    <a:avLst/>
                    <a:gdLst>
                      <a:gd name="textAreaLeft" fmla="*/ 0 w 2234160"/>
                      <a:gd name="textAreaRight" fmla="*/ 2234520 w 2234160"/>
                      <a:gd name="textAreaTop" fmla="*/ 0 h 495000"/>
                      <a:gd name="textAreaBottom" fmla="*/ 495360 h 495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8"/>
                  <p:cNvSpPr/>
                  <p:nvPr/>
                </p:nvSpPr>
                <p:spPr>
                  <a:xfrm rot="3876600">
                    <a:off x="5862240" y="4999680"/>
                    <a:ext cx="351000" cy="405360"/>
                  </a:xfrm>
                  <a:custGeom>
                    <a:avLst/>
                    <a:gdLst>
                      <a:gd name="textAreaLeft" fmla="*/ 0 w 351000"/>
                      <a:gd name="textAreaRight" fmla="*/ 351360 w 351000"/>
                      <a:gd name="textAreaTop" fmla="*/ 0 h 405360"/>
                      <a:gd name="textAreaBottom" fmla="*/ 405720 h 4053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54"/>
                <p:cNvGrpSpPr/>
                <p:nvPr/>
              </p:nvGrpSpPr>
              <p:grpSpPr>
                <a:xfrm>
                  <a:off x="5373000" y="3109320"/>
                  <a:ext cx="1077840" cy="1711440"/>
                  <a:chOff x="5373000" y="3109320"/>
                  <a:chExt cx="1077840" cy="1711440"/>
                </a:xfrm>
              </p:grpSpPr>
              <p:sp>
                <p:nvSpPr>
                  <p:cNvPr id="412" name="Freeform 10"/>
                  <p:cNvSpPr/>
                  <p:nvPr/>
                </p:nvSpPr>
                <p:spPr>
                  <a:xfrm flipV="1" rot="3876600">
                    <a:off x="5054760" y="3774960"/>
                    <a:ext cx="1714320" cy="379440"/>
                  </a:xfrm>
                  <a:custGeom>
                    <a:avLst/>
                    <a:gdLst>
                      <a:gd name="textAreaLeft" fmla="*/ 0 w 1714320"/>
                      <a:gd name="textAreaRight" fmla="*/ 1714680 w 1714320"/>
                      <a:gd name="textAreaTop" fmla="*/ 360 h 379440"/>
                      <a:gd name="textAreaBottom" fmla="*/ 380160 h 3794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11"/>
                  <p:cNvSpPr/>
                  <p:nvPr/>
                </p:nvSpPr>
                <p:spPr>
                  <a:xfrm flipV="1" rot="3876600">
                    <a:off x="6069600" y="4445280"/>
                    <a:ext cx="269280" cy="310680"/>
                  </a:xfrm>
                  <a:custGeom>
                    <a:avLst/>
                    <a:gdLst>
                      <a:gd name="textAreaLeft" fmla="*/ 0 w 269280"/>
                      <a:gd name="textAreaRight" fmla="*/ 269640 w 269280"/>
                      <a:gd name="textAreaTop" fmla="*/ -360 h 310680"/>
                      <a:gd name="textAreaBottom" fmla="*/ 310680 h 3106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Group 57"/>
              <p:cNvGrpSpPr/>
              <p:nvPr/>
            </p:nvGrpSpPr>
            <p:grpSpPr>
              <a:xfrm>
                <a:off x="4521240" y="2292480"/>
                <a:ext cx="1276200" cy="1285560"/>
                <a:chOff x="4521240" y="2292480"/>
                <a:chExt cx="1276200" cy="1285560"/>
              </a:xfrm>
            </p:grpSpPr>
            <p:sp>
              <p:nvSpPr>
                <p:cNvPr id="415" name="Oval 13"/>
                <p:cNvSpPr/>
                <p:nvPr/>
              </p:nvSpPr>
              <p:spPr>
                <a:xfrm>
                  <a:off x="4521240" y="2292480"/>
                  <a:ext cx="1276200" cy="128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14"/>
                <p:cNvSpPr/>
                <p:nvPr/>
              </p:nvSpPr>
              <p:spPr>
                <a:xfrm>
                  <a:off x="4521240" y="2292480"/>
                  <a:ext cx="1276200" cy="128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5"/>
                <p:cNvSpPr/>
                <p:nvPr/>
              </p:nvSpPr>
              <p:spPr>
                <a:xfrm>
                  <a:off x="4605480" y="2376000"/>
                  <a:ext cx="1107000" cy="111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959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16"/>
                <p:cNvSpPr/>
                <p:nvPr/>
              </p:nvSpPr>
              <p:spPr>
                <a:xfrm>
                  <a:off x="4605480" y="2378880"/>
                  <a:ext cx="1107000" cy="111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5268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17"/>
                <p:cNvSpPr/>
                <p:nvPr/>
              </p:nvSpPr>
              <p:spPr>
                <a:xfrm>
                  <a:off x="4660560" y="2432880"/>
                  <a:ext cx="997200" cy="100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0" name="Group 63"/>
                <p:cNvGrpSpPr/>
                <p:nvPr/>
              </p:nvGrpSpPr>
              <p:grpSpPr>
                <a:xfrm>
                  <a:off x="4675680" y="2448000"/>
                  <a:ext cx="966600" cy="974880"/>
                  <a:chOff x="4675680" y="2448000"/>
                  <a:chExt cx="966600" cy="974880"/>
                </a:xfrm>
              </p:grpSpPr>
              <p:sp>
                <p:nvSpPr>
                  <p:cNvPr id="421" name="Oval 19"/>
                  <p:cNvSpPr/>
                  <p:nvPr/>
                </p:nvSpPr>
                <p:spPr>
                  <a:xfrm>
                    <a:off x="4675680" y="2448000"/>
                    <a:ext cx="966600" cy="9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0"/>
                  <p:cNvSpPr/>
                  <p:nvPr/>
                </p:nvSpPr>
                <p:spPr>
                  <a:xfrm>
                    <a:off x="4687920" y="2453400"/>
                    <a:ext cx="943200" cy="95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1"/>
                  <p:cNvSpPr/>
                  <p:nvPr/>
                </p:nvSpPr>
                <p:spPr>
                  <a:xfrm>
                    <a:off x="4698000" y="2462760"/>
                    <a:ext cx="897120" cy="888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22"/>
                  <p:cNvSpPr/>
                  <p:nvPr/>
                </p:nvSpPr>
                <p:spPr>
                  <a:xfrm>
                    <a:off x="4750560" y="2487600"/>
                    <a:ext cx="797400" cy="72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Text Box 80"/>
              <p:cNvSpPr/>
              <p:nvPr/>
            </p:nvSpPr>
            <p:spPr>
              <a:xfrm rot="3925800">
                <a:off x="4902840" y="4086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81"/>
              <p:cNvSpPr/>
              <p:nvPr/>
            </p:nvSpPr>
            <p:spPr>
              <a:xfrm rot="3925800">
                <a:off x="5357880" y="3805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70"/>
            <p:cNvGrpSpPr/>
            <p:nvPr/>
          </p:nvGrpSpPr>
          <p:grpSpPr>
            <a:xfrm>
              <a:off x="6300720" y="2151000"/>
              <a:ext cx="2122200" cy="3412440"/>
              <a:chOff x="6300720" y="2151000"/>
              <a:chExt cx="2122200" cy="3412440"/>
            </a:xfrm>
          </p:grpSpPr>
          <p:grpSp>
            <p:nvGrpSpPr>
              <p:cNvPr id="428" name="Group 71"/>
              <p:cNvGrpSpPr/>
              <p:nvPr/>
            </p:nvGrpSpPr>
            <p:grpSpPr>
              <a:xfrm>
                <a:off x="6906240" y="3174840"/>
                <a:ext cx="1516680" cy="2388600"/>
                <a:chOff x="6906240" y="3174840"/>
                <a:chExt cx="1516680" cy="2388600"/>
              </a:xfrm>
            </p:grpSpPr>
            <p:grpSp>
              <p:nvGrpSpPr>
                <p:cNvPr id="429" name="Group 72"/>
                <p:cNvGrpSpPr/>
                <p:nvPr/>
              </p:nvGrpSpPr>
              <p:grpSpPr>
                <a:xfrm>
                  <a:off x="6906240" y="3333240"/>
                  <a:ext cx="1405080" cy="2230200"/>
                  <a:chOff x="6906240" y="3333240"/>
                  <a:chExt cx="1405080" cy="2230200"/>
                </a:xfrm>
              </p:grpSpPr>
              <p:sp>
                <p:nvSpPr>
                  <p:cNvPr id="430" name="Freeform 25"/>
                  <p:cNvSpPr/>
                  <p:nvPr/>
                </p:nvSpPr>
                <p:spPr>
                  <a:xfrm rot="3876600">
                    <a:off x="6491520" y="4200840"/>
                    <a:ext cx="2233800" cy="495000"/>
                  </a:xfrm>
                  <a:custGeom>
                    <a:avLst/>
                    <a:gdLst>
                      <a:gd name="textAreaLeft" fmla="*/ 0 w 2233800"/>
                      <a:gd name="textAreaRight" fmla="*/ 2234160 w 2233800"/>
                      <a:gd name="textAreaTop" fmla="*/ 0 h 495000"/>
                      <a:gd name="textAreaBottom" fmla="*/ 495360 h 495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26"/>
                  <p:cNvSpPr/>
                  <p:nvPr/>
                </p:nvSpPr>
                <p:spPr>
                  <a:xfrm rot="3876600">
                    <a:off x="7833960" y="5064840"/>
                    <a:ext cx="351000" cy="405360"/>
                  </a:xfrm>
                  <a:custGeom>
                    <a:avLst/>
                    <a:gdLst>
                      <a:gd name="textAreaLeft" fmla="*/ 0 w 351000"/>
                      <a:gd name="textAreaRight" fmla="*/ 351360 w 351000"/>
                      <a:gd name="textAreaTop" fmla="*/ 0 h 405360"/>
                      <a:gd name="textAreaBottom" fmla="*/ 405720 h 4053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75"/>
                <p:cNvGrpSpPr/>
                <p:nvPr/>
              </p:nvGrpSpPr>
              <p:grpSpPr>
                <a:xfrm>
                  <a:off x="7345080" y="3174840"/>
                  <a:ext cx="1077840" cy="1711440"/>
                  <a:chOff x="7345080" y="3174840"/>
                  <a:chExt cx="1077840" cy="1711440"/>
                </a:xfrm>
              </p:grpSpPr>
              <p:sp>
                <p:nvSpPr>
                  <p:cNvPr id="433" name="Freeform 28"/>
                  <p:cNvSpPr/>
                  <p:nvPr/>
                </p:nvSpPr>
                <p:spPr>
                  <a:xfrm flipV="1" rot="3876600">
                    <a:off x="7026840" y="3840480"/>
                    <a:ext cx="1714320" cy="379440"/>
                  </a:xfrm>
                  <a:custGeom>
                    <a:avLst/>
                    <a:gdLst>
                      <a:gd name="textAreaLeft" fmla="*/ 0 w 1714320"/>
                      <a:gd name="textAreaRight" fmla="*/ 1714680 w 1714320"/>
                      <a:gd name="textAreaTop" fmla="*/ 360 h 379440"/>
                      <a:gd name="textAreaBottom" fmla="*/ 380160 h 3794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29"/>
                  <p:cNvSpPr/>
                  <p:nvPr/>
                </p:nvSpPr>
                <p:spPr>
                  <a:xfrm flipV="1" rot="3876600">
                    <a:off x="8041680" y="4510800"/>
                    <a:ext cx="269280" cy="310680"/>
                  </a:xfrm>
                  <a:custGeom>
                    <a:avLst/>
                    <a:gdLst>
                      <a:gd name="textAreaLeft" fmla="*/ 0 w 269280"/>
                      <a:gd name="textAreaRight" fmla="*/ 269640 w 269280"/>
                      <a:gd name="textAreaTop" fmla="*/ -360 h 310680"/>
                      <a:gd name="textAreaBottom" fmla="*/ 310680 h 3106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Oval 30"/>
              <p:cNvSpPr/>
              <p:nvPr/>
            </p:nvSpPr>
            <p:spPr>
              <a:xfrm>
                <a:off x="6300720" y="2151000"/>
                <a:ext cx="1532160" cy="15418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31"/>
              <p:cNvSpPr/>
              <p:nvPr/>
            </p:nvSpPr>
            <p:spPr>
              <a:xfrm>
                <a:off x="6300720" y="2151000"/>
                <a:ext cx="1532160" cy="154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2"/>
              <p:cNvSpPr/>
              <p:nvPr/>
            </p:nvSpPr>
            <p:spPr>
              <a:xfrm>
                <a:off x="6402240" y="2251080"/>
                <a:ext cx="1331640" cy="13395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b5289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33"/>
              <p:cNvSpPr/>
              <p:nvPr/>
            </p:nvSpPr>
            <p:spPr>
              <a:xfrm>
                <a:off x="6404040" y="2254320"/>
                <a:ext cx="1331280" cy="13395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2060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34"/>
              <p:cNvSpPr/>
              <p:nvPr/>
            </p:nvSpPr>
            <p:spPr>
              <a:xfrm>
                <a:off x="6469200" y="2319480"/>
                <a:ext cx="1198080" cy="1204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0" name="Group 83"/>
              <p:cNvGrpSpPr/>
              <p:nvPr/>
            </p:nvGrpSpPr>
            <p:grpSpPr>
              <a:xfrm>
                <a:off x="6486840" y="2338560"/>
                <a:ext cx="1162440" cy="1167840"/>
                <a:chOff x="6486840" y="2338560"/>
                <a:chExt cx="1162440" cy="1167840"/>
              </a:xfrm>
            </p:grpSpPr>
            <p:sp>
              <p:nvSpPr>
                <p:cNvPr id="441" name="Oval 36"/>
                <p:cNvSpPr/>
                <p:nvPr/>
              </p:nvSpPr>
              <p:spPr>
                <a:xfrm>
                  <a:off x="6486840" y="2338560"/>
                  <a:ext cx="116244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6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37"/>
                <p:cNvSpPr/>
                <p:nvPr/>
              </p:nvSpPr>
              <p:spPr>
                <a:xfrm>
                  <a:off x="6501600" y="2345040"/>
                  <a:ext cx="11343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/>
                    </a:gs>
                    <a:gs pos="100000">
                      <a:srgbClr val="f2f4f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38"/>
                <p:cNvSpPr/>
                <p:nvPr/>
              </p:nvSpPr>
              <p:spPr>
                <a:xfrm>
                  <a:off x="6513480" y="2356200"/>
                  <a:ext cx="1078920" cy="106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0b2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39"/>
                <p:cNvSpPr/>
                <p:nvPr/>
              </p:nvSpPr>
              <p:spPr>
                <a:xfrm>
                  <a:off x="6576840" y="2386080"/>
                  <a:ext cx="959040" cy="86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Text Box 82"/>
              <p:cNvSpPr/>
              <p:nvPr/>
            </p:nvSpPr>
            <p:spPr>
              <a:xfrm rot="3925800">
                <a:off x="6858000" y="4228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83"/>
              <p:cNvSpPr/>
              <p:nvPr/>
            </p:nvSpPr>
            <p:spPr>
              <a:xfrm rot="3925800">
                <a:off x="7309440" y="3950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Text Box 84"/>
            <p:cNvSpPr/>
            <p:nvPr/>
          </p:nvSpPr>
          <p:spPr>
            <a:xfrm>
              <a:off x="12510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85"/>
            <p:cNvSpPr/>
            <p:nvPr/>
          </p:nvSpPr>
          <p:spPr>
            <a:xfrm>
              <a:off x="300996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86"/>
            <p:cNvSpPr/>
            <p:nvPr/>
          </p:nvSpPr>
          <p:spPr>
            <a:xfrm>
              <a:off x="47592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87"/>
            <p:cNvSpPr/>
            <p:nvPr/>
          </p:nvSpPr>
          <p:spPr>
            <a:xfrm>
              <a:off x="657252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AutoShape 88"/>
            <p:cNvCxnSpPr>
              <a:stCxn id="447" idx="3"/>
              <a:endCxn id="448" idx="1"/>
            </p:cNvCxnSpPr>
            <p:nvPr/>
          </p:nvCxnSpPr>
          <p:spPr>
            <a:xfrm>
              <a:off x="1898280" y="1801800"/>
              <a:ext cx="1080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AutoShape 89"/>
            <p:cNvCxnSpPr>
              <a:stCxn id="448" idx="3"/>
              <a:endCxn id="449" idx="1"/>
            </p:cNvCxnSpPr>
            <p:nvPr/>
          </p:nvCxnSpPr>
          <p:spPr>
            <a:xfrm>
              <a:off x="3656160" y="1801800"/>
              <a:ext cx="107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90"/>
            <p:cNvCxnSpPr>
              <a:stCxn id="449" idx="3"/>
              <a:endCxn id="450" idx="1"/>
            </p:cNvCxnSpPr>
            <p:nvPr/>
          </p:nvCxnSpPr>
          <p:spPr>
            <a:xfrm>
              <a:off x="5406840" y="1801800"/>
              <a:ext cx="10767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56" name="AutoShape 3"/>
            <p:cNvSpPr/>
            <p:nvPr/>
          </p:nvSpPr>
          <p:spPr>
            <a:xfrm>
              <a:off x="5552280" y="2649600"/>
              <a:ext cx="2676960" cy="2836440"/>
            </a:xfrm>
            <a:custGeom>
              <a:avLst/>
              <a:gdLst>
                <a:gd name="textAreaLeft" fmla="*/ 0 w 2676960"/>
                <a:gd name="textAreaRight" fmla="*/ 2676960 w 267696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42507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94953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6"/>
            <p:cNvSpPr/>
            <p:nvPr/>
          </p:nvSpPr>
          <p:spPr>
            <a:xfrm>
              <a:off x="128340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"/>
            <p:cNvSpPr/>
            <p:nvPr/>
          </p:nvSpPr>
          <p:spPr>
            <a:xfrm>
              <a:off x="348588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4953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8"/>
            <p:cNvSpPr/>
            <p:nvPr/>
          </p:nvSpPr>
          <p:spPr>
            <a:xfrm>
              <a:off x="5697360" y="182880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2507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8" y="0"/>
                </a:moveTo>
                <a:arcTo wR="2968" hR="2968" stAng="16200000" swAng="-5400000"/>
                <a:lnTo>
                  <a:pt x="0" y="30410"/>
                </a:lnTo>
                <a:arcTo wR="2968" hR="2968" stAng="10800000" swAng="-5400000"/>
                <a:lnTo>
                  <a:pt x="18632" y="33378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8" y="0"/>
                </a:moveTo>
                <a:arcTo wR="2968" hR="2968" stAng="16200000" swAng="-5400000"/>
                <a:lnTo>
                  <a:pt x="0" y="30634"/>
                </a:lnTo>
                <a:arcTo wR="2968" hR="2968" stAng="10800000" swAng="-5400000"/>
                <a:lnTo>
                  <a:pt x="18632" y="33602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8" y="0"/>
                </a:moveTo>
                <a:arcTo wR="2968" hR="2968" stAng="16200000" swAng="-5400000"/>
                <a:lnTo>
                  <a:pt x="0" y="31659"/>
                </a:lnTo>
                <a:arcTo wR="2968" hR="2968" stAng="10800000" swAng="-5400000"/>
                <a:lnTo>
                  <a:pt x="18632" y="34627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8" y="0"/>
                </a:moveTo>
                <a:arcTo wR="2968" hR="2968" stAng="16200000" swAng="-5400000"/>
                <a:lnTo>
                  <a:pt x="0" y="30410"/>
                </a:lnTo>
                <a:arcTo wR="2968" hR="2968" stAng="10800000" swAng="-5400000"/>
                <a:lnTo>
                  <a:pt x="18632" y="33378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7"/>
          <p:cNvGrpSpPr/>
          <p:nvPr/>
        </p:nvGrpSpPr>
        <p:grpSpPr>
          <a:xfrm>
            <a:off x="1112040" y="1706400"/>
            <a:ext cx="6436800" cy="1387800"/>
            <a:chOff x="1112040" y="1706400"/>
            <a:chExt cx="6436800" cy="1387800"/>
          </a:xfrm>
        </p:grpSpPr>
        <p:sp>
          <p:nvSpPr>
            <p:cNvPr id="46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9"/>
            <p:cNvGrpSpPr/>
            <p:nvPr/>
          </p:nvGrpSpPr>
          <p:grpSpPr>
            <a:xfrm>
              <a:off x="2286360" y="2103120"/>
              <a:ext cx="932040" cy="131760"/>
              <a:chOff x="2286360" y="2103120"/>
              <a:chExt cx="932040" cy="131760"/>
            </a:xfrm>
          </p:grpSpPr>
          <p:sp>
            <p:nvSpPr>
              <p:cNvPr id="47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1"/>
              <p:cNvSpPr/>
              <p:nvPr/>
            </p:nvSpPr>
            <p:spPr>
              <a:xfrm>
                <a:off x="237564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12"/>
              <p:cNvSpPr/>
              <p:nvPr/>
            </p:nvSpPr>
            <p:spPr>
              <a:xfrm>
                <a:off x="307728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3"/>
              <p:cNvSpPr/>
              <p:nvPr/>
            </p:nvSpPr>
            <p:spPr>
              <a:xfrm>
                <a:off x="315252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Rectangle 14"/>
            <p:cNvSpPr/>
            <p:nvPr/>
          </p:nvSpPr>
          <p:spPr>
            <a:xfrm rot="3418800">
              <a:off x="304380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507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15"/>
            <p:cNvGrpSpPr/>
            <p:nvPr/>
          </p:nvGrpSpPr>
          <p:grpSpPr>
            <a:xfrm>
              <a:off x="4007520" y="2103120"/>
              <a:ext cx="932040" cy="131760"/>
              <a:chOff x="4007520" y="2103120"/>
              <a:chExt cx="932040" cy="131760"/>
            </a:xfrm>
          </p:grpSpPr>
          <p:sp>
            <p:nvSpPr>
              <p:cNvPr id="476" name="Oval 16"/>
              <p:cNvSpPr/>
              <p:nvPr/>
            </p:nvSpPr>
            <p:spPr>
              <a:xfrm>
                <a:off x="400752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7"/>
              <p:cNvSpPr/>
              <p:nvPr/>
            </p:nvSpPr>
            <p:spPr>
              <a:xfrm>
                <a:off x="409680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18"/>
              <p:cNvSpPr/>
              <p:nvPr/>
            </p:nvSpPr>
            <p:spPr>
              <a:xfrm>
                <a:off x="479844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9"/>
              <p:cNvSpPr/>
              <p:nvPr/>
            </p:nvSpPr>
            <p:spPr>
              <a:xfrm>
                <a:off x="487368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Rectangle 20"/>
            <p:cNvSpPr/>
            <p:nvPr/>
          </p:nvSpPr>
          <p:spPr>
            <a:xfrm rot="3418800">
              <a:off x="469260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21"/>
            <p:cNvGrpSpPr/>
            <p:nvPr/>
          </p:nvGrpSpPr>
          <p:grpSpPr>
            <a:xfrm>
              <a:off x="5728680" y="2103120"/>
              <a:ext cx="1218600" cy="131760"/>
              <a:chOff x="5728680" y="2103120"/>
              <a:chExt cx="1218600" cy="131760"/>
            </a:xfrm>
          </p:grpSpPr>
          <p:sp>
            <p:nvSpPr>
              <p:cNvPr id="482" name="Oval 22"/>
              <p:cNvSpPr/>
              <p:nvPr/>
            </p:nvSpPr>
            <p:spPr>
              <a:xfrm>
                <a:off x="5728680" y="21031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3"/>
              <p:cNvSpPr/>
              <p:nvPr/>
            </p:nvSpPr>
            <p:spPr>
              <a:xfrm>
                <a:off x="584532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24"/>
              <p:cNvSpPr/>
              <p:nvPr/>
            </p:nvSpPr>
            <p:spPr>
              <a:xfrm>
                <a:off x="6762600" y="21052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25"/>
              <p:cNvSpPr/>
              <p:nvPr/>
            </p:nvSpPr>
            <p:spPr>
              <a:xfrm>
                <a:off x="6861240" y="21463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Rectangle 26"/>
            <p:cNvSpPr/>
            <p:nvPr/>
          </p:nvSpPr>
          <p:spPr>
            <a:xfrm rot="3418800">
              <a:off x="641376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507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909720" y="2030400"/>
          <a:ext cx="7396200" cy="3502080"/>
        </p:xfrm>
        <a:graphic>
          <a:graphicData uri="http://schemas.openxmlformats.org/drawingml/2006/table">
            <a:tbl>
              <a:tblPr/>
              <a:tblGrid>
                <a:gridCol w="1477800"/>
                <a:gridCol w="1182960"/>
                <a:gridCol w="1182600"/>
                <a:gridCol w="1185840"/>
                <a:gridCol w="1184400"/>
                <a:gridCol w="1182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4"/>
                        </a:gs>
                        <a:gs pos="50000">
                          <a:srgbClr val="6699ff"/>
                        </a:gs>
                        <a:gs pos="100000">
                          <a:srgbClr val="2f4774"/>
                        </a:gs>
                      </a:gsLst>
                      <a:lin ang="5400000"/>
                    </a:gra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de3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5d5d5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1101960" y="1455480"/>
            <a:ext cx="6599160" cy="4675320"/>
            <a:chOff x="1101960" y="1455480"/>
            <a:chExt cx="6599160" cy="4675320"/>
          </a:xfrm>
        </p:grpSpPr>
        <p:sp>
          <p:nvSpPr>
            <p:cNvPr id="49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50000">
                  <a:srgbClr val="808080"/>
                </a:gs>
                <a:gs pos="100000">
                  <a:srgbClr val="afaf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5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rc 6"/>
            <p:cNvSpPr/>
            <p:nvPr/>
          </p:nvSpPr>
          <p:spPr>
            <a:xfrm rot="20601600">
              <a:off x="4125600" y="2079720"/>
              <a:ext cx="2849400" cy="1967040"/>
            </a:xfrm>
            <a:custGeom>
              <a:avLst/>
              <a:gdLst>
                <a:gd name="textAreaLeft" fmla="*/ 0 w 2849400"/>
                <a:gd name="textAreaRight" fmla="*/ 2849760 w 2849400"/>
                <a:gd name="textAreaTop" fmla="*/ 0 h 1967040"/>
                <a:gd name="textAreaBottom" fmla="*/ 1967400 h 1967040"/>
              </a:gdLst>
              <a:ahLst/>
              <a:rect l="textAreaLeft" t="textAreaTop" r="textAreaRight" b="textAreaBottom"/>
              <a:pathLst>
                <a:path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80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>
                <a:gd name="textAreaLeft" fmla="*/ 360 w 3281040"/>
                <a:gd name="textAreaRight" fmla="*/ 3281760 w 3281040"/>
                <a:gd name="textAreaTop" fmla="*/ 0 h 1476720"/>
                <a:gd name="textAreaBottom" fmla="*/ 1477080 h 1476720"/>
              </a:gdLst>
              <a:ahLst/>
              <a:rect l="textAreaLeft" t="textAreaTop" r="textAreaRight" b="textAreaBottom"/>
              <a:pathLst>
                <a:path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325d9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>
                <a:gd name="textAreaLeft" fmla="*/ 0 w 3228840"/>
                <a:gd name="textAreaRight" fmla="*/ 3229200 w 32288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77382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rc 9"/>
            <p:cNvSpPr/>
            <p:nvPr/>
          </p:nvSpPr>
          <p:spPr>
            <a:xfrm flipH="1" rot="20602200">
              <a:off x="1371240" y="2719440"/>
              <a:ext cx="2851200" cy="2066760"/>
            </a:xfrm>
            <a:custGeom>
              <a:avLst/>
              <a:gdLst>
                <a:gd name="textAreaLeft" fmla="*/ 360 w 2851200"/>
                <a:gd name="textAreaRight" fmla="*/ 2851920 w 2851200"/>
                <a:gd name="textAreaTop" fmla="*/ 0 h 2066760"/>
                <a:gd name="textAreaBottom" fmla="*/ 2067120 h 2066760"/>
              </a:gdLst>
              <a:ahLst/>
              <a:rect l="textAreaLeft" t="textAreaTop" r="textAreaRight" b="textAreaBottom"/>
              <a:pathLst>
                <a:path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642507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3e5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rc 11"/>
            <p:cNvSpPr/>
            <p:nvPr/>
          </p:nvSpPr>
          <p:spPr>
            <a:xfrm rot="20539200">
              <a:off x="4508280" y="3011760"/>
              <a:ext cx="2728800" cy="1858680"/>
            </a:xfrm>
            <a:custGeom>
              <a:avLst/>
              <a:gdLst>
                <a:gd name="textAreaLeft" fmla="*/ 0 w 2728800"/>
                <a:gd name="textAreaRight" fmla="*/ 2729160 w 2728800"/>
                <a:gd name="textAreaTop" fmla="*/ 0 h 1858680"/>
                <a:gd name="textAreaBottom" fmla="*/ 1859040 h 1858680"/>
              </a:gdLst>
              <a:ahLst/>
              <a:rect l="textAreaLeft" t="textAreaTop" r="textAreaRight" b="textAreaBottom"/>
              <a:pathLst>
                <a:path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475b3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3e5b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5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9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ac1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20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1066680" y="1600200"/>
            <a:ext cx="7010280" cy="4419000"/>
            <a:chOff x="1066680" y="1600200"/>
            <a:chExt cx="7010280" cy="4419000"/>
          </a:xfrm>
        </p:grpSpPr>
        <p:sp>
          <p:nvSpPr>
            <p:cNvPr id="520" name="AutoShape 4"/>
            <p:cNvSpPr/>
            <p:nvPr/>
          </p:nvSpPr>
          <p:spPr>
            <a:xfrm>
              <a:off x="1999080" y="2315880"/>
              <a:ext cx="5206320" cy="257652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5"/>
            <p:cNvSpPr/>
            <p:nvPr/>
          </p:nvSpPr>
          <p:spPr>
            <a:xfrm>
              <a:off x="178380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305995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"/>
            <p:cNvSpPr/>
            <p:nvPr/>
          </p:nvSpPr>
          <p:spPr>
            <a:xfrm>
              <a:off x="3538800" y="28897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7"/>
            <p:cNvGrpSpPr/>
            <p:nvPr/>
          </p:nvGrpSpPr>
          <p:grpSpPr>
            <a:xfrm>
              <a:off x="1066680" y="4075200"/>
              <a:ext cx="1486800" cy="1944000"/>
              <a:chOff x="1066680" y="4075200"/>
              <a:chExt cx="1486800" cy="1944000"/>
            </a:xfrm>
          </p:grpSpPr>
          <p:grpSp>
            <p:nvGrpSpPr>
              <p:cNvPr id="524" name="Group 8"/>
              <p:cNvGrpSpPr/>
              <p:nvPr/>
            </p:nvGrpSpPr>
            <p:grpSpPr>
              <a:xfrm>
                <a:off x="1066680" y="4075200"/>
                <a:ext cx="1398600" cy="1422360"/>
                <a:chOff x="1066680" y="4075200"/>
                <a:chExt cx="1398600" cy="1422360"/>
              </a:xfrm>
            </p:grpSpPr>
            <p:grpSp>
              <p:nvGrpSpPr>
                <p:cNvPr id="525" name="Group 9"/>
                <p:cNvGrpSpPr/>
                <p:nvPr/>
              </p:nvGrpSpPr>
              <p:grpSpPr>
                <a:xfrm>
                  <a:off x="1066680" y="4075200"/>
                  <a:ext cx="1398600" cy="1422360"/>
                  <a:chOff x="1066680" y="4075200"/>
                  <a:chExt cx="1398600" cy="1422360"/>
                </a:xfrm>
              </p:grpSpPr>
              <p:sp>
                <p:nvSpPr>
                  <p:cNvPr id="526" name="Oval 10"/>
                  <p:cNvSpPr/>
                  <p:nvPr/>
                </p:nvSpPr>
                <p:spPr>
                  <a:xfrm>
                    <a:off x="1066680" y="40752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9520f"/>
                      </a:gs>
                      <a:gs pos="100000">
                        <a:srgbClr val="88330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11"/>
                  <p:cNvSpPr/>
                  <p:nvPr/>
                </p:nvSpPr>
                <p:spPr>
                  <a:xfrm>
                    <a:off x="1226520" y="4098600"/>
                    <a:ext cx="1078920" cy="536760"/>
                  </a:xfrm>
                  <a:custGeom>
                    <a:avLst/>
                    <a:gdLst>
                      <a:gd name="textAreaLeft" fmla="*/ 0 w 1078920"/>
                      <a:gd name="textAreaRight" fmla="*/ 1079280 w 1078920"/>
                      <a:gd name="textAreaTop" fmla="*/ 0 h 536760"/>
                      <a:gd name="textAreaBottom" fmla="*/ 537120 h 5367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9520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8" name="Text Box 12"/>
                <p:cNvSpPr/>
                <p:nvPr/>
              </p:nvSpPr>
              <p:spPr>
                <a:xfrm>
                  <a:off x="1182960" y="47991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Oval 13"/>
              <p:cNvSpPr/>
              <p:nvPr/>
            </p:nvSpPr>
            <p:spPr>
              <a:xfrm>
                <a:off x="1066680" y="5607720"/>
                <a:ext cx="148680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4"/>
            <p:cNvGrpSpPr/>
            <p:nvPr/>
          </p:nvGrpSpPr>
          <p:grpSpPr>
            <a:xfrm>
              <a:off x="2859840" y="4075200"/>
              <a:ext cx="1522080" cy="1944000"/>
              <a:chOff x="2859840" y="4075200"/>
              <a:chExt cx="1522080" cy="1944000"/>
            </a:xfrm>
          </p:grpSpPr>
          <p:grpSp>
            <p:nvGrpSpPr>
              <p:cNvPr id="531" name="Group 15"/>
              <p:cNvGrpSpPr/>
              <p:nvPr/>
            </p:nvGrpSpPr>
            <p:grpSpPr>
              <a:xfrm>
                <a:off x="2859840" y="4075200"/>
                <a:ext cx="1433880" cy="1428480"/>
                <a:chOff x="2859840" y="4075200"/>
                <a:chExt cx="1433880" cy="1428480"/>
              </a:xfrm>
            </p:grpSpPr>
            <p:sp>
              <p:nvSpPr>
                <p:cNvPr id="532" name="Oval 16"/>
                <p:cNvSpPr/>
                <p:nvPr/>
              </p:nvSpPr>
              <p:spPr>
                <a:xfrm>
                  <a:off x="2859840" y="4075200"/>
                  <a:ext cx="1433880" cy="14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b51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7"/>
                <p:cNvSpPr/>
                <p:nvPr/>
              </p:nvSpPr>
              <p:spPr>
                <a:xfrm>
                  <a:off x="3023640" y="4098600"/>
                  <a:ext cx="1106280" cy="538920"/>
                </a:xfrm>
                <a:custGeom>
                  <a:avLst/>
                  <a:gdLst>
                    <a:gd name="textAreaLeft" fmla="*/ 0 w 1106280"/>
                    <a:gd name="textAreaRight" fmla="*/ 1106640 w 1106280"/>
                    <a:gd name="textAreaTop" fmla="*/ 0 h 538920"/>
                    <a:gd name="textAreaBottom" fmla="*/ 539280 h 538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Text Box 18"/>
              <p:cNvSpPr/>
              <p:nvPr/>
            </p:nvSpPr>
            <p:spPr>
              <a:xfrm>
                <a:off x="2931480" y="4760640"/>
                <a:ext cx="12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19"/>
              <p:cNvSpPr/>
              <p:nvPr/>
            </p:nvSpPr>
            <p:spPr>
              <a:xfrm>
                <a:off x="2895480" y="5607720"/>
                <a:ext cx="148644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20"/>
            <p:cNvGrpSpPr/>
            <p:nvPr/>
          </p:nvGrpSpPr>
          <p:grpSpPr>
            <a:xfrm>
              <a:off x="4797000" y="4033800"/>
              <a:ext cx="1535760" cy="1985400"/>
              <a:chOff x="4797000" y="4033800"/>
              <a:chExt cx="1535760" cy="1985400"/>
            </a:xfrm>
          </p:grpSpPr>
          <p:grpSp>
            <p:nvGrpSpPr>
              <p:cNvPr id="537" name="Group 21"/>
              <p:cNvGrpSpPr/>
              <p:nvPr/>
            </p:nvGrpSpPr>
            <p:grpSpPr>
              <a:xfrm>
                <a:off x="4797000" y="4033800"/>
                <a:ext cx="1434240" cy="1428120"/>
                <a:chOff x="4797000" y="4033800"/>
                <a:chExt cx="1434240" cy="1428120"/>
              </a:xfrm>
            </p:grpSpPr>
            <p:sp>
              <p:nvSpPr>
                <p:cNvPr id="538" name="Oval 22"/>
                <p:cNvSpPr/>
                <p:nvPr/>
              </p:nvSpPr>
              <p:spPr>
                <a:xfrm>
                  <a:off x="4797000" y="40338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25447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3"/>
                <p:cNvSpPr/>
                <p:nvPr/>
              </p:nvSpPr>
              <p:spPr>
                <a:xfrm>
                  <a:off x="4960800" y="4057200"/>
                  <a:ext cx="1106280" cy="538920"/>
                </a:xfrm>
                <a:custGeom>
                  <a:avLst/>
                  <a:gdLst>
                    <a:gd name="textAreaLeft" fmla="*/ 0 w 1106280"/>
                    <a:gd name="textAreaRight" fmla="*/ 1106640 w 1106280"/>
                    <a:gd name="textAreaTop" fmla="*/ 0 h 538920"/>
                    <a:gd name="textAreaBottom" fmla="*/ 539280 h 5389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Text Box 24"/>
              <p:cNvSpPr/>
              <p:nvPr/>
            </p:nvSpPr>
            <p:spPr>
              <a:xfrm>
                <a:off x="4868640" y="47192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25"/>
              <p:cNvSpPr/>
              <p:nvPr/>
            </p:nvSpPr>
            <p:spPr>
              <a:xfrm>
                <a:off x="4846320" y="56080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26"/>
            <p:cNvGrpSpPr/>
            <p:nvPr/>
          </p:nvGrpSpPr>
          <p:grpSpPr>
            <a:xfrm>
              <a:off x="6590160" y="4033800"/>
              <a:ext cx="1486800" cy="1985400"/>
              <a:chOff x="6590160" y="4033800"/>
              <a:chExt cx="1486800" cy="1985400"/>
            </a:xfrm>
          </p:grpSpPr>
          <p:grpSp>
            <p:nvGrpSpPr>
              <p:cNvPr id="543" name="Group 27"/>
              <p:cNvGrpSpPr/>
              <p:nvPr/>
            </p:nvGrpSpPr>
            <p:grpSpPr>
              <a:xfrm>
                <a:off x="6590160" y="4033800"/>
                <a:ext cx="1434240" cy="1438200"/>
                <a:chOff x="6590160" y="4033800"/>
                <a:chExt cx="1434240" cy="1438200"/>
              </a:xfrm>
            </p:grpSpPr>
            <p:grpSp>
              <p:nvGrpSpPr>
                <p:cNvPr id="544" name="Group 28"/>
                <p:cNvGrpSpPr/>
                <p:nvPr/>
              </p:nvGrpSpPr>
              <p:grpSpPr>
                <a:xfrm>
                  <a:off x="6590160" y="4033800"/>
                  <a:ext cx="1434240" cy="1438200"/>
                  <a:chOff x="6590160" y="4033800"/>
                  <a:chExt cx="1434240" cy="1438200"/>
                </a:xfrm>
              </p:grpSpPr>
              <p:sp>
                <p:nvSpPr>
                  <p:cNvPr id="545" name="Oval 29"/>
                  <p:cNvSpPr/>
                  <p:nvPr/>
                </p:nvSpPr>
                <p:spPr>
                  <a:xfrm>
                    <a:off x="6590160" y="4033800"/>
                    <a:ext cx="143424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cc769"/>
                      </a:gs>
                      <a:gs pos="100000">
                        <a:srgbClr val="252f1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30"/>
                  <p:cNvSpPr/>
                  <p:nvPr/>
                </p:nvSpPr>
                <p:spPr>
                  <a:xfrm>
                    <a:off x="6753960" y="4057560"/>
                    <a:ext cx="1106280" cy="542880"/>
                  </a:xfrm>
                  <a:custGeom>
                    <a:avLst/>
                    <a:gdLst>
                      <a:gd name="textAreaLeft" fmla="*/ 0 w 1106280"/>
                      <a:gd name="textAreaRight" fmla="*/ 1106640 w 1106280"/>
                      <a:gd name="textAreaTop" fmla="*/ 0 h 542880"/>
                      <a:gd name="textAreaBottom" fmla="*/ 543240 h 54288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cc7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31"/>
                <p:cNvSpPr/>
                <p:nvPr/>
              </p:nvSpPr>
              <p:spPr>
                <a:xfrm>
                  <a:off x="668988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Oval 32"/>
              <p:cNvSpPr/>
              <p:nvPr/>
            </p:nvSpPr>
            <p:spPr>
              <a:xfrm>
                <a:off x="65901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828800" y="1795320"/>
            <a:ext cx="5410080" cy="665280"/>
            <a:chOff x="1828800" y="1795320"/>
            <a:chExt cx="5410080" cy="665280"/>
          </a:xfrm>
        </p:grpSpPr>
        <p:grpSp>
          <p:nvGrpSpPr>
            <p:cNvPr id="55" name="Group 4"/>
            <p:cNvGrpSpPr/>
            <p:nvPr/>
          </p:nvGrpSpPr>
          <p:grpSpPr>
            <a:xfrm>
              <a:off x="1828800" y="1795320"/>
              <a:ext cx="762120" cy="665280"/>
              <a:chOff x="1828800" y="1795320"/>
              <a:chExt cx="762120" cy="665280"/>
            </a:xfrm>
          </p:grpSpPr>
          <p:sp>
            <p:nvSpPr>
              <p:cNvPr id="56" name="AutoShape 4"/>
              <p:cNvSpPr/>
              <p:nvPr/>
            </p:nvSpPr>
            <p:spPr>
              <a:xfrm>
                <a:off x="1834920" y="1806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5"/>
              <p:cNvSpPr/>
              <p:nvPr/>
            </p:nvSpPr>
            <p:spPr>
              <a:xfrm>
                <a:off x="1828800" y="1795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6"/>
              <p:cNvSpPr/>
              <p:nvPr/>
            </p:nvSpPr>
            <p:spPr>
              <a:xfrm>
                <a:off x="1873080" y="1834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9520f"/>
                  </a:gs>
                  <a:gs pos="100000">
                    <a:srgbClr val="642507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Line 11"/>
            <p:cNvSpPr/>
            <p:nvPr/>
          </p:nvSpPr>
          <p:spPr>
            <a:xfrm>
              <a:off x="2438280" y="2404800"/>
              <a:ext cx="4800600" cy="180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3355920" y="1871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"/>
            <p:cNvSpPr/>
            <p:nvPr/>
          </p:nvSpPr>
          <p:spPr>
            <a:xfrm>
              <a:off x="2027520" y="1893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1828800" y="2709720"/>
            <a:ext cx="5410080" cy="665280"/>
            <a:chOff x="1828800" y="2709720"/>
            <a:chExt cx="5410080" cy="665280"/>
          </a:xfrm>
        </p:grpSpPr>
        <p:grpSp>
          <p:nvGrpSpPr>
            <p:cNvPr id="63" name="Group 12"/>
            <p:cNvGrpSpPr/>
            <p:nvPr/>
          </p:nvGrpSpPr>
          <p:grpSpPr>
            <a:xfrm>
              <a:off x="1828800" y="2709720"/>
              <a:ext cx="762120" cy="665280"/>
              <a:chOff x="1828800" y="2709720"/>
              <a:chExt cx="762120" cy="665280"/>
            </a:xfrm>
          </p:grpSpPr>
          <p:sp>
            <p:nvSpPr>
              <p:cNvPr id="64" name="AutoShape 8"/>
              <p:cNvSpPr/>
              <p:nvPr/>
            </p:nvSpPr>
            <p:spPr>
              <a:xfrm>
                <a:off x="1834920" y="2720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9"/>
              <p:cNvSpPr/>
              <p:nvPr/>
            </p:nvSpPr>
            <p:spPr>
              <a:xfrm>
                <a:off x="1828800" y="2709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10"/>
              <p:cNvSpPr/>
              <p:nvPr/>
            </p:nvSpPr>
            <p:spPr>
              <a:xfrm>
                <a:off x="1873080" y="2748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14"/>
            <p:cNvSpPr/>
            <p:nvPr/>
          </p:nvSpPr>
          <p:spPr>
            <a:xfrm>
              <a:off x="2438280" y="3319200"/>
              <a:ext cx="4800600" cy="180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5"/>
            <p:cNvSpPr/>
            <p:nvPr/>
          </p:nvSpPr>
          <p:spPr>
            <a:xfrm>
              <a:off x="3355920" y="27860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2027520" y="28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1828800" y="3602160"/>
            <a:ext cx="5410080" cy="664920"/>
            <a:chOff x="1828800" y="3602160"/>
            <a:chExt cx="5410080" cy="664920"/>
          </a:xfrm>
        </p:grpSpPr>
        <p:grpSp>
          <p:nvGrpSpPr>
            <p:cNvPr id="71" name="Group 20"/>
            <p:cNvGrpSpPr/>
            <p:nvPr/>
          </p:nvGrpSpPr>
          <p:grpSpPr>
            <a:xfrm>
              <a:off x="1828800" y="3602160"/>
              <a:ext cx="762120" cy="664920"/>
              <a:chOff x="1828800" y="3602160"/>
              <a:chExt cx="762120" cy="664920"/>
            </a:xfrm>
          </p:grpSpPr>
          <p:sp>
            <p:nvSpPr>
              <p:cNvPr id="72" name="AutoShape 18"/>
              <p:cNvSpPr/>
              <p:nvPr/>
            </p:nvSpPr>
            <p:spPr>
              <a:xfrm>
                <a:off x="1834920" y="3613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9"/>
              <p:cNvSpPr/>
              <p:nvPr/>
            </p:nvSpPr>
            <p:spPr>
              <a:xfrm>
                <a:off x="1828800" y="3602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20"/>
              <p:cNvSpPr/>
              <p:nvPr/>
            </p:nvSpPr>
            <p:spPr>
              <a:xfrm>
                <a:off x="1873080" y="3641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9520f"/>
                  </a:gs>
                  <a:gs pos="100000">
                    <a:srgbClr val="642507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Line 25"/>
            <p:cNvSpPr/>
            <p:nvPr/>
          </p:nvSpPr>
          <p:spPr>
            <a:xfrm>
              <a:off x="2438280" y="4211280"/>
              <a:ext cx="4800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6"/>
            <p:cNvSpPr/>
            <p:nvPr/>
          </p:nvSpPr>
          <p:spPr>
            <a:xfrm>
              <a:off x="3355920" y="3678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7"/>
            <p:cNvSpPr/>
            <p:nvPr/>
          </p:nvSpPr>
          <p:spPr>
            <a:xfrm>
              <a:off x="2027520" y="370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7"/>
          <p:cNvGrpSpPr/>
          <p:nvPr/>
        </p:nvGrpSpPr>
        <p:grpSpPr>
          <a:xfrm>
            <a:off x="1828800" y="4516560"/>
            <a:ext cx="5410080" cy="664920"/>
            <a:chOff x="1828800" y="4516560"/>
            <a:chExt cx="5410080" cy="664920"/>
          </a:xfrm>
        </p:grpSpPr>
        <p:grpSp>
          <p:nvGrpSpPr>
            <p:cNvPr id="79" name="Group 28"/>
            <p:cNvGrpSpPr/>
            <p:nvPr/>
          </p:nvGrpSpPr>
          <p:grpSpPr>
            <a:xfrm>
              <a:off x="1828800" y="4516560"/>
              <a:ext cx="762120" cy="664920"/>
              <a:chOff x="1828800" y="4516560"/>
              <a:chExt cx="762120" cy="664920"/>
            </a:xfrm>
          </p:grpSpPr>
          <p:sp>
            <p:nvSpPr>
              <p:cNvPr id="80" name="AutoShape 22"/>
              <p:cNvSpPr/>
              <p:nvPr/>
            </p:nvSpPr>
            <p:spPr>
              <a:xfrm>
                <a:off x="1834920" y="452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23"/>
              <p:cNvSpPr/>
              <p:nvPr/>
            </p:nvSpPr>
            <p:spPr>
              <a:xfrm>
                <a:off x="1828800" y="451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24"/>
              <p:cNvSpPr/>
              <p:nvPr/>
            </p:nvSpPr>
            <p:spPr>
              <a:xfrm>
                <a:off x="1873080" y="455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Line 28"/>
            <p:cNvSpPr/>
            <p:nvPr/>
          </p:nvSpPr>
          <p:spPr>
            <a:xfrm>
              <a:off x="2438280" y="5125680"/>
              <a:ext cx="4800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9"/>
            <p:cNvSpPr/>
            <p:nvPr/>
          </p:nvSpPr>
          <p:spPr>
            <a:xfrm>
              <a:off x="3355920" y="459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0"/>
            <p:cNvSpPr/>
            <p:nvPr/>
          </p:nvSpPr>
          <p:spPr>
            <a:xfrm>
              <a:off x="2027520" y="461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550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>
                <a:gd name="textAreaLeft" fmla="*/ 0 w 2119320"/>
                <a:gd name="textAreaRight" fmla="*/ 2119680 w 21193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200400" y="3292560"/>
          <a:ext cx="2743200" cy="2746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00A1-6980-4D24-8C4C-715628C35C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</a:pP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1d1f6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295280" y="5562720"/>
            <a:ext cx="632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Image – CD : Wired Business (PhotoDis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1219320" y="3076560"/>
            <a:ext cx="2813040" cy="2638440"/>
            <a:chOff x="1219320" y="3076560"/>
            <a:chExt cx="2813040" cy="2638440"/>
          </a:xfrm>
        </p:grpSpPr>
        <p:sp>
          <p:nvSpPr>
            <p:cNvPr id="91" name="AutoShape 5"/>
            <p:cNvSpPr/>
            <p:nvPr/>
          </p:nvSpPr>
          <p:spPr>
            <a:xfrm>
              <a:off x="1219320" y="3170160"/>
              <a:ext cx="2155680" cy="254484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9">
                  <a:moveTo>
                    <a:pt x="3600" y="0"/>
                  </a:moveTo>
                  <a:arcTo wR="3600" hR="3600" stAng="16200000" swAng="-5400000"/>
                  <a:lnTo>
                    <a:pt x="0" y="21899"/>
                  </a:lnTo>
                  <a:arcTo wR="3600" hR="3600" stAng="10800000" swAng="-5400000"/>
                  <a:lnTo>
                    <a:pt x="18000" y="25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1309680" y="33606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请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3181320" y="3076560"/>
              <a:ext cx="851040" cy="118584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c9b4"/>
                </a:gs>
                <a:gs pos="100000">
                  <a:srgbClr val="d952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3016080" y="1523880"/>
            <a:ext cx="2827440" cy="1528200"/>
            <a:chOff x="3016080" y="1523880"/>
            <a:chExt cx="2827440" cy="1528200"/>
          </a:xfrm>
        </p:grpSpPr>
        <p:grpSp>
          <p:nvGrpSpPr>
            <p:cNvPr id="96" name="Group 9"/>
            <p:cNvGrpSpPr/>
            <p:nvPr/>
          </p:nvGrpSpPr>
          <p:grpSpPr>
            <a:xfrm>
              <a:off x="3016080" y="1523880"/>
              <a:ext cx="2827440" cy="1528200"/>
              <a:chOff x="3016080" y="1523880"/>
              <a:chExt cx="2827440" cy="1528200"/>
            </a:xfrm>
          </p:grpSpPr>
          <p:grpSp>
            <p:nvGrpSpPr>
              <p:cNvPr id="97" name="Group 10"/>
              <p:cNvGrpSpPr/>
              <p:nvPr/>
            </p:nvGrpSpPr>
            <p:grpSpPr>
              <a:xfrm>
                <a:off x="3016080" y="1659960"/>
                <a:ext cx="2827440" cy="1392120"/>
                <a:chOff x="3016080" y="1659960"/>
                <a:chExt cx="2827440" cy="1392120"/>
              </a:xfrm>
            </p:grpSpPr>
            <p:sp>
              <p:nvSpPr>
                <p:cNvPr id="98" name="Oval 13"/>
                <p:cNvSpPr/>
                <p:nvPr/>
              </p:nvSpPr>
              <p:spPr>
                <a:xfrm>
                  <a:off x="3047040" y="170424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4c57"/>
                    </a:gs>
                    <a:gs pos="100000">
                      <a:srgbClr val="36a1b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14"/>
                <p:cNvSpPr/>
                <p:nvPr/>
              </p:nvSpPr>
              <p:spPr>
                <a:xfrm>
                  <a:off x="3016080" y="165996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d3e7b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Oval 15"/>
              <p:cNvSpPr/>
              <p:nvPr/>
            </p:nvSpPr>
            <p:spPr>
              <a:xfrm>
                <a:off x="3148920" y="1523880"/>
                <a:ext cx="2530800" cy="128016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13e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6"/>
              <p:cNvSpPr/>
              <p:nvPr/>
            </p:nvSpPr>
            <p:spPr>
              <a:xfrm>
                <a:off x="3182040" y="1531440"/>
                <a:ext cx="2469960" cy="1248840"/>
              </a:xfrm>
              <a:prstGeom prst="ellipse">
                <a:avLst/>
              </a:prstGeom>
              <a:gradFill rotWithShape="0">
                <a:gsLst>
                  <a:gs pos="0">
                    <a:srgbClr val="c1d7f6"/>
                  </a:gs>
                  <a:gs pos="100000">
                    <a:srgbClr val="4987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7"/>
              <p:cNvSpPr/>
              <p:nvPr/>
            </p:nvSpPr>
            <p:spPr>
              <a:xfrm>
                <a:off x="3207240" y="1543320"/>
                <a:ext cx="2350080" cy="116676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96a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8"/>
              <p:cNvSpPr/>
              <p:nvPr/>
            </p:nvSpPr>
            <p:spPr>
              <a:xfrm>
                <a:off x="3331440" y="1569240"/>
                <a:ext cx="2068560" cy="94572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19"/>
            <p:cNvSpPr/>
            <p:nvPr/>
          </p:nvSpPr>
          <p:spPr>
            <a:xfrm>
              <a:off x="3770280" y="17143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8"/>
          <p:cNvGrpSpPr/>
          <p:nvPr/>
        </p:nvGrpSpPr>
        <p:grpSpPr>
          <a:xfrm>
            <a:off x="5388120" y="3170160"/>
            <a:ext cx="2232000" cy="2544840"/>
            <a:chOff x="5388120" y="3170160"/>
            <a:chExt cx="2232000" cy="2544840"/>
          </a:xfrm>
        </p:grpSpPr>
        <p:sp>
          <p:nvSpPr>
            <p:cNvPr id="106" name="AutoShape 3"/>
            <p:cNvSpPr/>
            <p:nvPr/>
          </p:nvSpPr>
          <p:spPr>
            <a:xfrm>
              <a:off x="5388120" y="3170160"/>
              <a:ext cx="2155680" cy="2544840"/>
            </a:xfrm>
            <a:custGeom>
              <a:avLst/>
              <a:gdLst>
                <a:gd name="textAreaLeft" fmla="*/ 105120 w 2155680"/>
                <a:gd name="textAreaRight" fmla="*/ 2050560 w 2155680"/>
                <a:gd name="textAreaTop" fmla="*/ 105120 h 2544840"/>
                <a:gd name="textAreaBottom" fmla="*/ 2439720 h 2544840"/>
              </a:gdLst>
              <a:ahLst/>
              <a:rect l="textAreaLeft" t="textAreaTop" r="textAreaRight" b="textAreaBottom"/>
              <a:pathLst>
                <a:path w="21600" h="25499">
                  <a:moveTo>
                    <a:pt x="3600" y="0"/>
                  </a:moveTo>
                  <a:arcTo wR="3600" hR="3600" stAng="16200000" swAng="-5400000"/>
                  <a:lnTo>
                    <a:pt x="0" y="21899"/>
                  </a:lnTo>
                  <a:arcTo wR="3600" hR="3600" stAng="10800000" swAng="-5400000"/>
                  <a:lnTo>
                    <a:pt x="18000" y="25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3"/>
            <p:cNvSpPr/>
            <p:nvPr/>
          </p:nvSpPr>
          <p:spPr>
            <a:xfrm>
              <a:off x="5581800" y="3429000"/>
              <a:ext cx="20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请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>
              <a:gd name="textAreaLeft" fmla="*/ 360 w 852480"/>
              <a:gd name="textAreaRight" fmla="*/ 853200 w 852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7dbf6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330120" y="1393920"/>
            <a:ext cx="8294400" cy="5187960"/>
            <a:chOff x="330120" y="1393920"/>
            <a:chExt cx="8294400" cy="5187960"/>
          </a:xfrm>
        </p:grpSpPr>
        <p:sp>
          <p:nvSpPr>
            <p:cNvPr id="111" name="Freeform 4"/>
            <p:cNvSpPr/>
            <p:nvPr/>
          </p:nvSpPr>
          <p:spPr>
            <a:xfrm rot="20241600">
              <a:off x="1043280" y="2615760"/>
              <a:ext cx="6898320" cy="2743920"/>
            </a:xfrm>
            <a:custGeom>
              <a:avLst/>
              <a:gdLst>
                <a:gd name="textAreaLeft" fmla="*/ 0 w 6898320"/>
                <a:gd name="textAreaRight" fmla="*/ 6898680 w 6898320"/>
                <a:gd name="textAreaTop" fmla="*/ 0 h 2743920"/>
                <a:gd name="textAreaBottom" fmla="*/ 2744280 h 27439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5e5e5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"/>
            <p:cNvSpPr/>
            <p:nvPr/>
          </p:nvSpPr>
          <p:spPr>
            <a:xfrm rot="20056200">
              <a:off x="7402320" y="272160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"/>
            <p:cNvSpPr/>
            <p:nvPr/>
          </p:nvSpPr>
          <p:spPr>
            <a:xfrm rot="20056200">
              <a:off x="2830680" y="5654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8"/>
            <p:cNvSpPr/>
            <p:nvPr/>
          </p:nvSpPr>
          <p:spPr>
            <a:xfrm rot="20056200">
              <a:off x="5677560" y="5021640"/>
              <a:ext cx="120780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"/>
            <p:cNvSpPr/>
            <p:nvPr/>
          </p:nvSpPr>
          <p:spPr>
            <a:xfrm>
              <a:off x="379296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6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1"/>
            <p:cNvSpPr/>
            <p:nvPr/>
          </p:nvSpPr>
          <p:spPr>
            <a:xfrm>
              <a:off x="1262520" y="3264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2150280" y="49251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b1c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4944600" y="430848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242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6784560" y="1996200"/>
              <a:ext cx="122148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443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71600" y="2220480"/>
              <a:ext cx="1953360" cy="1800"/>
              <a:chOff x="471600" y="2220480"/>
              <a:chExt cx="1953360" cy="1800"/>
            </a:xfrm>
          </p:grpSpPr>
          <p:cxnSp>
            <p:nvCxnSpPr>
              <p:cNvPr id="130" name="AutoShape 22"/>
              <p:cNvCxnSpPr/>
              <p:nvPr/>
            </p:nvCxnSpPr>
            <p:spPr>
              <a:xfrm flipH="1">
                <a:off x="471600" y="2220480"/>
                <a:ext cx="19537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1" name=""/>
              <p:cNvSpPr txBox="1"/>
              <p:nvPr/>
            </p:nvSpPr>
            <p:spPr>
              <a:xfrm>
                <a:off x="471600" y="2220480"/>
                <a:ext cx="195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35" name="AutoShape 3"/>
            <p:cNvSpPr/>
            <p:nvPr/>
          </p:nvSpPr>
          <p:spPr>
            <a:xfrm>
              <a:off x="3664800" y="39045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3664800" y="33998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5"/>
            <p:cNvSpPr/>
            <p:nvPr/>
          </p:nvSpPr>
          <p:spPr>
            <a:xfrm>
              <a:off x="3664800" y="28954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4160160" y="3617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9"/>
            <p:cNvSpPr/>
            <p:nvPr/>
          </p:nvSpPr>
          <p:spPr>
            <a:xfrm>
              <a:off x="3016440" y="267912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75757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121500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4"/>
            <p:cNvSpPr/>
            <p:nvPr/>
          </p:nvSpPr>
          <p:spPr>
            <a:xfrm>
              <a:off x="5397480" y="267912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75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5"/>
            <p:cNvSpPr/>
            <p:nvPr/>
          </p:nvSpPr>
          <p:spPr>
            <a:xfrm>
              <a:off x="3201120" y="16812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6a1b6"/>
                </a:gs>
                <a:gs pos="50000">
                  <a:srgbClr val="194953"/>
                </a:gs>
                <a:gs pos="100000">
                  <a:srgbClr val="36a1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6"/>
            <p:cNvSpPr/>
            <p:nvPr/>
          </p:nvSpPr>
          <p:spPr>
            <a:xfrm>
              <a:off x="3633480" y="2319120"/>
              <a:ext cx="1657080" cy="504360"/>
            </a:xfrm>
            <a:prstGeom prst="upArrow">
              <a:avLst>
                <a:gd name="adj1" fmla="val 68389"/>
                <a:gd name="adj2" fmla="val 7082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27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1f571e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612240" y="4552920"/>
              <a:ext cx="1660320" cy="496440"/>
            </a:xfrm>
            <a:prstGeom prst="downArrow">
              <a:avLst>
                <a:gd name="adj1" fmla="val 67102"/>
                <a:gd name="adj2" fmla="val 64051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55" name="Group 4"/>
            <p:cNvGrpSpPr/>
            <p:nvPr/>
          </p:nvGrpSpPr>
          <p:grpSpPr>
            <a:xfrm>
              <a:off x="3051720" y="1905120"/>
              <a:ext cx="2966040" cy="2705400"/>
              <a:chOff x="3051720" y="1905120"/>
              <a:chExt cx="2966040" cy="2705400"/>
            </a:xfrm>
          </p:grpSpPr>
          <p:sp>
            <p:nvSpPr>
              <p:cNvPr id="156" name="AutoShape 4"/>
              <p:cNvSpPr/>
              <p:nvPr/>
            </p:nvSpPr>
            <p:spPr>
              <a:xfrm flipH="1" rot="16200000">
                <a:off x="2974320" y="2945520"/>
                <a:ext cx="458640" cy="3038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a7a7c7"/>
                  </a:gs>
                  <a:gs pos="100000">
                    <a:srgbClr val="1d1f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5"/>
              <p:cNvSpPr/>
              <p:nvPr/>
            </p:nvSpPr>
            <p:spPr>
              <a:xfrm flipH="1" rot="5400000">
                <a:off x="5636520" y="2895120"/>
                <a:ext cx="458640" cy="3038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a7a7c7"/>
                  </a:gs>
                  <a:gs pos="100000">
                    <a:srgbClr val="1d1f6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6"/>
              <p:cNvSpPr/>
              <p:nvPr/>
            </p:nvSpPr>
            <p:spPr>
              <a:xfrm flipH="1" rot="10800000">
                <a:off x="4310640" y="4304880"/>
                <a:ext cx="454680" cy="3056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a7a7c7"/>
                  </a:gs>
                  <a:gs pos="100000">
                    <a:srgbClr val="1d1f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7"/>
              <p:cNvSpPr/>
              <p:nvPr/>
            </p:nvSpPr>
            <p:spPr>
              <a:xfrm>
                <a:off x="3356640" y="1905120"/>
                <a:ext cx="23835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8"/>
              <p:cNvSpPr/>
              <p:nvPr/>
            </p:nvSpPr>
            <p:spPr>
              <a:xfrm>
                <a:off x="3492720" y="2040120"/>
                <a:ext cx="211032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0a0a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9"/>
              <p:cNvSpPr/>
              <p:nvPr/>
            </p:nvSpPr>
            <p:spPr>
              <a:xfrm>
                <a:off x="3616920" y="2166480"/>
                <a:ext cx="1862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ffffff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0"/>
              <p:cNvSpPr/>
              <p:nvPr/>
            </p:nvSpPr>
            <p:spPr>
              <a:xfrm>
                <a:off x="3616920" y="2166480"/>
                <a:ext cx="1862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1"/>
              <p:cNvSpPr/>
              <p:nvPr/>
            </p:nvSpPr>
            <p:spPr>
              <a:xfrm>
                <a:off x="3739320" y="2289960"/>
                <a:ext cx="1617480" cy="163152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1d5661"/>
                  </a:gs>
                  <a:gs pos="100000">
                    <a:srgbClr val="36a1b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2"/>
              <p:cNvSpPr/>
              <p:nvPr/>
            </p:nvSpPr>
            <p:spPr>
              <a:xfrm>
                <a:off x="3739320" y="2289960"/>
                <a:ext cx="1617480" cy="1631520"/>
              </a:xfrm>
              <a:prstGeom prst="ellipse">
                <a:avLst/>
              </a:prstGeom>
              <a:gradFill rotWithShape="0">
                <a:gsLst>
                  <a:gs pos="0">
                    <a:srgbClr val="7a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AutoShape 13"/>
            <p:cNvSpPr/>
            <p:nvPr/>
          </p:nvSpPr>
          <p:spPr>
            <a:xfrm>
              <a:off x="1143000" y="3403080"/>
              <a:ext cx="16966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75b30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4"/>
            <p:cNvSpPr/>
            <p:nvPr/>
          </p:nvSpPr>
          <p:spPr>
            <a:xfrm>
              <a:off x="1143000" y="2903400"/>
              <a:ext cx="16966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75b30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>
              <a:off x="1143000" y="2404440"/>
              <a:ext cx="16966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75b30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6233400" y="3403080"/>
              <a:ext cx="17676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7"/>
            <p:cNvSpPr/>
            <p:nvPr/>
          </p:nvSpPr>
          <p:spPr>
            <a:xfrm>
              <a:off x="6233400" y="2903400"/>
              <a:ext cx="17676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8"/>
            <p:cNvSpPr/>
            <p:nvPr/>
          </p:nvSpPr>
          <p:spPr>
            <a:xfrm>
              <a:off x="6233400" y="2404440"/>
              <a:ext cx="17676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13e68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0"/>
            <p:cNvSpPr/>
            <p:nvPr/>
          </p:nvSpPr>
          <p:spPr>
            <a:xfrm>
              <a:off x="2738160" y="4758480"/>
              <a:ext cx="3605400" cy="498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747474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1617120" y="355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6830640" y="3550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914040" y="1828800"/>
            <a:ext cx="7238880" cy="3733920"/>
            <a:chOff x="914040" y="1828800"/>
            <a:chExt cx="7238880" cy="3733920"/>
          </a:xfrm>
        </p:grpSpPr>
        <p:sp>
          <p:nvSpPr>
            <p:cNvPr id="181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71c"/>
                </a:gs>
                <a:gs pos="100000">
                  <a:srgbClr val="0056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"/>
            <p:cNvSpPr/>
            <p:nvPr/>
          </p:nvSpPr>
          <p:spPr>
            <a:xfrm>
              <a:off x="4701600" y="1828800"/>
              <a:ext cx="3451320" cy="603000"/>
            </a:xfrm>
            <a:custGeom>
              <a:avLst/>
              <a:gdLst>
                <a:gd name="textAreaLeft" fmla="*/ 0 w 3451320"/>
                <a:gd name="textAreaRight" fmla="*/ 3451680 w 345132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20742"/>
                </a:gs>
                <a:gs pos="100000">
                  <a:srgbClr val="4b10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"/>
            <p:cNvSpPr/>
            <p:nvPr/>
          </p:nvSpPr>
          <p:spPr>
            <a:xfrm>
              <a:off x="3843720" y="2764800"/>
              <a:ext cx="3710160" cy="601560"/>
            </a:xfrm>
            <a:custGeom>
              <a:avLst/>
              <a:gdLst>
                <a:gd name="textAreaLeft" fmla="*/ 0 w 3710160"/>
                <a:gd name="textAreaRight" fmla="*/ 3710520 w 371016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6352560" y="3691800"/>
              <a:ext cx="591840" cy="94104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41040"/>
                <a:gd name="textAreaBottom" fmla="*/ 941400 h 94104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11704"/>
                </a:gs>
                <a:gs pos="100000">
                  <a:srgbClr val="9033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13106"/>
                </a:gs>
                <a:gs pos="100000">
                  <a:srgbClr val="906b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>
                <a:gd name="textAreaLeft" fmla="*/ 0 w 4213440"/>
                <a:gd name="textAreaRight" fmla="*/ 4213800 w 42134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 flipH="1">
              <a:off x="914040" y="5555880"/>
              <a:ext cx="1224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 flipH="1">
              <a:off x="914400" y="4619880"/>
              <a:ext cx="208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 flipH="1">
              <a:off x="914040" y="3695760"/>
              <a:ext cx="2937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 flipH="1">
              <a:off x="914040" y="2772720"/>
              <a:ext cx="3794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 flipH="1">
              <a:off x="914400" y="1835280"/>
              <a:ext cx="4650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1099080" y="1828800"/>
              <a:ext cx="1440" cy="9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>
              <a:off x="1099080" y="2799360"/>
              <a:ext cx="144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8"/>
            <p:cNvSpPr/>
            <p:nvPr/>
          </p:nvSpPr>
          <p:spPr>
            <a:xfrm>
              <a:off x="1099080" y="3709080"/>
              <a:ext cx="144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9"/>
            <p:cNvSpPr/>
            <p:nvPr/>
          </p:nvSpPr>
          <p:spPr>
            <a:xfrm>
              <a:off x="1099080" y="4619880"/>
              <a:ext cx="144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2750040" y="2010600"/>
              <a:ext cx="1897560" cy="3033000"/>
            </a:xfrm>
            <a:custGeom>
              <a:avLst/>
              <a:gdLst>
                <a:gd name="textAreaLeft" fmla="*/ 0 w 1897560"/>
                <a:gd name="textAreaRight" fmla="*/ 1897920 w 1897560"/>
                <a:gd name="textAreaTop" fmla="*/ 0 h 3033000"/>
                <a:gd name="textAreaBottom" fmla="*/ 3033360 h 30330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4707000" y="2431800"/>
              <a:ext cx="2857680" cy="3380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64c"/>
                </a:gs>
                <a:gs pos="100000">
                  <a:srgbClr val="009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2"/>
            <p:cNvSpPr/>
            <p:nvPr/>
          </p:nvSpPr>
          <p:spPr>
            <a:xfrm>
              <a:off x="3845160" y="3366720"/>
              <a:ext cx="3114000" cy="3315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c2fb6"/>
                </a:gs>
                <a:gs pos="100000">
                  <a:srgbClr val="8041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>
                <a:gd name="textAreaLeft" fmla="*/ 0 w 3958560"/>
                <a:gd name="textAreaRight" fmla="*/ 3958920 w 39585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4"/>
            <p:cNvSpPr/>
            <p:nvPr/>
          </p:nvSpPr>
          <p:spPr>
            <a:xfrm>
              <a:off x="2995200" y="4297320"/>
              <a:ext cx="3370320" cy="33156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9f5139"/>
                </a:gs>
                <a:gs pos="100000">
                  <a:srgbClr val="dc71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213768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57314"/>
                </a:gs>
                <a:gs pos="100000">
                  <a:srgbClr val="d0a11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15"/>
              <a:gd name="adj2" fmla="val 32917"/>
            </a:avLst>
          </a:prstGeom>
          <a:gradFill rotWithShape="0">
            <a:gsLst>
              <a:gs pos="0">
                <a:srgbClr val="99bcef"/>
              </a:gs>
              <a:gs pos="100000">
                <a:srgbClr val="fdf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d9520f"/>
              </a:gs>
              <a:gs pos="100000">
                <a:srgbClr val="6425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06:02:00Z</dcterms:created>
  <dc:creator>雨林木风</dc:creator>
  <dc:description/>
  <dc:language>en-US</dc:language>
  <cp:lastModifiedBy>a</cp:lastModifiedBy>
  <dcterms:modified xsi:type="dcterms:W3CDTF">2015-07-20T12:35:02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