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G:\公司\茶\内页3.jpg"/>
          <p:cNvPicPr/>
          <p:nvPr/>
        </p:nvPicPr>
        <p:blipFill>
          <a:blip r:embed="rId15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beijing/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11400" y="220968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的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4000" y="480204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51:24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