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424-912F-4F23-BA8C-C09E78A6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5B8-F2EA-46C0-BD73-3D6D0643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C26-7E29-489A-BF70-E0C64673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300-FBE5-41C1-9CAF-0B9961F5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FA2-B1F9-48FA-9CBB-967A83F1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310-20BF-49DB-AEDA-2AC9A3A4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9AB-0918-49F2-BDF3-1E2D3F29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476-FAFD-46BA-A17A-E0258AF7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C54-8608-4653-9653-96F81C28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5C2-481A-46F0-8C7C-181B9FE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724-E840-4907-8E99-9F194CF6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1D4-D161-42B2-AF39-77C13BEE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1DD3-71E1-45C0-9251-DFFBE5512E7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FEE8-5781-4DE5-A6F9-2C5BC420D23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3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36360" y="0"/>
            <a:ext cx="9144000" cy="68580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t3.gstatic.com/images?q=tbn:ANd9GcQ6amYo-ylN0-y_FCj2I08q95u0zfS5E3MRDeYUKMlIr7XMPWuP8s3a_Eku"/>
          <p:cNvPicPr/>
          <p:nvPr/>
        </p:nvPicPr>
        <p:blipFill>
          <a:blip r:embed="rId1"/>
          <a:stretch/>
        </p:blipFill>
        <p:spPr>
          <a:xfrm>
            <a:off x="6715080" y="4357800"/>
            <a:ext cx="1581120" cy="1095120"/>
          </a:xfrm>
          <a:prstGeom prst="rect">
            <a:avLst/>
          </a:prstGeom>
          <a:ln w="0">
            <a:noFill/>
          </a:ln>
        </p:spPr>
      </p:pic>
      <p:sp>
        <p:nvSpPr>
          <p:cNvPr id="43" name="圆角矩形标注 5"/>
          <p:cNvSpPr/>
          <p:nvPr/>
        </p:nvSpPr>
        <p:spPr>
          <a:xfrm>
            <a:off x="3500280" y="2571840"/>
            <a:ext cx="3071880" cy="1571400"/>
          </a:xfrm>
          <a:prstGeom prst="wedgeRoundRectCallout">
            <a:avLst>
              <a:gd name="adj1" fmla="val 46027"/>
              <a:gd name="adj2" fmla="val 6683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"/>
          <p:cNvSpPr/>
          <p:nvPr/>
        </p:nvSpPr>
        <p:spPr>
          <a:xfrm>
            <a:off x="3052080" y="304956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0000"/>
                </a:solidFill>
                <a:latin typeface="微软雅黑"/>
                <a:ea typeface="微软雅黑"/>
              </a:rPr>
              <a:t>Click</a:t>
            </a:r>
            <a:r>
              <a:rPr b="1" lang="zh-CN" sz="2800" spc="-1" strike="noStrike">
                <a:solidFill>
                  <a:srgbClr val="c80000"/>
                </a:solidFill>
                <a:latin typeface="微软雅黑"/>
                <a:ea typeface="微软雅黑"/>
              </a:rPr>
              <a:t>中国好声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500040" y="1046160"/>
            <a:ext cx="16207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6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6465960" y="1357200"/>
            <a:ext cx="36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Voice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2928960" y="5565600"/>
            <a:ext cx="577548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428920" y="1905120"/>
            <a:ext cx="54720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16000" y="62064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中国好声音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33"/>
          <p:cNvGrpSpPr/>
          <p:nvPr/>
        </p:nvGrpSpPr>
        <p:grpSpPr>
          <a:xfrm>
            <a:off x="-885600" y="142920"/>
            <a:ext cx="10182960" cy="6714360"/>
            <a:chOff x="-885600" y="142920"/>
            <a:chExt cx="10182960" cy="6714360"/>
          </a:xfrm>
        </p:grpSpPr>
        <p:sp>
          <p:nvSpPr>
            <p:cNvPr id="216" name="圆角矩形 1"/>
            <p:cNvSpPr/>
            <p:nvPr/>
          </p:nvSpPr>
          <p:spPr>
            <a:xfrm>
              <a:off x="5571720" y="642960"/>
              <a:ext cx="3357360" cy="5698800"/>
            </a:xfrm>
            <a:custGeom>
              <a:avLst/>
              <a:gdLst>
                <a:gd name="textAreaLeft" fmla="*/ 38520 w 3357360"/>
                <a:gd name="textAreaRight" fmla="*/ 3318840 w 3357360"/>
                <a:gd name="textAreaTop" fmla="*/ 38520 h 5698800"/>
                <a:gd name="textAreaBottom" fmla="*/ 5660280 h 5698800"/>
              </a:gdLst>
              <a:ahLst/>
              <a:rect l="textAreaLeft" t="textAreaTop" r="textAreaRight" b="textAreaBottom"/>
              <a:pathLst>
                <a:path w="21600" h="36662">
                  <a:moveTo>
                    <a:pt x="849" y="0"/>
                  </a:moveTo>
                  <a:arcTo wR="849" hR="849" stAng="16200000" swAng="-5400000"/>
                  <a:lnTo>
                    <a:pt x="0" y="35813"/>
                  </a:lnTo>
                  <a:arcTo wR="849" hR="849" stAng="10800000" swAng="-5400000"/>
                  <a:lnTo>
                    <a:pt x="20751" y="36662"/>
                  </a:lnTo>
                  <a:arcTo wR="849" hR="849" stAng="5400000" swAng="-5400000"/>
                  <a:lnTo>
                    <a:pt x="21600" y="849"/>
                  </a:lnTo>
                  <a:arcTo wR="849" hR="849" stAng="0" swAng="-5400000"/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圆角矩形 2"/>
            <p:cNvSpPr/>
            <p:nvPr/>
          </p:nvSpPr>
          <p:spPr>
            <a:xfrm>
              <a:off x="5646240" y="2928960"/>
              <a:ext cx="3214440" cy="3341160"/>
            </a:xfrm>
            <a:custGeom>
              <a:avLst/>
              <a:gdLst>
                <a:gd name="textAreaLeft" fmla="*/ 36720 w 3214440"/>
                <a:gd name="textAreaRight" fmla="*/ 3177720 w 3214440"/>
                <a:gd name="textAreaTop" fmla="*/ 36720 h 3341160"/>
                <a:gd name="textAreaBottom" fmla="*/ 3304440 h 3341160"/>
              </a:gdLst>
              <a:ahLst/>
              <a:rect l="textAreaLeft" t="textAreaTop" r="textAreaRight" b="textAreaBottom"/>
              <a:pathLst>
                <a:path w="21600" h="22451">
                  <a:moveTo>
                    <a:pt x="849" y="0"/>
                  </a:moveTo>
                  <a:arcTo wR="849" hR="849" stAng="16200000" swAng="-5400000"/>
                  <a:lnTo>
                    <a:pt x="0" y="21602"/>
                  </a:lnTo>
                  <a:arcTo wR="849" hR="849" stAng="10800000" swAng="-5400000"/>
                  <a:lnTo>
                    <a:pt x="20751" y="22451"/>
                  </a:lnTo>
                  <a:arcTo wR="849" hR="849" stAng="5400000" swAng="-5400000"/>
                  <a:lnTo>
                    <a:pt x="21600" y="849"/>
                  </a:lnTo>
                  <a:arcTo wR="849" hR="849" stAng="0" swAng="-5400000"/>
                  <a:close/>
                </a:path>
              </a:pathLst>
            </a:cu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圆角矩形 3"/>
            <p:cNvSpPr/>
            <p:nvPr/>
          </p:nvSpPr>
          <p:spPr>
            <a:xfrm>
              <a:off x="5646240" y="1357200"/>
              <a:ext cx="3214440" cy="1428480"/>
            </a:xfrm>
            <a:prstGeom prst="roundRect">
              <a:avLst>
                <a:gd name="adj" fmla="val 393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5898600" y="942480"/>
              <a:ext cx="2387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1397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中國好聲音</a:t>
              </a:r>
              <a:r>
                <a: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》</a:t>
              </a:r>
              <a:r>
                <a:rPr b="0" lang="zh-CN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廣告收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5"/>
            <p:cNvSpPr/>
            <p:nvPr/>
          </p:nvSpPr>
          <p:spPr>
            <a:xfrm>
              <a:off x="1272960" y="362592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Impact"/>
                </a:rPr>
                <a:t>43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1789920" y="4091400"/>
              <a:ext cx="360000" cy="551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1349640" y="3429000"/>
              <a:ext cx="36000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21"/>
            <p:cNvSpPr/>
            <p:nvPr/>
          </p:nvSpPr>
          <p:spPr>
            <a:xfrm>
              <a:off x="1833840" y="1643040"/>
              <a:ext cx="1214280" cy="1357200"/>
            </a:xfrm>
            <a:prstGeom prst="ellipse">
              <a:avLst/>
            </a:prstGeom>
            <a:noFill/>
            <a:ln w="18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17"/>
            <p:cNvSpPr/>
            <p:nvPr/>
          </p:nvSpPr>
          <p:spPr>
            <a:xfrm>
              <a:off x="1307520" y="1388520"/>
              <a:ext cx="1545480" cy="18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5"/>
            <p:cNvSpPr/>
            <p:nvPr/>
          </p:nvSpPr>
          <p:spPr>
            <a:xfrm>
              <a:off x="324360" y="174564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Impact"/>
                </a:rPr>
                <a:t>28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436320" y="1357200"/>
              <a:ext cx="31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名以上评委认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601560" y="2988360"/>
              <a:ext cx="29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事音乐相关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6"/>
            <p:cNvSpPr/>
            <p:nvPr/>
          </p:nvSpPr>
          <p:spPr>
            <a:xfrm>
              <a:off x="1173600" y="4645080"/>
              <a:ext cx="2160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共转台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9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>
              <a:off x="265680" y="523980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5"/>
            <p:cNvSpPr/>
            <p:nvPr/>
          </p:nvSpPr>
          <p:spPr>
            <a:xfrm>
              <a:off x="919800" y="523980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6"/>
            <p:cNvSpPr/>
            <p:nvPr/>
          </p:nvSpPr>
          <p:spPr>
            <a:xfrm>
              <a:off x="1505880" y="523980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7"/>
            <p:cNvSpPr/>
            <p:nvPr/>
          </p:nvSpPr>
          <p:spPr>
            <a:xfrm>
              <a:off x="2042640" y="523980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92160" y="5444640"/>
              <a:ext cx="270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9"/>
            <p:cNvSpPr/>
            <p:nvPr/>
          </p:nvSpPr>
          <p:spPr>
            <a:xfrm>
              <a:off x="724680" y="5444640"/>
              <a:ext cx="270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1437120" y="544464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1"/>
            <p:cNvSpPr/>
            <p:nvPr/>
          </p:nvSpPr>
          <p:spPr>
            <a:xfrm>
              <a:off x="1993680" y="545580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1"/>
            <p:cNvSpPr/>
            <p:nvPr/>
          </p:nvSpPr>
          <p:spPr>
            <a:xfrm>
              <a:off x="-885600" y="142920"/>
              <a:ext cx="6842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Impact"/>
                </a:rPr>
                <a:t>YUCHENGQING Team </a:t>
              </a:r>
              <a:r>
                <a:rPr b="0" lang="en-US" sz="6000" spc="-1" strike="noStrike">
                  <a:solidFill>
                    <a:srgbClr val="c80000"/>
                  </a:solidFill>
                  <a:latin typeface="Impact"/>
                </a:rPr>
                <a:t> C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7"/>
            <p:cNvSpPr/>
            <p:nvPr/>
          </p:nvSpPr>
          <p:spPr>
            <a:xfrm>
              <a:off x="5617800" y="3002760"/>
              <a:ext cx="290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导师：庾澄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于台湾 祖籍云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能型歌手、音乐顽童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8"/>
            <p:cNvSpPr/>
            <p:nvPr/>
          </p:nvSpPr>
          <p:spPr>
            <a:xfrm>
              <a:off x="5370480" y="3764520"/>
              <a:ext cx="2917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非得已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我一次爱个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命中注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大眼睛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31" descr="庾澄庆"/>
            <p:cNvPicPr/>
            <p:nvPr/>
          </p:nvPicPr>
          <p:blipFill>
            <a:blip r:embed="rId1"/>
            <a:stretch/>
          </p:blipFill>
          <p:spPr>
            <a:xfrm>
              <a:off x="6285960" y="1455480"/>
              <a:ext cx="178560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40"/>
            <p:cNvSpPr/>
            <p:nvPr/>
          </p:nvSpPr>
          <p:spPr>
            <a:xfrm>
              <a:off x="5315040" y="4643640"/>
              <a:ext cx="39823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被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以上评委认可的歌手最少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(4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歌手类型不平衡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特色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型歌手较多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五场比赛为止转台共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9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次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属于和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坤竞争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喜欢摇滚和高音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tyl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值得关注歌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: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魏羽诺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池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王韵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"/>
            <p:cNvSpPr/>
            <p:nvPr/>
          </p:nvSpPr>
          <p:spPr>
            <a:xfrm>
              <a:off x="571320" y="6489000"/>
              <a:ext cx="32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  <a:ea typeface="蒙纳简超刚黑"/>
                </a:rPr>
                <a:t>Blog.sina.com.cn/linhuz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组合 33"/>
          <p:cNvGrpSpPr/>
          <p:nvPr/>
        </p:nvGrpSpPr>
        <p:grpSpPr>
          <a:xfrm>
            <a:off x="155880" y="214200"/>
            <a:ext cx="8950320" cy="6643080"/>
            <a:chOff x="155880" y="214200"/>
            <a:chExt cx="8950320" cy="6643080"/>
          </a:xfrm>
        </p:grpSpPr>
        <p:sp>
          <p:nvSpPr>
            <p:cNvPr id="244" name="圆角矩形 1"/>
            <p:cNvSpPr/>
            <p:nvPr/>
          </p:nvSpPr>
          <p:spPr>
            <a:xfrm>
              <a:off x="428760" y="642600"/>
              <a:ext cx="3357360" cy="5699160"/>
            </a:xfrm>
            <a:custGeom>
              <a:avLst/>
              <a:gdLst>
                <a:gd name="textAreaLeft" fmla="*/ 38520 w 3357360"/>
                <a:gd name="textAreaRight" fmla="*/ 3318840 w 3357360"/>
                <a:gd name="textAreaTop" fmla="*/ 38520 h 5699160"/>
                <a:gd name="textAreaBottom" fmla="*/ 5660640 h 5699160"/>
              </a:gdLst>
              <a:ahLst/>
              <a:rect l="textAreaLeft" t="textAreaTop" r="textAreaRight" b="textAreaBottom"/>
              <a:pathLst>
                <a:path w="21600" h="36665">
                  <a:moveTo>
                    <a:pt x="849" y="0"/>
                  </a:moveTo>
                  <a:arcTo wR="849" hR="849" stAng="16200000" swAng="-5400000"/>
                  <a:lnTo>
                    <a:pt x="0" y="35816"/>
                  </a:lnTo>
                  <a:arcTo wR="849" hR="849" stAng="10800000" swAng="-5400000"/>
                  <a:lnTo>
                    <a:pt x="20751" y="36665"/>
                  </a:lnTo>
                  <a:arcTo wR="849" hR="849" stAng="5400000" swAng="-5400000"/>
                  <a:lnTo>
                    <a:pt x="21600" y="849"/>
                  </a:lnTo>
                  <a:arcTo wR="849" hR="849" stAng="0" swAng="-5400000"/>
                  <a:close/>
                </a:path>
              </a:pathLst>
            </a:cu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圆角矩形 2"/>
            <p:cNvSpPr/>
            <p:nvPr/>
          </p:nvSpPr>
          <p:spPr>
            <a:xfrm>
              <a:off x="503280" y="2928960"/>
              <a:ext cx="3214440" cy="3341520"/>
            </a:xfrm>
            <a:custGeom>
              <a:avLst/>
              <a:gdLst>
                <a:gd name="textAreaLeft" fmla="*/ 36720 w 3214440"/>
                <a:gd name="textAreaRight" fmla="*/ 3177720 w 3214440"/>
                <a:gd name="textAreaTop" fmla="*/ 36720 h 3341520"/>
                <a:gd name="textAreaBottom" fmla="*/ 3304800 h 3341520"/>
              </a:gdLst>
              <a:ahLst/>
              <a:rect l="textAreaLeft" t="textAreaTop" r="textAreaRight" b="textAreaBottom"/>
              <a:pathLst>
                <a:path w="21600" h="22454">
                  <a:moveTo>
                    <a:pt x="849" y="0"/>
                  </a:moveTo>
                  <a:arcTo wR="849" hR="849" stAng="16200000" swAng="-5400000"/>
                  <a:lnTo>
                    <a:pt x="0" y="21605"/>
                  </a:lnTo>
                  <a:arcTo wR="849" hR="849" stAng="10800000" swAng="-5400000"/>
                  <a:lnTo>
                    <a:pt x="20751" y="22454"/>
                  </a:lnTo>
                  <a:arcTo wR="849" hR="849" stAng="5400000" swAng="-5400000"/>
                  <a:lnTo>
                    <a:pt x="21600" y="849"/>
                  </a:lnTo>
                  <a:arcTo wR="849" hR="84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圆角矩形 3"/>
            <p:cNvSpPr/>
            <p:nvPr/>
          </p:nvSpPr>
          <p:spPr>
            <a:xfrm>
              <a:off x="503280" y="1357200"/>
              <a:ext cx="3214440" cy="1428840"/>
            </a:xfrm>
            <a:prstGeom prst="roundRect">
              <a:avLst>
                <a:gd name="adj" fmla="val 393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1"/>
            <p:cNvSpPr/>
            <p:nvPr/>
          </p:nvSpPr>
          <p:spPr>
            <a:xfrm>
              <a:off x="755640" y="942480"/>
              <a:ext cx="2387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1397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中國好聲音</a:t>
              </a:r>
              <a:r>
                <a: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》</a:t>
              </a:r>
              <a:r>
                <a:rPr b="0" lang="zh-CN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廣告收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"/>
            <p:cNvSpPr/>
            <p:nvPr/>
          </p:nvSpPr>
          <p:spPr>
            <a:xfrm>
              <a:off x="5631120" y="369720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Impact"/>
                </a:rPr>
                <a:t>43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6"/>
            <p:cNvSpPr/>
            <p:nvPr/>
          </p:nvSpPr>
          <p:spPr>
            <a:xfrm>
              <a:off x="6147720" y="4162680"/>
              <a:ext cx="360360" cy="551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6"/>
            <p:cNvSpPr/>
            <p:nvPr/>
          </p:nvSpPr>
          <p:spPr>
            <a:xfrm>
              <a:off x="5707800" y="3500280"/>
              <a:ext cx="36036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1"/>
            <p:cNvSpPr/>
            <p:nvPr/>
          </p:nvSpPr>
          <p:spPr>
            <a:xfrm>
              <a:off x="6192000" y="1714320"/>
              <a:ext cx="1214280" cy="1357200"/>
            </a:xfrm>
            <a:prstGeom prst="ellipse">
              <a:avLst/>
            </a:prstGeom>
            <a:noFill/>
            <a:ln w="18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17"/>
            <p:cNvSpPr/>
            <p:nvPr/>
          </p:nvSpPr>
          <p:spPr>
            <a:xfrm>
              <a:off x="5383800" y="1459800"/>
              <a:ext cx="1545480" cy="18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5"/>
            <p:cNvSpPr/>
            <p:nvPr/>
          </p:nvSpPr>
          <p:spPr>
            <a:xfrm>
              <a:off x="4680000" y="181692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Impact"/>
                </a:rPr>
                <a:t>43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2"/>
            <p:cNvSpPr/>
            <p:nvPr/>
          </p:nvSpPr>
          <p:spPr>
            <a:xfrm>
              <a:off x="4794480" y="1285560"/>
              <a:ext cx="31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名以上评委认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6"/>
            <p:cNvSpPr/>
            <p:nvPr/>
          </p:nvSpPr>
          <p:spPr>
            <a:xfrm>
              <a:off x="5531760" y="4598280"/>
              <a:ext cx="2160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共转台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4"/>
            <p:cNvSpPr/>
            <p:nvPr/>
          </p:nvSpPr>
          <p:spPr>
            <a:xfrm>
              <a:off x="4623840" y="531108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5"/>
            <p:cNvSpPr/>
            <p:nvPr/>
          </p:nvSpPr>
          <p:spPr>
            <a:xfrm>
              <a:off x="5277600" y="531108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6"/>
            <p:cNvSpPr/>
            <p:nvPr/>
          </p:nvSpPr>
          <p:spPr>
            <a:xfrm>
              <a:off x="5863680" y="531108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7"/>
            <p:cNvSpPr/>
            <p:nvPr/>
          </p:nvSpPr>
          <p:spPr>
            <a:xfrm>
              <a:off x="6400800" y="531108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8"/>
            <p:cNvSpPr/>
            <p:nvPr/>
          </p:nvSpPr>
          <p:spPr>
            <a:xfrm>
              <a:off x="4487760" y="5515920"/>
              <a:ext cx="270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2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9"/>
            <p:cNvSpPr/>
            <p:nvPr/>
          </p:nvSpPr>
          <p:spPr>
            <a:xfrm>
              <a:off x="5248440" y="551592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5789160" y="551592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1"/>
            <p:cNvSpPr/>
            <p:nvPr/>
          </p:nvSpPr>
          <p:spPr>
            <a:xfrm>
              <a:off x="6351840" y="552708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31"/>
            <p:cNvSpPr/>
            <p:nvPr/>
          </p:nvSpPr>
          <p:spPr>
            <a:xfrm>
              <a:off x="3582360" y="214200"/>
              <a:ext cx="5523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Impact"/>
                </a:rPr>
                <a:t>YANGKUN Team </a:t>
              </a:r>
              <a:r>
                <a:rPr b="0" lang="en-US" sz="6000" spc="-1" strike="noStrike">
                  <a:solidFill>
                    <a:srgbClr val="c80000"/>
                  </a:solidFill>
                  <a:latin typeface="Impact"/>
                </a:rPr>
                <a:t> 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40"/>
            <p:cNvSpPr/>
            <p:nvPr/>
          </p:nvSpPr>
          <p:spPr>
            <a:xfrm>
              <a:off x="159480" y="4643280"/>
              <a:ext cx="39470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被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以上评委认可的歌手为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喜欢有特色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型歌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五场比赛为止转台共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2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次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常是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个转台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属于情感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容易被激动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丰富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常被感动地掉眼泪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值得关注歌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: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丁丁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志文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1" descr="杨坤"/>
            <p:cNvPicPr/>
            <p:nvPr/>
          </p:nvPicPr>
          <p:blipFill>
            <a:blip r:embed="rId1"/>
            <a:stretch/>
          </p:blipFill>
          <p:spPr>
            <a:xfrm>
              <a:off x="1000080" y="1455480"/>
              <a:ext cx="178596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矩形 41"/>
            <p:cNvSpPr/>
            <p:nvPr/>
          </p:nvSpPr>
          <p:spPr>
            <a:xfrm>
              <a:off x="6072480" y="2857320"/>
              <a:ext cx="107136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4959720" y="3059640"/>
              <a:ext cx="29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事音乐相关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7"/>
            <p:cNvSpPr/>
            <p:nvPr/>
          </p:nvSpPr>
          <p:spPr>
            <a:xfrm>
              <a:off x="445320" y="2927160"/>
              <a:ext cx="3382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导师：杨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星歌手中国内地乐坛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哥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树立属于自己的创作风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155880" y="3646800"/>
              <a:ext cx="2917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所谓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真的很在乎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牧马人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路灯下的小姑娘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2"/>
            <p:cNvSpPr/>
            <p:nvPr/>
          </p:nvSpPr>
          <p:spPr>
            <a:xfrm>
              <a:off x="428760" y="6489000"/>
              <a:ext cx="32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  <a:ea typeface="蒙纳简超刚黑"/>
                </a:rPr>
                <a:t>Blog.sina.com.cn/linhuz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AFC-9D14-4E6E-98D4-3B6CF2B7E6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标注 3"/>
          <p:cNvSpPr/>
          <p:nvPr/>
        </p:nvSpPr>
        <p:spPr>
          <a:xfrm>
            <a:off x="3286080" y="2428920"/>
            <a:ext cx="4143600" cy="1928880"/>
          </a:xfrm>
          <a:prstGeom prst="wedgeRoundRectCallout">
            <a:avLst>
              <a:gd name="adj1" fmla="val 43722"/>
              <a:gd name="adj2" fmla="val 74601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2872080" y="263412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80000"/>
                </a:solidFill>
                <a:latin typeface="微软雅黑"/>
                <a:ea typeface="微软雅黑"/>
              </a:rPr>
              <a:t>杨坤的</a:t>
            </a:r>
            <a:r>
              <a:rPr b="1" lang="en-US" sz="2000" spc="-1" strike="noStrike">
                <a:solidFill>
                  <a:srgbClr val="c80000"/>
                </a:solidFill>
                <a:latin typeface="微软雅黑"/>
                <a:ea typeface="微软雅黑"/>
              </a:rPr>
              <a:t>32</a:t>
            </a:r>
            <a:r>
              <a:rPr b="1" lang="zh-CN" sz="2000" spc="-1" strike="noStrike">
                <a:solidFill>
                  <a:srgbClr val="c80000"/>
                </a:solidFill>
                <a:latin typeface="微软雅黑"/>
                <a:ea typeface="微软雅黑"/>
              </a:rPr>
              <a:t>场提及次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 rot="16200000">
            <a:off x="4531680" y="4957200"/>
            <a:ext cx="38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he Voice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1571760" y="833400"/>
            <a:ext cx="29718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外有趣的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6143760" y="2571840"/>
            <a:ext cx="1071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2972160" y="31024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80000"/>
                </a:solidFill>
                <a:latin typeface="微软雅黑"/>
                <a:ea typeface="微软雅黑"/>
              </a:rPr>
              <a:t>参赛歌手唱中文歌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6143760" y="3071880"/>
            <a:ext cx="1071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8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2972160" y="35722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80000"/>
                </a:solidFill>
                <a:latin typeface="微软雅黑"/>
                <a:ea typeface="微软雅黑"/>
              </a:rPr>
              <a:t>评委感动掉眼泪次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4"/>
          <p:cNvSpPr/>
          <p:nvPr/>
        </p:nvSpPr>
        <p:spPr>
          <a:xfrm>
            <a:off x="6143760" y="3544920"/>
            <a:ext cx="1071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3414600" y="3970800"/>
            <a:ext cx="40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中杨坤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庾澄庆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！男人哭不是罪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img9.3lian.com/c1/vector2/18/36/59.jpg"/>
          <p:cNvPicPr/>
          <p:nvPr/>
        </p:nvPicPr>
        <p:blipFill>
          <a:blip r:embed="rId1"/>
          <a:srcRect l="5764" t="0" r="0" b="0"/>
          <a:stretch/>
        </p:blipFill>
        <p:spPr>
          <a:xfrm>
            <a:off x="7358040" y="4714920"/>
            <a:ext cx="1285920" cy="1923840"/>
          </a:xfrm>
          <a:prstGeom prst="rect">
            <a:avLst/>
          </a:prstGeom>
          <a:ln w="0">
            <a:noFill/>
          </a:ln>
        </p:spPr>
      </p:pic>
      <p:sp>
        <p:nvSpPr>
          <p:cNvPr id="53" name="云形标注 8"/>
          <p:cNvSpPr/>
          <p:nvPr/>
        </p:nvSpPr>
        <p:spPr>
          <a:xfrm>
            <a:off x="928800" y="642960"/>
            <a:ext cx="7715160" cy="4929120"/>
          </a:xfrm>
          <a:prstGeom prst="cloudCallout">
            <a:avLst>
              <a:gd name="adj1" fmla="val -19995"/>
              <a:gd name="adj2" fmla="val 6499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1831680" y="1798560"/>
            <a:ext cx="2169000" cy="1558800"/>
            <a:chOff x="1831680" y="1798560"/>
            <a:chExt cx="2169000" cy="1558800"/>
          </a:xfrm>
        </p:grpSpPr>
        <p:pic>
          <p:nvPicPr>
            <p:cNvPr id="55" name="Picture 14" descr="4065_400300"/>
            <p:cNvPicPr/>
            <p:nvPr/>
          </p:nvPicPr>
          <p:blipFill>
            <a:blip r:embed="rId2"/>
            <a:stretch/>
          </p:blipFill>
          <p:spPr>
            <a:xfrm>
              <a:off x="1913040" y="1798560"/>
              <a:ext cx="20876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20232000">
              <a:off x="1839960" y="2733120"/>
              <a:ext cx="865080" cy="2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6"/>
          <p:cNvSpPr/>
          <p:nvPr/>
        </p:nvSpPr>
        <p:spPr>
          <a:xfrm>
            <a:off x="3066120" y="227952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蒙纳简超刚黑"/>
              </a:rPr>
              <a:t>中  國  好  聲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643200" y="269244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Voice 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349000" y="3357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80000"/>
                </a:solidFill>
                <a:latin typeface="微软雅黑"/>
                <a:ea typeface="微软雅黑"/>
              </a:rPr>
              <a:t>中国好声音为何如深入人心</a:t>
            </a:r>
            <a:r>
              <a:rPr b="1" lang="en-US" sz="2800" spc="-1" strike="noStrike">
                <a:solidFill>
                  <a:srgbClr val="c8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92200" y="637704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24"/>
          <p:cNvGrpSpPr/>
          <p:nvPr/>
        </p:nvGrpSpPr>
        <p:grpSpPr>
          <a:xfrm>
            <a:off x="142920" y="243000"/>
            <a:ext cx="9001080" cy="6553800"/>
            <a:chOff x="142920" y="243000"/>
            <a:chExt cx="9001080" cy="6553800"/>
          </a:xfrm>
        </p:grpSpPr>
        <p:sp>
          <p:nvSpPr>
            <p:cNvPr id="62" name="椭圆 25"/>
            <p:cNvSpPr/>
            <p:nvPr/>
          </p:nvSpPr>
          <p:spPr>
            <a:xfrm>
              <a:off x="142920" y="857160"/>
              <a:ext cx="1330560" cy="121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26"/>
            <p:cNvSpPr/>
            <p:nvPr/>
          </p:nvSpPr>
          <p:spPr>
            <a:xfrm>
              <a:off x="714240" y="1500480"/>
              <a:ext cx="1214280" cy="114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圆角矩形 27"/>
            <p:cNvSpPr/>
            <p:nvPr/>
          </p:nvSpPr>
          <p:spPr>
            <a:xfrm>
              <a:off x="714240" y="1429200"/>
              <a:ext cx="5857920" cy="4713840"/>
            </a:xfrm>
            <a:prstGeom prst="roundRect">
              <a:avLst>
                <a:gd name="adj" fmla="val 3931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8"/>
            <p:cNvSpPr/>
            <p:nvPr/>
          </p:nvSpPr>
          <p:spPr>
            <a:xfrm>
              <a:off x="428400" y="1453680"/>
              <a:ext cx="1071360" cy="47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29"/>
            <p:cNvSpPr/>
            <p:nvPr/>
          </p:nvSpPr>
          <p:spPr>
            <a:xfrm>
              <a:off x="398160" y="1382400"/>
              <a:ext cx="1071360" cy="47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0"/>
            <p:cNvSpPr/>
            <p:nvPr/>
          </p:nvSpPr>
          <p:spPr>
            <a:xfrm>
              <a:off x="642960" y="1572120"/>
              <a:ext cx="1071360" cy="47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6" descr="http://pic2.nipic.com/20090330/550365_105434097_2.jpg"/>
            <p:cNvPicPr/>
            <p:nvPr/>
          </p:nvPicPr>
          <p:blipFill>
            <a:blip r:embed="rId1"/>
            <a:srcRect l="0" t="5597" r="0" b="0"/>
            <a:stretch/>
          </p:blipFill>
          <p:spPr>
            <a:xfrm>
              <a:off x="5810400" y="1571400"/>
              <a:ext cx="333360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组合 33"/>
            <p:cNvGrpSpPr/>
            <p:nvPr/>
          </p:nvGrpSpPr>
          <p:grpSpPr>
            <a:xfrm>
              <a:off x="214200" y="941400"/>
              <a:ext cx="1285920" cy="1058400"/>
              <a:chOff x="214200" y="941400"/>
              <a:chExt cx="1285920" cy="1058400"/>
            </a:xfrm>
          </p:grpSpPr>
          <p:pic>
            <p:nvPicPr>
              <p:cNvPr id="70" name="Picture 14" descr="4065_400300"/>
              <p:cNvPicPr/>
              <p:nvPr/>
            </p:nvPicPr>
            <p:blipFill>
              <a:blip r:embed="rId2"/>
              <a:stretch/>
            </p:blipFill>
            <p:spPr>
              <a:xfrm>
                <a:off x="214200" y="941400"/>
                <a:ext cx="1285920" cy="105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Rectangle 7"/>
              <p:cNvSpPr/>
              <p:nvPr/>
            </p:nvSpPr>
            <p:spPr>
              <a:xfrm rot="20232000">
                <a:off x="400320" y="1512720"/>
                <a:ext cx="27720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矩形 44"/>
            <p:cNvSpPr/>
            <p:nvPr/>
          </p:nvSpPr>
          <p:spPr>
            <a:xfrm>
              <a:off x="1055880" y="191628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原因一：節目形式新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"/>
            <p:cNvSpPr/>
            <p:nvPr/>
          </p:nvSpPr>
          <p:spPr>
            <a:xfrm>
              <a:off x="928440" y="2214360"/>
              <a:ext cx="5621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中國好聲音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》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的原版是風靡海外的節目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The Voice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》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，此次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江衛視引進原版節目形式，並加以本土化改造就引發了不俗的效果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節目的一大特點是“盲聽”，不過，今年很多節目都引入了盲聽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概念，即評委背對著選手，只挺聲音來決定選手是否晉級，這對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少國內觀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众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來說，並不新鮮。而令人眼前一亮的是，節目中幾位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線歌手被選手選擇的形式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46"/>
            <p:cNvSpPr/>
            <p:nvPr/>
          </p:nvSpPr>
          <p:spPr>
            <a:xfrm>
              <a:off x="709920" y="243000"/>
              <a:ext cx="36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为何中国好声音如此深入人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"/>
            <p:cNvSpPr/>
            <p:nvPr/>
          </p:nvSpPr>
          <p:spPr>
            <a:xfrm>
              <a:off x="484560" y="355932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原因二：選手水准不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"/>
            <p:cNvSpPr/>
            <p:nvPr/>
          </p:nvSpPr>
          <p:spPr>
            <a:xfrm>
              <a:off x="928440" y="3903840"/>
              <a:ext cx="5113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1397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參加節目的選手都是節目組“地毯式”搜尋在全國範圍內找到的。節目組帶著專業的錄音設備到全國的高校、酒吧等各個角落去尋找有潛力的人，把他們的聲音采集下來，然後帶回上海，找到專業的人士傾聽、判斷，最終再選擇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"/>
            <p:cNvSpPr/>
            <p:nvPr/>
          </p:nvSpPr>
          <p:spPr>
            <a:xfrm>
              <a:off x="484560" y="484488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原因三：明星傳播效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8"/>
            <p:cNvSpPr/>
            <p:nvPr/>
          </p:nvSpPr>
          <p:spPr>
            <a:xfrm>
              <a:off x="928440" y="5189400"/>
              <a:ext cx="5111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1397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徐海星在節目中演唱了一首李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自己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》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，節目播出後，李玟還點評稱，這是自己最難唱的一首歌，徐海星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诠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釋得很好。而馮小剛、張靓穎等名人也都對節目紛紛進行點評。被名人如此點評，自然會引起不少網友的注意，節目就算不火也難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2"/>
            <p:cNvSpPr/>
            <p:nvPr/>
          </p:nvSpPr>
          <p:spPr>
            <a:xfrm>
              <a:off x="571320" y="6428520"/>
              <a:ext cx="32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  <a:ea typeface="蒙纳简超刚黑"/>
                </a:rPr>
                <a:t>Blog.sina.com.cn/linhuz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3"/>
          <p:cNvSpPr/>
          <p:nvPr/>
        </p:nvSpPr>
        <p:spPr>
          <a:xfrm>
            <a:off x="1080720" y="1643040"/>
            <a:ext cx="36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好声音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谁比谁能演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21"/>
          <p:cNvSpPr/>
          <p:nvPr/>
        </p:nvSpPr>
        <p:spPr>
          <a:xfrm>
            <a:off x="5572080" y="857160"/>
            <a:ext cx="3357720" cy="5484960"/>
          </a:xfrm>
          <a:custGeom>
            <a:avLst/>
            <a:gdLst>
              <a:gd name="textAreaLeft" fmla="*/ 38520 w 3357720"/>
              <a:gd name="textAreaRight" fmla="*/ 3319200 w 3357720"/>
              <a:gd name="textAreaTop" fmla="*/ 38520 h 5484960"/>
              <a:gd name="textAreaBottom" fmla="*/ 5446440 h 5484960"/>
            </a:gdLst>
            <a:ahLst/>
            <a:rect l="textAreaLeft" t="textAreaTop" r="textAreaRight" b="textAreaBottom"/>
            <a:pathLst>
              <a:path w="21600" h="35283">
                <a:moveTo>
                  <a:pt x="849" y="0"/>
                </a:moveTo>
                <a:arcTo wR="849" hR="849" stAng="16200000" swAng="-5400000"/>
                <a:lnTo>
                  <a:pt x="0" y="34434"/>
                </a:lnTo>
                <a:arcTo wR="849" hR="849" stAng="10800000" swAng="-5400000"/>
                <a:lnTo>
                  <a:pt x="20751" y="35283"/>
                </a:lnTo>
                <a:arcTo wR="849" hR="849" stAng="5400000" swAng="-5400000"/>
                <a:lnTo>
                  <a:pt x="21600" y="849"/>
                </a:lnTo>
                <a:arcTo wR="849" hR="849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2"/>
          <p:cNvSpPr/>
          <p:nvPr/>
        </p:nvSpPr>
        <p:spPr>
          <a:xfrm>
            <a:off x="5646600" y="3699000"/>
            <a:ext cx="3214800" cy="2571480"/>
          </a:xfrm>
          <a:prstGeom prst="roundRect">
            <a:avLst>
              <a:gd name="adj" fmla="val 3931"/>
            </a:avLst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23"/>
          <p:cNvSpPr/>
          <p:nvPr/>
        </p:nvSpPr>
        <p:spPr>
          <a:xfrm>
            <a:off x="5646600" y="1511280"/>
            <a:ext cx="3214800" cy="2143080"/>
          </a:xfrm>
          <a:prstGeom prst="roundRect">
            <a:avLst>
              <a:gd name="adj" fmla="val 39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d5462bfaf426c7c49f51461d"/>
          <p:cNvPicPr/>
          <p:nvPr/>
        </p:nvPicPr>
        <p:blipFill>
          <a:blip r:embed="rId1"/>
          <a:stretch/>
        </p:blipFill>
        <p:spPr>
          <a:xfrm>
            <a:off x="5857920" y="1841400"/>
            <a:ext cx="234936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036800" y="2428920"/>
            <a:ext cx="40352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一期節目中唱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春天裡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的黃勇，是個齣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很久而沒紅起來的專业歌手，並不是美甲店老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5643720" y="977760"/>
            <a:ext cx="31431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走成熟路線參加過許多比賽的徐海星，被重新包裝成可愛的小女生出面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1154160" y="3143160"/>
            <a:ext cx="377496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第四期中以鴨舌帽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T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卹仔褲亮相，帶著敦厚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笑亮相“好聲音”的關，被曝不僅給那英、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悅、毛寧等諸多歌手做過專輯，還髮行過兩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個人專輯，是張國立影視劇的御用製作人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071720" y="4143240"/>
            <a:ext cx="421452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第四期中那個穿著簡陋貌不驚人、但驚豔全場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高三學生”鄭虹。這個被稱為“中國的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Adel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的女生，被網友扒齣生活裡打扮時尚，還組建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樂隊，參加過達人秀，其女屌絲揹後的真實身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是“爵士歌手、撰稿人、插畫師、現場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、福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電視檯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365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夜綜郃頻道副導演”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.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網友們為此驚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，“這個濃妝豔抹的樂隊女子，真的和昨晚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國好聲音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那個沉靜有點自閉的高三胖鄭虹是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一個人嗎？如果是，應該可以拿奧斯卡最佳女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角了吧？！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5572080" y="3714840"/>
            <a:ext cx="33526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一直以來，電視界認定觀眾需要這類煽情類娛樂節目，實際上是沒有能力提供更有創意和誠意的節目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.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而中國電視節目在拷貝西方電視節目時，通常也是學習技術性的操作而非精神內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.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就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中國好聲音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來說，其故事性確實是該節目不可分割的環節，它使節目更立體更富有情感，但問題是這個效果是建立在真實基礎上的，假故事隻能遭人厭棄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571680" y="641664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蒙纳简超刚黑"/>
              </a:rPr>
              <a:t>Blog.sina.com.cn/linhuz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21"/>
          <p:cNvSpPr/>
          <p:nvPr/>
        </p:nvSpPr>
        <p:spPr>
          <a:xfrm>
            <a:off x="5572080" y="857160"/>
            <a:ext cx="3357720" cy="5484960"/>
          </a:xfrm>
          <a:custGeom>
            <a:avLst/>
            <a:gdLst>
              <a:gd name="textAreaLeft" fmla="*/ 38520 w 3357720"/>
              <a:gd name="textAreaRight" fmla="*/ 3319200 w 3357720"/>
              <a:gd name="textAreaTop" fmla="*/ 38520 h 5484960"/>
              <a:gd name="textAreaBottom" fmla="*/ 5446440 h 5484960"/>
            </a:gdLst>
            <a:ahLst/>
            <a:rect l="textAreaLeft" t="textAreaTop" r="textAreaRight" b="textAreaBottom"/>
            <a:pathLst>
              <a:path w="21600" h="35283">
                <a:moveTo>
                  <a:pt x="849" y="0"/>
                </a:moveTo>
                <a:arcTo wR="849" hR="849" stAng="16200000" swAng="-5400000"/>
                <a:lnTo>
                  <a:pt x="0" y="34434"/>
                </a:lnTo>
                <a:arcTo wR="849" hR="849" stAng="10800000" swAng="-5400000"/>
                <a:lnTo>
                  <a:pt x="20751" y="35283"/>
                </a:lnTo>
                <a:arcTo wR="849" hR="849" stAng="5400000" swAng="-5400000"/>
                <a:lnTo>
                  <a:pt x="21600" y="849"/>
                </a:lnTo>
                <a:arcTo wR="849" hR="849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2"/>
          <p:cNvSpPr/>
          <p:nvPr/>
        </p:nvSpPr>
        <p:spPr>
          <a:xfrm>
            <a:off x="5646600" y="3699000"/>
            <a:ext cx="3214800" cy="2571480"/>
          </a:xfrm>
          <a:prstGeom prst="roundRect">
            <a:avLst>
              <a:gd name="adj" fmla="val 3931"/>
            </a:avLst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23"/>
          <p:cNvSpPr/>
          <p:nvPr/>
        </p:nvSpPr>
        <p:spPr>
          <a:xfrm>
            <a:off x="5646600" y="1500120"/>
            <a:ext cx="3214800" cy="2143080"/>
          </a:xfrm>
          <a:prstGeom prst="roundRect">
            <a:avLst>
              <a:gd name="adj" fmla="val 39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885240" y="1692360"/>
            <a:ext cx="38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ew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业模式下的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盈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img.easybuy.com.cn/easybuy/pro/MXB01175/298514/1/1.jpg"/>
          <p:cNvPicPr/>
          <p:nvPr/>
        </p:nvPicPr>
        <p:blipFill>
          <a:blip r:embed="rId1"/>
          <a:srcRect l="0" t="6664" r="0" b="6664"/>
          <a:stretch/>
        </p:blipFill>
        <p:spPr>
          <a:xfrm>
            <a:off x="6143760" y="1571760"/>
            <a:ext cx="2143080" cy="1857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1"/>
          <p:cNvSpPr/>
          <p:nvPr/>
        </p:nvSpPr>
        <p:spPr>
          <a:xfrm>
            <a:off x="5899320" y="1071720"/>
            <a:ext cx="26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中國好聲音</a:t>
            </a:r>
            <a:r>
              <a:rPr b="0" lang="en-US" sz="16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廣告收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738360" y="2975040"/>
            <a:ext cx="48337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而廣告收入及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8000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萬到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9000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萬的冠名費還隻是顯性收入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在製作方、播齣方、導師、選手看來，還有更多隱性的金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有待髮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而後耑產业鏈的開髮也是金礦的重要部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14240" y="25718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蒙纳简超刚黑"/>
              </a:rPr>
              <a:t>產业鏈的開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14240" y="4508640"/>
            <a:ext cx="468000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哈林是來做主持人的，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杨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坤是來做宣傳的，那英是來嘮嗑的，劉歡是來開傢長會的。據了解，導師們是不拿底薪的，但參與節目收入的分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近期，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中國好聲音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和中國移動郃作的綵鈴业務的消息被傳得沸沸揚揚，外界預估單個歌手能達到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1000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萬元的下載額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.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按炤每位導師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個學員計算，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位導師將催生齣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3.2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億元的綵鈴市場。而綵鈴下載收入將由中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785880" y="413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位導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蒙纳简超刚黑"/>
              </a:rPr>
              <a:t>身价倍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5572080" y="3695760"/>
            <a:ext cx="3357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中国好声音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的超級暴紅，帶來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的超速井噴：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15,20,30,35,36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在播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后的短短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20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天裡，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中国好声音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的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告費经歷了一个火箭旅程，从每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15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秒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15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迅猛昇至每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15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秒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36,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刷新了中国电视广告的紀錄，也超越了央视平常日的广告。按炤該節目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22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分鐘的广告時長計算，僅第四期節目的硬广告收入就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3618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-807120" y="142920"/>
            <a:ext cx="78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valuation of comprehensive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刘欢"/>
          <p:cNvPicPr/>
          <p:nvPr/>
        </p:nvPicPr>
        <p:blipFill>
          <a:blip r:embed="rId1"/>
          <a:stretch/>
        </p:blipFill>
        <p:spPr>
          <a:xfrm>
            <a:off x="3214800" y="2071800"/>
            <a:ext cx="183816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imgsrc.baidu.com/forum/pic/item/8b2326979a4a9d3554fb9678.jpg"/>
          <p:cNvPicPr/>
          <p:nvPr/>
        </p:nvPicPr>
        <p:blipFill>
          <a:blip r:embed="rId2"/>
          <a:srcRect l="12578" t="0" r="0" b="6084"/>
          <a:stretch/>
        </p:blipFill>
        <p:spPr>
          <a:xfrm>
            <a:off x="5237280" y="1870200"/>
            <a:ext cx="1977840" cy="141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ent.cnool.net/upphoto_0803/20091211956506.jpg"/>
          <p:cNvPicPr/>
          <p:nvPr/>
        </p:nvPicPr>
        <p:blipFill>
          <a:blip r:embed="rId3"/>
          <a:stretch/>
        </p:blipFill>
        <p:spPr>
          <a:xfrm>
            <a:off x="3286080" y="3773520"/>
            <a:ext cx="1914480" cy="128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imgsrc.baidu.com/baike/pic/item/37d12f2eb9389b500906ebc78535e5dde6116ead.jpg"/>
          <p:cNvPicPr/>
          <p:nvPr/>
        </p:nvPicPr>
        <p:blipFill>
          <a:blip r:embed="rId4"/>
          <a:srcRect l="0" t="0" r="0" b="41777"/>
          <a:stretch/>
        </p:blipFill>
        <p:spPr>
          <a:xfrm>
            <a:off x="5286240" y="3390840"/>
            <a:ext cx="2040120" cy="1525680"/>
          </a:xfrm>
          <a:prstGeom prst="rect">
            <a:avLst/>
          </a:prstGeom>
          <a:ln w="0">
            <a:noFill/>
          </a:ln>
        </p:spPr>
      </p:pic>
      <p:sp>
        <p:nvSpPr>
          <p:cNvPr id="108" name="矩形 17"/>
          <p:cNvSpPr/>
          <p:nvPr/>
        </p:nvSpPr>
        <p:spPr>
          <a:xfrm>
            <a:off x="3151800" y="1701720"/>
            <a:ext cx="23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IUHUAN TEAM  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8"/>
          <p:cNvSpPr/>
          <p:nvPr/>
        </p:nvSpPr>
        <p:spPr>
          <a:xfrm>
            <a:off x="5573880" y="1415880"/>
            <a:ext cx="23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AYINGTEAM     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9"/>
          <p:cNvSpPr/>
          <p:nvPr/>
        </p:nvSpPr>
        <p:spPr>
          <a:xfrm>
            <a:off x="3169080" y="5130720"/>
            <a:ext cx="21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UCQ TEAM     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C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0"/>
          <p:cNvSpPr/>
          <p:nvPr/>
        </p:nvSpPr>
        <p:spPr>
          <a:xfrm>
            <a:off x="5644440" y="4987800"/>
            <a:ext cx="22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ANGKUN TEAM 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8"/>
          <p:cNvGrpSpPr/>
          <p:nvPr/>
        </p:nvGrpSpPr>
        <p:grpSpPr>
          <a:xfrm>
            <a:off x="5610240" y="2046240"/>
            <a:ext cx="3319560" cy="2811600"/>
            <a:chOff x="5610240" y="2046240"/>
            <a:chExt cx="3319560" cy="2811600"/>
          </a:xfrm>
        </p:grpSpPr>
        <p:sp>
          <p:nvSpPr>
            <p:cNvPr id="113" name="Freeform 7"/>
            <p:cNvSpPr/>
            <p:nvPr/>
          </p:nvSpPr>
          <p:spPr>
            <a:xfrm>
              <a:off x="5610240" y="2046240"/>
              <a:ext cx="3319560" cy="2630160"/>
            </a:xfrm>
            <a:prstGeom prst="pi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7718040" y="4698720"/>
              <a:ext cx="162000" cy="159120"/>
            </a:xfrm>
            <a:prstGeom prst="pi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8514720" y="4209840"/>
              <a:ext cx="110880" cy="256320"/>
            </a:xfrm>
            <a:prstGeom prst="pi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3" descr=""/>
            <p:cNvPicPr/>
            <p:nvPr/>
          </p:nvPicPr>
          <p:blipFill>
            <a:blip r:embed="rId1"/>
            <a:stretch/>
          </p:blipFill>
          <p:spPr>
            <a:xfrm>
              <a:off x="7599240" y="341712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" descr=""/>
            <p:cNvPicPr/>
            <p:nvPr/>
          </p:nvPicPr>
          <p:blipFill>
            <a:blip r:embed="rId2"/>
            <a:stretch/>
          </p:blipFill>
          <p:spPr>
            <a:xfrm>
              <a:off x="7939800" y="313704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" descr=""/>
            <p:cNvPicPr/>
            <p:nvPr/>
          </p:nvPicPr>
          <p:blipFill>
            <a:blip r:embed="rId3"/>
            <a:stretch/>
          </p:blipFill>
          <p:spPr>
            <a:xfrm>
              <a:off x="8280720" y="365868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" descr=""/>
            <p:cNvPicPr/>
            <p:nvPr/>
          </p:nvPicPr>
          <p:blipFill>
            <a:blip r:embed="rId4"/>
            <a:stretch/>
          </p:blipFill>
          <p:spPr>
            <a:xfrm>
              <a:off x="7819560" y="463428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" descr=""/>
            <p:cNvPicPr/>
            <p:nvPr/>
          </p:nvPicPr>
          <p:blipFill>
            <a:blip r:embed="rId5"/>
            <a:stretch/>
          </p:blipFill>
          <p:spPr>
            <a:xfrm>
              <a:off x="7949880" y="426708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" descr=""/>
            <p:cNvPicPr/>
            <p:nvPr/>
          </p:nvPicPr>
          <p:blipFill>
            <a:blip r:embed="rId6"/>
            <a:stretch/>
          </p:blipFill>
          <p:spPr>
            <a:xfrm>
              <a:off x="8230680" y="397728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" descr=""/>
            <p:cNvPicPr/>
            <p:nvPr/>
          </p:nvPicPr>
          <p:blipFill>
            <a:blip r:embed="rId7"/>
            <a:stretch/>
          </p:blipFill>
          <p:spPr>
            <a:xfrm>
              <a:off x="6396120" y="291456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3" descr=""/>
            <p:cNvPicPr/>
            <p:nvPr/>
          </p:nvPicPr>
          <p:blipFill>
            <a:blip r:embed="rId8"/>
            <a:stretch/>
          </p:blipFill>
          <p:spPr>
            <a:xfrm>
              <a:off x="6095520" y="344592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"/>
            <p:cNvPicPr/>
            <p:nvPr/>
          </p:nvPicPr>
          <p:blipFill>
            <a:blip r:embed="rId9"/>
            <a:stretch/>
          </p:blipFill>
          <p:spPr>
            <a:xfrm>
              <a:off x="8280720" y="266112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" descr=""/>
            <p:cNvPicPr/>
            <p:nvPr/>
          </p:nvPicPr>
          <p:blipFill>
            <a:blip r:embed="rId10"/>
            <a:stretch/>
          </p:blipFill>
          <p:spPr>
            <a:xfrm>
              <a:off x="8571600" y="258372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3" descr=""/>
            <p:cNvPicPr/>
            <p:nvPr/>
          </p:nvPicPr>
          <p:blipFill>
            <a:blip r:embed="rId11"/>
            <a:stretch/>
          </p:blipFill>
          <p:spPr>
            <a:xfrm>
              <a:off x="8140320" y="3762360"/>
              <a:ext cx="199800" cy="20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34"/>
          <p:cNvSpPr/>
          <p:nvPr/>
        </p:nvSpPr>
        <p:spPr>
          <a:xfrm>
            <a:off x="709920" y="24300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何中国好声音如此深入人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571680" y="64882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蒙纳简超刚黑"/>
              </a:rPr>
              <a:t>Blog.sina.com.cn/linhuz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50"/>
          <p:cNvGrpSpPr/>
          <p:nvPr/>
        </p:nvGrpSpPr>
        <p:grpSpPr>
          <a:xfrm>
            <a:off x="142920" y="857160"/>
            <a:ext cx="6568200" cy="5489640"/>
            <a:chOff x="142920" y="857160"/>
            <a:chExt cx="6568200" cy="5489640"/>
          </a:xfrm>
        </p:grpSpPr>
        <p:sp>
          <p:nvSpPr>
            <p:cNvPr id="130" name="椭圆 23"/>
            <p:cNvSpPr/>
            <p:nvPr/>
          </p:nvSpPr>
          <p:spPr>
            <a:xfrm>
              <a:off x="142920" y="857160"/>
              <a:ext cx="1330560" cy="1215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24"/>
            <p:cNvSpPr/>
            <p:nvPr/>
          </p:nvSpPr>
          <p:spPr>
            <a:xfrm>
              <a:off x="714240" y="1500840"/>
              <a:ext cx="1214280" cy="114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圆角矩形 25"/>
            <p:cNvSpPr/>
            <p:nvPr/>
          </p:nvSpPr>
          <p:spPr>
            <a:xfrm>
              <a:off x="714240" y="1429200"/>
              <a:ext cx="5286600" cy="4917600"/>
            </a:xfrm>
            <a:prstGeom prst="roundRect">
              <a:avLst>
                <a:gd name="adj" fmla="val 3931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26"/>
            <p:cNvSpPr/>
            <p:nvPr/>
          </p:nvSpPr>
          <p:spPr>
            <a:xfrm>
              <a:off x="428400" y="1453680"/>
              <a:ext cx="1071360" cy="4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27"/>
            <p:cNvSpPr/>
            <p:nvPr/>
          </p:nvSpPr>
          <p:spPr>
            <a:xfrm>
              <a:off x="398160" y="1382400"/>
              <a:ext cx="1071360" cy="4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8"/>
            <p:cNvSpPr/>
            <p:nvPr/>
          </p:nvSpPr>
          <p:spPr>
            <a:xfrm>
              <a:off x="642960" y="1572120"/>
              <a:ext cx="1071360" cy="4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组合 29"/>
            <p:cNvGrpSpPr/>
            <p:nvPr/>
          </p:nvGrpSpPr>
          <p:grpSpPr>
            <a:xfrm>
              <a:off x="214200" y="941040"/>
              <a:ext cx="1285920" cy="1058760"/>
              <a:chOff x="214200" y="941040"/>
              <a:chExt cx="1285920" cy="1058760"/>
            </a:xfrm>
          </p:grpSpPr>
          <p:pic>
            <p:nvPicPr>
              <p:cNvPr id="137" name="Picture 14" descr="4065_400300"/>
              <p:cNvPicPr/>
              <p:nvPr/>
            </p:nvPicPr>
            <p:blipFill>
              <a:blip r:embed="rId12"/>
              <a:stretch/>
            </p:blipFill>
            <p:spPr>
              <a:xfrm>
                <a:off x="214200" y="941040"/>
                <a:ext cx="1285920" cy="105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Rectangle 7"/>
              <p:cNvSpPr/>
              <p:nvPr/>
            </p:nvSpPr>
            <p:spPr>
              <a:xfrm rot="20232000">
                <a:off x="400320" y="1512360"/>
                <a:ext cx="27720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矩形 41"/>
            <p:cNvSpPr/>
            <p:nvPr/>
          </p:nvSpPr>
          <p:spPr>
            <a:xfrm>
              <a:off x="1469520" y="1742760"/>
              <a:ext cx="292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Men to Women  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男女比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组合 59"/>
            <p:cNvGrpSpPr/>
            <p:nvPr/>
          </p:nvGrpSpPr>
          <p:grpSpPr>
            <a:xfrm>
              <a:off x="1571760" y="2286000"/>
              <a:ext cx="126360" cy="321480"/>
              <a:chOff x="1571760" y="2286000"/>
              <a:chExt cx="126360" cy="321480"/>
            </a:xfrm>
          </p:grpSpPr>
          <p:sp>
            <p:nvSpPr>
              <p:cNvPr id="141" name="Freeform 115"/>
              <p:cNvSpPr/>
              <p:nvPr/>
            </p:nvSpPr>
            <p:spPr>
              <a:xfrm>
                <a:off x="1571760" y="2340720"/>
                <a:ext cx="126360" cy="26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16"/>
              <p:cNvSpPr/>
              <p:nvPr/>
            </p:nvSpPr>
            <p:spPr>
              <a:xfrm>
                <a:off x="1609560" y="228600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组合 58"/>
            <p:cNvGrpSpPr/>
            <p:nvPr/>
          </p:nvGrpSpPr>
          <p:grpSpPr>
            <a:xfrm>
              <a:off x="1785960" y="2287080"/>
              <a:ext cx="154440" cy="321480"/>
              <a:chOff x="1785960" y="2287080"/>
              <a:chExt cx="154440" cy="321480"/>
            </a:xfrm>
          </p:grpSpPr>
          <p:sp>
            <p:nvSpPr>
              <p:cNvPr id="144" name="Oval 117"/>
              <p:cNvSpPr/>
              <p:nvPr/>
            </p:nvSpPr>
            <p:spPr>
              <a:xfrm>
                <a:off x="1837800" y="2287080"/>
                <a:ext cx="5112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18"/>
              <p:cNvSpPr/>
              <p:nvPr/>
            </p:nvSpPr>
            <p:spPr>
              <a:xfrm>
                <a:off x="1785960" y="2341440"/>
                <a:ext cx="154440" cy="26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矩形 56"/>
            <p:cNvSpPr/>
            <p:nvPr/>
          </p:nvSpPr>
          <p:spPr>
            <a:xfrm>
              <a:off x="1040760" y="2143080"/>
              <a:ext cx="305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Impact"/>
                </a:rPr>
                <a:t>30:2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0"/>
            <p:cNvSpPr/>
            <p:nvPr/>
          </p:nvSpPr>
          <p:spPr>
            <a:xfrm>
              <a:off x="2260440" y="2191320"/>
              <a:ext cx="295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刘欢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 7vs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那英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8vs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61"/>
            <p:cNvSpPr/>
            <p:nvPr/>
          </p:nvSpPr>
          <p:spPr>
            <a:xfrm>
              <a:off x="3605760" y="2191320"/>
              <a:ext cx="30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庾澄庆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 6vs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杨坤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9vs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62"/>
            <p:cNvSpPr/>
            <p:nvPr/>
          </p:nvSpPr>
          <p:spPr>
            <a:xfrm>
              <a:off x="1486800" y="3171960"/>
              <a:ext cx="431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Singer type classification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歌手类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63"/>
            <p:cNvSpPr/>
            <p:nvPr/>
          </p:nvSpPr>
          <p:spPr>
            <a:xfrm>
              <a:off x="1447560" y="3560040"/>
              <a:ext cx="231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改编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特色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赋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64"/>
            <p:cNvSpPr/>
            <p:nvPr/>
          </p:nvSpPr>
          <p:spPr>
            <a:xfrm>
              <a:off x="3385440" y="3405960"/>
              <a:ext cx="248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Impact"/>
                </a:rPr>
                <a:t>7:18:7: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65"/>
            <p:cNvSpPr/>
            <p:nvPr/>
          </p:nvSpPr>
          <p:spPr>
            <a:xfrm>
              <a:off x="716040" y="3929400"/>
              <a:ext cx="311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刘欢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:3:2: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那英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:4:4: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66"/>
            <p:cNvSpPr/>
            <p:nvPr/>
          </p:nvSpPr>
          <p:spPr>
            <a:xfrm>
              <a:off x="2964960" y="3929400"/>
              <a:ext cx="3178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庾澄庆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:6:0: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杨坤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:5:1: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7"/>
            <p:cNvSpPr/>
            <p:nvPr/>
          </p:nvSpPr>
          <p:spPr>
            <a:xfrm>
              <a:off x="996840" y="2764080"/>
              <a:ext cx="362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除了杨坤团队</a:t>
              </a: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那女比例较均衡</a:t>
              </a: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68"/>
            <p:cNvSpPr/>
            <p:nvPr/>
          </p:nvSpPr>
          <p:spPr>
            <a:xfrm>
              <a:off x="1113480" y="4501080"/>
              <a:ext cx="370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特色型和专业型歌手的被认可率高</a:t>
              </a: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69"/>
            <p:cNvSpPr/>
            <p:nvPr/>
          </p:nvSpPr>
          <p:spPr>
            <a:xfrm>
              <a:off x="1289160" y="4672440"/>
              <a:ext cx="3632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2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Average age 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歌手平均年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2" descr="http://sc.websbook.com/sc/upimg/allimg/080202/875413_47541979.jpg"/>
            <p:cNvPicPr/>
            <p:nvPr/>
          </p:nvPicPr>
          <p:blipFill>
            <a:blip r:embed="rId13"/>
            <a:srcRect l="0" t="6429" r="0" b="0"/>
            <a:stretch/>
          </p:blipFill>
          <p:spPr>
            <a:xfrm>
              <a:off x="1428840" y="5358240"/>
              <a:ext cx="10000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矩形 71"/>
            <p:cNvSpPr/>
            <p:nvPr/>
          </p:nvSpPr>
          <p:spPr>
            <a:xfrm>
              <a:off x="1324800" y="5373000"/>
              <a:ext cx="281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Impact"/>
                </a:rPr>
                <a:t>26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72"/>
            <p:cNvSpPr/>
            <p:nvPr/>
          </p:nvSpPr>
          <p:spPr>
            <a:xfrm>
              <a:off x="2346840" y="5386320"/>
              <a:ext cx="292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刘欢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 2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那英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24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73"/>
            <p:cNvSpPr/>
            <p:nvPr/>
          </p:nvSpPr>
          <p:spPr>
            <a:xfrm>
              <a:off x="3677400" y="5386320"/>
              <a:ext cx="303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庾澄庆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 27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杨坤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27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74"/>
            <p:cNvSpPr/>
            <p:nvPr/>
          </p:nvSpPr>
          <p:spPr>
            <a:xfrm>
              <a:off x="1255320" y="5929920"/>
              <a:ext cx="458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型</a:t>
              </a: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半专业型歌手的参与导致整体平均年龄偏高</a:t>
              </a: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26"/>
          <p:cNvGrpSpPr/>
          <p:nvPr/>
        </p:nvGrpSpPr>
        <p:grpSpPr>
          <a:xfrm>
            <a:off x="-519120" y="0"/>
            <a:ext cx="10213200" cy="6918480"/>
            <a:chOff x="-519120" y="0"/>
            <a:chExt cx="10213200" cy="6918480"/>
          </a:xfrm>
        </p:grpSpPr>
        <p:sp>
          <p:nvSpPr>
            <p:cNvPr id="163" name="Rectangle 34"/>
            <p:cNvSpPr/>
            <p:nvPr/>
          </p:nvSpPr>
          <p:spPr>
            <a:xfrm>
              <a:off x="-11160" y="0"/>
              <a:ext cx="9204480" cy="691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455760" y="1711080"/>
              <a:ext cx="5761080" cy="2089080"/>
            </a:xfrm>
            <a:prstGeom prst="rect">
              <a:avLst/>
            </a:pr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3"/>
            <p:cNvSpPr/>
            <p:nvPr/>
          </p:nvSpPr>
          <p:spPr>
            <a:xfrm>
              <a:off x="6132960" y="300240"/>
              <a:ext cx="2590920" cy="6415200"/>
            </a:xfrm>
            <a:prstGeom prst="rect">
              <a:avLst/>
            </a:pr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7"/>
            <p:cNvSpPr/>
            <p:nvPr/>
          </p:nvSpPr>
          <p:spPr>
            <a:xfrm>
              <a:off x="-519120" y="285480"/>
              <a:ext cx="547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LIU HUAN Team   </a:t>
              </a:r>
              <a:r>
                <a:rPr b="0" lang="en-US" sz="6000" spc="-1" strike="noStrike">
                  <a:solidFill>
                    <a:srgbClr val="ff0000"/>
                  </a:solidFill>
                  <a:latin typeface="Impact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6"/>
            <p:cNvSpPr/>
            <p:nvPr/>
          </p:nvSpPr>
          <p:spPr>
            <a:xfrm>
              <a:off x="6269040" y="4859640"/>
              <a:ext cx="2160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共转台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2"/>
            <p:cNvSpPr/>
            <p:nvPr/>
          </p:nvSpPr>
          <p:spPr>
            <a:xfrm>
              <a:off x="5607000" y="357120"/>
              <a:ext cx="31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名以上评委认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3"/>
            <p:cNvSpPr/>
            <p:nvPr/>
          </p:nvSpPr>
          <p:spPr>
            <a:xfrm>
              <a:off x="5705280" y="2900880"/>
              <a:ext cx="29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事音乐相关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5"/>
            <p:cNvSpPr/>
            <p:nvPr/>
          </p:nvSpPr>
          <p:spPr>
            <a:xfrm>
              <a:off x="6331320" y="369252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57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6937920" y="4025880"/>
              <a:ext cx="360360" cy="68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8"/>
            <p:cNvSpPr/>
            <p:nvPr/>
          </p:nvSpPr>
          <p:spPr>
            <a:xfrm>
              <a:off x="2998440" y="1930320"/>
              <a:ext cx="254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师：刘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流行歌手、著名歌唱家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9"/>
            <p:cNvSpPr/>
            <p:nvPr/>
          </p:nvSpPr>
          <p:spPr>
            <a:xfrm>
              <a:off x="2494800" y="2513160"/>
              <a:ext cx="27043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千万次的问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弯弯的月亮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好汉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头再来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和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图表 1" descr=""/>
            <p:cNvPicPr/>
            <p:nvPr/>
          </p:nvPicPr>
          <p:blipFill>
            <a:blip r:embed="rId1"/>
            <a:stretch/>
          </p:blipFill>
          <p:spPr>
            <a:xfrm>
              <a:off x="6357960" y="742320"/>
              <a:ext cx="214164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矩形 31"/>
            <p:cNvSpPr/>
            <p:nvPr/>
          </p:nvSpPr>
          <p:spPr>
            <a:xfrm>
              <a:off x="6500880" y="785520"/>
              <a:ext cx="1071360" cy="1967760"/>
            </a:xfrm>
            <a:prstGeom prst="rect">
              <a:avLst/>
            </a:pr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5"/>
            <p:cNvSpPr/>
            <p:nvPr/>
          </p:nvSpPr>
          <p:spPr>
            <a:xfrm>
              <a:off x="5336640" y="131868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50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6"/>
            <p:cNvSpPr/>
            <p:nvPr/>
          </p:nvSpPr>
          <p:spPr>
            <a:xfrm>
              <a:off x="6497640" y="3500640"/>
              <a:ext cx="3603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361120" y="557244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6015240" y="557244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6601320" y="557244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7"/>
            <p:cNvSpPr/>
            <p:nvPr/>
          </p:nvSpPr>
          <p:spPr>
            <a:xfrm>
              <a:off x="7138440" y="557244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5364000" y="577728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5844600" y="5777280"/>
              <a:ext cx="270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6634440" y="577728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7147080" y="578844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7" descr="刘欢"/>
            <p:cNvPicPr/>
            <p:nvPr/>
          </p:nvPicPr>
          <p:blipFill>
            <a:blip r:embed="rId2"/>
            <a:stretch/>
          </p:blipFill>
          <p:spPr>
            <a:xfrm>
              <a:off x="804240" y="2071800"/>
              <a:ext cx="1838520" cy="12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34"/>
            <p:cNvSpPr/>
            <p:nvPr/>
          </p:nvSpPr>
          <p:spPr>
            <a:xfrm>
              <a:off x="967320" y="4119120"/>
              <a:ext cx="474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被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名以上评委认可的歌手最多的组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(7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名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专业或半专业型歌手的有实力歌手占据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57%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的比重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第五场比赛为止转台共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28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次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第一次转台数很少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冷静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深思熟虑派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值得关注歌手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: 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郑虹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吉克隽逸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袁娅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03364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27"/>
          <p:cNvGrpSpPr/>
          <p:nvPr/>
        </p:nvGrpSpPr>
        <p:grpSpPr>
          <a:xfrm>
            <a:off x="-142920" y="0"/>
            <a:ext cx="10038960" cy="6918480"/>
            <a:chOff x="-142920" y="0"/>
            <a:chExt cx="10038960" cy="6918480"/>
          </a:xfrm>
        </p:grpSpPr>
        <p:sp>
          <p:nvSpPr>
            <p:cNvPr id="190" name="Rectangle 33"/>
            <p:cNvSpPr/>
            <p:nvPr/>
          </p:nvSpPr>
          <p:spPr>
            <a:xfrm>
              <a:off x="-11160" y="0"/>
              <a:ext cx="9204480" cy="6918480"/>
            </a:xfrm>
            <a:prstGeom prst="rect">
              <a:avLst/>
            </a:pr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"/>
            <p:cNvSpPr/>
            <p:nvPr/>
          </p:nvSpPr>
          <p:spPr>
            <a:xfrm>
              <a:off x="3240000" y="1714320"/>
              <a:ext cx="5761080" cy="208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5929920" y="1854360"/>
              <a:ext cx="254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导师：那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著名女歌手、实力派天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5336640" y="2661840"/>
              <a:ext cx="2704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雾里看花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心酸的浪漫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征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那又能怎样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34"/>
            <p:cNvSpPr/>
            <p:nvPr/>
          </p:nvSpPr>
          <p:spPr>
            <a:xfrm>
              <a:off x="695160" y="300240"/>
              <a:ext cx="2590920" cy="641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图表 1" descr=""/>
            <p:cNvPicPr/>
            <p:nvPr/>
          </p:nvPicPr>
          <p:blipFill>
            <a:blip r:embed="rId1"/>
            <a:stretch/>
          </p:blipFill>
          <p:spPr>
            <a:xfrm>
              <a:off x="1054080" y="853920"/>
              <a:ext cx="214164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23"/>
            <p:cNvSpPr/>
            <p:nvPr/>
          </p:nvSpPr>
          <p:spPr>
            <a:xfrm>
              <a:off x="150120" y="428400"/>
              <a:ext cx="31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以上评委认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4"/>
            <p:cNvSpPr/>
            <p:nvPr/>
          </p:nvSpPr>
          <p:spPr>
            <a:xfrm>
              <a:off x="248760" y="2880360"/>
              <a:ext cx="29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从事音乐相关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5"/>
            <p:cNvSpPr/>
            <p:nvPr/>
          </p:nvSpPr>
          <p:spPr>
            <a:xfrm>
              <a:off x="910800" y="372024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29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1489320" y="4259880"/>
              <a:ext cx="360360" cy="353880"/>
            </a:xfrm>
            <a:prstGeom prst="rect">
              <a:avLst/>
            </a:pr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6"/>
            <p:cNvSpPr/>
            <p:nvPr/>
          </p:nvSpPr>
          <p:spPr>
            <a:xfrm>
              <a:off x="1049040" y="3399480"/>
              <a:ext cx="3603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32"/>
            <p:cNvSpPr/>
            <p:nvPr/>
          </p:nvSpPr>
          <p:spPr>
            <a:xfrm>
              <a:off x="1195200" y="957240"/>
              <a:ext cx="1071360" cy="18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5"/>
            <p:cNvSpPr/>
            <p:nvPr/>
          </p:nvSpPr>
          <p:spPr>
            <a:xfrm>
              <a:off x="-74160" y="138564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50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6"/>
            <p:cNvSpPr/>
            <p:nvPr/>
          </p:nvSpPr>
          <p:spPr>
            <a:xfrm>
              <a:off x="820440" y="4786560"/>
              <a:ext cx="2160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总共转台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9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-87480" y="549936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5"/>
            <p:cNvSpPr/>
            <p:nvPr/>
          </p:nvSpPr>
          <p:spPr>
            <a:xfrm>
              <a:off x="566640" y="549936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1152720" y="549936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7"/>
            <p:cNvSpPr/>
            <p:nvPr/>
          </p:nvSpPr>
          <p:spPr>
            <a:xfrm>
              <a:off x="1689840" y="549936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8"/>
            <p:cNvSpPr/>
            <p:nvPr/>
          </p:nvSpPr>
          <p:spPr>
            <a:xfrm>
              <a:off x="-142920" y="5704200"/>
              <a:ext cx="270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1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614160" y="570420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0"/>
            <p:cNvSpPr/>
            <p:nvPr/>
          </p:nvSpPr>
          <p:spPr>
            <a:xfrm>
              <a:off x="1185840" y="570420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98480" y="571536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6" descr="http://imgsrc.baidu.com/forum/pic/item/8b2326979a4a9d3554fb9678.jpg"/>
            <p:cNvPicPr/>
            <p:nvPr/>
          </p:nvPicPr>
          <p:blipFill>
            <a:blip r:embed="rId2"/>
            <a:srcRect l="12578" t="0" r="0" b="6084"/>
            <a:stretch/>
          </p:blipFill>
          <p:spPr>
            <a:xfrm>
              <a:off x="3735360" y="2000160"/>
              <a:ext cx="197784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25"/>
            <p:cNvSpPr/>
            <p:nvPr/>
          </p:nvSpPr>
          <p:spPr>
            <a:xfrm>
              <a:off x="4051800" y="4190760"/>
              <a:ext cx="4260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被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以上评委认可的歌手同刘欢组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最多的组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(7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歌手类型较平均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特色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型歌手均为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五场比赛为止转台共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9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次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受周围影气氛响转台次数较多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值得关注歌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: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黄勇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张玮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多亮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歌浴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26"/>
            <p:cNvSpPr/>
            <p:nvPr/>
          </p:nvSpPr>
          <p:spPr>
            <a:xfrm>
              <a:off x="4492440" y="55800"/>
              <a:ext cx="5403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Impact"/>
                </a:rPr>
                <a:t>NAYING Team </a:t>
              </a:r>
              <a:r>
                <a:rPr b="0" lang="en-US" sz="6000" spc="-1" strike="noStrike">
                  <a:solidFill>
                    <a:srgbClr val="ffffff"/>
                  </a:solidFill>
                  <a:latin typeface="Impact"/>
                </a:rPr>
                <a:t>B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09:25:00Z</dcterms:created>
  <dc:creator>bread</dc:creator>
  <dc:description/>
  <dc:language>en-US</dc:language>
  <cp:lastModifiedBy>雨林木风</cp:lastModifiedBy>
  <dcterms:modified xsi:type="dcterms:W3CDTF">2015-07-22T06:11:29Z</dcterms:modified>
  <cp:revision>1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