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E6C-CEA0-4FD9-8EE9-95478598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131-E152-4F33-A323-35F89636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35F-AA71-4A3F-9E06-17EAC112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5CA-2CC3-4C6F-B35F-4422A292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2CD-4853-4BB7-8656-870F5355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063-FD04-4F3B-B43F-30B87EB7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C85-0B8E-4598-A2F4-8369A3D4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B41-E010-453F-B56E-D82D9C64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D05-037F-48FD-B5C2-4322A0CD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6ED-D390-47D1-B16D-8368414D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EAB-4CD5-45E6-8856-B786705C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727-F54C-46AD-8CA5-18D6B38B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F911-2FA2-4CC9-9FA3-05411E9CB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hyperlink" Target="http://www.eeppt.com/beijing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2720" y="242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65320" y="220500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3429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47" name="矩形 14"/>
            <p:cNvSpPr/>
            <p:nvPr/>
          </p:nvSpPr>
          <p:spPr>
            <a:xfrm>
              <a:off x="5076720" y="716040"/>
              <a:ext cx="64764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18"/>
          <p:cNvGrpSpPr/>
          <p:nvPr/>
        </p:nvGrpSpPr>
        <p:grpSpPr>
          <a:xfrm>
            <a:off x="1023840" y="404640"/>
            <a:ext cx="2031840" cy="2502000"/>
            <a:chOff x="1023840" y="404640"/>
            <a:chExt cx="2031840" cy="2502000"/>
          </a:xfrm>
        </p:grpSpPr>
        <p:pic>
          <p:nvPicPr>
            <p:cNvPr id="50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640"/>
              <a:ext cx="158436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851280" y="1773360"/>
            <a:ext cx="453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尊敬的各位领导，老师，亲爱的同学们，大家晚上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很荣幸能够参加这样一个很有意义的活动。在大家看过刚才的视频之后，大家应该会对我有了一个初步的认识，在此，我向大家介绍一下自己，我是来自计算机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的刘婧。我虽然学习工科，但我确深深的爱上了艺术，在我很小的时候就孕育着对艺术的热情，直到大学，我将我小小的梦想逐渐放大，走上了理工大的舞台，从此开始我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梦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558972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F49-6B87-4B4E-A062-5584D7B7A2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64" name="矩形 4" descr=""/>
          <p:cNvPicPr/>
          <p:nvPr/>
        </p:nvPicPr>
        <p:blipFill>
          <a:blip r:embed="rId3"/>
          <a:stretch/>
        </p:blipFill>
        <p:spPr>
          <a:xfrm>
            <a:off x="2498760" y="2163600"/>
            <a:ext cx="48592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9:16:09Z</dcterms:modified>
  <cp:revision>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