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82804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7888-3527-44DF-B67A-849FCD0D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74516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000" y="3121200"/>
            <a:ext cx="74516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DF9-99A4-4406-9476-4890A8A3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00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252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482-3BF4-4166-8A5E-C33E97A0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3280" y="126036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52920" y="126036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000" y="312120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3280" y="312120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52920" y="312120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F6E7-6BBB-4E2F-A666-A970D0A4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DEF2-CB51-4BFA-89F9-02FBEE17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4000" y="1260360"/>
            <a:ext cx="745164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0F30-A804-4193-8D92-256128EF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745164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D4CE-29D4-437B-AE73-EA031478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C612-D8EB-4DE2-B317-B0046615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CE99-0DDA-4B6E-A4C8-B331100F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4000" y="216000"/>
            <a:ext cx="7451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0C8B-BD3B-4E05-81A5-1C3813E0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400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1B3A-86C3-4313-9331-CE60DADB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000" y="1260360"/>
            <a:ext cx="745164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6EA-479F-44E0-953A-5E7C44E7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3252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8803-FD3E-4197-93D5-083BED90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4000" y="3121200"/>
            <a:ext cx="74516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6A66-F190-4F8A-BB16-9CA3FCE9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74516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4000" y="3121200"/>
            <a:ext cx="74516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BAC7-8D75-4433-9BCC-DC366728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400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3252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80BA-6A1B-4FBE-A788-7EA78D47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33280" y="126036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52920" y="126036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4000" y="312120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33280" y="312120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52920" y="312120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08B3-7160-4FAA-AC79-E846FCD9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745164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AFCB-2124-4443-911A-083B9555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D518-56CB-4C16-A142-A7949435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805-9827-40FD-8EC3-E0CC87E9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4000" y="216000"/>
            <a:ext cx="7451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6057-1C7A-4FC1-BA86-F0B31AE7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00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99F2-F308-4C75-8544-016026DA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252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9F3-7B11-464D-BE2E-4A6680A1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000" y="3121200"/>
            <a:ext cx="74516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6B3-8465-4928-81DE-98BC390B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2500" spc="-1" strike="noStrike">
                <a:solidFill>
                  <a:srgbClr val="e0609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000" y="1260360"/>
            <a:ext cx="745164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marL="290520" indent="-290520">
              <a:spcBef>
                <a:spcPts val="425"/>
              </a:spcBef>
              <a:buClr>
                <a:srgbClr val="e06090"/>
              </a:buClr>
              <a:buFont typeface="Arial"/>
              <a:buChar char="•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1" marL="628560" indent="-241200">
              <a:spcBef>
                <a:spcPts val="425"/>
              </a:spcBef>
              <a:buClr>
                <a:srgbClr val="e06090"/>
              </a:buClr>
              <a:buFont typeface="Arial"/>
              <a:buChar char="–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2" marL="968400" indent="-193680">
              <a:spcBef>
                <a:spcPts val="425"/>
              </a:spcBef>
              <a:buClr>
                <a:srgbClr val="e06090"/>
              </a:buClr>
              <a:buFont typeface="Arial"/>
              <a:buChar char="•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3" marL="1353960" indent="-193320">
              <a:spcBef>
                <a:spcPts val="425"/>
              </a:spcBef>
              <a:buClr>
                <a:srgbClr val="e06090"/>
              </a:buClr>
              <a:buFont typeface="Arial"/>
              <a:buChar char="–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4" marL="1741320" indent="-193680">
              <a:spcBef>
                <a:spcPts val="425"/>
              </a:spcBef>
              <a:buClr>
                <a:srgbClr val="e06090"/>
              </a:buClr>
              <a:buFont typeface="Arial"/>
              <a:buChar char="»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5" marL="1741320" indent="-1936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6" marL="1741320" indent="-1936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4000" y="4916160"/>
            <a:ext cx="1932120" cy="376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28520" y="4916160"/>
            <a:ext cx="2622600" cy="376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934240" y="4916160"/>
            <a:ext cx="1931760" cy="376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e0609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F9FA-0157-429C-9F09-43B81A672C8C}" type="slidenum">
              <a:rPr b="0" lang="zh-CN" sz="800" spc="-1" strike="noStrike">
                <a:solidFill>
                  <a:srgbClr val="e0609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2500" spc="-1" strike="noStrike">
                <a:solidFill>
                  <a:srgbClr val="e0609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14000" y="1260360"/>
            <a:ext cx="745164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marL="290520" indent="-290520">
              <a:spcBef>
                <a:spcPts val="425"/>
              </a:spcBef>
              <a:buClr>
                <a:srgbClr val="e06090"/>
              </a:buClr>
              <a:buFont typeface="Arial"/>
              <a:buChar char="•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1" marL="628560" indent="-241200">
              <a:spcBef>
                <a:spcPts val="425"/>
              </a:spcBef>
              <a:buClr>
                <a:srgbClr val="e06090"/>
              </a:buClr>
              <a:buFont typeface="Arial"/>
              <a:buChar char="–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2" marL="968400" indent="-193680">
              <a:spcBef>
                <a:spcPts val="425"/>
              </a:spcBef>
              <a:buClr>
                <a:srgbClr val="e06090"/>
              </a:buClr>
              <a:buFont typeface="Arial"/>
              <a:buChar char="•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3" marL="1353960" indent="-193320">
              <a:spcBef>
                <a:spcPts val="425"/>
              </a:spcBef>
              <a:buClr>
                <a:srgbClr val="e06090"/>
              </a:buClr>
              <a:buFont typeface="Arial"/>
              <a:buChar char="–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4" marL="1741320" indent="-193680">
              <a:spcBef>
                <a:spcPts val="425"/>
              </a:spcBef>
              <a:buClr>
                <a:srgbClr val="e06090"/>
              </a:buClr>
              <a:buFont typeface="Arial"/>
              <a:buChar char="»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5" marL="1741320" indent="-1936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6" marL="1741320" indent="-1936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14000" y="4916160"/>
            <a:ext cx="1932120" cy="376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828520" y="4916160"/>
            <a:ext cx="2622600" cy="376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934240" y="4916160"/>
            <a:ext cx="1931760" cy="376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5FAE-A48C-4E6D-B91B-0A8B53AFF7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124000"/>
            <a:ext cx="7037280" cy="1008000"/>
          </a:xfrm>
          <a:prstGeom prst="rect">
            <a:avLst/>
          </a:prstGeom>
          <a:solidFill>
            <a:srgbClr val="ffffe3">
              <a:alpha val="50000"/>
            </a:srgbClr>
          </a:solidFill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5400" spc="-1" strike="noStrike">
                <a:solidFill>
                  <a:srgbClr val="660033"/>
                </a:solidFill>
                <a:latin typeface="微软雅黑"/>
              </a:rPr>
              <a:t>单车行旅</a:t>
            </a:r>
            <a:endParaRPr b="0" lang="en-US" sz="54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261800"/>
            <a:ext cx="4643280" cy="647640"/>
          </a:xfrm>
          <a:prstGeom prst="rect">
            <a:avLst/>
          </a:prstGeom>
          <a:solidFill>
            <a:srgbClr val="ffffe3">
              <a:alpha val="50000"/>
            </a:srgbClr>
          </a:solidFill>
          <a:ln w="0">
            <a:noFill/>
          </a:ln>
        </p:spPr>
        <p:txBody>
          <a:bodyPr lIns="77400" rIns="77400" tIns="38520" bIns="3852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lomo</a:t>
            </a:r>
            <a:r>
              <a:rPr b="0" lang="zh-CN" sz="2400" spc="-1" strike="noStrike">
                <a:solidFill>
                  <a:srgbClr val="660033"/>
                </a:solidFill>
                <a:latin typeface="Arial"/>
              </a:rPr>
              <a:t>非主流</a:t>
            </a:r>
            <a:r>
              <a:rPr b="0" lang="zh-CN" sz="2400" spc="-1" strike="noStrike">
                <a:solidFill>
                  <a:srgbClr val="660033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660033"/>
                </a:solidFill>
                <a:latin typeface="Arial"/>
              </a:rPr>
              <a:t>模板——</a:t>
            </a:r>
            <a:endParaRPr b="0" lang="en-US" sz="2400" spc="-1" strike="noStrike">
              <a:solidFill>
                <a:srgbClr val="e060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"/>
          <p:cNvSpPr/>
          <p:nvPr/>
        </p:nvSpPr>
        <p:spPr>
          <a:xfrm>
            <a:off x="4680" y="4067280"/>
            <a:ext cx="10796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3360" y="149400"/>
            <a:ext cx="7432920" cy="4521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2500" spc="-1" strike="noStrike">
                <a:solidFill>
                  <a:srgbClr val="e06090"/>
                </a:solidFill>
                <a:latin typeface="Arial"/>
              </a:rPr>
              <a:t>使用规范说明</a:t>
            </a: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920" y="1000080"/>
            <a:ext cx="8083800" cy="410832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 fontScale="8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2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7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7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7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7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5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2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6599160" y="262080"/>
            <a:ext cx="1257480" cy="274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3C36-A764-4CE0-863F-B2BBDAF6A2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3360" y="149400"/>
            <a:ext cx="7432920" cy="4521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2500" spc="-1" strike="noStrike">
                <a:solidFill>
                  <a:srgbClr val="e06090"/>
                </a:solidFill>
                <a:latin typeface="Arial"/>
              </a:rPr>
              <a:t>使用规范说明</a:t>
            </a: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3720" y="1083960"/>
            <a:ext cx="7629840" cy="377028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6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6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599160" y="262080"/>
            <a:ext cx="1257480" cy="274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490680" y="3324240"/>
            <a:ext cx="749916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07:18:0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56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