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FE4-277E-43CB-B6E3-1896CA05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E2A-A2A3-43DF-B5B7-FEFEF964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52441-A90D-43E7-B4F2-5AA46891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C7FAC-72F7-4EAE-8784-145F02F3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513D8-F773-48D3-8EDF-4392187E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3A611-B6D8-4C4C-ABB8-8F8FFE16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1409D-E068-4355-BF06-151970A8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6108A-C4FF-49F8-A248-354F0C5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E0DEE-B2E6-44B9-8CAD-E39C3EF4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E5C6C-D380-4E57-BD73-38DCA4AF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D4E0E-7F92-4351-9531-21C6E263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2223F-E44E-4FA8-8548-712FF7B6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49F-7540-4B65-BF59-79776E8E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7246F-252C-4235-89C1-4BD501D1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47E75-04A7-4134-8EA7-0C142FFF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C73F4-1684-498C-B4F4-8DBBC395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7ABBC-65BE-4617-84CD-1A1DC5A5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12357-4DE5-4A49-B1EC-8A9FDA01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D1925-C32F-413E-9159-289C5C9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801A8-FC0D-4641-85AA-7ED5E246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21140-CA24-4344-8D12-3FED9D3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99201-1749-402F-ABF0-B458E02F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4D0D5-1013-4319-A838-B3AE95C7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41B-5691-4538-93DB-D595AB42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D5901-3F01-41D5-8331-9FC3486B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0B22B-0043-484F-A96C-43D603D1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3B5E1-59DA-45F6-BA36-AE340B99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38FC6-2CD1-491A-A0A1-D473FE7A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5236A-9F44-4D24-B6BD-2E59B37A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DE717-786C-4760-8DDC-F4FBB3E4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7C29A-BD05-4F76-BB15-B7707AF5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20573-0A3E-476A-80F2-7A6B3088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EB6AD-50F0-4843-ADF7-04C7365C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858B7-867E-4BBB-8655-C84567C1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0652-01B7-4C83-BBEE-EF9887D3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6A3CB-7449-411C-BF45-134FD4E8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E3371-FB60-4A96-856C-3C7B1436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995DB-32C1-486B-AA86-6911CCA0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19FF9-7E63-4D9D-8EBE-40EEE082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629FA-631E-4549-B6EA-516E5D3F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90A06-70C7-46E3-937B-AB99AD55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A4B82-30B1-4A42-B660-E30B4D60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70E86-6B6E-4635-B709-A668E554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D5D64-2B97-415F-9F70-51411CDB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A19CC-A9BE-46C2-A3BB-1A4B0D0C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6F97-2D3B-4AAD-A8DE-DF6AC319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B6DF6-38B6-4CA8-8A26-986E2D6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5F95F-45BB-460B-B6B5-28A17EF6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D9D9A-D378-4815-A54C-78617ECF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A987E-2B25-4CB8-95C1-394D1200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08FBF-55F4-44FA-8DAB-988FBECE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A47CB-7843-443E-8D26-122EBA71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EC1CF-5118-49C6-8E61-F343DC28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D9490-6113-4B6B-82CC-D1E20A0B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A5718-E01F-478B-9C86-5F063F87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E5322-E16D-4426-9BAB-24238AD1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CAFA-4408-4B42-8560-9281F271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FB4C3-9D33-483F-BD2F-7DC1EE3B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2BEFA-1056-4CAC-96D8-5D223B8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D736B-2B37-467F-8CAC-4E9D5915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D8818-ED6E-4041-B862-0DD96FE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E2AF4-3055-4025-99D1-FB574CED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CCE3C-F3B3-4089-A952-15DA8D2D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7DEEF-20FE-4019-B276-DE707283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2E0D-5523-46F8-AB9C-D5C7FFF1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2FB9-F24F-4E94-B9C8-4E9C59D3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8FE9-D445-4977-B77E-EE12DE42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0838-45FD-43A4-8032-A83CA84E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6EB-6AE7-42E2-ADD7-CDC6B907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9434-4883-4A78-87F9-6D1E8197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79B1-F3EB-4B8C-818C-A9FD2378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26B4-39FA-4E56-A8C9-914244A1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9392-F54D-41AA-8ACB-E77B3050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4F18-A2AA-4C6C-AD36-962357C5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D4BD1-EE2D-4361-982D-40CA3CF1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DB33-59A3-4477-BD3F-C97CBF80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3DAF-041D-4082-A431-E18C6E27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72B1-1267-4AA3-A0EF-CA7C4EDF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63F5D-6786-4FD7-A5A1-F555445D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8ED-6476-4A1F-872D-8A047FE2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8B59-082E-402E-9743-E8930BE0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91D2-98B4-4092-9D95-2A0DC264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D69C-99CD-40A6-9CC6-4349207E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4C59-CE7F-4E97-BB70-D9D32338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9B9C-9767-472B-8600-0C14CE4E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6BBD-E6B2-456D-A4D0-C665AC9A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7554-33A5-4481-A8D2-543A522A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978C-2863-4408-8781-0A350E84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BB152-1751-428D-95E6-D1FB0EEC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F0DE2-A6D0-432A-B835-B78DE086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629-ABC2-48D3-A03F-78B42894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54B5D-87E3-4542-A00D-A5A697FF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5C99-F969-4F39-BB22-8427A91B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B9F2-E7C4-4932-B039-BD39A83A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93DD2-8CEF-4600-995B-A5574D40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6A2BB-FB99-4B8A-BFB4-556E820C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9EC08-6D6C-4ECE-A243-BE2CF199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D7D93-C788-40D1-B311-551B1669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36B6-F4B1-4146-AE0D-B10AD2B1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A369-F602-484C-9F61-F5E0ED19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BE85-1218-4B9F-945F-8BE1A55D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5F8-6E55-4953-9ACA-E0A97476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7C05D-C8F1-4FCD-9424-DAB9B6EB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DEC57-6CFB-4560-B25F-33967BCE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B1BF7-5067-4D27-B264-67EC261B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013CC-CD85-436D-A022-DF57A5A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CACFB-6019-472B-82D6-D7448EB7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96775-8043-49E0-8DD5-4457B53A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4BA27-F8CC-4B27-9F5B-B41E522E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19083-8276-4F60-8FB5-B1A1399A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639FE-1D75-498E-81EA-0A4D99F3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CEB4B-9859-48EF-B963-767A9094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390-99FF-44C3-AA08-2B98885E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C716A-FECF-48B8-930A-E5ABD15A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984F5-06CB-453A-B89E-BCAB1228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D584F-D6DC-4D96-BDDB-9CBC799F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B97FD-DC38-4C28-B0FF-D2A8ED99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1B2C7-FF0E-48A9-B556-A7512AE9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AB4F7-8551-483E-89A3-D9CAD015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A2B10-DC57-4174-9D22-1D71D297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DC614-8C2D-45C0-A72E-7072D306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2E395-2B26-474B-BC80-EE14F9C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48C10-DAD2-4A01-B5A6-09FD278F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72C-67C4-4AA0-AA86-1D1B335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0AD25-7FA6-4147-ACBA-90742271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D09B3-4FBD-4A0C-AEE7-5CCC559B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138F1-7076-410A-855D-A849AF7E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E3DCA-9186-4A34-813C-165EC1FE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655E6-D663-4F97-A186-DAE4B782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55683-8A9A-48E7-9749-AAA99CCD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2E233-3619-4AFF-8969-8664C07C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E7892-B7C3-45D2-B4F1-8B078DBE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D746A-0AE8-4463-B6F6-034F3F86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00857-02B1-432A-A12C-237EF1BC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CAB-45BC-403F-95E4-B95B92DB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C185F-250C-4D8B-AE18-B1129067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72C1A-24FB-4A57-9463-DE601E25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C6B32-2646-4D94-A94D-36EFF669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8D9DA-17AD-4C6C-A185-3C3B451B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63F95-53DA-43AD-BB41-476A9676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02175-D560-4A94-AE16-6D2DF55C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53BF7-4C5C-4275-A900-DFAF8A2A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6A55E-70BB-484F-B132-771FB4E0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AB0DD-BC99-402C-83C1-D9BF70A0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CCA34-F524-490C-B092-6620C704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C54-40F7-4451-8EE0-B5E533B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9DB1-53ED-4AED-A2DC-5A51AC68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ACF07-59E9-4552-A123-73FEBD9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3B9BF-9E87-4BB7-A015-382A262C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6E182-4F9F-40E8-9FD3-56CA5916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709B7-7B46-4878-947A-AAE929A7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F4719-CB35-48BA-BE92-F9308A1D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F67F0-548E-44E4-8A18-CAE69C2A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46632-88C5-447A-B3D3-64D5110D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AE390-124A-427D-AECF-9412C02E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24B2C-BF9D-4C06-AF6F-C576FA2D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E3AB-CC8F-472B-850C-4BD18CA908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B48F-70E2-4C70-AB15-00E7232907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029-2C74-455B-A5AC-E4D54E87D0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C472-CC60-4499-BE22-9BF7F13AC8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A6C2-EE9E-4B69-80A0-4C79FDFC7D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5052-741C-47BE-B927-C35B677800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9772-580A-43D6-85C8-926F6D4047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10B2-046F-4B31-B77C-4AF78E85A8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3BA0-7093-4F0C-BDBE-15EBCDEA09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D45D-D90C-46C1-A43F-915EE75187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CF3D-140A-4E44-A763-999BF07657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B88D-C66B-472A-AA19-2AD7E24A77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F3EA-F23F-4262-A62D-87E6CDE04B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-1"/>
          <p:cNvPicPr/>
          <p:nvPr/>
        </p:nvPicPr>
        <p:blipFill>
          <a:blip r:embed="rId2"/>
          <a:stretch/>
        </p:blipFill>
        <p:spPr>
          <a:xfrm>
            <a:off x="-28440" y="476280"/>
            <a:ext cx="5756040" cy="4317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未标题-1"/>
          <p:cNvPicPr/>
          <p:nvPr/>
        </p:nvPicPr>
        <p:blipFill>
          <a:blip r:embed="rId3"/>
          <a:stretch/>
        </p:blipFill>
        <p:spPr>
          <a:xfrm rot="240000">
            <a:off x="3564000" y="162864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5" name="夏日香气 - Summer Scent.wma" descr=""/>
          <p:cNvPicPr/>
          <p:nvPr/>
        </p:nvPicPr>
        <p:blipFill>
          <a:blip r:embed="rId4"/>
          <a:stretch/>
        </p:blipFill>
        <p:spPr>
          <a:xfrm>
            <a:off x="-299880" y="6553080"/>
            <a:ext cx="299880" cy="304920"/>
          </a:xfrm>
          <a:prstGeom prst="rect">
            <a:avLst/>
          </a:prstGeom>
          <a:ln w="0">
            <a:noFill/>
          </a:ln>
        </p:spPr>
      </p:pic>
      <p:sp>
        <p:nvSpPr>
          <p:cNvPr id="536" name="矩形 4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111"/>
          <p:cNvPicPr/>
          <p:nvPr/>
        </p:nvPicPr>
        <p:blipFill>
          <a:blip r:embed="rId2"/>
          <a:stretch/>
        </p:blipFill>
        <p:spPr>
          <a:xfrm>
            <a:off x="1476360" y="299736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未标题-1"/>
          <p:cNvPicPr/>
          <p:nvPr/>
        </p:nvPicPr>
        <p:blipFill>
          <a:blip r:embed="rId2"/>
          <a:stretch/>
        </p:blipFill>
        <p:spPr>
          <a:xfrm>
            <a:off x="324000" y="2781360"/>
            <a:ext cx="2303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无标题"/>
          <p:cNvPicPr/>
          <p:nvPr/>
        </p:nvPicPr>
        <p:blipFill>
          <a:blip r:embed="rId2"/>
          <a:stretch/>
        </p:blipFill>
        <p:spPr>
          <a:xfrm>
            <a:off x="1260360" y="90792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nmm"/>
          <p:cNvPicPr/>
          <p:nvPr/>
        </p:nvPicPr>
        <p:blipFill>
          <a:blip r:embed="rId2"/>
          <a:stretch/>
        </p:blipFill>
        <p:spPr>
          <a:xfrm>
            <a:off x="34920" y="0"/>
            <a:ext cx="91440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550365_094249016_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8:47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3:4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