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19.jpeg" ContentType="image/jpeg"/>
  <Override PartName="/ppt/media/image5.jpeg" ContentType="image/jpeg"/>
  <Override PartName="/ppt/media/image11.wmf" ContentType="image/x-wmf"/>
  <Override PartName="/ppt/media/image26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0.jpeg" ContentType="image/jpeg"/>
  <Override PartName="/ppt/media/image64.png" ContentType="image/png"/>
  <Override PartName="/ppt/media/gunshot.wav" ContentType="audio/x-wav"/>
  <Override PartName="/ppt/media/image15.jpeg" ContentType="image/jpeg"/>
  <Override PartName="/ppt/media/hammer.wav" ContentType="audio/x-wav"/>
  <Override PartName="/ppt/media/image16.jpeg" ContentType="image/jpeg"/>
  <Override PartName="/ppt/media/image61.jpeg" ContentType="image/jpeg"/>
  <Override PartName="/ppt/media/image4.jpeg" ContentType="image/jpeg"/>
  <Override PartName="/ppt/media/image20.jpeg" ContentType="image/jpeg"/>
  <Override PartName="/ppt/media/image63.jpeg" ContentType="image/jpeg"/>
  <Override PartName="/ppt/media/image14.jpeg" ContentType="image/jpeg"/>
  <Override PartName="/ppt/media/image57.wmf" ContentType="image/x-wmf"/>
  <Override PartName="/ppt/media/image32.jpeg" ContentType="image/jpeg"/>
  <Override PartName="/ppt/media/image18.jpeg" ContentType="image/jpeg"/>
  <Override PartName="/ppt/media/image42.jpeg" ContentType="image/jpeg"/>
  <Override PartName="/ppt/media/image59.jpeg" ContentType="image/jpeg"/>
  <Override PartName="/ppt/media/image6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58.wmf" ContentType="image/x-wmf"/>
  <Override PartName="/ppt/media/image34.jpeg" ContentType="image/jpeg"/>
  <Override PartName="/ppt/media/chimes.wav" ContentType="audio/x-wav"/>
  <Override PartName="/ppt/media/image17.jpeg" ContentType="image/jpeg"/>
  <Override PartName="/ppt/media/image9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B03-E113-48A8-8604-27729F32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D5F-60FD-4834-81C8-09F0031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79625-8A90-404F-90E1-474EABCD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1B96C-8CEF-4895-96CB-E9E41A27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D340-3217-4813-A3BC-1003B78C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C234A-3737-4A70-9D63-A1848AE2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35015-C3F1-4EAC-8DB5-096917E6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68396-5142-4F2E-B5F5-EBC8FBB0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C0A1D-0CAD-4A71-9B35-4BAB1BE7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D69A5-B126-4BC4-96FA-A6AB898B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32B41-22C4-4860-ACBA-142D05E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9D95-60B4-4A4F-A557-781BE572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75D-63D6-4A36-894E-BD1B0818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CB27B-112F-4BD8-8BCF-7CEAB0B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4A7DA-82E8-43F5-B673-29F0212E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C17E1-D058-4AD7-B0BA-FF663D2A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2CA0F-C4AE-45C2-8657-E34384CF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828DB-98B0-43DA-B334-AFA6678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CD682-86C6-4F28-91AA-1A1E196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E3DDB-0D4E-40B3-B2B8-3610B99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9A1C-304C-48F7-B0E0-DD9AC23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B3047-B144-4329-AD18-C124CE24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84E01-42BD-4982-BB32-BDDF2824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2AF-2093-4743-AA6C-5BC753E1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CDD10-7ED8-4E5E-951A-92D3BF30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350A7-A4E0-47F1-9A5B-99A33057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7DE18-A7E6-4EAB-83A4-7013EFD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FBABE-99AF-4BF4-AF93-DF7383B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6B4D-9546-4D5E-BD2C-D31C11B6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A9221-E7E2-4F70-8809-BFAF3985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290B9-C8D0-40A5-AC08-1BBDFEDF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CE8D9-86AE-40CA-9A2A-03ADF58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53B2-D813-4B39-A63A-EB825C2F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CB674-4BB5-4967-8F40-226AB9D3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BBBA-915B-41E1-A7CE-A1DA9EBF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B3A27-FBAE-4833-916B-E6E354B8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E29EE-79F9-48A5-B84F-7405283F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A1D86-0322-4AEE-8EC4-6AA3EE7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8B909-A819-4859-830C-23A702F2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2A18B-7A7A-4805-9AF6-41B3FAE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F3480-697A-4A67-B020-7007E4FF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3F085-162E-4FB3-A3C0-4C3B44E0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AF810-12D9-4AD6-A24D-916A39A3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B1F98-8425-4C36-BBAC-FE41E7C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FB663-8DDB-45B5-8ACE-CF97B05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A960-D2B4-4938-A874-36348E06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FBCA7-A711-4297-9479-5AF47A8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99B6D-3069-43F1-8E11-6D2EF72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B4C5-C365-4839-B2F4-250C4768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FC0D1-51AA-4DB1-BEE3-057EC214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DF119-713F-4C6A-B26C-297ED918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E538A-1B0F-43A7-8481-B65A05DD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29082-ECED-41B5-B867-C8006F57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6D0C3-1963-4AF1-8E6A-7E7A891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BB477-9DEE-4070-81BE-FAA7D980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5284F-9BF3-4164-AF83-AAD66745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C260-1901-4528-9441-4A8BF8EA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C8CE5-6C80-46CC-9906-C46A8D9B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E4FC8-CC02-4011-AE10-8CD6FC0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833B1-FB76-4D51-B896-57A2976C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398B4-4C4B-4044-9EB6-1E95642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A0018-A2AF-409C-9B34-F7C1617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25CE0-5977-468F-84C8-157900BB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40FE7-7417-47F0-A1F6-5F8B4930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BE69-0574-417D-BF48-D686E39F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B314-5C21-4B9A-AC64-502CBEF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B62-ED1B-48CB-9BFF-F79BAC59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5B51-8DCF-4704-953F-186759A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BF1-E9F5-463A-A9A4-3115DD2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1BC-F15F-49AA-A844-ED167902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02A8-6BA7-4EC5-8951-4E5B11B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4020-A125-41BE-9BDD-ACDADDB9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F98E-CDAF-41E7-BACB-84279A76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B342-2A6D-4855-AB1A-91BD487C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06AD-7808-4263-98BB-6FF24CD7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4BB5-6093-4D2A-BC74-A0531DD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914F-DC84-4917-AE3E-E34396AF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6B1B-6CE5-400C-A5FF-CEBB6015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5DBD-19AC-4A78-A5D8-B6874EB6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B91-7B7E-4534-A758-B947A357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AB6E-B1E9-4D4A-9A1B-7C3548BB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40DE-B094-4E44-B291-A363201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C3CC-A350-4A18-B5DE-D7CB2F6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CABF-33FD-4424-B288-89EC703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22DC-39D8-4008-8CA4-7B1855D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69B4-04BD-4343-ADAC-06E83A9E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D544-48C2-445C-8AE9-017795CA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FE46-B0D4-435B-AB84-692CD3A2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0B66-0F71-4D46-87A9-63B7C79C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DDC3-0A4C-4909-BD2E-F5790E0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67A-D45D-417F-9135-2739C19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CBF9-7B7C-44DF-A852-DFB3F0B5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CF5F2-42CA-48FD-9228-5C008A6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09BA-4FD1-47B7-AF42-67423D9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A10D-FC86-4842-9013-E9713710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7707-B19C-44D5-8F2A-A3C1F56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F057-FB18-478B-A830-5B8687B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37E0-19A1-493B-A1C0-C75B9ECD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9BCC9-99BF-49E4-80A1-A786B81E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BA52-41ED-4901-81BA-C747DE14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A176-407C-4842-AD1A-C10E244E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D06-713A-4857-997B-93E56BEF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F33C-21FB-4E4B-81B1-CD398798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0BC5C-90DB-4279-9AE2-8240C670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C3DC-D52F-40FB-B55C-74B385E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C0FF-B2D4-4317-B4A2-A619572F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09F9B-30AE-41C3-96CF-D593264F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0B0D9-4C08-4224-8BB2-18BB260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1687A-739A-40B8-AFB6-12C2D34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9E9E-5391-4A73-BA4C-3DDD4B4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35B7-EDEB-4725-8EC2-5F0A644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C561-84B0-49D4-9DE4-2DDCE8B1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4EB-BD2F-48CE-9A5F-FB5117E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1310E-C91A-4E52-B812-DFCA94F2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63D35-001B-40E5-9078-FD247C8F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910F-272F-4B0D-BB09-7DB27DF8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25659-0A02-4651-8D79-137790F7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6FF19-10F6-4E17-9AB8-1C783C2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64B41-F3C6-4737-85D8-247BFC9D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8BC8-570F-43D1-8F86-32B1DFF4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DD323-A822-4878-91A5-DF6B8FEF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919A-9B32-4AE5-BD75-217C77A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D279-DBEC-45D4-AAEE-BD36A8B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51A-5ED2-45C6-BB91-EF4BE9B7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7E818-2737-453D-B497-C9529274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2E92-B8F4-4428-ACFC-99CEB42B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46C0-24E7-4792-B3F3-D1A3A8D4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E99A-35E4-4306-8D3B-E0158239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229C1-D5D7-4E15-B558-FC54D6D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796C-1512-42B0-A98E-C4A47218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B0258-C52D-4231-AADB-216069D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2C108-677D-4C08-90EF-8C4592A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1AB04-37EF-4F5E-B87A-5255264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AF3BE-7391-4AD7-A717-64D8C4A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7A3-58B5-4C6D-868E-042A2AD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13F1-39BE-45A3-B3D4-8913297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B56EF-B210-4F54-BE0B-3D80A9A9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B7C6-0D60-4F7D-ACF4-963C0009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F6C1C-D542-4551-9BCF-BEE400DB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FC017-C828-48B3-99B4-ADCCD110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0DA2-E2A1-45C8-9540-F33557B5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FEAA1-899E-4C6D-BAC6-F5D9C865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7FDF9-255C-402E-BA11-7CC53E3F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BF676-5DC8-4131-B38B-0377C102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7F48D-BA8F-4814-AC05-AD38081B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E9F-6649-4809-A395-7BF6204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2347B-A3C8-49C0-936B-139520F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222D-01A1-46C3-B923-F3F837C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7CBEC-DD7F-4000-90D7-8658B8D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5F2F8-2C63-4F7B-A9D5-5C1AB88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965FE-0850-4E14-8C15-0108AA4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8AA3-36D3-4FA1-B68B-3E83186C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D19B6-8391-4AEE-95FD-DD5F7761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25370-9054-4EB6-BCAF-2B9FC8BF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CC08E-6253-4CA6-BF4F-024A34A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8B2DF-1752-423E-BE2F-5BF8246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7111-5731-4A2E-851D-27775D5D1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5338-2FFB-48B1-94D1-320FC317D3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3B13-941F-49E5-9711-F3A3E869BA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B0EB-DEBB-4A7F-AB57-A52FAED5E8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932-CEF4-48A8-9088-6516727BF2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86FA-C707-4FFA-9B32-ECF0DC829A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6E88-7BD3-40EC-B37B-85C9D2E032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F538-0BB2-474B-BB53-EE3E2B618A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775C-E791-4E2F-BB36-5F4F53C5FF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749-E360-4639-B778-CE8ACD84BF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EB0D-E9AA-4EE6-80D2-C6C315428B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7CAB-2BAA-439B-87BB-A84089EA91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B68D-B910-4CFC-B14E-0BF16B2747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zhu"/>
          <p:cNvPicPr/>
          <p:nvPr/>
        </p:nvPicPr>
        <p:blipFill>
          <a:blip r:embed="rId2"/>
          <a:stretch/>
        </p:blipFill>
        <p:spPr>
          <a:xfrm>
            <a:off x="611280" y="333360"/>
            <a:ext cx="4190760" cy="5715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925680" y="316080"/>
            <a:ext cx="13993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竹影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5648760" y="366228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丰子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615960" y="324000"/>
            <a:ext cx="4191120" cy="571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297000" y="65041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2438280" y="45720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品味语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133720" y="2286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609480" y="2514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838080" y="25909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914400" y="259092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几个小伙伴看天看月看竹影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满童趣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找出生动形象的描写句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说说好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533520" y="44197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609480" y="38862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85800" y="41911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1619280" y="404640"/>
            <a:ext cx="70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中写道“大家吃了一惊，立起身来，看见爸爸反背着手立在水门汀旁的草地上看我们描竹，他明明来得很久了。”这句话中以及后来爸爸的表现，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你觉得爸爸是个怎么样的人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03280" y="476280"/>
            <a:ext cx="6705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爸爸对孩子描竹影的游戏是支持和鼓励的，爸爸善于保护孩子的童真、童趣，善于保护孩子的创造力。 “爸爸 ”是以艺术领路人的身份出现，他适时地利用孩子的游戏因势利导地给孩子们上了一堂艺术入门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Ink 3" descr=""/>
          <p:cNvPicPr/>
          <p:nvPr/>
        </p:nvPicPr>
        <p:blipFill>
          <a:blip r:embed="rId1"/>
          <a:stretch/>
        </p:blipFill>
        <p:spPr>
          <a:xfrm>
            <a:off x="6313320" y="3830760"/>
            <a:ext cx="1670040" cy="88920"/>
          </a:xfrm>
          <a:prstGeom prst="rect">
            <a:avLst/>
          </a:prstGeom>
          <a:ln w="0">
            <a:noFill/>
          </a:ln>
        </p:spPr>
      </p:pic>
      <p:pic>
        <p:nvPicPr>
          <p:cNvPr id="602" name="Ink 4" descr=""/>
          <p:cNvPicPr/>
          <p:nvPr/>
        </p:nvPicPr>
        <p:blipFill>
          <a:blip r:embed="rId2"/>
          <a:stretch/>
        </p:blipFill>
        <p:spPr>
          <a:xfrm>
            <a:off x="1465200" y="4510080"/>
            <a:ext cx="122256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3247920" y="2286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赏画谈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539640" y="141300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欣赏中西方画的名画图片，感受不同的艺术魅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爸爸的对话中，请你归纳一下：中国画竹的特点，以及中国画和西洋画的不同之处。朗读这些句子，谈谈你是怎样理解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90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 </a:t>
            </a:r>
            <a:r>
              <a:rPr b="0" lang="en-US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西洋画像照相，中国画像符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1547640" y="3429000"/>
            <a:ext cx="60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请结合课文谈谈怎样理解这两句话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26" descr="黄宾虹"/>
          <p:cNvPicPr/>
          <p:nvPr/>
        </p:nvPicPr>
        <p:blipFill>
          <a:blip r:embed="rId1"/>
          <a:stretch/>
        </p:blipFill>
        <p:spPr>
          <a:xfrm>
            <a:off x="609480" y="0"/>
            <a:ext cx="3962520" cy="6172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27" descr="mjmhb013-2"/>
          <p:cNvPicPr/>
          <p:nvPr/>
        </p:nvPicPr>
        <p:blipFill>
          <a:blip r:embed="rId2"/>
          <a:stretch/>
        </p:blipFill>
        <p:spPr>
          <a:xfrm>
            <a:off x="4952880" y="0"/>
            <a:ext cx="3936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026" descr="父亲"/>
          <p:cNvPicPr/>
          <p:nvPr/>
        </p:nvPicPr>
        <p:blipFill>
          <a:blip r:embed="rId1"/>
          <a:stretch/>
        </p:blipFill>
        <p:spPr>
          <a:xfrm>
            <a:off x="1523880" y="343080"/>
            <a:ext cx="5372280" cy="6514920"/>
          </a:xfrm>
          <a:prstGeom prst="rect">
            <a:avLst/>
          </a:prstGeom>
          <a:ln w="0">
            <a:noFill/>
          </a:ln>
        </p:spPr>
      </p:pic>
      <p:sp>
        <p:nvSpPr>
          <p:cNvPr id="611" name="WordArt 1027"/>
          <p:cNvSpPr txBox="1"/>
          <p:nvPr/>
        </p:nvSpPr>
        <p:spPr>
          <a:xfrm rot="5400000">
            <a:off x="7010280" y="3124080"/>
            <a:ext cx="152424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父亲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李白"/>
          <p:cNvPicPr/>
          <p:nvPr/>
        </p:nvPicPr>
        <p:blipFill>
          <a:blip r:embed="rId1"/>
          <a:stretch/>
        </p:blipFill>
        <p:spPr>
          <a:xfrm>
            <a:off x="1371600" y="0"/>
            <a:ext cx="2857680" cy="6618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蒙娜丽莎"/>
          <p:cNvPicPr/>
          <p:nvPr/>
        </p:nvPicPr>
        <p:blipFill>
          <a:blip r:embed="rId2"/>
          <a:stretch/>
        </p:blipFill>
        <p:spPr>
          <a:xfrm>
            <a:off x="5292720" y="907920"/>
            <a:ext cx="3492360" cy="50421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3921120" y="3886200"/>
            <a:ext cx="10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 白 行 吟 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6181200" y="6060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蒙 娜 丽 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49680" y="14479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中国画与西洋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027" descr="梵高 向日葵"/>
          <p:cNvPicPr/>
          <p:nvPr/>
        </p:nvPicPr>
        <p:blipFill>
          <a:blip r:embed="rId1"/>
          <a:stretch/>
        </p:blipFill>
        <p:spPr>
          <a:xfrm>
            <a:off x="468360" y="765000"/>
            <a:ext cx="3782880" cy="50673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26" descr="黄宾虹"/>
          <p:cNvPicPr/>
          <p:nvPr/>
        </p:nvPicPr>
        <p:blipFill>
          <a:blip r:embed="rId2"/>
          <a:stretch/>
        </p:blipFill>
        <p:spPr>
          <a:xfrm>
            <a:off x="5003640" y="765000"/>
            <a:ext cx="3816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7"/>
          <p:cNvSpPr/>
          <p:nvPr/>
        </p:nvSpPr>
        <p:spPr>
          <a:xfrm>
            <a:off x="826920" y="17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562040" y="820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让我们先来朗读一首儿歌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195640" y="2276640"/>
            <a:ext cx="583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前，影子在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小黑狗，常常跟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左，影子在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好朋友，常常陪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029" descr="ch6a_72e.jpg (10447 bytes)"/>
          <p:cNvPicPr/>
          <p:nvPr/>
        </p:nvPicPr>
        <p:blipFill>
          <a:blip r:embed="rId1"/>
          <a:stretch/>
        </p:blipFill>
        <p:spPr>
          <a:xfrm>
            <a:off x="250920" y="987480"/>
            <a:ext cx="3916440" cy="58705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28"/>
          <p:cNvSpPr/>
          <p:nvPr/>
        </p:nvSpPr>
        <p:spPr>
          <a:xfrm>
            <a:off x="4284720" y="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Arial"/>
                <a:ea typeface="华文彩云"/>
              </a:rPr>
              <a:t>人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1026" descr="图片1"/>
          <p:cNvPicPr/>
          <p:nvPr/>
        </p:nvPicPr>
        <p:blipFill>
          <a:blip r:embed="rId2"/>
          <a:stretch/>
        </p:blipFill>
        <p:spPr>
          <a:xfrm>
            <a:off x="5818320" y="1554120"/>
            <a:ext cx="33256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a24"/>
          <p:cNvPicPr/>
          <p:nvPr/>
        </p:nvPicPr>
        <p:blipFill>
          <a:blip r:embed="rId1"/>
          <a:stretch/>
        </p:blipFill>
        <p:spPr>
          <a:xfrm>
            <a:off x="6145200" y="0"/>
            <a:ext cx="2998800" cy="685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artsqb034"/>
          <p:cNvPicPr/>
          <p:nvPr/>
        </p:nvPicPr>
        <p:blipFill>
          <a:blip r:embed="rId2"/>
          <a:stretch/>
        </p:blipFill>
        <p:spPr>
          <a:xfrm>
            <a:off x="0" y="1773360"/>
            <a:ext cx="5364000" cy="47829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2700360" y="2602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华文彩云"/>
              </a:rPr>
              <a:t>静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029" descr="a2"/>
          <p:cNvPicPr/>
          <p:nvPr/>
        </p:nvPicPr>
        <p:blipFill>
          <a:blip r:embed="rId1"/>
          <a:srcRect l="0" t="0" r="0" b="2008"/>
          <a:stretch/>
        </p:blipFill>
        <p:spPr>
          <a:xfrm>
            <a:off x="5651640" y="0"/>
            <a:ext cx="30096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28" descr="3"/>
          <p:cNvPicPr/>
          <p:nvPr/>
        </p:nvPicPr>
        <p:blipFill>
          <a:blip r:embed="rId2"/>
          <a:srcRect l="0" t="0" r="0" b="12898"/>
          <a:stretch/>
        </p:blipFill>
        <p:spPr>
          <a:xfrm>
            <a:off x="468360" y="198900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1027"/>
          <p:cNvSpPr/>
          <p:nvPr/>
        </p:nvSpPr>
        <p:spPr>
          <a:xfrm>
            <a:off x="2268360" y="26028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Arial"/>
                <a:ea typeface="华文彩云"/>
              </a:rPr>
              <a:t>风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1030" descr="图片2"/>
          <p:cNvPicPr/>
          <p:nvPr/>
        </p:nvPicPr>
        <p:blipFill>
          <a:blip r:embed="rId1"/>
          <a:stretch/>
        </p:blipFill>
        <p:spPr>
          <a:xfrm>
            <a:off x="3348000" y="115920"/>
            <a:ext cx="5600880" cy="3429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29" descr="picture2"/>
          <p:cNvPicPr/>
          <p:nvPr/>
        </p:nvPicPr>
        <p:blipFill>
          <a:blip r:embed="rId2"/>
          <a:stretch/>
        </p:blipFill>
        <p:spPr>
          <a:xfrm>
            <a:off x="304920" y="220968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028"/>
          <p:cNvSpPr/>
          <p:nvPr/>
        </p:nvSpPr>
        <p:spPr>
          <a:xfrm>
            <a:off x="685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27"/>
          <p:cNvSpPr/>
          <p:nvPr/>
        </p:nvSpPr>
        <p:spPr>
          <a:xfrm>
            <a:off x="640080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洋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渔舟唱晚.mp3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徐悲鸿马"/>
          <p:cNvPicPr/>
          <p:nvPr/>
        </p:nvPicPr>
        <p:blipFill>
          <a:blip r:embed="rId1"/>
          <a:stretch/>
        </p:blipFill>
        <p:spPr>
          <a:xfrm>
            <a:off x="684360" y="404640"/>
            <a:ext cx="3528720" cy="59533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虾米"/>
          <p:cNvPicPr/>
          <p:nvPr/>
        </p:nvPicPr>
        <p:blipFill>
          <a:blip r:embed="rId2"/>
          <a:stretch/>
        </p:blipFill>
        <p:spPr>
          <a:xfrm>
            <a:off x="5796000" y="765000"/>
            <a:ext cx="2259000" cy="52563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2"/>
          <p:cNvSpPr/>
          <p:nvPr/>
        </p:nvSpPr>
        <p:spPr>
          <a:xfrm>
            <a:off x="1449360" y="4462560"/>
            <a:ext cx="733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9" descr="赵子昂 木竹石图"/>
          <p:cNvPicPr/>
          <p:nvPr/>
        </p:nvPicPr>
        <p:blipFill>
          <a:blip r:embed="rId1"/>
          <a:stretch/>
        </p:blipFill>
        <p:spPr>
          <a:xfrm>
            <a:off x="0" y="3200400"/>
            <a:ext cx="1916280" cy="3657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赵子昂"/>
          <p:cNvPicPr/>
          <p:nvPr/>
        </p:nvPicPr>
        <p:blipFill>
          <a:blip r:embed="rId2"/>
          <a:stretch/>
        </p:blipFill>
        <p:spPr>
          <a:xfrm>
            <a:off x="1979640" y="228600"/>
            <a:ext cx="5143320" cy="2482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赵子昂  枯枝竹石图"/>
          <p:cNvPicPr/>
          <p:nvPr/>
        </p:nvPicPr>
        <p:blipFill>
          <a:blip r:embed="rId3"/>
          <a:stretch/>
        </p:blipFill>
        <p:spPr>
          <a:xfrm>
            <a:off x="1981080" y="4221000"/>
            <a:ext cx="5029200" cy="2484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郑板桥 竹"/>
          <p:cNvPicPr/>
          <p:nvPr/>
        </p:nvPicPr>
        <p:blipFill>
          <a:blip r:embed="rId4"/>
          <a:stretch/>
        </p:blipFill>
        <p:spPr>
          <a:xfrm>
            <a:off x="0" y="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郑板桥 竹子"/>
          <p:cNvPicPr/>
          <p:nvPr/>
        </p:nvPicPr>
        <p:blipFill>
          <a:blip r:embed="rId5"/>
          <a:stretch/>
        </p:blipFill>
        <p:spPr>
          <a:xfrm>
            <a:off x="7238880" y="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吴昌硕2"/>
          <p:cNvPicPr/>
          <p:nvPr/>
        </p:nvPicPr>
        <p:blipFill>
          <a:blip r:embed="rId6"/>
          <a:stretch/>
        </p:blipFill>
        <p:spPr>
          <a:xfrm>
            <a:off x="7162920" y="3200400"/>
            <a:ext cx="1981080" cy="36576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3124080" y="2971800"/>
            <a:ext cx="26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隶书"/>
              </a:rPr>
              <a:t>国画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2"/>
          <p:cNvSpPr/>
          <p:nvPr/>
        </p:nvSpPr>
        <p:spPr>
          <a:xfrm>
            <a:off x="7772400" y="6019920"/>
            <a:ext cx="990720" cy="838080"/>
          </a:xfrm>
          <a:custGeom>
            <a:avLst/>
            <a:gdLst>
              <a:gd name="textAreaLeft" fmla="*/ 154800 w 990720"/>
              <a:gd name="textAreaRight" fmla="*/ 866880 w 9907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中国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7" descr="d-14"/>
          <p:cNvPicPr/>
          <p:nvPr/>
        </p:nvPicPr>
        <p:blipFill>
          <a:blip r:embed="rId1"/>
          <a:stretch/>
        </p:blipFill>
        <p:spPr>
          <a:xfrm>
            <a:off x="1828800" y="4191120"/>
            <a:ext cx="2341440" cy="1954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lifangying_xxfzt_l"/>
          <p:cNvPicPr/>
          <p:nvPr/>
        </p:nvPicPr>
        <p:blipFill>
          <a:blip r:embed="rId2"/>
          <a:stretch/>
        </p:blipFill>
        <p:spPr>
          <a:xfrm>
            <a:off x="3505320" y="1143000"/>
            <a:ext cx="1172880" cy="28954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9" descr="xin_0801021911043282036615"/>
          <p:cNvPicPr/>
          <p:nvPr/>
        </p:nvPicPr>
        <p:blipFill>
          <a:blip r:embed="rId3"/>
          <a:stretch/>
        </p:blipFill>
        <p:spPr>
          <a:xfrm>
            <a:off x="5334120" y="1295280"/>
            <a:ext cx="1093680" cy="25909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2" descr="郑燮：丛竹图"/>
          <p:cNvPicPr/>
          <p:nvPr/>
        </p:nvPicPr>
        <p:blipFill>
          <a:blip r:embed="rId4"/>
          <a:stretch/>
        </p:blipFill>
        <p:spPr>
          <a:xfrm>
            <a:off x="6248520" y="4343400"/>
            <a:ext cx="2160360" cy="1143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3" descr="元 柯九思，纸本 墨笔《清閟阁墨竹图轴"/>
          <p:cNvPicPr/>
          <p:nvPr/>
        </p:nvPicPr>
        <p:blipFill>
          <a:blip r:embed="rId5"/>
          <a:stretch/>
        </p:blipFill>
        <p:spPr>
          <a:xfrm>
            <a:off x="4419720" y="4267080"/>
            <a:ext cx="1441440" cy="1146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4" descr="图片3"/>
          <p:cNvPicPr/>
          <p:nvPr/>
        </p:nvPicPr>
        <p:blipFill>
          <a:blip r:embed="rId6"/>
          <a:stretch/>
        </p:blipFill>
        <p:spPr>
          <a:xfrm>
            <a:off x="179280" y="1197000"/>
            <a:ext cx="1390680" cy="4803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" descr="图片4"/>
          <p:cNvPicPr/>
          <p:nvPr/>
        </p:nvPicPr>
        <p:blipFill>
          <a:blip r:embed="rId7"/>
          <a:stretch/>
        </p:blipFill>
        <p:spPr>
          <a:xfrm>
            <a:off x="1908000" y="1125360"/>
            <a:ext cx="1468440" cy="2816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6" descr="图片5"/>
          <p:cNvPicPr/>
          <p:nvPr/>
        </p:nvPicPr>
        <p:blipFill>
          <a:blip r:embed="rId8"/>
          <a:stretch/>
        </p:blipFill>
        <p:spPr>
          <a:xfrm>
            <a:off x="7020000" y="1484280"/>
            <a:ext cx="1231920" cy="2365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7" descr="图片6"/>
          <p:cNvPicPr/>
          <p:nvPr/>
        </p:nvPicPr>
        <p:blipFill>
          <a:blip r:embed="rId9"/>
          <a:stretch/>
        </p:blipFill>
        <p:spPr>
          <a:xfrm>
            <a:off x="5292720" y="5805360"/>
            <a:ext cx="3084480" cy="646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90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 </a:t>
            </a:r>
            <a:r>
              <a:rPr b="0" lang="en-US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西洋画像照相，中国画像符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1116000" y="220500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中国画重写意，与我们民族传统的审美观有很大的关系，重神似而不重形似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而西洋画重写实，也和西方文化重实验相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026" descr="018"/>
          <p:cNvPicPr/>
          <p:nvPr/>
        </p:nvPicPr>
        <p:blipFill>
          <a:blip r:embed="rId1"/>
          <a:stretch/>
        </p:blipFill>
        <p:spPr>
          <a:xfrm>
            <a:off x="0" y="39600"/>
            <a:ext cx="9448920" cy="68184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027"/>
          <p:cNvSpPr/>
          <p:nvPr/>
        </p:nvSpPr>
        <p:spPr>
          <a:xfrm>
            <a:off x="1127160" y="685800"/>
            <a:ext cx="801684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游戏是儿童的正当行为，玩具是儿童的天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track 11.mp3" descr=""/>
          <p:cNvPicPr/>
          <p:nvPr/>
        </p:nvPicPr>
        <p:blipFill>
          <a:blip r:embed="rId2"/>
          <a:stretch/>
        </p:blipFill>
        <p:spPr>
          <a:xfrm>
            <a:off x="99061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026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27"/>
          <p:cNvSpPr/>
          <p:nvPr/>
        </p:nvSpPr>
        <p:spPr>
          <a:xfrm>
            <a:off x="3352680" y="3657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9933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Webdings"/>
                <a:ea typeface="Webdings"/>
              </a:rPr>
              <a:t></a:t>
            </a:r>
            <a:r>
              <a:rPr b="1" lang="zh-CN" sz="4800" spc="-1" strike="noStrike">
                <a:solidFill>
                  <a:srgbClr val="9933ff"/>
                </a:solidFill>
                <a:latin typeface="Webdings"/>
                <a:ea typeface="Webdings"/>
              </a:rPr>
              <a:t>让我们来欣赏丰子恺的漫画，感受童年的趣味吧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028" descr="丰子恺"/>
          <p:cNvPicPr/>
          <p:nvPr/>
        </p:nvPicPr>
        <p:blipFill>
          <a:blip r:embed="rId2"/>
          <a:stretch/>
        </p:blipFill>
        <p:spPr>
          <a:xfrm>
            <a:off x="0" y="228600"/>
            <a:ext cx="333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833112"/>
          <p:cNvPicPr/>
          <p:nvPr/>
        </p:nvPicPr>
        <p:blipFill>
          <a:blip r:embed="rId1"/>
          <a:stretch/>
        </p:blipFill>
        <p:spPr>
          <a:xfrm>
            <a:off x="0" y="0"/>
            <a:ext cx="9325080" cy="70930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838080" y="2590920"/>
            <a:ext cx="80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有一个成语是由画竹子的故事而来的，你知道这个成语吗？能用它给大家造一个句子吗</a:t>
            </a:r>
            <a:r>
              <a:rPr b="0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6461280" y="2514600"/>
            <a:ext cx="54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01440" y="48880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胸有成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1026" descr="骑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026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4" descr="图片12"/>
          <p:cNvPicPr/>
          <p:nvPr/>
        </p:nvPicPr>
        <p:blipFill>
          <a:blip r:embed="rId1"/>
          <a:stretch/>
        </p:blipFill>
        <p:spPr>
          <a:xfrm>
            <a:off x="4643280" y="3429000"/>
            <a:ext cx="4349880" cy="326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3" descr="图片11"/>
          <p:cNvPicPr/>
          <p:nvPr/>
        </p:nvPicPr>
        <p:blipFill>
          <a:blip r:embed="rId2"/>
          <a:stretch/>
        </p:blipFill>
        <p:spPr>
          <a:xfrm>
            <a:off x="324000" y="3295800"/>
            <a:ext cx="4506840" cy="33732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2" descr="图片10"/>
          <p:cNvPicPr/>
          <p:nvPr/>
        </p:nvPicPr>
        <p:blipFill>
          <a:blip r:embed="rId3"/>
          <a:stretch/>
        </p:blipFill>
        <p:spPr>
          <a:xfrm>
            <a:off x="4919760" y="60480"/>
            <a:ext cx="3973320" cy="3512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1" descr="图片9"/>
          <p:cNvPicPr/>
          <p:nvPr/>
        </p:nvPicPr>
        <p:blipFill>
          <a:blip r:embed="rId4"/>
          <a:stretch/>
        </p:blipFill>
        <p:spPr>
          <a:xfrm>
            <a:off x="395280" y="19080"/>
            <a:ext cx="4199040" cy="326556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5"/>
          <p:cNvSpPr/>
          <p:nvPr/>
        </p:nvSpPr>
        <p:spPr>
          <a:xfrm>
            <a:off x="23623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213372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5530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685800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990360"/>
            <a:ext cx="9144000" cy="1068840"/>
          </a:xfrm>
          <a:prstGeom prst="rect">
            <a:avLst/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我们在生活中经常做游戏，比如用泥巴造城堡，用雪堆娃娃，用野花编花环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留心一下，想一想，你是否也在进行着一种艺术上的创造，是否也有艺术上的发现呢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请把这种活动和发现用恰当的语言给表达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4" descr="2"/>
          <p:cNvPicPr/>
          <p:nvPr/>
        </p:nvPicPr>
        <p:blipFill>
          <a:blip r:embed="rId1"/>
          <a:stretch/>
        </p:blipFill>
        <p:spPr>
          <a:xfrm>
            <a:off x="4932360" y="3141720"/>
            <a:ext cx="2879640" cy="3382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682" name="Picture 5" descr="图片15"/>
          <p:cNvPicPr/>
          <p:nvPr/>
        </p:nvPicPr>
        <p:blipFill>
          <a:blip r:embed="rId2"/>
          <a:stretch/>
        </p:blipFill>
        <p:spPr>
          <a:xfrm>
            <a:off x="900000" y="3068640"/>
            <a:ext cx="285300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7162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468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46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丰子凯象"/>
          <p:cNvPicPr/>
          <p:nvPr/>
        </p:nvPicPr>
        <p:blipFill>
          <a:blip r:embed="rId1"/>
          <a:stretch/>
        </p:blipFill>
        <p:spPr>
          <a:xfrm>
            <a:off x="324000" y="333360"/>
            <a:ext cx="3379680" cy="43196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7"/>
          <p:cNvSpPr/>
          <p:nvPr/>
        </p:nvSpPr>
        <p:spPr>
          <a:xfrm flipV="1">
            <a:off x="3903840" y="84816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4048200" y="409680"/>
            <a:ext cx="46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04820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4067280" y="333360"/>
            <a:ext cx="4608360" cy="28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丰子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(1898—197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我国现代著名画家、文学家、美术和音乐教育家。丰子恺风格独特的漫画作品影响很大，深受人们的喜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丰子恺的散文，主要作品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缘缘堂随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缘缘堂再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随笔二十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甘美的回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艺术趣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率真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等。这些作品除一部分艺术评论以外，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Arial"/>
                <a:ea typeface="楷体_GB2312"/>
              </a:rPr>
              <a:t>大都是叙述他自己亲身经历的生活和日常接触的人事，表现浓厚的生活情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468360" y="5157720"/>
            <a:ext cx="311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WordArt 2"/>
          <p:cNvSpPr txBox="1"/>
          <p:nvPr/>
        </p:nvSpPr>
        <p:spPr>
          <a:xfrm>
            <a:off x="468360" y="537372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新宋体"/>
              </a:rPr>
              <a:t>展 示 风 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UE-19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"/>
          <p:cNvSpPr/>
          <p:nvPr/>
        </p:nvSpPr>
        <p:spPr>
          <a:xfrm>
            <a:off x="1752480" y="19810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其实，艺术并非高不可攀，它往往就存在于日常生活之中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LoveThemeFromRomeoJulia.mp3" descr=""/>
          <p:cNvPicPr/>
          <p:nvPr/>
        </p:nvPicPr>
        <p:blipFill>
          <a:blip r:embed="rId2"/>
          <a:stretch/>
        </p:blipFill>
        <p:spPr>
          <a:xfrm>
            <a:off x="10210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564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宋 苏轼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於潜僧绿筠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》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可使食无肉，不可使居无竹。无肉令人瘦，无竹令人俗。人瘦尚可肥，俗士不可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郑板桥 题画诗：衙斋卧听萧萧竹，疑是民间疾苦声。些小吾曹州县吏，一枝一叶总关情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郑板桥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题竹石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咬定青山不放松，立根原在破岩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千磨万击还坚劲，任尔东西南北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池上竹下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穿篱绕舍碧逶迤，十亩闲居半是池。食饱窗间新睡后， 脚轻林下独行时。水能性淡为吾友，竹解心虚即我师。何必悠悠人世上，劳心费目觅亲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较一下本文与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童趣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异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都表现了童真、童趣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都富有想象力和审美情趣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文言，选取几件事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现代文，一件事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重想象、联想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重审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4"/>
          <p:cNvSpPr/>
          <p:nvPr/>
        </p:nvSpPr>
        <p:spPr>
          <a:xfrm>
            <a:off x="1066680" y="1828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童年是天真烂漫的，你是否也有过兴趣盎然的游戏？写下来，互相交流，说不定其中就蕴含着一种艺术创造，请保持那份兴趣，将来你也有可能迈入艺术殿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533520" y="5486400"/>
            <a:ext cx="662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"/>
          <p:cNvSpPr/>
          <p:nvPr/>
        </p:nvSpPr>
        <p:spPr>
          <a:xfrm>
            <a:off x="2362320" y="3049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推荐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3"/>
          <p:cNvSpPr/>
          <p:nvPr/>
        </p:nvSpPr>
        <p:spPr>
          <a:xfrm>
            <a:off x="1547640" y="333360"/>
            <a:ext cx="75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99"/>
                </a:solidFill>
                <a:latin typeface="Arial"/>
                <a:ea typeface="黑体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我们在生活中经常做游戏，比如捏泥人、堆雪人、用花和柳条编花环、跳房子等等，留心想想，你在游戏中有美的发现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四人小组讨论，然后推举同学到班上交流，时间控制在两分钟左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2" descr="插花"/>
          <p:cNvPicPr/>
          <p:nvPr/>
        </p:nvPicPr>
        <p:blipFill>
          <a:blip r:embed="rId2"/>
          <a:stretch/>
        </p:blipFill>
        <p:spPr>
          <a:xfrm>
            <a:off x="2700360" y="5445000"/>
            <a:ext cx="612144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1763640" y="692280"/>
            <a:ext cx="73803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黑体"/>
              </a:rPr>
              <a:t>结束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童心童趣是天真烂漫的，一去不返的童年是美好的，只要我们拥有一颗童心，就能拥有童年般的快乐；看似平凡的生活，用心体会处处有滋有味，做生活的有心人，其实生活中的美无处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诚如罗丹所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对于我们的眼睛</a:t>
            </a:r>
            <a:r>
              <a:rPr b="1" lang="en-US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不是缺少美</a:t>
            </a:r>
            <a:r>
              <a:rPr b="1" lang="en-US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而是缺少发现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渔舟唱晚(古筝).mp3" descr=""/>
          <p:cNvPicPr/>
          <p:nvPr/>
        </p:nvPicPr>
        <p:blipFill>
          <a:blip r:embed="rId1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7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小     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去不返的童年是美好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你永葆一颗童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就能拥有童年般的快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似平凡的生活是美好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你有爱心有敏锐的眼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就能发现生活中美好的东西无处不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片枯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抹斜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让你激动流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益匪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祝愿大家拥有快乐充实的人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4" descr="080"/>
          <p:cNvPicPr/>
          <p:nvPr/>
        </p:nvPicPr>
        <p:blipFill>
          <a:blip r:embed="rId1"/>
          <a:stretch/>
        </p:blipFill>
        <p:spPr>
          <a:xfrm>
            <a:off x="2771640" y="3581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1106640" y="647712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685800" y="1295280"/>
            <a:ext cx="84582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撇       蘸       幽暗      惬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口头禅      参差不齐       萧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水门汀    芥子园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6172200" y="4952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"/>
          <p:cNvGrpSpPr/>
          <p:nvPr/>
        </p:nvGrpSpPr>
        <p:grpSpPr>
          <a:xfrm>
            <a:off x="380880" y="304920"/>
            <a:ext cx="7620120" cy="5366880"/>
            <a:chOff x="380880" y="304920"/>
            <a:chExt cx="7620120" cy="5366880"/>
          </a:xfrm>
        </p:grpSpPr>
        <p:sp>
          <p:nvSpPr>
            <p:cNvPr id="556" name="Text Box 5"/>
            <p:cNvSpPr/>
            <p:nvPr/>
          </p:nvSpPr>
          <p:spPr>
            <a:xfrm>
              <a:off x="380880" y="304920"/>
              <a:ext cx="731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piě        zhàn       yōu             qi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838080" y="274320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chán      cēn cī                   xiā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7"/>
            <p:cNvSpPr/>
            <p:nvPr/>
          </p:nvSpPr>
          <p:spPr>
            <a:xfrm>
              <a:off x="838080" y="502920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tīng     ji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弥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í mà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徘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áihuái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口头禅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依样画葫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包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蘸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àn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惬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5219640" y="228600"/>
            <a:ext cx="77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烟尘、雾气、水等）充满；布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951280" y="380880"/>
            <a:ext cx="6192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一个地方来回地走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比喻犹疑不决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比喻事物在某个范围内来回浮动、起伏。文中指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2951280" y="16765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指有的禅宗和尚只空谈禅理而不实行，也指借用禅宗常用语作谈话的点缀。今指常挂在口头的词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666880" y="2743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照葫芦的样子画葫芦。比喻方法简单，单纯模仿，不加改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295280" y="35053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括（指大范围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220200" y="40384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液体、粉末或糊状的东西里沾一下就拿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531600" y="44956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意、称心、舒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4458600" y="51814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含蓄的意思或情趣、情调、趣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601200" y="5104440"/>
            <a:ext cx="14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意     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1905120" y="5943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行楷"/>
              </a:rPr>
              <a:t>说说上面各词的词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1763640" y="609480"/>
            <a:ext cx="73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336699"/>
                </a:solidFill>
                <a:latin typeface="Arial"/>
                <a:ea typeface="黑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默读课文，在默读中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文中划下你喜欢的语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我”和小伙伴在乘凉时有哪些发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文中写了“我”和小伙伴哪些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文章以写什么为重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用一句简洁的话概括课文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渔舟唱晚(古筝).mp3" descr=""/>
          <p:cNvPicPr/>
          <p:nvPr/>
        </p:nvPicPr>
        <p:blipFill>
          <a:blip r:embed="rId2"/>
          <a:stretch/>
        </p:blipFill>
        <p:spPr>
          <a:xfrm>
            <a:off x="2484360" y="623736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 flipV="1" rot="10780200">
            <a:off x="1763640" y="358920"/>
            <a:ext cx="6851880" cy="73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凉的发现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天色的变化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黑体"/>
                <a:ea typeface="黑体"/>
              </a:rPr>
              <a:t>院里的光影</a:t>
            </a: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影子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黑体"/>
                <a:ea typeface="黑体"/>
              </a:rPr>
              <a:t>我们眼中的月亮</a:t>
            </a: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月亮底下头上冒的烟气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黑体"/>
                <a:ea typeface="黑体"/>
              </a:rPr>
              <a:t>在水门汀上描影</a:t>
            </a: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像脱版的印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914400" y="-3505320"/>
            <a:ext cx="1905120" cy="126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人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人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竹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竹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2666880" y="990720"/>
            <a:ext cx="3217680" cy="4876560"/>
            <a:chOff x="2666880" y="990720"/>
            <a:chExt cx="3217680" cy="4876560"/>
          </a:xfrm>
        </p:grpSpPr>
        <p:sp>
          <p:nvSpPr>
            <p:cNvPr id="577" name="AutoShape 4"/>
            <p:cNvSpPr/>
            <p:nvPr/>
          </p:nvSpPr>
          <p:spPr>
            <a:xfrm>
              <a:off x="2666880" y="990720"/>
              <a:ext cx="533520" cy="487656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127080 h 4876560"/>
                <a:gd name="textAreaBottom" fmla="*/ 4749480 h 48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5"/>
            <p:cNvGrpSpPr/>
            <p:nvPr/>
          </p:nvGrpSpPr>
          <p:grpSpPr>
            <a:xfrm>
              <a:off x="3875040" y="1431720"/>
              <a:ext cx="2009520" cy="3690720"/>
              <a:chOff x="3875040" y="1431720"/>
              <a:chExt cx="2009520" cy="3690720"/>
            </a:xfrm>
          </p:grpSpPr>
          <p:sp>
            <p:nvSpPr>
              <p:cNvPr id="579" name="Rectangle 6"/>
              <p:cNvSpPr/>
              <p:nvPr/>
            </p:nvSpPr>
            <p:spPr>
              <a:xfrm>
                <a:off x="3875040" y="143172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强烈的好奇心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7"/>
              <p:cNvSpPr/>
              <p:nvPr/>
            </p:nvSpPr>
            <p:spPr>
              <a:xfrm>
                <a:off x="3875040" y="242208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细致的观察力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8"/>
              <p:cNvSpPr/>
              <p:nvPr/>
            </p:nvSpPr>
            <p:spPr>
              <a:xfrm>
                <a:off x="3875040" y="341244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丰富的想象力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9"/>
              <p:cNvSpPr/>
              <p:nvPr/>
            </p:nvSpPr>
            <p:spPr>
              <a:xfrm>
                <a:off x="3875040" y="441900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极强的模仿力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" name="Rectangle 10"/>
          <p:cNvSpPr/>
          <p:nvPr/>
        </p:nvSpPr>
        <p:spPr>
          <a:xfrm>
            <a:off x="6865920" y="2955960"/>
            <a:ext cx="20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童心童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8381880" y="6216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2">
            <a:hlinkClick r:id="rId3" action="ppaction://hlinksldjump"/>
          </p:cNvPr>
          <p:cNvSpPr/>
          <p:nvPr/>
        </p:nvSpPr>
        <p:spPr>
          <a:xfrm>
            <a:off x="7696080" y="5791320"/>
            <a:ext cx="990720" cy="838080"/>
          </a:xfrm>
          <a:custGeom>
            <a:avLst/>
            <a:gdLst>
              <a:gd name="textAreaLeft" fmla="*/ 154800 w 990720"/>
              <a:gd name="textAreaRight" fmla="*/ 866880 w 9907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2:37:18Z</dcterms:created>
  <dc:creator/>
  <dc:description/>
  <cp:keywords>幻灯片之家 http:/www.eeppt.com</cp:keywords>
  <dc:language>en-US</dc:language>
  <cp:lastModifiedBy/>
  <dcterms:modified xsi:type="dcterms:W3CDTF">2015-07-20T06:20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