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B0CC-F523-419D-BCCF-BA4E1014D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C18A-C1DF-4712-A4FC-AC5EA338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E914-4969-48B7-B856-013BAD9F2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BBBB-7E34-4AC1-9318-63CAAE5C0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3E1B-1DDF-4180-95C9-E3FB1FEE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1759-418D-463E-B254-93D6D7FF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D88B-7DC5-4B81-A723-2322C503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E378-C8D6-4617-8762-2366A1B9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9E4C-5F5A-447A-A65D-978216A5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FE9C-49C0-4D94-8733-305E1B0C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B2C1-C7BC-4864-B407-5AB7CE81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6B29-13F5-44C7-A1C0-42255E90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6EC4-4B29-40ED-8844-698E2384CFC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DD46-D9B5-4D2B-BF99-843EA3CDDC3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0" y="-1584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矩形 5"/>
          <p:cNvSpPr/>
          <p:nvPr/>
        </p:nvSpPr>
        <p:spPr>
          <a:xfrm>
            <a:off x="2743200" y="1628640"/>
            <a:ext cx="361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特粗光辉简体"/>
                <a:ea typeface="方正特粗光辉简体"/>
              </a:rPr>
              <a:t>爱情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2A3C-C259-47AB-B648-215B0242A7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1"/>
          <p:cNvSpPr/>
          <p:nvPr/>
        </p:nvSpPr>
        <p:spPr>
          <a:xfrm>
            <a:off x="2857320" y="1917720"/>
            <a:ext cx="338148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特粗光辉简体"/>
                <a:ea typeface="方正特粗光辉简体"/>
              </a:rPr>
              <a:t>谢谢观看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3T04:44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20T03:47:42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