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990-66B6-43B3-B660-7D34D39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686-69ED-451E-90FA-9FB5572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609-28BE-479F-BBDB-441DA4BC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3C6-4188-4204-B271-510C2B69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54F-E513-46C3-850A-69ECB38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BC8-3134-4EA4-8187-8E97D23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2DA-F5DD-4CA0-A863-73C6658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D08-65CE-4093-9330-6A22EAC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281-5311-4662-A22B-D514C23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2B9-3AF5-490F-BD49-AF6B826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737-A690-43BB-AAE8-35FD3FE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73B-8D58-4AEF-9CA5-469E365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419-AEE6-4774-BC1A-69912C2D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BA%FA%CA%CA&amp;in=5132&amp;cl=2&amp;lm=-1&amp;pn=7&amp;rn=1&amp;di=47638957410&amp;ln=2000&amp;fr=&amp;fmq=&amp;ic=0&amp;s=0&amp;se=1&amp;sme=0&amp;tab=&amp;width=&amp;height=&amp;face=0&amp;is=&amp;istype=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730080"/>
            <a:ext cx="65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师大版语文六年级下册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3000" y="25909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毕业赠言在线下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毕业2"/>
          <p:cNvPicPr/>
          <p:nvPr/>
        </p:nvPicPr>
        <p:blipFill>
          <a:blip r:embed="rId2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毕业3"/>
          <p:cNvPicPr/>
          <p:nvPr/>
        </p:nvPicPr>
        <p:blipFill>
          <a:blip r:embed="rId2"/>
          <a:stretch/>
        </p:blipFill>
        <p:spPr>
          <a:xfrm>
            <a:off x="457200" y="3049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4" descr="u=2642079106,2997144185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0" y="0"/>
            <a:ext cx="49035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952880" y="1066680"/>
            <a:ext cx="320040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胡适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891———196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，原名马洪骍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ing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字适之，安徽绩溪人。学者、作家。主要著作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国哲 学史大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上） 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尝试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白话文学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胡适文存（四集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990720" y="20574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用自己喜欢的方式读课文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这篇演讲的中心是什么？是分哪几部讲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295280" y="533520"/>
            <a:ext cx="3124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读提示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60A-E9F2-480D-A19B-9BCFFBFAF0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读一读"/>
          <p:cNvPicPr/>
          <p:nvPr/>
        </p:nvPicPr>
        <p:blipFill>
          <a:blip r:embed="rId2"/>
          <a:stretch/>
        </p:blipFill>
        <p:spPr>
          <a:xfrm>
            <a:off x="1447920" y="0"/>
            <a:ext cx="20253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600200" y="28195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撙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衣节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抛弃        一去不复返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年富力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600200" y="2286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ài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ǔ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676520" y="762120"/>
            <a:ext cx="5181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篇演讲的主题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要抛弃学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00200" y="2590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文是分   部分讲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371600" y="3352680"/>
            <a:ext cx="7620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、是提出赠言：不要抛弃学问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是论说学问的重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、告诫学生们要创造条件做学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抓紧要时间坚持做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是表达希望和祝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004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阅读质疑"/>
          <p:cNvPicPr/>
          <p:nvPr/>
        </p:nvPicPr>
        <p:blipFill>
          <a:blip r:embed="rId2"/>
          <a:stretch/>
        </p:blipFill>
        <p:spPr>
          <a:xfrm>
            <a:off x="1066680" y="228600"/>
            <a:ext cx="2438640" cy="134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600200" y="1676520"/>
            <a:ext cx="44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什么不要抛弃学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523880" y="2514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少年一去不复返，等到精力衰减时，要做学问就来不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三五年不学习，就会被后来者淘汰，到时再补救就来不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怎样做学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600200" y="52578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主动创造条件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抓紧时间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阅读质疑"/>
          <p:cNvPicPr/>
          <p:nvPr/>
        </p:nvPicPr>
        <p:blipFill>
          <a:blip r:embed="rId2"/>
          <a:stretch/>
        </p:blipFill>
        <p:spPr>
          <a:xfrm>
            <a:off x="1066680" y="609480"/>
            <a:ext cx="2438640" cy="1346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143000" y="220968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达尔文的例子为了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676520" y="3246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例子告诉我们时间是靠挤出来的。作者用此例告诫同学们要珍惜时间做学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细读感悟"/>
          <p:cNvPicPr/>
          <p:nvPr/>
        </p:nvPicPr>
        <p:blipFill>
          <a:blip r:embed="rId2"/>
          <a:stretch/>
        </p:blipFill>
        <p:spPr>
          <a:xfrm>
            <a:off x="1371600" y="228600"/>
            <a:ext cx="251460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914400" y="19810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易卜生说：“你的最大责任是把你这块材料铸造成器。”学问便是铸造的工具，抛弃了学问便是毁了你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里用易卜生的一句话来告诉我们要想成才，就必须不抛弃学问，不然的话就是毁了自己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676520" y="6858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说教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28800" y="1905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说课的内容是西师大小学六年级语文下册第七单元的第四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业赠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临近毕业，同学们有许多话要对同学、老师、母校说。”毕业赠言“为大家提供了一次表达情感、交流思想的机会；一个展示个性、展示感情的平台，。本文是胡适先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在中国公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级毕业典礼上的讲演。它语言精练、生动、形象，富有时代感，饱含感情，给人以启迪。这篇文章演讲的中心话题是：不要抛弃学问。全文思路清晰，行文流畅，层次分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3"/>
          <p:cNvSpPr txBox="1"/>
          <p:nvPr/>
        </p:nvSpPr>
        <p:spPr>
          <a:xfrm>
            <a:off x="1143000" y="38088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合作交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19320" y="14479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了课文之后，我受到很大启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295280" y="24382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—   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066680" y="3581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—     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143000" y="4876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12960" y="236232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无论什么时候，什么境遇都不要放弃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90512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习要趁年轻，珍惜时间，多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828800" y="472428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热爱学习，终生不要抛弃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676520" y="258120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即将毕业了，你们有什么要对母校、老师、同学说的吗？请自由发表见解！也可以动笔写下来送给老师和同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600200" y="38088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小练笔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 rot="185400">
            <a:off x="988920" y="320760"/>
            <a:ext cx="2743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74000"/>
                </a:gradFill>
                <a:latin typeface="宋体"/>
              </a:rPr>
              <a:t>作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74000"/>
              </a:gradFill>
              <a:latin typeface="宋体"/>
              <a:ea typeface="宋体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09680" y="2743200"/>
            <a:ext cx="5181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最喜欢的同学、老师写赠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600200" y="76212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00680" y="2203560"/>
            <a:ext cx="22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8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毕业赠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612960" y="30877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抛弃学问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146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02920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造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600200" y="5335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学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71600" y="1600200"/>
            <a:ext cx="67816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六年级学生已经掌握了一些学习语文的好方法，也具备了一定的阅读、分析、理解能力，这节课中，我主要通过学生读一读、想一想、议一议、说一说等教学活动，调动学生积极思维，把课堂归还给学生，让学生做课堂的主人，相信学生一定能在老师的启发引导下，学好本篇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3880" y="3747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52480" y="1676520"/>
            <a:ext cx="632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课文，谈谈自己受到的启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正确、流利、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写毕业赠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3880" y="246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、难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95280" y="17128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在阅读中感悟“不要抛弃学问”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发学生热爱学习，终生不要抛弃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00200" y="1066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1981080"/>
            <a:ext cx="3558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赏析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探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447920" y="762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教学流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676520" y="1905120"/>
            <a:ext cx="427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谈话，揭示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读，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，读中解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总结，拓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布置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2971800" y="2438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毕业"/>
          <p:cNvPicPr/>
          <p:nvPr/>
        </p:nvPicPr>
        <p:blipFill>
          <a:blip r:embed="rId2"/>
          <a:stretch/>
        </p:blipFill>
        <p:spPr>
          <a:xfrm>
            <a:off x="2057400" y="1523880"/>
            <a:ext cx="4648320" cy="341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创设情境"/>
          <p:cNvPicPr/>
          <p:nvPr/>
        </p:nvPicPr>
        <p:blipFill>
          <a:blip r:embed="rId3"/>
          <a:stretch/>
        </p:blipFill>
        <p:spPr>
          <a:xfrm>
            <a:off x="457200" y="228600"/>
            <a:ext cx="2835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98_200807042048372"/>
          <p:cNvPicPr/>
          <p:nvPr/>
        </p:nvPicPr>
        <p:blipFill>
          <a:blip r:embed="rId2"/>
          <a:stretch/>
        </p:blipFill>
        <p:spPr>
          <a:xfrm>
            <a:off x="1523880" y="1219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35:2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