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0528-7B4D-4FC7-8C5E-70117A9DD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F9356-87BE-44AE-9653-111F5065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B6A79-8C38-4761-A348-1A971B72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723A8D-A5F5-4CA1-AD25-117B38C2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0ECF6A-EB2F-43A2-8748-6DC97200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372BEC-B25B-4F00-B8E8-E2B2C8C9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D0224A-2510-4D50-95F5-92F90568E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460D2B-A375-4C78-96E3-E06A4257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ACAB4A-6559-4A81-A8D9-C9E45B85F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D4BFFC-1804-4A40-8501-18C1C5EF1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60401A-E58F-481D-A9AF-6FC169C49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3B1C58-5ABD-47CF-9E37-DCFA36CF1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3ACE-6A34-4347-9D73-12E5CBCB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BA980-1E92-4D64-9C0C-68C30B3BA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F10A9-BC18-42D4-A093-D805A1CA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6CFDE-9B1E-4D48-8ADF-C213EF5B2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BA82EE-CBB9-4164-B206-30A4BBFF4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2F4D8A-DED8-4444-A25F-A4862280D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C23AB7-82F2-4DA7-B6F5-B17654A83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E06530-73E3-43CC-8AF2-81152D0A9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9B958F-D798-418D-B42C-CCF8F7362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CF9B74-CC85-4A36-A843-4307CCFF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0CA0BA-9081-4C2D-BF2E-1D7A5ED94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60AD3-2F24-4515-B811-73752909F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820B85-6C32-478F-BCF2-3E80D853B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142107-B716-4C67-817D-47A55EFB3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6AC2E5-D381-4463-A07D-BEA6D477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6950AC-EF37-4F34-8B21-37720C67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543E5-637A-42E6-8D38-ECA2AB50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2F37DC-4FDF-4E4A-B0E3-D3C63A2DB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A2BB02-1904-4C0F-9FE2-5BAA352E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B06021-E88B-42B1-995B-2AE6907C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D41DD-C45F-4BB1-890B-C1116B92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E517B1-3401-488F-B619-8851511C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50B69-3982-40FB-9143-5CA143D49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69015D-34C6-48D3-AB24-CC9947D1C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B603C3-9403-4A21-BD2C-53C3DABFD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6B4BD-E8F0-47EA-A5D0-7A3722F61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D2FAF2-2659-44BC-9A73-2B9B7C00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D9D58D-5BBF-46C4-93B4-E6A94CB17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EF284C3-970E-4377-B84C-38945AD7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BE9899-10E5-4B34-A5FF-943AD13C5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BF086-0997-4F72-8250-A0BA65F0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7E75A6-E566-49D2-99DC-35E24F20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5E427A-BECA-4345-AFF4-BBAB311A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6438C-B24D-4027-BB07-C71A67A2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76376-874E-4120-B74E-BDFAFE20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66DE12-9965-478B-9995-1ACE69ED5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92EF2F-62E9-4DF7-8B01-D8ED161E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1E51B9-CAA3-4E7E-BDD8-7D0CBD62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FE82AE-A269-498A-B626-3AF7C949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DBD132-AD9C-4984-A806-75D803410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D7349F-A94E-4F18-B3F9-3121337B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116D23-E028-40FF-AC95-337840FBB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0020AF-2BC8-41C3-8AFC-7920BE345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695FCF-D881-41FA-84A3-94CA808F5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7CCCD-C2FA-4C75-BA0A-5BF9F0075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C5CA47-5ACD-41AE-97B1-0845EBF2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A63C49-DFB4-40B1-8C0D-94906AF6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A7D220-23D9-47BC-B0A1-C54C2599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EC0E18-D0C8-4C02-8F38-3184A147D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B928C9-70BA-46EB-A158-669778E8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C75CA8-C68F-4BAB-89E6-8A168130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A63FFB-AA96-4868-833C-A65C4082F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2A026-B1F7-4374-86BC-49AA9C44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53D86-DF62-4528-A83F-AE981C437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CC899-E714-4C60-B5FE-8BDF479B2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04BC8-D84C-4367-B16B-6E1F6DFE6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8FE41-F178-4A51-BCC4-6AA4627EF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8222-D32A-427F-8D6B-6EFE7E8F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03E7-C058-4C36-9888-F8C45ECD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EEEAF-EF22-4E25-BD3B-BAFF8566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B1DD4-819B-446B-BBF9-387614865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3CAFD-E732-44D0-8E30-9CFB02AC3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8B950-E23B-467F-81CE-1D6F5CC2D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0287A-A22E-4996-873B-888FA325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A61F6-EE40-43C6-A971-6536903CC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84871E-BD6C-4E34-BC34-D0D1033A3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6CEAD2-2788-47DB-A49A-D367BECE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EA83-8A42-4E52-9A26-DCAD28CF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5D234F-282B-42C0-BE29-C1322131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C2EFC-D929-4C02-BE45-F171DE3A0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83BD62-2DBF-4F8A-8699-2811EFF4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CD394-67CA-4195-9625-63B441FED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20CE1-C1C1-4311-AF0D-F1FCFFB9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65514-B410-4BFD-9CED-A29306599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BF817E-8D3C-469F-A758-47C19ADA9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3FF939-4F40-4EFE-9DD0-9C1299A0A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2002AF-27ED-4F28-8A3C-7411008F9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B64DC2-37A1-46A9-A725-8EFAD5F64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E19-0706-4BCC-A762-9505325FF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83CED-D9D4-4DCA-BFF6-7FC378FA5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99D58-DE97-4FD0-AC94-B18749858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0D272D-9B51-4EE3-8330-D801C75E4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9898B-EFF5-4F94-AE0C-05360C8B0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B25421-C7F0-4E4E-9606-09E6F1450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608FF6-4FD3-4418-8CB1-CDD13F87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A1CFC-9A0B-4687-9763-F5BE261E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A4F74-077D-4C8D-B003-AC383924F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F5D878-019B-42EB-8F9D-F049C2591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BD73E4-FA14-447F-AF67-5AC428FD0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8EF9-F7FD-4B2F-AA8A-6E4133D80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31C37-9678-4773-9F2A-28A1670E1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885B1-AB21-47F3-8E7D-F0EB01C03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1F189-DC81-4391-8ACB-A00DDB4FA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9ED7E-A07E-4E54-BAB1-B24009D98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07064-A9BB-4211-B42A-5EEE09C2F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FA41F9-734D-4971-BF92-1E623E09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0B43D-355A-448A-8BB1-680F9CA33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3A8206-F6A7-4D6D-9CD9-9901AFF5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BF1A8F-15F6-4328-B6A2-A5F12996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3A6A4-6058-40F8-97F7-823264D7D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B08F-8421-4E0D-882F-2AF0AF150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76CA7-E4F5-453A-B9A2-6CC990633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B210C-E0C4-406A-B26F-4715FD255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ABB753-3302-4119-BC03-567A5BFC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9BE6A-A0AC-4412-9654-46639D2E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79E97-C672-476B-9872-A0A9E19D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79E0EC-F268-410D-989C-BEEE03313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E64C85-8F59-4359-9823-C5FB2FA3F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EFA9F6-C2E4-453B-A1E9-0E22ECBA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10D733-B3E7-48D9-94D0-7DDD73E0A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03299A-959C-43ED-9E6D-9F95439A7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74DC-836F-4C85-96BD-33D738A6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8CDCC-88CA-429C-84F3-B5E176240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E65402-AAF9-4109-98F5-DF8BF2963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DE8A97-8B54-4C86-96E3-DD46377C2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8F543F-2222-4096-AE8E-D12F55D1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E1D61E-930B-401C-9F93-607EC7E4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FDA8B8-4A7D-48BE-BE35-0079C3D65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EA31CA-87D4-43FE-B3B8-FF02EBC55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B4C71-3D45-4680-A9F9-A3B5A7E7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D8BB06-F1D2-43DA-B3AA-4505AB1A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419969-89AA-48A7-91D0-F86DDEC5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A41A-00B8-40C1-881C-D4B923809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29C964-51D3-4C7E-9952-C5A1EA2B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E1B236-D8A9-4683-8F4E-E04CC534D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B2B5B-C093-4C1C-90B3-2DE9850E1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CBA153-59FD-4258-B3F9-67DAA8316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639DB9-23E4-4EC6-B092-CCF815A3E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74C6AA-CDCB-4746-A77B-A7261C5C2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00CAE-6DCD-4DBC-ABF4-D0C661C4D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53A9CF-5B93-490B-A3C7-1FBE495B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6DD8F9-975B-449F-BC39-F0522AD24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5CD33C-D21F-4DCA-84D3-30DC2ECBE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7709-CCFB-4F8B-9217-6B69E36E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B9C756-71A3-45EF-8D49-30D93582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CBB5A1-17DF-4E33-869C-A82E3DE8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BFAB10-D493-4BF5-8008-6C9F8F28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261740-6F15-46BD-AA51-66225B851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F5C965-B359-408F-8811-0D7FEF152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F35F5-54F7-41DB-850A-65EFF8C18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AC095F-1F9D-41BF-92E1-97096865B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4D0E7-C3D6-4839-9F33-E73CC223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EF9B77-C5F5-48B8-AA21-4EBEA197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42B75C-847D-4075-AFB8-FC4178B8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C21FF-B7E9-4333-B0FC-2D7A5165C054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D4A5C-D71F-450B-A456-48B2B7CCD8B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8968C-EBC4-49A6-9204-81E5D4F588C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EDCF7-C0CE-48EA-A9D1-CBBB638B19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A3DD-A4E6-49D7-98F4-42B8D129B9E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EB0B1-6D85-4087-9077-D927C9E631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C4014-E2DC-437B-BC9F-9F59C28C0E7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2465B-59B3-4B7B-8570-2F3D7FD0C1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93DD-779D-4738-976B-B426888DCF7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C2AAC-E95F-4416-8F9D-BAD2BF3567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4DFF-811B-4BC3-A078-8693D1CF7412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42C7C-79F2-4877-8B8D-420867B5BA0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2BEA-3C8F-4892-BE5C-CD574431DED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FF12-E426-4C58-A8A4-A5EDC9030A9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8D4F4-D8F5-4FC3-9439-21F35264C5E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EF14-1EDE-441C-889D-4E414834B53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80E1-E895-47D9-8650-C90E823C2FCA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F2DBA-A37C-4720-9B0A-56653363DCF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0B3C8-EC7A-46A2-B384-992E40C0888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54490-6DFE-4386-A46A-4DDD603F06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30E7-109E-4F3E-AAA7-C14A711566EF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C6420-3FEE-40A8-B4EE-3C5439B2EA9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1202-796E-43F1-A10E-2F8D4E50693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06EB3-C55A-4F3F-8969-0474F5836F8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A72C2-3E9B-43F1-BE6B-9C6F4FD7589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0816-5353-498B-943F-C730636E5F4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直接连接符 6"/>
          <p:cNvSpPr/>
          <p:nvPr/>
        </p:nvSpPr>
        <p:spPr>
          <a:xfrm>
            <a:off x="5357880" y="51246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Text Box 5"/>
          <p:cNvSpPr/>
          <p:nvPr/>
        </p:nvSpPr>
        <p:spPr>
          <a:xfrm>
            <a:off x="0" y="6512040"/>
            <a:ext cx="449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1"/>
          <p:cNvSpPr/>
          <p:nvPr/>
        </p:nvSpPr>
        <p:spPr>
          <a:xfrm>
            <a:off x="2585880" y="9810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春姑娘唯美清新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图片 47" descr="1.png"/>
          <p:cNvPicPr/>
          <p:nvPr/>
        </p:nvPicPr>
        <p:blipFill>
          <a:blip r:embed="rId2"/>
          <a:stretch/>
        </p:blipFill>
        <p:spPr>
          <a:xfrm>
            <a:off x="4643280" y="2143080"/>
            <a:ext cx="2216160" cy="1079640"/>
          </a:xfrm>
          <a:prstGeom prst="rect">
            <a:avLst/>
          </a:prstGeom>
          <a:ln w="0">
            <a:noFill/>
          </a:ln>
        </p:spPr>
      </p:pic>
      <p:pic>
        <p:nvPicPr>
          <p:cNvPr id="537" name="图片 48" descr="2.png"/>
          <p:cNvPicPr/>
          <p:nvPr/>
        </p:nvPicPr>
        <p:blipFill>
          <a:blip r:embed="rId3"/>
          <a:stretch/>
        </p:blipFill>
        <p:spPr>
          <a:xfrm>
            <a:off x="6546960" y="1714680"/>
            <a:ext cx="2181240" cy="114912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9" descr="1.png"/>
          <p:cNvPicPr/>
          <p:nvPr/>
        </p:nvPicPr>
        <p:blipFill>
          <a:blip r:embed="rId4"/>
          <a:stretch/>
        </p:blipFill>
        <p:spPr>
          <a:xfrm>
            <a:off x="712800" y="2857680"/>
            <a:ext cx="2216160" cy="1079280"/>
          </a:xfrm>
          <a:prstGeom prst="rect">
            <a:avLst/>
          </a:prstGeom>
          <a:ln w="0">
            <a:noFill/>
          </a:ln>
        </p:spPr>
      </p:pic>
      <p:pic>
        <p:nvPicPr>
          <p:cNvPr id="539" name="图片 50" descr="2.png"/>
          <p:cNvPicPr/>
          <p:nvPr/>
        </p:nvPicPr>
        <p:blipFill>
          <a:blip r:embed="rId5"/>
          <a:stretch/>
        </p:blipFill>
        <p:spPr>
          <a:xfrm>
            <a:off x="2571840" y="2500200"/>
            <a:ext cx="2181240" cy="1149480"/>
          </a:xfrm>
          <a:prstGeom prst="rect">
            <a:avLst/>
          </a:prstGeom>
          <a:ln w="0">
            <a:noFill/>
          </a:ln>
        </p:spPr>
      </p:pic>
      <p:sp>
        <p:nvSpPr>
          <p:cNvPr id="5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2"/>
          <p:cNvSpPr/>
          <p:nvPr/>
        </p:nvSpPr>
        <p:spPr>
          <a:xfrm>
            <a:off x="500040" y="50004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矩形 20"/>
          <p:cNvSpPr/>
          <p:nvPr/>
        </p:nvSpPr>
        <p:spPr>
          <a:xfrm flipH="1">
            <a:off x="999360" y="321480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矩形 21"/>
          <p:cNvSpPr/>
          <p:nvPr/>
        </p:nvSpPr>
        <p:spPr>
          <a:xfrm>
            <a:off x="4786200" y="257184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矩形 29"/>
          <p:cNvSpPr/>
          <p:nvPr/>
        </p:nvSpPr>
        <p:spPr>
          <a:xfrm>
            <a:off x="2928960" y="292896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矩形 42"/>
          <p:cNvSpPr/>
          <p:nvPr/>
        </p:nvSpPr>
        <p:spPr>
          <a:xfrm>
            <a:off x="72838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图片 51" descr="1.png"/>
          <p:cNvPicPr/>
          <p:nvPr/>
        </p:nvPicPr>
        <p:blipFill>
          <a:blip r:embed="rId2"/>
          <a:stretch/>
        </p:blipFill>
        <p:spPr>
          <a:xfrm>
            <a:off x="2058840" y="2214720"/>
            <a:ext cx="6513840" cy="3187440"/>
          </a:xfrm>
          <a:prstGeom prst="rect">
            <a:avLst/>
          </a:prstGeom>
          <a:ln w="0">
            <a:noFill/>
          </a:ln>
        </p:spPr>
      </p:pic>
      <p:pic>
        <p:nvPicPr>
          <p:cNvPr id="550" name="图片 52" descr="2.png"/>
          <p:cNvPicPr/>
          <p:nvPr/>
        </p:nvPicPr>
        <p:blipFill>
          <a:blip r:embed="rId3"/>
          <a:stretch/>
        </p:blipFill>
        <p:spPr>
          <a:xfrm>
            <a:off x="1928880" y="1928880"/>
            <a:ext cx="5994360" cy="3200400"/>
          </a:xfrm>
          <a:prstGeom prst="rect">
            <a:avLst/>
          </a:prstGeom>
          <a:ln w="0">
            <a:noFill/>
          </a:ln>
        </p:spPr>
      </p:pic>
      <p:sp>
        <p:nvSpPr>
          <p:cNvPr id="55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矩形 14"/>
          <p:cNvSpPr/>
          <p:nvPr/>
        </p:nvSpPr>
        <p:spPr>
          <a:xfrm>
            <a:off x="328356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矩形 15"/>
          <p:cNvSpPr/>
          <p:nvPr/>
        </p:nvSpPr>
        <p:spPr>
          <a:xfrm>
            <a:off x="65696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矩形 49"/>
          <p:cNvSpPr/>
          <p:nvPr/>
        </p:nvSpPr>
        <p:spPr>
          <a:xfrm>
            <a:off x="1926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矩形 50"/>
          <p:cNvSpPr/>
          <p:nvPr/>
        </p:nvSpPr>
        <p:spPr>
          <a:xfrm>
            <a:off x="642672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图片 42" descr="1.png"/>
          <p:cNvPicPr/>
          <p:nvPr/>
        </p:nvPicPr>
        <p:blipFill>
          <a:blip r:embed="rId2"/>
          <a:stretch/>
        </p:blipFill>
        <p:spPr>
          <a:xfrm>
            <a:off x="2071800" y="1285920"/>
            <a:ext cx="3035160" cy="1892160"/>
          </a:xfrm>
          <a:prstGeom prst="rect">
            <a:avLst/>
          </a:prstGeom>
          <a:ln w="0">
            <a:noFill/>
          </a:ln>
        </p:spPr>
      </p:pic>
      <p:pic>
        <p:nvPicPr>
          <p:cNvPr id="561" name="图片 43" descr="1.png"/>
          <p:cNvPicPr/>
          <p:nvPr/>
        </p:nvPicPr>
        <p:blipFill>
          <a:blip r:embed="rId3"/>
          <a:stretch/>
        </p:blipFill>
        <p:spPr>
          <a:xfrm>
            <a:off x="5037120" y="1393920"/>
            <a:ext cx="3035160" cy="1892160"/>
          </a:xfrm>
          <a:prstGeom prst="rect">
            <a:avLst/>
          </a:prstGeom>
          <a:ln w="0">
            <a:noFill/>
          </a:ln>
        </p:spPr>
      </p:pic>
      <p:pic>
        <p:nvPicPr>
          <p:cNvPr id="562" name="图片 44" descr="1.png"/>
          <p:cNvPicPr/>
          <p:nvPr/>
        </p:nvPicPr>
        <p:blipFill>
          <a:blip r:embed="rId4"/>
          <a:stretch/>
        </p:blipFill>
        <p:spPr>
          <a:xfrm>
            <a:off x="2143080" y="3251160"/>
            <a:ext cx="3035520" cy="1892520"/>
          </a:xfrm>
          <a:prstGeom prst="rect">
            <a:avLst/>
          </a:prstGeom>
          <a:ln w="0">
            <a:noFill/>
          </a:ln>
        </p:spPr>
      </p:pic>
      <p:pic>
        <p:nvPicPr>
          <p:cNvPr id="563" name="图片 45" descr="1.png"/>
          <p:cNvPicPr/>
          <p:nvPr/>
        </p:nvPicPr>
        <p:blipFill>
          <a:blip r:embed="rId5"/>
          <a:stretch/>
        </p:blipFill>
        <p:spPr>
          <a:xfrm>
            <a:off x="5180040" y="3251160"/>
            <a:ext cx="3035160" cy="1892520"/>
          </a:xfrm>
          <a:prstGeom prst="rect">
            <a:avLst/>
          </a:prstGeom>
          <a:ln w="0">
            <a:noFill/>
          </a:ln>
        </p:spPr>
      </p:pic>
      <p:sp>
        <p:nvSpPr>
          <p:cNvPr id="5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矩形 10"/>
          <p:cNvSpPr/>
          <p:nvPr/>
        </p:nvSpPr>
        <p:spPr>
          <a:xfrm>
            <a:off x="3069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矩形 11"/>
          <p:cNvSpPr/>
          <p:nvPr/>
        </p:nvSpPr>
        <p:spPr>
          <a:xfrm>
            <a:off x="314064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矩形 46"/>
          <p:cNvSpPr/>
          <p:nvPr/>
        </p:nvSpPr>
        <p:spPr>
          <a:xfrm>
            <a:off x="614088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矩形 47"/>
          <p:cNvSpPr/>
          <p:nvPr/>
        </p:nvSpPr>
        <p:spPr>
          <a:xfrm>
            <a:off x="62125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5"/>
          <p:cNvSpPr/>
          <p:nvPr/>
        </p:nvSpPr>
        <p:spPr>
          <a:xfrm>
            <a:off x="34920" y="616572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图片 44" descr="1.png"/>
          <p:cNvPicPr/>
          <p:nvPr/>
        </p:nvPicPr>
        <p:blipFill>
          <a:blip r:embed="rId2"/>
          <a:stretch/>
        </p:blipFill>
        <p:spPr>
          <a:xfrm>
            <a:off x="3071880" y="1654200"/>
            <a:ext cx="2733480" cy="3603600"/>
          </a:xfrm>
          <a:prstGeom prst="rect">
            <a:avLst/>
          </a:prstGeom>
          <a:ln w="0">
            <a:noFill/>
          </a:ln>
        </p:spPr>
      </p:pic>
      <p:pic>
        <p:nvPicPr>
          <p:cNvPr id="578" name="图片 45" descr="2.png"/>
          <p:cNvPicPr/>
          <p:nvPr/>
        </p:nvPicPr>
        <p:blipFill>
          <a:blip r:embed="rId3"/>
          <a:stretch/>
        </p:blipFill>
        <p:spPr>
          <a:xfrm>
            <a:off x="5592600" y="3238560"/>
            <a:ext cx="546120" cy="762120"/>
          </a:xfrm>
          <a:prstGeom prst="rect">
            <a:avLst/>
          </a:prstGeom>
          <a:ln w="0">
            <a:noFill/>
          </a:ln>
        </p:spPr>
      </p:pic>
      <p:pic>
        <p:nvPicPr>
          <p:cNvPr id="579" name="图片 46" descr="3.png"/>
          <p:cNvPicPr/>
          <p:nvPr/>
        </p:nvPicPr>
        <p:blipFill>
          <a:blip r:embed="rId4"/>
          <a:stretch/>
        </p:blipFill>
        <p:spPr>
          <a:xfrm>
            <a:off x="6093000" y="1919160"/>
            <a:ext cx="2401560" cy="3367080"/>
          </a:xfrm>
          <a:prstGeom prst="rect">
            <a:avLst/>
          </a:prstGeom>
          <a:ln w="0">
            <a:noFill/>
          </a:ln>
        </p:spPr>
      </p:pic>
      <p:pic>
        <p:nvPicPr>
          <p:cNvPr id="580" name="图片 47" descr="1.png"/>
          <p:cNvPicPr/>
          <p:nvPr/>
        </p:nvPicPr>
        <p:blipFill>
          <a:blip r:embed="rId5"/>
          <a:stretch/>
        </p:blipFill>
        <p:spPr>
          <a:xfrm>
            <a:off x="714240" y="1654200"/>
            <a:ext cx="2735280" cy="3603600"/>
          </a:xfrm>
          <a:prstGeom prst="rect">
            <a:avLst/>
          </a:prstGeom>
          <a:ln w="0">
            <a:noFill/>
          </a:ln>
        </p:spPr>
      </p:pic>
      <p:sp>
        <p:nvSpPr>
          <p:cNvPr id="58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矩形 26"/>
          <p:cNvSpPr/>
          <p:nvPr/>
        </p:nvSpPr>
        <p:spPr>
          <a:xfrm>
            <a:off x="67838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矩形 38"/>
          <p:cNvSpPr/>
          <p:nvPr/>
        </p:nvSpPr>
        <p:spPr>
          <a:xfrm>
            <a:off x="399780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矩形 39"/>
          <p:cNvSpPr/>
          <p:nvPr/>
        </p:nvSpPr>
        <p:spPr>
          <a:xfrm>
            <a:off x="1640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图片 39" descr="2.png"/>
          <p:cNvPicPr/>
          <p:nvPr/>
        </p:nvPicPr>
        <p:blipFill>
          <a:blip r:embed="rId2"/>
          <a:stretch/>
        </p:blipFill>
        <p:spPr>
          <a:xfrm>
            <a:off x="3605040" y="2165400"/>
            <a:ext cx="2444760" cy="2265480"/>
          </a:xfrm>
          <a:prstGeom prst="rect">
            <a:avLst/>
          </a:prstGeom>
          <a:ln w="0">
            <a:noFill/>
          </a:ln>
        </p:spPr>
      </p:pic>
      <p:pic>
        <p:nvPicPr>
          <p:cNvPr id="590" name="图片 38" descr="1.png"/>
          <p:cNvPicPr/>
          <p:nvPr/>
        </p:nvPicPr>
        <p:blipFill>
          <a:blip r:embed="rId3"/>
          <a:stretch/>
        </p:blipFill>
        <p:spPr>
          <a:xfrm>
            <a:off x="2281320" y="642960"/>
            <a:ext cx="5219640" cy="5473800"/>
          </a:xfrm>
          <a:prstGeom prst="rect">
            <a:avLst/>
          </a:prstGeom>
          <a:ln w="0">
            <a:noFill/>
          </a:ln>
        </p:spPr>
      </p:pic>
      <p:sp>
        <p:nvSpPr>
          <p:cNvPr id="59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矩形 6"/>
          <p:cNvSpPr/>
          <p:nvPr/>
        </p:nvSpPr>
        <p:spPr>
          <a:xfrm>
            <a:off x="59112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矩形 13"/>
          <p:cNvSpPr/>
          <p:nvPr/>
        </p:nvSpPr>
        <p:spPr>
          <a:xfrm>
            <a:off x="421200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14"/>
          <p:cNvSpPr/>
          <p:nvPr/>
        </p:nvSpPr>
        <p:spPr>
          <a:xfrm>
            <a:off x="22118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31"/>
          <p:cNvSpPr/>
          <p:nvPr/>
        </p:nvSpPr>
        <p:spPr>
          <a:xfrm>
            <a:off x="614088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矩形 40"/>
          <p:cNvSpPr/>
          <p:nvPr/>
        </p:nvSpPr>
        <p:spPr>
          <a:xfrm>
            <a:off x="421200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图片 41" descr="1.png"/>
          <p:cNvPicPr/>
          <p:nvPr/>
        </p:nvPicPr>
        <p:blipFill>
          <a:blip r:embed="rId2"/>
          <a:stretch/>
        </p:blipFill>
        <p:spPr>
          <a:xfrm>
            <a:off x="2603520" y="1015920"/>
            <a:ext cx="4826160" cy="4826160"/>
          </a:xfrm>
          <a:prstGeom prst="rect">
            <a:avLst/>
          </a:prstGeom>
          <a:ln w="0">
            <a:noFill/>
          </a:ln>
        </p:spPr>
      </p:pic>
      <p:pic>
        <p:nvPicPr>
          <p:cNvPr id="601" name="图片 42" descr="2.png"/>
          <p:cNvPicPr/>
          <p:nvPr/>
        </p:nvPicPr>
        <p:blipFill>
          <a:blip r:embed="rId3"/>
          <a:stretch/>
        </p:blipFill>
        <p:spPr>
          <a:xfrm>
            <a:off x="2830680" y="1177920"/>
            <a:ext cx="4241520" cy="4394160"/>
          </a:xfrm>
          <a:prstGeom prst="rect">
            <a:avLst/>
          </a:prstGeom>
          <a:ln w="0">
            <a:noFill/>
          </a:ln>
        </p:spPr>
      </p:pic>
      <p:sp>
        <p:nvSpPr>
          <p:cNvPr id="60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6"/>
          <p:cNvSpPr/>
          <p:nvPr/>
        </p:nvSpPr>
        <p:spPr>
          <a:xfrm>
            <a:off x="57888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矩形 12"/>
          <p:cNvSpPr/>
          <p:nvPr/>
        </p:nvSpPr>
        <p:spPr>
          <a:xfrm>
            <a:off x="335484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13"/>
          <p:cNvSpPr/>
          <p:nvPr/>
        </p:nvSpPr>
        <p:spPr>
          <a:xfrm>
            <a:off x="285480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17"/>
          <p:cNvSpPr/>
          <p:nvPr/>
        </p:nvSpPr>
        <p:spPr>
          <a:xfrm>
            <a:off x="599796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43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3"/>
          <p:cNvSpPr/>
          <p:nvPr/>
        </p:nvSpPr>
        <p:spPr>
          <a:xfrm>
            <a:off x="1187280" y="6237360"/>
            <a:ext cx="676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之家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42:2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