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7087-3DD6-45C1-A498-0AB29731A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B26E-092C-49EB-8DF9-BE063006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FF54-3EFA-4B65-83A4-71275B794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901F-436C-4EFA-B9AB-ABAAB133B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0E30-177C-4D87-9083-57B28864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471E-8128-4628-BC72-F4CCAAD4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F459-76AC-4E7C-B1AB-233DCD98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3B80-8E9F-46E9-8948-BC77DDE4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E452-4A92-48B9-83C4-BABBCA89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8174-9F44-4FF5-B834-1A5E30FA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FE89-6132-4F67-84C3-C065A10E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8692-4156-42B8-BF54-49CBB9E4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3BCC-EA7A-4080-943F-0DA160EB78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2.png"/><Relationship Id="rId41" Type="http://schemas.openxmlformats.org/officeDocument/2006/relationships/image" Target="../media/image3.wmf"/><Relationship Id="rId42" Type="http://schemas.openxmlformats.org/officeDocument/2006/relationships/image" Target="../media/image4.wmf"/><Relationship Id="rId43" Type="http://schemas.openxmlformats.org/officeDocument/2006/relationships/image" Target="../media/image4.wmf"/><Relationship Id="rId44" Type="http://schemas.openxmlformats.org/officeDocument/2006/relationships/image" Target="../media/image4.wmf"/><Relationship Id="rId45" Type="http://schemas.openxmlformats.org/officeDocument/2006/relationships/image" Target="../media/image1.png"/><Relationship Id="rId46" Type="http://schemas.openxmlformats.org/officeDocument/2006/relationships/image" Target="../media/image1.png"/><Relationship Id="rId47" Type="http://schemas.openxmlformats.org/officeDocument/2006/relationships/image" Target="../media/image1.png"/><Relationship Id="rId4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4319640" y="3141720"/>
            <a:ext cx="1799640" cy="1457280"/>
            <a:chOff x="4319640" y="3141720"/>
            <a:chExt cx="1799640" cy="1457280"/>
          </a:xfrm>
        </p:grpSpPr>
        <p:sp>
          <p:nvSpPr>
            <p:cNvPr id="42" name="Cloud"/>
            <p:cNvSpPr/>
            <p:nvPr/>
          </p:nvSpPr>
          <p:spPr>
            <a:xfrm>
              <a:off x="4803480" y="3633840"/>
              <a:ext cx="1315800" cy="735120"/>
            </a:xfrm>
            <a:custGeom>
              <a:avLst/>
              <a:gdLst>
                <a:gd name="textAreaLeft" fmla="*/ 180720 w 1315800"/>
                <a:gd name="textAreaRight" fmla="*/ 1041120 w 1315800"/>
                <a:gd name="textAreaTop" fmla="*/ 110880 h 735120"/>
                <a:gd name="textAreaBottom" fmla="*/ 590760 h 73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0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1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300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7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7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0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0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50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2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10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Cloud"/>
            <p:cNvSpPr/>
            <p:nvPr/>
          </p:nvSpPr>
          <p:spPr>
            <a:xfrm>
              <a:off x="4319640" y="3719520"/>
              <a:ext cx="1315800" cy="736560"/>
            </a:xfrm>
            <a:custGeom>
              <a:avLst/>
              <a:gdLst>
                <a:gd name="textAreaLeft" fmla="*/ 180720 w 1315800"/>
                <a:gd name="textAreaRight" fmla="*/ 1041120 w 1315800"/>
                <a:gd name="textAreaTop" fmla="*/ 110880 h 736560"/>
                <a:gd name="textAreaBottom" fmla="*/ 590760 h 7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0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1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300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7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7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0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0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50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2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10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Cloud"/>
            <p:cNvSpPr/>
            <p:nvPr/>
          </p:nvSpPr>
          <p:spPr>
            <a:xfrm>
              <a:off x="4803480" y="3862440"/>
              <a:ext cx="1315800" cy="736560"/>
            </a:xfrm>
            <a:custGeom>
              <a:avLst/>
              <a:gdLst>
                <a:gd name="textAreaLeft" fmla="*/ 180720 w 1315800"/>
                <a:gd name="textAreaRight" fmla="*/ 1041120 w 1315800"/>
                <a:gd name="textAreaTop" fmla="*/ 110880 h 736560"/>
                <a:gd name="textAreaBottom" fmla="*/ 590760 h 7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0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1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300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7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7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0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0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50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2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10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Cloud"/>
            <p:cNvSpPr/>
            <p:nvPr/>
          </p:nvSpPr>
          <p:spPr>
            <a:xfrm>
              <a:off x="4679640" y="3375000"/>
              <a:ext cx="1028520" cy="735120"/>
            </a:xfrm>
            <a:custGeom>
              <a:avLst/>
              <a:gdLst>
                <a:gd name="textAreaLeft" fmla="*/ 141120 w 1028520"/>
                <a:gd name="textAreaRight" fmla="*/ 814320 w 1028520"/>
                <a:gd name="textAreaTop" fmla="*/ 110880 h 735120"/>
                <a:gd name="textAreaBottom" fmla="*/ 590760 h 73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0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1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300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7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7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0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0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50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2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10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Cloud"/>
            <p:cNvSpPr/>
            <p:nvPr/>
          </p:nvSpPr>
          <p:spPr>
            <a:xfrm>
              <a:off x="4966920" y="3141720"/>
              <a:ext cx="576000" cy="880920"/>
            </a:xfrm>
            <a:custGeom>
              <a:avLst/>
              <a:gdLst>
                <a:gd name="textAreaLeft" fmla="*/ 79200 w 576000"/>
                <a:gd name="textAreaRight" fmla="*/ 455400 w 576000"/>
                <a:gd name="textAreaTop" fmla="*/ 133200 h 880920"/>
                <a:gd name="textAreaBottom" fmla="*/ 706320 h 88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0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1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300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7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7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0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0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50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2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10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未知"/>
          <p:cNvSpPr/>
          <p:nvPr/>
        </p:nvSpPr>
        <p:spPr>
          <a:xfrm>
            <a:off x="-34920" y="2852640"/>
            <a:ext cx="9223200" cy="2473560"/>
          </a:xfrm>
          <a:custGeom>
            <a:avLst/>
            <a:gdLst/>
            <a:ahLst/>
            <a:rect l="l" t="t" r="r" b="b"/>
            <a:pathLst>
              <a:path w="5811" h="1558">
                <a:moveTo>
                  <a:pt x="23" y="583"/>
                </a:moveTo>
                <a:cubicBezTo>
                  <a:pt x="342" y="689"/>
                  <a:pt x="488" y="937"/>
                  <a:pt x="635" y="953"/>
                </a:cubicBezTo>
                <a:cubicBezTo>
                  <a:pt x="782" y="969"/>
                  <a:pt x="819" y="706"/>
                  <a:pt x="907" y="681"/>
                </a:cubicBezTo>
                <a:cubicBezTo>
                  <a:pt x="995" y="656"/>
                  <a:pt x="1052" y="861"/>
                  <a:pt x="1166" y="800"/>
                </a:cubicBezTo>
                <a:cubicBezTo>
                  <a:pt x="1280" y="739"/>
                  <a:pt x="1451" y="321"/>
                  <a:pt x="1588" y="318"/>
                </a:cubicBezTo>
                <a:cubicBezTo>
                  <a:pt x="1751" y="431"/>
                  <a:pt x="1987" y="781"/>
                  <a:pt x="1987" y="781"/>
                </a:cubicBezTo>
                <a:cubicBezTo>
                  <a:pt x="2100" y="819"/>
                  <a:pt x="2115" y="538"/>
                  <a:pt x="2268" y="544"/>
                </a:cubicBezTo>
                <a:cubicBezTo>
                  <a:pt x="2516" y="809"/>
                  <a:pt x="2903" y="817"/>
                  <a:pt x="2903" y="817"/>
                </a:cubicBezTo>
                <a:cubicBezTo>
                  <a:pt x="3144" y="728"/>
                  <a:pt x="3630" y="30"/>
                  <a:pt x="3715" y="7"/>
                </a:cubicBezTo>
                <a:cubicBezTo>
                  <a:pt x="3809" y="16"/>
                  <a:pt x="3931" y="137"/>
                  <a:pt x="3992" y="136"/>
                </a:cubicBezTo>
                <a:cubicBezTo>
                  <a:pt x="4053" y="135"/>
                  <a:pt x="4008" y="35"/>
                  <a:pt x="4082" y="0"/>
                </a:cubicBezTo>
                <a:cubicBezTo>
                  <a:pt x="4112" y="25"/>
                  <a:pt x="4355" y="227"/>
                  <a:pt x="4355" y="227"/>
                </a:cubicBezTo>
                <a:cubicBezTo>
                  <a:pt x="4437" y="241"/>
                  <a:pt x="4489" y="35"/>
                  <a:pt x="4574" y="82"/>
                </a:cubicBezTo>
                <a:cubicBezTo>
                  <a:pt x="4659" y="129"/>
                  <a:pt x="4967" y="681"/>
                  <a:pt x="5171" y="726"/>
                </a:cubicBezTo>
                <a:cubicBezTo>
                  <a:pt x="5632" y="715"/>
                  <a:pt x="5699" y="44"/>
                  <a:pt x="5802" y="346"/>
                </a:cubicBezTo>
                <a:cubicBezTo>
                  <a:pt x="5811" y="658"/>
                  <a:pt x="5798" y="462"/>
                  <a:pt x="5798" y="1416"/>
                </a:cubicBezTo>
                <a:cubicBezTo>
                  <a:pt x="4656" y="1435"/>
                  <a:pt x="1477" y="1381"/>
                  <a:pt x="23" y="1371"/>
                </a:cubicBezTo>
                <a:cubicBezTo>
                  <a:pt x="41" y="1060"/>
                  <a:pt x="0" y="1558"/>
                  <a:pt x="23" y="583"/>
                </a:cubicBezTo>
                <a:close/>
              </a:path>
            </a:pathLst>
          </a:custGeom>
          <a:gradFill rotWithShape="0">
            <a:gsLst>
              <a:gs pos="0">
                <a:srgbClr val="9bda07"/>
              </a:gs>
              <a:gs pos="100000">
                <a:srgbClr val="44b8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9"/>
          <p:cNvGrpSpPr/>
          <p:nvPr/>
        </p:nvGrpSpPr>
        <p:grpSpPr>
          <a:xfrm>
            <a:off x="3464640" y="4159080"/>
            <a:ext cx="1395000" cy="898200"/>
            <a:chOff x="3464640" y="4159080"/>
            <a:chExt cx="1395000" cy="898200"/>
          </a:xfrm>
        </p:grpSpPr>
        <p:sp>
          <p:nvSpPr>
            <p:cNvPr id="49" name="未知"/>
            <p:cNvSpPr/>
            <p:nvPr/>
          </p:nvSpPr>
          <p:spPr>
            <a:xfrm rot="735600">
              <a:off x="4380840" y="4395960"/>
              <a:ext cx="41688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 rot="735600">
              <a:off x="4133520" y="4328280"/>
              <a:ext cx="41688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 rot="735600">
              <a:off x="3809160" y="4271760"/>
              <a:ext cx="41688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 rot="735600">
              <a:off x="3525840" y="4196160"/>
              <a:ext cx="41688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14"/>
          <p:cNvGrpSpPr/>
          <p:nvPr/>
        </p:nvGrpSpPr>
        <p:grpSpPr>
          <a:xfrm>
            <a:off x="6815880" y="4283640"/>
            <a:ext cx="1492200" cy="1062000"/>
            <a:chOff x="6815880" y="4283640"/>
            <a:chExt cx="1492200" cy="1062000"/>
          </a:xfrm>
        </p:grpSpPr>
        <p:sp>
          <p:nvSpPr>
            <p:cNvPr id="54" name="未知"/>
            <p:cNvSpPr/>
            <p:nvPr/>
          </p:nvSpPr>
          <p:spPr>
            <a:xfrm rot="1183800">
              <a:off x="7775640" y="4665240"/>
              <a:ext cx="43992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 rot="1183800">
              <a:off x="7525800" y="4561200"/>
              <a:ext cx="43992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 rot="1183800">
              <a:off x="7193880" y="4456800"/>
              <a:ext cx="43992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 rot="1183800">
              <a:off x="6908040" y="4339440"/>
              <a:ext cx="43992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9"/>
          <p:cNvGrpSpPr/>
          <p:nvPr/>
        </p:nvGrpSpPr>
        <p:grpSpPr>
          <a:xfrm>
            <a:off x="2190600" y="4190040"/>
            <a:ext cx="1450800" cy="1080720"/>
            <a:chOff x="2190600" y="4190040"/>
            <a:chExt cx="1450800" cy="1080720"/>
          </a:xfrm>
        </p:grpSpPr>
        <p:sp>
          <p:nvSpPr>
            <p:cNvPr id="59" name="未知"/>
            <p:cNvSpPr/>
            <p:nvPr/>
          </p:nvSpPr>
          <p:spPr>
            <a:xfrm rot="20841000">
              <a:off x="3137760" y="4225680"/>
              <a:ext cx="416880" cy="8348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未知"/>
            <p:cNvSpPr/>
            <p:nvPr/>
          </p:nvSpPr>
          <p:spPr>
            <a:xfrm rot="20841000">
              <a:off x="2883600" y="4263840"/>
              <a:ext cx="416880" cy="8348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 rot="20841000">
              <a:off x="2566080" y="4353840"/>
              <a:ext cx="416880" cy="8348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20841000">
              <a:off x="2276640" y="4400280"/>
              <a:ext cx="416880" cy="8348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24"/>
          <p:cNvGrpSpPr/>
          <p:nvPr/>
        </p:nvGrpSpPr>
        <p:grpSpPr>
          <a:xfrm>
            <a:off x="4932360" y="4230720"/>
            <a:ext cx="2160360" cy="637920"/>
            <a:chOff x="4932360" y="4230720"/>
            <a:chExt cx="2160360" cy="637920"/>
          </a:xfrm>
        </p:grpSpPr>
        <p:sp>
          <p:nvSpPr>
            <p:cNvPr id="64" name="未知"/>
            <p:cNvSpPr/>
            <p:nvPr/>
          </p:nvSpPr>
          <p:spPr>
            <a:xfrm>
              <a:off x="6397200" y="4244400"/>
              <a:ext cx="69552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5969520" y="4230720"/>
              <a:ext cx="69552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5420520" y="4244400"/>
              <a:ext cx="69552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932360" y="4230720"/>
              <a:ext cx="69552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29"/>
          <p:cNvGrpSpPr/>
          <p:nvPr/>
        </p:nvGrpSpPr>
        <p:grpSpPr>
          <a:xfrm>
            <a:off x="-23400" y="4489560"/>
            <a:ext cx="2385360" cy="856440"/>
            <a:chOff x="-23400" y="4489560"/>
            <a:chExt cx="2385360" cy="856440"/>
          </a:xfrm>
        </p:grpSpPr>
        <p:sp>
          <p:nvSpPr>
            <p:cNvPr id="69" name="未知"/>
            <p:cNvSpPr/>
            <p:nvPr/>
          </p:nvSpPr>
          <p:spPr>
            <a:xfrm rot="326400">
              <a:off x="1581120" y="4687560"/>
              <a:ext cx="75276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 rot="326400">
              <a:off x="1121760" y="4630320"/>
              <a:ext cx="75276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 rot="326400">
              <a:off x="528840" y="4587480"/>
              <a:ext cx="75276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未知"/>
            <p:cNvSpPr/>
            <p:nvPr/>
          </p:nvSpPr>
          <p:spPr>
            <a:xfrm rot="326400">
              <a:off x="4320" y="4523760"/>
              <a:ext cx="75276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34"/>
          <p:cNvGrpSpPr/>
          <p:nvPr/>
        </p:nvGrpSpPr>
        <p:grpSpPr>
          <a:xfrm>
            <a:off x="9144000" y="2637000"/>
            <a:ext cx="1366920" cy="792000"/>
            <a:chOff x="9144000" y="2637000"/>
            <a:chExt cx="1366920" cy="792000"/>
          </a:xfrm>
        </p:grpSpPr>
        <p:sp>
          <p:nvSpPr>
            <p:cNvPr id="74" name="Cloud"/>
            <p:cNvSpPr/>
            <p:nvPr/>
          </p:nvSpPr>
          <p:spPr>
            <a:xfrm>
              <a:off x="9343440" y="2637000"/>
              <a:ext cx="1046160" cy="576360"/>
            </a:xfrm>
            <a:custGeom>
              <a:avLst/>
              <a:gdLst>
                <a:gd name="textAreaLeft" fmla="*/ 144000 w 1046160"/>
                <a:gd name="textAreaRight" fmla="*/ 828000 w 1046160"/>
                <a:gd name="textAreaTop" fmla="*/ 87120 h 576360"/>
                <a:gd name="textAreaBottom" fmla="*/ 46224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0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1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300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7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7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0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0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50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2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10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Cloud"/>
            <p:cNvSpPr/>
            <p:nvPr/>
          </p:nvSpPr>
          <p:spPr>
            <a:xfrm>
              <a:off x="9144000" y="2853000"/>
              <a:ext cx="1046160" cy="576000"/>
            </a:xfrm>
            <a:custGeom>
              <a:avLst/>
              <a:gdLst>
                <a:gd name="textAreaLeft" fmla="*/ 144000 w 1046160"/>
                <a:gd name="textAreaRight" fmla="*/ 828000 w 1046160"/>
                <a:gd name="textAreaTop" fmla="*/ 87120 h 576000"/>
                <a:gd name="textAreaBottom" fmla="*/ 46188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0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1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300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7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7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0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0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50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2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10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Cloud"/>
            <p:cNvSpPr/>
            <p:nvPr/>
          </p:nvSpPr>
          <p:spPr>
            <a:xfrm>
              <a:off x="9464760" y="2853000"/>
              <a:ext cx="1046160" cy="576000"/>
            </a:xfrm>
            <a:custGeom>
              <a:avLst/>
              <a:gdLst>
                <a:gd name="textAreaLeft" fmla="*/ 144000 w 1046160"/>
                <a:gd name="textAreaRight" fmla="*/ 828000 w 1046160"/>
                <a:gd name="textAreaTop" fmla="*/ 87120 h 576000"/>
                <a:gd name="textAreaBottom" fmla="*/ 46188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0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1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300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7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7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0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0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50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2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10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Cloud"/>
            <p:cNvSpPr/>
            <p:nvPr/>
          </p:nvSpPr>
          <p:spPr>
            <a:xfrm>
              <a:off x="9343440" y="2779920"/>
              <a:ext cx="1046160" cy="576360"/>
            </a:xfrm>
            <a:custGeom>
              <a:avLst/>
              <a:gdLst>
                <a:gd name="textAreaLeft" fmla="*/ 144000 w 1046160"/>
                <a:gd name="textAreaRight" fmla="*/ 828000 w 1046160"/>
                <a:gd name="textAreaTop" fmla="*/ 87120 h 576360"/>
                <a:gd name="textAreaBottom" fmla="*/ 46224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0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1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300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7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7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0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0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50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2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10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未知"/>
          <p:cNvSpPr/>
          <p:nvPr/>
        </p:nvSpPr>
        <p:spPr>
          <a:xfrm>
            <a:off x="-536400" y="4365720"/>
            <a:ext cx="10561320" cy="1655640"/>
          </a:xfrm>
          <a:custGeom>
            <a:avLst/>
            <a:gdLst/>
            <a:ahLst/>
            <a:rect l="l" t="t" r="r" b="b"/>
            <a:pathLst>
              <a:path w="6654" h="466">
                <a:moveTo>
                  <a:pt x="323" y="466"/>
                </a:moveTo>
                <a:cubicBezTo>
                  <a:pt x="0" y="396"/>
                  <a:pt x="3133" y="20"/>
                  <a:pt x="4082" y="15"/>
                </a:cubicBezTo>
                <a:cubicBezTo>
                  <a:pt x="5035" y="0"/>
                  <a:pt x="6654" y="358"/>
                  <a:pt x="6019" y="434"/>
                </a:cubicBezTo>
                <a:lnTo>
                  <a:pt x="323" y="466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未知"/>
          <p:cNvSpPr/>
          <p:nvPr/>
        </p:nvSpPr>
        <p:spPr>
          <a:xfrm>
            <a:off x="-466560" y="4365720"/>
            <a:ext cx="7092720" cy="1628640"/>
          </a:xfrm>
          <a:custGeom>
            <a:avLst/>
            <a:gdLst/>
            <a:ahLst/>
            <a:rect l="l" t="t" r="r" b="b"/>
            <a:pathLst>
              <a:path w="4469" h="1026">
                <a:moveTo>
                  <a:pt x="242" y="1026"/>
                </a:moveTo>
                <a:cubicBezTo>
                  <a:pt x="0" y="890"/>
                  <a:pt x="1917" y="73"/>
                  <a:pt x="2543" y="46"/>
                </a:cubicBezTo>
                <a:cubicBezTo>
                  <a:pt x="3256" y="0"/>
                  <a:pt x="4469" y="706"/>
                  <a:pt x="3997" y="863"/>
                </a:cubicBezTo>
                <a:lnTo>
                  <a:pt x="242" y="1026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99ff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41"/>
          <p:cNvGrpSpPr/>
          <p:nvPr/>
        </p:nvGrpSpPr>
        <p:grpSpPr>
          <a:xfrm>
            <a:off x="2519280" y="2060640"/>
            <a:ext cx="1584000" cy="927000"/>
            <a:chOff x="2519280" y="2060640"/>
            <a:chExt cx="1584000" cy="927000"/>
          </a:xfrm>
        </p:grpSpPr>
        <p:sp>
          <p:nvSpPr>
            <p:cNvPr id="81" name="Cloud"/>
            <p:cNvSpPr/>
            <p:nvPr/>
          </p:nvSpPr>
          <p:spPr>
            <a:xfrm>
              <a:off x="2652120" y="2383920"/>
              <a:ext cx="897120" cy="428040"/>
            </a:xfrm>
            <a:custGeom>
              <a:avLst/>
              <a:gdLst>
                <a:gd name="textAreaLeft" fmla="*/ 123120 w 897120"/>
                <a:gd name="textAreaRight" fmla="*/ 709920 w 897120"/>
                <a:gd name="textAreaTop" fmla="*/ 64440 h 428040"/>
                <a:gd name="textAreaBottom" fmla="*/ 344160 h 42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0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1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300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7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7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0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0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50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2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10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Cloud"/>
            <p:cNvSpPr/>
            <p:nvPr/>
          </p:nvSpPr>
          <p:spPr>
            <a:xfrm>
              <a:off x="2519280" y="2432880"/>
              <a:ext cx="897120" cy="428760"/>
            </a:xfrm>
            <a:custGeom>
              <a:avLst/>
              <a:gdLst>
                <a:gd name="textAreaLeft" fmla="*/ 123120 w 897120"/>
                <a:gd name="textAreaRight" fmla="*/ 709920 w 897120"/>
                <a:gd name="textAreaTop" fmla="*/ 64440 h 428760"/>
                <a:gd name="textAreaBottom" fmla="*/ 343800 h 4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0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1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300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7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7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0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0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50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2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10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Cloud"/>
            <p:cNvSpPr/>
            <p:nvPr/>
          </p:nvSpPr>
          <p:spPr>
            <a:xfrm>
              <a:off x="3206160" y="2474640"/>
              <a:ext cx="897120" cy="428760"/>
            </a:xfrm>
            <a:custGeom>
              <a:avLst/>
              <a:gdLst>
                <a:gd name="textAreaLeft" fmla="*/ 123120 w 897120"/>
                <a:gd name="textAreaRight" fmla="*/ 709920 w 897120"/>
                <a:gd name="textAreaTop" fmla="*/ 64440 h 428760"/>
                <a:gd name="textAreaBottom" fmla="*/ 343800 h 4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0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1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300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7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7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0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0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50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2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10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Cloud"/>
            <p:cNvSpPr/>
            <p:nvPr/>
          </p:nvSpPr>
          <p:spPr>
            <a:xfrm>
              <a:off x="2567520" y="2233440"/>
              <a:ext cx="701280" cy="427680"/>
            </a:xfrm>
            <a:custGeom>
              <a:avLst/>
              <a:gdLst>
                <a:gd name="textAreaLeft" fmla="*/ 96120 w 701280"/>
                <a:gd name="textAreaRight" fmla="*/ 555120 w 701280"/>
                <a:gd name="textAreaTop" fmla="*/ 64440 h 427680"/>
                <a:gd name="textAreaBottom" fmla="*/ 34380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0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1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300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7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7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0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0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50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2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10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Cloud"/>
            <p:cNvSpPr/>
            <p:nvPr/>
          </p:nvSpPr>
          <p:spPr>
            <a:xfrm>
              <a:off x="2567520" y="2060640"/>
              <a:ext cx="540000" cy="638640"/>
            </a:xfrm>
            <a:custGeom>
              <a:avLst/>
              <a:gdLst>
                <a:gd name="textAreaLeft" fmla="*/ 74520 w 540000"/>
                <a:gd name="textAreaRight" fmla="*/ 427680 w 540000"/>
                <a:gd name="textAreaTop" fmla="*/ 96120 h 638640"/>
                <a:gd name="textAreaBottom" fmla="*/ 513000 h 63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0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1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300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7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7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0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0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50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2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10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Cloud"/>
            <p:cNvSpPr/>
            <p:nvPr/>
          </p:nvSpPr>
          <p:spPr>
            <a:xfrm>
              <a:off x="2666520" y="2558880"/>
              <a:ext cx="896760" cy="428760"/>
            </a:xfrm>
            <a:custGeom>
              <a:avLst/>
              <a:gdLst>
                <a:gd name="textAreaLeft" fmla="*/ 123120 w 896760"/>
                <a:gd name="textAreaRight" fmla="*/ 709560 w 896760"/>
                <a:gd name="textAreaTop" fmla="*/ 64440 h 428760"/>
                <a:gd name="textAreaBottom" fmla="*/ 343800 h 4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0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1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300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7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7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0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0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50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2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10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48"/>
          <p:cNvGrpSpPr/>
          <p:nvPr/>
        </p:nvGrpSpPr>
        <p:grpSpPr>
          <a:xfrm>
            <a:off x="8064360" y="1701720"/>
            <a:ext cx="936360" cy="576000"/>
            <a:chOff x="8064360" y="1701720"/>
            <a:chExt cx="936360" cy="576000"/>
          </a:xfrm>
        </p:grpSpPr>
        <p:sp>
          <p:nvSpPr>
            <p:cNvPr id="88" name="Cloud"/>
            <p:cNvSpPr/>
            <p:nvPr/>
          </p:nvSpPr>
          <p:spPr>
            <a:xfrm>
              <a:off x="8142840" y="1902600"/>
              <a:ext cx="530280" cy="266040"/>
            </a:xfrm>
            <a:custGeom>
              <a:avLst/>
              <a:gdLst>
                <a:gd name="textAreaLeft" fmla="*/ 72720 w 530280"/>
                <a:gd name="textAreaRight" fmla="*/ 419760 w 530280"/>
                <a:gd name="textAreaTop" fmla="*/ 39960 h 266040"/>
                <a:gd name="textAreaBottom" fmla="*/ 213840 h 26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0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1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300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7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7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0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0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50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2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10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Cloud"/>
            <p:cNvSpPr/>
            <p:nvPr/>
          </p:nvSpPr>
          <p:spPr>
            <a:xfrm>
              <a:off x="8064360" y="1933200"/>
              <a:ext cx="530280" cy="266400"/>
            </a:xfrm>
            <a:custGeom>
              <a:avLst/>
              <a:gdLst>
                <a:gd name="textAreaLeft" fmla="*/ 72720 w 530280"/>
                <a:gd name="textAreaRight" fmla="*/ 419760 w 530280"/>
                <a:gd name="textAreaTop" fmla="*/ 39960 h 266400"/>
                <a:gd name="textAreaBottom" fmla="*/ 213840 h 26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0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1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300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7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7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0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0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50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2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10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Cloud"/>
            <p:cNvSpPr/>
            <p:nvPr/>
          </p:nvSpPr>
          <p:spPr>
            <a:xfrm>
              <a:off x="8470440" y="1959120"/>
              <a:ext cx="530280" cy="266400"/>
            </a:xfrm>
            <a:custGeom>
              <a:avLst/>
              <a:gdLst>
                <a:gd name="textAreaLeft" fmla="*/ 72720 w 530280"/>
                <a:gd name="textAreaRight" fmla="*/ 419760 w 530280"/>
                <a:gd name="textAreaTop" fmla="*/ 39960 h 266400"/>
                <a:gd name="textAreaBottom" fmla="*/ 213840 h 26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0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1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300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7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7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0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0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50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2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10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Cloud"/>
            <p:cNvSpPr/>
            <p:nvPr/>
          </p:nvSpPr>
          <p:spPr>
            <a:xfrm>
              <a:off x="8092800" y="1809000"/>
              <a:ext cx="414720" cy="266040"/>
            </a:xfrm>
            <a:custGeom>
              <a:avLst/>
              <a:gdLst>
                <a:gd name="textAreaLeft" fmla="*/ 56880 w 414720"/>
                <a:gd name="textAreaRight" fmla="*/ 328320 w 414720"/>
                <a:gd name="textAreaTop" fmla="*/ 39960 h 266040"/>
                <a:gd name="textAreaBottom" fmla="*/ 213840 h 26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0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1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300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7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7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0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0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50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2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10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Cloud"/>
            <p:cNvSpPr/>
            <p:nvPr/>
          </p:nvSpPr>
          <p:spPr>
            <a:xfrm>
              <a:off x="8092800" y="1701720"/>
              <a:ext cx="319320" cy="397080"/>
            </a:xfrm>
            <a:custGeom>
              <a:avLst/>
              <a:gdLst>
                <a:gd name="textAreaLeft" fmla="*/ 43920 w 319320"/>
                <a:gd name="textAreaRight" fmla="*/ 252720 w 319320"/>
                <a:gd name="textAreaTop" fmla="*/ 59760 h 397080"/>
                <a:gd name="textAreaBottom" fmla="*/ 318960 h 3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0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1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300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7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7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0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0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50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2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10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Cloud"/>
            <p:cNvSpPr/>
            <p:nvPr/>
          </p:nvSpPr>
          <p:spPr>
            <a:xfrm>
              <a:off x="8151120" y="2011320"/>
              <a:ext cx="530280" cy="266400"/>
            </a:xfrm>
            <a:custGeom>
              <a:avLst/>
              <a:gdLst>
                <a:gd name="textAreaLeft" fmla="*/ 72720 w 530280"/>
                <a:gd name="textAreaRight" fmla="*/ 419760 w 530280"/>
                <a:gd name="textAreaTop" fmla="*/ 39960 h 266400"/>
                <a:gd name="textAreaBottom" fmla="*/ 213840 h 26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0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1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300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7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7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0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0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50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2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10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AutoShape 55"/>
          <p:cNvSpPr/>
          <p:nvPr/>
        </p:nvSpPr>
        <p:spPr>
          <a:xfrm>
            <a:off x="3851280" y="476280"/>
            <a:ext cx="182880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56"/>
          <p:cNvGrpSpPr/>
          <p:nvPr/>
        </p:nvGrpSpPr>
        <p:grpSpPr>
          <a:xfrm>
            <a:off x="1726920" y="4491720"/>
            <a:ext cx="2580840" cy="1374120"/>
            <a:chOff x="1726920" y="4491720"/>
            <a:chExt cx="2580840" cy="1374120"/>
          </a:xfrm>
        </p:grpSpPr>
        <p:sp>
          <p:nvSpPr>
            <p:cNvPr id="96" name="未知"/>
            <p:cNvSpPr/>
            <p:nvPr/>
          </p:nvSpPr>
          <p:spPr>
            <a:xfrm rot="930000">
              <a:off x="3426480" y="5050440"/>
              <a:ext cx="799200" cy="72180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未知"/>
            <p:cNvSpPr/>
            <p:nvPr/>
          </p:nvSpPr>
          <p:spPr>
            <a:xfrm rot="930000">
              <a:off x="2957400" y="4903920"/>
              <a:ext cx="799200" cy="72180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 rot="930000">
              <a:off x="2345400" y="4750560"/>
              <a:ext cx="799200" cy="72180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 rot="930000">
              <a:off x="1808640" y="4585320"/>
              <a:ext cx="799200" cy="72180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未知"/>
          <p:cNvSpPr/>
          <p:nvPr/>
        </p:nvSpPr>
        <p:spPr>
          <a:xfrm>
            <a:off x="0" y="4784760"/>
            <a:ext cx="7631280" cy="2073240"/>
          </a:xfrm>
          <a:custGeom>
            <a:avLst/>
            <a:gdLst/>
            <a:ahLst/>
            <a:rect l="l" t="t" r="r" b="b"/>
            <a:pathLst>
              <a:path w="4807" h="1306">
                <a:moveTo>
                  <a:pt x="0" y="106"/>
                </a:moveTo>
                <a:lnTo>
                  <a:pt x="16" y="1306"/>
                </a:lnTo>
                <a:lnTo>
                  <a:pt x="4289" y="1291"/>
                </a:lnTo>
                <a:cubicBezTo>
                  <a:pt x="4807" y="1172"/>
                  <a:pt x="3572" y="776"/>
                  <a:pt x="3124" y="590"/>
                </a:cubicBezTo>
                <a:cubicBezTo>
                  <a:pt x="2676" y="404"/>
                  <a:pt x="2125" y="255"/>
                  <a:pt x="1604" y="174"/>
                </a:cubicBezTo>
                <a:cubicBezTo>
                  <a:pt x="893" y="0"/>
                  <a:pt x="0" y="106"/>
                  <a:pt x="0" y="106"/>
                </a:cubicBez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ccff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62"/>
          <p:cNvGrpSpPr/>
          <p:nvPr/>
        </p:nvGrpSpPr>
        <p:grpSpPr>
          <a:xfrm>
            <a:off x="-34920" y="6237360"/>
            <a:ext cx="2547720" cy="647280"/>
            <a:chOff x="-34920" y="6237360"/>
            <a:chExt cx="2547720" cy="647280"/>
          </a:xfrm>
        </p:grpSpPr>
        <p:sp>
          <p:nvSpPr>
            <p:cNvPr id="102" name="未知"/>
            <p:cNvSpPr/>
            <p:nvPr/>
          </p:nvSpPr>
          <p:spPr>
            <a:xfrm>
              <a:off x="1692720" y="6251400"/>
              <a:ext cx="820080" cy="633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1188360" y="6237360"/>
              <a:ext cx="820080" cy="633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541080" y="6251400"/>
              <a:ext cx="820080" cy="633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-34920" y="6237360"/>
              <a:ext cx="820080" cy="633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67"/>
          <p:cNvGrpSpPr/>
          <p:nvPr/>
        </p:nvGrpSpPr>
        <p:grpSpPr>
          <a:xfrm>
            <a:off x="2015640" y="4724280"/>
            <a:ext cx="7186680" cy="1958760"/>
            <a:chOff x="2015640" y="4724280"/>
            <a:chExt cx="7186680" cy="1958760"/>
          </a:xfrm>
        </p:grpSpPr>
        <p:grpSp>
          <p:nvGrpSpPr>
            <p:cNvPr id="107" name="Group 68"/>
            <p:cNvGrpSpPr/>
            <p:nvPr/>
          </p:nvGrpSpPr>
          <p:grpSpPr>
            <a:xfrm>
              <a:off x="6610320" y="4724280"/>
              <a:ext cx="2549520" cy="647280"/>
              <a:chOff x="6610320" y="4724280"/>
              <a:chExt cx="2549520" cy="647280"/>
            </a:xfrm>
          </p:grpSpPr>
          <p:sp>
            <p:nvSpPr>
              <p:cNvPr id="108" name="未知"/>
              <p:cNvSpPr/>
              <p:nvPr/>
            </p:nvSpPr>
            <p:spPr>
              <a:xfrm>
                <a:off x="8339040" y="473832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未知"/>
              <p:cNvSpPr/>
              <p:nvPr/>
            </p:nvSpPr>
            <p:spPr>
              <a:xfrm>
                <a:off x="7834320" y="472428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未知"/>
              <p:cNvSpPr/>
              <p:nvPr/>
            </p:nvSpPr>
            <p:spPr>
              <a:xfrm>
                <a:off x="7186680" y="473832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未知"/>
              <p:cNvSpPr/>
              <p:nvPr/>
            </p:nvSpPr>
            <p:spPr>
              <a:xfrm>
                <a:off x="6610320" y="472428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73"/>
            <p:cNvGrpSpPr/>
            <p:nvPr/>
          </p:nvGrpSpPr>
          <p:grpSpPr>
            <a:xfrm>
              <a:off x="2015640" y="4862160"/>
              <a:ext cx="3627720" cy="1820880"/>
              <a:chOff x="2015640" y="4862160"/>
              <a:chExt cx="3627720" cy="1820880"/>
            </a:xfrm>
          </p:grpSpPr>
          <p:sp>
            <p:nvSpPr>
              <p:cNvPr id="113" name="未知"/>
              <p:cNvSpPr/>
              <p:nvPr/>
            </p:nvSpPr>
            <p:spPr>
              <a:xfrm rot="20519400">
                <a:off x="4406040" y="5020200"/>
                <a:ext cx="1145160" cy="77472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未知"/>
              <p:cNvSpPr/>
              <p:nvPr/>
            </p:nvSpPr>
            <p:spPr>
              <a:xfrm rot="20519400">
                <a:off x="3731400" y="5221800"/>
                <a:ext cx="1145160" cy="77472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未知"/>
              <p:cNvSpPr/>
              <p:nvPr/>
            </p:nvSpPr>
            <p:spPr>
              <a:xfrm rot="20519400">
                <a:off x="2876760" y="5517360"/>
                <a:ext cx="1145160" cy="77472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未知"/>
              <p:cNvSpPr/>
              <p:nvPr/>
            </p:nvSpPr>
            <p:spPr>
              <a:xfrm rot="20519400">
                <a:off x="2107080" y="5749920"/>
                <a:ext cx="1145160" cy="77472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Group 78"/>
            <p:cNvGrpSpPr/>
            <p:nvPr/>
          </p:nvGrpSpPr>
          <p:grpSpPr>
            <a:xfrm>
              <a:off x="4494960" y="4776120"/>
              <a:ext cx="2073960" cy="832680"/>
              <a:chOff x="4494960" y="4776120"/>
              <a:chExt cx="2073960" cy="832680"/>
            </a:xfrm>
          </p:grpSpPr>
          <p:sp>
            <p:nvSpPr>
              <p:cNvPr id="118" name="未知"/>
              <p:cNvSpPr/>
              <p:nvPr/>
            </p:nvSpPr>
            <p:spPr>
              <a:xfrm rot="21228600">
                <a:off x="5887440" y="480888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未知"/>
              <p:cNvSpPr/>
              <p:nvPr/>
            </p:nvSpPr>
            <p:spPr>
              <a:xfrm rot="21228600">
                <a:off x="5489640" y="483768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未知"/>
              <p:cNvSpPr/>
              <p:nvPr/>
            </p:nvSpPr>
            <p:spPr>
              <a:xfrm rot="21228600">
                <a:off x="4981680" y="490680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未知"/>
              <p:cNvSpPr/>
              <p:nvPr/>
            </p:nvSpPr>
            <p:spPr>
              <a:xfrm rot="21228600">
                <a:off x="4527000" y="494208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Group 83"/>
            <p:cNvGrpSpPr/>
            <p:nvPr/>
          </p:nvGrpSpPr>
          <p:grpSpPr>
            <a:xfrm>
              <a:off x="6035400" y="4725720"/>
              <a:ext cx="2016000" cy="647640"/>
              <a:chOff x="6035400" y="4725720"/>
              <a:chExt cx="2016000" cy="647640"/>
            </a:xfrm>
          </p:grpSpPr>
          <p:sp>
            <p:nvSpPr>
              <p:cNvPr id="123" name="未知"/>
              <p:cNvSpPr/>
              <p:nvPr/>
            </p:nvSpPr>
            <p:spPr>
              <a:xfrm>
                <a:off x="7402320" y="4739760"/>
                <a:ext cx="649080" cy="63360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未知"/>
              <p:cNvSpPr/>
              <p:nvPr/>
            </p:nvSpPr>
            <p:spPr>
              <a:xfrm>
                <a:off x="7003440" y="4725720"/>
                <a:ext cx="649080" cy="63360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未知"/>
              <p:cNvSpPr/>
              <p:nvPr/>
            </p:nvSpPr>
            <p:spPr>
              <a:xfrm>
                <a:off x="6491160" y="4739760"/>
                <a:ext cx="649080" cy="63360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未知"/>
              <p:cNvSpPr/>
              <p:nvPr/>
            </p:nvSpPr>
            <p:spPr>
              <a:xfrm>
                <a:off x="6035400" y="4725720"/>
                <a:ext cx="649080" cy="63360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88"/>
            <p:cNvGrpSpPr/>
            <p:nvPr/>
          </p:nvGrpSpPr>
          <p:grpSpPr>
            <a:xfrm>
              <a:off x="7186320" y="4724280"/>
              <a:ext cx="2016000" cy="647280"/>
              <a:chOff x="7186320" y="4724280"/>
              <a:chExt cx="2016000" cy="647280"/>
            </a:xfrm>
          </p:grpSpPr>
          <p:sp>
            <p:nvSpPr>
              <p:cNvPr id="128" name="未知"/>
              <p:cNvSpPr/>
              <p:nvPr/>
            </p:nvSpPr>
            <p:spPr>
              <a:xfrm>
                <a:off x="8553240" y="473832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未知"/>
              <p:cNvSpPr/>
              <p:nvPr/>
            </p:nvSpPr>
            <p:spPr>
              <a:xfrm>
                <a:off x="8154360" y="472428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未知"/>
              <p:cNvSpPr/>
              <p:nvPr/>
            </p:nvSpPr>
            <p:spPr>
              <a:xfrm>
                <a:off x="7642080" y="473832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未知"/>
              <p:cNvSpPr/>
              <p:nvPr/>
            </p:nvSpPr>
            <p:spPr>
              <a:xfrm>
                <a:off x="7186320" y="472428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未知"/>
          <p:cNvSpPr/>
          <p:nvPr/>
        </p:nvSpPr>
        <p:spPr>
          <a:xfrm>
            <a:off x="1541520" y="5029200"/>
            <a:ext cx="7653240" cy="1854360"/>
          </a:xfrm>
          <a:custGeom>
            <a:avLst/>
            <a:gdLst/>
            <a:ahLst/>
            <a:rect l="l" t="t" r="r" b="b"/>
            <a:pathLst>
              <a:path w="4821" h="1168">
                <a:moveTo>
                  <a:pt x="4821" y="0"/>
                </a:moveTo>
                <a:lnTo>
                  <a:pt x="4821" y="1168"/>
                </a:lnTo>
                <a:lnTo>
                  <a:pt x="469" y="1136"/>
                </a:lnTo>
                <a:cubicBezTo>
                  <a:pt x="0" y="973"/>
                  <a:pt x="1269" y="352"/>
                  <a:pt x="2005" y="192"/>
                </a:cubicBezTo>
                <a:cubicBezTo>
                  <a:pt x="2741" y="32"/>
                  <a:pt x="4821" y="0"/>
                  <a:pt x="4821" y="0"/>
                </a:cubicBez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00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94"/>
          <p:cNvGrpSpPr/>
          <p:nvPr/>
        </p:nvGrpSpPr>
        <p:grpSpPr>
          <a:xfrm>
            <a:off x="2050920" y="6237360"/>
            <a:ext cx="7129440" cy="647280"/>
            <a:chOff x="2050920" y="6237360"/>
            <a:chExt cx="7129440" cy="647280"/>
          </a:xfrm>
        </p:grpSpPr>
        <p:grpSp>
          <p:nvGrpSpPr>
            <p:cNvPr id="134" name="Group 95"/>
            <p:cNvGrpSpPr/>
            <p:nvPr/>
          </p:nvGrpSpPr>
          <p:grpSpPr>
            <a:xfrm>
              <a:off x="6630840" y="6237360"/>
              <a:ext cx="2549520" cy="647280"/>
              <a:chOff x="6630840" y="6237360"/>
              <a:chExt cx="2549520" cy="647280"/>
            </a:xfrm>
          </p:grpSpPr>
          <p:sp>
            <p:nvSpPr>
              <p:cNvPr id="135" name="未知"/>
              <p:cNvSpPr/>
              <p:nvPr/>
            </p:nvSpPr>
            <p:spPr>
              <a:xfrm>
                <a:off x="8359560" y="625140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未知"/>
              <p:cNvSpPr/>
              <p:nvPr/>
            </p:nvSpPr>
            <p:spPr>
              <a:xfrm>
                <a:off x="7854840" y="623736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未知"/>
              <p:cNvSpPr/>
              <p:nvPr/>
            </p:nvSpPr>
            <p:spPr>
              <a:xfrm>
                <a:off x="7207200" y="625140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未知"/>
              <p:cNvSpPr/>
              <p:nvPr/>
            </p:nvSpPr>
            <p:spPr>
              <a:xfrm>
                <a:off x="6630840" y="623736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100"/>
            <p:cNvGrpSpPr/>
            <p:nvPr/>
          </p:nvGrpSpPr>
          <p:grpSpPr>
            <a:xfrm>
              <a:off x="4066920" y="6237360"/>
              <a:ext cx="2549520" cy="647280"/>
              <a:chOff x="4066920" y="6237360"/>
              <a:chExt cx="2549520" cy="647280"/>
            </a:xfrm>
          </p:grpSpPr>
          <p:sp>
            <p:nvSpPr>
              <p:cNvPr id="140" name="未知"/>
              <p:cNvSpPr/>
              <p:nvPr/>
            </p:nvSpPr>
            <p:spPr>
              <a:xfrm>
                <a:off x="5795640" y="625140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未知"/>
              <p:cNvSpPr/>
              <p:nvPr/>
            </p:nvSpPr>
            <p:spPr>
              <a:xfrm>
                <a:off x="5290920" y="623736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未知"/>
              <p:cNvSpPr/>
              <p:nvPr/>
            </p:nvSpPr>
            <p:spPr>
              <a:xfrm>
                <a:off x="4643280" y="625140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未知"/>
              <p:cNvSpPr/>
              <p:nvPr/>
            </p:nvSpPr>
            <p:spPr>
              <a:xfrm>
                <a:off x="4066920" y="623736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105"/>
            <p:cNvGrpSpPr/>
            <p:nvPr/>
          </p:nvGrpSpPr>
          <p:grpSpPr>
            <a:xfrm>
              <a:off x="2527200" y="6237360"/>
              <a:ext cx="2549520" cy="647280"/>
              <a:chOff x="2527200" y="6237360"/>
              <a:chExt cx="2549520" cy="647280"/>
            </a:xfrm>
          </p:grpSpPr>
          <p:sp>
            <p:nvSpPr>
              <p:cNvPr id="145" name="未知"/>
              <p:cNvSpPr/>
              <p:nvPr/>
            </p:nvSpPr>
            <p:spPr>
              <a:xfrm>
                <a:off x="4255920" y="625140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未知"/>
              <p:cNvSpPr/>
              <p:nvPr/>
            </p:nvSpPr>
            <p:spPr>
              <a:xfrm>
                <a:off x="3751200" y="623736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未知"/>
              <p:cNvSpPr/>
              <p:nvPr/>
            </p:nvSpPr>
            <p:spPr>
              <a:xfrm>
                <a:off x="3103560" y="625140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未知"/>
              <p:cNvSpPr/>
              <p:nvPr/>
            </p:nvSpPr>
            <p:spPr>
              <a:xfrm>
                <a:off x="2527200" y="623736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Group 110"/>
            <p:cNvGrpSpPr/>
            <p:nvPr/>
          </p:nvGrpSpPr>
          <p:grpSpPr>
            <a:xfrm>
              <a:off x="2050920" y="6237360"/>
              <a:ext cx="2015640" cy="647280"/>
              <a:chOff x="2050920" y="6237360"/>
              <a:chExt cx="2015640" cy="647280"/>
            </a:xfrm>
          </p:grpSpPr>
          <p:sp>
            <p:nvSpPr>
              <p:cNvPr id="150" name="未知"/>
              <p:cNvSpPr/>
              <p:nvPr/>
            </p:nvSpPr>
            <p:spPr>
              <a:xfrm>
                <a:off x="3417840" y="6251400"/>
                <a:ext cx="64872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未知"/>
              <p:cNvSpPr/>
              <p:nvPr/>
            </p:nvSpPr>
            <p:spPr>
              <a:xfrm>
                <a:off x="3018600" y="6237360"/>
                <a:ext cx="64872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未知"/>
              <p:cNvSpPr/>
              <p:nvPr/>
            </p:nvSpPr>
            <p:spPr>
              <a:xfrm>
                <a:off x="2506680" y="6251400"/>
                <a:ext cx="64872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未知"/>
              <p:cNvSpPr/>
              <p:nvPr/>
            </p:nvSpPr>
            <p:spPr>
              <a:xfrm>
                <a:off x="2050920" y="6237360"/>
                <a:ext cx="64872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115"/>
            <p:cNvGrpSpPr/>
            <p:nvPr/>
          </p:nvGrpSpPr>
          <p:grpSpPr>
            <a:xfrm>
              <a:off x="4284360" y="6237360"/>
              <a:ext cx="2016000" cy="647280"/>
              <a:chOff x="4284360" y="6237360"/>
              <a:chExt cx="2016000" cy="647280"/>
            </a:xfrm>
          </p:grpSpPr>
          <p:sp>
            <p:nvSpPr>
              <p:cNvPr id="155" name="未知"/>
              <p:cNvSpPr/>
              <p:nvPr/>
            </p:nvSpPr>
            <p:spPr>
              <a:xfrm>
                <a:off x="5651280" y="625140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未知"/>
              <p:cNvSpPr/>
              <p:nvPr/>
            </p:nvSpPr>
            <p:spPr>
              <a:xfrm>
                <a:off x="5252400" y="623736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未知"/>
              <p:cNvSpPr/>
              <p:nvPr/>
            </p:nvSpPr>
            <p:spPr>
              <a:xfrm>
                <a:off x="4740120" y="625140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未知"/>
              <p:cNvSpPr/>
              <p:nvPr/>
            </p:nvSpPr>
            <p:spPr>
              <a:xfrm>
                <a:off x="4284360" y="623736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120"/>
            <p:cNvGrpSpPr/>
            <p:nvPr/>
          </p:nvGrpSpPr>
          <p:grpSpPr>
            <a:xfrm>
              <a:off x="5796000" y="6237360"/>
              <a:ext cx="2015640" cy="647280"/>
              <a:chOff x="5796000" y="6237360"/>
              <a:chExt cx="2015640" cy="647280"/>
            </a:xfrm>
          </p:grpSpPr>
          <p:sp>
            <p:nvSpPr>
              <p:cNvPr id="160" name="未知"/>
              <p:cNvSpPr/>
              <p:nvPr/>
            </p:nvSpPr>
            <p:spPr>
              <a:xfrm>
                <a:off x="7162920" y="6251400"/>
                <a:ext cx="64872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未知"/>
              <p:cNvSpPr/>
              <p:nvPr/>
            </p:nvSpPr>
            <p:spPr>
              <a:xfrm>
                <a:off x="6763680" y="6237360"/>
                <a:ext cx="64872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未知"/>
              <p:cNvSpPr/>
              <p:nvPr/>
            </p:nvSpPr>
            <p:spPr>
              <a:xfrm>
                <a:off x="6251760" y="6251400"/>
                <a:ext cx="64872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未知"/>
              <p:cNvSpPr/>
              <p:nvPr/>
            </p:nvSpPr>
            <p:spPr>
              <a:xfrm>
                <a:off x="5796000" y="6237360"/>
                <a:ext cx="64872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125"/>
            <p:cNvGrpSpPr/>
            <p:nvPr/>
          </p:nvGrpSpPr>
          <p:grpSpPr>
            <a:xfrm>
              <a:off x="7092720" y="6237360"/>
              <a:ext cx="2016000" cy="647280"/>
              <a:chOff x="7092720" y="6237360"/>
              <a:chExt cx="2016000" cy="647280"/>
            </a:xfrm>
          </p:grpSpPr>
          <p:sp>
            <p:nvSpPr>
              <p:cNvPr id="165" name="未知"/>
              <p:cNvSpPr/>
              <p:nvPr/>
            </p:nvSpPr>
            <p:spPr>
              <a:xfrm>
                <a:off x="8459640" y="625140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未知"/>
              <p:cNvSpPr/>
              <p:nvPr/>
            </p:nvSpPr>
            <p:spPr>
              <a:xfrm>
                <a:off x="8060760" y="623736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未知"/>
              <p:cNvSpPr/>
              <p:nvPr/>
            </p:nvSpPr>
            <p:spPr>
              <a:xfrm>
                <a:off x="7548480" y="625140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未知"/>
              <p:cNvSpPr/>
              <p:nvPr/>
            </p:nvSpPr>
            <p:spPr>
              <a:xfrm>
                <a:off x="7092720" y="623736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130"/>
          <p:cNvGrpSpPr/>
          <p:nvPr/>
        </p:nvGrpSpPr>
        <p:grpSpPr>
          <a:xfrm>
            <a:off x="6585480" y="5155200"/>
            <a:ext cx="367920" cy="367920"/>
            <a:chOff x="6585480" y="5155200"/>
            <a:chExt cx="367920" cy="367920"/>
          </a:xfrm>
        </p:grpSpPr>
        <p:grpSp>
          <p:nvGrpSpPr>
            <p:cNvPr id="170" name="Group 131"/>
            <p:cNvGrpSpPr/>
            <p:nvPr/>
          </p:nvGrpSpPr>
          <p:grpSpPr>
            <a:xfrm>
              <a:off x="6588000" y="5157720"/>
              <a:ext cx="363240" cy="363240"/>
              <a:chOff x="6588000" y="5157720"/>
              <a:chExt cx="363240" cy="363240"/>
            </a:xfrm>
          </p:grpSpPr>
          <p:grpSp>
            <p:nvGrpSpPr>
              <p:cNvPr id="171" name="Group 132"/>
              <p:cNvGrpSpPr/>
              <p:nvPr/>
            </p:nvGrpSpPr>
            <p:grpSpPr>
              <a:xfrm>
                <a:off x="6588000" y="5157720"/>
                <a:ext cx="363240" cy="363240"/>
                <a:chOff x="6588000" y="5157720"/>
                <a:chExt cx="363240" cy="363240"/>
              </a:xfrm>
            </p:grpSpPr>
            <p:sp>
              <p:nvSpPr>
                <p:cNvPr id="172" name="Oval 133"/>
                <p:cNvSpPr/>
                <p:nvPr/>
              </p:nvSpPr>
              <p:spPr>
                <a:xfrm>
                  <a:off x="6588000" y="52988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Oval 134"/>
                <p:cNvSpPr/>
                <p:nvPr/>
              </p:nvSpPr>
              <p:spPr>
                <a:xfrm rot="5400000">
                  <a:off x="658728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Group 135"/>
              <p:cNvGrpSpPr/>
              <p:nvPr/>
            </p:nvGrpSpPr>
            <p:grpSpPr>
              <a:xfrm>
                <a:off x="6611400" y="5181480"/>
                <a:ext cx="315000" cy="315720"/>
                <a:chOff x="6611400" y="5181480"/>
                <a:chExt cx="315000" cy="315720"/>
              </a:xfrm>
            </p:grpSpPr>
            <p:sp>
              <p:nvSpPr>
                <p:cNvPr id="175" name="Oval 136"/>
                <p:cNvSpPr/>
                <p:nvPr/>
              </p:nvSpPr>
              <p:spPr>
                <a:xfrm rot="2700000">
                  <a:off x="6587280" y="5298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Oval 137"/>
                <p:cNvSpPr/>
                <p:nvPr/>
              </p:nvSpPr>
              <p:spPr>
                <a:xfrm rot="8100000">
                  <a:off x="6586920" y="529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Group 138"/>
            <p:cNvGrpSpPr/>
            <p:nvPr/>
          </p:nvGrpSpPr>
          <p:grpSpPr>
            <a:xfrm>
              <a:off x="6585480" y="5155200"/>
              <a:ext cx="367920" cy="367920"/>
              <a:chOff x="6585480" y="5155200"/>
              <a:chExt cx="367920" cy="367920"/>
            </a:xfrm>
          </p:grpSpPr>
          <p:grpSp>
            <p:nvGrpSpPr>
              <p:cNvPr id="178" name="Group 139"/>
              <p:cNvGrpSpPr/>
              <p:nvPr/>
            </p:nvGrpSpPr>
            <p:grpSpPr>
              <a:xfrm>
                <a:off x="6585480" y="5155200"/>
                <a:ext cx="367920" cy="367920"/>
                <a:chOff x="6585480" y="5155200"/>
                <a:chExt cx="367920" cy="367920"/>
              </a:xfrm>
            </p:grpSpPr>
            <p:sp>
              <p:nvSpPr>
                <p:cNvPr id="179" name="Oval 140"/>
                <p:cNvSpPr/>
                <p:nvPr/>
              </p:nvSpPr>
              <p:spPr>
                <a:xfrm rot="1320000">
                  <a:off x="6587640" y="5298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Oval 141"/>
                <p:cNvSpPr/>
                <p:nvPr/>
              </p:nvSpPr>
              <p:spPr>
                <a:xfrm rot="6720000">
                  <a:off x="6587280" y="529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Group 142"/>
              <p:cNvGrpSpPr/>
              <p:nvPr/>
            </p:nvGrpSpPr>
            <p:grpSpPr>
              <a:xfrm>
                <a:off x="6585840" y="5156280"/>
                <a:ext cx="366480" cy="366480"/>
                <a:chOff x="6585840" y="5156280"/>
                <a:chExt cx="366480" cy="366480"/>
              </a:xfrm>
            </p:grpSpPr>
            <p:sp>
              <p:nvSpPr>
                <p:cNvPr id="182" name="Oval 143"/>
                <p:cNvSpPr/>
                <p:nvPr/>
              </p:nvSpPr>
              <p:spPr>
                <a:xfrm rot="4020000">
                  <a:off x="658728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Oval 144"/>
                <p:cNvSpPr/>
                <p:nvPr/>
              </p:nvSpPr>
              <p:spPr>
                <a:xfrm rot="9420000">
                  <a:off x="6587280" y="5297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" name="Oval 145"/>
            <p:cNvSpPr/>
            <p:nvPr/>
          </p:nvSpPr>
          <p:spPr>
            <a:xfrm>
              <a:off x="6710040" y="5285880"/>
              <a:ext cx="118800" cy="10584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146"/>
          <p:cNvGrpSpPr/>
          <p:nvPr/>
        </p:nvGrpSpPr>
        <p:grpSpPr>
          <a:xfrm>
            <a:off x="6082200" y="5226840"/>
            <a:ext cx="367920" cy="367560"/>
            <a:chOff x="6082200" y="5226840"/>
            <a:chExt cx="367920" cy="367560"/>
          </a:xfrm>
        </p:grpSpPr>
        <p:grpSp>
          <p:nvGrpSpPr>
            <p:cNvPr id="186" name="Group 147"/>
            <p:cNvGrpSpPr/>
            <p:nvPr/>
          </p:nvGrpSpPr>
          <p:grpSpPr>
            <a:xfrm>
              <a:off x="6084720" y="5229360"/>
              <a:ext cx="363240" cy="362880"/>
              <a:chOff x="6084720" y="5229360"/>
              <a:chExt cx="363240" cy="362880"/>
            </a:xfrm>
          </p:grpSpPr>
          <p:grpSp>
            <p:nvGrpSpPr>
              <p:cNvPr id="187" name="Group 148"/>
              <p:cNvGrpSpPr/>
              <p:nvPr/>
            </p:nvGrpSpPr>
            <p:grpSpPr>
              <a:xfrm>
                <a:off x="6084720" y="5229360"/>
                <a:ext cx="363240" cy="362880"/>
                <a:chOff x="6084720" y="5229360"/>
                <a:chExt cx="363240" cy="362880"/>
              </a:xfrm>
            </p:grpSpPr>
            <p:sp>
              <p:nvSpPr>
                <p:cNvPr id="188" name="Oval 149"/>
                <p:cNvSpPr/>
                <p:nvPr/>
              </p:nvSpPr>
              <p:spPr>
                <a:xfrm>
                  <a:off x="6084720" y="5370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Oval 150"/>
                <p:cNvSpPr/>
                <p:nvPr/>
              </p:nvSpPr>
              <p:spPr>
                <a:xfrm rot="5400000">
                  <a:off x="6084000" y="536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Group 151"/>
              <p:cNvGrpSpPr/>
              <p:nvPr/>
            </p:nvGrpSpPr>
            <p:grpSpPr>
              <a:xfrm>
                <a:off x="6108120" y="5253120"/>
                <a:ext cx="315000" cy="315720"/>
                <a:chOff x="6108120" y="5253120"/>
                <a:chExt cx="315000" cy="315720"/>
              </a:xfrm>
            </p:grpSpPr>
            <p:sp>
              <p:nvSpPr>
                <p:cNvPr id="191" name="Oval 152"/>
                <p:cNvSpPr/>
                <p:nvPr/>
              </p:nvSpPr>
              <p:spPr>
                <a:xfrm rot="2700000">
                  <a:off x="6084000" y="5369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Oval 153"/>
                <p:cNvSpPr/>
                <p:nvPr/>
              </p:nvSpPr>
              <p:spPr>
                <a:xfrm rot="8100000">
                  <a:off x="6083640" y="5369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3" name="Group 154"/>
            <p:cNvGrpSpPr/>
            <p:nvPr/>
          </p:nvGrpSpPr>
          <p:grpSpPr>
            <a:xfrm>
              <a:off x="6082200" y="5226840"/>
              <a:ext cx="367920" cy="367560"/>
              <a:chOff x="6082200" y="5226840"/>
              <a:chExt cx="367920" cy="367560"/>
            </a:xfrm>
          </p:grpSpPr>
          <p:grpSp>
            <p:nvGrpSpPr>
              <p:cNvPr id="194" name="Group 155"/>
              <p:cNvGrpSpPr/>
              <p:nvPr/>
            </p:nvGrpSpPr>
            <p:grpSpPr>
              <a:xfrm>
                <a:off x="6082200" y="5226840"/>
                <a:ext cx="367920" cy="367560"/>
                <a:chOff x="6082200" y="5226840"/>
                <a:chExt cx="367920" cy="367560"/>
              </a:xfrm>
            </p:grpSpPr>
            <p:sp>
              <p:nvSpPr>
                <p:cNvPr id="195" name="Oval 156"/>
                <p:cNvSpPr/>
                <p:nvPr/>
              </p:nvSpPr>
              <p:spPr>
                <a:xfrm rot="1320000">
                  <a:off x="6084360" y="5370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Oval 157"/>
                <p:cNvSpPr/>
                <p:nvPr/>
              </p:nvSpPr>
              <p:spPr>
                <a:xfrm rot="6720000">
                  <a:off x="6084360" y="536904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Group 158"/>
              <p:cNvGrpSpPr/>
              <p:nvPr/>
            </p:nvGrpSpPr>
            <p:grpSpPr>
              <a:xfrm>
                <a:off x="6082560" y="5227920"/>
                <a:ext cx="366480" cy="366120"/>
                <a:chOff x="6082560" y="5227920"/>
                <a:chExt cx="366480" cy="366120"/>
              </a:xfrm>
            </p:grpSpPr>
            <p:sp>
              <p:nvSpPr>
                <p:cNvPr id="198" name="Oval 159"/>
                <p:cNvSpPr/>
                <p:nvPr/>
              </p:nvSpPr>
              <p:spPr>
                <a:xfrm rot="4020000">
                  <a:off x="6084000" y="5369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Oval 160"/>
                <p:cNvSpPr/>
                <p:nvPr/>
              </p:nvSpPr>
              <p:spPr>
                <a:xfrm rot="9420000">
                  <a:off x="6084000" y="5369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0" name="Oval 161"/>
            <p:cNvSpPr/>
            <p:nvPr/>
          </p:nvSpPr>
          <p:spPr>
            <a:xfrm>
              <a:off x="6206760" y="5357520"/>
              <a:ext cx="118800" cy="10584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62"/>
          <p:cNvGrpSpPr/>
          <p:nvPr/>
        </p:nvGrpSpPr>
        <p:grpSpPr>
          <a:xfrm>
            <a:off x="6657120" y="5587200"/>
            <a:ext cx="367920" cy="367560"/>
            <a:chOff x="6657120" y="5587200"/>
            <a:chExt cx="367920" cy="367560"/>
          </a:xfrm>
        </p:grpSpPr>
        <p:grpSp>
          <p:nvGrpSpPr>
            <p:cNvPr id="202" name="Group 163"/>
            <p:cNvGrpSpPr/>
            <p:nvPr/>
          </p:nvGrpSpPr>
          <p:grpSpPr>
            <a:xfrm>
              <a:off x="6659640" y="5589720"/>
              <a:ext cx="363240" cy="362880"/>
              <a:chOff x="6659640" y="5589720"/>
              <a:chExt cx="363240" cy="362880"/>
            </a:xfrm>
          </p:grpSpPr>
          <p:grpSp>
            <p:nvGrpSpPr>
              <p:cNvPr id="203" name="Group 164"/>
              <p:cNvGrpSpPr/>
              <p:nvPr/>
            </p:nvGrpSpPr>
            <p:grpSpPr>
              <a:xfrm>
                <a:off x="6659640" y="5589720"/>
                <a:ext cx="363240" cy="362880"/>
                <a:chOff x="6659640" y="5589720"/>
                <a:chExt cx="363240" cy="362880"/>
              </a:xfrm>
            </p:grpSpPr>
            <p:sp>
              <p:nvSpPr>
                <p:cNvPr id="204" name="Oval 165"/>
                <p:cNvSpPr/>
                <p:nvPr/>
              </p:nvSpPr>
              <p:spPr>
                <a:xfrm>
                  <a:off x="6659640" y="57308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Oval 166"/>
                <p:cNvSpPr/>
                <p:nvPr/>
              </p:nvSpPr>
              <p:spPr>
                <a:xfrm rot="5400000">
                  <a:off x="6658920" y="5729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Group 167"/>
              <p:cNvGrpSpPr/>
              <p:nvPr/>
            </p:nvGrpSpPr>
            <p:grpSpPr>
              <a:xfrm>
                <a:off x="6683040" y="5613480"/>
                <a:ext cx="315000" cy="315720"/>
                <a:chOff x="6683040" y="5613480"/>
                <a:chExt cx="315000" cy="315720"/>
              </a:xfrm>
            </p:grpSpPr>
            <p:sp>
              <p:nvSpPr>
                <p:cNvPr id="207" name="Oval 168"/>
                <p:cNvSpPr/>
                <p:nvPr/>
              </p:nvSpPr>
              <p:spPr>
                <a:xfrm rot="2700000">
                  <a:off x="6658920" y="573012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Oval 169"/>
                <p:cNvSpPr/>
                <p:nvPr/>
              </p:nvSpPr>
              <p:spPr>
                <a:xfrm rot="8100000">
                  <a:off x="6658560" y="5729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9" name="Group 170"/>
            <p:cNvGrpSpPr/>
            <p:nvPr/>
          </p:nvGrpSpPr>
          <p:grpSpPr>
            <a:xfrm>
              <a:off x="6657120" y="5587200"/>
              <a:ext cx="367920" cy="367560"/>
              <a:chOff x="6657120" y="5587200"/>
              <a:chExt cx="367920" cy="367560"/>
            </a:xfrm>
          </p:grpSpPr>
          <p:grpSp>
            <p:nvGrpSpPr>
              <p:cNvPr id="210" name="Group 171"/>
              <p:cNvGrpSpPr/>
              <p:nvPr/>
            </p:nvGrpSpPr>
            <p:grpSpPr>
              <a:xfrm>
                <a:off x="6657120" y="5587200"/>
                <a:ext cx="367920" cy="367560"/>
                <a:chOff x="6657120" y="5587200"/>
                <a:chExt cx="367920" cy="367560"/>
              </a:xfrm>
            </p:grpSpPr>
            <p:sp>
              <p:nvSpPr>
                <p:cNvPr id="211" name="Oval 172"/>
                <p:cNvSpPr/>
                <p:nvPr/>
              </p:nvSpPr>
              <p:spPr>
                <a:xfrm rot="1320000">
                  <a:off x="6659280" y="5730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Oval 173"/>
                <p:cNvSpPr/>
                <p:nvPr/>
              </p:nvSpPr>
              <p:spPr>
                <a:xfrm rot="6720000">
                  <a:off x="6659280" y="572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Group 174"/>
              <p:cNvGrpSpPr/>
              <p:nvPr/>
            </p:nvGrpSpPr>
            <p:grpSpPr>
              <a:xfrm>
                <a:off x="6657480" y="5588280"/>
                <a:ext cx="366480" cy="366120"/>
                <a:chOff x="6657480" y="5588280"/>
                <a:chExt cx="366480" cy="366120"/>
              </a:xfrm>
            </p:grpSpPr>
            <p:sp>
              <p:nvSpPr>
                <p:cNvPr id="214" name="Oval 175"/>
                <p:cNvSpPr/>
                <p:nvPr/>
              </p:nvSpPr>
              <p:spPr>
                <a:xfrm rot="4020000">
                  <a:off x="6658920" y="573012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Oval 176"/>
                <p:cNvSpPr/>
                <p:nvPr/>
              </p:nvSpPr>
              <p:spPr>
                <a:xfrm rot="9420000">
                  <a:off x="6658920" y="5729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6" name="Oval 177"/>
            <p:cNvSpPr/>
            <p:nvPr/>
          </p:nvSpPr>
          <p:spPr>
            <a:xfrm>
              <a:off x="6781680" y="5717880"/>
              <a:ext cx="118800" cy="10584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178"/>
          <p:cNvGrpSpPr/>
          <p:nvPr/>
        </p:nvGrpSpPr>
        <p:grpSpPr>
          <a:xfrm>
            <a:off x="7450200" y="5661000"/>
            <a:ext cx="218520" cy="218520"/>
            <a:chOff x="7450200" y="5661000"/>
            <a:chExt cx="218520" cy="218520"/>
          </a:xfrm>
        </p:grpSpPr>
        <p:grpSp>
          <p:nvGrpSpPr>
            <p:cNvPr id="218" name="Group 179"/>
            <p:cNvGrpSpPr/>
            <p:nvPr/>
          </p:nvGrpSpPr>
          <p:grpSpPr>
            <a:xfrm>
              <a:off x="7451640" y="5662440"/>
              <a:ext cx="216000" cy="216000"/>
              <a:chOff x="7451640" y="5662440"/>
              <a:chExt cx="216000" cy="216000"/>
            </a:xfrm>
          </p:grpSpPr>
          <p:grpSp>
            <p:nvGrpSpPr>
              <p:cNvPr id="219" name="Group 180"/>
              <p:cNvGrpSpPr/>
              <p:nvPr/>
            </p:nvGrpSpPr>
            <p:grpSpPr>
              <a:xfrm>
                <a:off x="7451640" y="5662440"/>
                <a:ext cx="216000" cy="216000"/>
                <a:chOff x="7451640" y="5662440"/>
                <a:chExt cx="216000" cy="216000"/>
              </a:xfrm>
            </p:grpSpPr>
            <p:sp>
              <p:nvSpPr>
                <p:cNvPr id="220" name="Oval 181"/>
                <p:cNvSpPr/>
                <p:nvPr/>
              </p:nvSpPr>
              <p:spPr>
                <a:xfrm>
                  <a:off x="7451640" y="5746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Oval 182"/>
                <p:cNvSpPr/>
                <p:nvPr/>
              </p:nvSpPr>
              <p:spPr>
                <a:xfrm rot="5400000">
                  <a:off x="7451280" y="5745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Group 183"/>
              <p:cNvGrpSpPr/>
              <p:nvPr/>
            </p:nvGrpSpPr>
            <p:grpSpPr>
              <a:xfrm>
                <a:off x="7465680" y="5676480"/>
                <a:ext cx="187560" cy="187560"/>
                <a:chOff x="7465680" y="5676480"/>
                <a:chExt cx="187560" cy="187560"/>
              </a:xfrm>
            </p:grpSpPr>
            <p:sp>
              <p:nvSpPr>
                <p:cNvPr id="223" name="Oval 184"/>
                <p:cNvSpPr/>
                <p:nvPr/>
              </p:nvSpPr>
              <p:spPr>
                <a:xfrm rot="2700000">
                  <a:off x="7451280" y="5745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Oval 185"/>
                <p:cNvSpPr/>
                <p:nvPr/>
              </p:nvSpPr>
              <p:spPr>
                <a:xfrm rot="8100000">
                  <a:off x="7451280" y="574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6"/>
            <p:cNvGrpSpPr/>
            <p:nvPr/>
          </p:nvGrpSpPr>
          <p:grpSpPr>
            <a:xfrm>
              <a:off x="7450200" y="5661000"/>
              <a:ext cx="218520" cy="218520"/>
              <a:chOff x="7450200" y="5661000"/>
              <a:chExt cx="218520" cy="218520"/>
            </a:xfrm>
          </p:grpSpPr>
          <p:grpSp>
            <p:nvGrpSpPr>
              <p:cNvPr id="226" name="Group 187"/>
              <p:cNvGrpSpPr/>
              <p:nvPr/>
            </p:nvGrpSpPr>
            <p:grpSpPr>
              <a:xfrm>
                <a:off x="7450200" y="5661000"/>
                <a:ext cx="218520" cy="218520"/>
                <a:chOff x="7450200" y="5661000"/>
                <a:chExt cx="218520" cy="218520"/>
              </a:xfrm>
            </p:grpSpPr>
            <p:sp>
              <p:nvSpPr>
                <p:cNvPr id="227" name="Oval 188"/>
                <p:cNvSpPr/>
                <p:nvPr/>
              </p:nvSpPr>
              <p:spPr>
                <a:xfrm rot="1320000">
                  <a:off x="7451280" y="5745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Oval 189"/>
                <p:cNvSpPr/>
                <p:nvPr/>
              </p:nvSpPr>
              <p:spPr>
                <a:xfrm rot="6720000">
                  <a:off x="7451280" y="574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Group 190"/>
              <p:cNvGrpSpPr/>
              <p:nvPr/>
            </p:nvGrpSpPr>
            <p:grpSpPr>
              <a:xfrm>
                <a:off x="7450920" y="5661360"/>
                <a:ext cx="217800" cy="217800"/>
                <a:chOff x="7450920" y="5661360"/>
                <a:chExt cx="217800" cy="217800"/>
              </a:xfrm>
            </p:grpSpPr>
            <p:sp>
              <p:nvSpPr>
                <p:cNvPr id="230" name="Oval 191"/>
                <p:cNvSpPr/>
                <p:nvPr/>
              </p:nvSpPr>
              <p:spPr>
                <a:xfrm rot="4020000">
                  <a:off x="7450920" y="574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Oval 192"/>
                <p:cNvSpPr/>
                <p:nvPr/>
              </p:nvSpPr>
              <p:spPr>
                <a:xfrm rot="9420000">
                  <a:off x="7451640" y="5745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2" name="Oval 193"/>
            <p:cNvSpPr/>
            <p:nvPr/>
          </p:nvSpPr>
          <p:spPr>
            <a:xfrm>
              <a:off x="7524000" y="5738760"/>
              <a:ext cx="70560" cy="6300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194"/>
          <p:cNvGrpSpPr/>
          <p:nvPr/>
        </p:nvGrpSpPr>
        <p:grpSpPr>
          <a:xfrm>
            <a:off x="4421880" y="5371200"/>
            <a:ext cx="367920" cy="367920"/>
            <a:chOff x="4421880" y="5371200"/>
            <a:chExt cx="367920" cy="367920"/>
          </a:xfrm>
        </p:grpSpPr>
        <p:grpSp>
          <p:nvGrpSpPr>
            <p:cNvPr id="234" name="Group 195"/>
            <p:cNvGrpSpPr/>
            <p:nvPr/>
          </p:nvGrpSpPr>
          <p:grpSpPr>
            <a:xfrm>
              <a:off x="4424400" y="5373720"/>
              <a:ext cx="363240" cy="363240"/>
              <a:chOff x="4424400" y="5373720"/>
              <a:chExt cx="363240" cy="363240"/>
            </a:xfrm>
          </p:grpSpPr>
          <p:grpSp>
            <p:nvGrpSpPr>
              <p:cNvPr id="235" name="Group 196"/>
              <p:cNvGrpSpPr/>
              <p:nvPr/>
            </p:nvGrpSpPr>
            <p:grpSpPr>
              <a:xfrm>
                <a:off x="4424400" y="5373720"/>
                <a:ext cx="363240" cy="363240"/>
                <a:chOff x="4424400" y="5373720"/>
                <a:chExt cx="363240" cy="363240"/>
              </a:xfrm>
            </p:grpSpPr>
            <p:sp>
              <p:nvSpPr>
                <p:cNvPr id="236" name="Oval 197"/>
                <p:cNvSpPr/>
                <p:nvPr/>
              </p:nvSpPr>
              <p:spPr>
                <a:xfrm>
                  <a:off x="4424400" y="55148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Oval 198"/>
                <p:cNvSpPr/>
                <p:nvPr/>
              </p:nvSpPr>
              <p:spPr>
                <a:xfrm rot="5400000">
                  <a:off x="4423680" y="5514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Group 199"/>
              <p:cNvGrpSpPr/>
              <p:nvPr/>
            </p:nvGrpSpPr>
            <p:grpSpPr>
              <a:xfrm>
                <a:off x="4447800" y="5397480"/>
                <a:ext cx="315000" cy="315720"/>
                <a:chOff x="4447800" y="5397480"/>
                <a:chExt cx="315000" cy="315720"/>
              </a:xfrm>
            </p:grpSpPr>
            <p:sp>
              <p:nvSpPr>
                <p:cNvPr id="239" name="Oval 200"/>
                <p:cNvSpPr/>
                <p:nvPr/>
              </p:nvSpPr>
              <p:spPr>
                <a:xfrm rot="2700000">
                  <a:off x="4423680" y="5514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Oval 201"/>
                <p:cNvSpPr/>
                <p:nvPr/>
              </p:nvSpPr>
              <p:spPr>
                <a:xfrm rot="8100000">
                  <a:off x="4423320" y="5513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1" name="Group 202"/>
            <p:cNvGrpSpPr/>
            <p:nvPr/>
          </p:nvGrpSpPr>
          <p:grpSpPr>
            <a:xfrm>
              <a:off x="4421880" y="5371200"/>
              <a:ext cx="367920" cy="367920"/>
              <a:chOff x="4421880" y="5371200"/>
              <a:chExt cx="367920" cy="367920"/>
            </a:xfrm>
          </p:grpSpPr>
          <p:grpSp>
            <p:nvGrpSpPr>
              <p:cNvPr id="242" name="Group 203"/>
              <p:cNvGrpSpPr/>
              <p:nvPr/>
            </p:nvGrpSpPr>
            <p:grpSpPr>
              <a:xfrm>
                <a:off x="4421880" y="5371200"/>
                <a:ext cx="367920" cy="367920"/>
                <a:chOff x="4421880" y="5371200"/>
                <a:chExt cx="367920" cy="367920"/>
              </a:xfrm>
            </p:grpSpPr>
            <p:sp>
              <p:nvSpPr>
                <p:cNvPr id="243" name="Oval 204"/>
                <p:cNvSpPr/>
                <p:nvPr/>
              </p:nvSpPr>
              <p:spPr>
                <a:xfrm rot="1320000">
                  <a:off x="4424040" y="5514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Oval 205"/>
                <p:cNvSpPr/>
                <p:nvPr/>
              </p:nvSpPr>
              <p:spPr>
                <a:xfrm rot="6720000">
                  <a:off x="4423680" y="5513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Group 206"/>
              <p:cNvGrpSpPr/>
              <p:nvPr/>
            </p:nvGrpSpPr>
            <p:grpSpPr>
              <a:xfrm>
                <a:off x="4422240" y="5372280"/>
                <a:ext cx="366480" cy="366480"/>
                <a:chOff x="4422240" y="5372280"/>
                <a:chExt cx="366480" cy="366480"/>
              </a:xfrm>
            </p:grpSpPr>
            <p:sp>
              <p:nvSpPr>
                <p:cNvPr id="246" name="Oval 207"/>
                <p:cNvSpPr/>
                <p:nvPr/>
              </p:nvSpPr>
              <p:spPr>
                <a:xfrm rot="4020000">
                  <a:off x="4423680" y="5514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Oval 208"/>
                <p:cNvSpPr/>
                <p:nvPr/>
              </p:nvSpPr>
              <p:spPr>
                <a:xfrm rot="9420000">
                  <a:off x="4423680" y="5513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8" name="Oval 209"/>
            <p:cNvSpPr/>
            <p:nvPr/>
          </p:nvSpPr>
          <p:spPr>
            <a:xfrm>
              <a:off x="4546440" y="5501880"/>
              <a:ext cx="118800" cy="10584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10"/>
          <p:cNvGrpSpPr/>
          <p:nvPr/>
        </p:nvGrpSpPr>
        <p:grpSpPr>
          <a:xfrm>
            <a:off x="3989880" y="5514120"/>
            <a:ext cx="367920" cy="367920"/>
            <a:chOff x="3989880" y="5514120"/>
            <a:chExt cx="367920" cy="367920"/>
          </a:xfrm>
        </p:grpSpPr>
        <p:grpSp>
          <p:nvGrpSpPr>
            <p:cNvPr id="250" name="Group 211"/>
            <p:cNvGrpSpPr/>
            <p:nvPr/>
          </p:nvGrpSpPr>
          <p:grpSpPr>
            <a:xfrm>
              <a:off x="3992400" y="5516640"/>
              <a:ext cx="363240" cy="363240"/>
              <a:chOff x="3992400" y="5516640"/>
              <a:chExt cx="363240" cy="363240"/>
            </a:xfrm>
          </p:grpSpPr>
          <p:grpSp>
            <p:nvGrpSpPr>
              <p:cNvPr id="251" name="Group 212"/>
              <p:cNvGrpSpPr/>
              <p:nvPr/>
            </p:nvGrpSpPr>
            <p:grpSpPr>
              <a:xfrm>
                <a:off x="3992400" y="5516640"/>
                <a:ext cx="363240" cy="363240"/>
                <a:chOff x="3992400" y="5516640"/>
                <a:chExt cx="363240" cy="363240"/>
              </a:xfrm>
            </p:grpSpPr>
            <p:sp>
              <p:nvSpPr>
                <p:cNvPr id="252" name="Oval 213"/>
                <p:cNvSpPr/>
                <p:nvPr/>
              </p:nvSpPr>
              <p:spPr>
                <a:xfrm>
                  <a:off x="3992400" y="565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Oval 214"/>
                <p:cNvSpPr/>
                <p:nvPr/>
              </p:nvSpPr>
              <p:spPr>
                <a:xfrm rot="5400000">
                  <a:off x="3991680" y="5657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Group 215"/>
              <p:cNvGrpSpPr/>
              <p:nvPr/>
            </p:nvGrpSpPr>
            <p:grpSpPr>
              <a:xfrm>
                <a:off x="4015800" y="5540400"/>
                <a:ext cx="315000" cy="315720"/>
                <a:chOff x="4015800" y="5540400"/>
                <a:chExt cx="315000" cy="315720"/>
              </a:xfrm>
            </p:grpSpPr>
            <p:sp>
              <p:nvSpPr>
                <p:cNvPr id="255" name="Oval 216"/>
                <p:cNvSpPr/>
                <p:nvPr/>
              </p:nvSpPr>
              <p:spPr>
                <a:xfrm rot="2700000">
                  <a:off x="3991680" y="5657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Oval 217"/>
                <p:cNvSpPr/>
                <p:nvPr/>
              </p:nvSpPr>
              <p:spPr>
                <a:xfrm rot="8100000">
                  <a:off x="3991320" y="5656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218"/>
            <p:cNvGrpSpPr/>
            <p:nvPr/>
          </p:nvGrpSpPr>
          <p:grpSpPr>
            <a:xfrm>
              <a:off x="3989880" y="5514120"/>
              <a:ext cx="367920" cy="367920"/>
              <a:chOff x="3989880" y="5514120"/>
              <a:chExt cx="367920" cy="367920"/>
            </a:xfrm>
          </p:grpSpPr>
          <p:grpSp>
            <p:nvGrpSpPr>
              <p:cNvPr id="258" name="Group 219"/>
              <p:cNvGrpSpPr/>
              <p:nvPr/>
            </p:nvGrpSpPr>
            <p:grpSpPr>
              <a:xfrm>
                <a:off x="3989880" y="5514120"/>
                <a:ext cx="367920" cy="367920"/>
                <a:chOff x="3989880" y="5514120"/>
                <a:chExt cx="367920" cy="367920"/>
              </a:xfrm>
            </p:grpSpPr>
            <p:sp>
              <p:nvSpPr>
                <p:cNvPr id="259" name="Oval 220"/>
                <p:cNvSpPr/>
                <p:nvPr/>
              </p:nvSpPr>
              <p:spPr>
                <a:xfrm rot="1320000">
                  <a:off x="3992040" y="5657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Oval 221"/>
                <p:cNvSpPr/>
                <p:nvPr/>
              </p:nvSpPr>
              <p:spPr>
                <a:xfrm rot="6720000">
                  <a:off x="3991680" y="5656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222"/>
              <p:cNvGrpSpPr/>
              <p:nvPr/>
            </p:nvGrpSpPr>
            <p:grpSpPr>
              <a:xfrm>
                <a:off x="3990240" y="5515200"/>
                <a:ext cx="366480" cy="366480"/>
                <a:chOff x="3990240" y="5515200"/>
                <a:chExt cx="366480" cy="366480"/>
              </a:xfrm>
            </p:grpSpPr>
            <p:sp>
              <p:nvSpPr>
                <p:cNvPr id="262" name="Oval 223"/>
                <p:cNvSpPr/>
                <p:nvPr/>
              </p:nvSpPr>
              <p:spPr>
                <a:xfrm rot="4020000">
                  <a:off x="3991680" y="5657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Oval 224"/>
                <p:cNvSpPr/>
                <p:nvPr/>
              </p:nvSpPr>
              <p:spPr>
                <a:xfrm rot="9420000">
                  <a:off x="3991680" y="56563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4" name="Oval 225"/>
            <p:cNvSpPr/>
            <p:nvPr/>
          </p:nvSpPr>
          <p:spPr>
            <a:xfrm>
              <a:off x="4114440" y="5644800"/>
              <a:ext cx="118800" cy="10584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226"/>
          <p:cNvGrpSpPr/>
          <p:nvPr/>
        </p:nvGrpSpPr>
        <p:grpSpPr>
          <a:xfrm>
            <a:off x="3705120" y="5805720"/>
            <a:ext cx="218160" cy="218520"/>
            <a:chOff x="3705120" y="5805720"/>
            <a:chExt cx="218160" cy="218520"/>
          </a:xfrm>
        </p:grpSpPr>
        <p:grpSp>
          <p:nvGrpSpPr>
            <p:cNvPr id="266" name="Group 227"/>
            <p:cNvGrpSpPr/>
            <p:nvPr/>
          </p:nvGrpSpPr>
          <p:grpSpPr>
            <a:xfrm>
              <a:off x="3706920" y="5807160"/>
              <a:ext cx="215640" cy="215640"/>
              <a:chOff x="3706920" y="5807160"/>
              <a:chExt cx="215640" cy="215640"/>
            </a:xfrm>
          </p:grpSpPr>
          <p:grpSp>
            <p:nvGrpSpPr>
              <p:cNvPr id="267" name="Group 228"/>
              <p:cNvGrpSpPr/>
              <p:nvPr/>
            </p:nvGrpSpPr>
            <p:grpSpPr>
              <a:xfrm>
                <a:off x="3706920" y="5807160"/>
                <a:ext cx="215640" cy="215640"/>
                <a:chOff x="3706920" y="5807160"/>
                <a:chExt cx="215640" cy="215640"/>
              </a:xfrm>
            </p:grpSpPr>
            <p:sp>
              <p:nvSpPr>
                <p:cNvPr id="268" name="Oval 229"/>
                <p:cNvSpPr/>
                <p:nvPr/>
              </p:nvSpPr>
              <p:spPr>
                <a:xfrm>
                  <a:off x="3706920" y="589104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Oval 230"/>
                <p:cNvSpPr/>
                <p:nvPr/>
              </p:nvSpPr>
              <p:spPr>
                <a:xfrm rot="5400000">
                  <a:off x="3706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Group 231"/>
              <p:cNvGrpSpPr/>
              <p:nvPr/>
            </p:nvGrpSpPr>
            <p:grpSpPr>
              <a:xfrm>
                <a:off x="3720600" y="5821560"/>
                <a:ext cx="187560" cy="187560"/>
                <a:chOff x="3720600" y="5821560"/>
                <a:chExt cx="187560" cy="187560"/>
              </a:xfrm>
            </p:grpSpPr>
            <p:sp>
              <p:nvSpPr>
                <p:cNvPr id="271" name="Oval 232"/>
                <p:cNvSpPr/>
                <p:nvPr/>
              </p:nvSpPr>
              <p:spPr>
                <a:xfrm rot="2700000">
                  <a:off x="3706200" y="58906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Oval 233"/>
                <p:cNvSpPr/>
                <p:nvPr/>
              </p:nvSpPr>
              <p:spPr>
                <a:xfrm rot="8100000">
                  <a:off x="3706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3" name="Group 234"/>
            <p:cNvGrpSpPr/>
            <p:nvPr/>
          </p:nvGrpSpPr>
          <p:grpSpPr>
            <a:xfrm>
              <a:off x="3705120" y="5805720"/>
              <a:ext cx="218160" cy="218520"/>
              <a:chOff x="3705120" y="5805720"/>
              <a:chExt cx="218160" cy="218520"/>
            </a:xfrm>
          </p:grpSpPr>
          <p:grpSp>
            <p:nvGrpSpPr>
              <p:cNvPr id="274" name="Group 235"/>
              <p:cNvGrpSpPr/>
              <p:nvPr/>
            </p:nvGrpSpPr>
            <p:grpSpPr>
              <a:xfrm>
                <a:off x="3705120" y="5805720"/>
                <a:ext cx="218160" cy="218160"/>
                <a:chOff x="3705120" y="5805720"/>
                <a:chExt cx="218160" cy="218160"/>
              </a:xfrm>
            </p:grpSpPr>
            <p:sp>
              <p:nvSpPr>
                <p:cNvPr id="275" name="Oval 236"/>
                <p:cNvSpPr/>
                <p:nvPr/>
              </p:nvSpPr>
              <p:spPr>
                <a:xfrm rot="1320000">
                  <a:off x="3706200" y="589104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Oval 237"/>
                <p:cNvSpPr/>
                <p:nvPr/>
              </p:nvSpPr>
              <p:spPr>
                <a:xfrm rot="6720000">
                  <a:off x="3706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Group 238"/>
              <p:cNvGrpSpPr/>
              <p:nvPr/>
            </p:nvGrpSpPr>
            <p:grpSpPr>
              <a:xfrm>
                <a:off x="3705480" y="5806440"/>
                <a:ext cx="217800" cy="217800"/>
                <a:chOff x="3705480" y="5806440"/>
                <a:chExt cx="217800" cy="217800"/>
              </a:xfrm>
            </p:grpSpPr>
            <p:sp>
              <p:nvSpPr>
                <p:cNvPr id="278" name="Oval 239"/>
                <p:cNvSpPr/>
                <p:nvPr/>
              </p:nvSpPr>
              <p:spPr>
                <a:xfrm rot="4020000">
                  <a:off x="3705840" y="58906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Oval 240"/>
                <p:cNvSpPr/>
                <p:nvPr/>
              </p:nvSpPr>
              <p:spPr>
                <a:xfrm rot="9420000">
                  <a:off x="3706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0" name="Oval 241"/>
            <p:cNvSpPr/>
            <p:nvPr/>
          </p:nvSpPr>
          <p:spPr>
            <a:xfrm>
              <a:off x="3779280" y="5883120"/>
              <a:ext cx="70200" cy="6264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242"/>
          <p:cNvGrpSpPr/>
          <p:nvPr/>
        </p:nvGrpSpPr>
        <p:grpSpPr>
          <a:xfrm>
            <a:off x="8458200" y="5300640"/>
            <a:ext cx="218520" cy="218520"/>
            <a:chOff x="8458200" y="5300640"/>
            <a:chExt cx="218520" cy="218520"/>
          </a:xfrm>
        </p:grpSpPr>
        <p:grpSp>
          <p:nvGrpSpPr>
            <p:cNvPr id="282" name="Group 243"/>
            <p:cNvGrpSpPr/>
            <p:nvPr/>
          </p:nvGrpSpPr>
          <p:grpSpPr>
            <a:xfrm>
              <a:off x="8459640" y="5302080"/>
              <a:ext cx="216000" cy="216000"/>
              <a:chOff x="8459640" y="5302080"/>
              <a:chExt cx="216000" cy="216000"/>
            </a:xfrm>
          </p:grpSpPr>
          <p:grpSp>
            <p:nvGrpSpPr>
              <p:cNvPr id="283" name="Group 244"/>
              <p:cNvGrpSpPr/>
              <p:nvPr/>
            </p:nvGrpSpPr>
            <p:grpSpPr>
              <a:xfrm>
                <a:off x="8459640" y="5302080"/>
                <a:ext cx="216000" cy="216000"/>
                <a:chOff x="8459640" y="5302080"/>
                <a:chExt cx="216000" cy="216000"/>
              </a:xfrm>
            </p:grpSpPr>
            <p:sp>
              <p:nvSpPr>
                <p:cNvPr id="284" name="Oval 245"/>
                <p:cNvSpPr/>
                <p:nvPr/>
              </p:nvSpPr>
              <p:spPr>
                <a:xfrm>
                  <a:off x="8459640" y="5385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Oval 246"/>
                <p:cNvSpPr/>
                <p:nvPr/>
              </p:nvSpPr>
              <p:spPr>
                <a:xfrm rot="5400000">
                  <a:off x="8459280" y="538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247"/>
              <p:cNvGrpSpPr/>
              <p:nvPr/>
            </p:nvGrpSpPr>
            <p:grpSpPr>
              <a:xfrm>
                <a:off x="8473680" y="5316120"/>
                <a:ext cx="187560" cy="187560"/>
                <a:chOff x="8473680" y="5316120"/>
                <a:chExt cx="187560" cy="187560"/>
              </a:xfrm>
            </p:grpSpPr>
            <p:sp>
              <p:nvSpPr>
                <p:cNvPr id="287" name="Oval 248"/>
                <p:cNvSpPr/>
                <p:nvPr/>
              </p:nvSpPr>
              <p:spPr>
                <a:xfrm rot="2700000">
                  <a:off x="8459280" y="538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Oval 249"/>
                <p:cNvSpPr/>
                <p:nvPr/>
              </p:nvSpPr>
              <p:spPr>
                <a:xfrm rot="8100000">
                  <a:off x="8459280" y="5385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250"/>
            <p:cNvGrpSpPr/>
            <p:nvPr/>
          </p:nvGrpSpPr>
          <p:grpSpPr>
            <a:xfrm>
              <a:off x="8458200" y="5300640"/>
              <a:ext cx="218520" cy="218520"/>
              <a:chOff x="8458200" y="5300640"/>
              <a:chExt cx="218520" cy="218520"/>
            </a:xfrm>
          </p:grpSpPr>
          <p:grpSp>
            <p:nvGrpSpPr>
              <p:cNvPr id="290" name="Group 251"/>
              <p:cNvGrpSpPr/>
              <p:nvPr/>
            </p:nvGrpSpPr>
            <p:grpSpPr>
              <a:xfrm>
                <a:off x="8458200" y="5300640"/>
                <a:ext cx="218520" cy="218520"/>
                <a:chOff x="8458200" y="5300640"/>
                <a:chExt cx="218520" cy="218520"/>
              </a:xfrm>
            </p:grpSpPr>
            <p:sp>
              <p:nvSpPr>
                <p:cNvPr id="291" name="Oval 252"/>
                <p:cNvSpPr/>
                <p:nvPr/>
              </p:nvSpPr>
              <p:spPr>
                <a:xfrm rot="1320000">
                  <a:off x="8459280" y="538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Oval 253"/>
                <p:cNvSpPr/>
                <p:nvPr/>
              </p:nvSpPr>
              <p:spPr>
                <a:xfrm rot="6720000">
                  <a:off x="8459280" y="5385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Group 254"/>
              <p:cNvGrpSpPr/>
              <p:nvPr/>
            </p:nvGrpSpPr>
            <p:grpSpPr>
              <a:xfrm>
                <a:off x="8458920" y="5301000"/>
                <a:ext cx="217800" cy="217800"/>
                <a:chOff x="8458920" y="5301000"/>
                <a:chExt cx="217800" cy="217800"/>
              </a:xfrm>
            </p:grpSpPr>
            <p:sp>
              <p:nvSpPr>
                <p:cNvPr id="294" name="Oval 255"/>
                <p:cNvSpPr/>
                <p:nvPr/>
              </p:nvSpPr>
              <p:spPr>
                <a:xfrm rot="4020000">
                  <a:off x="8458920" y="5385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Oval 256"/>
                <p:cNvSpPr/>
                <p:nvPr/>
              </p:nvSpPr>
              <p:spPr>
                <a:xfrm rot="9420000">
                  <a:off x="8459640" y="53848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6" name="Oval 257"/>
            <p:cNvSpPr/>
            <p:nvPr/>
          </p:nvSpPr>
          <p:spPr>
            <a:xfrm>
              <a:off x="8532000" y="5378400"/>
              <a:ext cx="70560" cy="6300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258"/>
          <p:cNvGrpSpPr/>
          <p:nvPr/>
        </p:nvGrpSpPr>
        <p:grpSpPr>
          <a:xfrm>
            <a:off x="5145120" y="5445360"/>
            <a:ext cx="218520" cy="218160"/>
            <a:chOff x="5145120" y="5445360"/>
            <a:chExt cx="218520" cy="218160"/>
          </a:xfrm>
        </p:grpSpPr>
        <p:grpSp>
          <p:nvGrpSpPr>
            <p:cNvPr id="298" name="Group 259"/>
            <p:cNvGrpSpPr/>
            <p:nvPr/>
          </p:nvGrpSpPr>
          <p:grpSpPr>
            <a:xfrm>
              <a:off x="5146560" y="5446800"/>
              <a:ext cx="216000" cy="215640"/>
              <a:chOff x="5146560" y="5446800"/>
              <a:chExt cx="216000" cy="215640"/>
            </a:xfrm>
          </p:grpSpPr>
          <p:grpSp>
            <p:nvGrpSpPr>
              <p:cNvPr id="299" name="Group 260"/>
              <p:cNvGrpSpPr/>
              <p:nvPr/>
            </p:nvGrpSpPr>
            <p:grpSpPr>
              <a:xfrm>
                <a:off x="5146560" y="5446800"/>
                <a:ext cx="216000" cy="215640"/>
                <a:chOff x="5146560" y="5446800"/>
                <a:chExt cx="216000" cy="215640"/>
              </a:xfrm>
            </p:grpSpPr>
            <p:sp>
              <p:nvSpPr>
                <p:cNvPr id="300" name="Oval 261"/>
                <p:cNvSpPr/>
                <p:nvPr/>
              </p:nvSpPr>
              <p:spPr>
                <a:xfrm>
                  <a:off x="5146560" y="55306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Oval 262"/>
                <p:cNvSpPr/>
                <p:nvPr/>
              </p:nvSpPr>
              <p:spPr>
                <a:xfrm rot="5400000">
                  <a:off x="5146200" y="55299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Group 263"/>
              <p:cNvGrpSpPr/>
              <p:nvPr/>
            </p:nvGrpSpPr>
            <p:grpSpPr>
              <a:xfrm>
                <a:off x="5160960" y="5460840"/>
                <a:ext cx="187200" cy="187560"/>
                <a:chOff x="5160960" y="5460840"/>
                <a:chExt cx="187200" cy="187560"/>
              </a:xfrm>
            </p:grpSpPr>
            <p:sp>
              <p:nvSpPr>
                <p:cNvPr id="303" name="Oval 264"/>
                <p:cNvSpPr/>
                <p:nvPr/>
              </p:nvSpPr>
              <p:spPr>
                <a:xfrm rot="2700000">
                  <a:off x="5146560" y="55299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Oval 265"/>
                <p:cNvSpPr/>
                <p:nvPr/>
              </p:nvSpPr>
              <p:spPr>
                <a:xfrm rot="8100000">
                  <a:off x="5146200" y="5529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266"/>
            <p:cNvGrpSpPr/>
            <p:nvPr/>
          </p:nvGrpSpPr>
          <p:grpSpPr>
            <a:xfrm>
              <a:off x="5145120" y="5445360"/>
              <a:ext cx="218520" cy="218160"/>
              <a:chOff x="5145120" y="5445360"/>
              <a:chExt cx="218520" cy="218160"/>
            </a:xfrm>
          </p:grpSpPr>
          <p:grpSp>
            <p:nvGrpSpPr>
              <p:cNvPr id="306" name="Group 267"/>
              <p:cNvGrpSpPr/>
              <p:nvPr/>
            </p:nvGrpSpPr>
            <p:grpSpPr>
              <a:xfrm>
                <a:off x="5145120" y="5445360"/>
                <a:ext cx="218520" cy="218160"/>
                <a:chOff x="5145120" y="5445360"/>
                <a:chExt cx="218520" cy="218160"/>
              </a:xfrm>
            </p:grpSpPr>
            <p:sp>
              <p:nvSpPr>
                <p:cNvPr id="307" name="Oval 268"/>
                <p:cNvSpPr/>
                <p:nvPr/>
              </p:nvSpPr>
              <p:spPr>
                <a:xfrm rot="1320000">
                  <a:off x="5146200" y="5530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269"/>
                <p:cNvSpPr/>
                <p:nvPr/>
              </p:nvSpPr>
              <p:spPr>
                <a:xfrm rot="6720000">
                  <a:off x="5146200" y="55299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Group 270"/>
              <p:cNvGrpSpPr/>
              <p:nvPr/>
            </p:nvGrpSpPr>
            <p:grpSpPr>
              <a:xfrm>
                <a:off x="5145840" y="5445720"/>
                <a:ext cx="217800" cy="217800"/>
                <a:chOff x="5145840" y="5445720"/>
                <a:chExt cx="217800" cy="217800"/>
              </a:xfrm>
            </p:grpSpPr>
            <p:sp>
              <p:nvSpPr>
                <p:cNvPr id="310" name="Oval 271"/>
                <p:cNvSpPr/>
                <p:nvPr/>
              </p:nvSpPr>
              <p:spPr>
                <a:xfrm rot="4020000">
                  <a:off x="5146200" y="55299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272"/>
                <p:cNvSpPr/>
                <p:nvPr/>
              </p:nvSpPr>
              <p:spPr>
                <a:xfrm rot="9420000">
                  <a:off x="5146560" y="5529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2" name="Oval 273"/>
            <p:cNvSpPr/>
            <p:nvPr/>
          </p:nvSpPr>
          <p:spPr>
            <a:xfrm>
              <a:off x="5218920" y="5522760"/>
              <a:ext cx="70560" cy="6264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274"/>
          <p:cNvGrpSpPr/>
          <p:nvPr/>
        </p:nvGrpSpPr>
        <p:grpSpPr>
          <a:xfrm>
            <a:off x="8097840" y="5229360"/>
            <a:ext cx="218520" cy="218520"/>
            <a:chOff x="8097840" y="5229360"/>
            <a:chExt cx="218520" cy="218520"/>
          </a:xfrm>
        </p:grpSpPr>
        <p:grpSp>
          <p:nvGrpSpPr>
            <p:cNvPr id="314" name="Group 275"/>
            <p:cNvGrpSpPr/>
            <p:nvPr/>
          </p:nvGrpSpPr>
          <p:grpSpPr>
            <a:xfrm>
              <a:off x="8099280" y="5230800"/>
              <a:ext cx="216000" cy="216000"/>
              <a:chOff x="8099280" y="5230800"/>
              <a:chExt cx="216000" cy="216000"/>
            </a:xfrm>
          </p:grpSpPr>
          <p:grpSp>
            <p:nvGrpSpPr>
              <p:cNvPr id="315" name="Group 276"/>
              <p:cNvGrpSpPr/>
              <p:nvPr/>
            </p:nvGrpSpPr>
            <p:grpSpPr>
              <a:xfrm>
                <a:off x="8099280" y="5230800"/>
                <a:ext cx="216000" cy="216000"/>
                <a:chOff x="8099280" y="5230800"/>
                <a:chExt cx="216000" cy="216000"/>
              </a:xfrm>
            </p:grpSpPr>
            <p:sp>
              <p:nvSpPr>
                <p:cNvPr id="316" name="Oval 277"/>
                <p:cNvSpPr/>
                <p:nvPr/>
              </p:nvSpPr>
              <p:spPr>
                <a:xfrm>
                  <a:off x="8099280" y="53146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278"/>
                <p:cNvSpPr/>
                <p:nvPr/>
              </p:nvSpPr>
              <p:spPr>
                <a:xfrm rot="5400000">
                  <a:off x="8098920" y="5314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Group 279"/>
              <p:cNvGrpSpPr/>
              <p:nvPr/>
            </p:nvGrpSpPr>
            <p:grpSpPr>
              <a:xfrm>
                <a:off x="8113320" y="5244840"/>
                <a:ext cx="187560" cy="187560"/>
                <a:chOff x="8113320" y="5244840"/>
                <a:chExt cx="187560" cy="187560"/>
              </a:xfrm>
            </p:grpSpPr>
            <p:sp>
              <p:nvSpPr>
                <p:cNvPr id="319" name="Oval 280"/>
                <p:cNvSpPr/>
                <p:nvPr/>
              </p:nvSpPr>
              <p:spPr>
                <a:xfrm rot="2700000">
                  <a:off x="8098920" y="5314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281"/>
                <p:cNvSpPr/>
                <p:nvPr/>
              </p:nvSpPr>
              <p:spPr>
                <a:xfrm rot="8100000">
                  <a:off x="8098920" y="5313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1" name="Group 282"/>
            <p:cNvGrpSpPr/>
            <p:nvPr/>
          </p:nvGrpSpPr>
          <p:grpSpPr>
            <a:xfrm>
              <a:off x="8097840" y="5229360"/>
              <a:ext cx="218520" cy="218520"/>
              <a:chOff x="8097840" y="5229360"/>
              <a:chExt cx="218520" cy="218520"/>
            </a:xfrm>
          </p:grpSpPr>
          <p:grpSp>
            <p:nvGrpSpPr>
              <p:cNvPr id="322" name="Group 283"/>
              <p:cNvGrpSpPr/>
              <p:nvPr/>
            </p:nvGrpSpPr>
            <p:grpSpPr>
              <a:xfrm>
                <a:off x="8097840" y="5229360"/>
                <a:ext cx="218520" cy="218520"/>
                <a:chOff x="8097840" y="5229360"/>
                <a:chExt cx="218520" cy="218520"/>
              </a:xfrm>
            </p:grpSpPr>
            <p:sp>
              <p:nvSpPr>
                <p:cNvPr id="323" name="Oval 284"/>
                <p:cNvSpPr/>
                <p:nvPr/>
              </p:nvSpPr>
              <p:spPr>
                <a:xfrm rot="1320000">
                  <a:off x="8098920" y="5314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Oval 285"/>
                <p:cNvSpPr/>
                <p:nvPr/>
              </p:nvSpPr>
              <p:spPr>
                <a:xfrm rot="6720000">
                  <a:off x="8098920" y="5313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Group 286"/>
              <p:cNvGrpSpPr/>
              <p:nvPr/>
            </p:nvGrpSpPr>
            <p:grpSpPr>
              <a:xfrm>
                <a:off x="8098560" y="5229720"/>
                <a:ext cx="217800" cy="217800"/>
                <a:chOff x="8098560" y="5229720"/>
                <a:chExt cx="217800" cy="217800"/>
              </a:xfrm>
            </p:grpSpPr>
            <p:sp>
              <p:nvSpPr>
                <p:cNvPr id="326" name="Oval 287"/>
                <p:cNvSpPr/>
                <p:nvPr/>
              </p:nvSpPr>
              <p:spPr>
                <a:xfrm rot="4020000">
                  <a:off x="8098560" y="5313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Oval 288"/>
                <p:cNvSpPr/>
                <p:nvPr/>
              </p:nvSpPr>
              <p:spPr>
                <a:xfrm rot="9420000">
                  <a:off x="8099280" y="5313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8" name="Oval 289"/>
            <p:cNvSpPr/>
            <p:nvPr/>
          </p:nvSpPr>
          <p:spPr>
            <a:xfrm>
              <a:off x="8171640" y="5307120"/>
              <a:ext cx="70560" cy="63000"/>
            </a:xfrm>
            <a:prstGeom prst="ellips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290"/>
          <p:cNvGrpSpPr/>
          <p:nvPr/>
        </p:nvGrpSpPr>
        <p:grpSpPr>
          <a:xfrm>
            <a:off x="5650200" y="5372280"/>
            <a:ext cx="218160" cy="218520"/>
            <a:chOff x="5650200" y="5372280"/>
            <a:chExt cx="218160" cy="218520"/>
          </a:xfrm>
        </p:grpSpPr>
        <p:grpSp>
          <p:nvGrpSpPr>
            <p:cNvPr id="330" name="Group 291"/>
            <p:cNvGrpSpPr/>
            <p:nvPr/>
          </p:nvGrpSpPr>
          <p:grpSpPr>
            <a:xfrm>
              <a:off x="5651640" y="5373720"/>
              <a:ext cx="215640" cy="216000"/>
              <a:chOff x="5651640" y="5373720"/>
              <a:chExt cx="215640" cy="216000"/>
            </a:xfrm>
          </p:grpSpPr>
          <p:grpSp>
            <p:nvGrpSpPr>
              <p:cNvPr id="331" name="Group 292"/>
              <p:cNvGrpSpPr/>
              <p:nvPr/>
            </p:nvGrpSpPr>
            <p:grpSpPr>
              <a:xfrm>
                <a:off x="5651640" y="5373720"/>
                <a:ext cx="215640" cy="216000"/>
                <a:chOff x="5651640" y="5373720"/>
                <a:chExt cx="215640" cy="216000"/>
              </a:xfrm>
            </p:grpSpPr>
            <p:sp>
              <p:nvSpPr>
                <p:cNvPr id="332" name="Oval 293"/>
                <p:cNvSpPr/>
                <p:nvPr/>
              </p:nvSpPr>
              <p:spPr>
                <a:xfrm>
                  <a:off x="5651640" y="54576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Oval 294"/>
                <p:cNvSpPr/>
                <p:nvPr/>
              </p:nvSpPr>
              <p:spPr>
                <a:xfrm rot="5400000">
                  <a:off x="5651280" y="5457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Group 295"/>
              <p:cNvGrpSpPr/>
              <p:nvPr/>
            </p:nvGrpSpPr>
            <p:grpSpPr>
              <a:xfrm>
                <a:off x="5665320" y="5388120"/>
                <a:ext cx="187200" cy="187560"/>
                <a:chOff x="5665320" y="5388120"/>
                <a:chExt cx="187200" cy="187560"/>
              </a:xfrm>
            </p:grpSpPr>
            <p:sp>
              <p:nvSpPr>
                <p:cNvPr id="335" name="Oval 296"/>
                <p:cNvSpPr/>
                <p:nvPr/>
              </p:nvSpPr>
              <p:spPr>
                <a:xfrm rot="2700000">
                  <a:off x="5650920" y="5457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Oval 297"/>
                <p:cNvSpPr/>
                <p:nvPr/>
              </p:nvSpPr>
              <p:spPr>
                <a:xfrm rot="8100000">
                  <a:off x="5650920" y="54568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7" name="Group 298"/>
            <p:cNvGrpSpPr/>
            <p:nvPr/>
          </p:nvGrpSpPr>
          <p:grpSpPr>
            <a:xfrm>
              <a:off x="5650200" y="5372280"/>
              <a:ext cx="218160" cy="218520"/>
              <a:chOff x="5650200" y="5372280"/>
              <a:chExt cx="218160" cy="218520"/>
            </a:xfrm>
          </p:grpSpPr>
          <p:grpSp>
            <p:nvGrpSpPr>
              <p:cNvPr id="338" name="Group 299"/>
              <p:cNvGrpSpPr/>
              <p:nvPr/>
            </p:nvGrpSpPr>
            <p:grpSpPr>
              <a:xfrm>
                <a:off x="5650200" y="5372280"/>
                <a:ext cx="218160" cy="218520"/>
                <a:chOff x="5650200" y="5372280"/>
                <a:chExt cx="218160" cy="218520"/>
              </a:xfrm>
            </p:grpSpPr>
            <p:sp>
              <p:nvSpPr>
                <p:cNvPr id="339" name="Oval 300"/>
                <p:cNvSpPr/>
                <p:nvPr/>
              </p:nvSpPr>
              <p:spPr>
                <a:xfrm rot="1320000">
                  <a:off x="5651280" y="54576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Oval 301"/>
                <p:cNvSpPr/>
                <p:nvPr/>
              </p:nvSpPr>
              <p:spPr>
                <a:xfrm rot="6720000">
                  <a:off x="5650920" y="54568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" name="Group 302"/>
              <p:cNvGrpSpPr/>
              <p:nvPr/>
            </p:nvGrpSpPr>
            <p:grpSpPr>
              <a:xfrm>
                <a:off x="5650200" y="5373000"/>
                <a:ext cx="217800" cy="217800"/>
                <a:chOff x="5650200" y="5373000"/>
                <a:chExt cx="217800" cy="217800"/>
              </a:xfrm>
            </p:grpSpPr>
            <p:sp>
              <p:nvSpPr>
                <p:cNvPr id="342" name="Oval 303"/>
                <p:cNvSpPr/>
                <p:nvPr/>
              </p:nvSpPr>
              <p:spPr>
                <a:xfrm rot="4020000">
                  <a:off x="5650560" y="5457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Oval 304"/>
                <p:cNvSpPr/>
                <p:nvPr/>
              </p:nvSpPr>
              <p:spPr>
                <a:xfrm rot="9420000">
                  <a:off x="5651280" y="54568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4" name="Oval 305"/>
            <p:cNvSpPr/>
            <p:nvPr/>
          </p:nvSpPr>
          <p:spPr>
            <a:xfrm>
              <a:off x="5724000" y="5450040"/>
              <a:ext cx="70200" cy="63000"/>
            </a:xfrm>
            <a:prstGeom prst="ellipse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306"/>
          <p:cNvGrpSpPr/>
          <p:nvPr/>
        </p:nvGrpSpPr>
        <p:grpSpPr>
          <a:xfrm>
            <a:off x="7595280" y="6021720"/>
            <a:ext cx="146160" cy="146880"/>
            <a:chOff x="7595280" y="6021720"/>
            <a:chExt cx="146160" cy="146880"/>
          </a:xfrm>
        </p:grpSpPr>
        <p:grpSp>
          <p:nvGrpSpPr>
            <p:cNvPr id="346" name="Group 307"/>
            <p:cNvGrpSpPr/>
            <p:nvPr/>
          </p:nvGrpSpPr>
          <p:grpSpPr>
            <a:xfrm>
              <a:off x="7596360" y="6022800"/>
              <a:ext cx="144360" cy="144720"/>
              <a:chOff x="7596360" y="6022800"/>
              <a:chExt cx="144360" cy="144720"/>
            </a:xfrm>
          </p:grpSpPr>
          <p:grpSp>
            <p:nvGrpSpPr>
              <p:cNvPr id="347" name="Group 308"/>
              <p:cNvGrpSpPr/>
              <p:nvPr/>
            </p:nvGrpSpPr>
            <p:grpSpPr>
              <a:xfrm>
                <a:off x="7596360" y="6022800"/>
                <a:ext cx="144360" cy="144720"/>
                <a:chOff x="7596360" y="6022800"/>
                <a:chExt cx="144360" cy="144720"/>
              </a:xfrm>
            </p:grpSpPr>
            <p:sp>
              <p:nvSpPr>
                <p:cNvPr id="348" name="Oval 309"/>
                <p:cNvSpPr/>
                <p:nvPr/>
              </p:nvSpPr>
              <p:spPr>
                <a:xfrm>
                  <a:off x="7596360" y="6078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Oval 310"/>
                <p:cNvSpPr/>
                <p:nvPr/>
              </p:nvSpPr>
              <p:spPr>
                <a:xfrm rot="5400000">
                  <a:off x="7595640" y="60786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Group 311"/>
              <p:cNvGrpSpPr/>
              <p:nvPr/>
            </p:nvGrpSpPr>
            <p:grpSpPr>
              <a:xfrm>
                <a:off x="7605360" y="6032520"/>
                <a:ext cx="125280" cy="126000"/>
                <a:chOff x="7605360" y="6032520"/>
                <a:chExt cx="125280" cy="126000"/>
              </a:xfrm>
            </p:grpSpPr>
            <p:sp>
              <p:nvSpPr>
                <p:cNvPr id="351" name="Oval 312"/>
                <p:cNvSpPr/>
                <p:nvPr/>
              </p:nvSpPr>
              <p:spPr>
                <a:xfrm rot="2700000">
                  <a:off x="7595280" y="607896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Oval 313"/>
                <p:cNvSpPr/>
                <p:nvPr/>
              </p:nvSpPr>
              <p:spPr>
                <a:xfrm rot="8100000">
                  <a:off x="7595640" y="6078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3" name="Group 314"/>
            <p:cNvGrpSpPr/>
            <p:nvPr/>
          </p:nvGrpSpPr>
          <p:grpSpPr>
            <a:xfrm>
              <a:off x="7595280" y="6021720"/>
              <a:ext cx="146160" cy="146880"/>
              <a:chOff x="7595280" y="6021720"/>
              <a:chExt cx="146160" cy="146880"/>
            </a:xfrm>
          </p:grpSpPr>
          <p:grpSp>
            <p:nvGrpSpPr>
              <p:cNvPr id="354" name="Group 315"/>
              <p:cNvGrpSpPr/>
              <p:nvPr/>
            </p:nvGrpSpPr>
            <p:grpSpPr>
              <a:xfrm>
                <a:off x="7595280" y="6021720"/>
                <a:ext cx="146160" cy="146520"/>
                <a:chOff x="7595280" y="6021720"/>
                <a:chExt cx="146160" cy="146520"/>
              </a:xfrm>
            </p:grpSpPr>
            <p:sp>
              <p:nvSpPr>
                <p:cNvPr id="355" name="Oval 316"/>
                <p:cNvSpPr/>
                <p:nvPr/>
              </p:nvSpPr>
              <p:spPr>
                <a:xfrm rot="1320000">
                  <a:off x="7596000" y="6078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Oval 317"/>
                <p:cNvSpPr/>
                <p:nvPr/>
              </p:nvSpPr>
              <p:spPr>
                <a:xfrm rot="6720000">
                  <a:off x="7595640" y="60782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7" name="Group 318"/>
              <p:cNvGrpSpPr/>
              <p:nvPr/>
            </p:nvGrpSpPr>
            <p:grpSpPr>
              <a:xfrm>
                <a:off x="7595280" y="6022440"/>
                <a:ext cx="145800" cy="146160"/>
                <a:chOff x="7595280" y="6022440"/>
                <a:chExt cx="145800" cy="146160"/>
              </a:xfrm>
            </p:grpSpPr>
            <p:sp>
              <p:nvSpPr>
                <p:cNvPr id="358" name="Oval 319"/>
                <p:cNvSpPr/>
                <p:nvPr/>
              </p:nvSpPr>
              <p:spPr>
                <a:xfrm rot="4020000">
                  <a:off x="7595280" y="607896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Oval 320"/>
                <p:cNvSpPr/>
                <p:nvPr/>
              </p:nvSpPr>
              <p:spPr>
                <a:xfrm rot="9420000">
                  <a:off x="7596000" y="6078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0" name="Oval 321"/>
            <p:cNvSpPr/>
            <p:nvPr/>
          </p:nvSpPr>
          <p:spPr>
            <a:xfrm>
              <a:off x="7644600" y="6073920"/>
              <a:ext cx="47160" cy="42120"/>
            </a:xfrm>
            <a:prstGeom prst="ellips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322"/>
          <p:cNvGrpSpPr/>
          <p:nvPr/>
        </p:nvGrpSpPr>
        <p:grpSpPr>
          <a:xfrm>
            <a:off x="3850200" y="6166440"/>
            <a:ext cx="146160" cy="146160"/>
            <a:chOff x="3850200" y="6166440"/>
            <a:chExt cx="146160" cy="146160"/>
          </a:xfrm>
        </p:grpSpPr>
        <p:grpSp>
          <p:nvGrpSpPr>
            <p:cNvPr id="362" name="Group 323"/>
            <p:cNvGrpSpPr/>
            <p:nvPr/>
          </p:nvGrpSpPr>
          <p:grpSpPr>
            <a:xfrm>
              <a:off x="3851280" y="6167520"/>
              <a:ext cx="144360" cy="144360"/>
              <a:chOff x="3851280" y="6167520"/>
              <a:chExt cx="144360" cy="144360"/>
            </a:xfrm>
          </p:grpSpPr>
          <p:grpSp>
            <p:nvGrpSpPr>
              <p:cNvPr id="363" name="Group 324"/>
              <p:cNvGrpSpPr/>
              <p:nvPr/>
            </p:nvGrpSpPr>
            <p:grpSpPr>
              <a:xfrm>
                <a:off x="3851280" y="6167520"/>
                <a:ext cx="144360" cy="144360"/>
                <a:chOff x="3851280" y="6167520"/>
                <a:chExt cx="144360" cy="144360"/>
              </a:xfrm>
            </p:grpSpPr>
            <p:sp>
              <p:nvSpPr>
                <p:cNvPr id="364" name="Oval 325"/>
                <p:cNvSpPr/>
                <p:nvPr/>
              </p:nvSpPr>
              <p:spPr>
                <a:xfrm>
                  <a:off x="3851280" y="62236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Oval 326"/>
                <p:cNvSpPr/>
                <p:nvPr/>
              </p:nvSpPr>
              <p:spPr>
                <a:xfrm rot="5400000">
                  <a:off x="3850920" y="6223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6" name="Group 327"/>
              <p:cNvGrpSpPr/>
              <p:nvPr/>
            </p:nvGrpSpPr>
            <p:grpSpPr>
              <a:xfrm>
                <a:off x="3860280" y="6176880"/>
                <a:ext cx="125640" cy="125640"/>
                <a:chOff x="3860280" y="6176880"/>
                <a:chExt cx="125640" cy="125640"/>
              </a:xfrm>
            </p:grpSpPr>
            <p:sp>
              <p:nvSpPr>
                <p:cNvPr id="367" name="Oval 328"/>
                <p:cNvSpPr/>
                <p:nvPr/>
              </p:nvSpPr>
              <p:spPr>
                <a:xfrm rot="2700000">
                  <a:off x="3850920" y="6223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Oval 329"/>
                <p:cNvSpPr/>
                <p:nvPr/>
              </p:nvSpPr>
              <p:spPr>
                <a:xfrm rot="8100000">
                  <a:off x="385056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9" name="Group 330"/>
            <p:cNvGrpSpPr/>
            <p:nvPr/>
          </p:nvGrpSpPr>
          <p:grpSpPr>
            <a:xfrm>
              <a:off x="3850200" y="6166440"/>
              <a:ext cx="146160" cy="146160"/>
              <a:chOff x="3850200" y="6166440"/>
              <a:chExt cx="146160" cy="146160"/>
            </a:xfrm>
          </p:grpSpPr>
          <p:grpSp>
            <p:nvGrpSpPr>
              <p:cNvPr id="370" name="Group 331"/>
              <p:cNvGrpSpPr/>
              <p:nvPr/>
            </p:nvGrpSpPr>
            <p:grpSpPr>
              <a:xfrm>
                <a:off x="3850200" y="6166440"/>
                <a:ext cx="146160" cy="146160"/>
                <a:chOff x="3850200" y="6166440"/>
                <a:chExt cx="146160" cy="146160"/>
              </a:xfrm>
            </p:grpSpPr>
            <p:sp>
              <p:nvSpPr>
                <p:cNvPr id="371" name="Oval 332"/>
                <p:cNvSpPr/>
                <p:nvPr/>
              </p:nvSpPr>
              <p:spPr>
                <a:xfrm rot="1320000">
                  <a:off x="3850920" y="6223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Oval 333"/>
                <p:cNvSpPr/>
                <p:nvPr/>
              </p:nvSpPr>
              <p:spPr>
                <a:xfrm rot="6720000">
                  <a:off x="385092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" name="Group 334"/>
              <p:cNvGrpSpPr/>
              <p:nvPr/>
            </p:nvGrpSpPr>
            <p:grpSpPr>
              <a:xfrm>
                <a:off x="3850200" y="6166800"/>
                <a:ext cx="145800" cy="145800"/>
                <a:chOff x="3850200" y="6166800"/>
                <a:chExt cx="145800" cy="145800"/>
              </a:xfrm>
            </p:grpSpPr>
            <p:sp>
              <p:nvSpPr>
                <p:cNvPr id="374" name="Oval 335"/>
                <p:cNvSpPr/>
                <p:nvPr/>
              </p:nvSpPr>
              <p:spPr>
                <a:xfrm rot="4020000">
                  <a:off x="385056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Oval 336"/>
                <p:cNvSpPr/>
                <p:nvPr/>
              </p:nvSpPr>
              <p:spPr>
                <a:xfrm rot="9420000">
                  <a:off x="3850920" y="622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6" name="Oval 337"/>
            <p:cNvSpPr/>
            <p:nvPr/>
          </p:nvSpPr>
          <p:spPr>
            <a:xfrm>
              <a:off x="3899520" y="6218280"/>
              <a:ext cx="47160" cy="42120"/>
            </a:xfrm>
            <a:prstGeom prst="ellipse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338"/>
          <p:cNvGrpSpPr/>
          <p:nvPr/>
        </p:nvGrpSpPr>
        <p:grpSpPr>
          <a:xfrm>
            <a:off x="8603280" y="5661360"/>
            <a:ext cx="146160" cy="146880"/>
            <a:chOff x="8603280" y="5661360"/>
            <a:chExt cx="146160" cy="146880"/>
          </a:xfrm>
        </p:grpSpPr>
        <p:grpSp>
          <p:nvGrpSpPr>
            <p:cNvPr id="378" name="Group 339"/>
            <p:cNvGrpSpPr/>
            <p:nvPr/>
          </p:nvGrpSpPr>
          <p:grpSpPr>
            <a:xfrm>
              <a:off x="8604360" y="5662440"/>
              <a:ext cx="144360" cy="144720"/>
              <a:chOff x="8604360" y="5662440"/>
              <a:chExt cx="144360" cy="144720"/>
            </a:xfrm>
          </p:grpSpPr>
          <p:grpSp>
            <p:nvGrpSpPr>
              <p:cNvPr id="379" name="Group 340"/>
              <p:cNvGrpSpPr/>
              <p:nvPr/>
            </p:nvGrpSpPr>
            <p:grpSpPr>
              <a:xfrm>
                <a:off x="8604360" y="5662440"/>
                <a:ext cx="144360" cy="144720"/>
                <a:chOff x="8604360" y="5662440"/>
                <a:chExt cx="144360" cy="144720"/>
              </a:xfrm>
            </p:grpSpPr>
            <p:sp>
              <p:nvSpPr>
                <p:cNvPr id="380" name="Oval 341"/>
                <p:cNvSpPr/>
                <p:nvPr/>
              </p:nvSpPr>
              <p:spPr>
                <a:xfrm>
                  <a:off x="8604360" y="5718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Oval 342"/>
                <p:cNvSpPr/>
                <p:nvPr/>
              </p:nvSpPr>
              <p:spPr>
                <a:xfrm rot="5400000">
                  <a:off x="8603640" y="57182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2" name="Group 343"/>
              <p:cNvGrpSpPr/>
              <p:nvPr/>
            </p:nvGrpSpPr>
            <p:grpSpPr>
              <a:xfrm>
                <a:off x="8613360" y="5672160"/>
                <a:ext cx="125280" cy="126000"/>
                <a:chOff x="8613360" y="5672160"/>
                <a:chExt cx="125280" cy="126000"/>
              </a:xfrm>
            </p:grpSpPr>
            <p:sp>
              <p:nvSpPr>
                <p:cNvPr id="383" name="Oval 344"/>
                <p:cNvSpPr/>
                <p:nvPr/>
              </p:nvSpPr>
              <p:spPr>
                <a:xfrm rot="2700000">
                  <a:off x="8603280" y="57186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Oval 345"/>
                <p:cNvSpPr/>
                <p:nvPr/>
              </p:nvSpPr>
              <p:spPr>
                <a:xfrm rot="8100000">
                  <a:off x="8603640" y="5718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346"/>
            <p:cNvGrpSpPr/>
            <p:nvPr/>
          </p:nvGrpSpPr>
          <p:grpSpPr>
            <a:xfrm>
              <a:off x="8603280" y="5661360"/>
              <a:ext cx="146160" cy="146880"/>
              <a:chOff x="8603280" y="5661360"/>
              <a:chExt cx="146160" cy="146880"/>
            </a:xfrm>
          </p:grpSpPr>
          <p:grpSp>
            <p:nvGrpSpPr>
              <p:cNvPr id="386" name="Group 347"/>
              <p:cNvGrpSpPr/>
              <p:nvPr/>
            </p:nvGrpSpPr>
            <p:grpSpPr>
              <a:xfrm>
                <a:off x="8603280" y="5661360"/>
                <a:ext cx="146160" cy="146520"/>
                <a:chOff x="8603280" y="5661360"/>
                <a:chExt cx="146160" cy="146520"/>
              </a:xfrm>
            </p:grpSpPr>
            <p:sp>
              <p:nvSpPr>
                <p:cNvPr id="387" name="Oval 348"/>
                <p:cNvSpPr/>
                <p:nvPr/>
              </p:nvSpPr>
              <p:spPr>
                <a:xfrm rot="1320000">
                  <a:off x="8604000" y="5718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Oval 349"/>
                <p:cNvSpPr/>
                <p:nvPr/>
              </p:nvSpPr>
              <p:spPr>
                <a:xfrm rot="6720000">
                  <a:off x="8603640" y="571788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9" name="Group 350"/>
              <p:cNvGrpSpPr/>
              <p:nvPr/>
            </p:nvGrpSpPr>
            <p:grpSpPr>
              <a:xfrm>
                <a:off x="8603280" y="5662080"/>
                <a:ext cx="145800" cy="146160"/>
                <a:chOff x="8603280" y="5662080"/>
                <a:chExt cx="145800" cy="146160"/>
              </a:xfrm>
            </p:grpSpPr>
            <p:sp>
              <p:nvSpPr>
                <p:cNvPr id="390" name="Oval 351"/>
                <p:cNvSpPr/>
                <p:nvPr/>
              </p:nvSpPr>
              <p:spPr>
                <a:xfrm rot="4020000">
                  <a:off x="8603280" y="57186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Oval 352"/>
                <p:cNvSpPr/>
                <p:nvPr/>
              </p:nvSpPr>
              <p:spPr>
                <a:xfrm rot="9420000">
                  <a:off x="8604000" y="57178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2" name="Oval 353"/>
            <p:cNvSpPr/>
            <p:nvPr/>
          </p:nvSpPr>
          <p:spPr>
            <a:xfrm>
              <a:off x="8652600" y="5713560"/>
              <a:ext cx="47160" cy="42120"/>
            </a:xfrm>
            <a:prstGeom prst="ellipse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354"/>
          <p:cNvGrpSpPr/>
          <p:nvPr/>
        </p:nvGrpSpPr>
        <p:grpSpPr>
          <a:xfrm>
            <a:off x="5290200" y="5806080"/>
            <a:ext cx="146160" cy="146160"/>
            <a:chOff x="5290200" y="5806080"/>
            <a:chExt cx="146160" cy="146160"/>
          </a:xfrm>
        </p:grpSpPr>
        <p:grpSp>
          <p:nvGrpSpPr>
            <p:cNvPr id="394" name="Group 355"/>
            <p:cNvGrpSpPr/>
            <p:nvPr/>
          </p:nvGrpSpPr>
          <p:grpSpPr>
            <a:xfrm>
              <a:off x="5291280" y="5807160"/>
              <a:ext cx="144360" cy="144360"/>
              <a:chOff x="5291280" y="5807160"/>
              <a:chExt cx="144360" cy="144360"/>
            </a:xfrm>
          </p:grpSpPr>
          <p:grpSp>
            <p:nvGrpSpPr>
              <p:cNvPr id="395" name="Group 356"/>
              <p:cNvGrpSpPr/>
              <p:nvPr/>
            </p:nvGrpSpPr>
            <p:grpSpPr>
              <a:xfrm>
                <a:off x="5291280" y="5807160"/>
                <a:ext cx="144360" cy="144360"/>
                <a:chOff x="5291280" y="5807160"/>
                <a:chExt cx="144360" cy="144360"/>
              </a:xfrm>
            </p:grpSpPr>
            <p:sp>
              <p:nvSpPr>
                <p:cNvPr id="396" name="Oval 357"/>
                <p:cNvSpPr/>
                <p:nvPr/>
              </p:nvSpPr>
              <p:spPr>
                <a:xfrm>
                  <a:off x="5291280" y="5863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Oval 358"/>
                <p:cNvSpPr/>
                <p:nvPr/>
              </p:nvSpPr>
              <p:spPr>
                <a:xfrm rot="5400000">
                  <a:off x="5290920" y="586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Group 359"/>
              <p:cNvGrpSpPr/>
              <p:nvPr/>
            </p:nvGrpSpPr>
            <p:grpSpPr>
              <a:xfrm>
                <a:off x="5300280" y="5816520"/>
                <a:ext cx="125640" cy="125640"/>
                <a:chOff x="5300280" y="5816520"/>
                <a:chExt cx="125640" cy="125640"/>
              </a:xfrm>
            </p:grpSpPr>
            <p:sp>
              <p:nvSpPr>
                <p:cNvPr id="399" name="Oval 360"/>
                <p:cNvSpPr/>
                <p:nvPr/>
              </p:nvSpPr>
              <p:spPr>
                <a:xfrm rot="2700000">
                  <a:off x="5290920" y="586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Oval 361"/>
                <p:cNvSpPr/>
                <p:nvPr/>
              </p:nvSpPr>
              <p:spPr>
                <a:xfrm rot="8100000">
                  <a:off x="5290560" y="586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1" name="Group 362"/>
            <p:cNvGrpSpPr/>
            <p:nvPr/>
          </p:nvGrpSpPr>
          <p:grpSpPr>
            <a:xfrm>
              <a:off x="5290200" y="5806080"/>
              <a:ext cx="146160" cy="146160"/>
              <a:chOff x="5290200" y="5806080"/>
              <a:chExt cx="146160" cy="146160"/>
            </a:xfrm>
          </p:grpSpPr>
          <p:grpSp>
            <p:nvGrpSpPr>
              <p:cNvPr id="402" name="Group 363"/>
              <p:cNvGrpSpPr/>
              <p:nvPr/>
            </p:nvGrpSpPr>
            <p:grpSpPr>
              <a:xfrm>
                <a:off x="5290200" y="5806080"/>
                <a:ext cx="146160" cy="146160"/>
                <a:chOff x="5290200" y="5806080"/>
                <a:chExt cx="146160" cy="146160"/>
              </a:xfrm>
            </p:grpSpPr>
            <p:sp>
              <p:nvSpPr>
                <p:cNvPr id="403" name="Oval 364"/>
                <p:cNvSpPr/>
                <p:nvPr/>
              </p:nvSpPr>
              <p:spPr>
                <a:xfrm rot="1320000">
                  <a:off x="5290920" y="586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Oval 365"/>
                <p:cNvSpPr/>
                <p:nvPr/>
              </p:nvSpPr>
              <p:spPr>
                <a:xfrm rot="6720000">
                  <a:off x="5290920" y="586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" name="Group 366"/>
              <p:cNvGrpSpPr/>
              <p:nvPr/>
            </p:nvGrpSpPr>
            <p:grpSpPr>
              <a:xfrm>
                <a:off x="5290200" y="5806440"/>
                <a:ext cx="145800" cy="145800"/>
                <a:chOff x="5290200" y="5806440"/>
                <a:chExt cx="145800" cy="145800"/>
              </a:xfrm>
            </p:grpSpPr>
            <p:sp>
              <p:nvSpPr>
                <p:cNvPr id="406" name="Oval 367"/>
                <p:cNvSpPr/>
                <p:nvPr/>
              </p:nvSpPr>
              <p:spPr>
                <a:xfrm rot="4020000">
                  <a:off x="5290560" y="586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Oval 368"/>
                <p:cNvSpPr/>
                <p:nvPr/>
              </p:nvSpPr>
              <p:spPr>
                <a:xfrm rot="9420000">
                  <a:off x="5290920" y="5862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8" name="Oval 369"/>
            <p:cNvSpPr/>
            <p:nvPr/>
          </p:nvSpPr>
          <p:spPr>
            <a:xfrm>
              <a:off x="5339520" y="5857920"/>
              <a:ext cx="47160" cy="42120"/>
            </a:xfrm>
            <a:prstGeom prst="ellipse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370"/>
          <p:cNvGrpSpPr/>
          <p:nvPr/>
        </p:nvGrpSpPr>
        <p:grpSpPr>
          <a:xfrm>
            <a:off x="8242920" y="5590080"/>
            <a:ext cx="146160" cy="146160"/>
            <a:chOff x="8242920" y="5590080"/>
            <a:chExt cx="146160" cy="146160"/>
          </a:xfrm>
        </p:grpSpPr>
        <p:grpSp>
          <p:nvGrpSpPr>
            <p:cNvPr id="410" name="Group 371"/>
            <p:cNvGrpSpPr/>
            <p:nvPr/>
          </p:nvGrpSpPr>
          <p:grpSpPr>
            <a:xfrm>
              <a:off x="8244000" y="5591160"/>
              <a:ext cx="144360" cy="144360"/>
              <a:chOff x="8244000" y="5591160"/>
              <a:chExt cx="144360" cy="144360"/>
            </a:xfrm>
          </p:grpSpPr>
          <p:grpSp>
            <p:nvGrpSpPr>
              <p:cNvPr id="411" name="Group 372"/>
              <p:cNvGrpSpPr/>
              <p:nvPr/>
            </p:nvGrpSpPr>
            <p:grpSpPr>
              <a:xfrm>
                <a:off x="8244000" y="5591160"/>
                <a:ext cx="144360" cy="144360"/>
                <a:chOff x="8244000" y="5591160"/>
                <a:chExt cx="144360" cy="144360"/>
              </a:xfrm>
            </p:grpSpPr>
            <p:sp>
              <p:nvSpPr>
                <p:cNvPr id="412" name="Oval 373"/>
                <p:cNvSpPr/>
                <p:nvPr/>
              </p:nvSpPr>
              <p:spPr>
                <a:xfrm>
                  <a:off x="8244000" y="5647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Oval 374"/>
                <p:cNvSpPr/>
                <p:nvPr/>
              </p:nvSpPr>
              <p:spPr>
                <a:xfrm rot="5400000">
                  <a:off x="8243640" y="5646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4" name="Group 375"/>
              <p:cNvGrpSpPr/>
              <p:nvPr/>
            </p:nvGrpSpPr>
            <p:grpSpPr>
              <a:xfrm>
                <a:off x="8253000" y="5600520"/>
                <a:ext cx="125640" cy="125640"/>
                <a:chOff x="8253000" y="5600520"/>
                <a:chExt cx="125640" cy="125640"/>
              </a:xfrm>
            </p:grpSpPr>
            <p:sp>
              <p:nvSpPr>
                <p:cNvPr id="415" name="Oval 376"/>
                <p:cNvSpPr/>
                <p:nvPr/>
              </p:nvSpPr>
              <p:spPr>
                <a:xfrm rot="2700000">
                  <a:off x="8243640" y="5646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Oval 377"/>
                <p:cNvSpPr/>
                <p:nvPr/>
              </p:nvSpPr>
              <p:spPr>
                <a:xfrm rot="8100000">
                  <a:off x="8243280" y="5646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7" name="Group 378"/>
            <p:cNvGrpSpPr/>
            <p:nvPr/>
          </p:nvGrpSpPr>
          <p:grpSpPr>
            <a:xfrm>
              <a:off x="8242920" y="5590080"/>
              <a:ext cx="146160" cy="146160"/>
              <a:chOff x="8242920" y="5590080"/>
              <a:chExt cx="146160" cy="146160"/>
            </a:xfrm>
          </p:grpSpPr>
          <p:grpSp>
            <p:nvGrpSpPr>
              <p:cNvPr id="418" name="Group 379"/>
              <p:cNvGrpSpPr/>
              <p:nvPr/>
            </p:nvGrpSpPr>
            <p:grpSpPr>
              <a:xfrm>
                <a:off x="8242920" y="5590080"/>
                <a:ext cx="146160" cy="146160"/>
                <a:chOff x="8242920" y="5590080"/>
                <a:chExt cx="146160" cy="146160"/>
              </a:xfrm>
            </p:grpSpPr>
            <p:sp>
              <p:nvSpPr>
                <p:cNvPr id="419" name="Oval 380"/>
                <p:cNvSpPr/>
                <p:nvPr/>
              </p:nvSpPr>
              <p:spPr>
                <a:xfrm rot="1320000">
                  <a:off x="8243640" y="5646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Oval 381"/>
                <p:cNvSpPr/>
                <p:nvPr/>
              </p:nvSpPr>
              <p:spPr>
                <a:xfrm rot="6720000">
                  <a:off x="8243640" y="5646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" name="Group 382"/>
              <p:cNvGrpSpPr/>
              <p:nvPr/>
            </p:nvGrpSpPr>
            <p:grpSpPr>
              <a:xfrm>
                <a:off x="8242920" y="5590440"/>
                <a:ext cx="145800" cy="145800"/>
                <a:chOff x="8242920" y="5590440"/>
                <a:chExt cx="145800" cy="145800"/>
              </a:xfrm>
            </p:grpSpPr>
            <p:sp>
              <p:nvSpPr>
                <p:cNvPr id="422" name="Oval 383"/>
                <p:cNvSpPr/>
                <p:nvPr/>
              </p:nvSpPr>
              <p:spPr>
                <a:xfrm rot="4020000">
                  <a:off x="8243280" y="5646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Oval 384"/>
                <p:cNvSpPr/>
                <p:nvPr/>
              </p:nvSpPr>
              <p:spPr>
                <a:xfrm rot="9420000">
                  <a:off x="8243640" y="5646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4" name="Oval 385"/>
            <p:cNvSpPr/>
            <p:nvPr/>
          </p:nvSpPr>
          <p:spPr>
            <a:xfrm>
              <a:off x="8292240" y="5641920"/>
              <a:ext cx="47160" cy="42120"/>
            </a:xfrm>
            <a:prstGeom prst="ellipse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386"/>
          <p:cNvGrpSpPr/>
          <p:nvPr/>
        </p:nvGrpSpPr>
        <p:grpSpPr>
          <a:xfrm>
            <a:off x="5361480" y="5445720"/>
            <a:ext cx="146160" cy="146160"/>
            <a:chOff x="5361480" y="5445720"/>
            <a:chExt cx="146160" cy="146160"/>
          </a:xfrm>
        </p:grpSpPr>
        <p:grpSp>
          <p:nvGrpSpPr>
            <p:cNvPr id="426" name="Group 387"/>
            <p:cNvGrpSpPr/>
            <p:nvPr/>
          </p:nvGrpSpPr>
          <p:grpSpPr>
            <a:xfrm>
              <a:off x="5362560" y="5446800"/>
              <a:ext cx="144360" cy="144360"/>
              <a:chOff x="5362560" y="5446800"/>
              <a:chExt cx="144360" cy="144360"/>
            </a:xfrm>
          </p:grpSpPr>
          <p:grpSp>
            <p:nvGrpSpPr>
              <p:cNvPr id="427" name="Group 388"/>
              <p:cNvGrpSpPr/>
              <p:nvPr/>
            </p:nvGrpSpPr>
            <p:grpSpPr>
              <a:xfrm>
                <a:off x="5362560" y="5446800"/>
                <a:ext cx="144360" cy="144360"/>
                <a:chOff x="5362560" y="5446800"/>
                <a:chExt cx="144360" cy="144360"/>
              </a:xfrm>
            </p:grpSpPr>
            <p:sp>
              <p:nvSpPr>
                <p:cNvPr id="428" name="Oval 389"/>
                <p:cNvSpPr/>
                <p:nvPr/>
              </p:nvSpPr>
              <p:spPr>
                <a:xfrm>
                  <a:off x="5362560" y="550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Oval 390"/>
                <p:cNvSpPr/>
                <p:nvPr/>
              </p:nvSpPr>
              <p:spPr>
                <a:xfrm rot="5400000">
                  <a:off x="5362200" y="550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0" name="Group 391"/>
              <p:cNvGrpSpPr/>
              <p:nvPr/>
            </p:nvGrpSpPr>
            <p:grpSpPr>
              <a:xfrm>
                <a:off x="5371560" y="5456160"/>
                <a:ext cx="125640" cy="125640"/>
                <a:chOff x="5371560" y="5456160"/>
                <a:chExt cx="125640" cy="125640"/>
              </a:xfrm>
            </p:grpSpPr>
            <p:sp>
              <p:nvSpPr>
                <p:cNvPr id="431" name="Oval 392"/>
                <p:cNvSpPr/>
                <p:nvPr/>
              </p:nvSpPr>
              <p:spPr>
                <a:xfrm rot="2700000">
                  <a:off x="5362200" y="550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Oval 393"/>
                <p:cNvSpPr/>
                <p:nvPr/>
              </p:nvSpPr>
              <p:spPr>
                <a:xfrm rot="8100000">
                  <a:off x="5361840" y="5502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3" name="Group 394"/>
            <p:cNvGrpSpPr/>
            <p:nvPr/>
          </p:nvGrpSpPr>
          <p:grpSpPr>
            <a:xfrm>
              <a:off x="5361480" y="5445720"/>
              <a:ext cx="146160" cy="146160"/>
              <a:chOff x="5361480" y="5445720"/>
              <a:chExt cx="146160" cy="146160"/>
            </a:xfrm>
          </p:grpSpPr>
          <p:grpSp>
            <p:nvGrpSpPr>
              <p:cNvPr id="434" name="Group 395"/>
              <p:cNvGrpSpPr/>
              <p:nvPr/>
            </p:nvGrpSpPr>
            <p:grpSpPr>
              <a:xfrm>
                <a:off x="5361480" y="5445720"/>
                <a:ext cx="146160" cy="146160"/>
                <a:chOff x="5361480" y="5445720"/>
                <a:chExt cx="146160" cy="146160"/>
              </a:xfrm>
            </p:grpSpPr>
            <p:sp>
              <p:nvSpPr>
                <p:cNvPr id="435" name="Oval 396"/>
                <p:cNvSpPr/>
                <p:nvPr/>
              </p:nvSpPr>
              <p:spPr>
                <a:xfrm rot="1320000">
                  <a:off x="5362200" y="550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Oval 397"/>
                <p:cNvSpPr/>
                <p:nvPr/>
              </p:nvSpPr>
              <p:spPr>
                <a:xfrm rot="6720000">
                  <a:off x="5362200" y="5502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7" name="Group 398"/>
              <p:cNvGrpSpPr/>
              <p:nvPr/>
            </p:nvGrpSpPr>
            <p:grpSpPr>
              <a:xfrm>
                <a:off x="5361480" y="5446080"/>
                <a:ext cx="145800" cy="145800"/>
                <a:chOff x="5361480" y="5446080"/>
                <a:chExt cx="145800" cy="145800"/>
              </a:xfrm>
            </p:grpSpPr>
            <p:sp>
              <p:nvSpPr>
                <p:cNvPr id="438" name="Oval 399"/>
                <p:cNvSpPr/>
                <p:nvPr/>
              </p:nvSpPr>
              <p:spPr>
                <a:xfrm rot="4020000">
                  <a:off x="5361840" y="5502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Oval 400"/>
                <p:cNvSpPr/>
                <p:nvPr/>
              </p:nvSpPr>
              <p:spPr>
                <a:xfrm rot="9420000">
                  <a:off x="5362200" y="55018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Oval 401"/>
            <p:cNvSpPr/>
            <p:nvPr/>
          </p:nvSpPr>
          <p:spPr>
            <a:xfrm>
              <a:off x="5410800" y="5497560"/>
              <a:ext cx="47160" cy="42120"/>
            </a:xfrm>
            <a:prstGeom prst="ellipse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402"/>
          <p:cNvGrpSpPr/>
          <p:nvPr/>
        </p:nvGrpSpPr>
        <p:grpSpPr>
          <a:xfrm>
            <a:off x="1400760" y="5658480"/>
            <a:ext cx="367920" cy="367920"/>
            <a:chOff x="1400760" y="5658480"/>
            <a:chExt cx="367920" cy="367920"/>
          </a:xfrm>
        </p:grpSpPr>
        <p:grpSp>
          <p:nvGrpSpPr>
            <p:cNvPr id="442" name="Group 403"/>
            <p:cNvGrpSpPr/>
            <p:nvPr/>
          </p:nvGrpSpPr>
          <p:grpSpPr>
            <a:xfrm>
              <a:off x="1403280" y="5661000"/>
              <a:ext cx="363240" cy="363240"/>
              <a:chOff x="1403280" y="5661000"/>
              <a:chExt cx="363240" cy="363240"/>
            </a:xfrm>
          </p:grpSpPr>
          <p:grpSp>
            <p:nvGrpSpPr>
              <p:cNvPr id="443" name="Group 404"/>
              <p:cNvGrpSpPr/>
              <p:nvPr/>
            </p:nvGrpSpPr>
            <p:grpSpPr>
              <a:xfrm>
                <a:off x="1403280" y="5661000"/>
                <a:ext cx="363240" cy="363240"/>
                <a:chOff x="1403280" y="5661000"/>
                <a:chExt cx="363240" cy="363240"/>
              </a:xfrm>
            </p:grpSpPr>
            <p:sp>
              <p:nvSpPr>
                <p:cNvPr id="444" name="Oval 405"/>
                <p:cNvSpPr/>
                <p:nvPr/>
              </p:nvSpPr>
              <p:spPr>
                <a:xfrm>
                  <a:off x="1403280" y="5802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Oval 406"/>
                <p:cNvSpPr/>
                <p:nvPr/>
              </p:nvSpPr>
              <p:spPr>
                <a:xfrm rot="5400000">
                  <a:off x="140256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6" name="Group 407"/>
              <p:cNvGrpSpPr/>
              <p:nvPr/>
            </p:nvGrpSpPr>
            <p:grpSpPr>
              <a:xfrm>
                <a:off x="1426680" y="5684760"/>
                <a:ext cx="315000" cy="315720"/>
                <a:chOff x="1426680" y="5684760"/>
                <a:chExt cx="315000" cy="315720"/>
              </a:xfrm>
            </p:grpSpPr>
            <p:sp>
              <p:nvSpPr>
                <p:cNvPr id="447" name="Oval 408"/>
                <p:cNvSpPr/>
                <p:nvPr/>
              </p:nvSpPr>
              <p:spPr>
                <a:xfrm rot="2700000">
                  <a:off x="1402560" y="5801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Oval 409"/>
                <p:cNvSpPr/>
                <p:nvPr/>
              </p:nvSpPr>
              <p:spPr>
                <a:xfrm rot="8100000">
                  <a:off x="1402200" y="580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9" name="Group 410"/>
            <p:cNvGrpSpPr/>
            <p:nvPr/>
          </p:nvGrpSpPr>
          <p:grpSpPr>
            <a:xfrm>
              <a:off x="1400760" y="5658480"/>
              <a:ext cx="367920" cy="367920"/>
              <a:chOff x="1400760" y="5658480"/>
              <a:chExt cx="367920" cy="367920"/>
            </a:xfrm>
          </p:grpSpPr>
          <p:grpSp>
            <p:nvGrpSpPr>
              <p:cNvPr id="450" name="Group 411"/>
              <p:cNvGrpSpPr/>
              <p:nvPr/>
            </p:nvGrpSpPr>
            <p:grpSpPr>
              <a:xfrm>
                <a:off x="1400760" y="5658480"/>
                <a:ext cx="367920" cy="367920"/>
                <a:chOff x="1400760" y="5658480"/>
                <a:chExt cx="367920" cy="367920"/>
              </a:xfrm>
            </p:grpSpPr>
            <p:sp>
              <p:nvSpPr>
                <p:cNvPr id="451" name="Oval 412"/>
                <p:cNvSpPr/>
                <p:nvPr/>
              </p:nvSpPr>
              <p:spPr>
                <a:xfrm rot="1320000">
                  <a:off x="1402920" y="5801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Oval 413"/>
                <p:cNvSpPr/>
                <p:nvPr/>
              </p:nvSpPr>
              <p:spPr>
                <a:xfrm rot="6720000">
                  <a:off x="1402560" y="580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3" name="Group 414"/>
              <p:cNvGrpSpPr/>
              <p:nvPr/>
            </p:nvGrpSpPr>
            <p:grpSpPr>
              <a:xfrm>
                <a:off x="1401120" y="5659560"/>
                <a:ext cx="366480" cy="366480"/>
                <a:chOff x="1401120" y="5659560"/>
                <a:chExt cx="366480" cy="366480"/>
              </a:xfrm>
            </p:grpSpPr>
            <p:sp>
              <p:nvSpPr>
                <p:cNvPr id="454" name="Oval 415"/>
                <p:cNvSpPr/>
                <p:nvPr/>
              </p:nvSpPr>
              <p:spPr>
                <a:xfrm rot="4020000">
                  <a:off x="140256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Oval 416"/>
                <p:cNvSpPr/>
                <p:nvPr/>
              </p:nvSpPr>
              <p:spPr>
                <a:xfrm rot="9420000">
                  <a:off x="1402560" y="5800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6" name="Oval 417"/>
            <p:cNvSpPr/>
            <p:nvPr/>
          </p:nvSpPr>
          <p:spPr>
            <a:xfrm>
              <a:off x="1525320" y="5789160"/>
              <a:ext cx="118800" cy="105840"/>
            </a:xfrm>
            <a:prstGeom prst="ellipse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418"/>
          <p:cNvGrpSpPr/>
          <p:nvPr/>
        </p:nvGrpSpPr>
        <p:grpSpPr>
          <a:xfrm>
            <a:off x="2193120" y="5659920"/>
            <a:ext cx="367560" cy="367920"/>
            <a:chOff x="2193120" y="5659920"/>
            <a:chExt cx="367560" cy="367920"/>
          </a:xfrm>
        </p:grpSpPr>
        <p:grpSp>
          <p:nvGrpSpPr>
            <p:cNvPr id="458" name="Group 419"/>
            <p:cNvGrpSpPr/>
            <p:nvPr/>
          </p:nvGrpSpPr>
          <p:grpSpPr>
            <a:xfrm>
              <a:off x="2195640" y="5662440"/>
              <a:ext cx="362880" cy="363240"/>
              <a:chOff x="2195640" y="5662440"/>
              <a:chExt cx="362880" cy="363240"/>
            </a:xfrm>
          </p:grpSpPr>
          <p:grpSp>
            <p:nvGrpSpPr>
              <p:cNvPr id="459" name="Group 420"/>
              <p:cNvGrpSpPr/>
              <p:nvPr/>
            </p:nvGrpSpPr>
            <p:grpSpPr>
              <a:xfrm>
                <a:off x="2195640" y="5662440"/>
                <a:ext cx="362880" cy="363240"/>
                <a:chOff x="2195640" y="5662440"/>
                <a:chExt cx="362880" cy="363240"/>
              </a:xfrm>
            </p:grpSpPr>
            <p:sp>
              <p:nvSpPr>
                <p:cNvPr id="460" name="Oval 421"/>
                <p:cNvSpPr/>
                <p:nvPr/>
              </p:nvSpPr>
              <p:spPr>
                <a:xfrm>
                  <a:off x="2195640" y="58035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Oval 422"/>
                <p:cNvSpPr/>
                <p:nvPr/>
              </p:nvSpPr>
              <p:spPr>
                <a:xfrm rot="5400000">
                  <a:off x="2194920" y="58028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2" name="Group 423"/>
              <p:cNvGrpSpPr/>
              <p:nvPr/>
            </p:nvGrpSpPr>
            <p:grpSpPr>
              <a:xfrm>
                <a:off x="2219040" y="5686200"/>
                <a:ext cx="315000" cy="315720"/>
                <a:chOff x="2219040" y="5686200"/>
                <a:chExt cx="315000" cy="315720"/>
              </a:xfrm>
            </p:grpSpPr>
            <p:sp>
              <p:nvSpPr>
                <p:cNvPr id="463" name="Oval 424"/>
                <p:cNvSpPr/>
                <p:nvPr/>
              </p:nvSpPr>
              <p:spPr>
                <a:xfrm rot="2700000">
                  <a:off x="2194920" y="58032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Oval 425"/>
                <p:cNvSpPr/>
                <p:nvPr/>
              </p:nvSpPr>
              <p:spPr>
                <a:xfrm rot="8100000">
                  <a:off x="2194920" y="580212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5" name="Group 426"/>
            <p:cNvGrpSpPr/>
            <p:nvPr/>
          </p:nvGrpSpPr>
          <p:grpSpPr>
            <a:xfrm>
              <a:off x="2193120" y="5659920"/>
              <a:ext cx="367560" cy="367920"/>
              <a:chOff x="2193120" y="5659920"/>
              <a:chExt cx="367560" cy="367920"/>
            </a:xfrm>
          </p:grpSpPr>
          <p:grpSp>
            <p:nvGrpSpPr>
              <p:cNvPr id="466" name="Group 427"/>
              <p:cNvGrpSpPr/>
              <p:nvPr/>
            </p:nvGrpSpPr>
            <p:grpSpPr>
              <a:xfrm>
                <a:off x="2193120" y="5659920"/>
                <a:ext cx="367560" cy="367920"/>
                <a:chOff x="2193120" y="5659920"/>
                <a:chExt cx="367560" cy="367920"/>
              </a:xfrm>
            </p:grpSpPr>
            <p:sp>
              <p:nvSpPr>
                <p:cNvPr id="467" name="Oval 428"/>
                <p:cNvSpPr/>
                <p:nvPr/>
              </p:nvSpPr>
              <p:spPr>
                <a:xfrm rot="1320000">
                  <a:off x="2195280" y="58032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Oval 429"/>
                <p:cNvSpPr/>
                <p:nvPr/>
              </p:nvSpPr>
              <p:spPr>
                <a:xfrm rot="6720000">
                  <a:off x="2194920" y="580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Group 430"/>
              <p:cNvGrpSpPr/>
              <p:nvPr/>
            </p:nvGrpSpPr>
            <p:grpSpPr>
              <a:xfrm>
                <a:off x="2193840" y="5661000"/>
                <a:ext cx="366120" cy="366480"/>
                <a:chOff x="2193840" y="5661000"/>
                <a:chExt cx="366120" cy="366480"/>
              </a:xfrm>
            </p:grpSpPr>
            <p:sp>
              <p:nvSpPr>
                <p:cNvPr id="470" name="Oval 431"/>
                <p:cNvSpPr/>
                <p:nvPr/>
              </p:nvSpPr>
              <p:spPr>
                <a:xfrm rot="4020000">
                  <a:off x="2194920" y="58028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Oval 432"/>
                <p:cNvSpPr/>
                <p:nvPr/>
              </p:nvSpPr>
              <p:spPr>
                <a:xfrm rot="9420000">
                  <a:off x="2195280" y="580212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2" name="Oval 433"/>
            <p:cNvSpPr/>
            <p:nvPr/>
          </p:nvSpPr>
          <p:spPr>
            <a:xfrm>
              <a:off x="2317320" y="5790600"/>
              <a:ext cx="118440" cy="105840"/>
            </a:xfrm>
            <a:prstGeom prst="ellipse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Group 434"/>
          <p:cNvGrpSpPr/>
          <p:nvPr/>
        </p:nvGrpSpPr>
        <p:grpSpPr>
          <a:xfrm>
            <a:off x="1113480" y="5082120"/>
            <a:ext cx="367920" cy="367920"/>
            <a:chOff x="1113480" y="5082120"/>
            <a:chExt cx="367920" cy="367920"/>
          </a:xfrm>
        </p:grpSpPr>
        <p:grpSp>
          <p:nvGrpSpPr>
            <p:cNvPr id="474" name="Group 435"/>
            <p:cNvGrpSpPr/>
            <p:nvPr/>
          </p:nvGrpSpPr>
          <p:grpSpPr>
            <a:xfrm>
              <a:off x="1116000" y="5084640"/>
              <a:ext cx="363240" cy="363240"/>
              <a:chOff x="1116000" y="5084640"/>
              <a:chExt cx="363240" cy="363240"/>
            </a:xfrm>
          </p:grpSpPr>
          <p:grpSp>
            <p:nvGrpSpPr>
              <p:cNvPr id="475" name="Group 436"/>
              <p:cNvGrpSpPr/>
              <p:nvPr/>
            </p:nvGrpSpPr>
            <p:grpSpPr>
              <a:xfrm>
                <a:off x="1116000" y="5084640"/>
                <a:ext cx="363240" cy="363240"/>
                <a:chOff x="1116000" y="5084640"/>
                <a:chExt cx="363240" cy="363240"/>
              </a:xfrm>
            </p:grpSpPr>
            <p:sp>
              <p:nvSpPr>
                <p:cNvPr id="476" name="Oval 437"/>
                <p:cNvSpPr/>
                <p:nvPr/>
              </p:nvSpPr>
              <p:spPr>
                <a:xfrm>
                  <a:off x="1116000" y="5225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Oval 438"/>
                <p:cNvSpPr/>
                <p:nvPr/>
              </p:nvSpPr>
              <p:spPr>
                <a:xfrm rot="5400000">
                  <a:off x="1115280" y="5225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" name="Group 439"/>
              <p:cNvGrpSpPr/>
              <p:nvPr/>
            </p:nvGrpSpPr>
            <p:grpSpPr>
              <a:xfrm>
                <a:off x="1139400" y="5108400"/>
                <a:ext cx="315000" cy="315720"/>
                <a:chOff x="1139400" y="5108400"/>
                <a:chExt cx="315000" cy="315720"/>
              </a:xfrm>
            </p:grpSpPr>
            <p:sp>
              <p:nvSpPr>
                <p:cNvPr id="479" name="Oval 440"/>
                <p:cNvSpPr/>
                <p:nvPr/>
              </p:nvSpPr>
              <p:spPr>
                <a:xfrm rot="2700000">
                  <a:off x="1115280" y="5225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Oval 441"/>
                <p:cNvSpPr/>
                <p:nvPr/>
              </p:nvSpPr>
              <p:spPr>
                <a:xfrm rot="8100000">
                  <a:off x="1114920" y="5224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1" name="Group 442"/>
            <p:cNvGrpSpPr/>
            <p:nvPr/>
          </p:nvGrpSpPr>
          <p:grpSpPr>
            <a:xfrm>
              <a:off x="1113480" y="5082120"/>
              <a:ext cx="367920" cy="367920"/>
              <a:chOff x="1113480" y="5082120"/>
              <a:chExt cx="367920" cy="367920"/>
            </a:xfrm>
          </p:grpSpPr>
          <p:grpSp>
            <p:nvGrpSpPr>
              <p:cNvPr id="482" name="Group 443"/>
              <p:cNvGrpSpPr/>
              <p:nvPr/>
            </p:nvGrpSpPr>
            <p:grpSpPr>
              <a:xfrm>
                <a:off x="1113480" y="5082120"/>
                <a:ext cx="367920" cy="367920"/>
                <a:chOff x="1113480" y="5082120"/>
                <a:chExt cx="367920" cy="367920"/>
              </a:xfrm>
            </p:grpSpPr>
            <p:sp>
              <p:nvSpPr>
                <p:cNvPr id="483" name="Oval 444"/>
                <p:cNvSpPr/>
                <p:nvPr/>
              </p:nvSpPr>
              <p:spPr>
                <a:xfrm rot="1320000">
                  <a:off x="1115640" y="5225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Oval 445"/>
                <p:cNvSpPr/>
                <p:nvPr/>
              </p:nvSpPr>
              <p:spPr>
                <a:xfrm rot="6720000">
                  <a:off x="1115280" y="5224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" name="Group 446"/>
              <p:cNvGrpSpPr/>
              <p:nvPr/>
            </p:nvGrpSpPr>
            <p:grpSpPr>
              <a:xfrm>
                <a:off x="1113840" y="5083200"/>
                <a:ext cx="366480" cy="366480"/>
                <a:chOff x="1113840" y="5083200"/>
                <a:chExt cx="366480" cy="366480"/>
              </a:xfrm>
            </p:grpSpPr>
            <p:sp>
              <p:nvSpPr>
                <p:cNvPr id="486" name="Oval 447"/>
                <p:cNvSpPr/>
                <p:nvPr/>
              </p:nvSpPr>
              <p:spPr>
                <a:xfrm rot="4020000">
                  <a:off x="1115280" y="5225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Oval 448"/>
                <p:cNvSpPr/>
                <p:nvPr/>
              </p:nvSpPr>
              <p:spPr>
                <a:xfrm rot="9420000">
                  <a:off x="1115280" y="52243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8" name="Oval 449"/>
            <p:cNvSpPr/>
            <p:nvPr/>
          </p:nvSpPr>
          <p:spPr>
            <a:xfrm>
              <a:off x="1238040" y="5212800"/>
              <a:ext cx="118800" cy="105840"/>
            </a:xfrm>
            <a:prstGeom prst="ellipse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450"/>
          <p:cNvGrpSpPr/>
          <p:nvPr/>
        </p:nvGrpSpPr>
        <p:grpSpPr>
          <a:xfrm>
            <a:off x="1904040" y="5299560"/>
            <a:ext cx="367920" cy="367920"/>
            <a:chOff x="1904040" y="5299560"/>
            <a:chExt cx="367920" cy="367920"/>
          </a:xfrm>
        </p:grpSpPr>
        <p:grpSp>
          <p:nvGrpSpPr>
            <p:cNvPr id="490" name="Group 451"/>
            <p:cNvGrpSpPr/>
            <p:nvPr/>
          </p:nvGrpSpPr>
          <p:grpSpPr>
            <a:xfrm>
              <a:off x="1906560" y="5302080"/>
              <a:ext cx="363240" cy="363240"/>
              <a:chOff x="1906560" y="5302080"/>
              <a:chExt cx="363240" cy="363240"/>
            </a:xfrm>
          </p:grpSpPr>
          <p:grpSp>
            <p:nvGrpSpPr>
              <p:cNvPr id="491" name="Group 452"/>
              <p:cNvGrpSpPr/>
              <p:nvPr/>
            </p:nvGrpSpPr>
            <p:grpSpPr>
              <a:xfrm>
                <a:off x="1906560" y="5302080"/>
                <a:ext cx="363240" cy="363240"/>
                <a:chOff x="1906560" y="5302080"/>
                <a:chExt cx="363240" cy="363240"/>
              </a:xfrm>
            </p:grpSpPr>
            <p:sp>
              <p:nvSpPr>
                <p:cNvPr id="492" name="Oval 453"/>
                <p:cNvSpPr/>
                <p:nvPr/>
              </p:nvSpPr>
              <p:spPr>
                <a:xfrm>
                  <a:off x="1906560" y="54432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Oval 454"/>
                <p:cNvSpPr/>
                <p:nvPr/>
              </p:nvSpPr>
              <p:spPr>
                <a:xfrm rot="5400000">
                  <a:off x="1905840" y="544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4" name="Group 455"/>
              <p:cNvGrpSpPr/>
              <p:nvPr/>
            </p:nvGrpSpPr>
            <p:grpSpPr>
              <a:xfrm>
                <a:off x="1929960" y="5325840"/>
                <a:ext cx="315000" cy="315720"/>
                <a:chOff x="1929960" y="5325840"/>
                <a:chExt cx="315000" cy="315720"/>
              </a:xfrm>
            </p:grpSpPr>
            <p:sp>
              <p:nvSpPr>
                <p:cNvPr id="495" name="Oval 456"/>
                <p:cNvSpPr/>
                <p:nvPr/>
              </p:nvSpPr>
              <p:spPr>
                <a:xfrm rot="2700000">
                  <a:off x="1905840" y="54428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Oval 457"/>
                <p:cNvSpPr/>
                <p:nvPr/>
              </p:nvSpPr>
              <p:spPr>
                <a:xfrm rot="8100000">
                  <a:off x="1905480" y="5442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7" name="Group 458"/>
            <p:cNvGrpSpPr/>
            <p:nvPr/>
          </p:nvGrpSpPr>
          <p:grpSpPr>
            <a:xfrm>
              <a:off x="1904040" y="5299560"/>
              <a:ext cx="367920" cy="367920"/>
              <a:chOff x="1904040" y="5299560"/>
              <a:chExt cx="367920" cy="367920"/>
            </a:xfrm>
          </p:grpSpPr>
          <p:grpSp>
            <p:nvGrpSpPr>
              <p:cNvPr id="498" name="Group 459"/>
              <p:cNvGrpSpPr/>
              <p:nvPr/>
            </p:nvGrpSpPr>
            <p:grpSpPr>
              <a:xfrm>
                <a:off x="1904040" y="5299560"/>
                <a:ext cx="367920" cy="367920"/>
                <a:chOff x="1904040" y="5299560"/>
                <a:chExt cx="367920" cy="367920"/>
              </a:xfrm>
            </p:grpSpPr>
            <p:sp>
              <p:nvSpPr>
                <p:cNvPr id="499" name="Oval 460"/>
                <p:cNvSpPr/>
                <p:nvPr/>
              </p:nvSpPr>
              <p:spPr>
                <a:xfrm rot="1320000">
                  <a:off x="1906200" y="54428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Oval 461"/>
                <p:cNvSpPr/>
                <p:nvPr/>
              </p:nvSpPr>
              <p:spPr>
                <a:xfrm rot="6720000">
                  <a:off x="1905840" y="5442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1" name="Group 462"/>
              <p:cNvGrpSpPr/>
              <p:nvPr/>
            </p:nvGrpSpPr>
            <p:grpSpPr>
              <a:xfrm>
                <a:off x="1904400" y="5300640"/>
                <a:ext cx="366480" cy="366480"/>
                <a:chOff x="1904400" y="5300640"/>
                <a:chExt cx="366480" cy="366480"/>
              </a:xfrm>
            </p:grpSpPr>
            <p:sp>
              <p:nvSpPr>
                <p:cNvPr id="502" name="Oval 463"/>
                <p:cNvSpPr/>
                <p:nvPr/>
              </p:nvSpPr>
              <p:spPr>
                <a:xfrm rot="4020000">
                  <a:off x="1905840" y="544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Oval 464"/>
                <p:cNvSpPr/>
                <p:nvPr/>
              </p:nvSpPr>
              <p:spPr>
                <a:xfrm rot="9420000">
                  <a:off x="1905840" y="5441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4" name="Oval 465"/>
            <p:cNvSpPr/>
            <p:nvPr/>
          </p:nvSpPr>
          <p:spPr>
            <a:xfrm>
              <a:off x="2028600" y="5430240"/>
              <a:ext cx="118800" cy="105840"/>
            </a:xfrm>
            <a:prstGeom prst="ellipse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466"/>
          <p:cNvGrpSpPr/>
          <p:nvPr/>
        </p:nvGrpSpPr>
        <p:grpSpPr>
          <a:xfrm>
            <a:off x="2625840" y="5805720"/>
            <a:ext cx="218520" cy="218160"/>
            <a:chOff x="2625840" y="5805720"/>
            <a:chExt cx="218520" cy="218160"/>
          </a:xfrm>
        </p:grpSpPr>
        <p:grpSp>
          <p:nvGrpSpPr>
            <p:cNvPr id="506" name="Group 467"/>
            <p:cNvGrpSpPr/>
            <p:nvPr/>
          </p:nvGrpSpPr>
          <p:grpSpPr>
            <a:xfrm>
              <a:off x="2627280" y="5807160"/>
              <a:ext cx="216000" cy="215640"/>
              <a:chOff x="2627280" y="5807160"/>
              <a:chExt cx="216000" cy="215640"/>
            </a:xfrm>
          </p:grpSpPr>
          <p:grpSp>
            <p:nvGrpSpPr>
              <p:cNvPr id="507" name="Group 468"/>
              <p:cNvGrpSpPr/>
              <p:nvPr/>
            </p:nvGrpSpPr>
            <p:grpSpPr>
              <a:xfrm>
                <a:off x="2627280" y="5807160"/>
                <a:ext cx="216000" cy="215640"/>
                <a:chOff x="2627280" y="5807160"/>
                <a:chExt cx="216000" cy="215640"/>
              </a:xfrm>
            </p:grpSpPr>
            <p:sp>
              <p:nvSpPr>
                <p:cNvPr id="508" name="Oval 469"/>
                <p:cNvSpPr/>
                <p:nvPr/>
              </p:nvSpPr>
              <p:spPr>
                <a:xfrm>
                  <a:off x="2627280" y="58910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Oval 470"/>
                <p:cNvSpPr/>
                <p:nvPr/>
              </p:nvSpPr>
              <p:spPr>
                <a:xfrm rot="5400000">
                  <a:off x="262692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0" name="Group 471"/>
              <p:cNvGrpSpPr/>
              <p:nvPr/>
            </p:nvGrpSpPr>
            <p:grpSpPr>
              <a:xfrm>
                <a:off x="2641680" y="5821200"/>
                <a:ext cx="187200" cy="187560"/>
                <a:chOff x="2641680" y="5821200"/>
                <a:chExt cx="187200" cy="187560"/>
              </a:xfrm>
            </p:grpSpPr>
            <p:sp>
              <p:nvSpPr>
                <p:cNvPr id="511" name="Oval 472"/>
                <p:cNvSpPr/>
                <p:nvPr/>
              </p:nvSpPr>
              <p:spPr>
                <a:xfrm rot="2700000">
                  <a:off x="262728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Oval 473"/>
                <p:cNvSpPr/>
                <p:nvPr/>
              </p:nvSpPr>
              <p:spPr>
                <a:xfrm rot="8100000">
                  <a:off x="2626920" y="5890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3" name="Group 474"/>
            <p:cNvGrpSpPr/>
            <p:nvPr/>
          </p:nvGrpSpPr>
          <p:grpSpPr>
            <a:xfrm>
              <a:off x="2625840" y="5805720"/>
              <a:ext cx="218520" cy="218160"/>
              <a:chOff x="2625840" y="5805720"/>
              <a:chExt cx="218520" cy="218160"/>
            </a:xfrm>
          </p:grpSpPr>
          <p:grpSp>
            <p:nvGrpSpPr>
              <p:cNvPr id="514" name="Group 475"/>
              <p:cNvGrpSpPr/>
              <p:nvPr/>
            </p:nvGrpSpPr>
            <p:grpSpPr>
              <a:xfrm>
                <a:off x="2625840" y="5805720"/>
                <a:ext cx="218520" cy="218160"/>
                <a:chOff x="2625840" y="5805720"/>
                <a:chExt cx="218520" cy="218160"/>
              </a:xfrm>
            </p:grpSpPr>
            <p:sp>
              <p:nvSpPr>
                <p:cNvPr id="515" name="Oval 476"/>
                <p:cNvSpPr/>
                <p:nvPr/>
              </p:nvSpPr>
              <p:spPr>
                <a:xfrm rot="1320000">
                  <a:off x="2626920" y="58906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Oval 477"/>
                <p:cNvSpPr/>
                <p:nvPr/>
              </p:nvSpPr>
              <p:spPr>
                <a:xfrm rot="6720000">
                  <a:off x="262692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7" name="Group 478"/>
              <p:cNvGrpSpPr/>
              <p:nvPr/>
            </p:nvGrpSpPr>
            <p:grpSpPr>
              <a:xfrm>
                <a:off x="2626560" y="5806080"/>
                <a:ext cx="217800" cy="217800"/>
                <a:chOff x="2626560" y="5806080"/>
                <a:chExt cx="217800" cy="217800"/>
              </a:xfrm>
            </p:grpSpPr>
            <p:sp>
              <p:nvSpPr>
                <p:cNvPr id="518" name="Oval 479"/>
                <p:cNvSpPr/>
                <p:nvPr/>
              </p:nvSpPr>
              <p:spPr>
                <a:xfrm rot="4020000">
                  <a:off x="262692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Oval 480"/>
                <p:cNvSpPr/>
                <p:nvPr/>
              </p:nvSpPr>
              <p:spPr>
                <a:xfrm rot="9420000">
                  <a:off x="2627280" y="5889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0" name="Oval 481"/>
            <p:cNvSpPr/>
            <p:nvPr/>
          </p:nvSpPr>
          <p:spPr>
            <a:xfrm>
              <a:off x="2699640" y="5883120"/>
              <a:ext cx="70560" cy="62640"/>
            </a:xfrm>
            <a:prstGeom prst="ellipse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 482"/>
          <p:cNvGrpSpPr/>
          <p:nvPr/>
        </p:nvGrpSpPr>
        <p:grpSpPr>
          <a:xfrm>
            <a:off x="897120" y="5805720"/>
            <a:ext cx="218520" cy="218160"/>
            <a:chOff x="897120" y="5805720"/>
            <a:chExt cx="218520" cy="218160"/>
          </a:xfrm>
        </p:grpSpPr>
        <p:grpSp>
          <p:nvGrpSpPr>
            <p:cNvPr id="522" name="Group 483"/>
            <p:cNvGrpSpPr/>
            <p:nvPr/>
          </p:nvGrpSpPr>
          <p:grpSpPr>
            <a:xfrm>
              <a:off x="898560" y="5807160"/>
              <a:ext cx="216000" cy="215640"/>
              <a:chOff x="898560" y="5807160"/>
              <a:chExt cx="216000" cy="215640"/>
            </a:xfrm>
          </p:grpSpPr>
          <p:grpSp>
            <p:nvGrpSpPr>
              <p:cNvPr id="523" name="Group 484"/>
              <p:cNvGrpSpPr/>
              <p:nvPr/>
            </p:nvGrpSpPr>
            <p:grpSpPr>
              <a:xfrm>
                <a:off x="898560" y="5807160"/>
                <a:ext cx="216000" cy="215640"/>
                <a:chOff x="898560" y="5807160"/>
                <a:chExt cx="216000" cy="215640"/>
              </a:xfrm>
            </p:grpSpPr>
            <p:sp>
              <p:nvSpPr>
                <p:cNvPr id="524" name="Oval 485"/>
                <p:cNvSpPr/>
                <p:nvPr/>
              </p:nvSpPr>
              <p:spPr>
                <a:xfrm>
                  <a:off x="898560" y="58910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Oval 486"/>
                <p:cNvSpPr/>
                <p:nvPr/>
              </p:nvSpPr>
              <p:spPr>
                <a:xfrm rot="5400000">
                  <a:off x="89820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6" name="Group 487"/>
              <p:cNvGrpSpPr/>
              <p:nvPr/>
            </p:nvGrpSpPr>
            <p:grpSpPr>
              <a:xfrm>
                <a:off x="912960" y="5821200"/>
                <a:ext cx="187200" cy="187560"/>
                <a:chOff x="912960" y="5821200"/>
                <a:chExt cx="187200" cy="187560"/>
              </a:xfrm>
            </p:grpSpPr>
            <p:sp>
              <p:nvSpPr>
                <p:cNvPr id="527" name="Oval 488"/>
                <p:cNvSpPr/>
                <p:nvPr/>
              </p:nvSpPr>
              <p:spPr>
                <a:xfrm rot="2700000">
                  <a:off x="898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Oval 489"/>
                <p:cNvSpPr/>
                <p:nvPr/>
              </p:nvSpPr>
              <p:spPr>
                <a:xfrm rot="8100000">
                  <a:off x="898200" y="5890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9" name="Group 490"/>
            <p:cNvGrpSpPr/>
            <p:nvPr/>
          </p:nvGrpSpPr>
          <p:grpSpPr>
            <a:xfrm>
              <a:off x="897120" y="5805720"/>
              <a:ext cx="218520" cy="218160"/>
              <a:chOff x="897120" y="5805720"/>
              <a:chExt cx="218520" cy="218160"/>
            </a:xfrm>
          </p:grpSpPr>
          <p:grpSp>
            <p:nvGrpSpPr>
              <p:cNvPr id="530" name="Group 491"/>
              <p:cNvGrpSpPr/>
              <p:nvPr/>
            </p:nvGrpSpPr>
            <p:grpSpPr>
              <a:xfrm>
                <a:off x="897120" y="5805720"/>
                <a:ext cx="218520" cy="218160"/>
                <a:chOff x="897120" y="5805720"/>
                <a:chExt cx="218520" cy="218160"/>
              </a:xfrm>
            </p:grpSpPr>
            <p:sp>
              <p:nvSpPr>
                <p:cNvPr id="531" name="Oval 492"/>
                <p:cNvSpPr/>
                <p:nvPr/>
              </p:nvSpPr>
              <p:spPr>
                <a:xfrm rot="1320000">
                  <a:off x="898200" y="58906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Oval 493"/>
                <p:cNvSpPr/>
                <p:nvPr/>
              </p:nvSpPr>
              <p:spPr>
                <a:xfrm rot="6720000">
                  <a:off x="89820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3" name="Group 494"/>
              <p:cNvGrpSpPr/>
              <p:nvPr/>
            </p:nvGrpSpPr>
            <p:grpSpPr>
              <a:xfrm>
                <a:off x="897840" y="5806080"/>
                <a:ext cx="217800" cy="217800"/>
                <a:chOff x="897840" y="5806080"/>
                <a:chExt cx="217800" cy="217800"/>
              </a:xfrm>
            </p:grpSpPr>
            <p:sp>
              <p:nvSpPr>
                <p:cNvPr id="534" name="Oval 495"/>
                <p:cNvSpPr/>
                <p:nvPr/>
              </p:nvSpPr>
              <p:spPr>
                <a:xfrm rot="4020000">
                  <a:off x="89820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Oval 496"/>
                <p:cNvSpPr/>
                <p:nvPr/>
              </p:nvSpPr>
              <p:spPr>
                <a:xfrm rot="9420000">
                  <a:off x="898560" y="5889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6" name="Oval 497"/>
            <p:cNvSpPr/>
            <p:nvPr/>
          </p:nvSpPr>
          <p:spPr>
            <a:xfrm>
              <a:off x="970920" y="5883120"/>
              <a:ext cx="70560" cy="62640"/>
            </a:xfrm>
            <a:prstGeom prst="ellipse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Group 498"/>
          <p:cNvGrpSpPr/>
          <p:nvPr/>
        </p:nvGrpSpPr>
        <p:grpSpPr>
          <a:xfrm>
            <a:off x="3202560" y="6020280"/>
            <a:ext cx="146160" cy="146160"/>
            <a:chOff x="3202560" y="6020280"/>
            <a:chExt cx="146160" cy="146160"/>
          </a:xfrm>
        </p:grpSpPr>
        <p:grpSp>
          <p:nvGrpSpPr>
            <p:cNvPr id="538" name="Group 499"/>
            <p:cNvGrpSpPr/>
            <p:nvPr/>
          </p:nvGrpSpPr>
          <p:grpSpPr>
            <a:xfrm>
              <a:off x="3203640" y="6021360"/>
              <a:ext cx="144360" cy="144360"/>
              <a:chOff x="3203640" y="6021360"/>
              <a:chExt cx="144360" cy="144360"/>
            </a:xfrm>
          </p:grpSpPr>
          <p:grpSp>
            <p:nvGrpSpPr>
              <p:cNvPr id="539" name="Group 500"/>
              <p:cNvGrpSpPr/>
              <p:nvPr/>
            </p:nvGrpSpPr>
            <p:grpSpPr>
              <a:xfrm>
                <a:off x="3203640" y="6021360"/>
                <a:ext cx="144360" cy="144360"/>
                <a:chOff x="3203640" y="6021360"/>
                <a:chExt cx="144360" cy="144360"/>
              </a:xfrm>
            </p:grpSpPr>
            <p:sp>
              <p:nvSpPr>
                <p:cNvPr id="540" name="Oval 501"/>
                <p:cNvSpPr/>
                <p:nvPr/>
              </p:nvSpPr>
              <p:spPr>
                <a:xfrm>
                  <a:off x="3203640" y="60775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Oval 502"/>
                <p:cNvSpPr/>
                <p:nvPr/>
              </p:nvSpPr>
              <p:spPr>
                <a:xfrm rot="5400000">
                  <a:off x="3203280" y="6077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Group 503"/>
              <p:cNvGrpSpPr/>
              <p:nvPr/>
            </p:nvGrpSpPr>
            <p:grpSpPr>
              <a:xfrm>
                <a:off x="3212640" y="6030720"/>
                <a:ext cx="125640" cy="125640"/>
                <a:chOff x="3212640" y="6030720"/>
                <a:chExt cx="125640" cy="125640"/>
              </a:xfrm>
            </p:grpSpPr>
            <p:sp>
              <p:nvSpPr>
                <p:cNvPr id="543" name="Oval 504"/>
                <p:cNvSpPr/>
                <p:nvPr/>
              </p:nvSpPr>
              <p:spPr>
                <a:xfrm rot="2700000">
                  <a:off x="3203280" y="6077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Oval 505"/>
                <p:cNvSpPr/>
                <p:nvPr/>
              </p:nvSpPr>
              <p:spPr>
                <a:xfrm rot="8100000">
                  <a:off x="320292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5" name="Group 506"/>
            <p:cNvGrpSpPr/>
            <p:nvPr/>
          </p:nvGrpSpPr>
          <p:grpSpPr>
            <a:xfrm>
              <a:off x="3202560" y="6020280"/>
              <a:ext cx="146160" cy="146160"/>
              <a:chOff x="3202560" y="6020280"/>
              <a:chExt cx="146160" cy="146160"/>
            </a:xfrm>
          </p:grpSpPr>
          <p:grpSp>
            <p:nvGrpSpPr>
              <p:cNvPr id="546" name="Group 507"/>
              <p:cNvGrpSpPr/>
              <p:nvPr/>
            </p:nvGrpSpPr>
            <p:grpSpPr>
              <a:xfrm>
                <a:off x="3202560" y="6020280"/>
                <a:ext cx="146160" cy="146160"/>
                <a:chOff x="3202560" y="6020280"/>
                <a:chExt cx="146160" cy="146160"/>
              </a:xfrm>
            </p:grpSpPr>
            <p:sp>
              <p:nvSpPr>
                <p:cNvPr id="547" name="Oval 508"/>
                <p:cNvSpPr/>
                <p:nvPr/>
              </p:nvSpPr>
              <p:spPr>
                <a:xfrm rot="1320000">
                  <a:off x="3203280" y="6077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Oval 509"/>
                <p:cNvSpPr/>
                <p:nvPr/>
              </p:nvSpPr>
              <p:spPr>
                <a:xfrm rot="6720000">
                  <a:off x="320328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9" name="Group 510"/>
              <p:cNvGrpSpPr/>
              <p:nvPr/>
            </p:nvGrpSpPr>
            <p:grpSpPr>
              <a:xfrm>
                <a:off x="3202560" y="6020640"/>
                <a:ext cx="145800" cy="145800"/>
                <a:chOff x="3202560" y="6020640"/>
                <a:chExt cx="145800" cy="145800"/>
              </a:xfrm>
            </p:grpSpPr>
            <p:sp>
              <p:nvSpPr>
                <p:cNvPr id="550" name="Oval 511"/>
                <p:cNvSpPr/>
                <p:nvPr/>
              </p:nvSpPr>
              <p:spPr>
                <a:xfrm rot="4020000">
                  <a:off x="320292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Oval 512"/>
                <p:cNvSpPr/>
                <p:nvPr/>
              </p:nvSpPr>
              <p:spPr>
                <a:xfrm rot="9420000">
                  <a:off x="3203280" y="6076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2" name="Oval 513"/>
            <p:cNvSpPr/>
            <p:nvPr/>
          </p:nvSpPr>
          <p:spPr>
            <a:xfrm>
              <a:off x="3251880" y="6072120"/>
              <a:ext cx="47160" cy="42120"/>
            </a:xfrm>
            <a:prstGeom prst="ellipse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514"/>
          <p:cNvGrpSpPr/>
          <p:nvPr/>
        </p:nvGrpSpPr>
        <p:grpSpPr>
          <a:xfrm>
            <a:off x="2770560" y="6166440"/>
            <a:ext cx="146520" cy="146160"/>
            <a:chOff x="2770560" y="6166440"/>
            <a:chExt cx="146520" cy="146160"/>
          </a:xfrm>
        </p:grpSpPr>
        <p:grpSp>
          <p:nvGrpSpPr>
            <p:cNvPr id="554" name="Group 515"/>
            <p:cNvGrpSpPr/>
            <p:nvPr/>
          </p:nvGrpSpPr>
          <p:grpSpPr>
            <a:xfrm>
              <a:off x="2771640" y="6167520"/>
              <a:ext cx="144720" cy="144360"/>
              <a:chOff x="2771640" y="6167520"/>
              <a:chExt cx="144720" cy="144360"/>
            </a:xfrm>
          </p:grpSpPr>
          <p:grpSp>
            <p:nvGrpSpPr>
              <p:cNvPr id="555" name="Group 516"/>
              <p:cNvGrpSpPr/>
              <p:nvPr/>
            </p:nvGrpSpPr>
            <p:grpSpPr>
              <a:xfrm>
                <a:off x="2771640" y="6167520"/>
                <a:ext cx="144720" cy="144360"/>
                <a:chOff x="2771640" y="6167520"/>
                <a:chExt cx="144720" cy="144360"/>
              </a:xfrm>
            </p:grpSpPr>
            <p:sp>
              <p:nvSpPr>
                <p:cNvPr id="556" name="Oval 517"/>
                <p:cNvSpPr/>
                <p:nvPr/>
              </p:nvSpPr>
              <p:spPr>
                <a:xfrm>
                  <a:off x="2771640" y="622368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Oval 518"/>
                <p:cNvSpPr/>
                <p:nvPr/>
              </p:nvSpPr>
              <p:spPr>
                <a:xfrm rot="5400000">
                  <a:off x="2771280" y="6223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8" name="Group 519"/>
              <p:cNvGrpSpPr/>
              <p:nvPr/>
            </p:nvGrpSpPr>
            <p:grpSpPr>
              <a:xfrm>
                <a:off x="2781000" y="6176880"/>
                <a:ext cx="125640" cy="125640"/>
                <a:chOff x="2781000" y="6176880"/>
                <a:chExt cx="125640" cy="125640"/>
              </a:xfrm>
            </p:grpSpPr>
            <p:sp>
              <p:nvSpPr>
                <p:cNvPr id="559" name="Oval 520"/>
                <p:cNvSpPr/>
                <p:nvPr/>
              </p:nvSpPr>
              <p:spPr>
                <a:xfrm rot="2700000">
                  <a:off x="2771640" y="6223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Oval 521"/>
                <p:cNvSpPr/>
                <p:nvPr/>
              </p:nvSpPr>
              <p:spPr>
                <a:xfrm rot="8100000">
                  <a:off x="2771280" y="622296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1" name="Group 522"/>
            <p:cNvGrpSpPr/>
            <p:nvPr/>
          </p:nvGrpSpPr>
          <p:grpSpPr>
            <a:xfrm>
              <a:off x="2770560" y="6166440"/>
              <a:ext cx="146520" cy="146160"/>
              <a:chOff x="2770560" y="6166440"/>
              <a:chExt cx="146520" cy="146160"/>
            </a:xfrm>
          </p:grpSpPr>
          <p:grpSp>
            <p:nvGrpSpPr>
              <p:cNvPr id="562" name="Group 523"/>
              <p:cNvGrpSpPr/>
              <p:nvPr/>
            </p:nvGrpSpPr>
            <p:grpSpPr>
              <a:xfrm>
                <a:off x="2770560" y="6166440"/>
                <a:ext cx="146520" cy="146160"/>
                <a:chOff x="2770560" y="6166440"/>
                <a:chExt cx="146520" cy="146160"/>
              </a:xfrm>
            </p:grpSpPr>
            <p:sp>
              <p:nvSpPr>
                <p:cNvPr id="563" name="Oval 524"/>
                <p:cNvSpPr/>
                <p:nvPr/>
              </p:nvSpPr>
              <p:spPr>
                <a:xfrm rot="1320000">
                  <a:off x="2771280" y="622332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Oval 525"/>
                <p:cNvSpPr/>
                <p:nvPr/>
              </p:nvSpPr>
              <p:spPr>
                <a:xfrm rot="6720000">
                  <a:off x="277128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5" name="Group 526"/>
              <p:cNvGrpSpPr/>
              <p:nvPr/>
            </p:nvGrpSpPr>
            <p:grpSpPr>
              <a:xfrm>
                <a:off x="2770920" y="6166800"/>
                <a:ext cx="146160" cy="145800"/>
                <a:chOff x="2770920" y="6166800"/>
                <a:chExt cx="146160" cy="145800"/>
              </a:xfrm>
            </p:grpSpPr>
            <p:sp>
              <p:nvSpPr>
                <p:cNvPr id="566" name="Oval 527"/>
                <p:cNvSpPr/>
                <p:nvPr/>
              </p:nvSpPr>
              <p:spPr>
                <a:xfrm rot="4020000">
                  <a:off x="277128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Oval 528"/>
                <p:cNvSpPr/>
                <p:nvPr/>
              </p:nvSpPr>
              <p:spPr>
                <a:xfrm rot="9420000">
                  <a:off x="2771640" y="622296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8" name="Oval 529"/>
            <p:cNvSpPr/>
            <p:nvPr/>
          </p:nvSpPr>
          <p:spPr>
            <a:xfrm>
              <a:off x="2820240" y="6218280"/>
              <a:ext cx="47160" cy="42120"/>
            </a:xfrm>
            <a:prstGeom prst="ellipse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Group 530"/>
          <p:cNvGrpSpPr/>
          <p:nvPr/>
        </p:nvGrpSpPr>
        <p:grpSpPr>
          <a:xfrm>
            <a:off x="5362560" y="5946840"/>
            <a:ext cx="218520" cy="218520"/>
            <a:chOff x="5362560" y="5946840"/>
            <a:chExt cx="218520" cy="218520"/>
          </a:xfrm>
        </p:grpSpPr>
        <p:grpSp>
          <p:nvGrpSpPr>
            <p:cNvPr id="570" name="Group 531"/>
            <p:cNvGrpSpPr/>
            <p:nvPr/>
          </p:nvGrpSpPr>
          <p:grpSpPr>
            <a:xfrm>
              <a:off x="5364000" y="5948280"/>
              <a:ext cx="216000" cy="216000"/>
              <a:chOff x="5364000" y="5948280"/>
              <a:chExt cx="216000" cy="216000"/>
            </a:xfrm>
          </p:grpSpPr>
          <p:grpSp>
            <p:nvGrpSpPr>
              <p:cNvPr id="571" name="Group 532"/>
              <p:cNvGrpSpPr/>
              <p:nvPr/>
            </p:nvGrpSpPr>
            <p:grpSpPr>
              <a:xfrm>
                <a:off x="5364000" y="5948280"/>
                <a:ext cx="216000" cy="216000"/>
                <a:chOff x="5364000" y="5948280"/>
                <a:chExt cx="216000" cy="216000"/>
              </a:xfrm>
            </p:grpSpPr>
            <p:sp>
              <p:nvSpPr>
                <p:cNvPr id="572" name="Oval 533"/>
                <p:cNvSpPr/>
                <p:nvPr/>
              </p:nvSpPr>
              <p:spPr>
                <a:xfrm>
                  <a:off x="5364000" y="6032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Oval 534"/>
                <p:cNvSpPr/>
                <p:nvPr/>
              </p:nvSpPr>
              <p:spPr>
                <a:xfrm rot="5400000">
                  <a:off x="5363640" y="6031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4" name="Group 535"/>
              <p:cNvGrpSpPr/>
              <p:nvPr/>
            </p:nvGrpSpPr>
            <p:grpSpPr>
              <a:xfrm>
                <a:off x="5378040" y="5962320"/>
                <a:ext cx="187560" cy="187560"/>
                <a:chOff x="5378040" y="5962320"/>
                <a:chExt cx="187560" cy="187560"/>
              </a:xfrm>
            </p:grpSpPr>
            <p:sp>
              <p:nvSpPr>
                <p:cNvPr id="575" name="Oval 536"/>
                <p:cNvSpPr/>
                <p:nvPr/>
              </p:nvSpPr>
              <p:spPr>
                <a:xfrm rot="2700000">
                  <a:off x="5363640" y="6031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Oval 537"/>
                <p:cNvSpPr/>
                <p:nvPr/>
              </p:nvSpPr>
              <p:spPr>
                <a:xfrm rot="8100000">
                  <a:off x="5363640" y="603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7" name="Group 538"/>
            <p:cNvGrpSpPr/>
            <p:nvPr/>
          </p:nvGrpSpPr>
          <p:grpSpPr>
            <a:xfrm>
              <a:off x="5362560" y="5946840"/>
              <a:ext cx="218520" cy="218520"/>
              <a:chOff x="5362560" y="5946840"/>
              <a:chExt cx="218520" cy="218520"/>
            </a:xfrm>
          </p:grpSpPr>
          <p:grpSp>
            <p:nvGrpSpPr>
              <p:cNvPr id="578" name="Group 539"/>
              <p:cNvGrpSpPr/>
              <p:nvPr/>
            </p:nvGrpSpPr>
            <p:grpSpPr>
              <a:xfrm>
                <a:off x="5362560" y="5946840"/>
                <a:ext cx="218520" cy="218520"/>
                <a:chOff x="5362560" y="5946840"/>
                <a:chExt cx="218520" cy="218520"/>
              </a:xfrm>
            </p:grpSpPr>
            <p:sp>
              <p:nvSpPr>
                <p:cNvPr id="579" name="Oval 540"/>
                <p:cNvSpPr/>
                <p:nvPr/>
              </p:nvSpPr>
              <p:spPr>
                <a:xfrm rot="1320000">
                  <a:off x="5363640" y="6031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Oval 541"/>
                <p:cNvSpPr/>
                <p:nvPr/>
              </p:nvSpPr>
              <p:spPr>
                <a:xfrm rot="6720000">
                  <a:off x="5363640" y="603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1" name="Group 542"/>
              <p:cNvGrpSpPr/>
              <p:nvPr/>
            </p:nvGrpSpPr>
            <p:grpSpPr>
              <a:xfrm>
                <a:off x="5363280" y="5947200"/>
                <a:ext cx="217800" cy="217800"/>
                <a:chOff x="5363280" y="5947200"/>
                <a:chExt cx="217800" cy="217800"/>
              </a:xfrm>
            </p:grpSpPr>
            <p:sp>
              <p:nvSpPr>
                <p:cNvPr id="582" name="Oval 543"/>
                <p:cNvSpPr/>
                <p:nvPr/>
              </p:nvSpPr>
              <p:spPr>
                <a:xfrm rot="4020000">
                  <a:off x="5363280" y="603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Oval 544"/>
                <p:cNvSpPr/>
                <p:nvPr/>
              </p:nvSpPr>
              <p:spPr>
                <a:xfrm rot="9420000">
                  <a:off x="5364000" y="60310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4" name="Oval 545"/>
            <p:cNvSpPr/>
            <p:nvPr/>
          </p:nvSpPr>
          <p:spPr>
            <a:xfrm>
              <a:off x="5436360" y="6024600"/>
              <a:ext cx="70560" cy="63000"/>
            </a:xfrm>
            <a:prstGeom prst="ellipse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Group 546"/>
          <p:cNvGrpSpPr/>
          <p:nvPr/>
        </p:nvGrpSpPr>
        <p:grpSpPr>
          <a:xfrm>
            <a:off x="6370920" y="5586480"/>
            <a:ext cx="218160" cy="218520"/>
            <a:chOff x="6370920" y="5586480"/>
            <a:chExt cx="218160" cy="218520"/>
          </a:xfrm>
        </p:grpSpPr>
        <p:grpSp>
          <p:nvGrpSpPr>
            <p:cNvPr id="586" name="Group 547"/>
            <p:cNvGrpSpPr/>
            <p:nvPr/>
          </p:nvGrpSpPr>
          <p:grpSpPr>
            <a:xfrm>
              <a:off x="6372360" y="5587920"/>
              <a:ext cx="215640" cy="216000"/>
              <a:chOff x="6372360" y="5587920"/>
              <a:chExt cx="215640" cy="216000"/>
            </a:xfrm>
          </p:grpSpPr>
          <p:grpSp>
            <p:nvGrpSpPr>
              <p:cNvPr id="587" name="Group 548"/>
              <p:cNvGrpSpPr/>
              <p:nvPr/>
            </p:nvGrpSpPr>
            <p:grpSpPr>
              <a:xfrm>
                <a:off x="6372360" y="5587920"/>
                <a:ext cx="215640" cy="216000"/>
                <a:chOff x="6372360" y="5587920"/>
                <a:chExt cx="215640" cy="216000"/>
              </a:xfrm>
            </p:grpSpPr>
            <p:sp>
              <p:nvSpPr>
                <p:cNvPr id="588" name="Oval 549"/>
                <p:cNvSpPr/>
                <p:nvPr/>
              </p:nvSpPr>
              <p:spPr>
                <a:xfrm>
                  <a:off x="6372360" y="5671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Oval 550"/>
                <p:cNvSpPr/>
                <p:nvPr/>
              </p:nvSpPr>
              <p:spPr>
                <a:xfrm rot="5400000">
                  <a:off x="6372000" y="567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0" name="Group 551"/>
              <p:cNvGrpSpPr/>
              <p:nvPr/>
            </p:nvGrpSpPr>
            <p:grpSpPr>
              <a:xfrm>
                <a:off x="6386040" y="5602320"/>
                <a:ext cx="187200" cy="187560"/>
                <a:chOff x="6386040" y="5602320"/>
                <a:chExt cx="187200" cy="187560"/>
              </a:xfrm>
            </p:grpSpPr>
            <p:sp>
              <p:nvSpPr>
                <p:cNvPr id="591" name="Oval 552"/>
                <p:cNvSpPr/>
                <p:nvPr/>
              </p:nvSpPr>
              <p:spPr>
                <a:xfrm rot="2700000">
                  <a:off x="6371640" y="5671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Oval 553"/>
                <p:cNvSpPr/>
                <p:nvPr/>
              </p:nvSpPr>
              <p:spPr>
                <a:xfrm rot="8100000">
                  <a:off x="6371640" y="56710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3" name="Group 554"/>
            <p:cNvGrpSpPr/>
            <p:nvPr/>
          </p:nvGrpSpPr>
          <p:grpSpPr>
            <a:xfrm>
              <a:off x="6370920" y="5586480"/>
              <a:ext cx="218160" cy="218520"/>
              <a:chOff x="6370920" y="5586480"/>
              <a:chExt cx="218160" cy="218520"/>
            </a:xfrm>
          </p:grpSpPr>
          <p:grpSp>
            <p:nvGrpSpPr>
              <p:cNvPr id="594" name="Group 555"/>
              <p:cNvGrpSpPr/>
              <p:nvPr/>
            </p:nvGrpSpPr>
            <p:grpSpPr>
              <a:xfrm>
                <a:off x="6370920" y="5586480"/>
                <a:ext cx="218160" cy="218520"/>
                <a:chOff x="6370920" y="5586480"/>
                <a:chExt cx="218160" cy="218520"/>
              </a:xfrm>
            </p:grpSpPr>
            <p:sp>
              <p:nvSpPr>
                <p:cNvPr id="595" name="Oval 556"/>
                <p:cNvSpPr/>
                <p:nvPr/>
              </p:nvSpPr>
              <p:spPr>
                <a:xfrm rot="1320000">
                  <a:off x="6372000" y="5671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Oval 557"/>
                <p:cNvSpPr/>
                <p:nvPr/>
              </p:nvSpPr>
              <p:spPr>
                <a:xfrm rot="6720000">
                  <a:off x="6371640" y="56710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7" name="Group 558"/>
              <p:cNvGrpSpPr/>
              <p:nvPr/>
            </p:nvGrpSpPr>
            <p:grpSpPr>
              <a:xfrm>
                <a:off x="6370920" y="5587200"/>
                <a:ext cx="217800" cy="217800"/>
                <a:chOff x="6370920" y="5587200"/>
                <a:chExt cx="217800" cy="217800"/>
              </a:xfrm>
            </p:grpSpPr>
            <p:sp>
              <p:nvSpPr>
                <p:cNvPr id="598" name="Oval 559"/>
                <p:cNvSpPr/>
                <p:nvPr/>
              </p:nvSpPr>
              <p:spPr>
                <a:xfrm rot="4020000">
                  <a:off x="6371280" y="567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Oval 560"/>
                <p:cNvSpPr/>
                <p:nvPr/>
              </p:nvSpPr>
              <p:spPr>
                <a:xfrm rot="9420000">
                  <a:off x="6372000" y="56710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0" name="Oval 561"/>
            <p:cNvSpPr/>
            <p:nvPr/>
          </p:nvSpPr>
          <p:spPr>
            <a:xfrm>
              <a:off x="6444720" y="5664240"/>
              <a:ext cx="70200" cy="63000"/>
            </a:xfrm>
            <a:prstGeom prst="ellipse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562"/>
          <p:cNvGrpSpPr/>
          <p:nvPr/>
        </p:nvGrpSpPr>
        <p:grpSpPr>
          <a:xfrm>
            <a:off x="6010560" y="5515200"/>
            <a:ext cx="218160" cy="218520"/>
            <a:chOff x="6010560" y="5515200"/>
            <a:chExt cx="218160" cy="218520"/>
          </a:xfrm>
        </p:grpSpPr>
        <p:grpSp>
          <p:nvGrpSpPr>
            <p:cNvPr id="602" name="Group 563"/>
            <p:cNvGrpSpPr/>
            <p:nvPr/>
          </p:nvGrpSpPr>
          <p:grpSpPr>
            <a:xfrm>
              <a:off x="6012000" y="5516640"/>
              <a:ext cx="215640" cy="216000"/>
              <a:chOff x="6012000" y="5516640"/>
              <a:chExt cx="215640" cy="216000"/>
            </a:xfrm>
          </p:grpSpPr>
          <p:grpSp>
            <p:nvGrpSpPr>
              <p:cNvPr id="603" name="Group 564"/>
              <p:cNvGrpSpPr/>
              <p:nvPr/>
            </p:nvGrpSpPr>
            <p:grpSpPr>
              <a:xfrm>
                <a:off x="6012000" y="5516640"/>
                <a:ext cx="215640" cy="216000"/>
                <a:chOff x="6012000" y="5516640"/>
                <a:chExt cx="215640" cy="216000"/>
              </a:xfrm>
            </p:grpSpPr>
            <p:sp>
              <p:nvSpPr>
                <p:cNvPr id="604" name="Oval 565"/>
                <p:cNvSpPr/>
                <p:nvPr/>
              </p:nvSpPr>
              <p:spPr>
                <a:xfrm>
                  <a:off x="6012000" y="56005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Oval 566"/>
                <p:cNvSpPr/>
                <p:nvPr/>
              </p:nvSpPr>
              <p:spPr>
                <a:xfrm rot="5400000">
                  <a:off x="6011640" y="5600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6" name="Group 567"/>
              <p:cNvGrpSpPr/>
              <p:nvPr/>
            </p:nvGrpSpPr>
            <p:grpSpPr>
              <a:xfrm>
                <a:off x="6025680" y="5531040"/>
                <a:ext cx="187200" cy="187560"/>
                <a:chOff x="6025680" y="5531040"/>
                <a:chExt cx="187200" cy="187560"/>
              </a:xfrm>
            </p:grpSpPr>
            <p:sp>
              <p:nvSpPr>
                <p:cNvPr id="607" name="Oval 568"/>
                <p:cNvSpPr/>
                <p:nvPr/>
              </p:nvSpPr>
              <p:spPr>
                <a:xfrm rot="2700000">
                  <a:off x="6011280" y="5600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Oval 569"/>
                <p:cNvSpPr/>
                <p:nvPr/>
              </p:nvSpPr>
              <p:spPr>
                <a:xfrm rot="8100000">
                  <a:off x="6011280" y="5599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9" name="Group 570"/>
            <p:cNvGrpSpPr/>
            <p:nvPr/>
          </p:nvGrpSpPr>
          <p:grpSpPr>
            <a:xfrm>
              <a:off x="6010560" y="5515200"/>
              <a:ext cx="218160" cy="218520"/>
              <a:chOff x="6010560" y="5515200"/>
              <a:chExt cx="218160" cy="218520"/>
            </a:xfrm>
          </p:grpSpPr>
          <p:grpSp>
            <p:nvGrpSpPr>
              <p:cNvPr id="610" name="Group 571"/>
              <p:cNvGrpSpPr/>
              <p:nvPr/>
            </p:nvGrpSpPr>
            <p:grpSpPr>
              <a:xfrm>
                <a:off x="6010560" y="5515200"/>
                <a:ext cx="218160" cy="218520"/>
                <a:chOff x="6010560" y="5515200"/>
                <a:chExt cx="218160" cy="218520"/>
              </a:xfrm>
            </p:grpSpPr>
            <p:sp>
              <p:nvSpPr>
                <p:cNvPr id="611" name="Oval 572"/>
                <p:cNvSpPr/>
                <p:nvPr/>
              </p:nvSpPr>
              <p:spPr>
                <a:xfrm rot="1320000">
                  <a:off x="6011640" y="56005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Oval 573"/>
                <p:cNvSpPr/>
                <p:nvPr/>
              </p:nvSpPr>
              <p:spPr>
                <a:xfrm rot="6720000">
                  <a:off x="6011280" y="5599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3" name="Group 574"/>
              <p:cNvGrpSpPr/>
              <p:nvPr/>
            </p:nvGrpSpPr>
            <p:grpSpPr>
              <a:xfrm>
                <a:off x="6010560" y="5515920"/>
                <a:ext cx="217800" cy="217800"/>
                <a:chOff x="6010560" y="5515920"/>
                <a:chExt cx="217800" cy="217800"/>
              </a:xfrm>
            </p:grpSpPr>
            <p:sp>
              <p:nvSpPr>
                <p:cNvPr id="614" name="Oval 575"/>
                <p:cNvSpPr/>
                <p:nvPr/>
              </p:nvSpPr>
              <p:spPr>
                <a:xfrm rot="4020000">
                  <a:off x="6010920" y="5600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Oval 576"/>
                <p:cNvSpPr/>
                <p:nvPr/>
              </p:nvSpPr>
              <p:spPr>
                <a:xfrm rot="9420000">
                  <a:off x="6011640" y="5599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6" name="Oval 577"/>
            <p:cNvSpPr/>
            <p:nvPr/>
          </p:nvSpPr>
          <p:spPr>
            <a:xfrm>
              <a:off x="6084360" y="5592960"/>
              <a:ext cx="70200" cy="63000"/>
            </a:xfrm>
            <a:prstGeom prst="ellipse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578"/>
          <p:cNvGrpSpPr/>
          <p:nvPr/>
        </p:nvGrpSpPr>
        <p:grpSpPr>
          <a:xfrm>
            <a:off x="5794920" y="5875920"/>
            <a:ext cx="146160" cy="146160"/>
            <a:chOff x="5794920" y="5875920"/>
            <a:chExt cx="146160" cy="146160"/>
          </a:xfrm>
        </p:grpSpPr>
        <p:grpSp>
          <p:nvGrpSpPr>
            <p:cNvPr id="618" name="Group 579"/>
            <p:cNvGrpSpPr/>
            <p:nvPr/>
          </p:nvGrpSpPr>
          <p:grpSpPr>
            <a:xfrm>
              <a:off x="5796000" y="5877000"/>
              <a:ext cx="144360" cy="144360"/>
              <a:chOff x="5796000" y="5877000"/>
              <a:chExt cx="144360" cy="144360"/>
            </a:xfrm>
          </p:grpSpPr>
          <p:grpSp>
            <p:nvGrpSpPr>
              <p:cNvPr id="619" name="Group 580"/>
              <p:cNvGrpSpPr/>
              <p:nvPr/>
            </p:nvGrpSpPr>
            <p:grpSpPr>
              <a:xfrm>
                <a:off x="5796000" y="5877000"/>
                <a:ext cx="144360" cy="144360"/>
                <a:chOff x="5796000" y="5877000"/>
                <a:chExt cx="144360" cy="144360"/>
              </a:xfrm>
            </p:grpSpPr>
            <p:sp>
              <p:nvSpPr>
                <p:cNvPr id="620" name="Oval 581"/>
                <p:cNvSpPr/>
                <p:nvPr/>
              </p:nvSpPr>
              <p:spPr>
                <a:xfrm>
                  <a:off x="5796000" y="5933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Oval 582"/>
                <p:cNvSpPr/>
                <p:nvPr/>
              </p:nvSpPr>
              <p:spPr>
                <a:xfrm rot="5400000">
                  <a:off x="579564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2" name="Group 583"/>
              <p:cNvGrpSpPr/>
              <p:nvPr/>
            </p:nvGrpSpPr>
            <p:grpSpPr>
              <a:xfrm>
                <a:off x="5805000" y="5886360"/>
                <a:ext cx="125640" cy="125640"/>
                <a:chOff x="5805000" y="5886360"/>
                <a:chExt cx="125640" cy="125640"/>
              </a:xfrm>
            </p:grpSpPr>
            <p:sp>
              <p:nvSpPr>
                <p:cNvPr id="623" name="Oval 584"/>
                <p:cNvSpPr/>
                <p:nvPr/>
              </p:nvSpPr>
              <p:spPr>
                <a:xfrm rot="2700000">
                  <a:off x="579564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Oval 585"/>
                <p:cNvSpPr/>
                <p:nvPr/>
              </p:nvSpPr>
              <p:spPr>
                <a:xfrm rot="8100000">
                  <a:off x="579528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5" name="Group 586"/>
            <p:cNvGrpSpPr/>
            <p:nvPr/>
          </p:nvGrpSpPr>
          <p:grpSpPr>
            <a:xfrm>
              <a:off x="5794920" y="5875920"/>
              <a:ext cx="146160" cy="146160"/>
              <a:chOff x="5794920" y="5875920"/>
              <a:chExt cx="146160" cy="146160"/>
            </a:xfrm>
          </p:grpSpPr>
          <p:grpSp>
            <p:nvGrpSpPr>
              <p:cNvPr id="626" name="Group 587"/>
              <p:cNvGrpSpPr/>
              <p:nvPr/>
            </p:nvGrpSpPr>
            <p:grpSpPr>
              <a:xfrm>
                <a:off x="5794920" y="5875920"/>
                <a:ext cx="146160" cy="146160"/>
                <a:chOff x="5794920" y="5875920"/>
                <a:chExt cx="146160" cy="146160"/>
              </a:xfrm>
            </p:grpSpPr>
            <p:sp>
              <p:nvSpPr>
                <p:cNvPr id="627" name="Oval 588"/>
                <p:cNvSpPr/>
                <p:nvPr/>
              </p:nvSpPr>
              <p:spPr>
                <a:xfrm rot="1320000">
                  <a:off x="579564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Oval 589"/>
                <p:cNvSpPr/>
                <p:nvPr/>
              </p:nvSpPr>
              <p:spPr>
                <a:xfrm rot="6720000">
                  <a:off x="579564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9" name="Group 590"/>
              <p:cNvGrpSpPr/>
              <p:nvPr/>
            </p:nvGrpSpPr>
            <p:grpSpPr>
              <a:xfrm>
                <a:off x="5794920" y="5876280"/>
                <a:ext cx="145800" cy="145800"/>
                <a:chOff x="5794920" y="5876280"/>
                <a:chExt cx="145800" cy="145800"/>
              </a:xfrm>
            </p:grpSpPr>
            <p:sp>
              <p:nvSpPr>
                <p:cNvPr id="630" name="Oval 591"/>
                <p:cNvSpPr/>
                <p:nvPr/>
              </p:nvSpPr>
              <p:spPr>
                <a:xfrm rot="4020000">
                  <a:off x="579528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Oval 592"/>
                <p:cNvSpPr/>
                <p:nvPr/>
              </p:nvSpPr>
              <p:spPr>
                <a:xfrm rot="9420000">
                  <a:off x="5795640" y="59320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2" name="Oval 593"/>
            <p:cNvSpPr/>
            <p:nvPr/>
          </p:nvSpPr>
          <p:spPr>
            <a:xfrm>
              <a:off x="5844240" y="5927760"/>
              <a:ext cx="47160" cy="42120"/>
            </a:xfrm>
            <a:prstGeom prst="ellips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594"/>
          <p:cNvGrpSpPr/>
          <p:nvPr/>
        </p:nvGrpSpPr>
        <p:grpSpPr>
          <a:xfrm>
            <a:off x="6515640" y="5947200"/>
            <a:ext cx="146160" cy="146880"/>
            <a:chOff x="6515640" y="5947200"/>
            <a:chExt cx="146160" cy="146880"/>
          </a:xfrm>
        </p:grpSpPr>
        <p:grpSp>
          <p:nvGrpSpPr>
            <p:cNvPr id="634" name="Group 595"/>
            <p:cNvGrpSpPr/>
            <p:nvPr/>
          </p:nvGrpSpPr>
          <p:grpSpPr>
            <a:xfrm>
              <a:off x="6516720" y="5948280"/>
              <a:ext cx="144360" cy="144720"/>
              <a:chOff x="6516720" y="5948280"/>
              <a:chExt cx="144360" cy="144720"/>
            </a:xfrm>
          </p:grpSpPr>
          <p:grpSp>
            <p:nvGrpSpPr>
              <p:cNvPr id="635" name="Group 596"/>
              <p:cNvGrpSpPr/>
              <p:nvPr/>
            </p:nvGrpSpPr>
            <p:grpSpPr>
              <a:xfrm>
                <a:off x="6516720" y="5948280"/>
                <a:ext cx="144360" cy="144720"/>
                <a:chOff x="6516720" y="5948280"/>
                <a:chExt cx="144360" cy="144720"/>
              </a:xfrm>
            </p:grpSpPr>
            <p:sp>
              <p:nvSpPr>
                <p:cNvPr id="636" name="Oval 597"/>
                <p:cNvSpPr/>
                <p:nvPr/>
              </p:nvSpPr>
              <p:spPr>
                <a:xfrm>
                  <a:off x="6516720" y="6004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Oval 598"/>
                <p:cNvSpPr/>
                <p:nvPr/>
              </p:nvSpPr>
              <p:spPr>
                <a:xfrm rot="5400000">
                  <a:off x="6516000" y="600408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8" name="Group 599"/>
              <p:cNvGrpSpPr/>
              <p:nvPr/>
            </p:nvGrpSpPr>
            <p:grpSpPr>
              <a:xfrm>
                <a:off x="6525720" y="5958000"/>
                <a:ext cx="125280" cy="126000"/>
                <a:chOff x="6525720" y="5958000"/>
                <a:chExt cx="125280" cy="126000"/>
              </a:xfrm>
            </p:grpSpPr>
            <p:sp>
              <p:nvSpPr>
                <p:cNvPr id="639" name="Oval 600"/>
                <p:cNvSpPr/>
                <p:nvPr/>
              </p:nvSpPr>
              <p:spPr>
                <a:xfrm rot="2700000">
                  <a:off x="6515640" y="60044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Oval 601"/>
                <p:cNvSpPr/>
                <p:nvPr/>
              </p:nvSpPr>
              <p:spPr>
                <a:xfrm rot="8100000">
                  <a:off x="6516000" y="60040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1" name="Group 602"/>
            <p:cNvGrpSpPr/>
            <p:nvPr/>
          </p:nvGrpSpPr>
          <p:grpSpPr>
            <a:xfrm>
              <a:off x="6515640" y="5947200"/>
              <a:ext cx="146160" cy="146880"/>
              <a:chOff x="6515640" y="5947200"/>
              <a:chExt cx="146160" cy="146880"/>
            </a:xfrm>
          </p:grpSpPr>
          <p:grpSp>
            <p:nvGrpSpPr>
              <p:cNvPr id="642" name="Group 603"/>
              <p:cNvGrpSpPr/>
              <p:nvPr/>
            </p:nvGrpSpPr>
            <p:grpSpPr>
              <a:xfrm>
                <a:off x="6515640" y="5947200"/>
                <a:ext cx="146160" cy="146520"/>
                <a:chOff x="6515640" y="5947200"/>
                <a:chExt cx="146160" cy="146520"/>
              </a:xfrm>
            </p:grpSpPr>
            <p:sp>
              <p:nvSpPr>
                <p:cNvPr id="643" name="Oval 604"/>
                <p:cNvSpPr/>
                <p:nvPr/>
              </p:nvSpPr>
              <p:spPr>
                <a:xfrm rot="1320000">
                  <a:off x="6516360" y="60040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Oval 605"/>
                <p:cNvSpPr/>
                <p:nvPr/>
              </p:nvSpPr>
              <p:spPr>
                <a:xfrm rot="6720000">
                  <a:off x="6516000" y="600372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5" name="Group 606"/>
              <p:cNvGrpSpPr/>
              <p:nvPr/>
            </p:nvGrpSpPr>
            <p:grpSpPr>
              <a:xfrm>
                <a:off x="6515640" y="5947920"/>
                <a:ext cx="145800" cy="146160"/>
                <a:chOff x="6515640" y="5947920"/>
                <a:chExt cx="145800" cy="146160"/>
              </a:xfrm>
            </p:grpSpPr>
            <p:sp>
              <p:nvSpPr>
                <p:cNvPr id="646" name="Oval 607"/>
                <p:cNvSpPr/>
                <p:nvPr/>
              </p:nvSpPr>
              <p:spPr>
                <a:xfrm rot="4020000">
                  <a:off x="6515640" y="60044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Oval 608"/>
                <p:cNvSpPr/>
                <p:nvPr/>
              </p:nvSpPr>
              <p:spPr>
                <a:xfrm rot="9420000">
                  <a:off x="6516360" y="60037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Oval 609"/>
            <p:cNvSpPr/>
            <p:nvPr/>
          </p:nvSpPr>
          <p:spPr>
            <a:xfrm>
              <a:off x="6564960" y="5999400"/>
              <a:ext cx="47160" cy="42120"/>
            </a:xfrm>
            <a:prstGeom prst="ellips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Group 610"/>
          <p:cNvGrpSpPr/>
          <p:nvPr/>
        </p:nvGrpSpPr>
        <p:grpSpPr>
          <a:xfrm>
            <a:off x="6155280" y="5875920"/>
            <a:ext cx="146160" cy="146160"/>
            <a:chOff x="6155280" y="5875920"/>
            <a:chExt cx="146160" cy="146160"/>
          </a:xfrm>
        </p:grpSpPr>
        <p:grpSp>
          <p:nvGrpSpPr>
            <p:cNvPr id="650" name="Group 611"/>
            <p:cNvGrpSpPr/>
            <p:nvPr/>
          </p:nvGrpSpPr>
          <p:grpSpPr>
            <a:xfrm>
              <a:off x="6156360" y="5877000"/>
              <a:ext cx="144360" cy="144360"/>
              <a:chOff x="6156360" y="5877000"/>
              <a:chExt cx="144360" cy="144360"/>
            </a:xfrm>
          </p:grpSpPr>
          <p:grpSp>
            <p:nvGrpSpPr>
              <p:cNvPr id="651" name="Group 612"/>
              <p:cNvGrpSpPr/>
              <p:nvPr/>
            </p:nvGrpSpPr>
            <p:grpSpPr>
              <a:xfrm>
                <a:off x="6156360" y="5877000"/>
                <a:ext cx="144360" cy="144360"/>
                <a:chOff x="6156360" y="5877000"/>
                <a:chExt cx="144360" cy="144360"/>
              </a:xfrm>
            </p:grpSpPr>
            <p:sp>
              <p:nvSpPr>
                <p:cNvPr id="652" name="Oval 613"/>
                <p:cNvSpPr/>
                <p:nvPr/>
              </p:nvSpPr>
              <p:spPr>
                <a:xfrm>
                  <a:off x="6156360" y="5933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Oval 614"/>
                <p:cNvSpPr/>
                <p:nvPr/>
              </p:nvSpPr>
              <p:spPr>
                <a:xfrm rot="5400000">
                  <a:off x="615600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4" name="Group 615"/>
              <p:cNvGrpSpPr/>
              <p:nvPr/>
            </p:nvGrpSpPr>
            <p:grpSpPr>
              <a:xfrm>
                <a:off x="6165360" y="5886360"/>
                <a:ext cx="125640" cy="125640"/>
                <a:chOff x="6165360" y="5886360"/>
                <a:chExt cx="125640" cy="125640"/>
              </a:xfrm>
            </p:grpSpPr>
            <p:sp>
              <p:nvSpPr>
                <p:cNvPr id="655" name="Oval 616"/>
                <p:cNvSpPr/>
                <p:nvPr/>
              </p:nvSpPr>
              <p:spPr>
                <a:xfrm rot="2700000">
                  <a:off x="615600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Oval 617"/>
                <p:cNvSpPr/>
                <p:nvPr/>
              </p:nvSpPr>
              <p:spPr>
                <a:xfrm rot="8100000">
                  <a:off x="615564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7" name="Group 618"/>
            <p:cNvGrpSpPr/>
            <p:nvPr/>
          </p:nvGrpSpPr>
          <p:grpSpPr>
            <a:xfrm>
              <a:off x="6155280" y="5875920"/>
              <a:ext cx="146160" cy="146160"/>
              <a:chOff x="6155280" y="5875920"/>
              <a:chExt cx="146160" cy="146160"/>
            </a:xfrm>
          </p:grpSpPr>
          <p:grpSp>
            <p:nvGrpSpPr>
              <p:cNvPr id="658" name="Group 619"/>
              <p:cNvGrpSpPr/>
              <p:nvPr/>
            </p:nvGrpSpPr>
            <p:grpSpPr>
              <a:xfrm>
                <a:off x="6155280" y="5875920"/>
                <a:ext cx="146160" cy="146160"/>
                <a:chOff x="6155280" y="5875920"/>
                <a:chExt cx="146160" cy="146160"/>
              </a:xfrm>
            </p:grpSpPr>
            <p:sp>
              <p:nvSpPr>
                <p:cNvPr id="659" name="Oval 620"/>
                <p:cNvSpPr/>
                <p:nvPr/>
              </p:nvSpPr>
              <p:spPr>
                <a:xfrm rot="1320000">
                  <a:off x="615600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Oval 621"/>
                <p:cNvSpPr/>
                <p:nvPr/>
              </p:nvSpPr>
              <p:spPr>
                <a:xfrm rot="6720000">
                  <a:off x="615600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1" name="Group 622"/>
              <p:cNvGrpSpPr/>
              <p:nvPr/>
            </p:nvGrpSpPr>
            <p:grpSpPr>
              <a:xfrm>
                <a:off x="6155280" y="5876280"/>
                <a:ext cx="145800" cy="145800"/>
                <a:chOff x="6155280" y="5876280"/>
                <a:chExt cx="145800" cy="145800"/>
              </a:xfrm>
            </p:grpSpPr>
            <p:sp>
              <p:nvSpPr>
                <p:cNvPr id="662" name="Oval 623"/>
                <p:cNvSpPr/>
                <p:nvPr/>
              </p:nvSpPr>
              <p:spPr>
                <a:xfrm rot="4020000">
                  <a:off x="615564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Oval 624"/>
                <p:cNvSpPr/>
                <p:nvPr/>
              </p:nvSpPr>
              <p:spPr>
                <a:xfrm rot="9420000">
                  <a:off x="6156000" y="59320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4" name="Oval 625"/>
            <p:cNvSpPr/>
            <p:nvPr/>
          </p:nvSpPr>
          <p:spPr>
            <a:xfrm>
              <a:off x="6204600" y="5927760"/>
              <a:ext cx="47160" cy="42120"/>
            </a:xfrm>
            <a:prstGeom prst="ellipse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626"/>
          <p:cNvGrpSpPr/>
          <p:nvPr/>
        </p:nvGrpSpPr>
        <p:grpSpPr>
          <a:xfrm>
            <a:off x="358920" y="5731200"/>
            <a:ext cx="218520" cy="218160"/>
            <a:chOff x="358920" y="5731200"/>
            <a:chExt cx="218520" cy="218160"/>
          </a:xfrm>
        </p:grpSpPr>
        <p:grpSp>
          <p:nvGrpSpPr>
            <p:cNvPr id="666" name="Group 627"/>
            <p:cNvGrpSpPr/>
            <p:nvPr/>
          </p:nvGrpSpPr>
          <p:grpSpPr>
            <a:xfrm>
              <a:off x="360360" y="5732640"/>
              <a:ext cx="216000" cy="215640"/>
              <a:chOff x="360360" y="5732640"/>
              <a:chExt cx="216000" cy="215640"/>
            </a:xfrm>
          </p:grpSpPr>
          <p:grpSp>
            <p:nvGrpSpPr>
              <p:cNvPr id="667" name="Group 628"/>
              <p:cNvGrpSpPr/>
              <p:nvPr/>
            </p:nvGrpSpPr>
            <p:grpSpPr>
              <a:xfrm>
                <a:off x="360360" y="5732640"/>
                <a:ext cx="216000" cy="215640"/>
                <a:chOff x="360360" y="5732640"/>
                <a:chExt cx="216000" cy="215640"/>
              </a:xfrm>
            </p:grpSpPr>
            <p:sp>
              <p:nvSpPr>
                <p:cNvPr id="668" name="Oval 629"/>
                <p:cNvSpPr/>
                <p:nvPr/>
              </p:nvSpPr>
              <p:spPr>
                <a:xfrm>
                  <a:off x="360360" y="5816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Oval 630"/>
                <p:cNvSpPr/>
                <p:nvPr/>
              </p:nvSpPr>
              <p:spPr>
                <a:xfrm rot="5400000">
                  <a:off x="360000" y="5815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0" name="Group 631"/>
              <p:cNvGrpSpPr/>
              <p:nvPr/>
            </p:nvGrpSpPr>
            <p:grpSpPr>
              <a:xfrm>
                <a:off x="374760" y="5746680"/>
                <a:ext cx="187200" cy="187560"/>
                <a:chOff x="374760" y="5746680"/>
                <a:chExt cx="187200" cy="187560"/>
              </a:xfrm>
            </p:grpSpPr>
            <p:sp>
              <p:nvSpPr>
                <p:cNvPr id="671" name="Oval 632"/>
                <p:cNvSpPr/>
                <p:nvPr/>
              </p:nvSpPr>
              <p:spPr>
                <a:xfrm rot="2700000">
                  <a:off x="360360" y="5815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Oval 633"/>
                <p:cNvSpPr/>
                <p:nvPr/>
              </p:nvSpPr>
              <p:spPr>
                <a:xfrm rot="8100000">
                  <a:off x="360000" y="5815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3" name="Group 634"/>
            <p:cNvGrpSpPr/>
            <p:nvPr/>
          </p:nvGrpSpPr>
          <p:grpSpPr>
            <a:xfrm>
              <a:off x="358920" y="5731200"/>
              <a:ext cx="218520" cy="218160"/>
              <a:chOff x="358920" y="5731200"/>
              <a:chExt cx="218520" cy="218160"/>
            </a:xfrm>
          </p:grpSpPr>
          <p:grpSp>
            <p:nvGrpSpPr>
              <p:cNvPr id="674" name="Group 635"/>
              <p:cNvGrpSpPr/>
              <p:nvPr/>
            </p:nvGrpSpPr>
            <p:grpSpPr>
              <a:xfrm>
                <a:off x="358920" y="5731200"/>
                <a:ext cx="218520" cy="218160"/>
                <a:chOff x="358920" y="5731200"/>
                <a:chExt cx="218520" cy="218160"/>
              </a:xfrm>
            </p:grpSpPr>
            <p:sp>
              <p:nvSpPr>
                <p:cNvPr id="675" name="Oval 636"/>
                <p:cNvSpPr/>
                <p:nvPr/>
              </p:nvSpPr>
              <p:spPr>
                <a:xfrm rot="1320000">
                  <a:off x="360000" y="5816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Oval 637"/>
                <p:cNvSpPr/>
                <p:nvPr/>
              </p:nvSpPr>
              <p:spPr>
                <a:xfrm rot="6720000">
                  <a:off x="360000" y="5815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7" name="Group 638"/>
              <p:cNvGrpSpPr/>
              <p:nvPr/>
            </p:nvGrpSpPr>
            <p:grpSpPr>
              <a:xfrm>
                <a:off x="359640" y="5731560"/>
                <a:ext cx="217800" cy="217800"/>
                <a:chOff x="359640" y="5731560"/>
                <a:chExt cx="217800" cy="217800"/>
              </a:xfrm>
            </p:grpSpPr>
            <p:sp>
              <p:nvSpPr>
                <p:cNvPr id="678" name="Oval 639"/>
                <p:cNvSpPr/>
                <p:nvPr/>
              </p:nvSpPr>
              <p:spPr>
                <a:xfrm rot="4020000">
                  <a:off x="360000" y="5815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Oval 640"/>
                <p:cNvSpPr/>
                <p:nvPr/>
              </p:nvSpPr>
              <p:spPr>
                <a:xfrm rot="9420000">
                  <a:off x="360360" y="5815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0" name="Oval 641"/>
            <p:cNvSpPr/>
            <p:nvPr/>
          </p:nvSpPr>
          <p:spPr>
            <a:xfrm>
              <a:off x="432720" y="5808600"/>
              <a:ext cx="70560" cy="62640"/>
            </a:xfrm>
            <a:prstGeom prst="ellipse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Group 642"/>
          <p:cNvGrpSpPr/>
          <p:nvPr/>
        </p:nvGrpSpPr>
        <p:grpSpPr>
          <a:xfrm>
            <a:off x="-1440" y="5659560"/>
            <a:ext cx="218520" cy="218520"/>
            <a:chOff x="-1440" y="5659560"/>
            <a:chExt cx="218520" cy="218520"/>
          </a:xfrm>
        </p:grpSpPr>
        <p:grpSp>
          <p:nvGrpSpPr>
            <p:cNvPr id="682" name="Group 643"/>
            <p:cNvGrpSpPr/>
            <p:nvPr/>
          </p:nvGrpSpPr>
          <p:grpSpPr>
            <a:xfrm>
              <a:off x="0" y="5661000"/>
              <a:ext cx="216000" cy="216000"/>
              <a:chOff x="0" y="5661000"/>
              <a:chExt cx="216000" cy="216000"/>
            </a:xfrm>
          </p:grpSpPr>
          <p:grpSp>
            <p:nvGrpSpPr>
              <p:cNvPr id="683" name="Group 644"/>
              <p:cNvGrpSpPr/>
              <p:nvPr/>
            </p:nvGrpSpPr>
            <p:grpSpPr>
              <a:xfrm>
                <a:off x="0" y="5661000"/>
                <a:ext cx="216000" cy="216000"/>
                <a:chOff x="0" y="5661000"/>
                <a:chExt cx="216000" cy="216000"/>
              </a:xfrm>
            </p:grpSpPr>
            <p:sp>
              <p:nvSpPr>
                <p:cNvPr id="684" name="Oval 645"/>
                <p:cNvSpPr/>
                <p:nvPr/>
              </p:nvSpPr>
              <p:spPr>
                <a:xfrm>
                  <a:off x="0" y="57448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Oval 646"/>
                <p:cNvSpPr/>
                <p:nvPr/>
              </p:nvSpPr>
              <p:spPr>
                <a:xfrm rot="5400000">
                  <a:off x="-360" y="5744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6" name="Group 647"/>
              <p:cNvGrpSpPr/>
              <p:nvPr/>
            </p:nvGrpSpPr>
            <p:grpSpPr>
              <a:xfrm>
                <a:off x="14040" y="5675040"/>
                <a:ext cx="187560" cy="187560"/>
                <a:chOff x="14040" y="5675040"/>
                <a:chExt cx="187560" cy="187560"/>
              </a:xfrm>
            </p:grpSpPr>
            <p:sp>
              <p:nvSpPr>
                <p:cNvPr id="687" name="Oval 648"/>
                <p:cNvSpPr/>
                <p:nvPr/>
              </p:nvSpPr>
              <p:spPr>
                <a:xfrm rot="2700000">
                  <a:off x="0" y="5744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Oval 649"/>
                <p:cNvSpPr/>
                <p:nvPr/>
              </p:nvSpPr>
              <p:spPr>
                <a:xfrm rot="8100000">
                  <a:off x="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9" name="Group 650"/>
            <p:cNvGrpSpPr/>
            <p:nvPr/>
          </p:nvGrpSpPr>
          <p:grpSpPr>
            <a:xfrm>
              <a:off x="-1440" y="5659560"/>
              <a:ext cx="218520" cy="218520"/>
              <a:chOff x="-1440" y="5659560"/>
              <a:chExt cx="218520" cy="218520"/>
            </a:xfrm>
          </p:grpSpPr>
          <p:grpSp>
            <p:nvGrpSpPr>
              <p:cNvPr id="690" name="Group 651"/>
              <p:cNvGrpSpPr/>
              <p:nvPr/>
            </p:nvGrpSpPr>
            <p:grpSpPr>
              <a:xfrm>
                <a:off x="-1440" y="5659560"/>
                <a:ext cx="218520" cy="218520"/>
                <a:chOff x="-1440" y="5659560"/>
                <a:chExt cx="218520" cy="218520"/>
              </a:xfrm>
            </p:grpSpPr>
            <p:sp>
              <p:nvSpPr>
                <p:cNvPr id="691" name="Oval 652"/>
                <p:cNvSpPr/>
                <p:nvPr/>
              </p:nvSpPr>
              <p:spPr>
                <a:xfrm rot="1320000">
                  <a:off x="0" y="5744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Oval 653"/>
                <p:cNvSpPr/>
                <p:nvPr/>
              </p:nvSpPr>
              <p:spPr>
                <a:xfrm rot="6720000">
                  <a:off x="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3" name="Group 654"/>
              <p:cNvGrpSpPr/>
              <p:nvPr/>
            </p:nvGrpSpPr>
            <p:grpSpPr>
              <a:xfrm>
                <a:off x="-720" y="5659920"/>
                <a:ext cx="217800" cy="217800"/>
                <a:chOff x="-720" y="5659920"/>
                <a:chExt cx="217800" cy="217800"/>
              </a:xfrm>
            </p:grpSpPr>
            <p:sp>
              <p:nvSpPr>
                <p:cNvPr id="694" name="Oval 655"/>
                <p:cNvSpPr/>
                <p:nvPr/>
              </p:nvSpPr>
              <p:spPr>
                <a:xfrm rot="4020000">
                  <a:off x="-36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Oval 656"/>
                <p:cNvSpPr/>
                <p:nvPr/>
              </p:nvSpPr>
              <p:spPr>
                <a:xfrm rot="9420000">
                  <a:off x="0" y="5743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6" name="Oval 657"/>
            <p:cNvSpPr/>
            <p:nvPr/>
          </p:nvSpPr>
          <p:spPr>
            <a:xfrm>
              <a:off x="72360" y="5737320"/>
              <a:ext cx="70560" cy="63000"/>
            </a:xfrm>
            <a:prstGeom prst="ellipse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Group 658"/>
          <p:cNvGrpSpPr/>
          <p:nvPr/>
        </p:nvGrpSpPr>
        <p:grpSpPr>
          <a:xfrm>
            <a:off x="503640" y="6091920"/>
            <a:ext cx="146520" cy="146160"/>
            <a:chOff x="503640" y="6091920"/>
            <a:chExt cx="146520" cy="146160"/>
          </a:xfrm>
        </p:grpSpPr>
        <p:grpSp>
          <p:nvGrpSpPr>
            <p:cNvPr id="698" name="Group 659"/>
            <p:cNvGrpSpPr/>
            <p:nvPr/>
          </p:nvGrpSpPr>
          <p:grpSpPr>
            <a:xfrm>
              <a:off x="504720" y="6093000"/>
              <a:ext cx="144720" cy="144360"/>
              <a:chOff x="504720" y="6093000"/>
              <a:chExt cx="144720" cy="144360"/>
            </a:xfrm>
          </p:grpSpPr>
          <p:grpSp>
            <p:nvGrpSpPr>
              <p:cNvPr id="699" name="Group 660"/>
              <p:cNvGrpSpPr/>
              <p:nvPr/>
            </p:nvGrpSpPr>
            <p:grpSpPr>
              <a:xfrm>
                <a:off x="504720" y="6093000"/>
                <a:ext cx="144720" cy="144360"/>
                <a:chOff x="504720" y="6093000"/>
                <a:chExt cx="144720" cy="144360"/>
              </a:xfrm>
            </p:grpSpPr>
            <p:sp>
              <p:nvSpPr>
                <p:cNvPr id="700" name="Oval 661"/>
                <p:cNvSpPr/>
                <p:nvPr/>
              </p:nvSpPr>
              <p:spPr>
                <a:xfrm>
                  <a:off x="504720" y="614916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Oval 662"/>
                <p:cNvSpPr/>
                <p:nvPr/>
              </p:nvSpPr>
              <p:spPr>
                <a:xfrm rot="5400000">
                  <a:off x="504360" y="6148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2" name="Group 663"/>
              <p:cNvGrpSpPr/>
              <p:nvPr/>
            </p:nvGrpSpPr>
            <p:grpSpPr>
              <a:xfrm>
                <a:off x="514080" y="6102360"/>
                <a:ext cx="125640" cy="125640"/>
                <a:chOff x="514080" y="6102360"/>
                <a:chExt cx="125640" cy="125640"/>
              </a:xfrm>
            </p:grpSpPr>
            <p:sp>
              <p:nvSpPr>
                <p:cNvPr id="703" name="Oval 664"/>
                <p:cNvSpPr/>
                <p:nvPr/>
              </p:nvSpPr>
              <p:spPr>
                <a:xfrm rot="2700000">
                  <a:off x="504720" y="6148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Oval 665"/>
                <p:cNvSpPr/>
                <p:nvPr/>
              </p:nvSpPr>
              <p:spPr>
                <a:xfrm rot="8100000">
                  <a:off x="504360" y="61484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5" name="Group 666"/>
            <p:cNvGrpSpPr/>
            <p:nvPr/>
          </p:nvGrpSpPr>
          <p:grpSpPr>
            <a:xfrm>
              <a:off x="503640" y="6091920"/>
              <a:ext cx="146520" cy="146160"/>
              <a:chOff x="503640" y="6091920"/>
              <a:chExt cx="146520" cy="146160"/>
            </a:xfrm>
          </p:grpSpPr>
          <p:grpSp>
            <p:nvGrpSpPr>
              <p:cNvPr id="706" name="Group 667"/>
              <p:cNvGrpSpPr/>
              <p:nvPr/>
            </p:nvGrpSpPr>
            <p:grpSpPr>
              <a:xfrm>
                <a:off x="503640" y="6091920"/>
                <a:ext cx="146520" cy="146160"/>
                <a:chOff x="503640" y="6091920"/>
                <a:chExt cx="146520" cy="146160"/>
              </a:xfrm>
            </p:grpSpPr>
            <p:sp>
              <p:nvSpPr>
                <p:cNvPr id="707" name="Oval 668"/>
                <p:cNvSpPr/>
                <p:nvPr/>
              </p:nvSpPr>
              <p:spPr>
                <a:xfrm rot="1320000">
                  <a:off x="504360" y="61488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Oval 669"/>
                <p:cNvSpPr/>
                <p:nvPr/>
              </p:nvSpPr>
              <p:spPr>
                <a:xfrm rot="6720000">
                  <a:off x="504360" y="6148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9" name="Group 670"/>
              <p:cNvGrpSpPr/>
              <p:nvPr/>
            </p:nvGrpSpPr>
            <p:grpSpPr>
              <a:xfrm>
                <a:off x="504000" y="6092280"/>
                <a:ext cx="146160" cy="145800"/>
                <a:chOff x="504000" y="6092280"/>
                <a:chExt cx="146160" cy="145800"/>
              </a:xfrm>
            </p:grpSpPr>
            <p:sp>
              <p:nvSpPr>
                <p:cNvPr id="710" name="Oval 671"/>
                <p:cNvSpPr/>
                <p:nvPr/>
              </p:nvSpPr>
              <p:spPr>
                <a:xfrm rot="4020000">
                  <a:off x="504360" y="6148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Oval 672"/>
                <p:cNvSpPr/>
                <p:nvPr/>
              </p:nvSpPr>
              <p:spPr>
                <a:xfrm rot="9420000">
                  <a:off x="504720" y="61484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12" name="Oval 673"/>
            <p:cNvSpPr/>
            <p:nvPr/>
          </p:nvSpPr>
          <p:spPr>
            <a:xfrm>
              <a:off x="553320" y="6143760"/>
              <a:ext cx="47160" cy="42120"/>
            </a:xfrm>
            <a:prstGeom prst="ellipse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Group 674"/>
          <p:cNvGrpSpPr/>
          <p:nvPr/>
        </p:nvGrpSpPr>
        <p:grpSpPr>
          <a:xfrm>
            <a:off x="143280" y="6020280"/>
            <a:ext cx="146520" cy="146160"/>
            <a:chOff x="143280" y="6020280"/>
            <a:chExt cx="146520" cy="146160"/>
          </a:xfrm>
        </p:grpSpPr>
        <p:grpSp>
          <p:nvGrpSpPr>
            <p:cNvPr id="714" name="Group 675"/>
            <p:cNvGrpSpPr/>
            <p:nvPr/>
          </p:nvGrpSpPr>
          <p:grpSpPr>
            <a:xfrm>
              <a:off x="144360" y="6021360"/>
              <a:ext cx="144720" cy="144360"/>
              <a:chOff x="144360" y="6021360"/>
              <a:chExt cx="144720" cy="144360"/>
            </a:xfrm>
          </p:grpSpPr>
          <p:grpSp>
            <p:nvGrpSpPr>
              <p:cNvPr id="715" name="Group 676"/>
              <p:cNvGrpSpPr/>
              <p:nvPr/>
            </p:nvGrpSpPr>
            <p:grpSpPr>
              <a:xfrm>
                <a:off x="144360" y="6021360"/>
                <a:ext cx="144720" cy="144360"/>
                <a:chOff x="144360" y="6021360"/>
                <a:chExt cx="144720" cy="144360"/>
              </a:xfrm>
            </p:grpSpPr>
            <p:sp>
              <p:nvSpPr>
                <p:cNvPr id="716" name="Oval 677"/>
                <p:cNvSpPr/>
                <p:nvPr/>
              </p:nvSpPr>
              <p:spPr>
                <a:xfrm>
                  <a:off x="144360" y="607752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Oval 678"/>
                <p:cNvSpPr/>
                <p:nvPr/>
              </p:nvSpPr>
              <p:spPr>
                <a:xfrm rot="5400000">
                  <a:off x="143640" y="6077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8" name="Group 679"/>
              <p:cNvGrpSpPr/>
              <p:nvPr/>
            </p:nvGrpSpPr>
            <p:grpSpPr>
              <a:xfrm>
                <a:off x="153720" y="6030720"/>
                <a:ext cx="125640" cy="125640"/>
                <a:chOff x="153720" y="6030720"/>
                <a:chExt cx="125640" cy="125640"/>
              </a:xfrm>
            </p:grpSpPr>
            <p:sp>
              <p:nvSpPr>
                <p:cNvPr id="719" name="Oval 680"/>
                <p:cNvSpPr/>
                <p:nvPr/>
              </p:nvSpPr>
              <p:spPr>
                <a:xfrm rot="2700000">
                  <a:off x="144360" y="6077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Oval 681"/>
                <p:cNvSpPr/>
                <p:nvPr/>
              </p:nvSpPr>
              <p:spPr>
                <a:xfrm rot="8100000">
                  <a:off x="144000" y="60768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21" name="Group 682"/>
            <p:cNvGrpSpPr/>
            <p:nvPr/>
          </p:nvGrpSpPr>
          <p:grpSpPr>
            <a:xfrm>
              <a:off x="143280" y="6020280"/>
              <a:ext cx="146520" cy="146160"/>
              <a:chOff x="143280" y="6020280"/>
              <a:chExt cx="146520" cy="146160"/>
            </a:xfrm>
          </p:grpSpPr>
          <p:grpSp>
            <p:nvGrpSpPr>
              <p:cNvPr id="722" name="Group 683"/>
              <p:cNvGrpSpPr/>
              <p:nvPr/>
            </p:nvGrpSpPr>
            <p:grpSpPr>
              <a:xfrm>
                <a:off x="143280" y="6020280"/>
                <a:ext cx="146520" cy="146160"/>
                <a:chOff x="143280" y="6020280"/>
                <a:chExt cx="146520" cy="146160"/>
              </a:xfrm>
            </p:grpSpPr>
            <p:sp>
              <p:nvSpPr>
                <p:cNvPr id="723" name="Oval 684"/>
                <p:cNvSpPr/>
                <p:nvPr/>
              </p:nvSpPr>
              <p:spPr>
                <a:xfrm rot="1320000">
                  <a:off x="144000" y="607716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Oval 685"/>
                <p:cNvSpPr/>
                <p:nvPr/>
              </p:nvSpPr>
              <p:spPr>
                <a:xfrm rot="6720000">
                  <a:off x="14400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5" name="Group 686"/>
              <p:cNvGrpSpPr/>
              <p:nvPr/>
            </p:nvGrpSpPr>
            <p:grpSpPr>
              <a:xfrm>
                <a:off x="143640" y="6020640"/>
                <a:ext cx="146160" cy="145800"/>
                <a:chOff x="143640" y="6020640"/>
                <a:chExt cx="146160" cy="145800"/>
              </a:xfrm>
            </p:grpSpPr>
            <p:sp>
              <p:nvSpPr>
                <p:cNvPr id="726" name="Oval 687"/>
                <p:cNvSpPr/>
                <p:nvPr/>
              </p:nvSpPr>
              <p:spPr>
                <a:xfrm rot="4020000">
                  <a:off x="14400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Oval 688"/>
                <p:cNvSpPr/>
                <p:nvPr/>
              </p:nvSpPr>
              <p:spPr>
                <a:xfrm rot="9420000">
                  <a:off x="144360" y="60768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8" name="Oval 689"/>
            <p:cNvSpPr/>
            <p:nvPr/>
          </p:nvSpPr>
          <p:spPr>
            <a:xfrm>
              <a:off x="192960" y="6072120"/>
              <a:ext cx="47160" cy="42120"/>
            </a:xfrm>
            <a:prstGeom prst="ellipse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Group 690"/>
          <p:cNvGrpSpPr/>
          <p:nvPr/>
        </p:nvGrpSpPr>
        <p:grpSpPr>
          <a:xfrm>
            <a:off x="7593840" y="5226840"/>
            <a:ext cx="367560" cy="367560"/>
            <a:chOff x="7593840" y="5226840"/>
            <a:chExt cx="367560" cy="367560"/>
          </a:xfrm>
        </p:grpSpPr>
        <p:grpSp>
          <p:nvGrpSpPr>
            <p:cNvPr id="730" name="Group 691"/>
            <p:cNvGrpSpPr/>
            <p:nvPr/>
          </p:nvGrpSpPr>
          <p:grpSpPr>
            <a:xfrm>
              <a:off x="7596360" y="5229360"/>
              <a:ext cx="362880" cy="362880"/>
              <a:chOff x="7596360" y="5229360"/>
              <a:chExt cx="362880" cy="362880"/>
            </a:xfrm>
          </p:grpSpPr>
          <p:grpSp>
            <p:nvGrpSpPr>
              <p:cNvPr id="731" name="Group 692"/>
              <p:cNvGrpSpPr/>
              <p:nvPr/>
            </p:nvGrpSpPr>
            <p:grpSpPr>
              <a:xfrm>
                <a:off x="7596360" y="5229360"/>
                <a:ext cx="362880" cy="362880"/>
                <a:chOff x="7596360" y="5229360"/>
                <a:chExt cx="362880" cy="362880"/>
              </a:xfrm>
            </p:grpSpPr>
            <p:sp>
              <p:nvSpPr>
                <p:cNvPr id="732" name="Oval 693"/>
                <p:cNvSpPr/>
                <p:nvPr/>
              </p:nvSpPr>
              <p:spPr>
                <a:xfrm>
                  <a:off x="7596360" y="537048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Oval 694"/>
                <p:cNvSpPr/>
                <p:nvPr/>
              </p:nvSpPr>
              <p:spPr>
                <a:xfrm rot="5400000">
                  <a:off x="7595640" y="536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4" name="Group 695"/>
              <p:cNvGrpSpPr/>
              <p:nvPr/>
            </p:nvGrpSpPr>
            <p:grpSpPr>
              <a:xfrm>
                <a:off x="7619760" y="5253120"/>
                <a:ext cx="315000" cy="315720"/>
                <a:chOff x="7619760" y="5253120"/>
                <a:chExt cx="315000" cy="315720"/>
              </a:xfrm>
            </p:grpSpPr>
            <p:sp>
              <p:nvSpPr>
                <p:cNvPr id="735" name="Oval 696"/>
                <p:cNvSpPr/>
                <p:nvPr/>
              </p:nvSpPr>
              <p:spPr>
                <a:xfrm rot="2700000">
                  <a:off x="7595640" y="5369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Oval 697"/>
                <p:cNvSpPr/>
                <p:nvPr/>
              </p:nvSpPr>
              <p:spPr>
                <a:xfrm rot="8100000">
                  <a:off x="7595640" y="536904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7" name="Group 698"/>
            <p:cNvGrpSpPr/>
            <p:nvPr/>
          </p:nvGrpSpPr>
          <p:grpSpPr>
            <a:xfrm>
              <a:off x="7593840" y="5226840"/>
              <a:ext cx="367560" cy="367560"/>
              <a:chOff x="7593840" y="5226840"/>
              <a:chExt cx="367560" cy="367560"/>
            </a:xfrm>
          </p:grpSpPr>
          <p:grpSp>
            <p:nvGrpSpPr>
              <p:cNvPr id="738" name="Group 699"/>
              <p:cNvGrpSpPr/>
              <p:nvPr/>
            </p:nvGrpSpPr>
            <p:grpSpPr>
              <a:xfrm>
                <a:off x="7593840" y="5226840"/>
                <a:ext cx="367560" cy="367560"/>
                <a:chOff x="7593840" y="5226840"/>
                <a:chExt cx="367560" cy="367560"/>
              </a:xfrm>
            </p:grpSpPr>
            <p:sp>
              <p:nvSpPr>
                <p:cNvPr id="739" name="Oval 700"/>
                <p:cNvSpPr/>
                <p:nvPr/>
              </p:nvSpPr>
              <p:spPr>
                <a:xfrm rot="1320000">
                  <a:off x="7596000" y="537012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Oval 701"/>
                <p:cNvSpPr/>
                <p:nvPr/>
              </p:nvSpPr>
              <p:spPr>
                <a:xfrm rot="6720000">
                  <a:off x="7596000" y="536904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1" name="Group 702"/>
              <p:cNvGrpSpPr/>
              <p:nvPr/>
            </p:nvGrpSpPr>
            <p:grpSpPr>
              <a:xfrm>
                <a:off x="7594560" y="5227920"/>
                <a:ext cx="366120" cy="366120"/>
                <a:chOff x="7594560" y="5227920"/>
                <a:chExt cx="366120" cy="366120"/>
              </a:xfrm>
            </p:grpSpPr>
            <p:sp>
              <p:nvSpPr>
                <p:cNvPr id="742" name="Oval 703"/>
                <p:cNvSpPr/>
                <p:nvPr/>
              </p:nvSpPr>
              <p:spPr>
                <a:xfrm rot="4020000">
                  <a:off x="7595280" y="5369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Oval 704"/>
                <p:cNvSpPr/>
                <p:nvPr/>
              </p:nvSpPr>
              <p:spPr>
                <a:xfrm rot="9420000">
                  <a:off x="7596000" y="536904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4" name="Oval 705"/>
            <p:cNvSpPr/>
            <p:nvPr/>
          </p:nvSpPr>
          <p:spPr>
            <a:xfrm>
              <a:off x="7718040" y="5357520"/>
              <a:ext cx="118440" cy="105840"/>
            </a:xfrm>
            <a:prstGeom prst="ellipse">
              <a:avLst/>
            </a:prstGeom>
            <a:blipFill rotWithShape="0">
              <a:blip r:embed="rId36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Group 706"/>
          <p:cNvGrpSpPr/>
          <p:nvPr/>
        </p:nvGrpSpPr>
        <p:grpSpPr>
          <a:xfrm>
            <a:off x="7810560" y="5659560"/>
            <a:ext cx="218520" cy="218520"/>
            <a:chOff x="7810560" y="5659560"/>
            <a:chExt cx="218520" cy="218520"/>
          </a:xfrm>
        </p:grpSpPr>
        <p:grpSp>
          <p:nvGrpSpPr>
            <p:cNvPr id="746" name="Group 707"/>
            <p:cNvGrpSpPr/>
            <p:nvPr/>
          </p:nvGrpSpPr>
          <p:grpSpPr>
            <a:xfrm>
              <a:off x="7812000" y="5661000"/>
              <a:ext cx="216000" cy="216000"/>
              <a:chOff x="7812000" y="5661000"/>
              <a:chExt cx="216000" cy="216000"/>
            </a:xfrm>
          </p:grpSpPr>
          <p:grpSp>
            <p:nvGrpSpPr>
              <p:cNvPr id="747" name="Group 708"/>
              <p:cNvGrpSpPr/>
              <p:nvPr/>
            </p:nvGrpSpPr>
            <p:grpSpPr>
              <a:xfrm>
                <a:off x="7812000" y="5661000"/>
                <a:ext cx="216000" cy="216000"/>
                <a:chOff x="7812000" y="5661000"/>
                <a:chExt cx="216000" cy="216000"/>
              </a:xfrm>
            </p:grpSpPr>
            <p:sp>
              <p:nvSpPr>
                <p:cNvPr id="748" name="Oval 709"/>
                <p:cNvSpPr/>
                <p:nvPr/>
              </p:nvSpPr>
              <p:spPr>
                <a:xfrm>
                  <a:off x="7812000" y="57448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Oval 710"/>
                <p:cNvSpPr/>
                <p:nvPr/>
              </p:nvSpPr>
              <p:spPr>
                <a:xfrm rot="5400000">
                  <a:off x="7811640" y="5744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0" name="Group 711"/>
              <p:cNvGrpSpPr/>
              <p:nvPr/>
            </p:nvGrpSpPr>
            <p:grpSpPr>
              <a:xfrm>
                <a:off x="7826040" y="5675040"/>
                <a:ext cx="187560" cy="187560"/>
                <a:chOff x="7826040" y="5675040"/>
                <a:chExt cx="187560" cy="187560"/>
              </a:xfrm>
            </p:grpSpPr>
            <p:sp>
              <p:nvSpPr>
                <p:cNvPr id="751" name="Oval 712"/>
                <p:cNvSpPr/>
                <p:nvPr/>
              </p:nvSpPr>
              <p:spPr>
                <a:xfrm rot="2700000">
                  <a:off x="7811640" y="5744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Oval 713"/>
                <p:cNvSpPr/>
                <p:nvPr/>
              </p:nvSpPr>
              <p:spPr>
                <a:xfrm rot="8100000">
                  <a:off x="781164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3" name="Group 714"/>
            <p:cNvGrpSpPr/>
            <p:nvPr/>
          </p:nvGrpSpPr>
          <p:grpSpPr>
            <a:xfrm>
              <a:off x="7810560" y="5659560"/>
              <a:ext cx="218520" cy="218520"/>
              <a:chOff x="7810560" y="5659560"/>
              <a:chExt cx="218520" cy="218520"/>
            </a:xfrm>
          </p:grpSpPr>
          <p:grpSp>
            <p:nvGrpSpPr>
              <p:cNvPr id="754" name="Group 715"/>
              <p:cNvGrpSpPr/>
              <p:nvPr/>
            </p:nvGrpSpPr>
            <p:grpSpPr>
              <a:xfrm>
                <a:off x="7810560" y="5659560"/>
                <a:ext cx="218520" cy="218520"/>
                <a:chOff x="7810560" y="5659560"/>
                <a:chExt cx="218520" cy="218520"/>
              </a:xfrm>
            </p:grpSpPr>
            <p:sp>
              <p:nvSpPr>
                <p:cNvPr id="755" name="Oval 716"/>
                <p:cNvSpPr/>
                <p:nvPr/>
              </p:nvSpPr>
              <p:spPr>
                <a:xfrm rot="1320000">
                  <a:off x="7811640" y="5744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Oval 717"/>
                <p:cNvSpPr/>
                <p:nvPr/>
              </p:nvSpPr>
              <p:spPr>
                <a:xfrm rot="6720000">
                  <a:off x="781164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Group 718"/>
              <p:cNvGrpSpPr/>
              <p:nvPr/>
            </p:nvGrpSpPr>
            <p:grpSpPr>
              <a:xfrm>
                <a:off x="7811280" y="5659920"/>
                <a:ext cx="217800" cy="217800"/>
                <a:chOff x="7811280" y="5659920"/>
                <a:chExt cx="217800" cy="217800"/>
              </a:xfrm>
            </p:grpSpPr>
            <p:sp>
              <p:nvSpPr>
                <p:cNvPr id="758" name="Oval 719"/>
                <p:cNvSpPr/>
                <p:nvPr/>
              </p:nvSpPr>
              <p:spPr>
                <a:xfrm rot="4020000">
                  <a:off x="781128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Oval 720"/>
                <p:cNvSpPr/>
                <p:nvPr/>
              </p:nvSpPr>
              <p:spPr>
                <a:xfrm rot="9420000">
                  <a:off x="7812000" y="5743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0" name="Oval 721"/>
            <p:cNvSpPr/>
            <p:nvPr/>
          </p:nvSpPr>
          <p:spPr>
            <a:xfrm>
              <a:off x="7884360" y="5737320"/>
              <a:ext cx="70560" cy="63000"/>
            </a:xfrm>
            <a:prstGeom prst="ellipse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Group 722"/>
          <p:cNvGrpSpPr/>
          <p:nvPr/>
        </p:nvGrpSpPr>
        <p:grpSpPr>
          <a:xfrm>
            <a:off x="8314560" y="5731560"/>
            <a:ext cx="367560" cy="367920"/>
            <a:chOff x="8314560" y="5731560"/>
            <a:chExt cx="367560" cy="367920"/>
          </a:xfrm>
        </p:grpSpPr>
        <p:grpSp>
          <p:nvGrpSpPr>
            <p:cNvPr id="762" name="Group 723"/>
            <p:cNvGrpSpPr/>
            <p:nvPr/>
          </p:nvGrpSpPr>
          <p:grpSpPr>
            <a:xfrm>
              <a:off x="8317080" y="5734080"/>
              <a:ext cx="362880" cy="363240"/>
              <a:chOff x="8317080" y="5734080"/>
              <a:chExt cx="362880" cy="363240"/>
            </a:xfrm>
          </p:grpSpPr>
          <p:grpSp>
            <p:nvGrpSpPr>
              <p:cNvPr id="763" name="Group 724"/>
              <p:cNvGrpSpPr/>
              <p:nvPr/>
            </p:nvGrpSpPr>
            <p:grpSpPr>
              <a:xfrm>
                <a:off x="8317080" y="5734080"/>
                <a:ext cx="362880" cy="363240"/>
                <a:chOff x="8317080" y="5734080"/>
                <a:chExt cx="362880" cy="363240"/>
              </a:xfrm>
            </p:grpSpPr>
            <p:sp>
              <p:nvSpPr>
                <p:cNvPr id="764" name="Oval 725"/>
                <p:cNvSpPr/>
                <p:nvPr/>
              </p:nvSpPr>
              <p:spPr>
                <a:xfrm>
                  <a:off x="8317080" y="58752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Oval 726"/>
                <p:cNvSpPr/>
                <p:nvPr/>
              </p:nvSpPr>
              <p:spPr>
                <a:xfrm rot="5400000">
                  <a:off x="8316360" y="5874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6" name="Group 727"/>
              <p:cNvGrpSpPr/>
              <p:nvPr/>
            </p:nvGrpSpPr>
            <p:grpSpPr>
              <a:xfrm>
                <a:off x="8340480" y="5757840"/>
                <a:ext cx="315000" cy="315720"/>
                <a:chOff x="8340480" y="5757840"/>
                <a:chExt cx="315000" cy="315720"/>
              </a:xfrm>
            </p:grpSpPr>
            <p:sp>
              <p:nvSpPr>
                <p:cNvPr id="767" name="Oval 728"/>
                <p:cNvSpPr/>
                <p:nvPr/>
              </p:nvSpPr>
              <p:spPr>
                <a:xfrm rot="2700000">
                  <a:off x="8316360" y="58748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Oval 729"/>
                <p:cNvSpPr/>
                <p:nvPr/>
              </p:nvSpPr>
              <p:spPr>
                <a:xfrm rot="8100000">
                  <a:off x="8316360" y="5873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9" name="Group 730"/>
            <p:cNvGrpSpPr/>
            <p:nvPr/>
          </p:nvGrpSpPr>
          <p:grpSpPr>
            <a:xfrm>
              <a:off x="8314560" y="5731560"/>
              <a:ext cx="367560" cy="367920"/>
              <a:chOff x="8314560" y="5731560"/>
              <a:chExt cx="367560" cy="367920"/>
            </a:xfrm>
          </p:grpSpPr>
          <p:grpSp>
            <p:nvGrpSpPr>
              <p:cNvPr id="770" name="Group 731"/>
              <p:cNvGrpSpPr/>
              <p:nvPr/>
            </p:nvGrpSpPr>
            <p:grpSpPr>
              <a:xfrm>
                <a:off x="8314560" y="5731560"/>
                <a:ext cx="367560" cy="367920"/>
                <a:chOff x="8314560" y="5731560"/>
                <a:chExt cx="367560" cy="367920"/>
              </a:xfrm>
            </p:grpSpPr>
            <p:sp>
              <p:nvSpPr>
                <p:cNvPr id="771" name="Oval 732"/>
                <p:cNvSpPr/>
                <p:nvPr/>
              </p:nvSpPr>
              <p:spPr>
                <a:xfrm rot="1320000">
                  <a:off x="8316720" y="587484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Oval 733"/>
                <p:cNvSpPr/>
                <p:nvPr/>
              </p:nvSpPr>
              <p:spPr>
                <a:xfrm rot="6720000">
                  <a:off x="8316360" y="5874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3" name="Group 734"/>
              <p:cNvGrpSpPr/>
              <p:nvPr/>
            </p:nvGrpSpPr>
            <p:grpSpPr>
              <a:xfrm>
                <a:off x="8315280" y="5732640"/>
                <a:ext cx="366120" cy="366480"/>
                <a:chOff x="8315280" y="5732640"/>
                <a:chExt cx="366120" cy="366480"/>
              </a:xfrm>
            </p:grpSpPr>
            <p:sp>
              <p:nvSpPr>
                <p:cNvPr id="774" name="Oval 735"/>
                <p:cNvSpPr/>
                <p:nvPr/>
              </p:nvSpPr>
              <p:spPr>
                <a:xfrm rot="4020000">
                  <a:off x="8316360" y="5874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Oval 736"/>
                <p:cNvSpPr/>
                <p:nvPr/>
              </p:nvSpPr>
              <p:spPr>
                <a:xfrm rot="9420000">
                  <a:off x="8316720" y="5873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6" name="Oval 737"/>
            <p:cNvSpPr/>
            <p:nvPr/>
          </p:nvSpPr>
          <p:spPr>
            <a:xfrm>
              <a:off x="8438760" y="5862240"/>
              <a:ext cx="118440" cy="105840"/>
            </a:xfrm>
            <a:prstGeom prst="ellipse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Group 738"/>
          <p:cNvGrpSpPr/>
          <p:nvPr/>
        </p:nvGrpSpPr>
        <p:grpSpPr>
          <a:xfrm>
            <a:off x="8777880" y="5155200"/>
            <a:ext cx="367920" cy="367920"/>
            <a:chOff x="8777880" y="5155200"/>
            <a:chExt cx="367920" cy="367920"/>
          </a:xfrm>
        </p:grpSpPr>
        <p:grpSp>
          <p:nvGrpSpPr>
            <p:cNvPr id="778" name="Group 739"/>
            <p:cNvGrpSpPr/>
            <p:nvPr/>
          </p:nvGrpSpPr>
          <p:grpSpPr>
            <a:xfrm>
              <a:off x="8780400" y="5157720"/>
              <a:ext cx="363240" cy="363240"/>
              <a:chOff x="8780400" y="5157720"/>
              <a:chExt cx="363240" cy="363240"/>
            </a:xfrm>
          </p:grpSpPr>
          <p:grpSp>
            <p:nvGrpSpPr>
              <p:cNvPr id="779" name="Group 740"/>
              <p:cNvGrpSpPr/>
              <p:nvPr/>
            </p:nvGrpSpPr>
            <p:grpSpPr>
              <a:xfrm>
                <a:off x="8780400" y="5157720"/>
                <a:ext cx="363240" cy="363240"/>
                <a:chOff x="8780400" y="5157720"/>
                <a:chExt cx="363240" cy="363240"/>
              </a:xfrm>
            </p:grpSpPr>
            <p:sp>
              <p:nvSpPr>
                <p:cNvPr id="780" name="Oval 741"/>
                <p:cNvSpPr/>
                <p:nvPr/>
              </p:nvSpPr>
              <p:spPr>
                <a:xfrm>
                  <a:off x="8780400" y="52988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Oval 742"/>
                <p:cNvSpPr/>
                <p:nvPr/>
              </p:nvSpPr>
              <p:spPr>
                <a:xfrm rot="5400000">
                  <a:off x="877968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2" name="Group 743"/>
              <p:cNvGrpSpPr/>
              <p:nvPr/>
            </p:nvGrpSpPr>
            <p:grpSpPr>
              <a:xfrm>
                <a:off x="8803800" y="5181480"/>
                <a:ext cx="315000" cy="315720"/>
                <a:chOff x="8803800" y="5181480"/>
                <a:chExt cx="315000" cy="315720"/>
              </a:xfrm>
            </p:grpSpPr>
            <p:sp>
              <p:nvSpPr>
                <p:cNvPr id="783" name="Oval 744"/>
                <p:cNvSpPr/>
                <p:nvPr/>
              </p:nvSpPr>
              <p:spPr>
                <a:xfrm rot="2700000">
                  <a:off x="8779680" y="5298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Oval 745"/>
                <p:cNvSpPr/>
                <p:nvPr/>
              </p:nvSpPr>
              <p:spPr>
                <a:xfrm rot="8100000">
                  <a:off x="8779320" y="529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5" name="Group 746"/>
            <p:cNvGrpSpPr/>
            <p:nvPr/>
          </p:nvGrpSpPr>
          <p:grpSpPr>
            <a:xfrm>
              <a:off x="8777880" y="5155200"/>
              <a:ext cx="367920" cy="367920"/>
              <a:chOff x="8777880" y="5155200"/>
              <a:chExt cx="367920" cy="367920"/>
            </a:xfrm>
          </p:grpSpPr>
          <p:grpSp>
            <p:nvGrpSpPr>
              <p:cNvPr id="786" name="Group 747"/>
              <p:cNvGrpSpPr/>
              <p:nvPr/>
            </p:nvGrpSpPr>
            <p:grpSpPr>
              <a:xfrm>
                <a:off x="8777880" y="5155200"/>
                <a:ext cx="367920" cy="367920"/>
                <a:chOff x="8777880" y="5155200"/>
                <a:chExt cx="367920" cy="367920"/>
              </a:xfrm>
            </p:grpSpPr>
            <p:sp>
              <p:nvSpPr>
                <p:cNvPr id="787" name="Oval 748"/>
                <p:cNvSpPr/>
                <p:nvPr/>
              </p:nvSpPr>
              <p:spPr>
                <a:xfrm rot="1320000">
                  <a:off x="8780040" y="5298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Oval 749"/>
                <p:cNvSpPr/>
                <p:nvPr/>
              </p:nvSpPr>
              <p:spPr>
                <a:xfrm rot="6720000">
                  <a:off x="8779680" y="529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9" name="Group 750"/>
              <p:cNvGrpSpPr/>
              <p:nvPr/>
            </p:nvGrpSpPr>
            <p:grpSpPr>
              <a:xfrm>
                <a:off x="8778240" y="5156280"/>
                <a:ext cx="366480" cy="366480"/>
                <a:chOff x="8778240" y="5156280"/>
                <a:chExt cx="366480" cy="366480"/>
              </a:xfrm>
            </p:grpSpPr>
            <p:sp>
              <p:nvSpPr>
                <p:cNvPr id="790" name="Oval 751"/>
                <p:cNvSpPr/>
                <p:nvPr/>
              </p:nvSpPr>
              <p:spPr>
                <a:xfrm rot="4020000">
                  <a:off x="877968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Oval 752"/>
                <p:cNvSpPr/>
                <p:nvPr/>
              </p:nvSpPr>
              <p:spPr>
                <a:xfrm rot="9420000">
                  <a:off x="8779680" y="5297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Oval 753"/>
            <p:cNvSpPr/>
            <p:nvPr/>
          </p:nvSpPr>
          <p:spPr>
            <a:xfrm>
              <a:off x="8902440" y="5285880"/>
              <a:ext cx="118800" cy="105840"/>
            </a:xfrm>
            <a:prstGeom prst="ellipse">
              <a:avLst/>
            </a:prstGeom>
            <a:blipFill rotWithShape="0">
              <a:blip r:embed="rId39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Group 754"/>
          <p:cNvGrpSpPr/>
          <p:nvPr/>
        </p:nvGrpSpPr>
        <p:grpSpPr>
          <a:xfrm>
            <a:off x="-573840" y="-432000"/>
            <a:ext cx="2794680" cy="1762200"/>
            <a:chOff x="-573840" y="-432000"/>
            <a:chExt cx="2794680" cy="1762200"/>
          </a:xfrm>
        </p:grpSpPr>
        <p:sp>
          <p:nvSpPr>
            <p:cNvPr id="794" name="未知"/>
            <p:cNvSpPr/>
            <p:nvPr/>
          </p:nvSpPr>
          <p:spPr>
            <a:xfrm flipH="1" rot="7023600">
              <a:off x="739440" y="-576720"/>
              <a:ext cx="275040" cy="2155680"/>
            </a:xfrm>
            <a:custGeom>
              <a:avLst/>
              <a:gdLst/>
              <a:ahLst/>
              <a:rect l="l" t="t" r="r" b="b"/>
              <a:pathLst>
                <a:path w="2573" h="12419">
                  <a:moveTo>
                    <a:pt x="103" y="11997"/>
                  </a:moveTo>
                  <a:lnTo>
                    <a:pt x="103" y="11955"/>
                  </a:lnTo>
                  <a:lnTo>
                    <a:pt x="113" y="11851"/>
                  </a:lnTo>
                  <a:lnTo>
                    <a:pt x="124" y="11788"/>
                  </a:lnTo>
                  <a:lnTo>
                    <a:pt x="135" y="11737"/>
                  </a:lnTo>
                  <a:lnTo>
                    <a:pt x="150" y="11690"/>
                  </a:lnTo>
                  <a:lnTo>
                    <a:pt x="160" y="11669"/>
                  </a:lnTo>
                  <a:lnTo>
                    <a:pt x="170" y="11658"/>
                  </a:lnTo>
                  <a:lnTo>
                    <a:pt x="228" y="11596"/>
                  </a:lnTo>
                  <a:lnTo>
                    <a:pt x="264" y="11555"/>
                  </a:lnTo>
                  <a:lnTo>
                    <a:pt x="300" y="11503"/>
                  </a:lnTo>
                  <a:lnTo>
                    <a:pt x="332" y="11445"/>
                  </a:lnTo>
                  <a:lnTo>
                    <a:pt x="368" y="11378"/>
                  </a:lnTo>
                  <a:lnTo>
                    <a:pt x="394" y="11305"/>
                  </a:lnTo>
                  <a:lnTo>
                    <a:pt x="410" y="11221"/>
                  </a:lnTo>
                  <a:lnTo>
                    <a:pt x="447" y="11071"/>
                  </a:lnTo>
                  <a:lnTo>
                    <a:pt x="504" y="10821"/>
                  </a:lnTo>
                  <a:lnTo>
                    <a:pt x="670" y="10144"/>
                  </a:lnTo>
                  <a:lnTo>
                    <a:pt x="831" y="9488"/>
                  </a:lnTo>
                  <a:lnTo>
                    <a:pt x="883" y="9254"/>
                  </a:lnTo>
                  <a:lnTo>
                    <a:pt x="904" y="9140"/>
                  </a:lnTo>
                  <a:lnTo>
                    <a:pt x="909" y="9056"/>
                  </a:lnTo>
                  <a:lnTo>
                    <a:pt x="914" y="9004"/>
                  </a:lnTo>
                  <a:lnTo>
                    <a:pt x="919" y="8983"/>
                  </a:lnTo>
                  <a:lnTo>
                    <a:pt x="930" y="8973"/>
                  </a:lnTo>
                  <a:lnTo>
                    <a:pt x="946" y="8963"/>
                  </a:lnTo>
                  <a:lnTo>
                    <a:pt x="966" y="8958"/>
                  </a:lnTo>
                  <a:lnTo>
                    <a:pt x="981" y="8946"/>
                  </a:lnTo>
                  <a:lnTo>
                    <a:pt x="1003" y="8921"/>
                  </a:lnTo>
                  <a:lnTo>
                    <a:pt x="1023" y="8884"/>
                  </a:lnTo>
                  <a:lnTo>
                    <a:pt x="1050" y="8833"/>
                  </a:lnTo>
                  <a:lnTo>
                    <a:pt x="1106" y="8708"/>
                  </a:lnTo>
                  <a:lnTo>
                    <a:pt x="1169" y="8556"/>
                  </a:lnTo>
                  <a:lnTo>
                    <a:pt x="1231" y="8395"/>
                  </a:lnTo>
                  <a:lnTo>
                    <a:pt x="1288" y="8239"/>
                  </a:lnTo>
                  <a:lnTo>
                    <a:pt x="1335" y="8104"/>
                  </a:lnTo>
                  <a:lnTo>
                    <a:pt x="1367" y="7999"/>
                  </a:lnTo>
                  <a:lnTo>
                    <a:pt x="1445" y="7755"/>
                  </a:lnTo>
                  <a:lnTo>
                    <a:pt x="1554" y="7401"/>
                  </a:lnTo>
                  <a:lnTo>
                    <a:pt x="1606" y="7213"/>
                  </a:lnTo>
                  <a:lnTo>
                    <a:pt x="1647" y="7026"/>
                  </a:lnTo>
                  <a:lnTo>
                    <a:pt x="1669" y="6943"/>
                  </a:lnTo>
                  <a:lnTo>
                    <a:pt x="1679" y="6860"/>
                  </a:lnTo>
                  <a:lnTo>
                    <a:pt x="1689" y="6786"/>
                  </a:lnTo>
                  <a:lnTo>
                    <a:pt x="1689" y="6719"/>
                  </a:lnTo>
                  <a:lnTo>
                    <a:pt x="1694" y="6651"/>
                  </a:lnTo>
                  <a:lnTo>
                    <a:pt x="1699" y="6558"/>
                  </a:lnTo>
                  <a:lnTo>
                    <a:pt x="1731" y="6318"/>
                  </a:lnTo>
                  <a:lnTo>
                    <a:pt x="1772" y="6032"/>
                  </a:lnTo>
                  <a:lnTo>
                    <a:pt x="1814" y="5730"/>
                  </a:lnTo>
                  <a:lnTo>
                    <a:pt x="1902" y="5163"/>
                  </a:lnTo>
                  <a:lnTo>
                    <a:pt x="1934" y="4955"/>
                  </a:lnTo>
                  <a:lnTo>
                    <a:pt x="1939" y="4877"/>
                  </a:lnTo>
                  <a:lnTo>
                    <a:pt x="1944" y="4830"/>
                  </a:lnTo>
                  <a:lnTo>
                    <a:pt x="1949" y="4236"/>
                  </a:lnTo>
                  <a:lnTo>
                    <a:pt x="1964" y="3133"/>
                  </a:lnTo>
                  <a:lnTo>
                    <a:pt x="1970" y="2555"/>
                  </a:lnTo>
                  <a:lnTo>
                    <a:pt x="1970" y="2050"/>
                  </a:lnTo>
                  <a:lnTo>
                    <a:pt x="1964" y="1686"/>
                  </a:lnTo>
                  <a:lnTo>
                    <a:pt x="1959" y="1571"/>
                  </a:lnTo>
                  <a:lnTo>
                    <a:pt x="1954" y="1541"/>
                  </a:lnTo>
                  <a:lnTo>
                    <a:pt x="1954" y="1524"/>
                  </a:lnTo>
                  <a:lnTo>
                    <a:pt x="1918" y="1457"/>
                  </a:lnTo>
                  <a:lnTo>
                    <a:pt x="1892" y="1399"/>
                  </a:lnTo>
                  <a:lnTo>
                    <a:pt x="1887" y="1374"/>
                  </a:lnTo>
                  <a:lnTo>
                    <a:pt x="1882" y="1347"/>
                  </a:lnTo>
                  <a:lnTo>
                    <a:pt x="1882" y="1327"/>
                  </a:lnTo>
                  <a:lnTo>
                    <a:pt x="1892" y="1311"/>
                  </a:lnTo>
                  <a:lnTo>
                    <a:pt x="1897" y="1306"/>
                  </a:lnTo>
                  <a:lnTo>
                    <a:pt x="1907" y="1301"/>
                  </a:lnTo>
                  <a:lnTo>
                    <a:pt x="1923" y="1306"/>
                  </a:lnTo>
                  <a:lnTo>
                    <a:pt x="1944" y="1311"/>
                  </a:lnTo>
                  <a:lnTo>
                    <a:pt x="1964" y="1322"/>
                  </a:lnTo>
                  <a:lnTo>
                    <a:pt x="1986" y="1332"/>
                  </a:lnTo>
                  <a:lnTo>
                    <a:pt x="2006" y="1337"/>
                  </a:lnTo>
                  <a:lnTo>
                    <a:pt x="2022" y="1337"/>
                  </a:lnTo>
                  <a:lnTo>
                    <a:pt x="2027" y="1332"/>
                  </a:lnTo>
                  <a:lnTo>
                    <a:pt x="2032" y="1322"/>
                  </a:lnTo>
                  <a:lnTo>
                    <a:pt x="2214" y="775"/>
                  </a:lnTo>
                  <a:lnTo>
                    <a:pt x="2386" y="265"/>
                  </a:lnTo>
                  <a:lnTo>
                    <a:pt x="2376" y="228"/>
                  </a:lnTo>
                  <a:lnTo>
                    <a:pt x="2360" y="140"/>
                  </a:lnTo>
                  <a:lnTo>
                    <a:pt x="2360" y="93"/>
                  </a:lnTo>
                  <a:lnTo>
                    <a:pt x="2360" y="51"/>
                  </a:lnTo>
                  <a:lnTo>
                    <a:pt x="2365" y="20"/>
                  </a:lnTo>
                  <a:lnTo>
                    <a:pt x="2376" y="10"/>
                  </a:lnTo>
                  <a:lnTo>
                    <a:pt x="2386" y="5"/>
                  </a:lnTo>
                  <a:lnTo>
                    <a:pt x="2396" y="0"/>
                  </a:lnTo>
                  <a:lnTo>
                    <a:pt x="2401" y="5"/>
                  </a:lnTo>
                  <a:lnTo>
                    <a:pt x="2417" y="15"/>
                  </a:lnTo>
                  <a:lnTo>
                    <a:pt x="2423" y="36"/>
                  </a:lnTo>
                  <a:lnTo>
                    <a:pt x="2428" y="67"/>
                  </a:lnTo>
                  <a:lnTo>
                    <a:pt x="2438" y="130"/>
                  </a:lnTo>
                  <a:lnTo>
                    <a:pt x="2448" y="155"/>
                  </a:lnTo>
                  <a:lnTo>
                    <a:pt x="2464" y="177"/>
                  </a:lnTo>
                  <a:lnTo>
                    <a:pt x="2485" y="187"/>
                  </a:lnTo>
                  <a:lnTo>
                    <a:pt x="2505" y="197"/>
                  </a:lnTo>
                  <a:lnTo>
                    <a:pt x="2547" y="213"/>
                  </a:lnTo>
                  <a:lnTo>
                    <a:pt x="2563" y="218"/>
                  </a:lnTo>
                  <a:lnTo>
                    <a:pt x="2568" y="228"/>
                  </a:lnTo>
                  <a:lnTo>
                    <a:pt x="2573" y="233"/>
                  </a:lnTo>
                  <a:lnTo>
                    <a:pt x="2568" y="245"/>
                  </a:lnTo>
                  <a:lnTo>
                    <a:pt x="2531" y="275"/>
                  </a:lnTo>
                  <a:lnTo>
                    <a:pt x="2490" y="327"/>
                  </a:lnTo>
                  <a:lnTo>
                    <a:pt x="2443" y="390"/>
                  </a:lnTo>
                  <a:lnTo>
                    <a:pt x="2423" y="421"/>
                  </a:lnTo>
                  <a:lnTo>
                    <a:pt x="2406" y="457"/>
                  </a:lnTo>
                  <a:lnTo>
                    <a:pt x="2334" y="650"/>
                  </a:lnTo>
                  <a:lnTo>
                    <a:pt x="2219" y="999"/>
                  </a:lnTo>
                  <a:lnTo>
                    <a:pt x="2163" y="1186"/>
                  </a:lnTo>
                  <a:lnTo>
                    <a:pt x="2116" y="1363"/>
                  </a:lnTo>
                  <a:lnTo>
                    <a:pt x="2084" y="1504"/>
                  </a:lnTo>
                  <a:lnTo>
                    <a:pt x="2074" y="1556"/>
                  </a:lnTo>
                  <a:lnTo>
                    <a:pt x="2074" y="1592"/>
                  </a:lnTo>
                  <a:lnTo>
                    <a:pt x="2074" y="1706"/>
                  </a:lnTo>
                  <a:lnTo>
                    <a:pt x="2074" y="1915"/>
                  </a:lnTo>
                  <a:lnTo>
                    <a:pt x="2069" y="2456"/>
                  </a:lnTo>
                  <a:lnTo>
                    <a:pt x="2053" y="3195"/>
                  </a:lnTo>
                  <a:lnTo>
                    <a:pt x="2064" y="3185"/>
                  </a:lnTo>
                  <a:lnTo>
                    <a:pt x="2089" y="3164"/>
                  </a:lnTo>
                  <a:lnTo>
                    <a:pt x="2106" y="3154"/>
                  </a:lnTo>
                  <a:lnTo>
                    <a:pt x="2116" y="3154"/>
                  </a:lnTo>
                  <a:lnTo>
                    <a:pt x="2121" y="3159"/>
                  </a:lnTo>
                  <a:lnTo>
                    <a:pt x="2121" y="3174"/>
                  </a:lnTo>
                  <a:lnTo>
                    <a:pt x="2111" y="3227"/>
                  </a:lnTo>
                  <a:lnTo>
                    <a:pt x="2089" y="3284"/>
                  </a:lnTo>
                  <a:lnTo>
                    <a:pt x="2069" y="3352"/>
                  </a:lnTo>
                  <a:lnTo>
                    <a:pt x="2064" y="3394"/>
                  </a:lnTo>
                  <a:lnTo>
                    <a:pt x="2064" y="3435"/>
                  </a:lnTo>
                  <a:lnTo>
                    <a:pt x="2058" y="3747"/>
                  </a:lnTo>
                  <a:lnTo>
                    <a:pt x="2043" y="4356"/>
                  </a:lnTo>
                  <a:lnTo>
                    <a:pt x="2032" y="4705"/>
                  </a:lnTo>
                  <a:lnTo>
                    <a:pt x="2022" y="5048"/>
                  </a:lnTo>
                  <a:lnTo>
                    <a:pt x="2001" y="5360"/>
                  </a:lnTo>
                  <a:lnTo>
                    <a:pt x="1981" y="5610"/>
                  </a:lnTo>
                  <a:lnTo>
                    <a:pt x="1954" y="5834"/>
                  </a:lnTo>
                  <a:lnTo>
                    <a:pt x="1923" y="6058"/>
                  </a:lnTo>
                  <a:lnTo>
                    <a:pt x="1850" y="6490"/>
                  </a:lnTo>
                  <a:lnTo>
                    <a:pt x="1819" y="6673"/>
                  </a:lnTo>
                  <a:lnTo>
                    <a:pt x="1799" y="6818"/>
                  </a:lnTo>
                  <a:lnTo>
                    <a:pt x="1794" y="6922"/>
                  </a:lnTo>
                  <a:lnTo>
                    <a:pt x="1794" y="6953"/>
                  </a:lnTo>
                  <a:lnTo>
                    <a:pt x="1804" y="6974"/>
                  </a:lnTo>
                  <a:lnTo>
                    <a:pt x="1819" y="6985"/>
                  </a:lnTo>
                  <a:lnTo>
                    <a:pt x="1834" y="6990"/>
                  </a:lnTo>
                  <a:lnTo>
                    <a:pt x="1866" y="6990"/>
                  </a:lnTo>
                  <a:lnTo>
                    <a:pt x="1876" y="6990"/>
                  </a:lnTo>
                  <a:lnTo>
                    <a:pt x="1887" y="6995"/>
                  </a:lnTo>
                  <a:lnTo>
                    <a:pt x="1897" y="7010"/>
                  </a:lnTo>
                  <a:lnTo>
                    <a:pt x="1902" y="7031"/>
                  </a:lnTo>
                  <a:lnTo>
                    <a:pt x="1897" y="7063"/>
                  </a:lnTo>
                  <a:lnTo>
                    <a:pt x="1887" y="7100"/>
                  </a:lnTo>
                  <a:lnTo>
                    <a:pt x="1866" y="7130"/>
                  </a:lnTo>
                  <a:lnTo>
                    <a:pt x="1845" y="7162"/>
                  </a:lnTo>
                  <a:lnTo>
                    <a:pt x="1804" y="7208"/>
                  </a:lnTo>
                  <a:lnTo>
                    <a:pt x="1782" y="7224"/>
                  </a:lnTo>
                  <a:lnTo>
                    <a:pt x="1076" y="9108"/>
                  </a:lnTo>
                  <a:lnTo>
                    <a:pt x="571" y="11174"/>
                  </a:lnTo>
                  <a:lnTo>
                    <a:pt x="582" y="11201"/>
                  </a:lnTo>
                  <a:lnTo>
                    <a:pt x="587" y="11243"/>
                  </a:lnTo>
                  <a:lnTo>
                    <a:pt x="582" y="11294"/>
                  </a:lnTo>
                  <a:lnTo>
                    <a:pt x="571" y="11331"/>
                  </a:lnTo>
                  <a:lnTo>
                    <a:pt x="550" y="11378"/>
                  </a:lnTo>
                  <a:lnTo>
                    <a:pt x="487" y="11492"/>
                  </a:lnTo>
                  <a:lnTo>
                    <a:pt x="457" y="11550"/>
                  </a:lnTo>
                  <a:lnTo>
                    <a:pt x="431" y="11606"/>
                  </a:lnTo>
                  <a:lnTo>
                    <a:pt x="410" y="11658"/>
                  </a:lnTo>
                  <a:lnTo>
                    <a:pt x="405" y="11695"/>
                  </a:lnTo>
                  <a:lnTo>
                    <a:pt x="399" y="11737"/>
                  </a:lnTo>
                  <a:lnTo>
                    <a:pt x="389" y="11783"/>
                  </a:lnTo>
                  <a:lnTo>
                    <a:pt x="352" y="11898"/>
                  </a:lnTo>
                  <a:lnTo>
                    <a:pt x="312" y="12018"/>
                  </a:lnTo>
                  <a:lnTo>
                    <a:pt x="259" y="12122"/>
                  </a:lnTo>
                  <a:lnTo>
                    <a:pt x="197" y="12220"/>
                  </a:lnTo>
                  <a:lnTo>
                    <a:pt x="113" y="12330"/>
                  </a:lnTo>
                  <a:lnTo>
                    <a:pt x="77" y="12377"/>
                  </a:lnTo>
                  <a:lnTo>
                    <a:pt x="40" y="12408"/>
                  </a:lnTo>
                  <a:lnTo>
                    <a:pt x="25" y="12419"/>
                  </a:lnTo>
                  <a:lnTo>
                    <a:pt x="15" y="12419"/>
                  </a:lnTo>
                  <a:lnTo>
                    <a:pt x="5" y="12419"/>
                  </a:lnTo>
                  <a:lnTo>
                    <a:pt x="0" y="12413"/>
                  </a:lnTo>
                  <a:lnTo>
                    <a:pt x="0" y="12397"/>
                  </a:lnTo>
                  <a:lnTo>
                    <a:pt x="0" y="12377"/>
                  </a:lnTo>
                  <a:lnTo>
                    <a:pt x="10" y="12320"/>
                  </a:lnTo>
                  <a:lnTo>
                    <a:pt x="40" y="12185"/>
                  </a:lnTo>
                  <a:lnTo>
                    <a:pt x="82" y="12055"/>
                  </a:lnTo>
                  <a:lnTo>
                    <a:pt x="103" y="11997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未知"/>
            <p:cNvSpPr/>
            <p:nvPr/>
          </p:nvSpPr>
          <p:spPr>
            <a:xfrm flipH="1" rot="7023600">
              <a:off x="-110520" y="97920"/>
              <a:ext cx="30600" cy="83160"/>
            </a:xfrm>
            <a:custGeom>
              <a:avLst/>
              <a:gdLst/>
              <a:ahLst/>
              <a:rect l="l" t="t" r="r" b="b"/>
              <a:pathLst>
                <a:path w="297" h="479">
                  <a:moveTo>
                    <a:pt x="265" y="0"/>
                  </a:moveTo>
                  <a:lnTo>
                    <a:pt x="249" y="5"/>
                  </a:lnTo>
                  <a:lnTo>
                    <a:pt x="228" y="10"/>
                  </a:lnTo>
                  <a:lnTo>
                    <a:pt x="202" y="22"/>
                  </a:lnTo>
                  <a:lnTo>
                    <a:pt x="177" y="37"/>
                  </a:lnTo>
                  <a:lnTo>
                    <a:pt x="145" y="57"/>
                  </a:lnTo>
                  <a:lnTo>
                    <a:pt x="120" y="89"/>
                  </a:lnTo>
                  <a:lnTo>
                    <a:pt x="93" y="130"/>
                  </a:lnTo>
                  <a:lnTo>
                    <a:pt x="73" y="182"/>
                  </a:lnTo>
                  <a:lnTo>
                    <a:pt x="52" y="245"/>
                  </a:lnTo>
                  <a:lnTo>
                    <a:pt x="31" y="312"/>
                  </a:lnTo>
                  <a:lnTo>
                    <a:pt x="10" y="375"/>
                  </a:lnTo>
                  <a:lnTo>
                    <a:pt x="5" y="427"/>
                  </a:lnTo>
                  <a:lnTo>
                    <a:pt x="0" y="464"/>
                  </a:lnTo>
                  <a:lnTo>
                    <a:pt x="5" y="474"/>
                  </a:lnTo>
                  <a:lnTo>
                    <a:pt x="10" y="479"/>
                  </a:lnTo>
                  <a:lnTo>
                    <a:pt x="20" y="474"/>
                  </a:lnTo>
                  <a:lnTo>
                    <a:pt x="36" y="464"/>
                  </a:lnTo>
                  <a:lnTo>
                    <a:pt x="73" y="422"/>
                  </a:lnTo>
                  <a:lnTo>
                    <a:pt x="125" y="359"/>
                  </a:lnTo>
                  <a:lnTo>
                    <a:pt x="177" y="282"/>
                  </a:lnTo>
                  <a:lnTo>
                    <a:pt x="228" y="204"/>
                  </a:lnTo>
                  <a:lnTo>
                    <a:pt x="270" y="125"/>
                  </a:lnTo>
                  <a:lnTo>
                    <a:pt x="280" y="89"/>
                  </a:lnTo>
                  <a:lnTo>
                    <a:pt x="290" y="63"/>
                  </a:lnTo>
                  <a:lnTo>
                    <a:pt x="297" y="37"/>
                  </a:lnTo>
                  <a:lnTo>
                    <a:pt x="297" y="16"/>
                  </a:lnTo>
                  <a:lnTo>
                    <a:pt x="285" y="5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6" name="Group 757"/>
            <p:cNvGrpSpPr/>
            <p:nvPr/>
          </p:nvGrpSpPr>
          <p:grpSpPr>
            <a:xfrm>
              <a:off x="-573840" y="74520"/>
              <a:ext cx="857520" cy="716400"/>
              <a:chOff x="-573840" y="74520"/>
              <a:chExt cx="857520" cy="716400"/>
            </a:xfrm>
          </p:grpSpPr>
          <p:grpSp>
            <p:nvGrpSpPr>
              <p:cNvPr id="797" name="Group 758"/>
              <p:cNvGrpSpPr/>
              <p:nvPr/>
            </p:nvGrpSpPr>
            <p:grpSpPr>
              <a:xfrm>
                <a:off x="-573840" y="74520"/>
                <a:ext cx="824760" cy="716400"/>
                <a:chOff x="-573840" y="74520"/>
                <a:chExt cx="824760" cy="716400"/>
              </a:xfrm>
            </p:grpSpPr>
            <p:sp>
              <p:nvSpPr>
                <p:cNvPr id="798" name="未知"/>
                <p:cNvSpPr/>
                <p:nvPr/>
              </p:nvSpPr>
              <p:spPr>
                <a:xfrm flipH="1" rot="6883200">
                  <a:off x="-374040" y="92880"/>
                  <a:ext cx="424440" cy="71244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未知"/>
                <p:cNvSpPr/>
                <p:nvPr/>
              </p:nvSpPr>
              <p:spPr>
                <a:xfrm flipH="1" rot="6883200">
                  <a:off x="-310680" y="274680"/>
                  <a:ext cx="359640" cy="33876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未知"/>
                <p:cNvSpPr/>
                <p:nvPr/>
              </p:nvSpPr>
              <p:spPr>
                <a:xfrm flipH="1" rot="6883200">
                  <a:off x="-337320" y="190080"/>
                  <a:ext cx="523800" cy="42048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未知"/>
                <p:cNvSpPr/>
                <p:nvPr/>
              </p:nvSpPr>
              <p:spPr>
                <a:xfrm flipH="1" rot="6883200">
                  <a:off x="-248040" y="469800"/>
                  <a:ext cx="170280" cy="4176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未知"/>
                <p:cNvSpPr/>
                <p:nvPr/>
              </p:nvSpPr>
              <p:spPr>
                <a:xfrm flipH="1" rot="6883200">
                  <a:off x="-137160" y="416160"/>
                  <a:ext cx="219960" cy="15588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未知"/>
                <p:cNvSpPr/>
                <p:nvPr/>
              </p:nvSpPr>
              <p:spPr>
                <a:xfrm flipH="1" rot="6883200">
                  <a:off x="-65160" y="385560"/>
                  <a:ext cx="242640" cy="20556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未知"/>
                <p:cNvSpPr/>
                <p:nvPr/>
              </p:nvSpPr>
              <p:spPr>
                <a:xfrm flipH="1" rot="6883200">
                  <a:off x="-289800" y="493200"/>
                  <a:ext cx="100800" cy="2628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未知"/>
                <p:cNvSpPr/>
                <p:nvPr/>
              </p:nvSpPr>
              <p:spPr>
                <a:xfrm flipH="1" rot="6883200">
                  <a:off x="-334800" y="520920"/>
                  <a:ext cx="52560" cy="1044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未知"/>
                <p:cNvSpPr/>
                <p:nvPr/>
              </p:nvSpPr>
              <p:spPr>
                <a:xfrm flipH="1" rot="6883200">
                  <a:off x="-348120" y="459000"/>
                  <a:ext cx="38520" cy="7344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未知"/>
                <p:cNvSpPr/>
                <p:nvPr/>
              </p:nvSpPr>
              <p:spPr>
                <a:xfrm flipH="1" rot="6883200">
                  <a:off x="-336240" y="391680"/>
                  <a:ext cx="67320" cy="13464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未知"/>
                <p:cNvSpPr/>
                <p:nvPr/>
              </p:nvSpPr>
              <p:spPr>
                <a:xfrm flipH="1" rot="6883200">
                  <a:off x="-318240" y="284760"/>
                  <a:ext cx="107640" cy="23688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未知"/>
                <p:cNvSpPr/>
                <p:nvPr/>
              </p:nvSpPr>
              <p:spPr>
                <a:xfrm flipH="1" rot="6883200">
                  <a:off x="-285120" y="167760"/>
                  <a:ext cx="115920" cy="34596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未知"/>
                <p:cNvSpPr/>
                <p:nvPr/>
              </p:nvSpPr>
              <p:spPr>
                <a:xfrm flipH="1" rot="6883200">
                  <a:off x="-335880" y="227880"/>
                  <a:ext cx="12600" cy="13788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未知"/>
                <p:cNvSpPr/>
                <p:nvPr/>
              </p:nvSpPr>
              <p:spPr>
                <a:xfrm flipH="1" rot="6883200">
                  <a:off x="-225000" y="65520"/>
                  <a:ext cx="79920" cy="42624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未知"/>
                <p:cNvSpPr/>
                <p:nvPr/>
              </p:nvSpPr>
              <p:spPr>
                <a:xfrm flipH="1" rot="6883200">
                  <a:off x="-253080" y="315000"/>
                  <a:ext cx="59400" cy="6768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未知"/>
                <p:cNvSpPr/>
                <p:nvPr/>
              </p:nvSpPr>
              <p:spPr>
                <a:xfrm flipH="1" rot="6883200">
                  <a:off x="-351720" y="330120"/>
                  <a:ext cx="28800" cy="10872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未知"/>
                <p:cNvSpPr/>
                <p:nvPr/>
              </p:nvSpPr>
              <p:spPr>
                <a:xfrm flipH="1" rot="6883200">
                  <a:off x="-204480" y="497880"/>
                  <a:ext cx="62640" cy="2340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未知"/>
                <p:cNvSpPr/>
                <p:nvPr/>
              </p:nvSpPr>
              <p:spPr>
                <a:xfrm flipH="1" rot="6883200">
                  <a:off x="-163440" y="522360"/>
                  <a:ext cx="38520" cy="4212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未知"/>
                <p:cNvSpPr/>
                <p:nvPr/>
              </p:nvSpPr>
              <p:spPr>
                <a:xfrm flipH="1" rot="6883200">
                  <a:off x="-297720" y="340200"/>
                  <a:ext cx="12600" cy="2592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未知"/>
                <p:cNvSpPr/>
                <p:nvPr/>
              </p:nvSpPr>
              <p:spPr>
                <a:xfrm flipH="1" rot="6883200">
                  <a:off x="-93240" y="524880"/>
                  <a:ext cx="11160" cy="1512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未知"/>
                <p:cNvSpPr/>
                <p:nvPr/>
              </p:nvSpPr>
              <p:spPr>
                <a:xfrm flipH="1" rot="6883200">
                  <a:off x="4320" y="51984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未知"/>
                <p:cNvSpPr/>
                <p:nvPr/>
              </p:nvSpPr>
              <p:spPr>
                <a:xfrm flipH="1" rot="6883200">
                  <a:off x="-227160" y="558360"/>
                  <a:ext cx="9720" cy="936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0" name="Group 781"/>
              <p:cNvGrpSpPr/>
              <p:nvPr/>
            </p:nvGrpSpPr>
            <p:grpSpPr>
              <a:xfrm>
                <a:off x="219240" y="232200"/>
                <a:ext cx="64440" cy="51840"/>
                <a:chOff x="219240" y="232200"/>
                <a:chExt cx="64440" cy="51840"/>
              </a:xfrm>
            </p:grpSpPr>
            <p:sp>
              <p:nvSpPr>
                <p:cNvPr id="821" name="未知"/>
                <p:cNvSpPr/>
                <p:nvPr/>
              </p:nvSpPr>
              <p:spPr>
                <a:xfrm flipH="1" rot="11248200">
                  <a:off x="221400" y="235440"/>
                  <a:ext cx="59040" cy="4464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未知"/>
                <p:cNvSpPr/>
                <p:nvPr/>
              </p:nvSpPr>
              <p:spPr>
                <a:xfrm flipH="1" rot="14895000">
                  <a:off x="228600" y="237240"/>
                  <a:ext cx="22680" cy="3600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Group 784"/>
            <p:cNvGrpSpPr/>
            <p:nvPr/>
          </p:nvGrpSpPr>
          <p:grpSpPr>
            <a:xfrm>
              <a:off x="47880" y="205560"/>
              <a:ext cx="913320" cy="833760"/>
              <a:chOff x="47880" y="205560"/>
              <a:chExt cx="913320" cy="833760"/>
            </a:xfrm>
          </p:grpSpPr>
          <p:grpSp>
            <p:nvGrpSpPr>
              <p:cNvPr id="824" name="Group 785"/>
              <p:cNvGrpSpPr/>
              <p:nvPr/>
            </p:nvGrpSpPr>
            <p:grpSpPr>
              <a:xfrm>
                <a:off x="47880" y="205560"/>
                <a:ext cx="913320" cy="833760"/>
                <a:chOff x="47880" y="205560"/>
                <a:chExt cx="913320" cy="833760"/>
              </a:xfrm>
            </p:grpSpPr>
            <p:sp>
              <p:nvSpPr>
                <p:cNvPr id="825" name="未知"/>
                <p:cNvSpPr/>
                <p:nvPr/>
              </p:nvSpPr>
              <p:spPr>
                <a:xfrm flipH="1" rot="2120400">
                  <a:off x="210240" y="440640"/>
                  <a:ext cx="686520" cy="44028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未知"/>
                <p:cNvSpPr/>
                <p:nvPr/>
              </p:nvSpPr>
              <p:spPr>
                <a:xfrm flipH="1" rot="2120400">
                  <a:off x="248760" y="526680"/>
                  <a:ext cx="582120" cy="20916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未知"/>
                <p:cNvSpPr/>
                <p:nvPr/>
              </p:nvSpPr>
              <p:spPr>
                <a:xfrm flipH="1" rot="2120400">
                  <a:off x="45000" y="426600"/>
                  <a:ext cx="847440" cy="26028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未知"/>
                <p:cNvSpPr/>
                <p:nvPr/>
              </p:nvSpPr>
              <p:spPr>
                <a:xfrm flipH="1" rot="2120400">
                  <a:off x="473040" y="676440"/>
                  <a:ext cx="275400" cy="2520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未知"/>
                <p:cNvSpPr/>
                <p:nvPr/>
              </p:nvSpPr>
              <p:spPr>
                <a:xfrm flipH="1" rot="2120400">
                  <a:off x="406080" y="528120"/>
                  <a:ext cx="356040" cy="9612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未知"/>
                <p:cNvSpPr/>
                <p:nvPr/>
              </p:nvSpPr>
              <p:spPr>
                <a:xfrm flipH="1" rot="2120400">
                  <a:off x="361080" y="437040"/>
                  <a:ext cx="392760" cy="12708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未知"/>
                <p:cNvSpPr/>
                <p:nvPr/>
              </p:nvSpPr>
              <p:spPr>
                <a:xfrm flipH="1" rot="2120400">
                  <a:off x="567360" y="755280"/>
                  <a:ext cx="163080" cy="1620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未知"/>
                <p:cNvSpPr/>
                <p:nvPr/>
              </p:nvSpPr>
              <p:spPr>
                <a:xfrm flipH="1" rot="2120400">
                  <a:off x="648000" y="831960"/>
                  <a:ext cx="85320" cy="684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未知"/>
                <p:cNvSpPr/>
                <p:nvPr/>
              </p:nvSpPr>
              <p:spPr>
                <a:xfrm flipH="1" rot="2120400">
                  <a:off x="623880" y="811080"/>
                  <a:ext cx="62280" cy="4500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未知"/>
                <p:cNvSpPr/>
                <p:nvPr/>
              </p:nvSpPr>
              <p:spPr>
                <a:xfrm flipH="1" rot="2120400">
                  <a:off x="543600" y="745920"/>
                  <a:ext cx="109080" cy="8352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未知"/>
                <p:cNvSpPr/>
                <p:nvPr/>
              </p:nvSpPr>
              <p:spPr>
                <a:xfrm flipH="1" rot="2120400">
                  <a:off x="426960" y="645480"/>
                  <a:ext cx="174960" cy="14652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未知"/>
                <p:cNvSpPr/>
                <p:nvPr/>
              </p:nvSpPr>
              <p:spPr>
                <a:xfrm flipH="1" rot="2120400">
                  <a:off x="329040" y="541080"/>
                  <a:ext cx="187560" cy="21384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未知"/>
                <p:cNvSpPr/>
                <p:nvPr/>
              </p:nvSpPr>
              <p:spPr>
                <a:xfrm flipH="1" rot="2120400">
                  <a:off x="377280" y="664920"/>
                  <a:ext cx="20520" cy="8532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未知"/>
                <p:cNvSpPr/>
                <p:nvPr/>
              </p:nvSpPr>
              <p:spPr>
                <a:xfrm flipH="1" rot="2120400">
                  <a:off x="264600" y="441360"/>
                  <a:ext cx="129600" cy="26352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未知"/>
                <p:cNvSpPr/>
                <p:nvPr/>
              </p:nvSpPr>
              <p:spPr>
                <a:xfrm flipH="1" rot="2120400">
                  <a:off x="384840" y="629640"/>
                  <a:ext cx="96120" cy="4140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未知"/>
                <p:cNvSpPr/>
                <p:nvPr/>
              </p:nvSpPr>
              <p:spPr>
                <a:xfrm flipH="1" rot="2120400">
                  <a:off x="482760" y="735120"/>
                  <a:ext cx="46440" cy="6732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未知"/>
                <p:cNvSpPr/>
                <p:nvPr/>
              </p:nvSpPr>
              <p:spPr>
                <a:xfrm flipH="1" rot="2120400">
                  <a:off x="588240" y="703080"/>
                  <a:ext cx="101160" cy="1440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未知"/>
                <p:cNvSpPr/>
                <p:nvPr/>
              </p:nvSpPr>
              <p:spPr>
                <a:xfrm flipH="1" rot="2120400">
                  <a:off x="646560" y="694800"/>
                  <a:ext cx="62280" cy="2556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未知"/>
                <p:cNvSpPr/>
                <p:nvPr/>
              </p:nvSpPr>
              <p:spPr>
                <a:xfrm flipH="1" rot="2120400">
                  <a:off x="444240" y="702720"/>
                  <a:ext cx="20520" cy="1584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未知"/>
                <p:cNvSpPr/>
                <p:nvPr/>
              </p:nvSpPr>
              <p:spPr>
                <a:xfrm flipH="1" rot="2120400">
                  <a:off x="639360" y="646560"/>
                  <a:ext cx="18000" cy="936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未知"/>
                <p:cNvSpPr/>
                <p:nvPr/>
              </p:nvSpPr>
              <p:spPr>
                <a:xfrm flipH="1" rot="2120400">
                  <a:off x="613440" y="560520"/>
                  <a:ext cx="20520" cy="1296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未知"/>
                <p:cNvSpPr/>
                <p:nvPr/>
              </p:nvSpPr>
              <p:spPr>
                <a:xfrm flipH="1" rot="2120400">
                  <a:off x="712440" y="783000"/>
                  <a:ext cx="15840" cy="576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7" name="Group 808"/>
              <p:cNvGrpSpPr/>
              <p:nvPr/>
            </p:nvGrpSpPr>
            <p:grpSpPr>
              <a:xfrm>
                <a:off x="219600" y="266760"/>
                <a:ext cx="80280" cy="56880"/>
                <a:chOff x="219600" y="266760"/>
                <a:chExt cx="80280" cy="56880"/>
              </a:xfrm>
            </p:grpSpPr>
            <p:sp>
              <p:nvSpPr>
                <p:cNvPr id="848" name="未知"/>
                <p:cNvSpPr/>
                <p:nvPr/>
              </p:nvSpPr>
              <p:spPr>
                <a:xfrm flipH="1" rot="6484800">
                  <a:off x="241200" y="258480"/>
                  <a:ext cx="36360" cy="7272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未知"/>
                <p:cNvSpPr/>
                <p:nvPr/>
              </p:nvSpPr>
              <p:spPr>
                <a:xfrm flipH="1" rot="10131600">
                  <a:off x="236880" y="289800"/>
                  <a:ext cx="36720" cy="2232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0" name="Group 811"/>
            <p:cNvGrpSpPr/>
            <p:nvPr/>
          </p:nvGrpSpPr>
          <p:grpSpPr>
            <a:xfrm>
              <a:off x="15840" y="-432000"/>
              <a:ext cx="1297080" cy="973440"/>
              <a:chOff x="15840" y="-432000"/>
              <a:chExt cx="1297080" cy="973440"/>
            </a:xfrm>
          </p:grpSpPr>
          <p:grpSp>
            <p:nvGrpSpPr>
              <p:cNvPr id="851" name="Group 812"/>
              <p:cNvGrpSpPr/>
              <p:nvPr/>
            </p:nvGrpSpPr>
            <p:grpSpPr>
              <a:xfrm>
                <a:off x="15840" y="-432000"/>
                <a:ext cx="765000" cy="776520"/>
                <a:chOff x="15840" y="-432000"/>
                <a:chExt cx="765000" cy="776520"/>
              </a:xfrm>
            </p:grpSpPr>
            <p:grpSp>
              <p:nvGrpSpPr>
                <p:cNvPr id="852" name="Group 813"/>
                <p:cNvGrpSpPr/>
                <p:nvPr/>
              </p:nvGrpSpPr>
              <p:grpSpPr>
                <a:xfrm>
                  <a:off x="15840" y="-432000"/>
                  <a:ext cx="765000" cy="727200"/>
                  <a:chOff x="15840" y="-432000"/>
                  <a:chExt cx="765000" cy="727200"/>
                </a:xfrm>
              </p:grpSpPr>
              <p:sp>
                <p:nvSpPr>
                  <p:cNvPr id="853" name="未知"/>
                  <p:cNvSpPr/>
                  <p:nvPr/>
                </p:nvSpPr>
                <p:spPr>
                  <a:xfrm rot="7164000">
                    <a:off x="203040" y="-429480"/>
                    <a:ext cx="390240" cy="65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62" h="4106">
                        <a:moveTo>
                          <a:pt x="0" y="3065"/>
                        </a:moveTo>
                        <a:lnTo>
                          <a:pt x="47" y="3055"/>
                        </a:lnTo>
                        <a:lnTo>
                          <a:pt x="150" y="3044"/>
                        </a:lnTo>
                        <a:lnTo>
                          <a:pt x="260" y="3034"/>
                        </a:lnTo>
                        <a:lnTo>
                          <a:pt x="302" y="3034"/>
                        </a:lnTo>
                        <a:lnTo>
                          <a:pt x="317" y="3034"/>
                        </a:lnTo>
                        <a:lnTo>
                          <a:pt x="327" y="3039"/>
                        </a:lnTo>
                        <a:lnTo>
                          <a:pt x="281" y="3117"/>
                        </a:lnTo>
                        <a:lnTo>
                          <a:pt x="322" y="3102"/>
                        </a:lnTo>
                        <a:lnTo>
                          <a:pt x="421" y="3065"/>
                        </a:lnTo>
                        <a:lnTo>
                          <a:pt x="474" y="3055"/>
                        </a:lnTo>
                        <a:lnTo>
                          <a:pt x="526" y="3049"/>
                        </a:lnTo>
                        <a:lnTo>
                          <a:pt x="546" y="3049"/>
                        </a:lnTo>
                        <a:lnTo>
                          <a:pt x="562" y="3060"/>
                        </a:lnTo>
                        <a:lnTo>
                          <a:pt x="577" y="3065"/>
                        </a:lnTo>
                        <a:lnTo>
                          <a:pt x="582" y="3080"/>
                        </a:lnTo>
                        <a:lnTo>
                          <a:pt x="536" y="3169"/>
                        </a:lnTo>
                        <a:lnTo>
                          <a:pt x="593" y="3154"/>
                        </a:lnTo>
                        <a:lnTo>
                          <a:pt x="723" y="3127"/>
                        </a:lnTo>
                        <a:lnTo>
                          <a:pt x="796" y="3122"/>
                        </a:lnTo>
                        <a:lnTo>
                          <a:pt x="863" y="3117"/>
                        </a:lnTo>
                        <a:lnTo>
                          <a:pt x="910" y="3117"/>
                        </a:lnTo>
                        <a:lnTo>
                          <a:pt x="926" y="3122"/>
                        </a:lnTo>
                        <a:lnTo>
                          <a:pt x="936" y="3132"/>
                        </a:lnTo>
                        <a:lnTo>
                          <a:pt x="941" y="3159"/>
                        </a:lnTo>
                        <a:lnTo>
                          <a:pt x="936" y="3185"/>
                        </a:lnTo>
                        <a:lnTo>
                          <a:pt x="926" y="3211"/>
                        </a:lnTo>
                        <a:lnTo>
                          <a:pt x="915" y="3242"/>
                        </a:lnTo>
                        <a:lnTo>
                          <a:pt x="884" y="3289"/>
                        </a:lnTo>
                        <a:lnTo>
                          <a:pt x="873" y="3310"/>
                        </a:lnTo>
                        <a:lnTo>
                          <a:pt x="900" y="3294"/>
                        </a:lnTo>
                        <a:lnTo>
                          <a:pt x="936" y="3284"/>
                        </a:lnTo>
                        <a:lnTo>
                          <a:pt x="978" y="3268"/>
                        </a:lnTo>
                        <a:lnTo>
                          <a:pt x="1030" y="3257"/>
                        </a:lnTo>
                        <a:lnTo>
                          <a:pt x="1082" y="3257"/>
                        </a:lnTo>
                        <a:lnTo>
                          <a:pt x="1133" y="3262"/>
                        </a:lnTo>
                        <a:lnTo>
                          <a:pt x="1160" y="3268"/>
                        </a:lnTo>
                        <a:lnTo>
                          <a:pt x="1185" y="3279"/>
                        </a:lnTo>
                        <a:lnTo>
                          <a:pt x="1191" y="3299"/>
                        </a:lnTo>
                        <a:lnTo>
                          <a:pt x="1201" y="3341"/>
                        </a:lnTo>
                        <a:lnTo>
                          <a:pt x="1196" y="3367"/>
                        </a:lnTo>
                        <a:lnTo>
                          <a:pt x="1196" y="3387"/>
                        </a:lnTo>
                        <a:lnTo>
                          <a:pt x="1180" y="3404"/>
                        </a:lnTo>
                        <a:lnTo>
                          <a:pt x="1175" y="3409"/>
                        </a:lnTo>
                        <a:lnTo>
                          <a:pt x="1165" y="3414"/>
                        </a:lnTo>
                        <a:lnTo>
                          <a:pt x="1155" y="3409"/>
                        </a:lnTo>
                        <a:lnTo>
                          <a:pt x="1165" y="3404"/>
                        </a:lnTo>
                        <a:lnTo>
                          <a:pt x="1191" y="3392"/>
                        </a:lnTo>
                        <a:lnTo>
                          <a:pt x="1227" y="3382"/>
                        </a:lnTo>
                        <a:lnTo>
                          <a:pt x="1269" y="3377"/>
                        </a:lnTo>
                        <a:lnTo>
                          <a:pt x="1305" y="3382"/>
                        </a:lnTo>
                        <a:lnTo>
                          <a:pt x="1320" y="3387"/>
                        </a:lnTo>
                        <a:lnTo>
                          <a:pt x="1337" y="3392"/>
                        </a:lnTo>
                        <a:lnTo>
                          <a:pt x="1347" y="3404"/>
                        </a:lnTo>
                        <a:lnTo>
                          <a:pt x="1357" y="3419"/>
                        </a:lnTo>
                        <a:lnTo>
                          <a:pt x="1357" y="3450"/>
                        </a:lnTo>
                        <a:lnTo>
                          <a:pt x="1352" y="3487"/>
                        </a:lnTo>
                        <a:lnTo>
                          <a:pt x="1342" y="3517"/>
                        </a:lnTo>
                        <a:lnTo>
                          <a:pt x="1326" y="3544"/>
                        </a:lnTo>
                        <a:lnTo>
                          <a:pt x="1290" y="3591"/>
                        </a:lnTo>
                        <a:lnTo>
                          <a:pt x="1274" y="3612"/>
                        </a:lnTo>
                        <a:lnTo>
                          <a:pt x="1315" y="3596"/>
                        </a:lnTo>
                        <a:lnTo>
                          <a:pt x="1409" y="3570"/>
                        </a:lnTo>
                        <a:lnTo>
                          <a:pt x="1456" y="3559"/>
                        </a:lnTo>
                        <a:lnTo>
                          <a:pt x="1503" y="3549"/>
                        </a:lnTo>
                        <a:lnTo>
                          <a:pt x="1534" y="3549"/>
                        </a:lnTo>
                        <a:lnTo>
                          <a:pt x="1550" y="3554"/>
                        </a:lnTo>
                        <a:lnTo>
                          <a:pt x="1555" y="3559"/>
                        </a:lnTo>
                        <a:lnTo>
                          <a:pt x="1560" y="3570"/>
                        </a:lnTo>
                        <a:lnTo>
                          <a:pt x="1560" y="3586"/>
                        </a:lnTo>
                        <a:lnTo>
                          <a:pt x="1555" y="3606"/>
                        </a:lnTo>
                        <a:lnTo>
                          <a:pt x="1550" y="3617"/>
                        </a:lnTo>
                        <a:lnTo>
                          <a:pt x="1544" y="3622"/>
                        </a:lnTo>
                        <a:lnTo>
                          <a:pt x="1565" y="3612"/>
                        </a:lnTo>
                        <a:lnTo>
                          <a:pt x="1622" y="3581"/>
                        </a:lnTo>
                        <a:lnTo>
                          <a:pt x="1659" y="3570"/>
                        </a:lnTo>
                        <a:lnTo>
                          <a:pt x="1695" y="3559"/>
                        </a:lnTo>
                        <a:lnTo>
                          <a:pt x="1737" y="3559"/>
                        </a:lnTo>
                        <a:lnTo>
                          <a:pt x="1779" y="3564"/>
                        </a:lnTo>
                        <a:lnTo>
                          <a:pt x="1799" y="3575"/>
                        </a:lnTo>
                        <a:lnTo>
                          <a:pt x="1814" y="3586"/>
                        </a:lnTo>
                        <a:lnTo>
                          <a:pt x="1856" y="3622"/>
                        </a:lnTo>
                        <a:lnTo>
                          <a:pt x="1898" y="3669"/>
                        </a:lnTo>
                        <a:lnTo>
                          <a:pt x="1929" y="3731"/>
                        </a:lnTo>
                        <a:lnTo>
                          <a:pt x="1951" y="3794"/>
                        </a:lnTo>
                        <a:lnTo>
                          <a:pt x="1956" y="3824"/>
                        </a:lnTo>
                        <a:lnTo>
                          <a:pt x="1961" y="3861"/>
                        </a:lnTo>
                        <a:lnTo>
                          <a:pt x="1956" y="3893"/>
                        </a:lnTo>
                        <a:lnTo>
                          <a:pt x="1951" y="3929"/>
                        </a:lnTo>
                        <a:lnTo>
                          <a:pt x="1939" y="3961"/>
                        </a:lnTo>
                        <a:lnTo>
                          <a:pt x="1924" y="3991"/>
                        </a:lnTo>
                        <a:lnTo>
                          <a:pt x="2116" y="3893"/>
                        </a:lnTo>
                        <a:lnTo>
                          <a:pt x="2106" y="3971"/>
                        </a:lnTo>
                        <a:lnTo>
                          <a:pt x="2132" y="3949"/>
                        </a:lnTo>
                        <a:lnTo>
                          <a:pt x="2189" y="3903"/>
                        </a:lnTo>
                        <a:lnTo>
                          <a:pt x="2226" y="3882"/>
                        </a:lnTo>
                        <a:lnTo>
                          <a:pt x="2257" y="3866"/>
                        </a:lnTo>
                        <a:lnTo>
                          <a:pt x="2268" y="3866"/>
                        </a:lnTo>
                        <a:lnTo>
                          <a:pt x="2283" y="3866"/>
                        </a:lnTo>
                        <a:lnTo>
                          <a:pt x="2293" y="3872"/>
                        </a:lnTo>
                        <a:lnTo>
                          <a:pt x="2303" y="3882"/>
                        </a:lnTo>
                        <a:lnTo>
                          <a:pt x="2314" y="3903"/>
                        </a:lnTo>
                        <a:lnTo>
                          <a:pt x="2314" y="3919"/>
                        </a:lnTo>
                        <a:lnTo>
                          <a:pt x="2308" y="3929"/>
                        </a:lnTo>
                        <a:lnTo>
                          <a:pt x="2298" y="3934"/>
                        </a:lnTo>
                        <a:lnTo>
                          <a:pt x="2278" y="3944"/>
                        </a:lnTo>
                        <a:lnTo>
                          <a:pt x="2268" y="3944"/>
                        </a:lnTo>
                        <a:lnTo>
                          <a:pt x="2548" y="3789"/>
                        </a:lnTo>
                        <a:lnTo>
                          <a:pt x="2574" y="3914"/>
                        </a:lnTo>
                        <a:lnTo>
                          <a:pt x="2595" y="3887"/>
                        </a:lnTo>
                        <a:lnTo>
                          <a:pt x="2620" y="3861"/>
                        </a:lnTo>
                        <a:lnTo>
                          <a:pt x="2652" y="3836"/>
                        </a:lnTo>
                        <a:lnTo>
                          <a:pt x="2688" y="3809"/>
                        </a:lnTo>
                        <a:lnTo>
                          <a:pt x="2709" y="3804"/>
                        </a:lnTo>
                        <a:lnTo>
                          <a:pt x="2725" y="3799"/>
                        </a:lnTo>
                        <a:lnTo>
                          <a:pt x="2745" y="3799"/>
                        </a:lnTo>
                        <a:lnTo>
                          <a:pt x="2767" y="3804"/>
                        </a:lnTo>
                        <a:lnTo>
                          <a:pt x="2782" y="3809"/>
                        </a:lnTo>
                        <a:lnTo>
                          <a:pt x="2803" y="3824"/>
                        </a:lnTo>
                        <a:lnTo>
                          <a:pt x="2814" y="3846"/>
                        </a:lnTo>
                        <a:lnTo>
                          <a:pt x="2829" y="3866"/>
                        </a:lnTo>
                        <a:lnTo>
                          <a:pt x="2844" y="3914"/>
                        </a:lnTo>
                        <a:lnTo>
                          <a:pt x="2850" y="3961"/>
                        </a:lnTo>
                        <a:lnTo>
                          <a:pt x="2844" y="4002"/>
                        </a:lnTo>
                        <a:lnTo>
                          <a:pt x="2839" y="4044"/>
                        </a:lnTo>
                        <a:lnTo>
                          <a:pt x="2829" y="4075"/>
                        </a:lnTo>
                        <a:lnTo>
                          <a:pt x="2819" y="4106"/>
                        </a:lnTo>
                        <a:lnTo>
                          <a:pt x="3074" y="3903"/>
                        </a:lnTo>
                        <a:lnTo>
                          <a:pt x="3099" y="3991"/>
                        </a:lnTo>
                        <a:lnTo>
                          <a:pt x="3286" y="3726"/>
                        </a:lnTo>
                        <a:lnTo>
                          <a:pt x="3307" y="3804"/>
                        </a:lnTo>
                        <a:lnTo>
                          <a:pt x="3338" y="3757"/>
                        </a:lnTo>
                        <a:lnTo>
                          <a:pt x="3411" y="3654"/>
                        </a:lnTo>
                        <a:lnTo>
                          <a:pt x="3453" y="3591"/>
                        </a:lnTo>
                        <a:lnTo>
                          <a:pt x="3489" y="3523"/>
                        </a:lnTo>
                        <a:lnTo>
                          <a:pt x="3521" y="3466"/>
                        </a:lnTo>
                        <a:lnTo>
                          <a:pt x="3541" y="3419"/>
                        </a:lnTo>
                        <a:lnTo>
                          <a:pt x="3551" y="3529"/>
                        </a:lnTo>
                        <a:lnTo>
                          <a:pt x="3562" y="3507"/>
                        </a:lnTo>
                        <a:lnTo>
                          <a:pt x="3593" y="3455"/>
                        </a:lnTo>
                        <a:lnTo>
                          <a:pt x="3635" y="3372"/>
                        </a:lnTo>
                        <a:lnTo>
                          <a:pt x="3650" y="3325"/>
                        </a:lnTo>
                        <a:lnTo>
                          <a:pt x="3666" y="3274"/>
                        </a:lnTo>
                        <a:lnTo>
                          <a:pt x="3692" y="3180"/>
                        </a:lnTo>
                        <a:lnTo>
                          <a:pt x="3723" y="3102"/>
                        </a:lnTo>
                        <a:lnTo>
                          <a:pt x="3760" y="3023"/>
                        </a:lnTo>
                        <a:lnTo>
                          <a:pt x="3807" y="3117"/>
                        </a:lnTo>
                        <a:lnTo>
                          <a:pt x="3832" y="3080"/>
                        </a:lnTo>
                        <a:lnTo>
                          <a:pt x="3858" y="3039"/>
                        </a:lnTo>
                        <a:lnTo>
                          <a:pt x="3890" y="2977"/>
                        </a:lnTo>
                        <a:lnTo>
                          <a:pt x="3920" y="2898"/>
                        </a:lnTo>
                        <a:lnTo>
                          <a:pt x="3947" y="2805"/>
                        </a:lnTo>
                        <a:lnTo>
                          <a:pt x="3952" y="2753"/>
                        </a:lnTo>
                        <a:lnTo>
                          <a:pt x="3957" y="2695"/>
                        </a:lnTo>
                        <a:lnTo>
                          <a:pt x="3962" y="2633"/>
                        </a:lnTo>
                        <a:lnTo>
                          <a:pt x="3957" y="2565"/>
                        </a:lnTo>
                        <a:lnTo>
                          <a:pt x="3942" y="2410"/>
                        </a:lnTo>
                        <a:lnTo>
                          <a:pt x="3915" y="2222"/>
                        </a:lnTo>
                        <a:lnTo>
                          <a:pt x="3885" y="2019"/>
                        </a:lnTo>
                        <a:lnTo>
                          <a:pt x="3853" y="1821"/>
                        </a:lnTo>
                        <a:lnTo>
                          <a:pt x="3791" y="1483"/>
                        </a:lnTo>
                        <a:lnTo>
                          <a:pt x="3760" y="1342"/>
                        </a:lnTo>
                        <a:lnTo>
                          <a:pt x="3728" y="1327"/>
                        </a:lnTo>
                        <a:lnTo>
                          <a:pt x="3692" y="1306"/>
                        </a:lnTo>
                        <a:lnTo>
                          <a:pt x="3640" y="1269"/>
                        </a:lnTo>
                        <a:lnTo>
                          <a:pt x="3583" y="1227"/>
                        </a:lnTo>
                        <a:lnTo>
                          <a:pt x="3521" y="1165"/>
                        </a:lnTo>
                        <a:lnTo>
                          <a:pt x="3448" y="1092"/>
                        </a:lnTo>
                        <a:lnTo>
                          <a:pt x="3375" y="1004"/>
                        </a:lnTo>
                        <a:lnTo>
                          <a:pt x="3209" y="770"/>
                        </a:lnTo>
                        <a:lnTo>
                          <a:pt x="3109" y="629"/>
                        </a:lnTo>
                        <a:lnTo>
                          <a:pt x="3001" y="488"/>
                        </a:lnTo>
                        <a:lnTo>
                          <a:pt x="2881" y="348"/>
                        </a:lnTo>
                        <a:lnTo>
                          <a:pt x="2824" y="285"/>
                        </a:lnTo>
                        <a:lnTo>
                          <a:pt x="2762" y="223"/>
                        </a:lnTo>
                        <a:lnTo>
                          <a:pt x="2699" y="166"/>
                        </a:lnTo>
                        <a:lnTo>
                          <a:pt x="2632" y="120"/>
                        </a:lnTo>
                        <a:lnTo>
                          <a:pt x="2569" y="72"/>
                        </a:lnTo>
                        <a:lnTo>
                          <a:pt x="2501" y="36"/>
                        </a:lnTo>
                        <a:lnTo>
                          <a:pt x="2532" y="113"/>
                        </a:lnTo>
                        <a:lnTo>
                          <a:pt x="2485" y="88"/>
                        </a:lnTo>
                        <a:lnTo>
                          <a:pt x="2433" y="67"/>
                        </a:lnTo>
                        <a:lnTo>
                          <a:pt x="2371" y="46"/>
                        </a:lnTo>
                        <a:lnTo>
                          <a:pt x="2298" y="20"/>
                        </a:lnTo>
                        <a:lnTo>
                          <a:pt x="2221" y="5"/>
                        </a:lnTo>
                        <a:lnTo>
                          <a:pt x="2148" y="0"/>
                        </a:lnTo>
                        <a:lnTo>
                          <a:pt x="2116" y="0"/>
                        </a:lnTo>
                        <a:lnTo>
                          <a:pt x="2080" y="5"/>
                        </a:lnTo>
                        <a:lnTo>
                          <a:pt x="2184" y="108"/>
                        </a:lnTo>
                        <a:lnTo>
                          <a:pt x="2002" y="93"/>
                        </a:lnTo>
                        <a:lnTo>
                          <a:pt x="1841" y="88"/>
                        </a:lnTo>
                        <a:lnTo>
                          <a:pt x="1768" y="88"/>
                        </a:lnTo>
                        <a:lnTo>
                          <a:pt x="1711" y="98"/>
                        </a:lnTo>
                        <a:lnTo>
                          <a:pt x="1804" y="140"/>
                        </a:lnTo>
                        <a:lnTo>
                          <a:pt x="1679" y="140"/>
                        </a:lnTo>
                        <a:lnTo>
                          <a:pt x="1565" y="150"/>
                        </a:lnTo>
                        <a:lnTo>
                          <a:pt x="1513" y="155"/>
                        </a:lnTo>
                        <a:lnTo>
                          <a:pt x="1467" y="166"/>
                        </a:lnTo>
                        <a:lnTo>
                          <a:pt x="1503" y="250"/>
                        </a:lnTo>
                        <a:lnTo>
                          <a:pt x="1373" y="260"/>
                        </a:lnTo>
                        <a:lnTo>
                          <a:pt x="1258" y="270"/>
                        </a:lnTo>
                        <a:lnTo>
                          <a:pt x="1201" y="280"/>
                        </a:lnTo>
                        <a:lnTo>
                          <a:pt x="1150" y="296"/>
                        </a:lnTo>
                        <a:lnTo>
                          <a:pt x="1232" y="353"/>
                        </a:lnTo>
                        <a:lnTo>
                          <a:pt x="1248" y="369"/>
                        </a:lnTo>
                        <a:lnTo>
                          <a:pt x="1263" y="390"/>
                        </a:lnTo>
                        <a:lnTo>
                          <a:pt x="1285" y="415"/>
                        </a:lnTo>
                        <a:lnTo>
                          <a:pt x="1300" y="452"/>
                        </a:lnTo>
                        <a:lnTo>
                          <a:pt x="1310" y="488"/>
                        </a:lnTo>
                        <a:lnTo>
                          <a:pt x="1310" y="535"/>
                        </a:lnTo>
                        <a:lnTo>
                          <a:pt x="1305" y="562"/>
                        </a:lnTo>
                        <a:lnTo>
                          <a:pt x="1300" y="587"/>
                        </a:lnTo>
                        <a:lnTo>
                          <a:pt x="1180" y="577"/>
                        </a:lnTo>
                        <a:lnTo>
                          <a:pt x="1269" y="645"/>
                        </a:lnTo>
                        <a:lnTo>
                          <a:pt x="1332" y="697"/>
                        </a:lnTo>
                        <a:lnTo>
                          <a:pt x="1357" y="723"/>
                        </a:lnTo>
                        <a:lnTo>
                          <a:pt x="1368" y="744"/>
                        </a:lnTo>
                        <a:lnTo>
                          <a:pt x="1368" y="754"/>
                        </a:lnTo>
                        <a:lnTo>
                          <a:pt x="1368" y="759"/>
                        </a:lnTo>
                        <a:lnTo>
                          <a:pt x="1352" y="764"/>
                        </a:lnTo>
                        <a:lnTo>
                          <a:pt x="1332" y="770"/>
                        </a:lnTo>
                        <a:lnTo>
                          <a:pt x="1305" y="764"/>
                        </a:lnTo>
                        <a:lnTo>
                          <a:pt x="1258" y="759"/>
                        </a:lnTo>
                        <a:lnTo>
                          <a:pt x="1232" y="754"/>
                        </a:lnTo>
                        <a:lnTo>
                          <a:pt x="1285" y="884"/>
                        </a:lnTo>
                        <a:lnTo>
                          <a:pt x="1160" y="894"/>
                        </a:lnTo>
                        <a:lnTo>
                          <a:pt x="1056" y="910"/>
                        </a:lnTo>
                        <a:lnTo>
                          <a:pt x="968" y="926"/>
                        </a:lnTo>
                        <a:lnTo>
                          <a:pt x="983" y="931"/>
                        </a:lnTo>
                        <a:lnTo>
                          <a:pt x="1019" y="952"/>
                        </a:lnTo>
                        <a:lnTo>
                          <a:pt x="1035" y="962"/>
                        </a:lnTo>
                        <a:lnTo>
                          <a:pt x="1050" y="977"/>
                        </a:lnTo>
                        <a:lnTo>
                          <a:pt x="1061" y="994"/>
                        </a:lnTo>
                        <a:lnTo>
                          <a:pt x="1071" y="1014"/>
                        </a:lnTo>
                        <a:lnTo>
                          <a:pt x="1066" y="1019"/>
                        </a:lnTo>
                        <a:lnTo>
                          <a:pt x="1061" y="1030"/>
                        </a:lnTo>
                        <a:lnTo>
                          <a:pt x="1035" y="1040"/>
                        </a:lnTo>
                        <a:lnTo>
                          <a:pt x="998" y="1051"/>
                        </a:lnTo>
                        <a:lnTo>
                          <a:pt x="951" y="1061"/>
                        </a:lnTo>
                        <a:lnTo>
                          <a:pt x="873" y="1072"/>
                        </a:lnTo>
                        <a:lnTo>
                          <a:pt x="838" y="1072"/>
                        </a:lnTo>
                        <a:lnTo>
                          <a:pt x="926" y="1139"/>
                        </a:lnTo>
                        <a:lnTo>
                          <a:pt x="936" y="1155"/>
                        </a:lnTo>
                        <a:lnTo>
                          <a:pt x="941" y="1171"/>
                        </a:lnTo>
                        <a:lnTo>
                          <a:pt x="941" y="1197"/>
                        </a:lnTo>
                        <a:lnTo>
                          <a:pt x="941" y="1222"/>
                        </a:lnTo>
                        <a:lnTo>
                          <a:pt x="926" y="1249"/>
                        </a:lnTo>
                        <a:lnTo>
                          <a:pt x="900" y="1279"/>
                        </a:lnTo>
                        <a:lnTo>
                          <a:pt x="863" y="1306"/>
                        </a:lnTo>
                        <a:lnTo>
                          <a:pt x="879" y="1311"/>
                        </a:lnTo>
                        <a:lnTo>
                          <a:pt x="894" y="1316"/>
                        </a:lnTo>
                        <a:lnTo>
                          <a:pt x="915" y="1327"/>
                        </a:lnTo>
                        <a:lnTo>
                          <a:pt x="931" y="1337"/>
                        </a:lnTo>
                        <a:lnTo>
                          <a:pt x="941" y="1358"/>
                        </a:lnTo>
                        <a:lnTo>
                          <a:pt x="941" y="1379"/>
                        </a:lnTo>
                        <a:lnTo>
                          <a:pt x="936" y="1409"/>
                        </a:lnTo>
                        <a:lnTo>
                          <a:pt x="921" y="1436"/>
                        </a:lnTo>
                        <a:lnTo>
                          <a:pt x="900" y="1462"/>
                        </a:lnTo>
                        <a:lnTo>
                          <a:pt x="879" y="1477"/>
                        </a:lnTo>
                        <a:lnTo>
                          <a:pt x="858" y="1488"/>
                        </a:lnTo>
                        <a:lnTo>
                          <a:pt x="821" y="1499"/>
                        </a:lnTo>
                        <a:lnTo>
                          <a:pt x="806" y="1499"/>
                        </a:lnTo>
                        <a:lnTo>
                          <a:pt x="821" y="1509"/>
                        </a:lnTo>
                        <a:lnTo>
                          <a:pt x="858" y="1524"/>
                        </a:lnTo>
                        <a:lnTo>
                          <a:pt x="873" y="1539"/>
                        </a:lnTo>
                        <a:lnTo>
                          <a:pt x="889" y="1556"/>
                        </a:lnTo>
                        <a:lnTo>
                          <a:pt x="894" y="1571"/>
                        </a:lnTo>
                        <a:lnTo>
                          <a:pt x="884" y="1592"/>
                        </a:lnTo>
                        <a:lnTo>
                          <a:pt x="868" y="1613"/>
                        </a:lnTo>
                        <a:lnTo>
                          <a:pt x="838" y="1623"/>
                        </a:lnTo>
                        <a:lnTo>
                          <a:pt x="806" y="1639"/>
                        </a:lnTo>
                        <a:lnTo>
                          <a:pt x="769" y="1649"/>
                        </a:lnTo>
                        <a:lnTo>
                          <a:pt x="713" y="1659"/>
                        </a:lnTo>
                        <a:lnTo>
                          <a:pt x="686" y="1664"/>
                        </a:lnTo>
                        <a:lnTo>
                          <a:pt x="702" y="1676"/>
                        </a:lnTo>
                        <a:lnTo>
                          <a:pt x="738" y="1701"/>
                        </a:lnTo>
                        <a:lnTo>
                          <a:pt x="754" y="1717"/>
                        </a:lnTo>
                        <a:lnTo>
                          <a:pt x="759" y="1728"/>
                        </a:lnTo>
                        <a:lnTo>
                          <a:pt x="759" y="1738"/>
                        </a:lnTo>
                        <a:lnTo>
                          <a:pt x="754" y="1743"/>
                        </a:lnTo>
                        <a:lnTo>
                          <a:pt x="733" y="1753"/>
                        </a:lnTo>
                        <a:lnTo>
                          <a:pt x="666" y="1779"/>
                        </a:lnTo>
                        <a:lnTo>
                          <a:pt x="588" y="1806"/>
                        </a:lnTo>
                        <a:lnTo>
                          <a:pt x="499" y="1847"/>
                        </a:lnTo>
                        <a:lnTo>
                          <a:pt x="531" y="1847"/>
                        </a:lnTo>
                        <a:lnTo>
                          <a:pt x="593" y="1858"/>
                        </a:lnTo>
                        <a:lnTo>
                          <a:pt x="629" y="1868"/>
                        </a:lnTo>
                        <a:lnTo>
                          <a:pt x="666" y="1883"/>
                        </a:lnTo>
                        <a:lnTo>
                          <a:pt x="691" y="1904"/>
                        </a:lnTo>
                        <a:lnTo>
                          <a:pt x="697" y="1915"/>
                        </a:lnTo>
                        <a:lnTo>
                          <a:pt x="702" y="1931"/>
                        </a:lnTo>
                        <a:lnTo>
                          <a:pt x="702" y="1961"/>
                        </a:lnTo>
                        <a:lnTo>
                          <a:pt x="691" y="1993"/>
                        </a:lnTo>
                        <a:lnTo>
                          <a:pt x="676" y="2024"/>
                        </a:lnTo>
                        <a:lnTo>
                          <a:pt x="656" y="2055"/>
                        </a:lnTo>
                        <a:lnTo>
                          <a:pt x="629" y="2081"/>
                        </a:lnTo>
                        <a:lnTo>
                          <a:pt x="609" y="2103"/>
                        </a:lnTo>
                        <a:lnTo>
                          <a:pt x="582" y="2123"/>
                        </a:lnTo>
                        <a:lnTo>
                          <a:pt x="562" y="2128"/>
                        </a:lnTo>
                        <a:lnTo>
                          <a:pt x="551" y="2133"/>
                        </a:lnTo>
                        <a:lnTo>
                          <a:pt x="551" y="2138"/>
                        </a:lnTo>
                        <a:lnTo>
                          <a:pt x="582" y="2149"/>
                        </a:lnTo>
                        <a:lnTo>
                          <a:pt x="598" y="2154"/>
                        </a:lnTo>
                        <a:lnTo>
                          <a:pt x="619" y="2165"/>
                        </a:lnTo>
                        <a:lnTo>
                          <a:pt x="629" y="2175"/>
                        </a:lnTo>
                        <a:lnTo>
                          <a:pt x="634" y="2191"/>
                        </a:lnTo>
                        <a:lnTo>
                          <a:pt x="624" y="2211"/>
                        </a:lnTo>
                        <a:lnTo>
                          <a:pt x="614" y="2233"/>
                        </a:lnTo>
                        <a:lnTo>
                          <a:pt x="593" y="2248"/>
                        </a:lnTo>
                        <a:lnTo>
                          <a:pt x="567" y="2263"/>
                        </a:lnTo>
                        <a:lnTo>
                          <a:pt x="526" y="2285"/>
                        </a:lnTo>
                        <a:lnTo>
                          <a:pt x="504" y="2295"/>
                        </a:lnTo>
                        <a:lnTo>
                          <a:pt x="531" y="2295"/>
                        </a:lnTo>
                        <a:lnTo>
                          <a:pt x="582" y="2305"/>
                        </a:lnTo>
                        <a:lnTo>
                          <a:pt x="603" y="2315"/>
                        </a:lnTo>
                        <a:lnTo>
                          <a:pt x="624" y="2326"/>
                        </a:lnTo>
                        <a:lnTo>
                          <a:pt x="629" y="2336"/>
                        </a:lnTo>
                        <a:lnTo>
                          <a:pt x="629" y="2341"/>
                        </a:lnTo>
                        <a:lnTo>
                          <a:pt x="629" y="2352"/>
                        </a:lnTo>
                        <a:lnTo>
                          <a:pt x="624" y="2363"/>
                        </a:lnTo>
                        <a:lnTo>
                          <a:pt x="603" y="2388"/>
                        </a:lnTo>
                        <a:lnTo>
                          <a:pt x="577" y="2398"/>
                        </a:lnTo>
                        <a:lnTo>
                          <a:pt x="556" y="2410"/>
                        </a:lnTo>
                        <a:lnTo>
                          <a:pt x="531" y="2420"/>
                        </a:lnTo>
                        <a:lnTo>
                          <a:pt x="489" y="2420"/>
                        </a:lnTo>
                        <a:lnTo>
                          <a:pt x="468" y="2420"/>
                        </a:lnTo>
                        <a:lnTo>
                          <a:pt x="484" y="2425"/>
                        </a:lnTo>
                        <a:lnTo>
                          <a:pt x="514" y="2430"/>
                        </a:lnTo>
                        <a:lnTo>
                          <a:pt x="526" y="2440"/>
                        </a:lnTo>
                        <a:lnTo>
                          <a:pt x="536" y="2451"/>
                        </a:lnTo>
                        <a:lnTo>
                          <a:pt x="536" y="2461"/>
                        </a:lnTo>
                        <a:lnTo>
                          <a:pt x="531" y="2477"/>
                        </a:lnTo>
                        <a:lnTo>
                          <a:pt x="509" y="2498"/>
                        </a:lnTo>
                        <a:lnTo>
                          <a:pt x="479" y="2518"/>
                        </a:lnTo>
                        <a:lnTo>
                          <a:pt x="400" y="2565"/>
                        </a:lnTo>
                        <a:lnTo>
                          <a:pt x="297" y="2617"/>
                        </a:lnTo>
                        <a:lnTo>
                          <a:pt x="317" y="2623"/>
                        </a:lnTo>
                        <a:lnTo>
                          <a:pt x="364" y="2633"/>
                        </a:lnTo>
                        <a:lnTo>
                          <a:pt x="379" y="2643"/>
                        </a:lnTo>
                        <a:lnTo>
                          <a:pt x="390" y="2654"/>
                        </a:lnTo>
                        <a:lnTo>
                          <a:pt x="395" y="2659"/>
                        </a:lnTo>
                        <a:lnTo>
                          <a:pt x="395" y="2665"/>
                        </a:lnTo>
                        <a:lnTo>
                          <a:pt x="379" y="2680"/>
                        </a:lnTo>
                        <a:lnTo>
                          <a:pt x="317" y="2711"/>
                        </a:lnTo>
                        <a:lnTo>
                          <a:pt x="250" y="2737"/>
                        </a:lnTo>
                        <a:lnTo>
                          <a:pt x="162" y="2763"/>
                        </a:lnTo>
                        <a:lnTo>
                          <a:pt x="182" y="2779"/>
                        </a:lnTo>
                        <a:lnTo>
                          <a:pt x="213" y="2810"/>
                        </a:lnTo>
                        <a:lnTo>
                          <a:pt x="229" y="2825"/>
                        </a:lnTo>
                        <a:lnTo>
                          <a:pt x="234" y="2847"/>
                        </a:lnTo>
                        <a:lnTo>
                          <a:pt x="234" y="2852"/>
                        </a:lnTo>
                        <a:lnTo>
                          <a:pt x="234" y="2862"/>
                        </a:lnTo>
                        <a:lnTo>
                          <a:pt x="229" y="2867"/>
                        </a:lnTo>
                        <a:lnTo>
                          <a:pt x="219" y="2872"/>
                        </a:lnTo>
                        <a:lnTo>
                          <a:pt x="187" y="2893"/>
                        </a:lnTo>
                        <a:lnTo>
                          <a:pt x="156" y="2919"/>
                        </a:lnTo>
                        <a:lnTo>
                          <a:pt x="83" y="2982"/>
                        </a:lnTo>
                        <a:lnTo>
                          <a:pt x="0" y="3065"/>
                        </a:lnTo>
                        <a:close/>
                      </a:path>
                    </a:pathLst>
                  </a:cu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未知"/>
                  <p:cNvSpPr/>
                  <p:nvPr/>
                </p:nvSpPr>
                <p:spPr>
                  <a:xfrm rot="7164000">
                    <a:off x="245880" y="-231480"/>
                    <a:ext cx="330840" cy="312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4" h="1941">
                        <a:moveTo>
                          <a:pt x="0" y="1941"/>
                        </a:moveTo>
                        <a:lnTo>
                          <a:pt x="141" y="1936"/>
                        </a:lnTo>
                        <a:lnTo>
                          <a:pt x="463" y="1916"/>
                        </a:lnTo>
                        <a:lnTo>
                          <a:pt x="655" y="1899"/>
                        </a:lnTo>
                        <a:lnTo>
                          <a:pt x="842" y="1874"/>
                        </a:lnTo>
                        <a:lnTo>
                          <a:pt x="1014" y="1848"/>
                        </a:lnTo>
                        <a:lnTo>
                          <a:pt x="1087" y="1837"/>
                        </a:lnTo>
                        <a:lnTo>
                          <a:pt x="1149" y="1822"/>
                        </a:lnTo>
                        <a:lnTo>
                          <a:pt x="1311" y="1775"/>
                        </a:lnTo>
                        <a:lnTo>
                          <a:pt x="1550" y="1717"/>
                        </a:lnTo>
                        <a:lnTo>
                          <a:pt x="1846" y="1644"/>
                        </a:lnTo>
                        <a:lnTo>
                          <a:pt x="2179" y="1551"/>
                        </a:lnTo>
                        <a:lnTo>
                          <a:pt x="2346" y="1499"/>
                        </a:lnTo>
                        <a:lnTo>
                          <a:pt x="2517" y="1442"/>
                        </a:lnTo>
                        <a:lnTo>
                          <a:pt x="2683" y="1379"/>
                        </a:lnTo>
                        <a:lnTo>
                          <a:pt x="2845" y="1312"/>
                        </a:lnTo>
                        <a:lnTo>
                          <a:pt x="2995" y="1244"/>
                        </a:lnTo>
                        <a:lnTo>
                          <a:pt x="3135" y="1172"/>
                        </a:lnTo>
                        <a:lnTo>
                          <a:pt x="3260" y="1093"/>
                        </a:lnTo>
                        <a:lnTo>
                          <a:pt x="3317" y="1052"/>
                        </a:lnTo>
                        <a:lnTo>
                          <a:pt x="3364" y="1010"/>
                        </a:lnTo>
                        <a:lnTo>
                          <a:pt x="3235" y="432"/>
                        </a:lnTo>
                        <a:lnTo>
                          <a:pt x="3177" y="380"/>
                        </a:lnTo>
                        <a:lnTo>
                          <a:pt x="3053" y="266"/>
                        </a:lnTo>
                        <a:lnTo>
                          <a:pt x="2975" y="198"/>
                        </a:lnTo>
                        <a:lnTo>
                          <a:pt x="2907" y="125"/>
                        </a:lnTo>
                        <a:lnTo>
                          <a:pt x="2845" y="58"/>
                        </a:lnTo>
                        <a:lnTo>
                          <a:pt x="2803" y="0"/>
                        </a:lnTo>
                        <a:lnTo>
                          <a:pt x="2704" y="52"/>
                        </a:lnTo>
                        <a:lnTo>
                          <a:pt x="2444" y="193"/>
                        </a:lnTo>
                        <a:lnTo>
                          <a:pt x="2064" y="401"/>
                        </a:lnTo>
                        <a:lnTo>
                          <a:pt x="1840" y="531"/>
                        </a:lnTo>
                        <a:lnTo>
                          <a:pt x="1612" y="672"/>
                        </a:lnTo>
                        <a:lnTo>
                          <a:pt x="1373" y="817"/>
                        </a:lnTo>
                        <a:lnTo>
                          <a:pt x="1134" y="973"/>
                        </a:lnTo>
                        <a:lnTo>
                          <a:pt x="900" y="1135"/>
                        </a:lnTo>
                        <a:lnTo>
                          <a:pt x="677" y="1296"/>
                        </a:lnTo>
                        <a:lnTo>
                          <a:pt x="468" y="1462"/>
                        </a:lnTo>
                        <a:lnTo>
                          <a:pt x="370" y="1546"/>
                        </a:lnTo>
                        <a:lnTo>
                          <a:pt x="281" y="1629"/>
                        </a:lnTo>
                        <a:lnTo>
                          <a:pt x="198" y="1707"/>
                        </a:lnTo>
                        <a:lnTo>
                          <a:pt x="125" y="1786"/>
                        </a:lnTo>
                        <a:lnTo>
                          <a:pt x="58" y="1864"/>
                        </a:lnTo>
                        <a:lnTo>
                          <a:pt x="0" y="194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未知"/>
                  <p:cNvSpPr/>
                  <p:nvPr/>
                </p:nvSpPr>
                <p:spPr>
                  <a:xfrm rot="7164000">
                    <a:off x="167040" y="-204480"/>
                    <a:ext cx="481680" cy="389160"/>
                  </a:xfrm>
                  <a:custGeom>
                    <a:avLst/>
                    <a:gdLst/>
                    <a:ahLst/>
                    <a:rect l="l" t="t" r="r" b="b"/>
                    <a:pathLst>
                      <a:path w="4888" h="2436">
                        <a:moveTo>
                          <a:pt x="0" y="2436"/>
                        </a:moveTo>
                        <a:lnTo>
                          <a:pt x="358" y="2296"/>
                        </a:lnTo>
                        <a:lnTo>
                          <a:pt x="1169" y="1968"/>
                        </a:lnTo>
                        <a:lnTo>
                          <a:pt x="1628" y="1786"/>
                        </a:lnTo>
                        <a:lnTo>
                          <a:pt x="2044" y="1609"/>
                        </a:lnTo>
                        <a:lnTo>
                          <a:pt x="2381" y="1457"/>
                        </a:lnTo>
                        <a:lnTo>
                          <a:pt x="2501" y="1400"/>
                        </a:lnTo>
                        <a:lnTo>
                          <a:pt x="2584" y="1359"/>
                        </a:lnTo>
                        <a:lnTo>
                          <a:pt x="2828" y="1213"/>
                        </a:lnTo>
                        <a:lnTo>
                          <a:pt x="3057" y="1083"/>
                        </a:lnTo>
                        <a:lnTo>
                          <a:pt x="3250" y="979"/>
                        </a:lnTo>
                        <a:lnTo>
                          <a:pt x="3322" y="942"/>
                        </a:lnTo>
                        <a:lnTo>
                          <a:pt x="3380" y="922"/>
                        </a:lnTo>
                        <a:lnTo>
                          <a:pt x="3469" y="885"/>
                        </a:lnTo>
                        <a:lnTo>
                          <a:pt x="3634" y="812"/>
                        </a:lnTo>
                        <a:lnTo>
                          <a:pt x="3853" y="708"/>
                        </a:lnTo>
                        <a:lnTo>
                          <a:pt x="4103" y="583"/>
                        </a:lnTo>
                        <a:lnTo>
                          <a:pt x="4352" y="458"/>
                        </a:lnTo>
                        <a:lnTo>
                          <a:pt x="4587" y="333"/>
                        </a:lnTo>
                        <a:lnTo>
                          <a:pt x="4685" y="276"/>
                        </a:lnTo>
                        <a:lnTo>
                          <a:pt x="4774" y="219"/>
                        </a:lnTo>
                        <a:lnTo>
                          <a:pt x="4841" y="172"/>
                        </a:lnTo>
                        <a:lnTo>
                          <a:pt x="4888" y="136"/>
                        </a:lnTo>
                        <a:lnTo>
                          <a:pt x="4888" y="115"/>
                        </a:lnTo>
                        <a:lnTo>
                          <a:pt x="4888" y="73"/>
                        </a:lnTo>
                        <a:lnTo>
                          <a:pt x="4882" y="47"/>
                        </a:lnTo>
                        <a:lnTo>
                          <a:pt x="4877" y="26"/>
                        </a:lnTo>
                        <a:lnTo>
                          <a:pt x="4867" y="11"/>
                        </a:lnTo>
                        <a:lnTo>
                          <a:pt x="4846" y="0"/>
                        </a:lnTo>
                        <a:lnTo>
                          <a:pt x="4836" y="0"/>
                        </a:lnTo>
                        <a:lnTo>
                          <a:pt x="4826" y="6"/>
                        </a:lnTo>
                        <a:lnTo>
                          <a:pt x="4799" y="26"/>
                        </a:lnTo>
                        <a:lnTo>
                          <a:pt x="4727" y="109"/>
                        </a:lnTo>
                        <a:lnTo>
                          <a:pt x="4680" y="161"/>
                        </a:lnTo>
                        <a:lnTo>
                          <a:pt x="4628" y="219"/>
                        </a:lnTo>
                        <a:lnTo>
                          <a:pt x="4560" y="271"/>
                        </a:lnTo>
                        <a:lnTo>
                          <a:pt x="4524" y="297"/>
                        </a:lnTo>
                        <a:lnTo>
                          <a:pt x="4482" y="318"/>
                        </a:lnTo>
                        <a:lnTo>
                          <a:pt x="4233" y="443"/>
                        </a:lnTo>
                        <a:lnTo>
                          <a:pt x="3900" y="604"/>
                        </a:lnTo>
                        <a:lnTo>
                          <a:pt x="3593" y="745"/>
                        </a:lnTo>
                        <a:lnTo>
                          <a:pt x="3484" y="792"/>
                        </a:lnTo>
                        <a:lnTo>
                          <a:pt x="3422" y="817"/>
                        </a:lnTo>
                        <a:lnTo>
                          <a:pt x="3380" y="833"/>
                        </a:lnTo>
                        <a:lnTo>
                          <a:pt x="3317" y="864"/>
                        </a:lnTo>
                        <a:lnTo>
                          <a:pt x="3172" y="947"/>
                        </a:lnTo>
                        <a:lnTo>
                          <a:pt x="3010" y="1047"/>
                        </a:lnTo>
                        <a:lnTo>
                          <a:pt x="2875" y="1135"/>
                        </a:lnTo>
                        <a:lnTo>
                          <a:pt x="2730" y="1224"/>
                        </a:lnTo>
                        <a:lnTo>
                          <a:pt x="2533" y="1327"/>
                        </a:lnTo>
                        <a:lnTo>
                          <a:pt x="2329" y="1437"/>
                        </a:lnTo>
                        <a:lnTo>
                          <a:pt x="2152" y="1520"/>
                        </a:lnTo>
                        <a:lnTo>
                          <a:pt x="1726" y="1702"/>
                        </a:lnTo>
                        <a:lnTo>
                          <a:pt x="999" y="2014"/>
                        </a:lnTo>
                        <a:lnTo>
                          <a:pt x="0" y="243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未知"/>
                  <p:cNvSpPr/>
                  <p:nvPr/>
                </p:nvSpPr>
                <p:spPr>
                  <a:xfrm rot="7164000">
                    <a:off x="349920" y="-144000"/>
                    <a:ext cx="1566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1597" h="240">
                        <a:moveTo>
                          <a:pt x="0" y="5"/>
                        </a:moveTo>
                        <a:lnTo>
                          <a:pt x="198" y="17"/>
                        </a:lnTo>
                        <a:lnTo>
                          <a:pt x="411" y="27"/>
                        </a:lnTo>
                        <a:lnTo>
                          <a:pt x="656" y="47"/>
                        </a:lnTo>
                        <a:lnTo>
                          <a:pt x="921" y="79"/>
                        </a:lnTo>
                        <a:lnTo>
                          <a:pt x="1051" y="95"/>
                        </a:lnTo>
                        <a:lnTo>
                          <a:pt x="1176" y="115"/>
                        </a:lnTo>
                        <a:lnTo>
                          <a:pt x="1285" y="142"/>
                        </a:lnTo>
                        <a:lnTo>
                          <a:pt x="1389" y="172"/>
                        </a:lnTo>
                        <a:lnTo>
                          <a:pt x="1472" y="204"/>
                        </a:lnTo>
                        <a:lnTo>
                          <a:pt x="1509" y="219"/>
                        </a:lnTo>
                        <a:lnTo>
                          <a:pt x="1540" y="240"/>
                        </a:lnTo>
                        <a:lnTo>
                          <a:pt x="1597" y="225"/>
                        </a:lnTo>
                        <a:lnTo>
                          <a:pt x="1571" y="214"/>
                        </a:lnTo>
                        <a:lnTo>
                          <a:pt x="1487" y="183"/>
                        </a:lnTo>
                        <a:lnTo>
                          <a:pt x="1358" y="142"/>
                        </a:lnTo>
                        <a:lnTo>
                          <a:pt x="1176" y="100"/>
                        </a:lnTo>
                        <a:lnTo>
                          <a:pt x="1067" y="73"/>
                        </a:lnTo>
                        <a:lnTo>
                          <a:pt x="947" y="53"/>
                        </a:lnTo>
                        <a:lnTo>
                          <a:pt x="811" y="37"/>
                        </a:lnTo>
                        <a:lnTo>
                          <a:pt x="671" y="22"/>
                        </a:lnTo>
                        <a:lnTo>
                          <a:pt x="521" y="11"/>
                        </a:lnTo>
                        <a:lnTo>
                          <a:pt x="354" y="0"/>
                        </a:lnTo>
                        <a:lnTo>
                          <a:pt x="18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未知"/>
                  <p:cNvSpPr/>
                  <p:nvPr/>
                </p:nvSpPr>
                <p:spPr>
                  <a:xfrm rot="7164000">
                    <a:off x="403200" y="-96840"/>
                    <a:ext cx="202320" cy="14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59" h="906">
                        <a:moveTo>
                          <a:pt x="0" y="427"/>
                        </a:moveTo>
                        <a:lnTo>
                          <a:pt x="141" y="448"/>
                        </a:lnTo>
                        <a:lnTo>
                          <a:pt x="463" y="505"/>
                        </a:lnTo>
                        <a:lnTo>
                          <a:pt x="640" y="542"/>
                        </a:lnTo>
                        <a:lnTo>
                          <a:pt x="806" y="578"/>
                        </a:lnTo>
                        <a:lnTo>
                          <a:pt x="879" y="599"/>
                        </a:lnTo>
                        <a:lnTo>
                          <a:pt x="941" y="619"/>
                        </a:lnTo>
                        <a:lnTo>
                          <a:pt x="989" y="641"/>
                        </a:lnTo>
                        <a:lnTo>
                          <a:pt x="1024" y="661"/>
                        </a:lnTo>
                        <a:lnTo>
                          <a:pt x="1061" y="677"/>
                        </a:lnTo>
                        <a:lnTo>
                          <a:pt x="1108" y="698"/>
                        </a:lnTo>
                        <a:lnTo>
                          <a:pt x="1171" y="719"/>
                        </a:lnTo>
                        <a:lnTo>
                          <a:pt x="1238" y="744"/>
                        </a:lnTo>
                        <a:lnTo>
                          <a:pt x="1404" y="781"/>
                        </a:lnTo>
                        <a:lnTo>
                          <a:pt x="1581" y="823"/>
                        </a:lnTo>
                        <a:lnTo>
                          <a:pt x="1893" y="879"/>
                        </a:lnTo>
                        <a:lnTo>
                          <a:pt x="2034" y="906"/>
                        </a:lnTo>
                        <a:lnTo>
                          <a:pt x="2059" y="854"/>
                        </a:lnTo>
                        <a:lnTo>
                          <a:pt x="1924" y="833"/>
                        </a:lnTo>
                        <a:lnTo>
                          <a:pt x="1623" y="781"/>
                        </a:lnTo>
                        <a:lnTo>
                          <a:pt x="1456" y="749"/>
                        </a:lnTo>
                        <a:lnTo>
                          <a:pt x="1295" y="714"/>
                        </a:lnTo>
                        <a:lnTo>
                          <a:pt x="1165" y="682"/>
                        </a:lnTo>
                        <a:lnTo>
                          <a:pt x="1118" y="666"/>
                        </a:lnTo>
                        <a:lnTo>
                          <a:pt x="1087" y="651"/>
                        </a:lnTo>
                        <a:lnTo>
                          <a:pt x="1056" y="630"/>
                        </a:lnTo>
                        <a:lnTo>
                          <a:pt x="1019" y="604"/>
                        </a:lnTo>
                        <a:lnTo>
                          <a:pt x="936" y="531"/>
                        </a:lnTo>
                        <a:lnTo>
                          <a:pt x="723" y="329"/>
                        </a:lnTo>
                        <a:lnTo>
                          <a:pt x="609" y="219"/>
                        </a:lnTo>
                        <a:lnTo>
                          <a:pt x="495" y="125"/>
                        </a:lnTo>
                        <a:lnTo>
                          <a:pt x="442" y="84"/>
                        </a:lnTo>
                        <a:lnTo>
                          <a:pt x="390" y="47"/>
                        </a:lnTo>
                        <a:lnTo>
                          <a:pt x="343" y="21"/>
                        </a:lnTo>
                        <a:lnTo>
                          <a:pt x="302" y="0"/>
                        </a:lnTo>
                        <a:lnTo>
                          <a:pt x="562" y="234"/>
                        </a:lnTo>
                        <a:lnTo>
                          <a:pt x="759" y="417"/>
                        </a:lnTo>
                        <a:lnTo>
                          <a:pt x="837" y="494"/>
                        </a:lnTo>
                        <a:lnTo>
                          <a:pt x="889" y="552"/>
                        </a:lnTo>
                        <a:lnTo>
                          <a:pt x="775" y="531"/>
                        </a:lnTo>
                        <a:lnTo>
                          <a:pt x="515" y="479"/>
                        </a:lnTo>
                        <a:lnTo>
                          <a:pt x="365" y="459"/>
                        </a:lnTo>
                        <a:lnTo>
                          <a:pt x="218" y="437"/>
                        </a:lnTo>
                        <a:lnTo>
                          <a:pt x="94" y="427"/>
                        </a:lnTo>
                        <a:lnTo>
                          <a:pt x="41" y="427"/>
                        </a:lnTo>
                        <a:lnTo>
                          <a:pt x="0" y="42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未知"/>
                  <p:cNvSpPr/>
                  <p:nvPr/>
                </p:nvSpPr>
                <p:spPr>
                  <a:xfrm rot="7164000">
                    <a:off x="434520" y="-54000"/>
                    <a:ext cx="223200" cy="19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7" h="1181">
                        <a:moveTo>
                          <a:pt x="0" y="286"/>
                        </a:moveTo>
                        <a:lnTo>
                          <a:pt x="156" y="339"/>
                        </a:lnTo>
                        <a:lnTo>
                          <a:pt x="514" y="469"/>
                        </a:lnTo>
                        <a:lnTo>
                          <a:pt x="712" y="546"/>
                        </a:lnTo>
                        <a:lnTo>
                          <a:pt x="900" y="624"/>
                        </a:lnTo>
                        <a:lnTo>
                          <a:pt x="1050" y="692"/>
                        </a:lnTo>
                        <a:lnTo>
                          <a:pt x="1107" y="724"/>
                        </a:lnTo>
                        <a:lnTo>
                          <a:pt x="1149" y="749"/>
                        </a:lnTo>
                        <a:lnTo>
                          <a:pt x="1107" y="776"/>
                        </a:lnTo>
                        <a:lnTo>
                          <a:pt x="1008" y="822"/>
                        </a:lnTo>
                        <a:lnTo>
                          <a:pt x="940" y="848"/>
                        </a:lnTo>
                        <a:lnTo>
                          <a:pt x="868" y="874"/>
                        </a:lnTo>
                        <a:lnTo>
                          <a:pt x="785" y="896"/>
                        </a:lnTo>
                        <a:lnTo>
                          <a:pt x="701" y="906"/>
                        </a:lnTo>
                        <a:lnTo>
                          <a:pt x="743" y="906"/>
                        </a:lnTo>
                        <a:lnTo>
                          <a:pt x="790" y="901"/>
                        </a:lnTo>
                        <a:lnTo>
                          <a:pt x="853" y="896"/>
                        </a:lnTo>
                        <a:lnTo>
                          <a:pt x="925" y="884"/>
                        </a:lnTo>
                        <a:lnTo>
                          <a:pt x="1008" y="864"/>
                        </a:lnTo>
                        <a:lnTo>
                          <a:pt x="1092" y="833"/>
                        </a:lnTo>
                        <a:lnTo>
                          <a:pt x="1170" y="796"/>
                        </a:lnTo>
                        <a:lnTo>
                          <a:pt x="1305" y="859"/>
                        </a:lnTo>
                        <a:lnTo>
                          <a:pt x="1617" y="989"/>
                        </a:lnTo>
                        <a:lnTo>
                          <a:pt x="1794" y="1061"/>
                        </a:lnTo>
                        <a:lnTo>
                          <a:pt x="1965" y="1124"/>
                        </a:lnTo>
                        <a:lnTo>
                          <a:pt x="2043" y="1145"/>
                        </a:lnTo>
                        <a:lnTo>
                          <a:pt x="2111" y="1166"/>
                        </a:lnTo>
                        <a:lnTo>
                          <a:pt x="2168" y="1176"/>
                        </a:lnTo>
                        <a:lnTo>
                          <a:pt x="2210" y="1181"/>
                        </a:lnTo>
                        <a:lnTo>
                          <a:pt x="2267" y="1161"/>
                        </a:lnTo>
                        <a:lnTo>
                          <a:pt x="2230" y="1156"/>
                        </a:lnTo>
                        <a:lnTo>
                          <a:pt x="2142" y="1124"/>
                        </a:lnTo>
                        <a:lnTo>
                          <a:pt x="2095" y="1109"/>
                        </a:lnTo>
                        <a:lnTo>
                          <a:pt x="2048" y="1088"/>
                        </a:lnTo>
                        <a:lnTo>
                          <a:pt x="2007" y="1061"/>
                        </a:lnTo>
                        <a:lnTo>
                          <a:pt x="1981" y="1041"/>
                        </a:lnTo>
                        <a:lnTo>
                          <a:pt x="1856" y="869"/>
                        </a:lnTo>
                        <a:lnTo>
                          <a:pt x="1746" y="724"/>
                        </a:lnTo>
                        <a:lnTo>
                          <a:pt x="1617" y="552"/>
                        </a:lnTo>
                        <a:lnTo>
                          <a:pt x="1471" y="380"/>
                        </a:lnTo>
                        <a:lnTo>
                          <a:pt x="1399" y="297"/>
                        </a:lnTo>
                        <a:lnTo>
                          <a:pt x="1326" y="219"/>
                        </a:lnTo>
                        <a:lnTo>
                          <a:pt x="1252" y="151"/>
                        </a:lnTo>
                        <a:lnTo>
                          <a:pt x="1180" y="89"/>
                        </a:lnTo>
                        <a:lnTo>
                          <a:pt x="1112" y="37"/>
                        </a:lnTo>
                        <a:lnTo>
                          <a:pt x="1050" y="0"/>
                        </a:lnTo>
                        <a:lnTo>
                          <a:pt x="1149" y="94"/>
                        </a:lnTo>
                        <a:lnTo>
                          <a:pt x="1247" y="192"/>
                        </a:lnTo>
                        <a:lnTo>
                          <a:pt x="1377" y="327"/>
                        </a:lnTo>
                        <a:lnTo>
                          <a:pt x="1513" y="484"/>
                        </a:lnTo>
                        <a:lnTo>
                          <a:pt x="1653" y="651"/>
                        </a:lnTo>
                        <a:lnTo>
                          <a:pt x="1716" y="739"/>
                        </a:lnTo>
                        <a:lnTo>
                          <a:pt x="1778" y="833"/>
                        </a:lnTo>
                        <a:lnTo>
                          <a:pt x="1835" y="921"/>
                        </a:lnTo>
                        <a:lnTo>
                          <a:pt x="1888" y="1015"/>
                        </a:lnTo>
                        <a:lnTo>
                          <a:pt x="1846" y="1009"/>
                        </a:lnTo>
                        <a:lnTo>
                          <a:pt x="1794" y="994"/>
                        </a:lnTo>
                        <a:lnTo>
                          <a:pt x="1706" y="963"/>
                        </a:lnTo>
                        <a:lnTo>
                          <a:pt x="1591" y="916"/>
                        </a:lnTo>
                        <a:lnTo>
                          <a:pt x="1435" y="848"/>
                        </a:lnTo>
                        <a:lnTo>
                          <a:pt x="1242" y="749"/>
                        </a:lnTo>
                        <a:lnTo>
                          <a:pt x="1003" y="614"/>
                        </a:lnTo>
                        <a:lnTo>
                          <a:pt x="951" y="541"/>
                        </a:lnTo>
                        <a:lnTo>
                          <a:pt x="894" y="458"/>
                        </a:lnTo>
                        <a:lnTo>
                          <a:pt x="816" y="369"/>
                        </a:lnTo>
                        <a:lnTo>
                          <a:pt x="770" y="322"/>
                        </a:lnTo>
                        <a:lnTo>
                          <a:pt x="723" y="276"/>
                        </a:lnTo>
                        <a:lnTo>
                          <a:pt x="670" y="229"/>
                        </a:lnTo>
                        <a:lnTo>
                          <a:pt x="613" y="187"/>
                        </a:lnTo>
                        <a:lnTo>
                          <a:pt x="556" y="151"/>
                        </a:lnTo>
                        <a:lnTo>
                          <a:pt x="494" y="120"/>
                        </a:lnTo>
                        <a:lnTo>
                          <a:pt x="431" y="94"/>
                        </a:lnTo>
                        <a:lnTo>
                          <a:pt x="369" y="78"/>
                        </a:lnTo>
                        <a:lnTo>
                          <a:pt x="436" y="114"/>
                        </a:lnTo>
                        <a:lnTo>
                          <a:pt x="509" y="162"/>
                        </a:lnTo>
                        <a:lnTo>
                          <a:pt x="593" y="219"/>
                        </a:lnTo>
                        <a:lnTo>
                          <a:pt x="681" y="292"/>
                        </a:lnTo>
                        <a:lnTo>
                          <a:pt x="775" y="374"/>
                        </a:lnTo>
                        <a:lnTo>
                          <a:pt x="816" y="422"/>
                        </a:lnTo>
                        <a:lnTo>
                          <a:pt x="853" y="469"/>
                        </a:lnTo>
                        <a:lnTo>
                          <a:pt x="889" y="515"/>
                        </a:lnTo>
                        <a:lnTo>
                          <a:pt x="915" y="567"/>
                        </a:lnTo>
                        <a:lnTo>
                          <a:pt x="800" y="526"/>
                        </a:lnTo>
                        <a:lnTo>
                          <a:pt x="525" y="432"/>
                        </a:lnTo>
                        <a:lnTo>
                          <a:pt x="369" y="380"/>
                        </a:lnTo>
                        <a:lnTo>
                          <a:pt x="224" y="339"/>
                        </a:lnTo>
                        <a:lnTo>
                          <a:pt x="94" y="302"/>
                        </a:lnTo>
                        <a:lnTo>
                          <a:pt x="0" y="28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未知"/>
                  <p:cNvSpPr/>
                  <p:nvPr/>
                </p:nvSpPr>
                <p:spPr>
                  <a:xfrm rot="7164000">
                    <a:off x="352080" y="-201600"/>
                    <a:ext cx="928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946" h="155">
                        <a:moveTo>
                          <a:pt x="0" y="30"/>
                        </a:moveTo>
                        <a:lnTo>
                          <a:pt x="103" y="30"/>
                        </a:lnTo>
                        <a:lnTo>
                          <a:pt x="213" y="30"/>
                        </a:lnTo>
                        <a:lnTo>
                          <a:pt x="343" y="42"/>
                        </a:lnTo>
                        <a:lnTo>
                          <a:pt x="488" y="52"/>
                        </a:lnTo>
                        <a:lnTo>
                          <a:pt x="634" y="78"/>
                        </a:lnTo>
                        <a:lnTo>
                          <a:pt x="702" y="93"/>
                        </a:lnTo>
                        <a:lnTo>
                          <a:pt x="764" y="109"/>
                        </a:lnTo>
                        <a:lnTo>
                          <a:pt x="826" y="130"/>
                        </a:lnTo>
                        <a:lnTo>
                          <a:pt x="879" y="155"/>
                        </a:lnTo>
                        <a:lnTo>
                          <a:pt x="946" y="135"/>
                        </a:lnTo>
                        <a:lnTo>
                          <a:pt x="857" y="104"/>
                        </a:lnTo>
                        <a:lnTo>
                          <a:pt x="764" y="72"/>
                        </a:lnTo>
                        <a:lnTo>
                          <a:pt x="634" y="42"/>
                        </a:lnTo>
                        <a:lnTo>
                          <a:pt x="488" y="15"/>
                        </a:lnTo>
                        <a:lnTo>
                          <a:pt x="410" y="5"/>
                        </a:lnTo>
                        <a:lnTo>
                          <a:pt x="332" y="0"/>
                        </a:lnTo>
                        <a:lnTo>
                          <a:pt x="250" y="0"/>
                        </a:lnTo>
                        <a:lnTo>
                          <a:pt x="166" y="5"/>
                        </a:lnTo>
                        <a:lnTo>
                          <a:pt x="83" y="15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未知"/>
                  <p:cNvSpPr/>
                  <p:nvPr/>
                </p:nvSpPr>
                <p:spPr>
                  <a:xfrm rot="7164000">
                    <a:off x="351720" y="-255960"/>
                    <a:ext cx="486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499" h="53">
                        <a:moveTo>
                          <a:pt x="0" y="47"/>
                        </a:moveTo>
                        <a:lnTo>
                          <a:pt x="53" y="36"/>
                        </a:lnTo>
                        <a:lnTo>
                          <a:pt x="110" y="31"/>
                        </a:lnTo>
                        <a:lnTo>
                          <a:pt x="172" y="21"/>
                        </a:lnTo>
                        <a:lnTo>
                          <a:pt x="245" y="16"/>
                        </a:lnTo>
                        <a:lnTo>
                          <a:pt x="323" y="21"/>
                        </a:lnTo>
                        <a:lnTo>
                          <a:pt x="385" y="31"/>
                        </a:lnTo>
                        <a:lnTo>
                          <a:pt x="417" y="42"/>
                        </a:lnTo>
                        <a:lnTo>
                          <a:pt x="442" y="53"/>
                        </a:lnTo>
                        <a:lnTo>
                          <a:pt x="499" y="36"/>
                        </a:lnTo>
                        <a:lnTo>
                          <a:pt x="474" y="21"/>
                        </a:lnTo>
                        <a:lnTo>
                          <a:pt x="432" y="11"/>
                        </a:lnTo>
                        <a:lnTo>
                          <a:pt x="380" y="5"/>
                        </a:lnTo>
                        <a:lnTo>
                          <a:pt x="312" y="0"/>
                        </a:lnTo>
                        <a:lnTo>
                          <a:pt x="224" y="5"/>
                        </a:lnTo>
                        <a:lnTo>
                          <a:pt x="120" y="21"/>
                        </a:lnTo>
                        <a:lnTo>
                          <a:pt x="0" y="4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未知"/>
                  <p:cNvSpPr/>
                  <p:nvPr/>
                </p:nvSpPr>
                <p:spPr>
                  <a:xfrm rot="7164000">
                    <a:off x="325080" y="-284400"/>
                    <a:ext cx="35280" cy="6732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411">
                        <a:moveTo>
                          <a:pt x="0" y="411"/>
                        </a:moveTo>
                        <a:lnTo>
                          <a:pt x="57" y="370"/>
                        </a:lnTo>
                        <a:lnTo>
                          <a:pt x="119" y="323"/>
                        </a:lnTo>
                        <a:lnTo>
                          <a:pt x="187" y="271"/>
                        </a:lnTo>
                        <a:lnTo>
                          <a:pt x="254" y="203"/>
                        </a:lnTo>
                        <a:lnTo>
                          <a:pt x="286" y="172"/>
                        </a:lnTo>
                        <a:lnTo>
                          <a:pt x="312" y="135"/>
                        </a:lnTo>
                        <a:lnTo>
                          <a:pt x="332" y="99"/>
                        </a:lnTo>
                        <a:lnTo>
                          <a:pt x="348" y="63"/>
                        </a:lnTo>
                        <a:lnTo>
                          <a:pt x="359" y="31"/>
                        </a:lnTo>
                        <a:lnTo>
                          <a:pt x="359" y="0"/>
                        </a:lnTo>
                        <a:lnTo>
                          <a:pt x="296" y="26"/>
                        </a:lnTo>
                        <a:lnTo>
                          <a:pt x="296" y="31"/>
                        </a:lnTo>
                        <a:lnTo>
                          <a:pt x="301" y="42"/>
                        </a:lnTo>
                        <a:lnTo>
                          <a:pt x="301" y="63"/>
                        </a:lnTo>
                        <a:lnTo>
                          <a:pt x="291" y="99"/>
                        </a:lnTo>
                        <a:lnTo>
                          <a:pt x="264" y="146"/>
                        </a:lnTo>
                        <a:lnTo>
                          <a:pt x="207" y="213"/>
                        </a:lnTo>
                        <a:lnTo>
                          <a:pt x="124" y="302"/>
                        </a:lnTo>
                        <a:lnTo>
                          <a:pt x="0" y="41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未知"/>
                  <p:cNvSpPr/>
                  <p:nvPr/>
                </p:nvSpPr>
                <p:spPr>
                  <a:xfrm rot="7164000">
                    <a:off x="297360" y="-273240"/>
                    <a:ext cx="61920" cy="124560"/>
                  </a:xfrm>
                  <a:custGeom>
                    <a:avLst/>
                    <a:gdLst/>
                    <a:ahLst/>
                    <a:rect l="l" t="t" r="r" b="b"/>
                    <a:pathLst>
                      <a:path w="629" h="776">
                        <a:moveTo>
                          <a:pt x="0" y="776"/>
                        </a:moveTo>
                        <a:lnTo>
                          <a:pt x="93" y="697"/>
                        </a:lnTo>
                        <a:lnTo>
                          <a:pt x="192" y="609"/>
                        </a:lnTo>
                        <a:lnTo>
                          <a:pt x="302" y="500"/>
                        </a:lnTo>
                        <a:lnTo>
                          <a:pt x="353" y="442"/>
                        </a:lnTo>
                        <a:lnTo>
                          <a:pt x="405" y="380"/>
                        </a:lnTo>
                        <a:lnTo>
                          <a:pt x="452" y="317"/>
                        </a:lnTo>
                        <a:lnTo>
                          <a:pt x="494" y="255"/>
                        </a:lnTo>
                        <a:lnTo>
                          <a:pt x="530" y="192"/>
                        </a:lnTo>
                        <a:lnTo>
                          <a:pt x="551" y="130"/>
                        </a:lnTo>
                        <a:lnTo>
                          <a:pt x="567" y="73"/>
                        </a:lnTo>
                        <a:lnTo>
                          <a:pt x="567" y="47"/>
                        </a:lnTo>
                        <a:lnTo>
                          <a:pt x="562" y="20"/>
                        </a:lnTo>
                        <a:lnTo>
                          <a:pt x="629" y="0"/>
                        </a:lnTo>
                        <a:lnTo>
                          <a:pt x="624" y="20"/>
                        </a:lnTo>
                        <a:lnTo>
                          <a:pt x="603" y="83"/>
                        </a:lnTo>
                        <a:lnTo>
                          <a:pt x="567" y="172"/>
                        </a:lnTo>
                        <a:lnTo>
                          <a:pt x="540" y="229"/>
                        </a:lnTo>
                        <a:lnTo>
                          <a:pt x="509" y="287"/>
                        </a:lnTo>
                        <a:lnTo>
                          <a:pt x="473" y="344"/>
                        </a:lnTo>
                        <a:lnTo>
                          <a:pt x="427" y="411"/>
                        </a:lnTo>
                        <a:lnTo>
                          <a:pt x="374" y="474"/>
                        </a:lnTo>
                        <a:lnTo>
                          <a:pt x="317" y="536"/>
                        </a:lnTo>
                        <a:lnTo>
                          <a:pt x="250" y="604"/>
                        </a:lnTo>
                        <a:lnTo>
                          <a:pt x="177" y="666"/>
                        </a:lnTo>
                        <a:lnTo>
                          <a:pt x="93" y="724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未知"/>
                  <p:cNvSpPr/>
                  <p:nvPr/>
                </p:nvSpPr>
                <p:spPr>
                  <a:xfrm rot="7164000">
                    <a:off x="258120" y="-261720"/>
                    <a:ext cx="99000" cy="219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1358">
                        <a:moveTo>
                          <a:pt x="0" y="1358"/>
                        </a:moveTo>
                        <a:lnTo>
                          <a:pt x="145" y="1187"/>
                        </a:lnTo>
                        <a:lnTo>
                          <a:pt x="296" y="1010"/>
                        </a:lnTo>
                        <a:lnTo>
                          <a:pt x="472" y="791"/>
                        </a:lnTo>
                        <a:lnTo>
                          <a:pt x="649" y="562"/>
                        </a:lnTo>
                        <a:lnTo>
                          <a:pt x="728" y="448"/>
                        </a:lnTo>
                        <a:lnTo>
                          <a:pt x="801" y="339"/>
                        </a:lnTo>
                        <a:lnTo>
                          <a:pt x="863" y="234"/>
                        </a:lnTo>
                        <a:lnTo>
                          <a:pt x="915" y="146"/>
                        </a:lnTo>
                        <a:lnTo>
                          <a:pt x="946" y="62"/>
                        </a:lnTo>
                        <a:lnTo>
                          <a:pt x="956" y="31"/>
                        </a:lnTo>
                        <a:lnTo>
                          <a:pt x="961" y="0"/>
                        </a:lnTo>
                        <a:lnTo>
                          <a:pt x="1003" y="10"/>
                        </a:lnTo>
                        <a:lnTo>
                          <a:pt x="998" y="26"/>
                        </a:lnTo>
                        <a:lnTo>
                          <a:pt x="978" y="84"/>
                        </a:lnTo>
                        <a:lnTo>
                          <a:pt x="936" y="182"/>
                        </a:lnTo>
                        <a:lnTo>
                          <a:pt x="899" y="249"/>
                        </a:lnTo>
                        <a:lnTo>
                          <a:pt x="858" y="328"/>
                        </a:lnTo>
                        <a:lnTo>
                          <a:pt x="801" y="411"/>
                        </a:lnTo>
                        <a:lnTo>
                          <a:pt x="733" y="511"/>
                        </a:lnTo>
                        <a:lnTo>
                          <a:pt x="649" y="624"/>
                        </a:lnTo>
                        <a:lnTo>
                          <a:pt x="556" y="744"/>
                        </a:lnTo>
                        <a:lnTo>
                          <a:pt x="442" y="880"/>
                        </a:lnTo>
                        <a:lnTo>
                          <a:pt x="312" y="1025"/>
                        </a:lnTo>
                        <a:lnTo>
                          <a:pt x="166" y="1187"/>
                        </a:lnTo>
                        <a:lnTo>
                          <a:pt x="0" y="1358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未知"/>
                  <p:cNvSpPr/>
                  <p:nvPr/>
                </p:nvSpPr>
                <p:spPr>
                  <a:xfrm rot="7164000">
                    <a:off x="228240" y="-250920"/>
                    <a:ext cx="106560" cy="31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81" h="1995">
                        <a:moveTo>
                          <a:pt x="0" y="1995"/>
                        </a:moveTo>
                        <a:lnTo>
                          <a:pt x="167" y="1745"/>
                        </a:lnTo>
                        <a:lnTo>
                          <a:pt x="332" y="1485"/>
                        </a:lnTo>
                        <a:lnTo>
                          <a:pt x="531" y="1166"/>
                        </a:lnTo>
                        <a:lnTo>
                          <a:pt x="624" y="1001"/>
                        </a:lnTo>
                        <a:lnTo>
                          <a:pt x="723" y="834"/>
                        </a:lnTo>
                        <a:lnTo>
                          <a:pt x="806" y="667"/>
                        </a:lnTo>
                        <a:lnTo>
                          <a:pt x="884" y="511"/>
                        </a:lnTo>
                        <a:lnTo>
                          <a:pt x="946" y="365"/>
                        </a:lnTo>
                        <a:lnTo>
                          <a:pt x="998" y="230"/>
                        </a:lnTo>
                        <a:lnTo>
                          <a:pt x="1013" y="172"/>
                        </a:lnTo>
                        <a:lnTo>
                          <a:pt x="1025" y="115"/>
                        </a:lnTo>
                        <a:lnTo>
                          <a:pt x="1030" y="69"/>
                        </a:lnTo>
                        <a:lnTo>
                          <a:pt x="1030" y="27"/>
                        </a:lnTo>
                        <a:lnTo>
                          <a:pt x="1081" y="0"/>
                        </a:lnTo>
                        <a:lnTo>
                          <a:pt x="1081" y="22"/>
                        </a:lnTo>
                        <a:lnTo>
                          <a:pt x="1066" y="100"/>
                        </a:lnTo>
                        <a:lnTo>
                          <a:pt x="1050" y="157"/>
                        </a:lnTo>
                        <a:lnTo>
                          <a:pt x="1030" y="235"/>
                        </a:lnTo>
                        <a:lnTo>
                          <a:pt x="998" y="324"/>
                        </a:lnTo>
                        <a:lnTo>
                          <a:pt x="951" y="433"/>
                        </a:lnTo>
                        <a:lnTo>
                          <a:pt x="894" y="558"/>
                        </a:lnTo>
                        <a:lnTo>
                          <a:pt x="821" y="704"/>
                        </a:lnTo>
                        <a:lnTo>
                          <a:pt x="733" y="864"/>
                        </a:lnTo>
                        <a:lnTo>
                          <a:pt x="629" y="1047"/>
                        </a:lnTo>
                        <a:lnTo>
                          <a:pt x="504" y="1250"/>
                        </a:lnTo>
                        <a:lnTo>
                          <a:pt x="359" y="1474"/>
                        </a:lnTo>
                        <a:lnTo>
                          <a:pt x="192" y="1723"/>
                        </a:lnTo>
                        <a:lnTo>
                          <a:pt x="0" y="199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未知"/>
                  <p:cNvSpPr/>
                  <p:nvPr/>
                </p:nvSpPr>
                <p:spPr>
                  <a:xfrm rot="7164000">
                    <a:off x="187560" y="-209160"/>
                    <a:ext cx="1152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797">
                        <a:moveTo>
                          <a:pt x="0" y="797"/>
                        </a:moveTo>
                        <a:lnTo>
                          <a:pt x="31" y="708"/>
                        </a:lnTo>
                        <a:lnTo>
                          <a:pt x="57" y="608"/>
                        </a:lnTo>
                        <a:lnTo>
                          <a:pt x="77" y="495"/>
                        </a:lnTo>
                        <a:lnTo>
                          <a:pt x="89" y="432"/>
                        </a:lnTo>
                        <a:lnTo>
                          <a:pt x="94" y="370"/>
                        </a:lnTo>
                        <a:lnTo>
                          <a:pt x="99" y="307"/>
                        </a:lnTo>
                        <a:lnTo>
                          <a:pt x="94" y="250"/>
                        </a:lnTo>
                        <a:lnTo>
                          <a:pt x="89" y="193"/>
                        </a:lnTo>
                        <a:lnTo>
                          <a:pt x="72" y="140"/>
                        </a:lnTo>
                        <a:lnTo>
                          <a:pt x="52" y="93"/>
                        </a:lnTo>
                        <a:lnTo>
                          <a:pt x="20" y="51"/>
                        </a:lnTo>
                        <a:lnTo>
                          <a:pt x="57" y="0"/>
                        </a:lnTo>
                        <a:lnTo>
                          <a:pt x="67" y="16"/>
                        </a:lnTo>
                        <a:lnTo>
                          <a:pt x="83" y="51"/>
                        </a:lnTo>
                        <a:lnTo>
                          <a:pt x="104" y="114"/>
                        </a:lnTo>
                        <a:lnTo>
                          <a:pt x="114" y="156"/>
                        </a:lnTo>
                        <a:lnTo>
                          <a:pt x="119" y="203"/>
                        </a:lnTo>
                        <a:lnTo>
                          <a:pt x="125" y="260"/>
                        </a:lnTo>
                        <a:lnTo>
                          <a:pt x="125" y="318"/>
                        </a:lnTo>
                        <a:lnTo>
                          <a:pt x="125" y="385"/>
                        </a:lnTo>
                        <a:lnTo>
                          <a:pt x="114" y="453"/>
                        </a:lnTo>
                        <a:lnTo>
                          <a:pt x="99" y="531"/>
                        </a:lnTo>
                        <a:lnTo>
                          <a:pt x="72" y="614"/>
                        </a:lnTo>
                        <a:lnTo>
                          <a:pt x="42" y="703"/>
                        </a:lnTo>
                        <a:lnTo>
                          <a:pt x="0" y="79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未知"/>
                  <p:cNvSpPr/>
                  <p:nvPr/>
                </p:nvSpPr>
                <p:spPr>
                  <a:xfrm rot="7164000">
                    <a:off x="221400" y="-223920"/>
                    <a:ext cx="73440" cy="393840"/>
                  </a:xfrm>
                  <a:custGeom>
                    <a:avLst/>
                    <a:gdLst/>
                    <a:ahLst/>
                    <a:rect l="l" t="t" r="r" b="b"/>
                    <a:pathLst>
                      <a:path w="749" h="2451">
                        <a:moveTo>
                          <a:pt x="0" y="2451"/>
                        </a:moveTo>
                        <a:lnTo>
                          <a:pt x="57" y="2306"/>
                        </a:lnTo>
                        <a:lnTo>
                          <a:pt x="192" y="1957"/>
                        </a:lnTo>
                        <a:lnTo>
                          <a:pt x="270" y="1734"/>
                        </a:lnTo>
                        <a:lnTo>
                          <a:pt x="348" y="1509"/>
                        </a:lnTo>
                        <a:lnTo>
                          <a:pt x="416" y="1285"/>
                        </a:lnTo>
                        <a:lnTo>
                          <a:pt x="442" y="1182"/>
                        </a:lnTo>
                        <a:lnTo>
                          <a:pt x="462" y="1082"/>
                        </a:lnTo>
                        <a:lnTo>
                          <a:pt x="499" y="895"/>
                        </a:lnTo>
                        <a:lnTo>
                          <a:pt x="530" y="713"/>
                        </a:lnTo>
                        <a:lnTo>
                          <a:pt x="587" y="385"/>
                        </a:lnTo>
                        <a:lnTo>
                          <a:pt x="614" y="250"/>
                        </a:lnTo>
                        <a:lnTo>
                          <a:pt x="634" y="141"/>
                        </a:lnTo>
                        <a:lnTo>
                          <a:pt x="660" y="63"/>
                        </a:lnTo>
                        <a:lnTo>
                          <a:pt x="671" y="36"/>
                        </a:lnTo>
                        <a:lnTo>
                          <a:pt x="681" y="16"/>
                        </a:lnTo>
                        <a:lnTo>
                          <a:pt x="749" y="0"/>
                        </a:lnTo>
                        <a:lnTo>
                          <a:pt x="722" y="109"/>
                        </a:lnTo>
                        <a:lnTo>
                          <a:pt x="655" y="365"/>
                        </a:lnTo>
                        <a:lnTo>
                          <a:pt x="582" y="666"/>
                        </a:lnTo>
                        <a:lnTo>
                          <a:pt x="556" y="807"/>
                        </a:lnTo>
                        <a:lnTo>
                          <a:pt x="540" y="910"/>
                        </a:lnTo>
                        <a:lnTo>
                          <a:pt x="535" y="958"/>
                        </a:lnTo>
                        <a:lnTo>
                          <a:pt x="540" y="1015"/>
                        </a:lnTo>
                        <a:lnTo>
                          <a:pt x="556" y="1130"/>
                        </a:lnTo>
                        <a:lnTo>
                          <a:pt x="582" y="1265"/>
                        </a:lnTo>
                        <a:lnTo>
                          <a:pt x="614" y="1400"/>
                        </a:lnTo>
                        <a:lnTo>
                          <a:pt x="639" y="1535"/>
                        </a:lnTo>
                        <a:lnTo>
                          <a:pt x="660" y="1666"/>
                        </a:lnTo>
                        <a:lnTo>
                          <a:pt x="660" y="1728"/>
                        </a:lnTo>
                        <a:lnTo>
                          <a:pt x="660" y="1786"/>
                        </a:lnTo>
                        <a:lnTo>
                          <a:pt x="649" y="1837"/>
                        </a:lnTo>
                        <a:lnTo>
                          <a:pt x="639" y="1879"/>
                        </a:lnTo>
                        <a:lnTo>
                          <a:pt x="639" y="1811"/>
                        </a:lnTo>
                        <a:lnTo>
                          <a:pt x="634" y="1734"/>
                        </a:lnTo>
                        <a:lnTo>
                          <a:pt x="629" y="1639"/>
                        </a:lnTo>
                        <a:lnTo>
                          <a:pt x="614" y="1525"/>
                        </a:lnTo>
                        <a:lnTo>
                          <a:pt x="592" y="1400"/>
                        </a:lnTo>
                        <a:lnTo>
                          <a:pt x="561" y="1275"/>
                        </a:lnTo>
                        <a:lnTo>
                          <a:pt x="540" y="1212"/>
                        </a:lnTo>
                        <a:lnTo>
                          <a:pt x="514" y="1150"/>
                        </a:lnTo>
                        <a:lnTo>
                          <a:pt x="462" y="1317"/>
                        </a:lnTo>
                        <a:lnTo>
                          <a:pt x="405" y="1494"/>
                        </a:lnTo>
                        <a:lnTo>
                          <a:pt x="332" y="1702"/>
                        </a:lnTo>
                        <a:lnTo>
                          <a:pt x="249" y="1926"/>
                        </a:lnTo>
                        <a:lnTo>
                          <a:pt x="160" y="2139"/>
                        </a:lnTo>
                        <a:lnTo>
                          <a:pt x="120" y="2233"/>
                        </a:lnTo>
                        <a:lnTo>
                          <a:pt x="78" y="2321"/>
                        </a:lnTo>
                        <a:lnTo>
                          <a:pt x="36" y="2394"/>
                        </a:lnTo>
                        <a:lnTo>
                          <a:pt x="0" y="245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未知"/>
                  <p:cNvSpPr/>
                  <p:nvPr/>
                </p:nvSpPr>
                <p:spPr>
                  <a:xfrm rot="7164000">
                    <a:off x="262440" y="-123840"/>
                    <a:ext cx="5436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557" h="380">
                        <a:moveTo>
                          <a:pt x="0" y="380"/>
                        </a:moveTo>
                        <a:lnTo>
                          <a:pt x="53" y="333"/>
                        </a:lnTo>
                        <a:lnTo>
                          <a:pt x="115" y="287"/>
                        </a:lnTo>
                        <a:lnTo>
                          <a:pt x="188" y="229"/>
                        </a:lnTo>
                        <a:lnTo>
                          <a:pt x="272" y="172"/>
                        </a:lnTo>
                        <a:lnTo>
                          <a:pt x="360" y="125"/>
                        </a:lnTo>
                        <a:lnTo>
                          <a:pt x="407" y="98"/>
                        </a:lnTo>
                        <a:lnTo>
                          <a:pt x="454" y="83"/>
                        </a:lnTo>
                        <a:lnTo>
                          <a:pt x="495" y="68"/>
                        </a:lnTo>
                        <a:lnTo>
                          <a:pt x="536" y="57"/>
                        </a:lnTo>
                        <a:lnTo>
                          <a:pt x="557" y="0"/>
                        </a:lnTo>
                        <a:lnTo>
                          <a:pt x="506" y="21"/>
                        </a:lnTo>
                        <a:lnTo>
                          <a:pt x="442" y="47"/>
                        </a:lnTo>
                        <a:lnTo>
                          <a:pt x="365" y="83"/>
                        </a:lnTo>
                        <a:lnTo>
                          <a:pt x="277" y="135"/>
                        </a:lnTo>
                        <a:lnTo>
                          <a:pt x="183" y="203"/>
                        </a:lnTo>
                        <a:lnTo>
                          <a:pt x="137" y="240"/>
                        </a:lnTo>
                        <a:lnTo>
                          <a:pt x="89" y="281"/>
                        </a:lnTo>
                        <a:lnTo>
                          <a:pt x="42" y="328"/>
                        </a:lnTo>
                        <a:lnTo>
                          <a:pt x="0" y="38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未知"/>
                  <p:cNvSpPr/>
                  <p:nvPr/>
                </p:nvSpPr>
                <p:spPr>
                  <a:xfrm rot="7164000">
                    <a:off x="240840" y="-247320"/>
                    <a:ext cx="2628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635">
                        <a:moveTo>
                          <a:pt x="0" y="635"/>
                        </a:moveTo>
                        <a:lnTo>
                          <a:pt x="41" y="577"/>
                        </a:lnTo>
                        <a:lnTo>
                          <a:pt x="83" y="521"/>
                        </a:lnTo>
                        <a:lnTo>
                          <a:pt x="125" y="447"/>
                        </a:lnTo>
                        <a:lnTo>
                          <a:pt x="166" y="359"/>
                        </a:lnTo>
                        <a:lnTo>
                          <a:pt x="187" y="312"/>
                        </a:lnTo>
                        <a:lnTo>
                          <a:pt x="198" y="260"/>
                        </a:lnTo>
                        <a:lnTo>
                          <a:pt x="208" y="214"/>
                        </a:lnTo>
                        <a:lnTo>
                          <a:pt x="218" y="162"/>
                        </a:lnTo>
                        <a:lnTo>
                          <a:pt x="218" y="115"/>
                        </a:lnTo>
                        <a:lnTo>
                          <a:pt x="208" y="68"/>
                        </a:lnTo>
                        <a:lnTo>
                          <a:pt x="260" y="0"/>
                        </a:lnTo>
                        <a:lnTo>
                          <a:pt x="265" y="57"/>
                        </a:lnTo>
                        <a:lnTo>
                          <a:pt x="260" y="120"/>
                        </a:lnTo>
                        <a:lnTo>
                          <a:pt x="250" y="203"/>
                        </a:lnTo>
                        <a:lnTo>
                          <a:pt x="233" y="255"/>
                        </a:lnTo>
                        <a:lnTo>
                          <a:pt x="218" y="302"/>
                        </a:lnTo>
                        <a:lnTo>
                          <a:pt x="198" y="354"/>
                        </a:lnTo>
                        <a:lnTo>
                          <a:pt x="171" y="412"/>
                        </a:lnTo>
                        <a:lnTo>
                          <a:pt x="140" y="464"/>
                        </a:lnTo>
                        <a:lnTo>
                          <a:pt x="98" y="521"/>
                        </a:lnTo>
                        <a:lnTo>
                          <a:pt x="51" y="577"/>
                        </a:lnTo>
                        <a:lnTo>
                          <a:pt x="0" y="63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未知"/>
                  <p:cNvSpPr/>
                  <p:nvPr/>
                </p:nvSpPr>
                <p:spPr>
                  <a:xfrm rot="7164000">
                    <a:off x="407880" y="-153000"/>
                    <a:ext cx="5760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83" h="130">
                        <a:moveTo>
                          <a:pt x="0" y="104"/>
                        </a:moveTo>
                        <a:lnTo>
                          <a:pt x="62" y="114"/>
                        </a:lnTo>
                        <a:lnTo>
                          <a:pt x="125" y="114"/>
                        </a:lnTo>
                        <a:lnTo>
                          <a:pt x="209" y="114"/>
                        </a:lnTo>
                        <a:lnTo>
                          <a:pt x="297" y="104"/>
                        </a:lnTo>
                        <a:lnTo>
                          <a:pt x="339" y="94"/>
                        </a:lnTo>
                        <a:lnTo>
                          <a:pt x="385" y="84"/>
                        </a:lnTo>
                        <a:lnTo>
                          <a:pt x="427" y="67"/>
                        </a:lnTo>
                        <a:lnTo>
                          <a:pt x="469" y="52"/>
                        </a:lnTo>
                        <a:lnTo>
                          <a:pt x="504" y="26"/>
                        </a:lnTo>
                        <a:lnTo>
                          <a:pt x="536" y="0"/>
                        </a:lnTo>
                        <a:lnTo>
                          <a:pt x="583" y="16"/>
                        </a:lnTo>
                        <a:lnTo>
                          <a:pt x="546" y="42"/>
                        </a:lnTo>
                        <a:lnTo>
                          <a:pt x="499" y="67"/>
                        </a:lnTo>
                        <a:lnTo>
                          <a:pt x="437" y="94"/>
                        </a:lnTo>
                        <a:lnTo>
                          <a:pt x="354" y="114"/>
                        </a:lnTo>
                        <a:lnTo>
                          <a:pt x="307" y="125"/>
                        </a:lnTo>
                        <a:lnTo>
                          <a:pt x="255" y="130"/>
                        </a:lnTo>
                        <a:lnTo>
                          <a:pt x="197" y="130"/>
                        </a:lnTo>
                        <a:lnTo>
                          <a:pt x="135" y="125"/>
                        </a:lnTo>
                        <a:lnTo>
                          <a:pt x="68" y="120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未知"/>
                  <p:cNvSpPr/>
                  <p:nvPr/>
                </p:nvSpPr>
                <p:spPr>
                  <a:xfrm rot="7164000">
                    <a:off x="460440" y="-158400"/>
                    <a:ext cx="352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240">
                        <a:moveTo>
                          <a:pt x="0" y="0"/>
                        </a:moveTo>
                        <a:lnTo>
                          <a:pt x="36" y="21"/>
                        </a:lnTo>
                        <a:lnTo>
                          <a:pt x="124" y="73"/>
                        </a:lnTo>
                        <a:lnTo>
                          <a:pt x="177" y="105"/>
                        </a:lnTo>
                        <a:lnTo>
                          <a:pt x="229" y="146"/>
                        </a:lnTo>
                        <a:lnTo>
                          <a:pt x="276" y="188"/>
                        </a:lnTo>
                        <a:lnTo>
                          <a:pt x="312" y="235"/>
                        </a:lnTo>
                        <a:lnTo>
                          <a:pt x="359" y="240"/>
                        </a:lnTo>
                        <a:lnTo>
                          <a:pt x="338" y="213"/>
                        </a:lnTo>
                        <a:lnTo>
                          <a:pt x="312" y="188"/>
                        </a:lnTo>
                        <a:lnTo>
                          <a:pt x="276" y="151"/>
                        </a:lnTo>
                        <a:lnTo>
                          <a:pt x="224" y="115"/>
                        </a:lnTo>
                        <a:lnTo>
                          <a:pt x="166" y="73"/>
                        </a:lnTo>
                        <a:lnTo>
                          <a:pt x="89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未知"/>
                  <p:cNvSpPr/>
                  <p:nvPr/>
                </p:nvSpPr>
                <p:spPr>
                  <a:xfrm rot="7164000">
                    <a:off x="250560" y="-158760"/>
                    <a:ext cx="11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146">
                        <a:moveTo>
                          <a:pt x="47" y="146"/>
                        </a:moveTo>
                        <a:lnTo>
                          <a:pt x="57" y="146"/>
                        </a:lnTo>
                        <a:lnTo>
                          <a:pt x="93" y="141"/>
                        </a:lnTo>
                        <a:lnTo>
                          <a:pt x="109" y="130"/>
                        </a:lnTo>
                        <a:lnTo>
                          <a:pt x="119" y="120"/>
                        </a:lnTo>
                        <a:lnTo>
                          <a:pt x="124" y="104"/>
                        </a:lnTo>
                        <a:lnTo>
                          <a:pt x="124" y="84"/>
                        </a:lnTo>
                        <a:lnTo>
                          <a:pt x="114" y="57"/>
                        </a:lnTo>
                        <a:lnTo>
                          <a:pt x="104" y="37"/>
                        </a:lnTo>
                        <a:lnTo>
                          <a:pt x="87" y="21"/>
                        </a:lnTo>
                        <a:lnTo>
                          <a:pt x="72" y="5"/>
                        </a:lnTo>
                        <a:lnTo>
                          <a:pt x="57" y="0"/>
                        </a:lnTo>
                        <a:lnTo>
                          <a:pt x="41" y="0"/>
                        </a:lnTo>
                        <a:lnTo>
                          <a:pt x="25" y="11"/>
                        </a:lnTo>
                        <a:lnTo>
                          <a:pt x="10" y="32"/>
                        </a:lnTo>
                        <a:lnTo>
                          <a:pt x="0" y="57"/>
                        </a:lnTo>
                        <a:lnTo>
                          <a:pt x="0" y="79"/>
                        </a:lnTo>
                        <a:lnTo>
                          <a:pt x="5" y="99"/>
                        </a:lnTo>
                        <a:lnTo>
                          <a:pt x="15" y="115"/>
                        </a:lnTo>
                        <a:lnTo>
                          <a:pt x="36" y="141"/>
                        </a:lnTo>
                        <a:lnTo>
                          <a:pt x="47" y="146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未知"/>
                  <p:cNvSpPr/>
                  <p:nvPr/>
                </p:nvSpPr>
                <p:spPr>
                  <a:xfrm rot="7164000">
                    <a:off x="495360" y="-97560"/>
                    <a:ext cx="1008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78">
                        <a:moveTo>
                          <a:pt x="0" y="57"/>
                        </a:moveTo>
                        <a:lnTo>
                          <a:pt x="15" y="62"/>
                        </a:lnTo>
                        <a:lnTo>
                          <a:pt x="46" y="73"/>
                        </a:lnTo>
                        <a:lnTo>
                          <a:pt x="62" y="78"/>
                        </a:lnTo>
                        <a:lnTo>
                          <a:pt x="78" y="78"/>
                        </a:lnTo>
                        <a:lnTo>
                          <a:pt x="93" y="67"/>
                        </a:lnTo>
                        <a:lnTo>
                          <a:pt x="98" y="57"/>
                        </a:lnTo>
                        <a:lnTo>
                          <a:pt x="98" y="41"/>
                        </a:lnTo>
                        <a:lnTo>
                          <a:pt x="88" y="25"/>
                        </a:lnTo>
                        <a:lnTo>
                          <a:pt x="73" y="20"/>
                        </a:lnTo>
                        <a:lnTo>
                          <a:pt x="56" y="10"/>
                        </a:lnTo>
                        <a:lnTo>
                          <a:pt x="15" y="5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未知"/>
                  <p:cNvSpPr/>
                  <p:nvPr/>
                </p:nvSpPr>
                <p:spPr>
                  <a:xfrm rot="7164000">
                    <a:off x="546120" y="-25560"/>
                    <a:ext cx="115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125">
                        <a:moveTo>
                          <a:pt x="0" y="58"/>
                        </a:moveTo>
                        <a:lnTo>
                          <a:pt x="5" y="73"/>
                        </a:lnTo>
                        <a:lnTo>
                          <a:pt x="25" y="105"/>
                        </a:lnTo>
                        <a:lnTo>
                          <a:pt x="42" y="115"/>
                        </a:lnTo>
                        <a:lnTo>
                          <a:pt x="57" y="125"/>
                        </a:lnTo>
                        <a:lnTo>
                          <a:pt x="77" y="125"/>
                        </a:lnTo>
                        <a:lnTo>
                          <a:pt x="98" y="115"/>
                        </a:lnTo>
                        <a:lnTo>
                          <a:pt x="114" y="94"/>
                        </a:lnTo>
                        <a:lnTo>
                          <a:pt x="119" y="78"/>
                        </a:lnTo>
                        <a:lnTo>
                          <a:pt x="119" y="58"/>
                        </a:lnTo>
                        <a:lnTo>
                          <a:pt x="114" y="42"/>
                        </a:lnTo>
                        <a:lnTo>
                          <a:pt x="98" y="26"/>
                        </a:lnTo>
                        <a:lnTo>
                          <a:pt x="82" y="11"/>
                        </a:lnTo>
                        <a:lnTo>
                          <a:pt x="67" y="5"/>
                        </a:lnTo>
                        <a:lnTo>
                          <a:pt x="52" y="0"/>
                        </a:lnTo>
                        <a:lnTo>
                          <a:pt x="35" y="0"/>
                        </a:lnTo>
                        <a:lnTo>
                          <a:pt x="25" y="11"/>
                        </a:lnTo>
                        <a:lnTo>
                          <a:pt x="10" y="31"/>
                        </a:lnTo>
                        <a:lnTo>
                          <a:pt x="0" y="47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未知"/>
                  <p:cNvSpPr/>
                  <p:nvPr/>
                </p:nvSpPr>
                <p:spPr>
                  <a:xfrm rot="7164000">
                    <a:off x="445680" y="-211320"/>
                    <a:ext cx="90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57">
                        <a:moveTo>
                          <a:pt x="21" y="57"/>
                        </a:moveTo>
                        <a:lnTo>
                          <a:pt x="42" y="57"/>
                        </a:lnTo>
                        <a:lnTo>
                          <a:pt x="73" y="52"/>
                        </a:lnTo>
                        <a:lnTo>
                          <a:pt x="83" y="47"/>
                        </a:lnTo>
                        <a:lnTo>
                          <a:pt x="94" y="37"/>
                        </a:lnTo>
                        <a:lnTo>
                          <a:pt x="94" y="26"/>
                        </a:lnTo>
                        <a:lnTo>
                          <a:pt x="78" y="15"/>
                        </a:lnTo>
                        <a:lnTo>
                          <a:pt x="58" y="5"/>
                        </a:lnTo>
                        <a:lnTo>
                          <a:pt x="42" y="0"/>
                        </a:lnTo>
                        <a:lnTo>
                          <a:pt x="26" y="0"/>
                        </a:lnTo>
                        <a:lnTo>
                          <a:pt x="11" y="5"/>
                        </a:lnTo>
                        <a:lnTo>
                          <a:pt x="6" y="15"/>
                        </a:lnTo>
                        <a:lnTo>
                          <a:pt x="0" y="32"/>
                        </a:lnTo>
                        <a:lnTo>
                          <a:pt x="11" y="47"/>
                        </a:lnTo>
                        <a:lnTo>
                          <a:pt x="21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5" name="Group 836"/>
                <p:cNvGrpSpPr/>
                <p:nvPr/>
              </p:nvGrpSpPr>
              <p:grpSpPr>
                <a:xfrm>
                  <a:off x="445680" y="276840"/>
                  <a:ext cx="67320" cy="67680"/>
                  <a:chOff x="445680" y="276840"/>
                  <a:chExt cx="67320" cy="67680"/>
                </a:xfrm>
              </p:grpSpPr>
              <p:sp>
                <p:nvSpPr>
                  <p:cNvPr id="876" name="未知"/>
                  <p:cNvSpPr/>
                  <p:nvPr/>
                </p:nvSpPr>
                <p:spPr>
                  <a:xfrm rot="2799000">
                    <a:off x="451800" y="290160"/>
                    <a:ext cx="543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33" h="417">
                        <a:moveTo>
                          <a:pt x="323" y="417"/>
                        </a:moveTo>
                        <a:lnTo>
                          <a:pt x="281" y="407"/>
                        </a:lnTo>
                        <a:lnTo>
                          <a:pt x="239" y="391"/>
                        </a:lnTo>
                        <a:lnTo>
                          <a:pt x="193" y="375"/>
                        </a:lnTo>
                        <a:lnTo>
                          <a:pt x="146" y="350"/>
                        </a:lnTo>
                        <a:lnTo>
                          <a:pt x="99" y="318"/>
                        </a:lnTo>
                        <a:lnTo>
                          <a:pt x="83" y="302"/>
                        </a:lnTo>
                        <a:lnTo>
                          <a:pt x="68" y="282"/>
                        </a:lnTo>
                        <a:lnTo>
                          <a:pt x="57" y="261"/>
                        </a:lnTo>
                        <a:lnTo>
                          <a:pt x="47" y="240"/>
                        </a:lnTo>
                        <a:lnTo>
                          <a:pt x="26" y="147"/>
                        </a:lnTo>
                        <a:lnTo>
                          <a:pt x="6" y="68"/>
                        </a:lnTo>
                        <a:lnTo>
                          <a:pt x="0" y="37"/>
                        </a:lnTo>
                        <a:lnTo>
                          <a:pt x="0" y="1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21" y="0"/>
                        </a:lnTo>
                        <a:lnTo>
                          <a:pt x="31" y="6"/>
                        </a:lnTo>
                        <a:lnTo>
                          <a:pt x="57" y="11"/>
                        </a:lnTo>
                        <a:lnTo>
                          <a:pt x="83" y="27"/>
                        </a:lnTo>
                        <a:lnTo>
                          <a:pt x="146" y="73"/>
                        </a:lnTo>
                        <a:lnTo>
                          <a:pt x="208" y="125"/>
                        </a:lnTo>
                        <a:lnTo>
                          <a:pt x="271" y="193"/>
                        </a:lnTo>
                        <a:lnTo>
                          <a:pt x="296" y="230"/>
                        </a:lnTo>
                        <a:lnTo>
                          <a:pt x="313" y="261"/>
                        </a:lnTo>
                        <a:lnTo>
                          <a:pt x="323" y="292"/>
                        </a:lnTo>
                        <a:lnTo>
                          <a:pt x="333" y="323"/>
                        </a:lnTo>
                        <a:lnTo>
                          <a:pt x="333" y="350"/>
                        </a:lnTo>
                        <a:lnTo>
                          <a:pt x="333" y="375"/>
                        </a:lnTo>
                        <a:lnTo>
                          <a:pt x="323" y="417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未知"/>
                  <p:cNvSpPr/>
                  <p:nvPr/>
                </p:nvSpPr>
                <p:spPr>
                  <a:xfrm rot="20752800">
                    <a:off x="460800" y="287640"/>
                    <a:ext cx="208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214">
                        <a:moveTo>
                          <a:pt x="0" y="151"/>
                        </a:moveTo>
                        <a:lnTo>
                          <a:pt x="36" y="120"/>
                        </a:lnTo>
                        <a:lnTo>
                          <a:pt x="115" y="57"/>
                        </a:lnTo>
                        <a:lnTo>
                          <a:pt x="156" y="32"/>
                        </a:lnTo>
                        <a:lnTo>
                          <a:pt x="187" y="6"/>
                        </a:lnTo>
                        <a:lnTo>
                          <a:pt x="208" y="0"/>
                        </a:lnTo>
                        <a:lnTo>
                          <a:pt x="213" y="0"/>
                        </a:lnTo>
                        <a:lnTo>
                          <a:pt x="213" y="11"/>
                        </a:lnTo>
                        <a:lnTo>
                          <a:pt x="193" y="69"/>
                        </a:lnTo>
                        <a:lnTo>
                          <a:pt x="162" y="136"/>
                        </a:lnTo>
                        <a:lnTo>
                          <a:pt x="140" y="167"/>
                        </a:lnTo>
                        <a:lnTo>
                          <a:pt x="120" y="187"/>
                        </a:lnTo>
                        <a:lnTo>
                          <a:pt x="98" y="209"/>
                        </a:lnTo>
                        <a:lnTo>
                          <a:pt x="73" y="214"/>
                        </a:lnTo>
                        <a:lnTo>
                          <a:pt x="47" y="209"/>
                        </a:lnTo>
                        <a:lnTo>
                          <a:pt x="31" y="204"/>
                        </a:lnTo>
                        <a:lnTo>
                          <a:pt x="21" y="193"/>
                        </a:lnTo>
                        <a:lnTo>
                          <a:pt x="10" y="182"/>
                        </a:lnTo>
                        <a:lnTo>
                          <a:pt x="0" y="162"/>
                        </a:lnTo>
                        <a:lnTo>
                          <a:pt x="0" y="151"/>
                        </a:lnTo>
                        <a:close/>
                      </a:path>
                    </a:pathLst>
                  </a:cu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8" name="Group 839"/>
              <p:cNvGrpSpPr/>
              <p:nvPr/>
            </p:nvGrpSpPr>
            <p:grpSpPr>
              <a:xfrm>
                <a:off x="448920" y="32040"/>
                <a:ext cx="864000" cy="509400"/>
                <a:chOff x="448920" y="32040"/>
                <a:chExt cx="864000" cy="509400"/>
              </a:xfrm>
            </p:grpSpPr>
            <p:grpSp>
              <p:nvGrpSpPr>
                <p:cNvPr id="879" name="Group 840"/>
                <p:cNvGrpSpPr/>
                <p:nvPr/>
              </p:nvGrpSpPr>
              <p:grpSpPr>
                <a:xfrm>
                  <a:off x="448920" y="32040"/>
                  <a:ext cx="864000" cy="509400"/>
                  <a:chOff x="448920" y="32040"/>
                  <a:chExt cx="864000" cy="509400"/>
                </a:xfrm>
              </p:grpSpPr>
              <p:sp>
                <p:nvSpPr>
                  <p:cNvPr id="880" name="未知"/>
                  <p:cNvSpPr/>
                  <p:nvPr/>
                </p:nvSpPr>
                <p:spPr>
                  <a:xfrm rot="11388000">
                    <a:off x="658800" y="81720"/>
                    <a:ext cx="623520" cy="409320"/>
                  </a:xfrm>
                  <a:custGeom>
                    <a:avLst/>
                    <a:gdLst/>
                    <a:ahLst/>
                    <a:rect l="l" t="t" r="r" b="b"/>
                    <a:pathLst>
                      <a:path w="3962" h="4106">
                        <a:moveTo>
                          <a:pt x="0" y="3065"/>
                        </a:moveTo>
                        <a:lnTo>
                          <a:pt x="47" y="3055"/>
                        </a:lnTo>
                        <a:lnTo>
                          <a:pt x="150" y="3044"/>
                        </a:lnTo>
                        <a:lnTo>
                          <a:pt x="260" y="3034"/>
                        </a:lnTo>
                        <a:lnTo>
                          <a:pt x="302" y="3034"/>
                        </a:lnTo>
                        <a:lnTo>
                          <a:pt x="317" y="3034"/>
                        </a:lnTo>
                        <a:lnTo>
                          <a:pt x="327" y="3039"/>
                        </a:lnTo>
                        <a:lnTo>
                          <a:pt x="281" y="3117"/>
                        </a:lnTo>
                        <a:lnTo>
                          <a:pt x="322" y="3102"/>
                        </a:lnTo>
                        <a:lnTo>
                          <a:pt x="421" y="3065"/>
                        </a:lnTo>
                        <a:lnTo>
                          <a:pt x="474" y="3055"/>
                        </a:lnTo>
                        <a:lnTo>
                          <a:pt x="526" y="3049"/>
                        </a:lnTo>
                        <a:lnTo>
                          <a:pt x="546" y="3049"/>
                        </a:lnTo>
                        <a:lnTo>
                          <a:pt x="562" y="3060"/>
                        </a:lnTo>
                        <a:lnTo>
                          <a:pt x="577" y="3065"/>
                        </a:lnTo>
                        <a:lnTo>
                          <a:pt x="582" y="3080"/>
                        </a:lnTo>
                        <a:lnTo>
                          <a:pt x="536" y="3169"/>
                        </a:lnTo>
                        <a:lnTo>
                          <a:pt x="593" y="3154"/>
                        </a:lnTo>
                        <a:lnTo>
                          <a:pt x="723" y="3127"/>
                        </a:lnTo>
                        <a:lnTo>
                          <a:pt x="796" y="3122"/>
                        </a:lnTo>
                        <a:lnTo>
                          <a:pt x="863" y="3117"/>
                        </a:lnTo>
                        <a:lnTo>
                          <a:pt x="910" y="3117"/>
                        </a:lnTo>
                        <a:lnTo>
                          <a:pt x="926" y="3122"/>
                        </a:lnTo>
                        <a:lnTo>
                          <a:pt x="936" y="3132"/>
                        </a:lnTo>
                        <a:lnTo>
                          <a:pt x="941" y="3159"/>
                        </a:lnTo>
                        <a:lnTo>
                          <a:pt x="936" y="3185"/>
                        </a:lnTo>
                        <a:lnTo>
                          <a:pt x="926" y="3211"/>
                        </a:lnTo>
                        <a:lnTo>
                          <a:pt x="915" y="3242"/>
                        </a:lnTo>
                        <a:lnTo>
                          <a:pt x="884" y="3289"/>
                        </a:lnTo>
                        <a:lnTo>
                          <a:pt x="873" y="3310"/>
                        </a:lnTo>
                        <a:lnTo>
                          <a:pt x="900" y="3294"/>
                        </a:lnTo>
                        <a:lnTo>
                          <a:pt x="936" y="3284"/>
                        </a:lnTo>
                        <a:lnTo>
                          <a:pt x="978" y="3268"/>
                        </a:lnTo>
                        <a:lnTo>
                          <a:pt x="1030" y="3257"/>
                        </a:lnTo>
                        <a:lnTo>
                          <a:pt x="1082" y="3257"/>
                        </a:lnTo>
                        <a:lnTo>
                          <a:pt x="1133" y="3262"/>
                        </a:lnTo>
                        <a:lnTo>
                          <a:pt x="1160" y="3268"/>
                        </a:lnTo>
                        <a:lnTo>
                          <a:pt x="1185" y="3279"/>
                        </a:lnTo>
                        <a:lnTo>
                          <a:pt x="1191" y="3299"/>
                        </a:lnTo>
                        <a:lnTo>
                          <a:pt x="1201" y="3341"/>
                        </a:lnTo>
                        <a:lnTo>
                          <a:pt x="1196" y="3367"/>
                        </a:lnTo>
                        <a:lnTo>
                          <a:pt x="1196" y="3387"/>
                        </a:lnTo>
                        <a:lnTo>
                          <a:pt x="1180" y="3404"/>
                        </a:lnTo>
                        <a:lnTo>
                          <a:pt x="1175" y="3409"/>
                        </a:lnTo>
                        <a:lnTo>
                          <a:pt x="1165" y="3414"/>
                        </a:lnTo>
                        <a:lnTo>
                          <a:pt x="1155" y="3409"/>
                        </a:lnTo>
                        <a:lnTo>
                          <a:pt x="1165" y="3404"/>
                        </a:lnTo>
                        <a:lnTo>
                          <a:pt x="1191" y="3392"/>
                        </a:lnTo>
                        <a:lnTo>
                          <a:pt x="1227" y="3382"/>
                        </a:lnTo>
                        <a:lnTo>
                          <a:pt x="1269" y="3377"/>
                        </a:lnTo>
                        <a:lnTo>
                          <a:pt x="1305" y="3382"/>
                        </a:lnTo>
                        <a:lnTo>
                          <a:pt x="1320" y="3387"/>
                        </a:lnTo>
                        <a:lnTo>
                          <a:pt x="1337" y="3392"/>
                        </a:lnTo>
                        <a:lnTo>
                          <a:pt x="1347" y="3404"/>
                        </a:lnTo>
                        <a:lnTo>
                          <a:pt x="1357" y="3419"/>
                        </a:lnTo>
                        <a:lnTo>
                          <a:pt x="1357" y="3450"/>
                        </a:lnTo>
                        <a:lnTo>
                          <a:pt x="1352" y="3487"/>
                        </a:lnTo>
                        <a:lnTo>
                          <a:pt x="1342" y="3517"/>
                        </a:lnTo>
                        <a:lnTo>
                          <a:pt x="1326" y="3544"/>
                        </a:lnTo>
                        <a:lnTo>
                          <a:pt x="1290" y="3591"/>
                        </a:lnTo>
                        <a:lnTo>
                          <a:pt x="1274" y="3612"/>
                        </a:lnTo>
                        <a:lnTo>
                          <a:pt x="1315" y="3596"/>
                        </a:lnTo>
                        <a:lnTo>
                          <a:pt x="1409" y="3570"/>
                        </a:lnTo>
                        <a:lnTo>
                          <a:pt x="1456" y="3559"/>
                        </a:lnTo>
                        <a:lnTo>
                          <a:pt x="1503" y="3549"/>
                        </a:lnTo>
                        <a:lnTo>
                          <a:pt x="1534" y="3549"/>
                        </a:lnTo>
                        <a:lnTo>
                          <a:pt x="1550" y="3554"/>
                        </a:lnTo>
                        <a:lnTo>
                          <a:pt x="1555" y="3559"/>
                        </a:lnTo>
                        <a:lnTo>
                          <a:pt x="1560" y="3570"/>
                        </a:lnTo>
                        <a:lnTo>
                          <a:pt x="1560" y="3586"/>
                        </a:lnTo>
                        <a:lnTo>
                          <a:pt x="1555" y="3606"/>
                        </a:lnTo>
                        <a:lnTo>
                          <a:pt x="1550" y="3617"/>
                        </a:lnTo>
                        <a:lnTo>
                          <a:pt x="1544" y="3622"/>
                        </a:lnTo>
                        <a:lnTo>
                          <a:pt x="1565" y="3612"/>
                        </a:lnTo>
                        <a:lnTo>
                          <a:pt x="1622" y="3581"/>
                        </a:lnTo>
                        <a:lnTo>
                          <a:pt x="1659" y="3570"/>
                        </a:lnTo>
                        <a:lnTo>
                          <a:pt x="1695" y="3559"/>
                        </a:lnTo>
                        <a:lnTo>
                          <a:pt x="1737" y="3559"/>
                        </a:lnTo>
                        <a:lnTo>
                          <a:pt x="1779" y="3564"/>
                        </a:lnTo>
                        <a:lnTo>
                          <a:pt x="1799" y="3575"/>
                        </a:lnTo>
                        <a:lnTo>
                          <a:pt x="1814" y="3586"/>
                        </a:lnTo>
                        <a:lnTo>
                          <a:pt x="1856" y="3622"/>
                        </a:lnTo>
                        <a:lnTo>
                          <a:pt x="1898" y="3669"/>
                        </a:lnTo>
                        <a:lnTo>
                          <a:pt x="1929" y="3731"/>
                        </a:lnTo>
                        <a:lnTo>
                          <a:pt x="1951" y="3794"/>
                        </a:lnTo>
                        <a:lnTo>
                          <a:pt x="1956" y="3824"/>
                        </a:lnTo>
                        <a:lnTo>
                          <a:pt x="1961" y="3861"/>
                        </a:lnTo>
                        <a:lnTo>
                          <a:pt x="1956" y="3893"/>
                        </a:lnTo>
                        <a:lnTo>
                          <a:pt x="1951" y="3929"/>
                        </a:lnTo>
                        <a:lnTo>
                          <a:pt x="1939" y="3961"/>
                        </a:lnTo>
                        <a:lnTo>
                          <a:pt x="1924" y="3991"/>
                        </a:lnTo>
                        <a:lnTo>
                          <a:pt x="2116" y="3893"/>
                        </a:lnTo>
                        <a:lnTo>
                          <a:pt x="2106" y="3971"/>
                        </a:lnTo>
                        <a:lnTo>
                          <a:pt x="2132" y="3949"/>
                        </a:lnTo>
                        <a:lnTo>
                          <a:pt x="2189" y="3903"/>
                        </a:lnTo>
                        <a:lnTo>
                          <a:pt x="2226" y="3882"/>
                        </a:lnTo>
                        <a:lnTo>
                          <a:pt x="2257" y="3866"/>
                        </a:lnTo>
                        <a:lnTo>
                          <a:pt x="2268" y="3866"/>
                        </a:lnTo>
                        <a:lnTo>
                          <a:pt x="2283" y="3866"/>
                        </a:lnTo>
                        <a:lnTo>
                          <a:pt x="2293" y="3872"/>
                        </a:lnTo>
                        <a:lnTo>
                          <a:pt x="2303" y="3882"/>
                        </a:lnTo>
                        <a:lnTo>
                          <a:pt x="2314" y="3903"/>
                        </a:lnTo>
                        <a:lnTo>
                          <a:pt x="2314" y="3919"/>
                        </a:lnTo>
                        <a:lnTo>
                          <a:pt x="2308" y="3929"/>
                        </a:lnTo>
                        <a:lnTo>
                          <a:pt x="2298" y="3934"/>
                        </a:lnTo>
                        <a:lnTo>
                          <a:pt x="2278" y="3944"/>
                        </a:lnTo>
                        <a:lnTo>
                          <a:pt x="2268" y="3944"/>
                        </a:lnTo>
                        <a:lnTo>
                          <a:pt x="2548" y="3789"/>
                        </a:lnTo>
                        <a:lnTo>
                          <a:pt x="2574" y="3914"/>
                        </a:lnTo>
                        <a:lnTo>
                          <a:pt x="2595" y="3887"/>
                        </a:lnTo>
                        <a:lnTo>
                          <a:pt x="2620" y="3861"/>
                        </a:lnTo>
                        <a:lnTo>
                          <a:pt x="2652" y="3836"/>
                        </a:lnTo>
                        <a:lnTo>
                          <a:pt x="2688" y="3809"/>
                        </a:lnTo>
                        <a:lnTo>
                          <a:pt x="2709" y="3804"/>
                        </a:lnTo>
                        <a:lnTo>
                          <a:pt x="2725" y="3799"/>
                        </a:lnTo>
                        <a:lnTo>
                          <a:pt x="2745" y="3799"/>
                        </a:lnTo>
                        <a:lnTo>
                          <a:pt x="2767" y="3804"/>
                        </a:lnTo>
                        <a:lnTo>
                          <a:pt x="2782" y="3809"/>
                        </a:lnTo>
                        <a:lnTo>
                          <a:pt x="2803" y="3824"/>
                        </a:lnTo>
                        <a:lnTo>
                          <a:pt x="2814" y="3846"/>
                        </a:lnTo>
                        <a:lnTo>
                          <a:pt x="2829" y="3866"/>
                        </a:lnTo>
                        <a:lnTo>
                          <a:pt x="2844" y="3914"/>
                        </a:lnTo>
                        <a:lnTo>
                          <a:pt x="2850" y="3961"/>
                        </a:lnTo>
                        <a:lnTo>
                          <a:pt x="2844" y="4002"/>
                        </a:lnTo>
                        <a:lnTo>
                          <a:pt x="2839" y="4044"/>
                        </a:lnTo>
                        <a:lnTo>
                          <a:pt x="2829" y="4075"/>
                        </a:lnTo>
                        <a:lnTo>
                          <a:pt x="2819" y="4106"/>
                        </a:lnTo>
                        <a:lnTo>
                          <a:pt x="3074" y="3903"/>
                        </a:lnTo>
                        <a:lnTo>
                          <a:pt x="3099" y="3991"/>
                        </a:lnTo>
                        <a:lnTo>
                          <a:pt x="3286" y="3726"/>
                        </a:lnTo>
                        <a:lnTo>
                          <a:pt x="3307" y="3804"/>
                        </a:lnTo>
                        <a:lnTo>
                          <a:pt x="3338" y="3757"/>
                        </a:lnTo>
                        <a:lnTo>
                          <a:pt x="3411" y="3654"/>
                        </a:lnTo>
                        <a:lnTo>
                          <a:pt x="3453" y="3591"/>
                        </a:lnTo>
                        <a:lnTo>
                          <a:pt x="3489" y="3523"/>
                        </a:lnTo>
                        <a:lnTo>
                          <a:pt x="3521" y="3466"/>
                        </a:lnTo>
                        <a:lnTo>
                          <a:pt x="3541" y="3419"/>
                        </a:lnTo>
                        <a:lnTo>
                          <a:pt x="3551" y="3529"/>
                        </a:lnTo>
                        <a:lnTo>
                          <a:pt x="3562" y="3507"/>
                        </a:lnTo>
                        <a:lnTo>
                          <a:pt x="3593" y="3455"/>
                        </a:lnTo>
                        <a:lnTo>
                          <a:pt x="3635" y="3372"/>
                        </a:lnTo>
                        <a:lnTo>
                          <a:pt x="3650" y="3325"/>
                        </a:lnTo>
                        <a:lnTo>
                          <a:pt x="3666" y="3274"/>
                        </a:lnTo>
                        <a:lnTo>
                          <a:pt x="3692" y="3180"/>
                        </a:lnTo>
                        <a:lnTo>
                          <a:pt x="3723" y="3102"/>
                        </a:lnTo>
                        <a:lnTo>
                          <a:pt x="3760" y="3023"/>
                        </a:lnTo>
                        <a:lnTo>
                          <a:pt x="3807" y="3117"/>
                        </a:lnTo>
                        <a:lnTo>
                          <a:pt x="3832" y="3080"/>
                        </a:lnTo>
                        <a:lnTo>
                          <a:pt x="3858" y="3039"/>
                        </a:lnTo>
                        <a:lnTo>
                          <a:pt x="3890" y="2977"/>
                        </a:lnTo>
                        <a:lnTo>
                          <a:pt x="3920" y="2898"/>
                        </a:lnTo>
                        <a:lnTo>
                          <a:pt x="3947" y="2805"/>
                        </a:lnTo>
                        <a:lnTo>
                          <a:pt x="3952" y="2753"/>
                        </a:lnTo>
                        <a:lnTo>
                          <a:pt x="3957" y="2695"/>
                        </a:lnTo>
                        <a:lnTo>
                          <a:pt x="3962" y="2633"/>
                        </a:lnTo>
                        <a:lnTo>
                          <a:pt x="3957" y="2565"/>
                        </a:lnTo>
                        <a:lnTo>
                          <a:pt x="3942" y="2410"/>
                        </a:lnTo>
                        <a:lnTo>
                          <a:pt x="3915" y="2222"/>
                        </a:lnTo>
                        <a:lnTo>
                          <a:pt x="3885" y="2019"/>
                        </a:lnTo>
                        <a:lnTo>
                          <a:pt x="3853" y="1821"/>
                        </a:lnTo>
                        <a:lnTo>
                          <a:pt x="3791" y="1483"/>
                        </a:lnTo>
                        <a:lnTo>
                          <a:pt x="3760" y="1342"/>
                        </a:lnTo>
                        <a:lnTo>
                          <a:pt x="3728" y="1327"/>
                        </a:lnTo>
                        <a:lnTo>
                          <a:pt x="3692" y="1306"/>
                        </a:lnTo>
                        <a:lnTo>
                          <a:pt x="3640" y="1269"/>
                        </a:lnTo>
                        <a:lnTo>
                          <a:pt x="3583" y="1227"/>
                        </a:lnTo>
                        <a:lnTo>
                          <a:pt x="3521" y="1165"/>
                        </a:lnTo>
                        <a:lnTo>
                          <a:pt x="3448" y="1092"/>
                        </a:lnTo>
                        <a:lnTo>
                          <a:pt x="3375" y="1004"/>
                        </a:lnTo>
                        <a:lnTo>
                          <a:pt x="3209" y="770"/>
                        </a:lnTo>
                        <a:lnTo>
                          <a:pt x="3109" y="629"/>
                        </a:lnTo>
                        <a:lnTo>
                          <a:pt x="3001" y="488"/>
                        </a:lnTo>
                        <a:lnTo>
                          <a:pt x="2881" y="348"/>
                        </a:lnTo>
                        <a:lnTo>
                          <a:pt x="2824" y="285"/>
                        </a:lnTo>
                        <a:lnTo>
                          <a:pt x="2762" y="223"/>
                        </a:lnTo>
                        <a:lnTo>
                          <a:pt x="2699" y="166"/>
                        </a:lnTo>
                        <a:lnTo>
                          <a:pt x="2632" y="120"/>
                        </a:lnTo>
                        <a:lnTo>
                          <a:pt x="2569" y="72"/>
                        </a:lnTo>
                        <a:lnTo>
                          <a:pt x="2501" y="36"/>
                        </a:lnTo>
                        <a:lnTo>
                          <a:pt x="2532" y="113"/>
                        </a:lnTo>
                        <a:lnTo>
                          <a:pt x="2485" y="88"/>
                        </a:lnTo>
                        <a:lnTo>
                          <a:pt x="2433" y="67"/>
                        </a:lnTo>
                        <a:lnTo>
                          <a:pt x="2371" y="46"/>
                        </a:lnTo>
                        <a:lnTo>
                          <a:pt x="2298" y="20"/>
                        </a:lnTo>
                        <a:lnTo>
                          <a:pt x="2221" y="5"/>
                        </a:lnTo>
                        <a:lnTo>
                          <a:pt x="2148" y="0"/>
                        </a:lnTo>
                        <a:lnTo>
                          <a:pt x="2116" y="0"/>
                        </a:lnTo>
                        <a:lnTo>
                          <a:pt x="2080" y="5"/>
                        </a:lnTo>
                        <a:lnTo>
                          <a:pt x="2184" y="108"/>
                        </a:lnTo>
                        <a:lnTo>
                          <a:pt x="2002" y="93"/>
                        </a:lnTo>
                        <a:lnTo>
                          <a:pt x="1841" y="88"/>
                        </a:lnTo>
                        <a:lnTo>
                          <a:pt x="1768" y="88"/>
                        </a:lnTo>
                        <a:lnTo>
                          <a:pt x="1711" y="98"/>
                        </a:lnTo>
                        <a:lnTo>
                          <a:pt x="1804" y="140"/>
                        </a:lnTo>
                        <a:lnTo>
                          <a:pt x="1679" y="140"/>
                        </a:lnTo>
                        <a:lnTo>
                          <a:pt x="1565" y="150"/>
                        </a:lnTo>
                        <a:lnTo>
                          <a:pt x="1513" y="155"/>
                        </a:lnTo>
                        <a:lnTo>
                          <a:pt x="1467" y="166"/>
                        </a:lnTo>
                        <a:lnTo>
                          <a:pt x="1503" y="250"/>
                        </a:lnTo>
                        <a:lnTo>
                          <a:pt x="1373" y="260"/>
                        </a:lnTo>
                        <a:lnTo>
                          <a:pt x="1258" y="270"/>
                        </a:lnTo>
                        <a:lnTo>
                          <a:pt x="1201" y="280"/>
                        </a:lnTo>
                        <a:lnTo>
                          <a:pt x="1150" y="296"/>
                        </a:lnTo>
                        <a:lnTo>
                          <a:pt x="1232" y="353"/>
                        </a:lnTo>
                        <a:lnTo>
                          <a:pt x="1248" y="369"/>
                        </a:lnTo>
                        <a:lnTo>
                          <a:pt x="1263" y="390"/>
                        </a:lnTo>
                        <a:lnTo>
                          <a:pt x="1285" y="415"/>
                        </a:lnTo>
                        <a:lnTo>
                          <a:pt x="1300" y="452"/>
                        </a:lnTo>
                        <a:lnTo>
                          <a:pt x="1310" y="488"/>
                        </a:lnTo>
                        <a:lnTo>
                          <a:pt x="1310" y="535"/>
                        </a:lnTo>
                        <a:lnTo>
                          <a:pt x="1305" y="562"/>
                        </a:lnTo>
                        <a:lnTo>
                          <a:pt x="1300" y="587"/>
                        </a:lnTo>
                        <a:lnTo>
                          <a:pt x="1180" y="577"/>
                        </a:lnTo>
                        <a:lnTo>
                          <a:pt x="1269" y="645"/>
                        </a:lnTo>
                        <a:lnTo>
                          <a:pt x="1332" y="697"/>
                        </a:lnTo>
                        <a:lnTo>
                          <a:pt x="1357" y="723"/>
                        </a:lnTo>
                        <a:lnTo>
                          <a:pt x="1368" y="744"/>
                        </a:lnTo>
                        <a:lnTo>
                          <a:pt x="1368" y="754"/>
                        </a:lnTo>
                        <a:lnTo>
                          <a:pt x="1368" y="759"/>
                        </a:lnTo>
                        <a:lnTo>
                          <a:pt x="1352" y="764"/>
                        </a:lnTo>
                        <a:lnTo>
                          <a:pt x="1332" y="770"/>
                        </a:lnTo>
                        <a:lnTo>
                          <a:pt x="1305" y="764"/>
                        </a:lnTo>
                        <a:lnTo>
                          <a:pt x="1258" y="759"/>
                        </a:lnTo>
                        <a:lnTo>
                          <a:pt x="1232" y="754"/>
                        </a:lnTo>
                        <a:lnTo>
                          <a:pt x="1285" y="884"/>
                        </a:lnTo>
                        <a:lnTo>
                          <a:pt x="1160" y="894"/>
                        </a:lnTo>
                        <a:lnTo>
                          <a:pt x="1056" y="910"/>
                        </a:lnTo>
                        <a:lnTo>
                          <a:pt x="968" y="926"/>
                        </a:lnTo>
                        <a:lnTo>
                          <a:pt x="983" y="931"/>
                        </a:lnTo>
                        <a:lnTo>
                          <a:pt x="1019" y="952"/>
                        </a:lnTo>
                        <a:lnTo>
                          <a:pt x="1035" y="962"/>
                        </a:lnTo>
                        <a:lnTo>
                          <a:pt x="1050" y="977"/>
                        </a:lnTo>
                        <a:lnTo>
                          <a:pt x="1061" y="994"/>
                        </a:lnTo>
                        <a:lnTo>
                          <a:pt x="1071" y="1014"/>
                        </a:lnTo>
                        <a:lnTo>
                          <a:pt x="1066" y="1019"/>
                        </a:lnTo>
                        <a:lnTo>
                          <a:pt x="1061" y="1030"/>
                        </a:lnTo>
                        <a:lnTo>
                          <a:pt x="1035" y="1040"/>
                        </a:lnTo>
                        <a:lnTo>
                          <a:pt x="998" y="1051"/>
                        </a:lnTo>
                        <a:lnTo>
                          <a:pt x="951" y="1061"/>
                        </a:lnTo>
                        <a:lnTo>
                          <a:pt x="873" y="1072"/>
                        </a:lnTo>
                        <a:lnTo>
                          <a:pt x="838" y="1072"/>
                        </a:lnTo>
                        <a:lnTo>
                          <a:pt x="926" y="1139"/>
                        </a:lnTo>
                        <a:lnTo>
                          <a:pt x="936" y="1155"/>
                        </a:lnTo>
                        <a:lnTo>
                          <a:pt x="941" y="1171"/>
                        </a:lnTo>
                        <a:lnTo>
                          <a:pt x="941" y="1197"/>
                        </a:lnTo>
                        <a:lnTo>
                          <a:pt x="941" y="1222"/>
                        </a:lnTo>
                        <a:lnTo>
                          <a:pt x="926" y="1249"/>
                        </a:lnTo>
                        <a:lnTo>
                          <a:pt x="900" y="1279"/>
                        </a:lnTo>
                        <a:lnTo>
                          <a:pt x="863" y="1306"/>
                        </a:lnTo>
                        <a:lnTo>
                          <a:pt x="879" y="1311"/>
                        </a:lnTo>
                        <a:lnTo>
                          <a:pt x="894" y="1316"/>
                        </a:lnTo>
                        <a:lnTo>
                          <a:pt x="915" y="1327"/>
                        </a:lnTo>
                        <a:lnTo>
                          <a:pt x="931" y="1337"/>
                        </a:lnTo>
                        <a:lnTo>
                          <a:pt x="941" y="1358"/>
                        </a:lnTo>
                        <a:lnTo>
                          <a:pt x="941" y="1379"/>
                        </a:lnTo>
                        <a:lnTo>
                          <a:pt x="936" y="1409"/>
                        </a:lnTo>
                        <a:lnTo>
                          <a:pt x="921" y="1436"/>
                        </a:lnTo>
                        <a:lnTo>
                          <a:pt x="900" y="1462"/>
                        </a:lnTo>
                        <a:lnTo>
                          <a:pt x="879" y="1477"/>
                        </a:lnTo>
                        <a:lnTo>
                          <a:pt x="858" y="1488"/>
                        </a:lnTo>
                        <a:lnTo>
                          <a:pt x="821" y="1499"/>
                        </a:lnTo>
                        <a:lnTo>
                          <a:pt x="806" y="1499"/>
                        </a:lnTo>
                        <a:lnTo>
                          <a:pt x="821" y="1509"/>
                        </a:lnTo>
                        <a:lnTo>
                          <a:pt x="858" y="1524"/>
                        </a:lnTo>
                        <a:lnTo>
                          <a:pt x="873" y="1539"/>
                        </a:lnTo>
                        <a:lnTo>
                          <a:pt x="889" y="1556"/>
                        </a:lnTo>
                        <a:lnTo>
                          <a:pt x="894" y="1571"/>
                        </a:lnTo>
                        <a:lnTo>
                          <a:pt x="884" y="1592"/>
                        </a:lnTo>
                        <a:lnTo>
                          <a:pt x="868" y="1613"/>
                        </a:lnTo>
                        <a:lnTo>
                          <a:pt x="838" y="1623"/>
                        </a:lnTo>
                        <a:lnTo>
                          <a:pt x="806" y="1639"/>
                        </a:lnTo>
                        <a:lnTo>
                          <a:pt x="769" y="1649"/>
                        </a:lnTo>
                        <a:lnTo>
                          <a:pt x="713" y="1659"/>
                        </a:lnTo>
                        <a:lnTo>
                          <a:pt x="686" y="1664"/>
                        </a:lnTo>
                        <a:lnTo>
                          <a:pt x="702" y="1676"/>
                        </a:lnTo>
                        <a:lnTo>
                          <a:pt x="738" y="1701"/>
                        </a:lnTo>
                        <a:lnTo>
                          <a:pt x="754" y="1717"/>
                        </a:lnTo>
                        <a:lnTo>
                          <a:pt x="759" y="1728"/>
                        </a:lnTo>
                        <a:lnTo>
                          <a:pt x="759" y="1738"/>
                        </a:lnTo>
                        <a:lnTo>
                          <a:pt x="754" y="1743"/>
                        </a:lnTo>
                        <a:lnTo>
                          <a:pt x="733" y="1753"/>
                        </a:lnTo>
                        <a:lnTo>
                          <a:pt x="666" y="1779"/>
                        </a:lnTo>
                        <a:lnTo>
                          <a:pt x="588" y="1806"/>
                        </a:lnTo>
                        <a:lnTo>
                          <a:pt x="499" y="1847"/>
                        </a:lnTo>
                        <a:lnTo>
                          <a:pt x="531" y="1847"/>
                        </a:lnTo>
                        <a:lnTo>
                          <a:pt x="593" y="1858"/>
                        </a:lnTo>
                        <a:lnTo>
                          <a:pt x="629" y="1868"/>
                        </a:lnTo>
                        <a:lnTo>
                          <a:pt x="666" y="1883"/>
                        </a:lnTo>
                        <a:lnTo>
                          <a:pt x="691" y="1904"/>
                        </a:lnTo>
                        <a:lnTo>
                          <a:pt x="697" y="1915"/>
                        </a:lnTo>
                        <a:lnTo>
                          <a:pt x="702" y="1931"/>
                        </a:lnTo>
                        <a:lnTo>
                          <a:pt x="702" y="1961"/>
                        </a:lnTo>
                        <a:lnTo>
                          <a:pt x="691" y="1993"/>
                        </a:lnTo>
                        <a:lnTo>
                          <a:pt x="676" y="2024"/>
                        </a:lnTo>
                        <a:lnTo>
                          <a:pt x="656" y="2055"/>
                        </a:lnTo>
                        <a:lnTo>
                          <a:pt x="629" y="2081"/>
                        </a:lnTo>
                        <a:lnTo>
                          <a:pt x="609" y="2103"/>
                        </a:lnTo>
                        <a:lnTo>
                          <a:pt x="582" y="2123"/>
                        </a:lnTo>
                        <a:lnTo>
                          <a:pt x="562" y="2128"/>
                        </a:lnTo>
                        <a:lnTo>
                          <a:pt x="551" y="2133"/>
                        </a:lnTo>
                        <a:lnTo>
                          <a:pt x="551" y="2138"/>
                        </a:lnTo>
                        <a:lnTo>
                          <a:pt x="582" y="2149"/>
                        </a:lnTo>
                        <a:lnTo>
                          <a:pt x="598" y="2154"/>
                        </a:lnTo>
                        <a:lnTo>
                          <a:pt x="619" y="2165"/>
                        </a:lnTo>
                        <a:lnTo>
                          <a:pt x="629" y="2175"/>
                        </a:lnTo>
                        <a:lnTo>
                          <a:pt x="634" y="2191"/>
                        </a:lnTo>
                        <a:lnTo>
                          <a:pt x="624" y="2211"/>
                        </a:lnTo>
                        <a:lnTo>
                          <a:pt x="614" y="2233"/>
                        </a:lnTo>
                        <a:lnTo>
                          <a:pt x="593" y="2248"/>
                        </a:lnTo>
                        <a:lnTo>
                          <a:pt x="567" y="2263"/>
                        </a:lnTo>
                        <a:lnTo>
                          <a:pt x="526" y="2285"/>
                        </a:lnTo>
                        <a:lnTo>
                          <a:pt x="504" y="2295"/>
                        </a:lnTo>
                        <a:lnTo>
                          <a:pt x="531" y="2295"/>
                        </a:lnTo>
                        <a:lnTo>
                          <a:pt x="582" y="2305"/>
                        </a:lnTo>
                        <a:lnTo>
                          <a:pt x="603" y="2315"/>
                        </a:lnTo>
                        <a:lnTo>
                          <a:pt x="624" y="2326"/>
                        </a:lnTo>
                        <a:lnTo>
                          <a:pt x="629" y="2336"/>
                        </a:lnTo>
                        <a:lnTo>
                          <a:pt x="629" y="2341"/>
                        </a:lnTo>
                        <a:lnTo>
                          <a:pt x="629" y="2352"/>
                        </a:lnTo>
                        <a:lnTo>
                          <a:pt x="624" y="2363"/>
                        </a:lnTo>
                        <a:lnTo>
                          <a:pt x="603" y="2388"/>
                        </a:lnTo>
                        <a:lnTo>
                          <a:pt x="577" y="2398"/>
                        </a:lnTo>
                        <a:lnTo>
                          <a:pt x="556" y="2410"/>
                        </a:lnTo>
                        <a:lnTo>
                          <a:pt x="531" y="2420"/>
                        </a:lnTo>
                        <a:lnTo>
                          <a:pt x="489" y="2420"/>
                        </a:lnTo>
                        <a:lnTo>
                          <a:pt x="468" y="2420"/>
                        </a:lnTo>
                        <a:lnTo>
                          <a:pt x="484" y="2425"/>
                        </a:lnTo>
                        <a:lnTo>
                          <a:pt x="514" y="2430"/>
                        </a:lnTo>
                        <a:lnTo>
                          <a:pt x="526" y="2440"/>
                        </a:lnTo>
                        <a:lnTo>
                          <a:pt x="536" y="2451"/>
                        </a:lnTo>
                        <a:lnTo>
                          <a:pt x="536" y="2461"/>
                        </a:lnTo>
                        <a:lnTo>
                          <a:pt x="531" y="2477"/>
                        </a:lnTo>
                        <a:lnTo>
                          <a:pt x="509" y="2498"/>
                        </a:lnTo>
                        <a:lnTo>
                          <a:pt x="479" y="2518"/>
                        </a:lnTo>
                        <a:lnTo>
                          <a:pt x="400" y="2565"/>
                        </a:lnTo>
                        <a:lnTo>
                          <a:pt x="297" y="2617"/>
                        </a:lnTo>
                        <a:lnTo>
                          <a:pt x="317" y="2623"/>
                        </a:lnTo>
                        <a:lnTo>
                          <a:pt x="364" y="2633"/>
                        </a:lnTo>
                        <a:lnTo>
                          <a:pt x="379" y="2643"/>
                        </a:lnTo>
                        <a:lnTo>
                          <a:pt x="390" y="2654"/>
                        </a:lnTo>
                        <a:lnTo>
                          <a:pt x="395" y="2659"/>
                        </a:lnTo>
                        <a:lnTo>
                          <a:pt x="395" y="2665"/>
                        </a:lnTo>
                        <a:lnTo>
                          <a:pt x="379" y="2680"/>
                        </a:lnTo>
                        <a:lnTo>
                          <a:pt x="317" y="2711"/>
                        </a:lnTo>
                        <a:lnTo>
                          <a:pt x="250" y="2737"/>
                        </a:lnTo>
                        <a:lnTo>
                          <a:pt x="162" y="2763"/>
                        </a:lnTo>
                        <a:lnTo>
                          <a:pt x="182" y="2779"/>
                        </a:lnTo>
                        <a:lnTo>
                          <a:pt x="213" y="2810"/>
                        </a:lnTo>
                        <a:lnTo>
                          <a:pt x="229" y="2825"/>
                        </a:lnTo>
                        <a:lnTo>
                          <a:pt x="234" y="2847"/>
                        </a:lnTo>
                        <a:lnTo>
                          <a:pt x="234" y="2852"/>
                        </a:lnTo>
                        <a:lnTo>
                          <a:pt x="234" y="2862"/>
                        </a:lnTo>
                        <a:lnTo>
                          <a:pt x="229" y="2867"/>
                        </a:lnTo>
                        <a:lnTo>
                          <a:pt x="219" y="2872"/>
                        </a:lnTo>
                        <a:lnTo>
                          <a:pt x="187" y="2893"/>
                        </a:lnTo>
                        <a:lnTo>
                          <a:pt x="156" y="2919"/>
                        </a:lnTo>
                        <a:lnTo>
                          <a:pt x="83" y="2982"/>
                        </a:lnTo>
                        <a:lnTo>
                          <a:pt x="0" y="3065"/>
                        </a:lnTo>
                        <a:close/>
                      </a:path>
                    </a:pathLst>
                  </a:cu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未知"/>
                  <p:cNvSpPr/>
                  <p:nvPr/>
                </p:nvSpPr>
                <p:spPr>
                  <a:xfrm rot="11388000">
                    <a:off x="678600" y="200160"/>
                    <a:ext cx="52848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4" h="1941">
                        <a:moveTo>
                          <a:pt x="0" y="1941"/>
                        </a:moveTo>
                        <a:lnTo>
                          <a:pt x="141" y="1936"/>
                        </a:lnTo>
                        <a:lnTo>
                          <a:pt x="463" y="1916"/>
                        </a:lnTo>
                        <a:lnTo>
                          <a:pt x="655" y="1899"/>
                        </a:lnTo>
                        <a:lnTo>
                          <a:pt x="842" y="1874"/>
                        </a:lnTo>
                        <a:lnTo>
                          <a:pt x="1014" y="1848"/>
                        </a:lnTo>
                        <a:lnTo>
                          <a:pt x="1087" y="1837"/>
                        </a:lnTo>
                        <a:lnTo>
                          <a:pt x="1149" y="1822"/>
                        </a:lnTo>
                        <a:lnTo>
                          <a:pt x="1311" y="1775"/>
                        </a:lnTo>
                        <a:lnTo>
                          <a:pt x="1550" y="1717"/>
                        </a:lnTo>
                        <a:lnTo>
                          <a:pt x="1846" y="1644"/>
                        </a:lnTo>
                        <a:lnTo>
                          <a:pt x="2179" y="1551"/>
                        </a:lnTo>
                        <a:lnTo>
                          <a:pt x="2346" y="1499"/>
                        </a:lnTo>
                        <a:lnTo>
                          <a:pt x="2517" y="1442"/>
                        </a:lnTo>
                        <a:lnTo>
                          <a:pt x="2683" y="1379"/>
                        </a:lnTo>
                        <a:lnTo>
                          <a:pt x="2845" y="1312"/>
                        </a:lnTo>
                        <a:lnTo>
                          <a:pt x="2995" y="1244"/>
                        </a:lnTo>
                        <a:lnTo>
                          <a:pt x="3135" y="1172"/>
                        </a:lnTo>
                        <a:lnTo>
                          <a:pt x="3260" y="1093"/>
                        </a:lnTo>
                        <a:lnTo>
                          <a:pt x="3317" y="1052"/>
                        </a:lnTo>
                        <a:lnTo>
                          <a:pt x="3364" y="1010"/>
                        </a:lnTo>
                        <a:lnTo>
                          <a:pt x="3235" y="432"/>
                        </a:lnTo>
                        <a:lnTo>
                          <a:pt x="3177" y="380"/>
                        </a:lnTo>
                        <a:lnTo>
                          <a:pt x="3053" y="266"/>
                        </a:lnTo>
                        <a:lnTo>
                          <a:pt x="2975" y="198"/>
                        </a:lnTo>
                        <a:lnTo>
                          <a:pt x="2907" y="125"/>
                        </a:lnTo>
                        <a:lnTo>
                          <a:pt x="2845" y="58"/>
                        </a:lnTo>
                        <a:lnTo>
                          <a:pt x="2803" y="0"/>
                        </a:lnTo>
                        <a:lnTo>
                          <a:pt x="2704" y="52"/>
                        </a:lnTo>
                        <a:lnTo>
                          <a:pt x="2444" y="193"/>
                        </a:lnTo>
                        <a:lnTo>
                          <a:pt x="2064" y="401"/>
                        </a:lnTo>
                        <a:lnTo>
                          <a:pt x="1840" y="531"/>
                        </a:lnTo>
                        <a:lnTo>
                          <a:pt x="1612" y="672"/>
                        </a:lnTo>
                        <a:lnTo>
                          <a:pt x="1373" y="817"/>
                        </a:lnTo>
                        <a:lnTo>
                          <a:pt x="1134" y="973"/>
                        </a:lnTo>
                        <a:lnTo>
                          <a:pt x="900" y="1135"/>
                        </a:lnTo>
                        <a:lnTo>
                          <a:pt x="677" y="1296"/>
                        </a:lnTo>
                        <a:lnTo>
                          <a:pt x="468" y="1462"/>
                        </a:lnTo>
                        <a:lnTo>
                          <a:pt x="370" y="1546"/>
                        </a:lnTo>
                        <a:lnTo>
                          <a:pt x="281" y="1629"/>
                        </a:lnTo>
                        <a:lnTo>
                          <a:pt x="198" y="1707"/>
                        </a:lnTo>
                        <a:lnTo>
                          <a:pt x="125" y="1786"/>
                        </a:lnTo>
                        <a:lnTo>
                          <a:pt x="58" y="1864"/>
                        </a:lnTo>
                        <a:lnTo>
                          <a:pt x="0" y="194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2" name="未知"/>
                  <p:cNvSpPr/>
                  <p:nvPr/>
                </p:nvSpPr>
                <p:spPr>
                  <a:xfrm rot="11388000">
                    <a:off x="463680" y="178200"/>
                    <a:ext cx="76968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4888" h="2436">
                        <a:moveTo>
                          <a:pt x="0" y="2436"/>
                        </a:moveTo>
                        <a:lnTo>
                          <a:pt x="358" y="2296"/>
                        </a:lnTo>
                        <a:lnTo>
                          <a:pt x="1169" y="1968"/>
                        </a:lnTo>
                        <a:lnTo>
                          <a:pt x="1628" y="1786"/>
                        </a:lnTo>
                        <a:lnTo>
                          <a:pt x="2044" y="1609"/>
                        </a:lnTo>
                        <a:lnTo>
                          <a:pt x="2381" y="1457"/>
                        </a:lnTo>
                        <a:lnTo>
                          <a:pt x="2501" y="1400"/>
                        </a:lnTo>
                        <a:lnTo>
                          <a:pt x="2584" y="1359"/>
                        </a:lnTo>
                        <a:lnTo>
                          <a:pt x="2828" y="1213"/>
                        </a:lnTo>
                        <a:lnTo>
                          <a:pt x="3057" y="1083"/>
                        </a:lnTo>
                        <a:lnTo>
                          <a:pt x="3250" y="979"/>
                        </a:lnTo>
                        <a:lnTo>
                          <a:pt x="3322" y="942"/>
                        </a:lnTo>
                        <a:lnTo>
                          <a:pt x="3380" y="922"/>
                        </a:lnTo>
                        <a:lnTo>
                          <a:pt x="3469" y="885"/>
                        </a:lnTo>
                        <a:lnTo>
                          <a:pt x="3634" y="812"/>
                        </a:lnTo>
                        <a:lnTo>
                          <a:pt x="3853" y="708"/>
                        </a:lnTo>
                        <a:lnTo>
                          <a:pt x="4103" y="583"/>
                        </a:lnTo>
                        <a:lnTo>
                          <a:pt x="4352" y="458"/>
                        </a:lnTo>
                        <a:lnTo>
                          <a:pt x="4587" y="333"/>
                        </a:lnTo>
                        <a:lnTo>
                          <a:pt x="4685" y="276"/>
                        </a:lnTo>
                        <a:lnTo>
                          <a:pt x="4774" y="219"/>
                        </a:lnTo>
                        <a:lnTo>
                          <a:pt x="4841" y="172"/>
                        </a:lnTo>
                        <a:lnTo>
                          <a:pt x="4888" y="136"/>
                        </a:lnTo>
                        <a:lnTo>
                          <a:pt x="4888" y="115"/>
                        </a:lnTo>
                        <a:lnTo>
                          <a:pt x="4888" y="73"/>
                        </a:lnTo>
                        <a:lnTo>
                          <a:pt x="4882" y="47"/>
                        </a:lnTo>
                        <a:lnTo>
                          <a:pt x="4877" y="26"/>
                        </a:lnTo>
                        <a:lnTo>
                          <a:pt x="4867" y="11"/>
                        </a:lnTo>
                        <a:lnTo>
                          <a:pt x="4846" y="0"/>
                        </a:lnTo>
                        <a:lnTo>
                          <a:pt x="4836" y="0"/>
                        </a:lnTo>
                        <a:lnTo>
                          <a:pt x="4826" y="6"/>
                        </a:lnTo>
                        <a:lnTo>
                          <a:pt x="4799" y="26"/>
                        </a:lnTo>
                        <a:lnTo>
                          <a:pt x="4727" y="109"/>
                        </a:lnTo>
                        <a:lnTo>
                          <a:pt x="4680" y="161"/>
                        </a:lnTo>
                        <a:lnTo>
                          <a:pt x="4628" y="219"/>
                        </a:lnTo>
                        <a:lnTo>
                          <a:pt x="4560" y="271"/>
                        </a:lnTo>
                        <a:lnTo>
                          <a:pt x="4524" y="297"/>
                        </a:lnTo>
                        <a:lnTo>
                          <a:pt x="4482" y="318"/>
                        </a:lnTo>
                        <a:lnTo>
                          <a:pt x="4233" y="443"/>
                        </a:lnTo>
                        <a:lnTo>
                          <a:pt x="3900" y="604"/>
                        </a:lnTo>
                        <a:lnTo>
                          <a:pt x="3593" y="745"/>
                        </a:lnTo>
                        <a:lnTo>
                          <a:pt x="3484" y="792"/>
                        </a:lnTo>
                        <a:lnTo>
                          <a:pt x="3422" y="817"/>
                        </a:lnTo>
                        <a:lnTo>
                          <a:pt x="3380" y="833"/>
                        </a:lnTo>
                        <a:lnTo>
                          <a:pt x="3317" y="864"/>
                        </a:lnTo>
                        <a:lnTo>
                          <a:pt x="3172" y="947"/>
                        </a:lnTo>
                        <a:lnTo>
                          <a:pt x="3010" y="1047"/>
                        </a:lnTo>
                        <a:lnTo>
                          <a:pt x="2875" y="1135"/>
                        </a:lnTo>
                        <a:lnTo>
                          <a:pt x="2730" y="1224"/>
                        </a:lnTo>
                        <a:lnTo>
                          <a:pt x="2533" y="1327"/>
                        </a:lnTo>
                        <a:lnTo>
                          <a:pt x="2329" y="1437"/>
                        </a:lnTo>
                        <a:lnTo>
                          <a:pt x="2152" y="1520"/>
                        </a:lnTo>
                        <a:lnTo>
                          <a:pt x="1726" y="1702"/>
                        </a:lnTo>
                        <a:lnTo>
                          <a:pt x="999" y="2014"/>
                        </a:lnTo>
                        <a:lnTo>
                          <a:pt x="0" y="243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未知"/>
                  <p:cNvSpPr/>
                  <p:nvPr/>
                </p:nvSpPr>
                <p:spPr>
                  <a:xfrm rot="11388000">
                    <a:off x="900000" y="293760"/>
                    <a:ext cx="2498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97" h="240">
                        <a:moveTo>
                          <a:pt x="0" y="5"/>
                        </a:moveTo>
                        <a:lnTo>
                          <a:pt x="198" y="17"/>
                        </a:lnTo>
                        <a:lnTo>
                          <a:pt x="411" y="27"/>
                        </a:lnTo>
                        <a:lnTo>
                          <a:pt x="656" y="47"/>
                        </a:lnTo>
                        <a:lnTo>
                          <a:pt x="921" y="79"/>
                        </a:lnTo>
                        <a:lnTo>
                          <a:pt x="1051" y="95"/>
                        </a:lnTo>
                        <a:lnTo>
                          <a:pt x="1176" y="115"/>
                        </a:lnTo>
                        <a:lnTo>
                          <a:pt x="1285" y="142"/>
                        </a:lnTo>
                        <a:lnTo>
                          <a:pt x="1389" y="172"/>
                        </a:lnTo>
                        <a:lnTo>
                          <a:pt x="1472" y="204"/>
                        </a:lnTo>
                        <a:lnTo>
                          <a:pt x="1509" y="219"/>
                        </a:lnTo>
                        <a:lnTo>
                          <a:pt x="1540" y="240"/>
                        </a:lnTo>
                        <a:lnTo>
                          <a:pt x="1597" y="225"/>
                        </a:lnTo>
                        <a:lnTo>
                          <a:pt x="1571" y="214"/>
                        </a:lnTo>
                        <a:lnTo>
                          <a:pt x="1487" y="183"/>
                        </a:lnTo>
                        <a:lnTo>
                          <a:pt x="1358" y="142"/>
                        </a:lnTo>
                        <a:lnTo>
                          <a:pt x="1176" y="100"/>
                        </a:lnTo>
                        <a:lnTo>
                          <a:pt x="1067" y="73"/>
                        </a:lnTo>
                        <a:lnTo>
                          <a:pt x="947" y="53"/>
                        </a:lnTo>
                        <a:lnTo>
                          <a:pt x="811" y="37"/>
                        </a:lnTo>
                        <a:lnTo>
                          <a:pt x="671" y="22"/>
                        </a:lnTo>
                        <a:lnTo>
                          <a:pt x="521" y="11"/>
                        </a:lnTo>
                        <a:lnTo>
                          <a:pt x="354" y="0"/>
                        </a:lnTo>
                        <a:lnTo>
                          <a:pt x="18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未知"/>
                  <p:cNvSpPr/>
                  <p:nvPr/>
                </p:nvSpPr>
                <p:spPr>
                  <a:xfrm rot="11388000">
                    <a:off x="772920" y="317520"/>
                    <a:ext cx="323280" cy="89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59" h="906">
                        <a:moveTo>
                          <a:pt x="0" y="427"/>
                        </a:moveTo>
                        <a:lnTo>
                          <a:pt x="141" y="448"/>
                        </a:lnTo>
                        <a:lnTo>
                          <a:pt x="463" y="505"/>
                        </a:lnTo>
                        <a:lnTo>
                          <a:pt x="640" y="542"/>
                        </a:lnTo>
                        <a:lnTo>
                          <a:pt x="806" y="578"/>
                        </a:lnTo>
                        <a:lnTo>
                          <a:pt x="879" y="599"/>
                        </a:lnTo>
                        <a:lnTo>
                          <a:pt x="941" y="619"/>
                        </a:lnTo>
                        <a:lnTo>
                          <a:pt x="989" y="641"/>
                        </a:lnTo>
                        <a:lnTo>
                          <a:pt x="1024" y="661"/>
                        </a:lnTo>
                        <a:lnTo>
                          <a:pt x="1061" y="677"/>
                        </a:lnTo>
                        <a:lnTo>
                          <a:pt x="1108" y="698"/>
                        </a:lnTo>
                        <a:lnTo>
                          <a:pt x="1171" y="719"/>
                        </a:lnTo>
                        <a:lnTo>
                          <a:pt x="1238" y="744"/>
                        </a:lnTo>
                        <a:lnTo>
                          <a:pt x="1404" y="781"/>
                        </a:lnTo>
                        <a:lnTo>
                          <a:pt x="1581" y="823"/>
                        </a:lnTo>
                        <a:lnTo>
                          <a:pt x="1893" y="879"/>
                        </a:lnTo>
                        <a:lnTo>
                          <a:pt x="2034" y="906"/>
                        </a:lnTo>
                        <a:lnTo>
                          <a:pt x="2059" y="854"/>
                        </a:lnTo>
                        <a:lnTo>
                          <a:pt x="1924" y="833"/>
                        </a:lnTo>
                        <a:lnTo>
                          <a:pt x="1623" y="781"/>
                        </a:lnTo>
                        <a:lnTo>
                          <a:pt x="1456" y="749"/>
                        </a:lnTo>
                        <a:lnTo>
                          <a:pt x="1295" y="714"/>
                        </a:lnTo>
                        <a:lnTo>
                          <a:pt x="1165" y="682"/>
                        </a:lnTo>
                        <a:lnTo>
                          <a:pt x="1118" y="666"/>
                        </a:lnTo>
                        <a:lnTo>
                          <a:pt x="1087" y="651"/>
                        </a:lnTo>
                        <a:lnTo>
                          <a:pt x="1056" y="630"/>
                        </a:lnTo>
                        <a:lnTo>
                          <a:pt x="1019" y="604"/>
                        </a:lnTo>
                        <a:lnTo>
                          <a:pt x="936" y="531"/>
                        </a:lnTo>
                        <a:lnTo>
                          <a:pt x="723" y="329"/>
                        </a:lnTo>
                        <a:lnTo>
                          <a:pt x="609" y="219"/>
                        </a:lnTo>
                        <a:lnTo>
                          <a:pt x="495" y="125"/>
                        </a:lnTo>
                        <a:lnTo>
                          <a:pt x="442" y="84"/>
                        </a:lnTo>
                        <a:lnTo>
                          <a:pt x="390" y="47"/>
                        </a:lnTo>
                        <a:lnTo>
                          <a:pt x="343" y="21"/>
                        </a:lnTo>
                        <a:lnTo>
                          <a:pt x="302" y="0"/>
                        </a:lnTo>
                        <a:lnTo>
                          <a:pt x="562" y="234"/>
                        </a:lnTo>
                        <a:lnTo>
                          <a:pt x="759" y="417"/>
                        </a:lnTo>
                        <a:lnTo>
                          <a:pt x="837" y="494"/>
                        </a:lnTo>
                        <a:lnTo>
                          <a:pt x="889" y="552"/>
                        </a:lnTo>
                        <a:lnTo>
                          <a:pt x="775" y="531"/>
                        </a:lnTo>
                        <a:lnTo>
                          <a:pt x="515" y="479"/>
                        </a:lnTo>
                        <a:lnTo>
                          <a:pt x="365" y="459"/>
                        </a:lnTo>
                        <a:lnTo>
                          <a:pt x="218" y="437"/>
                        </a:lnTo>
                        <a:lnTo>
                          <a:pt x="94" y="427"/>
                        </a:lnTo>
                        <a:lnTo>
                          <a:pt x="41" y="427"/>
                        </a:lnTo>
                        <a:lnTo>
                          <a:pt x="0" y="42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未知"/>
                  <p:cNvSpPr/>
                  <p:nvPr/>
                </p:nvSpPr>
                <p:spPr>
                  <a:xfrm rot="11388000">
                    <a:off x="691200" y="334440"/>
                    <a:ext cx="357120" cy="11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267" h="1181">
                        <a:moveTo>
                          <a:pt x="0" y="286"/>
                        </a:moveTo>
                        <a:lnTo>
                          <a:pt x="156" y="339"/>
                        </a:lnTo>
                        <a:lnTo>
                          <a:pt x="514" y="469"/>
                        </a:lnTo>
                        <a:lnTo>
                          <a:pt x="712" y="546"/>
                        </a:lnTo>
                        <a:lnTo>
                          <a:pt x="900" y="624"/>
                        </a:lnTo>
                        <a:lnTo>
                          <a:pt x="1050" y="692"/>
                        </a:lnTo>
                        <a:lnTo>
                          <a:pt x="1107" y="724"/>
                        </a:lnTo>
                        <a:lnTo>
                          <a:pt x="1149" y="749"/>
                        </a:lnTo>
                        <a:lnTo>
                          <a:pt x="1107" y="776"/>
                        </a:lnTo>
                        <a:lnTo>
                          <a:pt x="1008" y="822"/>
                        </a:lnTo>
                        <a:lnTo>
                          <a:pt x="940" y="848"/>
                        </a:lnTo>
                        <a:lnTo>
                          <a:pt x="868" y="874"/>
                        </a:lnTo>
                        <a:lnTo>
                          <a:pt x="785" y="896"/>
                        </a:lnTo>
                        <a:lnTo>
                          <a:pt x="701" y="906"/>
                        </a:lnTo>
                        <a:lnTo>
                          <a:pt x="743" y="906"/>
                        </a:lnTo>
                        <a:lnTo>
                          <a:pt x="790" y="901"/>
                        </a:lnTo>
                        <a:lnTo>
                          <a:pt x="853" y="896"/>
                        </a:lnTo>
                        <a:lnTo>
                          <a:pt x="925" y="884"/>
                        </a:lnTo>
                        <a:lnTo>
                          <a:pt x="1008" y="864"/>
                        </a:lnTo>
                        <a:lnTo>
                          <a:pt x="1092" y="833"/>
                        </a:lnTo>
                        <a:lnTo>
                          <a:pt x="1170" y="796"/>
                        </a:lnTo>
                        <a:lnTo>
                          <a:pt x="1305" y="859"/>
                        </a:lnTo>
                        <a:lnTo>
                          <a:pt x="1617" y="989"/>
                        </a:lnTo>
                        <a:lnTo>
                          <a:pt x="1794" y="1061"/>
                        </a:lnTo>
                        <a:lnTo>
                          <a:pt x="1965" y="1124"/>
                        </a:lnTo>
                        <a:lnTo>
                          <a:pt x="2043" y="1145"/>
                        </a:lnTo>
                        <a:lnTo>
                          <a:pt x="2111" y="1166"/>
                        </a:lnTo>
                        <a:lnTo>
                          <a:pt x="2168" y="1176"/>
                        </a:lnTo>
                        <a:lnTo>
                          <a:pt x="2210" y="1181"/>
                        </a:lnTo>
                        <a:lnTo>
                          <a:pt x="2267" y="1161"/>
                        </a:lnTo>
                        <a:lnTo>
                          <a:pt x="2230" y="1156"/>
                        </a:lnTo>
                        <a:lnTo>
                          <a:pt x="2142" y="1124"/>
                        </a:lnTo>
                        <a:lnTo>
                          <a:pt x="2095" y="1109"/>
                        </a:lnTo>
                        <a:lnTo>
                          <a:pt x="2048" y="1088"/>
                        </a:lnTo>
                        <a:lnTo>
                          <a:pt x="2007" y="1061"/>
                        </a:lnTo>
                        <a:lnTo>
                          <a:pt x="1981" y="1041"/>
                        </a:lnTo>
                        <a:lnTo>
                          <a:pt x="1856" y="869"/>
                        </a:lnTo>
                        <a:lnTo>
                          <a:pt x="1746" y="724"/>
                        </a:lnTo>
                        <a:lnTo>
                          <a:pt x="1617" y="552"/>
                        </a:lnTo>
                        <a:lnTo>
                          <a:pt x="1471" y="380"/>
                        </a:lnTo>
                        <a:lnTo>
                          <a:pt x="1399" y="297"/>
                        </a:lnTo>
                        <a:lnTo>
                          <a:pt x="1326" y="219"/>
                        </a:lnTo>
                        <a:lnTo>
                          <a:pt x="1252" y="151"/>
                        </a:lnTo>
                        <a:lnTo>
                          <a:pt x="1180" y="89"/>
                        </a:lnTo>
                        <a:lnTo>
                          <a:pt x="1112" y="37"/>
                        </a:lnTo>
                        <a:lnTo>
                          <a:pt x="1050" y="0"/>
                        </a:lnTo>
                        <a:lnTo>
                          <a:pt x="1149" y="94"/>
                        </a:lnTo>
                        <a:lnTo>
                          <a:pt x="1247" y="192"/>
                        </a:lnTo>
                        <a:lnTo>
                          <a:pt x="1377" y="327"/>
                        </a:lnTo>
                        <a:lnTo>
                          <a:pt x="1513" y="484"/>
                        </a:lnTo>
                        <a:lnTo>
                          <a:pt x="1653" y="651"/>
                        </a:lnTo>
                        <a:lnTo>
                          <a:pt x="1716" y="739"/>
                        </a:lnTo>
                        <a:lnTo>
                          <a:pt x="1778" y="833"/>
                        </a:lnTo>
                        <a:lnTo>
                          <a:pt x="1835" y="921"/>
                        </a:lnTo>
                        <a:lnTo>
                          <a:pt x="1888" y="1015"/>
                        </a:lnTo>
                        <a:lnTo>
                          <a:pt x="1846" y="1009"/>
                        </a:lnTo>
                        <a:lnTo>
                          <a:pt x="1794" y="994"/>
                        </a:lnTo>
                        <a:lnTo>
                          <a:pt x="1706" y="963"/>
                        </a:lnTo>
                        <a:lnTo>
                          <a:pt x="1591" y="916"/>
                        </a:lnTo>
                        <a:lnTo>
                          <a:pt x="1435" y="848"/>
                        </a:lnTo>
                        <a:lnTo>
                          <a:pt x="1242" y="749"/>
                        </a:lnTo>
                        <a:lnTo>
                          <a:pt x="1003" y="614"/>
                        </a:lnTo>
                        <a:lnTo>
                          <a:pt x="951" y="541"/>
                        </a:lnTo>
                        <a:lnTo>
                          <a:pt x="894" y="458"/>
                        </a:lnTo>
                        <a:lnTo>
                          <a:pt x="816" y="369"/>
                        </a:lnTo>
                        <a:lnTo>
                          <a:pt x="770" y="322"/>
                        </a:lnTo>
                        <a:lnTo>
                          <a:pt x="723" y="276"/>
                        </a:lnTo>
                        <a:lnTo>
                          <a:pt x="670" y="229"/>
                        </a:lnTo>
                        <a:lnTo>
                          <a:pt x="613" y="187"/>
                        </a:lnTo>
                        <a:lnTo>
                          <a:pt x="556" y="151"/>
                        </a:lnTo>
                        <a:lnTo>
                          <a:pt x="494" y="120"/>
                        </a:lnTo>
                        <a:lnTo>
                          <a:pt x="431" y="94"/>
                        </a:lnTo>
                        <a:lnTo>
                          <a:pt x="369" y="78"/>
                        </a:lnTo>
                        <a:lnTo>
                          <a:pt x="436" y="114"/>
                        </a:lnTo>
                        <a:lnTo>
                          <a:pt x="509" y="162"/>
                        </a:lnTo>
                        <a:lnTo>
                          <a:pt x="593" y="219"/>
                        </a:lnTo>
                        <a:lnTo>
                          <a:pt x="681" y="292"/>
                        </a:lnTo>
                        <a:lnTo>
                          <a:pt x="775" y="374"/>
                        </a:lnTo>
                        <a:lnTo>
                          <a:pt x="816" y="422"/>
                        </a:lnTo>
                        <a:lnTo>
                          <a:pt x="853" y="469"/>
                        </a:lnTo>
                        <a:lnTo>
                          <a:pt x="889" y="515"/>
                        </a:lnTo>
                        <a:lnTo>
                          <a:pt x="915" y="567"/>
                        </a:lnTo>
                        <a:lnTo>
                          <a:pt x="800" y="526"/>
                        </a:lnTo>
                        <a:lnTo>
                          <a:pt x="525" y="432"/>
                        </a:lnTo>
                        <a:lnTo>
                          <a:pt x="369" y="380"/>
                        </a:lnTo>
                        <a:lnTo>
                          <a:pt x="224" y="339"/>
                        </a:lnTo>
                        <a:lnTo>
                          <a:pt x="94" y="302"/>
                        </a:lnTo>
                        <a:lnTo>
                          <a:pt x="0" y="28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未知"/>
                  <p:cNvSpPr/>
                  <p:nvPr/>
                </p:nvSpPr>
                <p:spPr>
                  <a:xfrm rot="11388000">
                    <a:off x="1023120" y="273960"/>
                    <a:ext cx="1483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946" h="155">
                        <a:moveTo>
                          <a:pt x="0" y="30"/>
                        </a:moveTo>
                        <a:lnTo>
                          <a:pt x="103" y="30"/>
                        </a:lnTo>
                        <a:lnTo>
                          <a:pt x="213" y="30"/>
                        </a:lnTo>
                        <a:lnTo>
                          <a:pt x="343" y="42"/>
                        </a:lnTo>
                        <a:lnTo>
                          <a:pt x="488" y="52"/>
                        </a:lnTo>
                        <a:lnTo>
                          <a:pt x="634" y="78"/>
                        </a:lnTo>
                        <a:lnTo>
                          <a:pt x="702" y="93"/>
                        </a:lnTo>
                        <a:lnTo>
                          <a:pt x="764" y="109"/>
                        </a:lnTo>
                        <a:lnTo>
                          <a:pt x="826" y="130"/>
                        </a:lnTo>
                        <a:lnTo>
                          <a:pt x="879" y="155"/>
                        </a:lnTo>
                        <a:lnTo>
                          <a:pt x="946" y="135"/>
                        </a:lnTo>
                        <a:lnTo>
                          <a:pt x="857" y="104"/>
                        </a:lnTo>
                        <a:lnTo>
                          <a:pt x="764" y="72"/>
                        </a:lnTo>
                        <a:lnTo>
                          <a:pt x="634" y="42"/>
                        </a:lnTo>
                        <a:lnTo>
                          <a:pt x="488" y="15"/>
                        </a:lnTo>
                        <a:lnTo>
                          <a:pt x="410" y="5"/>
                        </a:lnTo>
                        <a:lnTo>
                          <a:pt x="332" y="0"/>
                        </a:lnTo>
                        <a:lnTo>
                          <a:pt x="250" y="0"/>
                        </a:lnTo>
                        <a:lnTo>
                          <a:pt x="166" y="5"/>
                        </a:lnTo>
                        <a:lnTo>
                          <a:pt x="83" y="15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未知"/>
                  <p:cNvSpPr/>
                  <p:nvPr/>
                </p:nvSpPr>
                <p:spPr>
                  <a:xfrm rot="11388000">
                    <a:off x="1131840" y="259560"/>
                    <a:ext cx="774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9" h="53">
                        <a:moveTo>
                          <a:pt x="0" y="47"/>
                        </a:moveTo>
                        <a:lnTo>
                          <a:pt x="53" y="36"/>
                        </a:lnTo>
                        <a:lnTo>
                          <a:pt x="110" y="31"/>
                        </a:lnTo>
                        <a:lnTo>
                          <a:pt x="172" y="21"/>
                        </a:lnTo>
                        <a:lnTo>
                          <a:pt x="245" y="16"/>
                        </a:lnTo>
                        <a:lnTo>
                          <a:pt x="323" y="21"/>
                        </a:lnTo>
                        <a:lnTo>
                          <a:pt x="385" y="31"/>
                        </a:lnTo>
                        <a:lnTo>
                          <a:pt x="417" y="42"/>
                        </a:lnTo>
                        <a:lnTo>
                          <a:pt x="442" y="53"/>
                        </a:lnTo>
                        <a:lnTo>
                          <a:pt x="499" y="36"/>
                        </a:lnTo>
                        <a:lnTo>
                          <a:pt x="474" y="21"/>
                        </a:lnTo>
                        <a:lnTo>
                          <a:pt x="432" y="11"/>
                        </a:lnTo>
                        <a:lnTo>
                          <a:pt x="380" y="5"/>
                        </a:lnTo>
                        <a:lnTo>
                          <a:pt x="312" y="0"/>
                        </a:lnTo>
                        <a:lnTo>
                          <a:pt x="224" y="5"/>
                        </a:lnTo>
                        <a:lnTo>
                          <a:pt x="120" y="21"/>
                        </a:lnTo>
                        <a:lnTo>
                          <a:pt x="0" y="4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未知"/>
                  <p:cNvSpPr/>
                  <p:nvPr/>
                </p:nvSpPr>
                <p:spPr>
                  <a:xfrm rot="11388000">
                    <a:off x="1118520" y="218880"/>
                    <a:ext cx="5652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411">
                        <a:moveTo>
                          <a:pt x="0" y="411"/>
                        </a:moveTo>
                        <a:lnTo>
                          <a:pt x="57" y="370"/>
                        </a:lnTo>
                        <a:lnTo>
                          <a:pt x="119" y="323"/>
                        </a:lnTo>
                        <a:lnTo>
                          <a:pt x="187" y="271"/>
                        </a:lnTo>
                        <a:lnTo>
                          <a:pt x="254" y="203"/>
                        </a:lnTo>
                        <a:lnTo>
                          <a:pt x="286" y="172"/>
                        </a:lnTo>
                        <a:lnTo>
                          <a:pt x="312" y="135"/>
                        </a:lnTo>
                        <a:lnTo>
                          <a:pt x="332" y="99"/>
                        </a:lnTo>
                        <a:lnTo>
                          <a:pt x="348" y="63"/>
                        </a:lnTo>
                        <a:lnTo>
                          <a:pt x="359" y="31"/>
                        </a:lnTo>
                        <a:lnTo>
                          <a:pt x="359" y="0"/>
                        </a:lnTo>
                        <a:lnTo>
                          <a:pt x="296" y="26"/>
                        </a:lnTo>
                        <a:lnTo>
                          <a:pt x="296" y="31"/>
                        </a:lnTo>
                        <a:lnTo>
                          <a:pt x="301" y="42"/>
                        </a:lnTo>
                        <a:lnTo>
                          <a:pt x="301" y="63"/>
                        </a:lnTo>
                        <a:lnTo>
                          <a:pt x="291" y="99"/>
                        </a:lnTo>
                        <a:lnTo>
                          <a:pt x="264" y="146"/>
                        </a:lnTo>
                        <a:lnTo>
                          <a:pt x="207" y="213"/>
                        </a:lnTo>
                        <a:lnTo>
                          <a:pt x="124" y="302"/>
                        </a:lnTo>
                        <a:lnTo>
                          <a:pt x="0" y="41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未知"/>
                  <p:cNvSpPr/>
                  <p:nvPr/>
                </p:nvSpPr>
                <p:spPr>
                  <a:xfrm rot="11388000">
                    <a:off x="1031040" y="194400"/>
                    <a:ext cx="99000" cy="77400"/>
                  </a:xfrm>
                  <a:custGeom>
                    <a:avLst/>
                    <a:gdLst/>
                    <a:ahLst/>
                    <a:rect l="l" t="t" r="r" b="b"/>
                    <a:pathLst>
                      <a:path w="629" h="776">
                        <a:moveTo>
                          <a:pt x="0" y="776"/>
                        </a:moveTo>
                        <a:lnTo>
                          <a:pt x="93" y="697"/>
                        </a:lnTo>
                        <a:lnTo>
                          <a:pt x="192" y="609"/>
                        </a:lnTo>
                        <a:lnTo>
                          <a:pt x="302" y="500"/>
                        </a:lnTo>
                        <a:lnTo>
                          <a:pt x="353" y="442"/>
                        </a:lnTo>
                        <a:lnTo>
                          <a:pt x="405" y="380"/>
                        </a:lnTo>
                        <a:lnTo>
                          <a:pt x="452" y="317"/>
                        </a:lnTo>
                        <a:lnTo>
                          <a:pt x="494" y="255"/>
                        </a:lnTo>
                        <a:lnTo>
                          <a:pt x="530" y="192"/>
                        </a:lnTo>
                        <a:lnTo>
                          <a:pt x="551" y="130"/>
                        </a:lnTo>
                        <a:lnTo>
                          <a:pt x="567" y="73"/>
                        </a:lnTo>
                        <a:lnTo>
                          <a:pt x="567" y="47"/>
                        </a:lnTo>
                        <a:lnTo>
                          <a:pt x="562" y="20"/>
                        </a:lnTo>
                        <a:lnTo>
                          <a:pt x="629" y="0"/>
                        </a:lnTo>
                        <a:lnTo>
                          <a:pt x="624" y="20"/>
                        </a:lnTo>
                        <a:lnTo>
                          <a:pt x="603" y="83"/>
                        </a:lnTo>
                        <a:lnTo>
                          <a:pt x="567" y="172"/>
                        </a:lnTo>
                        <a:lnTo>
                          <a:pt x="540" y="229"/>
                        </a:lnTo>
                        <a:lnTo>
                          <a:pt x="509" y="287"/>
                        </a:lnTo>
                        <a:lnTo>
                          <a:pt x="473" y="344"/>
                        </a:lnTo>
                        <a:lnTo>
                          <a:pt x="427" y="411"/>
                        </a:lnTo>
                        <a:lnTo>
                          <a:pt x="374" y="474"/>
                        </a:lnTo>
                        <a:lnTo>
                          <a:pt x="317" y="536"/>
                        </a:lnTo>
                        <a:lnTo>
                          <a:pt x="250" y="604"/>
                        </a:lnTo>
                        <a:lnTo>
                          <a:pt x="177" y="666"/>
                        </a:lnTo>
                        <a:lnTo>
                          <a:pt x="93" y="724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未知"/>
                  <p:cNvSpPr/>
                  <p:nvPr/>
                </p:nvSpPr>
                <p:spPr>
                  <a:xfrm rot="11388000">
                    <a:off x="903960" y="155160"/>
                    <a:ext cx="158400" cy="13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1358">
                        <a:moveTo>
                          <a:pt x="0" y="1358"/>
                        </a:moveTo>
                        <a:lnTo>
                          <a:pt x="145" y="1187"/>
                        </a:lnTo>
                        <a:lnTo>
                          <a:pt x="296" y="1010"/>
                        </a:lnTo>
                        <a:lnTo>
                          <a:pt x="472" y="791"/>
                        </a:lnTo>
                        <a:lnTo>
                          <a:pt x="649" y="562"/>
                        </a:lnTo>
                        <a:lnTo>
                          <a:pt x="728" y="448"/>
                        </a:lnTo>
                        <a:lnTo>
                          <a:pt x="801" y="339"/>
                        </a:lnTo>
                        <a:lnTo>
                          <a:pt x="863" y="234"/>
                        </a:lnTo>
                        <a:lnTo>
                          <a:pt x="915" y="146"/>
                        </a:lnTo>
                        <a:lnTo>
                          <a:pt x="946" y="62"/>
                        </a:lnTo>
                        <a:lnTo>
                          <a:pt x="956" y="31"/>
                        </a:lnTo>
                        <a:lnTo>
                          <a:pt x="961" y="0"/>
                        </a:lnTo>
                        <a:lnTo>
                          <a:pt x="1003" y="10"/>
                        </a:lnTo>
                        <a:lnTo>
                          <a:pt x="998" y="26"/>
                        </a:lnTo>
                        <a:lnTo>
                          <a:pt x="978" y="84"/>
                        </a:lnTo>
                        <a:lnTo>
                          <a:pt x="936" y="182"/>
                        </a:lnTo>
                        <a:lnTo>
                          <a:pt x="899" y="249"/>
                        </a:lnTo>
                        <a:lnTo>
                          <a:pt x="858" y="328"/>
                        </a:lnTo>
                        <a:lnTo>
                          <a:pt x="801" y="411"/>
                        </a:lnTo>
                        <a:lnTo>
                          <a:pt x="733" y="511"/>
                        </a:lnTo>
                        <a:lnTo>
                          <a:pt x="649" y="624"/>
                        </a:lnTo>
                        <a:lnTo>
                          <a:pt x="556" y="744"/>
                        </a:lnTo>
                        <a:lnTo>
                          <a:pt x="442" y="880"/>
                        </a:lnTo>
                        <a:lnTo>
                          <a:pt x="312" y="1025"/>
                        </a:lnTo>
                        <a:lnTo>
                          <a:pt x="166" y="1187"/>
                        </a:lnTo>
                        <a:lnTo>
                          <a:pt x="0" y="1358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未知"/>
                  <p:cNvSpPr/>
                  <p:nvPr/>
                </p:nvSpPr>
                <p:spPr>
                  <a:xfrm rot="11388000">
                    <a:off x="793080" y="110520"/>
                    <a:ext cx="17028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81" h="1995">
                        <a:moveTo>
                          <a:pt x="0" y="1995"/>
                        </a:moveTo>
                        <a:lnTo>
                          <a:pt x="167" y="1745"/>
                        </a:lnTo>
                        <a:lnTo>
                          <a:pt x="332" y="1485"/>
                        </a:lnTo>
                        <a:lnTo>
                          <a:pt x="531" y="1166"/>
                        </a:lnTo>
                        <a:lnTo>
                          <a:pt x="624" y="1001"/>
                        </a:lnTo>
                        <a:lnTo>
                          <a:pt x="723" y="834"/>
                        </a:lnTo>
                        <a:lnTo>
                          <a:pt x="806" y="667"/>
                        </a:lnTo>
                        <a:lnTo>
                          <a:pt x="884" y="511"/>
                        </a:lnTo>
                        <a:lnTo>
                          <a:pt x="946" y="365"/>
                        </a:lnTo>
                        <a:lnTo>
                          <a:pt x="998" y="230"/>
                        </a:lnTo>
                        <a:lnTo>
                          <a:pt x="1013" y="172"/>
                        </a:lnTo>
                        <a:lnTo>
                          <a:pt x="1025" y="115"/>
                        </a:lnTo>
                        <a:lnTo>
                          <a:pt x="1030" y="69"/>
                        </a:lnTo>
                        <a:lnTo>
                          <a:pt x="1030" y="27"/>
                        </a:lnTo>
                        <a:lnTo>
                          <a:pt x="1081" y="0"/>
                        </a:lnTo>
                        <a:lnTo>
                          <a:pt x="1081" y="22"/>
                        </a:lnTo>
                        <a:lnTo>
                          <a:pt x="1066" y="100"/>
                        </a:lnTo>
                        <a:lnTo>
                          <a:pt x="1050" y="157"/>
                        </a:lnTo>
                        <a:lnTo>
                          <a:pt x="1030" y="235"/>
                        </a:lnTo>
                        <a:lnTo>
                          <a:pt x="998" y="324"/>
                        </a:lnTo>
                        <a:lnTo>
                          <a:pt x="951" y="433"/>
                        </a:lnTo>
                        <a:lnTo>
                          <a:pt x="894" y="558"/>
                        </a:lnTo>
                        <a:lnTo>
                          <a:pt x="821" y="704"/>
                        </a:lnTo>
                        <a:lnTo>
                          <a:pt x="733" y="864"/>
                        </a:lnTo>
                        <a:lnTo>
                          <a:pt x="629" y="1047"/>
                        </a:lnTo>
                        <a:lnTo>
                          <a:pt x="504" y="1250"/>
                        </a:lnTo>
                        <a:lnTo>
                          <a:pt x="359" y="1474"/>
                        </a:lnTo>
                        <a:lnTo>
                          <a:pt x="192" y="1723"/>
                        </a:lnTo>
                        <a:lnTo>
                          <a:pt x="0" y="199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未知"/>
                  <p:cNvSpPr/>
                  <p:nvPr/>
                </p:nvSpPr>
                <p:spPr>
                  <a:xfrm rot="11388000">
                    <a:off x="884160" y="107280"/>
                    <a:ext cx="1872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797">
                        <a:moveTo>
                          <a:pt x="0" y="797"/>
                        </a:moveTo>
                        <a:lnTo>
                          <a:pt x="31" y="708"/>
                        </a:lnTo>
                        <a:lnTo>
                          <a:pt x="57" y="608"/>
                        </a:lnTo>
                        <a:lnTo>
                          <a:pt x="77" y="495"/>
                        </a:lnTo>
                        <a:lnTo>
                          <a:pt x="89" y="432"/>
                        </a:lnTo>
                        <a:lnTo>
                          <a:pt x="94" y="370"/>
                        </a:lnTo>
                        <a:lnTo>
                          <a:pt x="99" y="307"/>
                        </a:lnTo>
                        <a:lnTo>
                          <a:pt x="94" y="250"/>
                        </a:lnTo>
                        <a:lnTo>
                          <a:pt x="89" y="193"/>
                        </a:lnTo>
                        <a:lnTo>
                          <a:pt x="72" y="140"/>
                        </a:lnTo>
                        <a:lnTo>
                          <a:pt x="52" y="93"/>
                        </a:lnTo>
                        <a:lnTo>
                          <a:pt x="20" y="51"/>
                        </a:lnTo>
                        <a:lnTo>
                          <a:pt x="57" y="0"/>
                        </a:lnTo>
                        <a:lnTo>
                          <a:pt x="67" y="16"/>
                        </a:lnTo>
                        <a:lnTo>
                          <a:pt x="83" y="51"/>
                        </a:lnTo>
                        <a:lnTo>
                          <a:pt x="104" y="114"/>
                        </a:lnTo>
                        <a:lnTo>
                          <a:pt x="114" y="156"/>
                        </a:lnTo>
                        <a:lnTo>
                          <a:pt x="119" y="203"/>
                        </a:lnTo>
                        <a:lnTo>
                          <a:pt x="125" y="260"/>
                        </a:lnTo>
                        <a:lnTo>
                          <a:pt x="125" y="318"/>
                        </a:lnTo>
                        <a:lnTo>
                          <a:pt x="125" y="385"/>
                        </a:lnTo>
                        <a:lnTo>
                          <a:pt x="114" y="453"/>
                        </a:lnTo>
                        <a:lnTo>
                          <a:pt x="99" y="531"/>
                        </a:lnTo>
                        <a:lnTo>
                          <a:pt x="72" y="614"/>
                        </a:lnTo>
                        <a:lnTo>
                          <a:pt x="42" y="703"/>
                        </a:lnTo>
                        <a:lnTo>
                          <a:pt x="0" y="79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未知"/>
                  <p:cNvSpPr/>
                  <p:nvPr/>
                </p:nvSpPr>
                <p:spPr>
                  <a:xfrm rot="11388000">
                    <a:off x="711360" y="75240"/>
                    <a:ext cx="11772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9" h="2451">
                        <a:moveTo>
                          <a:pt x="0" y="2451"/>
                        </a:moveTo>
                        <a:lnTo>
                          <a:pt x="57" y="2306"/>
                        </a:lnTo>
                        <a:lnTo>
                          <a:pt x="192" y="1957"/>
                        </a:lnTo>
                        <a:lnTo>
                          <a:pt x="270" y="1734"/>
                        </a:lnTo>
                        <a:lnTo>
                          <a:pt x="348" y="1509"/>
                        </a:lnTo>
                        <a:lnTo>
                          <a:pt x="416" y="1285"/>
                        </a:lnTo>
                        <a:lnTo>
                          <a:pt x="442" y="1182"/>
                        </a:lnTo>
                        <a:lnTo>
                          <a:pt x="462" y="1082"/>
                        </a:lnTo>
                        <a:lnTo>
                          <a:pt x="499" y="895"/>
                        </a:lnTo>
                        <a:lnTo>
                          <a:pt x="530" y="713"/>
                        </a:lnTo>
                        <a:lnTo>
                          <a:pt x="587" y="385"/>
                        </a:lnTo>
                        <a:lnTo>
                          <a:pt x="614" y="250"/>
                        </a:lnTo>
                        <a:lnTo>
                          <a:pt x="634" y="141"/>
                        </a:lnTo>
                        <a:lnTo>
                          <a:pt x="660" y="63"/>
                        </a:lnTo>
                        <a:lnTo>
                          <a:pt x="671" y="36"/>
                        </a:lnTo>
                        <a:lnTo>
                          <a:pt x="681" y="16"/>
                        </a:lnTo>
                        <a:lnTo>
                          <a:pt x="749" y="0"/>
                        </a:lnTo>
                        <a:lnTo>
                          <a:pt x="722" y="109"/>
                        </a:lnTo>
                        <a:lnTo>
                          <a:pt x="655" y="365"/>
                        </a:lnTo>
                        <a:lnTo>
                          <a:pt x="582" y="666"/>
                        </a:lnTo>
                        <a:lnTo>
                          <a:pt x="556" y="807"/>
                        </a:lnTo>
                        <a:lnTo>
                          <a:pt x="540" y="910"/>
                        </a:lnTo>
                        <a:lnTo>
                          <a:pt x="535" y="958"/>
                        </a:lnTo>
                        <a:lnTo>
                          <a:pt x="540" y="1015"/>
                        </a:lnTo>
                        <a:lnTo>
                          <a:pt x="556" y="1130"/>
                        </a:lnTo>
                        <a:lnTo>
                          <a:pt x="582" y="1265"/>
                        </a:lnTo>
                        <a:lnTo>
                          <a:pt x="614" y="1400"/>
                        </a:lnTo>
                        <a:lnTo>
                          <a:pt x="639" y="1535"/>
                        </a:lnTo>
                        <a:lnTo>
                          <a:pt x="660" y="1666"/>
                        </a:lnTo>
                        <a:lnTo>
                          <a:pt x="660" y="1728"/>
                        </a:lnTo>
                        <a:lnTo>
                          <a:pt x="660" y="1786"/>
                        </a:lnTo>
                        <a:lnTo>
                          <a:pt x="649" y="1837"/>
                        </a:lnTo>
                        <a:lnTo>
                          <a:pt x="639" y="1879"/>
                        </a:lnTo>
                        <a:lnTo>
                          <a:pt x="639" y="1811"/>
                        </a:lnTo>
                        <a:lnTo>
                          <a:pt x="634" y="1734"/>
                        </a:lnTo>
                        <a:lnTo>
                          <a:pt x="629" y="1639"/>
                        </a:lnTo>
                        <a:lnTo>
                          <a:pt x="614" y="1525"/>
                        </a:lnTo>
                        <a:lnTo>
                          <a:pt x="592" y="1400"/>
                        </a:lnTo>
                        <a:lnTo>
                          <a:pt x="561" y="1275"/>
                        </a:lnTo>
                        <a:lnTo>
                          <a:pt x="540" y="1212"/>
                        </a:lnTo>
                        <a:lnTo>
                          <a:pt x="514" y="1150"/>
                        </a:lnTo>
                        <a:lnTo>
                          <a:pt x="462" y="1317"/>
                        </a:lnTo>
                        <a:lnTo>
                          <a:pt x="405" y="1494"/>
                        </a:lnTo>
                        <a:lnTo>
                          <a:pt x="332" y="1702"/>
                        </a:lnTo>
                        <a:lnTo>
                          <a:pt x="249" y="1926"/>
                        </a:lnTo>
                        <a:lnTo>
                          <a:pt x="160" y="2139"/>
                        </a:lnTo>
                        <a:lnTo>
                          <a:pt x="120" y="2233"/>
                        </a:lnTo>
                        <a:lnTo>
                          <a:pt x="78" y="2321"/>
                        </a:lnTo>
                        <a:lnTo>
                          <a:pt x="36" y="2394"/>
                        </a:lnTo>
                        <a:lnTo>
                          <a:pt x="0" y="245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未知"/>
                  <p:cNvSpPr/>
                  <p:nvPr/>
                </p:nvSpPr>
                <p:spPr>
                  <a:xfrm rot="11388000">
                    <a:off x="842400" y="195120"/>
                    <a:ext cx="87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557" h="380">
                        <a:moveTo>
                          <a:pt x="0" y="380"/>
                        </a:moveTo>
                        <a:lnTo>
                          <a:pt x="53" y="333"/>
                        </a:lnTo>
                        <a:lnTo>
                          <a:pt x="115" y="287"/>
                        </a:lnTo>
                        <a:lnTo>
                          <a:pt x="188" y="229"/>
                        </a:lnTo>
                        <a:lnTo>
                          <a:pt x="272" y="172"/>
                        </a:lnTo>
                        <a:lnTo>
                          <a:pt x="360" y="125"/>
                        </a:lnTo>
                        <a:lnTo>
                          <a:pt x="407" y="98"/>
                        </a:lnTo>
                        <a:lnTo>
                          <a:pt x="454" y="83"/>
                        </a:lnTo>
                        <a:lnTo>
                          <a:pt x="495" y="68"/>
                        </a:lnTo>
                        <a:lnTo>
                          <a:pt x="536" y="57"/>
                        </a:lnTo>
                        <a:lnTo>
                          <a:pt x="557" y="0"/>
                        </a:lnTo>
                        <a:lnTo>
                          <a:pt x="506" y="21"/>
                        </a:lnTo>
                        <a:lnTo>
                          <a:pt x="442" y="47"/>
                        </a:lnTo>
                        <a:lnTo>
                          <a:pt x="365" y="83"/>
                        </a:lnTo>
                        <a:lnTo>
                          <a:pt x="277" y="135"/>
                        </a:lnTo>
                        <a:lnTo>
                          <a:pt x="183" y="203"/>
                        </a:lnTo>
                        <a:lnTo>
                          <a:pt x="137" y="240"/>
                        </a:lnTo>
                        <a:lnTo>
                          <a:pt x="89" y="281"/>
                        </a:lnTo>
                        <a:lnTo>
                          <a:pt x="42" y="328"/>
                        </a:lnTo>
                        <a:lnTo>
                          <a:pt x="0" y="38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未知"/>
                  <p:cNvSpPr/>
                  <p:nvPr/>
                </p:nvSpPr>
                <p:spPr>
                  <a:xfrm rot="11388000">
                    <a:off x="988560" y="153360"/>
                    <a:ext cx="4212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635">
                        <a:moveTo>
                          <a:pt x="0" y="635"/>
                        </a:moveTo>
                        <a:lnTo>
                          <a:pt x="41" y="577"/>
                        </a:lnTo>
                        <a:lnTo>
                          <a:pt x="83" y="521"/>
                        </a:lnTo>
                        <a:lnTo>
                          <a:pt x="125" y="447"/>
                        </a:lnTo>
                        <a:lnTo>
                          <a:pt x="166" y="359"/>
                        </a:lnTo>
                        <a:lnTo>
                          <a:pt x="187" y="312"/>
                        </a:lnTo>
                        <a:lnTo>
                          <a:pt x="198" y="260"/>
                        </a:lnTo>
                        <a:lnTo>
                          <a:pt x="208" y="214"/>
                        </a:lnTo>
                        <a:lnTo>
                          <a:pt x="218" y="162"/>
                        </a:lnTo>
                        <a:lnTo>
                          <a:pt x="218" y="115"/>
                        </a:lnTo>
                        <a:lnTo>
                          <a:pt x="208" y="68"/>
                        </a:lnTo>
                        <a:lnTo>
                          <a:pt x="260" y="0"/>
                        </a:lnTo>
                        <a:lnTo>
                          <a:pt x="265" y="57"/>
                        </a:lnTo>
                        <a:lnTo>
                          <a:pt x="260" y="120"/>
                        </a:lnTo>
                        <a:lnTo>
                          <a:pt x="250" y="203"/>
                        </a:lnTo>
                        <a:lnTo>
                          <a:pt x="233" y="255"/>
                        </a:lnTo>
                        <a:lnTo>
                          <a:pt x="218" y="302"/>
                        </a:lnTo>
                        <a:lnTo>
                          <a:pt x="198" y="354"/>
                        </a:lnTo>
                        <a:lnTo>
                          <a:pt x="171" y="412"/>
                        </a:lnTo>
                        <a:lnTo>
                          <a:pt x="140" y="464"/>
                        </a:lnTo>
                        <a:lnTo>
                          <a:pt x="98" y="521"/>
                        </a:lnTo>
                        <a:lnTo>
                          <a:pt x="51" y="577"/>
                        </a:lnTo>
                        <a:lnTo>
                          <a:pt x="0" y="63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未知"/>
                  <p:cNvSpPr/>
                  <p:nvPr/>
                </p:nvSpPr>
                <p:spPr>
                  <a:xfrm rot="11388000">
                    <a:off x="1010520" y="303120"/>
                    <a:ext cx="9216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3" h="130">
                        <a:moveTo>
                          <a:pt x="0" y="104"/>
                        </a:moveTo>
                        <a:lnTo>
                          <a:pt x="62" y="114"/>
                        </a:lnTo>
                        <a:lnTo>
                          <a:pt x="125" y="114"/>
                        </a:lnTo>
                        <a:lnTo>
                          <a:pt x="209" y="114"/>
                        </a:lnTo>
                        <a:lnTo>
                          <a:pt x="297" y="104"/>
                        </a:lnTo>
                        <a:lnTo>
                          <a:pt x="339" y="94"/>
                        </a:lnTo>
                        <a:lnTo>
                          <a:pt x="385" y="84"/>
                        </a:lnTo>
                        <a:lnTo>
                          <a:pt x="427" y="67"/>
                        </a:lnTo>
                        <a:lnTo>
                          <a:pt x="469" y="52"/>
                        </a:lnTo>
                        <a:lnTo>
                          <a:pt x="504" y="26"/>
                        </a:lnTo>
                        <a:lnTo>
                          <a:pt x="536" y="0"/>
                        </a:lnTo>
                        <a:lnTo>
                          <a:pt x="583" y="16"/>
                        </a:lnTo>
                        <a:lnTo>
                          <a:pt x="546" y="42"/>
                        </a:lnTo>
                        <a:lnTo>
                          <a:pt x="499" y="67"/>
                        </a:lnTo>
                        <a:lnTo>
                          <a:pt x="437" y="94"/>
                        </a:lnTo>
                        <a:lnTo>
                          <a:pt x="354" y="114"/>
                        </a:lnTo>
                        <a:lnTo>
                          <a:pt x="307" y="125"/>
                        </a:lnTo>
                        <a:lnTo>
                          <a:pt x="255" y="130"/>
                        </a:lnTo>
                        <a:lnTo>
                          <a:pt x="197" y="130"/>
                        </a:lnTo>
                        <a:lnTo>
                          <a:pt x="135" y="125"/>
                        </a:lnTo>
                        <a:lnTo>
                          <a:pt x="68" y="120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未知"/>
                  <p:cNvSpPr/>
                  <p:nvPr/>
                </p:nvSpPr>
                <p:spPr>
                  <a:xfrm rot="11388000">
                    <a:off x="1051200" y="326160"/>
                    <a:ext cx="56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240">
                        <a:moveTo>
                          <a:pt x="0" y="0"/>
                        </a:moveTo>
                        <a:lnTo>
                          <a:pt x="36" y="21"/>
                        </a:lnTo>
                        <a:lnTo>
                          <a:pt x="124" y="73"/>
                        </a:lnTo>
                        <a:lnTo>
                          <a:pt x="177" y="105"/>
                        </a:lnTo>
                        <a:lnTo>
                          <a:pt x="229" y="146"/>
                        </a:lnTo>
                        <a:lnTo>
                          <a:pt x="276" y="188"/>
                        </a:lnTo>
                        <a:lnTo>
                          <a:pt x="312" y="235"/>
                        </a:lnTo>
                        <a:lnTo>
                          <a:pt x="359" y="240"/>
                        </a:lnTo>
                        <a:lnTo>
                          <a:pt x="338" y="213"/>
                        </a:lnTo>
                        <a:lnTo>
                          <a:pt x="312" y="188"/>
                        </a:lnTo>
                        <a:lnTo>
                          <a:pt x="276" y="151"/>
                        </a:lnTo>
                        <a:lnTo>
                          <a:pt x="224" y="115"/>
                        </a:lnTo>
                        <a:lnTo>
                          <a:pt x="166" y="73"/>
                        </a:lnTo>
                        <a:lnTo>
                          <a:pt x="89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未知"/>
                  <p:cNvSpPr/>
                  <p:nvPr/>
                </p:nvSpPr>
                <p:spPr>
                  <a:xfrm rot="11388000">
                    <a:off x="930240" y="181080"/>
                    <a:ext cx="187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146">
                        <a:moveTo>
                          <a:pt x="47" y="146"/>
                        </a:moveTo>
                        <a:lnTo>
                          <a:pt x="57" y="146"/>
                        </a:lnTo>
                        <a:lnTo>
                          <a:pt x="93" y="141"/>
                        </a:lnTo>
                        <a:lnTo>
                          <a:pt x="109" y="130"/>
                        </a:lnTo>
                        <a:lnTo>
                          <a:pt x="119" y="120"/>
                        </a:lnTo>
                        <a:lnTo>
                          <a:pt x="124" y="104"/>
                        </a:lnTo>
                        <a:lnTo>
                          <a:pt x="124" y="84"/>
                        </a:lnTo>
                        <a:lnTo>
                          <a:pt x="114" y="57"/>
                        </a:lnTo>
                        <a:lnTo>
                          <a:pt x="104" y="37"/>
                        </a:lnTo>
                        <a:lnTo>
                          <a:pt x="87" y="21"/>
                        </a:lnTo>
                        <a:lnTo>
                          <a:pt x="72" y="5"/>
                        </a:lnTo>
                        <a:lnTo>
                          <a:pt x="57" y="0"/>
                        </a:lnTo>
                        <a:lnTo>
                          <a:pt x="41" y="0"/>
                        </a:lnTo>
                        <a:lnTo>
                          <a:pt x="25" y="11"/>
                        </a:lnTo>
                        <a:lnTo>
                          <a:pt x="10" y="32"/>
                        </a:lnTo>
                        <a:lnTo>
                          <a:pt x="0" y="57"/>
                        </a:lnTo>
                        <a:lnTo>
                          <a:pt x="0" y="79"/>
                        </a:lnTo>
                        <a:lnTo>
                          <a:pt x="5" y="99"/>
                        </a:lnTo>
                        <a:lnTo>
                          <a:pt x="15" y="115"/>
                        </a:lnTo>
                        <a:lnTo>
                          <a:pt x="36" y="141"/>
                        </a:lnTo>
                        <a:lnTo>
                          <a:pt x="47" y="146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未知"/>
                  <p:cNvSpPr/>
                  <p:nvPr/>
                </p:nvSpPr>
                <p:spPr>
                  <a:xfrm rot="11388000">
                    <a:off x="1016280" y="351000"/>
                    <a:ext cx="1656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78">
                        <a:moveTo>
                          <a:pt x="0" y="57"/>
                        </a:moveTo>
                        <a:lnTo>
                          <a:pt x="15" y="62"/>
                        </a:lnTo>
                        <a:lnTo>
                          <a:pt x="46" y="73"/>
                        </a:lnTo>
                        <a:lnTo>
                          <a:pt x="62" y="78"/>
                        </a:lnTo>
                        <a:lnTo>
                          <a:pt x="78" y="78"/>
                        </a:lnTo>
                        <a:lnTo>
                          <a:pt x="93" y="67"/>
                        </a:lnTo>
                        <a:lnTo>
                          <a:pt x="98" y="57"/>
                        </a:lnTo>
                        <a:lnTo>
                          <a:pt x="98" y="41"/>
                        </a:lnTo>
                        <a:lnTo>
                          <a:pt x="88" y="25"/>
                        </a:lnTo>
                        <a:lnTo>
                          <a:pt x="73" y="20"/>
                        </a:lnTo>
                        <a:lnTo>
                          <a:pt x="56" y="10"/>
                        </a:lnTo>
                        <a:lnTo>
                          <a:pt x="15" y="5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未知"/>
                  <p:cNvSpPr/>
                  <p:nvPr/>
                </p:nvSpPr>
                <p:spPr>
                  <a:xfrm rot="11388000">
                    <a:off x="945000" y="388440"/>
                    <a:ext cx="187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125">
                        <a:moveTo>
                          <a:pt x="0" y="58"/>
                        </a:moveTo>
                        <a:lnTo>
                          <a:pt x="5" y="73"/>
                        </a:lnTo>
                        <a:lnTo>
                          <a:pt x="25" y="105"/>
                        </a:lnTo>
                        <a:lnTo>
                          <a:pt x="42" y="115"/>
                        </a:lnTo>
                        <a:lnTo>
                          <a:pt x="57" y="125"/>
                        </a:lnTo>
                        <a:lnTo>
                          <a:pt x="77" y="125"/>
                        </a:lnTo>
                        <a:lnTo>
                          <a:pt x="98" y="115"/>
                        </a:lnTo>
                        <a:lnTo>
                          <a:pt x="114" y="94"/>
                        </a:lnTo>
                        <a:lnTo>
                          <a:pt x="119" y="78"/>
                        </a:lnTo>
                        <a:lnTo>
                          <a:pt x="119" y="58"/>
                        </a:lnTo>
                        <a:lnTo>
                          <a:pt x="114" y="42"/>
                        </a:lnTo>
                        <a:lnTo>
                          <a:pt x="98" y="26"/>
                        </a:lnTo>
                        <a:lnTo>
                          <a:pt x="82" y="11"/>
                        </a:lnTo>
                        <a:lnTo>
                          <a:pt x="67" y="5"/>
                        </a:lnTo>
                        <a:lnTo>
                          <a:pt x="52" y="0"/>
                        </a:lnTo>
                        <a:lnTo>
                          <a:pt x="35" y="0"/>
                        </a:lnTo>
                        <a:lnTo>
                          <a:pt x="25" y="11"/>
                        </a:lnTo>
                        <a:lnTo>
                          <a:pt x="10" y="31"/>
                        </a:lnTo>
                        <a:lnTo>
                          <a:pt x="0" y="47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未知"/>
                  <p:cNvSpPr/>
                  <p:nvPr/>
                </p:nvSpPr>
                <p:spPr>
                  <a:xfrm rot="11388000">
                    <a:off x="1149840" y="312120"/>
                    <a:ext cx="1440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57">
                        <a:moveTo>
                          <a:pt x="21" y="57"/>
                        </a:moveTo>
                        <a:lnTo>
                          <a:pt x="42" y="57"/>
                        </a:lnTo>
                        <a:lnTo>
                          <a:pt x="73" y="52"/>
                        </a:lnTo>
                        <a:lnTo>
                          <a:pt x="83" y="47"/>
                        </a:lnTo>
                        <a:lnTo>
                          <a:pt x="94" y="37"/>
                        </a:lnTo>
                        <a:lnTo>
                          <a:pt x="94" y="26"/>
                        </a:lnTo>
                        <a:lnTo>
                          <a:pt x="78" y="15"/>
                        </a:lnTo>
                        <a:lnTo>
                          <a:pt x="58" y="5"/>
                        </a:lnTo>
                        <a:lnTo>
                          <a:pt x="42" y="0"/>
                        </a:lnTo>
                        <a:lnTo>
                          <a:pt x="26" y="0"/>
                        </a:lnTo>
                        <a:lnTo>
                          <a:pt x="11" y="5"/>
                        </a:lnTo>
                        <a:lnTo>
                          <a:pt x="6" y="15"/>
                        </a:lnTo>
                        <a:lnTo>
                          <a:pt x="0" y="32"/>
                        </a:lnTo>
                        <a:lnTo>
                          <a:pt x="11" y="47"/>
                        </a:lnTo>
                        <a:lnTo>
                          <a:pt x="21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2" name="Group 863"/>
                <p:cNvGrpSpPr/>
                <p:nvPr/>
              </p:nvGrpSpPr>
              <p:grpSpPr>
                <a:xfrm>
                  <a:off x="506880" y="306360"/>
                  <a:ext cx="74160" cy="60480"/>
                  <a:chOff x="506880" y="306360"/>
                  <a:chExt cx="74160" cy="60480"/>
                </a:xfrm>
              </p:grpSpPr>
              <p:sp>
                <p:nvSpPr>
                  <p:cNvPr id="903" name="未知"/>
                  <p:cNvSpPr/>
                  <p:nvPr/>
                </p:nvSpPr>
                <p:spPr>
                  <a:xfrm rot="7023600">
                    <a:off x="526680" y="303480"/>
                    <a:ext cx="3420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333" h="417">
                        <a:moveTo>
                          <a:pt x="323" y="417"/>
                        </a:moveTo>
                        <a:lnTo>
                          <a:pt x="281" y="407"/>
                        </a:lnTo>
                        <a:lnTo>
                          <a:pt x="239" y="391"/>
                        </a:lnTo>
                        <a:lnTo>
                          <a:pt x="193" y="375"/>
                        </a:lnTo>
                        <a:lnTo>
                          <a:pt x="146" y="350"/>
                        </a:lnTo>
                        <a:lnTo>
                          <a:pt x="99" y="318"/>
                        </a:lnTo>
                        <a:lnTo>
                          <a:pt x="83" y="302"/>
                        </a:lnTo>
                        <a:lnTo>
                          <a:pt x="68" y="282"/>
                        </a:lnTo>
                        <a:lnTo>
                          <a:pt x="57" y="261"/>
                        </a:lnTo>
                        <a:lnTo>
                          <a:pt x="47" y="240"/>
                        </a:lnTo>
                        <a:lnTo>
                          <a:pt x="26" y="147"/>
                        </a:lnTo>
                        <a:lnTo>
                          <a:pt x="6" y="68"/>
                        </a:lnTo>
                        <a:lnTo>
                          <a:pt x="0" y="37"/>
                        </a:lnTo>
                        <a:lnTo>
                          <a:pt x="0" y="1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21" y="0"/>
                        </a:lnTo>
                        <a:lnTo>
                          <a:pt x="31" y="6"/>
                        </a:lnTo>
                        <a:lnTo>
                          <a:pt x="57" y="11"/>
                        </a:lnTo>
                        <a:lnTo>
                          <a:pt x="83" y="27"/>
                        </a:lnTo>
                        <a:lnTo>
                          <a:pt x="146" y="73"/>
                        </a:lnTo>
                        <a:lnTo>
                          <a:pt x="208" y="125"/>
                        </a:lnTo>
                        <a:lnTo>
                          <a:pt x="271" y="193"/>
                        </a:lnTo>
                        <a:lnTo>
                          <a:pt x="296" y="230"/>
                        </a:lnTo>
                        <a:lnTo>
                          <a:pt x="313" y="261"/>
                        </a:lnTo>
                        <a:lnTo>
                          <a:pt x="323" y="292"/>
                        </a:lnTo>
                        <a:lnTo>
                          <a:pt x="333" y="323"/>
                        </a:lnTo>
                        <a:lnTo>
                          <a:pt x="333" y="350"/>
                        </a:lnTo>
                        <a:lnTo>
                          <a:pt x="333" y="375"/>
                        </a:lnTo>
                        <a:lnTo>
                          <a:pt x="323" y="417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未知"/>
                  <p:cNvSpPr/>
                  <p:nvPr/>
                </p:nvSpPr>
                <p:spPr>
                  <a:xfrm rot="3376800">
                    <a:off x="528120" y="318600"/>
                    <a:ext cx="331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214">
                        <a:moveTo>
                          <a:pt x="0" y="151"/>
                        </a:moveTo>
                        <a:lnTo>
                          <a:pt x="36" y="120"/>
                        </a:lnTo>
                        <a:lnTo>
                          <a:pt x="115" y="57"/>
                        </a:lnTo>
                        <a:lnTo>
                          <a:pt x="156" y="32"/>
                        </a:lnTo>
                        <a:lnTo>
                          <a:pt x="187" y="6"/>
                        </a:lnTo>
                        <a:lnTo>
                          <a:pt x="208" y="0"/>
                        </a:lnTo>
                        <a:lnTo>
                          <a:pt x="213" y="0"/>
                        </a:lnTo>
                        <a:lnTo>
                          <a:pt x="213" y="11"/>
                        </a:lnTo>
                        <a:lnTo>
                          <a:pt x="193" y="69"/>
                        </a:lnTo>
                        <a:lnTo>
                          <a:pt x="162" y="136"/>
                        </a:lnTo>
                        <a:lnTo>
                          <a:pt x="140" y="167"/>
                        </a:lnTo>
                        <a:lnTo>
                          <a:pt x="120" y="187"/>
                        </a:lnTo>
                        <a:lnTo>
                          <a:pt x="98" y="209"/>
                        </a:lnTo>
                        <a:lnTo>
                          <a:pt x="73" y="214"/>
                        </a:lnTo>
                        <a:lnTo>
                          <a:pt x="47" y="209"/>
                        </a:lnTo>
                        <a:lnTo>
                          <a:pt x="31" y="204"/>
                        </a:lnTo>
                        <a:lnTo>
                          <a:pt x="21" y="193"/>
                        </a:lnTo>
                        <a:lnTo>
                          <a:pt x="10" y="182"/>
                        </a:lnTo>
                        <a:lnTo>
                          <a:pt x="0" y="162"/>
                        </a:lnTo>
                        <a:lnTo>
                          <a:pt x="0" y="151"/>
                        </a:lnTo>
                        <a:close/>
                      </a:path>
                    </a:pathLst>
                  </a:cu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05" name="Group 866"/>
            <p:cNvGrpSpPr/>
            <p:nvPr/>
          </p:nvGrpSpPr>
          <p:grpSpPr>
            <a:xfrm>
              <a:off x="1062000" y="536760"/>
              <a:ext cx="748800" cy="784800"/>
              <a:chOff x="1062000" y="536760"/>
              <a:chExt cx="748800" cy="784800"/>
            </a:xfrm>
          </p:grpSpPr>
          <p:grpSp>
            <p:nvGrpSpPr>
              <p:cNvPr id="906" name="Group 867"/>
              <p:cNvGrpSpPr/>
              <p:nvPr/>
            </p:nvGrpSpPr>
            <p:grpSpPr>
              <a:xfrm>
                <a:off x="1062000" y="536760"/>
                <a:ext cx="748800" cy="784800"/>
                <a:chOff x="1062000" y="536760"/>
                <a:chExt cx="748800" cy="784800"/>
              </a:xfrm>
            </p:grpSpPr>
            <p:sp>
              <p:nvSpPr>
                <p:cNvPr id="907" name="未知"/>
                <p:cNvSpPr/>
                <p:nvPr/>
              </p:nvSpPr>
              <p:spPr>
                <a:xfrm flipH="1" rot="2658600">
                  <a:off x="1164600" y="784440"/>
                  <a:ext cx="596880" cy="38268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未知"/>
                <p:cNvSpPr/>
                <p:nvPr/>
              </p:nvSpPr>
              <p:spPr>
                <a:xfrm flipH="1" rot="2658600">
                  <a:off x="1201680" y="857520"/>
                  <a:ext cx="506160" cy="18180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未知"/>
                <p:cNvSpPr/>
                <p:nvPr/>
              </p:nvSpPr>
              <p:spPr>
                <a:xfrm flipH="1" rot="2658600">
                  <a:off x="1035360" y="761760"/>
                  <a:ext cx="736920" cy="22572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未知"/>
                <p:cNvSpPr/>
                <p:nvPr/>
              </p:nvSpPr>
              <p:spPr>
                <a:xfrm flipH="1" rot="2658600">
                  <a:off x="1388520" y="995760"/>
                  <a:ext cx="239400" cy="2232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未知"/>
                <p:cNvSpPr/>
                <p:nvPr/>
              </p:nvSpPr>
              <p:spPr>
                <a:xfrm flipH="1" rot="2658600">
                  <a:off x="1346400" y="864720"/>
                  <a:ext cx="309600" cy="8352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未知"/>
                <p:cNvSpPr/>
                <p:nvPr/>
              </p:nvSpPr>
              <p:spPr>
                <a:xfrm flipH="1" rot="2658600">
                  <a:off x="1316880" y="783720"/>
                  <a:ext cx="341640" cy="11052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未知"/>
                <p:cNvSpPr/>
                <p:nvPr/>
              </p:nvSpPr>
              <p:spPr>
                <a:xfrm flipH="1" rot="2658600">
                  <a:off x="1459800" y="1069200"/>
                  <a:ext cx="141840" cy="1404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未知"/>
                <p:cNvSpPr/>
                <p:nvPr/>
              </p:nvSpPr>
              <p:spPr>
                <a:xfrm flipH="1" rot="2658600">
                  <a:off x="1520640" y="1140480"/>
                  <a:ext cx="74160" cy="576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未知"/>
                <p:cNvSpPr/>
                <p:nvPr/>
              </p:nvSpPr>
              <p:spPr>
                <a:xfrm flipH="1" rot="2658600">
                  <a:off x="1500120" y="1117800"/>
                  <a:ext cx="54360" cy="3888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未知"/>
                <p:cNvSpPr/>
                <p:nvPr/>
              </p:nvSpPr>
              <p:spPr>
                <a:xfrm flipH="1" rot="2658600">
                  <a:off x="1437840" y="1053360"/>
                  <a:ext cx="94680" cy="7272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未知"/>
                <p:cNvSpPr/>
                <p:nvPr/>
              </p:nvSpPr>
              <p:spPr>
                <a:xfrm flipH="1" rot="2658600">
                  <a:off x="1346040" y="956520"/>
                  <a:ext cx="151560" cy="12708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未知"/>
                <p:cNvSpPr/>
                <p:nvPr/>
              </p:nvSpPr>
              <p:spPr>
                <a:xfrm flipH="1" rot="2658600">
                  <a:off x="1271520" y="853560"/>
                  <a:ext cx="163080" cy="18576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未知"/>
                <p:cNvSpPr/>
                <p:nvPr/>
              </p:nvSpPr>
              <p:spPr>
                <a:xfrm flipH="1" rot="2658600">
                  <a:off x="1305720" y="955800"/>
                  <a:ext cx="17640" cy="7344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未知"/>
                <p:cNvSpPr/>
                <p:nvPr/>
              </p:nvSpPr>
              <p:spPr>
                <a:xfrm flipH="1" rot="2658600">
                  <a:off x="1225800" y="754200"/>
                  <a:ext cx="112680" cy="22896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未知"/>
                <p:cNvSpPr/>
                <p:nvPr/>
              </p:nvSpPr>
              <p:spPr>
                <a:xfrm flipH="1" rot="2658600">
                  <a:off x="1319040" y="930960"/>
                  <a:ext cx="83520" cy="3636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未知"/>
                <p:cNvSpPr/>
                <p:nvPr/>
              </p:nvSpPr>
              <p:spPr>
                <a:xfrm flipH="1" rot="2658600">
                  <a:off x="1387800" y="1032120"/>
                  <a:ext cx="40320" cy="5832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未知"/>
                <p:cNvSpPr/>
                <p:nvPr/>
              </p:nvSpPr>
              <p:spPr>
                <a:xfrm flipH="1" rot="2658600">
                  <a:off x="1485360" y="1023120"/>
                  <a:ext cx="88200" cy="1260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未知"/>
                <p:cNvSpPr/>
                <p:nvPr/>
              </p:nvSpPr>
              <p:spPr>
                <a:xfrm flipH="1" rot="2658600">
                  <a:off x="1536120" y="1020600"/>
                  <a:ext cx="54360" cy="2232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未知"/>
                <p:cNvSpPr/>
                <p:nvPr/>
              </p:nvSpPr>
              <p:spPr>
                <a:xfrm flipH="1" rot="2658600">
                  <a:off x="1363320" y="997920"/>
                  <a:ext cx="17640" cy="1368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未知"/>
                <p:cNvSpPr/>
                <p:nvPr/>
              </p:nvSpPr>
              <p:spPr>
                <a:xfrm flipH="1" rot="2658600">
                  <a:off x="1537920" y="975960"/>
                  <a:ext cx="15840" cy="828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未知"/>
                <p:cNvSpPr/>
                <p:nvPr/>
              </p:nvSpPr>
              <p:spPr>
                <a:xfrm flipH="1" rot="2658600">
                  <a:off x="1527840" y="898920"/>
                  <a:ext cx="17640" cy="1080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未知"/>
                <p:cNvSpPr/>
                <p:nvPr/>
              </p:nvSpPr>
              <p:spPr>
                <a:xfrm flipH="1" rot="2658600">
                  <a:off x="1583280" y="1102320"/>
                  <a:ext cx="13680" cy="504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9" name="Group 890"/>
              <p:cNvGrpSpPr/>
              <p:nvPr/>
            </p:nvGrpSpPr>
            <p:grpSpPr>
              <a:xfrm>
                <a:off x="1225800" y="592560"/>
                <a:ext cx="70560" cy="56880"/>
                <a:chOff x="1225800" y="592560"/>
                <a:chExt cx="70560" cy="56880"/>
              </a:xfrm>
            </p:grpSpPr>
            <p:sp>
              <p:nvSpPr>
                <p:cNvPr id="930" name="未知"/>
                <p:cNvSpPr/>
                <p:nvPr/>
              </p:nvSpPr>
              <p:spPr>
                <a:xfrm flipH="1" rot="7023600">
                  <a:off x="1244880" y="589320"/>
                  <a:ext cx="31680" cy="6300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未知"/>
                <p:cNvSpPr/>
                <p:nvPr/>
              </p:nvSpPr>
              <p:spPr>
                <a:xfrm flipH="1" rot="10670400">
                  <a:off x="1240560" y="615960"/>
                  <a:ext cx="31680" cy="1944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2" name="Group 893"/>
            <p:cNvGrpSpPr/>
            <p:nvPr/>
          </p:nvGrpSpPr>
          <p:grpSpPr>
            <a:xfrm>
              <a:off x="1191960" y="317160"/>
              <a:ext cx="675360" cy="352080"/>
              <a:chOff x="1191960" y="317160"/>
              <a:chExt cx="675360" cy="352080"/>
            </a:xfrm>
          </p:grpSpPr>
          <p:grpSp>
            <p:nvGrpSpPr>
              <p:cNvPr id="933" name="Group 894"/>
              <p:cNvGrpSpPr/>
              <p:nvPr/>
            </p:nvGrpSpPr>
            <p:grpSpPr>
              <a:xfrm>
                <a:off x="1191960" y="317160"/>
                <a:ext cx="675360" cy="352080"/>
                <a:chOff x="1191960" y="317160"/>
                <a:chExt cx="675360" cy="352080"/>
              </a:xfrm>
            </p:grpSpPr>
            <p:sp>
              <p:nvSpPr>
                <p:cNvPr id="934" name="未知"/>
                <p:cNvSpPr/>
                <p:nvPr/>
              </p:nvSpPr>
              <p:spPr>
                <a:xfrm rot="10594800">
                  <a:off x="1350720" y="331560"/>
                  <a:ext cx="507240" cy="32256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未知"/>
                <p:cNvSpPr/>
                <p:nvPr/>
              </p:nvSpPr>
              <p:spPr>
                <a:xfrm rot="10594800">
                  <a:off x="1368720" y="429120"/>
                  <a:ext cx="430200" cy="15300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未知"/>
                <p:cNvSpPr/>
                <p:nvPr/>
              </p:nvSpPr>
              <p:spPr>
                <a:xfrm rot="10594800">
                  <a:off x="1196640" y="429120"/>
                  <a:ext cx="626760" cy="19044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未知"/>
                <p:cNvSpPr/>
                <p:nvPr/>
              </p:nvSpPr>
              <p:spPr>
                <a:xfrm rot="10594800">
                  <a:off x="1548720" y="488160"/>
                  <a:ext cx="203400" cy="1872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未知"/>
                <p:cNvSpPr/>
                <p:nvPr/>
              </p:nvSpPr>
              <p:spPr>
                <a:xfrm rot="10594800">
                  <a:off x="1458360" y="522360"/>
                  <a:ext cx="263160" cy="6984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未知"/>
                <p:cNvSpPr/>
                <p:nvPr/>
              </p:nvSpPr>
              <p:spPr>
                <a:xfrm rot="10594800">
                  <a:off x="1399320" y="547560"/>
                  <a:ext cx="290160" cy="9288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未知"/>
                <p:cNvSpPr/>
                <p:nvPr/>
              </p:nvSpPr>
              <p:spPr>
                <a:xfrm rot="10594800">
                  <a:off x="1643760" y="460080"/>
                  <a:ext cx="120600" cy="1188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未知"/>
                <p:cNvSpPr/>
                <p:nvPr/>
              </p:nvSpPr>
              <p:spPr>
                <a:xfrm rot="10594800">
                  <a:off x="1726920" y="435960"/>
                  <a:ext cx="63000" cy="468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未知"/>
                <p:cNvSpPr/>
                <p:nvPr/>
              </p:nvSpPr>
              <p:spPr>
                <a:xfrm rot="10594800">
                  <a:off x="1712880" y="409320"/>
                  <a:ext cx="46080" cy="3240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未知"/>
                <p:cNvSpPr/>
                <p:nvPr/>
              </p:nvSpPr>
              <p:spPr>
                <a:xfrm rot="10594800">
                  <a:off x="1641600" y="401760"/>
                  <a:ext cx="80640" cy="6084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未知"/>
                <p:cNvSpPr/>
                <p:nvPr/>
              </p:nvSpPr>
              <p:spPr>
                <a:xfrm rot="10594800">
                  <a:off x="1537560" y="388800"/>
                  <a:ext cx="129240" cy="10692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未知"/>
                <p:cNvSpPr/>
                <p:nvPr/>
              </p:nvSpPr>
              <p:spPr>
                <a:xfrm rot="10594800">
                  <a:off x="1447560" y="371880"/>
                  <a:ext cx="138600" cy="15660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未知"/>
                <p:cNvSpPr/>
                <p:nvPr/>
              </p:nvSpPr>
              <p:spPr>
                <a:xfrm rot="10594800">
                  <a:off x="1509840" y="369000"/>
                  <a:ext cx="15120" cy="6192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未知"/>
                <p:cNvSpPr/>
                <p:nvPr/>
              </p:nvSpPr>
              <p:spPr>
                <a:xfrm rot="10594800">
                  <a:off x="1381320" y="364680"/>
                  <a:ext cx="95760" cy="19260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未知"/>
                <p:cNvSpPr/>
                <p:nvPr/>
              </p:nvSpPr>
              <p:spPr>
                <a:xfrm rot="10594800">
                  <a:off x="1488600" y="437760"/>
                  <a:ext cx="70920" cy="3060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未知"/>
                <p:cNvSpPr/>
                <p:nvPr/>
              </p:nvSpPr>
              <p:spPr>
                <a:xfrm rot="10594800">
                  <a:off x="1599120" y="383040"/>
                  <a:ext cx="34200" cy="4896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未知"/>
                <p:cNvSpPr/>
                <p:nvPr/>
              </p:nvSpPr>
              <p:spPr>
                <a:xfrm rot="10594800">
                  <a:off x="1639440" y="489960"/>
                  <a:ext cx="74880" cy="1044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未知"/>
                <p:cNvSpPr/>
                <p:nvPr/>
              </p:nvSpPr>
              <p:spPr>
                <a:xfrm rot="10594800">
                  <a:off x="1676880" y="503280"/>
                  <a:ext cx="46080" cy="1872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未知"/>
                <p:cNvSpPr/>
                <p:nvPr/>
              </p:nvSpPr>
              <p:spPr>
                <a:xfrm rot="10594800">
                  <a:off x="1554120" y="418320"/>
                  <a:ext cx="15120" cy="1080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未知"/>
                <p:cNvSpPr/>
                <p:nvPr/>
              </p:nvSpPr>
              <p:spPr>
                <a:xfrm rot="10594800">
                  <a:off x="1653480" y="531720"/>
                  <a:ext cx="13320" cy="720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未知"/>
                <p:cNvSpPr/>
                <p:nvPr/>
              </p:nvSpPr>
              <p:spPr>
                <a:xfrm rot="10594800">
                  <a:off x="1603800" y="573840"/>
                  <a:ext cx="15120" cy="864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未知"/>
                <p:cNvSpPr/>
                <p:nvPr/>
              </p:nvSpPr>
              <p:spPr>
                <a:xfrm rot="10594800">
                  <a:off x="1751760" y="478080"/>
                  <a:ext cx="11520" cy="432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6" name="Group 917"/>
              <p:cNvGrpSpPr/>
              <p:nvPr/>
            </p:nvGrpSpPr>
            <p:grpSpPr>
              <a:xfrm>
                <a:off x="1248120" y="586080"/>
                <a:ext cx="58680" cy="39960"/>
                <a:chOff x="1248120" y="586080"/>
                <a:chExt cx="58680" cy="39960"/>
              </a:xfrm>
            </p:grpSpPr>
            <p:sp>
              <p:nvSpPr>
                <p:cNvPr id="957" name="未知"/>
                <p:cNvSpPr/>
                <p:nvPr/>
              </p:nvSpPr>
              <p:spPr>
                <a:xfrm rot="6231000">
                  <a:off x="1263960" y="579600"/>
                  <a:ext cx="26640" cy="5364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未知"/>
                <p:cNvSpPr/>
                <p:nvPr/>
              </p:nvSpPr>
              <p:spPr>
                <a:xfrm rot="2583600">
                  <a:off x="1262880" y="592920"/>
                  <a:ext cx="27000" cy="1620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59" name="Group 920"/>
            <p:cNvGrpSpPr/>
            <p:nvPr/>
          </p:nvGrpSpPr>
          <p:grpSpPr>
            <a:xfrm>
              <a:off x="1652040" y="805680"/>
              <a:ext cx="568800" cy="524520"/>
              <a:chOff x="1652040" y="805680"/>
              <a:chExt cx="568800" cy="524520"/>
            </a:xfrm>
          </p:grpSpPr>
          <p:grpSp>
            <p:nvGrpSpPr>
              <p:cNvPr id="960" name="Group 921"/>
              <p:cNvGrpSpPr/>
              <p:nvPr/>
            </p:nvGrpSpPr>
            <p:grpSpPr>
              <a:xfrm>
                <a:off x="1655280" y="805680"/>
                <a:ext cx="565560" cy="524520"/>
                <a:chOff x="1655280" y="805680"/>
                <a:chExt cx="565560" cy="524520"/>
              </a:xfrm>
            </p:grpSpPr>
            <p:sp>
              <p:nvSpPr>
                <p:cNvPr id="961" name="未知"/>
                <p:cNvSpPr/>
                <p:nvPr/>
              </p:nvSpPr>
              <p:spPr>
                <a:xfrm rot="15123000">
                  <a:off x="1769760" y="852480"/>
                  <a:ext cx="336240" cy="48564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未知"/>
                <p:cNvSpPr/>
                <p:nvPr/>
              </p:nvSpPr>
              <p:spPr>
                <a:xfrm rot="15123000">
                  <a:off x="1774800" y="972000"/>
                  <a:ext cx="284760" cy="23112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未知"/>
                <p:cNvSpPr/>
                <p:nvPr/>
              </p:nvSpPr>
              <p:spPr>
                <a:xfrm rot="15123000">
                  <a:off x="1674360" y="903600"/>
                  <a:ext cx="414720" cy="28728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未知"/>
                <p:cNvSpPr/>
                <p:nvPr/>
              </p:nvSpPr>
              <p:spPr>
                <a:xfrm rot="15123000">
                  <a:off x="1870560" y="1113840"/>
                  <a:ext cx="134640" cy="2844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未知"/>
                <p:cNvSpPr/>
                <p:nvPr/>
              </p:nvSpPr>
              <p:spPr>
                <a:xfrm rot="15123000">
                  <a:off x="1756440" y="1060200"/>
                  <a:ext cx="174240" cy="10620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未知"/>
                <p:cNvSpPr/>
                <p:nvPr/>
              </p:nvSpPr>
              <p:spPr>
                <a:xfrm rot="15123000">
                  <a:off x="1689480" y="1028520"/>
                  <a:ext cx="192240" cy="14040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未知"/>
                <p:cNvSpPr/>
                <p:nvPr/>
              </p:nvSpPr>
              <p:spPr>
                <a:xfrm rot="15123000">
                  <a:off x="1949760" y="1140120"/>
                  <a:ext cx="79920" cy="1764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未知"/>
                <p:cNvSpPr/>
                <p:nvPr/>
              </p:nvSpPr>
              <p:spPr>
                <a:xfrm rot="15123000">
                  <a:off x="2015280" y="1168920"/>
                  <a:ext cx="41760" cy="720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未知"/>
                <p:cNvSpPr/>
                <p:nvPr/>
              </p:nvSpPr>
              <p:spPr>
                <a:xfrm rot="15123000">
                  <a:off x="2036880" y="1127520"/>
                  <a:ext cx="30600" cy="4968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未知"/>
                <p:cNvSpPr/>
                <p:nvPr/>
              </p:nvSpPr>
              <p:spPr>
                <a:xfrm rot="15123000">
                  <a:off x="2009160" y="1073880"/>
                  <a:ext cx="53280" cy="9216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未知"/>
                <p:cNvSpPr/>
                <p:nvPr/>
              </p:nvSpPr>
              <p:spPr>
                <a:xfrm rot="15123000">
                  <a:off x="1969920" y="991080"/>
                  <a:ext cx="85320" cy="16200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未知"/>
                <p:cNvSpPr/>
                <p:nvPr/>
              </p:nvSpPr>
              <p:spPr>
                <a:xfrm rot="15123000">
                  <a:off x="1943280" y="902160"/>
                  <a:ext cx="92160" cy="23580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未知"/>
                <p:cNvSpPr/>
                <p:nvPr/>
              </p:nvSpPr>
              <p:spPr>
                <a:xfrm rot="15123000">
                  <a:off x="2058120" y="951120"/>
                  <a:ext cx="10080" cy="9396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未知"/>
                <p:cNvSpPr/>
                <p:nvPr/>
              </p:nvSpPr>
              <p:spPr>
                <a:xfrm rot="15123000">
                  <a:off x="1932120" y="820800"/>
                  <a:ext cx="63000" cy="29088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未知"/>
                <p:cNvSpPr/>
                <p:nvPr/>
              </p:nvSpPr>
              <p:spPr>
                <a:xfrm rot="15123000">
                  <a:off x="1963080" y="1002960"/>
                  <a:ext cx="46800" cy="4608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未知"/>
                <p:cNvSpPr/>
                <p:nvPr/>
              </p:nvSpPr>
              <p:spPr>
                <a:xfrm rot="15123000">
                  <a:off x="2052000" y="1029600"/>
                  <a:ext cx="23040" cy="7416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未知"/>
                <p:cNvSpPr/>
                <p:nvPr/>
              </p:nvSpPr>
              <p:spPr>
                <a:xfrm rot="15123000">
                  <a:off x="1919520" y="1135800"/>
                  <a:ext cx="49320" cy="1584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未知"/>
                <p:cNvSpPr/>
                <p:nvPr/>
              </p:nvSpPr>
              <p:spPr>
                <a:xfrm rot="15123000">
                  <a:off x="1906920" y="1151640"/>
                  <a:ext cx="30600" cy="2844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未知"/>
                <p:cNvSpPr/>
                <p:nvPr/>
              </p:nvSpPr>
              <p:spPr>
                <a:xfrm rot="15123000">
                  <a:off x="2028240" y="1029240"/>
                  <a:ext cx="10080" cy="1728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未知"/>
                <p:cNvSpPr/>
                <p:nvPr/>
              </p:nvSpPr>
              <p:spPr>
                <a:xfrm rot="15123000">
                  <a:off x="1879200" y="1145160"/>
                  <a:ext cx="8640" cy="1044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未知"/>
                <p:cNvSpPr/>
                <p:nvPr/>
              </p:nvSpPr>
              <p:spPr>
                <a:xfrm rot="15123000">
                  <a:off x="1810800" y="1129680"/>
                  <a:ext cx="10080" cy="1404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未知"/>
                <p:cNvSpPr/>
                <p:nvPr/>
              </p:nvSpPr>
              <p:spPr>
                <a:xfrm rot="15123000">
                  <a:off x="1971360" y="1186920"/>
                  <a:ext cx="7560" cy="720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3" name="Group 944"/>
              <p:cNvGrpSpPr/>
              <p:nvPr/>
            </p:nvGrpSpPr>
            <p:grpSpPr>
              <a:xfrm>
                <a:off x="1652040" y="888480"/>
                <a:ext cx="43200" cy="36000"/>
                <a:chOff x="1652040" y="888480"/>
                <a:chExt cx="43200" cy="36000"/>
              </a:xfrm>
            </p:grpSpPr>
            <p:sp>
              <p:nvSpPr>
                <p:cNvPr id="984" name="未知"/>
                <p:cNvSpPr/>
                <p:nvPr/>
              </p:nvSpPr>
              <p:spPr>
                <a:xfrm rot="10758000">
                  <a:off x="1652040" y="888480"/>
                  <a:ext cx="39960" cy="3564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未知"/>
                <p:cNvSpPr/>
                <p:nvPr/>
              </p:nvSpPr>
              <p:spPr>
                <a:xfrm rot="7111800">
                  <a:off x="1671120" y="892080"/>
                  <a:ext cx="18000" cy="2448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86" name="Group 947"/>
          <p:cNvGrpSpPr/>
          <p:nvPr/>
        </p:nvGrpSpPr>
        <p:grpSpPr>
          <a:xfrm>
            <a:off x="-148320" y="31320"/>
            <a:ext cx="2057400" cy="1567800"/>
            <a:chOff x="-148320" y="31320"/>
            <a:chExt cx="2057400" cy="1567800"/>
          </a:xfrm>
        </p:grpSpPr>
        <p:sp>
          <p:nvSpPr>
            <p:cNvPr id="987" name="未知"/>
            <p:cNvSpPr/>
            <p:nvPr/>
          </p:nvSpPr>
          <p:spPr>
            <a:xfrm flipH="1" rot="4059600">
              <a:off x="671400" y="-158400"/>
              <a:ext cx="216720" cy="1758960"/>
            </a:xfrm>
            <a:custGeom>
              <a:avLst/>
              <a:gdLst/>
              <a:ahLst/>
              <a:rect l="l" t="t" r="r" b="b"/>
              <a:pathLst>
                <a:path w="2573" h="12419">
                  <a:moveTo>
                    <a:pt x="103" y="11997"/>
                  </a:moveTo>
                  <a:lnTo>
                    <a:pt x="103" y="11955"/>
                  </a:lnTo>
                  <a:lnTo>
                    <a:pt x="113" y="11851"/>
                  </a:lnTo>
                  <a:lnTo>
                    <a:pt x="124" y="11788"/>
                  </a:lnTo>
                  <a:lnTo>
                    <a:pt x="135" y="11737"/>
                  </a:lnTo>
                  <a:lnTo>
                    <a:pt x="150" y="11690"/>
                  </a:lnTo>
                  <a:lnTo>
                    <a:pt x="160" y="11669"/>
                  </a:lnTo>
                  <a:lnTo>
                    <a:pt x="170" y="11658"/>
                  </a:lnTo>
                  <a:lnTo>
                    <a:pt x="228" y="11596"/>
                  </a:lnTo>
                  <a:lnTo>
                    <a:pt x="264" y="11555"/>
                  </a:lnTo>
                  <a:lnTo>
                    <a:pt x="300" y="11503"/>
                  </a:lnTo>
                  <a:lnTo>
                    <a:pt x="332" y="11445"/>
                  </a:lnTo>
                  <a:lnTo>
                    <a:pt x="368" y="11378"/>
                  </a:lnTo>
                  <a:lnTo>
                    <a:pt x="394" y="11305"/>
                  </a:lnTo>
                  <a:lnTo>
                    <a:pt x="410" y="11221"/>
                  </a:lnTo>
                  <a:lnTo>
                    <a:pt x="447" y="11071"/>
                  </a:lnTo>
                  <a:lnTo>
                    <a:pt x="504" y="10821"/>
                  </a:lnTo>
                  <a:lnTo>
                    <a:pt x="670" y="10144"/>
                  </a:lnTo>
                  <a:lnTo>
                    <a:pt x="831" y="9488"/>
                  </a:lnTo>
                  <a:lnTo>
                    <a:pt x="883" y="9254"/>
                  </a:lnTo>
                  <a:lnTo>
                    <a:pt x="904" y="9140"/>
                  </a:lnTo>
                  <a:lnTo>
                    <a:pt x="909" y="9056"/>
                  </a:lnTo>
                  <a:lnTo>
                    <a:pt x="914" y="9004"/>
                  </a:lnTo>
                  <a:lnTo>
                    <a:pt x="919" y="8983"/>
                  </a:lnTo>
                  <a:lnTo>
                    <a:pt x="930" y="8973"/>
                  </a:lnTo>
                  <a:lnTo>
                    <a:pt x="946" y="8963"/>
                  </a:lnTo>
                  <a:lnTo>
                    <a:pt x="966" y="8958"/>
                  </a:lnTo>
                  <a:lnTo>
                    <a:pt x="981" y="8946"/>
                  </a:lnTo>
                  <a:lnTo>
                    <a:pt x="1003" y="8921"/>
                  </a:lnTo>
                  <a:lnTo>
                    <a:pt x="1023" y="8884"/>
                  </a:lnTo>
                  <a:lnTo>
                    <a:pt x="1050" y="8833"/>
                  </a:lnTo>
                  <a:lnTo>
                    <a:pt x="1106" y="8708"/>
                  </a:lnTo>
                  <a:lnTo>
                    <a:pt x="1169" y="8556"/>
                  </a:lnTo>
                  <a:lnTo>
                    <a:pt x="1231" y="8395"/>
                  </a:lnTo>
                  <a:lnTo>
                    <a:pt x="1288" y="8239"/>
                  </a:lnTo>
                  <a:lnTo>
                    <a:pt x="1335" y="8104"/>
                  </a:lnTo>
                  <a:lnTo>
                    <a:pt x="1367" y="7999"/>
                  </a:lnTo>
                  <a:lnTo>
                    <a:pt x="1445" y="7755"/>
                  </a:lnTo>
                  <a:lnTo>
                    <a:pt x="1554" y="7401"/>
                  </a:lnTo>
                  <a:lnTo>
                    <a:pt x="1606" y="7213"/>
                  </a:lnTo>
                  <a:lnTo>
                    <a:pt x="1647" y="7026"/>
                  </a:lnTo>
                  <a:lnTo>
                    <a:pt x="1669" y="6943"/>
                  </a:lnTo>
                  <a:lnTo>
                    <a:pt x="1679" y="6860"/>
                  </a:lnTo>
                  <a:lnTo>
                    <a:pt x="1689" y="6786"/>
                  </a:lnTo>
                  <a:lnTo>
                    <a:pt x="1689" y="6719"/>
                  </a:lnTo>
                  <a:lnTo>
                    <a:pt x="1694" y="6651"/>
                  </a:lnTo>
                  <a:lnTo>
                    <a:pt x="1699" y="6558"/>
                  </a:lnTo>
                  <a:lnTo>
                    <a:pt x="1731" y="6318"/>
                  </a:lnTo>
                  <a:lnTo>
                    <a:pt x="1772" y="6032"/>
                  </a:lnTo>
                  <a:lnTo>
                    <a:pt x="1814" y="5730"/>
                  </a:lnTo>
                  <a:lnTo>
                    <a:pt x="1902" y="5163"/>
                  </a:lnTo>
                  <a:lnTo>
                    <a:pt x="1934" y="4955"/>
                  </a:lnTo>
                  <a:lnTo>
                    <a:pt x="1939" y="4877"/>
                  </a:lnTo>
                  <a:lnTo>
                    <a:pt x="1944" y="4830"/>
                  </a:lnTo>
                  <a:lnTo>
                    <a:pt x="1949" y="4236"/>
                  </a:lnTo>
                  <a:lnTo>
                    <a:pt x="1964" y="3133"/>
                  </a:lnTo>
                  <a:lnTo>
                    <a:pt x="1970" y="2555"/>
                  </a:lnTo>
                  <a:lnTo>
                    <a:pt x="1970" y="2050"/>
                  </a:lnTo>
                  <a:lnTo>
                    <a:pt x="1964" y="1686"/>
                  </a:lnTo>
                  <a:lnTo>
                    <a:pt x="1959" y="1571"/>
                  </a:lnTo>
                  <a:lnTo>
                    <a:pt x="1954" y="1541"/>
                  </a:lnTo>
                  <a:lnTo>
                    <a:pt x="1954" y="1524"/>
                  </a:lnTo>
                  <a:lnTo>
                    <a:pt x="1918" y="1457"/>
                  </a:lnTo>
                  <a:lnTo>
                    <a:pt x="1892" y="1399"/>
                  </a:lnTo>
                  <a:lnTo>
                    <a:pt x="1887" y="1374"/>
                  </a:lnTo>
                  <a:lnTo>
                    <a:pt x="1882" y="1347"/>
                  </a:lnTo>
                  <a:lnTo>
                    <a:pt x="1882" y="1327"/>
                  </a:lnTo>
                  <a:lnTo>
                    <a:pt x="1892" y="1311"/>
                  </a:lnTo>
                  <a:lnTo>
                    <a:pt x="1897" y="1306"/>
                  </a:lnTo>
                  <a:lnTo>
                    <a:pt x="1907" y="1301"/>
                  </a:lnTo>
                  <a:lnTo>
                    <a:pt x="1923" y="1306"/>
                  </a:lnTo>
                  <a:lnTo>
                    <a:pt x="1944" y="1311"/>
                  </a:lnTo>
                  <a:lnTo>
                    <a:pt x="1964" y="1322"/>
                  </a:lnTo>
                  <a:lnTo>
                    <a:pt x="1986" y="1332"/>
                  </a:lnTo>
                  <a:lnTo>
                    <a:pt x="2006" y="1337"/>
                  </a:lnTo>
                  <a:lnTo>
                    <a:pt x="2022" y="1337"/>
                  </a:lnTo>
                  <a:lnTo>
                    <a:pt x="2027" y="1332"/>
                  </a:lnTo>
                  <a:lnTo>
                    <a:pt x="2032" y="1322"/>
                  </a:lnTo>
                  <a:lnTo>
                    <a:pt x="2214" y="775"/>
                  </a:lnTo>
                  <a:lnTo>
                    <a:pt x="2386" y="265"/>
                  </a:lnTo>
                  <a:lnTo>
                    <a:pt x="2376" y="228"/>
                  </a:lnTo>
                  <a:lnTo>
                    <a:pt x="2360" y="140"/>
                  </a:lnTo>
                  <a:lnTo>
                    <a:pt x="2360" y="93"/>
                  </a:lnTo>
                  <a:lnTo>
                    <a:pt x="2360" y="51"/>
                  </a:lnTo>
                  <a:lnTo>
                    <a:pt x="2365" y="20"/>
                  </a:lnTo>
                  <a:lnTo>
                    <a:pt x="2376" y="10"/>
                  </a:lnTo>
                  <a:lnTo>
                    <a:pt x="2386" y="5"/>
                  </a:lnTo>
                  <a:lnTo>
                    <a:pt x="2396" y="0"/>
                  </a:lnTo>
                  <a:lnTo>
                    <a:pt x="2401" y="5"/>
                  </a:lnTo>
                  <a:lnTo>
                    <a:pt x="2417" y="15"/>
                  </a:lnTo>
                  <a:lnTo>
                    <a:pt x="2423" y="36"/>
                  </a:lnTo>
                  <a:lnTo>
                    <a:pt x="2428" y="67"/>
                  </a:lnTo>
                  <a:lnTo>
                    <a:pt x="2438" y="130"/>
                  </a:lnTo>
                  <a:lnTo>
                    <a:pt x="2448" y="155"/>
                  </a:lnTo>
                  <a:lnTo>
                    <a:pt x="2464" y="177"/>
                  </a:lnTo>
                  <a:lnTo>
                    <a:pt x="2485" y="187"/>
                  </a:lnTo>
                  <a:lnTo>
                    <a:pt x="2505" y="197"/>
                  </a:lnTo>
                  <a:lnTo>
                    <a:pt x="2547" y="213"/>
                  </a:lnTo>
                  <a:lnTo>
                    <a:pt x="2563" y="218"/>
                  </a:lnTo>
                  <a:lnTo>
                    <a:pt x="2568" y="228"/>
                  </a:lnTo>
                  <a:lnTo>
                    <a:pt x="2573" y="233"/>
                  </a:lnTo>
                  <a:lnTo>
                    <a:pt x="2568" y="245"/>
                  </a:lnTo>
                  <a:lnTo>
                    <a:pt x="2531" y="275"/>
                  </a:lnTo>
                  <a:lnTo>
                    <a:pt x="2490" y="327"/>
                  </a:lnTo>
                  <a:lnTo>
                    <a:pt x="2443" y="390"/>
                  </a:lnTo>
                  <a:lnTo>
                    <a:pt x="2423" y="421"/>
                  </a:lnTo>
                  <a:lnTo>
                    <a:pt x="2406" y="457"/>
                  </a:lnTo>
                  <a:lnTo>
                    <a:pt x="2334" y="650"/>
                  </a:lnTo>
                  <a:lnTo>
                    <a:pt x="2219" y="999"/>
                  </a:lnTo>
                  <a:lnTo>
                    <a:pt x="2163" y="1186"/>
                  </a:lnTo>
                  <a:lnTo>
                    <a:pt x="2116" y="1363"/>
                  </a:lnTo>
                  <a:lnTo>
                    <a:pt x="2084" y="1504"/>
                  </a:lnTo>
                  <a:lnTo>
                    <a:pt x="2074" y="1556"/>
                  </a:lnTo>
                  <a:lnTo>
                    <a:pt x="2074" y="1592"/>
                  </a:lnTo>
                  <a:lnTo>
                    <a:pt x="2074" y="1706"/>
                  </a:lnTo>
                  <a:lnTo>
                    <a:pt x="2074" y="1915"/>
                  </a:lnTo>
                  <a:lnTo>
                    <a:pt x="2069" y="2456"/>
                  </a:lnTo>
                  <a:lnTo>
                    <a:pt x="2053" y="3195"/>
                  </a:lnTo>
                  <a:lnTo>
                    <a:pt x="2064" y="3185"/>
                  </a:lnTo>
                  <a:lnTo>
                    <a:pt x="2089" y="3164"/>
                  </a:lnTo>
                  <a:lnTo>
                    <a:pt x="2106" y="3154"/>
                  </a:lnTo>
                  <a:lnTo>
                    <a:pt x="2116" y="3154"/>
                  </a:lnTo>
                  <a:lnTo>
                    <a:pt x="2121" y="3159"/>
                  </a:lnTo>
                  <a:lnTo>
                    <a:pt x="2121" y="3174"/>
                  </a:lnTo>
                  <a:lnTo>
                    <a:pt x="2111" y="3227"/>
                  </a:lnTo>
                  <a:lnTo>
                    <a:pt x="2089" y="3284"/>
                  </a:lnTo>
                  <a:lnTo>
                    <a:pt x="2069" y="3352"/>
                  </a:lnTo>
                  <a:lnTo>
                    <a:pt x="2064" y="3394"/>
                  </a:lnTo>
                  <a:lnTo>
                    <a:pt x="2064" y="3435"/>
                  </a:lnTo>
                  <a:lnTo>
                    <a:pt x="2058" y="3747"/>
                  </a:lnTo>
                  <a:lnTo>
                    <a:pt x="2043" y="4356"/>
                  </a:lnTo>
                  <a:lnTo>
                    <a:pt x="2032" y="4705"/>
                  </a:lnTo>
                  <a:lnTo>
                    <a:pt x="2022" y="5048"/>
                  </a:lnTo>
                  <a:lnTo>
                    <a:pt x="2001" y="5360"/>
                  </a:lnTo>
                  <a:lnTo>
                    <a:pt x="1981" y="5610"/>
                  </a:lnTo>
                  <a:lnTo>
                    <a:pt x="1954" y="5834"/>
                  </a:lnTo>
                  <a:lnTo>
                    <a:pt x="1923" y="6058"/>
                  </a:lnTo>
                  <a:lnTo>
                    <a:pt x="1850" y="6490"/>
                  </a:lnTo>
                  <a:lnTo>
                    <a:pt x="1819" y="6673"/>
                  </a:lnTo>
                  <a:lnTo>
                    <a:pt x="1799" y="6818"/>
                  </a:lnTo>
                  <a:lnTo>
                    <a:pt x="1794" y="6922"/>
                  </a:lnTo>
                  <a:lnTo>
                    <a:pt x="1794" y="6953"/>
                  </a:lnTo>
                  <a:lnTo>
                    <a:pt x="1804" y="6974"/>
                  </a:lnTo>
                  <a:lnTo>
                    <a:pt x="1819" y="6985"/>
                  </a:lnTo>
                  <a:lnTo>
                    <a:pt x="1834" y="6990"/>
                  </a:lnTo>
                  <a:lnTo>
                    <a:pt x="1866" y="6990"/>
                  </a:lnTo>
                  <a:lnTo>
                    <a:pt x="1876" y="6990"/>
                  </a:lnTo>
                  <a:lnTo>
                    <a:pt x="1887" y="6995"/>
                  </a:lnTo>
                  <a:lnTo>
                    <a:pt x="1897" y="7010"/>
                  </a:lnTo>
                  <a:lnTo>
                    <a:pt x="1902" y="7031"/>
                  </a:lnTo>
                  <a:lnTo>
                    <a:pt x="1897" y="7063"/>
                  </a:lnTo>
                  <a:lnTo>
                    <a:pt x="1887" y="7100"/>
                  </a:lnTo>
                  <a:lnTo>
                    <a:pt x="1866" y="7130"/>
                  </a:lnTo>
                  <a:lnTo>
                    <a:pt x="1845" y="7162"/>
                  </a:lnTo>
                  <a:lnTo>
                    <a:pt x="1804" y="7208"/>
                  </a:lnTo>
                  <a:lnTo>
                    <a:pt x="1782" y="7224"/>
                  </a:lnTo>
                  <a:lnTo>
                    <a:pt x="1076" y="9108"/>
                  </a:lnTo>
                  <a:lnTo>
                    <a:pt x="571" y="11174"/>
                  </a:lnTo>
                  <a:lnTo>
                    <a:pt x="582" y="11201"/>
                  </a:lnTo>
                  <a:lnTo>
                    <a:pt x="587" y="11243"/>
                  </a:lnTo>
                  <a:lnTo>
                    <a:pt x="582" y="11294"/>
                  </a:lnTo>
                  <a:lnTo>
                    <a:pt x="571" y="11331"/>
                  </a:lnTo>
                  <a:lnTo>
                    <a:pt x="550" y="11378"/>
                  </a:lnTo>
                  <a:lnTo>
                    <a:pt x="487" y="11492"/>
                  </a:lnTo>
                  <a:lnTo>
                    <a:pt x="457" y="11550"/>
                  </a:lnTo>
                  <a:lnTo>
                    <a:pt x="431" y="11606"/>
                  </a:lnTo>
                  <a:lnTo>
                    <a:pt x="410" y="11658"/>
                  </a:lnTo>
                  <a:lnTo>
                    <a:pt x="405" y="11695"/>
                  </a:lnTo>
                  <a:lnTo>
                    <a:pt x="399" y="11737"/>
                  </a:lnTo>
                  <a:lnTo>
                    <a:pt x="389" y="11783"/>
                  </a:lnTo>
                  <a:lnTo>
                    <a:pt x="352" y="11898"/>
                  </a:lnTo>
                  <a:lnTo>
                    <a:pt x="312" y="12018"/>
                  </a:lnTo>
                  <a:lnTo>
                    <a:pt x="259" y="12122"/>
                  </a:lnTo>
                  <a:lnTo>
                    <a:pt x="197" y="12220"/>
                  </a:lnTo>
                  <a:lnTo>
                    <a:pt x="113" y="12330"/>
                  </a:lnTo>
                  <a:lnTo>
                    <a:pt x="77" y="12377"/>
                  </a:lnTo>
                  <a:lnTo>
                    <a:pt x="40" y="12408"/>
                  </a:lnTo>
                  <a:lnTo>
                    <a:pt x="25" y="12419"/>
                  </a:lnTo>
                  <a:lnTo>
                    <a:pt x="15" y="12419"/>
                  </a:lnTo>
                  <a:lnTo>
                    <a:pt x="5" y="12419"/>
                  </a:lnTo>
                  <a:lnTo>
                    <a:pt x="0" y="12413"/>
                  </a:lnTo>
                  <a:lnTo>
                    <a:pt x="0" y="12397"/>
                  </a:lnTo>
                  <a:lnTo>
                    <a:pt x="0" y="12377"/>
                  </a:lnTo>
                  <a:lnTo>
                    <a:pt x="10" y="12320"/>
                  </a:lnTo>
                  <a:lnTo>
                    <a:pt x="40" y="12185"/>
                  </a:lnTo>
                  <a:lnTo>
                    <a:pt x="82" y="12055"/>
                  </a:lnTo>
                  <a:lnTo>
                    <a:pt x="103" y="11997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未知"/>
            <p:cNvSpPr/>
            <p:nvPr/>
          </p:nvSpPr>
          <p:spPr>
            <a:xfrm flipH="1" rot="4059600">
              <a:off x="26280" y="1094040"/>
              <a:ext cx="24120" cy="67680"/>
            </a:xfrm>
            <a:custGeom>
              <a:avLst/>
              <a:gdLst/>
              <a:ahLst/>
              <a:rect l="l" t="t" r="r" b="b"/>
              <a:pathLst>
                <a:path w="297" h="479">
                  <a:moveTo>
                    <a:pt x="265" y="0"/>
                  </a:moveTo>
                  <a:lnTo>
                    <a:pt x="249" y="5"/>
                  </a:lnTo>
                  <a:lnTo>
                    <a:pt x="228" y="10"/>
                  </a:lnTo>
                  <a:lnTo>
                    <a:pt x="202" y="22"/>
                  </a:lnTo>
                  <a:lnTo>
                    <a:pt x="177" y="37"/>
                  </a:lnTo>
                  <a:lnTo>
                    <a:pt x="145" y="57"/>
                  </a:lnTo>
                  <a:lnTo>
                    <a:pt x="120" y="89"/>
                  </a:lnTo>
                  <a:lnTo>
                    <a:pt x="93" y="130"/>
                  </a:lnTo>
                  <a:lnTo>
                    <a:pt x="73" y="182"/>
                  </a:lnTo>
                  <a:lnTo>
                    <a:pt x="52" y="245"/>
                  </a:lnTo>
                  <a:lnTo>
                    <a:pt x="31" y="312"/>
                  </a:lnTo>
                  <a:lnTo>
                    <a:pt x="10" y="375"/>
                  </a:lnTo>
                  <a:lnTo>
                    <a:pt x="5" y="427"/>
                  </a:lnTo>
                  <a:lnTo>
                    <a:pt x="0" y="464"/>
                  </a:lnTo>
                  <a:lnTo>
                    <a:pt x="5" y="474"/>
                  </a:lnTo>
                  <a:lnTo>
                    <a:pt x="10" y="479"/>
                  </a:lnTo>
                  <a:lnTo>
                    <a:pt x="20" y="474"/>
                  </a:lnTo>
                  <a:lnTo>
                    <a:pt x="36" y="464"/>
                  </a:lnTo>
                  <a:lnTo>
                    <a:pt x="73" y="422"/>
                  </a:lnTo>
                  <a:lnTo>
                    <a:pt x="125" y="359"/>
                  </a:lnTo>
                  <a:lnTo>
                    <a:pt x="177" y="282"/>
                  </a:lnTo>
                  <a:lnTo>
                    <a:pt x="228" y="204"/>
                  </a:lnTo>
                  <a:lnTo>
                    <a:pt x="270" y="125"/>
                  </a:lnTo>
                  <a:lnTo>
                    <a:pt x="280" y="89"/>
                  </a:lnTo>
                  <a:lnTo>
                    <a:pt x="290" y="63"/>
                  </a:lnTo>
                  <a:lnTo>
                    <a:pt x="297" y="37"/>
                  </a:lnTo>
                  <a:lnTo>
                    <a:pt x="297" y="16"/>
                  </a:lnTo>
                  <a:lnTo>
                    <a:pt x="285" y="5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9" name="Group 950"/>
            <p:cNvGrpSpPr/>
            <p:nvPr/>
          </p:nvGrpSpPr>
          <p:grpSpPr>
            <a:xfrm>
              <a:off x="-142560" y="944280"/>
              <a:ext cx="667800" cy="654840"/>
              <a:chOff x="-142560" y="944280"/>
              <a:chExt cx="667800" cy="654840"/>
            </a:xfrm>
          </p:grpSpPr>
          <p:grpSp>
            <p:nvGrpSpPr>
              <p:cNvPr id="990" name="Group 951"/>
              <p:cNvGrpSpPr/>
              <p:nvPr/>
            </p:nvGrpSpPr>
            <p:grpSpPr>
              <a:xfrm>
                <a:off x="-142560" y="988920"/>
                <a:ext cx="667800" cy="610200"/>
                <a:chOff x="-142560" y="988920"/>
                <a:chExt cx="667800" cy="610200"/>
              </a:xfrm>
            </p:grpSpPr>
            <p:sp>
              <p:nvSpPr>
                <p:cNvPr id="991" name="未知"/>
                <p:cNvSpPr/>
                <p:nvPr/>
              </p:nvSpPr>
              <p:spPr>
                <a:xfrm flipH="1" rot="3919200">
                  <a:off x="23400" y="1035000"/>
                  <a:ext cx="334800" cy="58104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未知"/>
                <p:cNvSpPr/>
                <p:nvPr/>
              </p:nvSpPr>
              <p:spPr>
                <a:xfrm flipH="1" rot="3919200">
                  <a:off x="63360" y="1165680"/>
                  <a:ext cx="284040" cy="27612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未知"/>
                <p:cNvSpPr/>
                <p:nvPr/>
              </p:nvSpPr>
              <p:spPr>
                <a:xfrm flipH="1" rot="3919200">
                  <a:off x="0" y="1076760"/>
                  <a:ext cx="413640" cy="34344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未知"/>
                <p:cNvSpPr/>
                <p:nvPr/>
              </p:nvSpPr>
              <p:spPr>
                <a:xfrm flipH="1" rot="3919200">
                  <a:off x="148320" y="1331280"/>
                  <a:ext cx="134280" cy="3384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未知"/>
                <p:cNvSpPr/>
                <p:nvPr/>
              </p:nvSpPr>
              <p:spPr>
                <a:xfrm flipH="1" rot="3919200">
                  <a:off x="203760" y="1203120"/>
                  <a:ext cx="173520" cy="12672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未知"/>
                <p:cNvSpPr/>
                <p:nvPr/>
              </p:nvSpPr>
              <p:spPr>
                <a:xfrm flipH="1" rot="3919200">
                  <a:off x="235800" y="1128960"/>
                  <a:ext cx="191520" cy="16776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未知"/>
                <p:cNvSpPr/>
                <p:nvPr/>
              </p:nvSpPr>
              <p:spPr>
                <a:xfrm flipH="1" rot="3919200">
                  <a:off x="144000" y="1391400"/>
                  <a:ext cx="79560" cy="2160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未知"/>
                <p:cNvSpPr/>
                <p:nvPr/>
              </p:nvSpPr>
              <p:spPr>
                <a:xfrm flipH="1" rot="3919200">
                  <a:off x="138600" y="1449720"/>
                  <a:ext cx="41400" cy="864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未知"/>
                <p:cNvSpPr/>
                <p:nvPr/>
              </p:nvSpPr>
              <p:spPr>
                <a:xfrm flipH="1" rot="3919200">
                  <a:off x="114840" y="1422000"/>
                  <a:ext cx="30240" cy="5940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未知"/>
                <p:cNvSpPr/>
                <p:nvPr/>
              </p:nvSpPr>
              <p:spPr>
                <a:xfrm flipH="1" rot="3919200">
                  <a:off x="95040" y="1361160"/>
                  <a:ext cx="52920" cy="11016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未知"/>
                <p:cNvSpPr/>
                <p:nvPr/>
              </p:nvSpPr>
              <p:spPr>
                <a:xfrm flipH="1" rot="3919200">
                  <a:off x="65160" y="1268640"/>
                  <a:ext cx="84960" cy="19296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未知"/>
                <p:cNvSpPr/>
                <p:nvPr/>
              </p:nvSpPr>
              <p:spPr>
                <a:xfrm flipH="1" rot="3919200">
                  <a:off x="43920" y="1169640"/>
                  <a:ext cx="91440" cy="28224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未知"/>
                <p:cNvSpPr/>
                <p:nvPr/>
              </p:nvSpPr>
              <p:spPr>
                <a:xfrm flipH="1" rot="3919200">
                  <a:off x="3240" y="1294200"/>
                  <a:ext cx="9720" cy="11268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未知"/>
                <p:cNvSpPr/>
                <p:nvPr/>
              </p:nvSpPr>
              <p:spPr>
                <a:xfrm flipH="1" rot="3919200">
                  <a:off x="42840" y="1080000"/>
                  <a:ext cx="63000" cy="34776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未知"/>
                <p:cNvSpPr/>
                <p:nvPr/>
              </p:nvSpPr>
              <p:spPr>
                <a:xfrm flipH="1" rot="3919200">
                  <a:off x="73080" y="1285200"/>
                  <a:ext cx="46800" cy="5508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未知"/>
                <p:cNvSpPr/>
                <p:nvPr/>
              </p:nvSpPr>
              <p:spPr>
                <a:xfrm flipH="1" rot="3919200">
                  <a:off x="45000" y="1355040"/>
                  <a:ext cx="22680" cy="8892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未知"/>
                <p:cNvSpPr/>
                <p:nvPr/>
              </p:nvSpPr>
              <p:spPr>
                <a:xfrm flipH="1" rot="3919200">
                  <a:off x="196920" y="1354320"/>
                  <a:ext cx="48960" cy="1908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未知"/>
                <p:cNvSpPr/>
                <p:nvPr/>
              </p:nvSpPr>
              <p:spPr>
                <a:xfrm flipH="1" rot="3919200">
                  <a:off x="243000" y="1346400"/>
                  <a:ext cx="30240" cy="3384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未知"/>
                <p:cNvSpPr/>
                <p:nvPr/>
              </p:nvSpPr>
              <p:spPr>
                <a:xfrm flipH="1" rot="3919200">
                  <a:off x="57600" y="1345680"/>
                  <a:ext cx="9720" cy="2124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未知"/>
                <p:cNvSpPr/>
                <p:nvPr/>
              </p:nvSpPr>
              <p:spPr>
                <a:xfrm flipH="1" rot="3919200">
                  <a:off x="276840" y="1316880"/>
                  <a:ext cx="8640" cy="1224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未知"/>
                <p:cNvSpPr/>
                <p:nvPr/>
              </p:nvSpPr>
              <p:spPr>
                <a:xfrm flipH="1" rot="3919200">
                  <a:off x="327240" y="1253520"/>
                  <a:ext cx="9720" cy="1656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未知"/>
                <p:cNvSpPr/>
                <p:nvPr/>
              </p:nvSpPr>
              <p:spPr>
                <a:xfrm flipH="1" rot="3919200">
                  <a:off x="223560" y="1416960"/>
                  <a:ext cx="7560" cy="792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3" name="Group 974"/>
              <p:cNvGrpSpPr/>
              <p:nvPr/>
            </p:nvGrpSpPr>
            <p:grpSpPr>
              <a:xfrm>
                <a:off x="266400" y="944280"/>
                <a:ext cx="59760" cy="58680"/>
                <a:chOff x="266400" y="944280"/>
                <a:chExt cx="59760" cy="58680"/>
              </a:xfrm>
            </p:grpSpPr>
            <p:sp>
              <p:nvSpPr>
                <p:cNvPr id="1014" name="未知"/>
                <p:cNvSpPr/>
                <p:nvPr/>
              </p:nvSpPr>
              <p:spPr>
                <a:xfrm flipH="1" rot="8284200">
                  <a:off x="271800" y="955800"/>
                  <a:ext cx="48600" cy="3528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未知"/>
                <p:cNvSpPr/>
                <p:nvPr/>
              </p:nvSpPr>
              <p:spPr>
                <a:xfrm flipH="1" rot="11931000">
                  <a:off x="279000" y="964080"/>
                  <a:ext cx="18000" cy="2952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16" name="Group 977"/>
            <p:cNvGrpSpPr/>
            <p:nvPr/>
          </p:nvGrpSpPr>
          <p:grpSpPr>
            <a:xfrm>
              <a:off x="235080" y="762480"/>
              <a:ext cx="784080" cy="473040"/>
              <a:chOff x="235080" y="762480"/>
              <a:chExt cx="784080" cy="473040"/>
            </a:xfrm>
          </p:grpSpPr>
          <p:grpSp>
            <p:nvGrpSpPr>
              <p:cNvPr id="1017" name="Group 978"/>
              <p:cNvGrpSpPr/>
              <p:nvPr/>
            </p:nvGrpSpPr>
            <p:grpSpPr>
              <a:xfrm>
                <a:off x="235080" y="762480"/>
                <a:ext cx="784080" cy="473040"/>
                <a:chOff x="235080" y="762480"/>
                <a:chExt cx="784080" cy="473040"/>
              </a:xfrm>
            </p:grpSpPr>
            <p:sp>
              <p:nvSpPr>
                <p:cNvPr id="1018" name="未知"/>
                <p:cNvSpPr/>
                <p:nvPr/>
              </p:nvSpPr>
              <p:spPr>
                <a:xfrm flipH="1" rot="20756400">
                  <a:off x="425160" y="825120"/>
                  <a:ext cx="560160" cy="34740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未知"/>
                <p:cNvSpPr/>
                <p:nvPr/>
              </p:nvSpPr>
              <p:spPr>
                <a:xfrm flipH="1" rot="20756400">
                  <a:off x="442080" y="909720"/>
                  <a:ext cx="474480" cy="16524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未知"/>
                <p:cNvSpPr/>
                <p:nvPr/>
              </p:nvSpPr>
              <p:spPr>
                <a:xfrm flipH="1" rot="20756400">
                  <a:off x="249480" y="894600"/>
                  <a:ext cx="691560" cy="20520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未知"/>
                <p:cNvSpPr/>
                <p:nvPr/>
              </p:nvSpPr>
              <p:spPr>
                <a:xfrm flipH="1" rot="20756400">
                  <a:off x="640080" y="969120"/>
                  <a:ext cx="224640" cy="2016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未知"/>
                <p:cNvSpPr/>
                <p:nvPr/>
              </p:nvSpPr>
              <p:spPr>
                <a:xfrm flipH="1" rot="20756400">
                  <a:off x="523080" y="898920"/>
                  <a:ext cx="290520" cy="7560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未知"/>
                <p:cNvSpPr/>
                <p:nvPr/>
              </p:nvSpPr>
              <p:spPr>
                <a:xfrm flipH="1" rot="20756400">
                  <a:off x="448200" y="864720"/>
                  <a:ext cx="320400" cy="10008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未知"/>
                <p:cNvSpPr/>
                <p:nvPr/>
              </p:nvSpPr>
              <p:spPr>
                <a:xfrm flipH="1" rot="20756400">
                  <a:off x="751680" y="987840"/>
                  <a:ext cx="133200" cy="1260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未知"/>
                <p:cNvSpPr/>
                <p:nvPr/>
              </p:nvSpPr>
              <p:spPr>
                <a:xfrm flipH="1" rot="20756400">
                  <a:off x="850320" y="1002240"/>
                  <a:ext cx="69480" cy="468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未知"/>
                <p:cNvSpPr/>
                <p:nvPr/>
              </p:nvSpPr>
              <p:spPr>
                <a:xfrm flipH="1" rot="20756400">
                  <a:off x="839160" y="1007640"/>
                  <a:ext cx="50760" cy="3564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未知"/>
                <p:cNvSpPr/>
                <p:nvPr/>
              </p:nvSpPr>
              <p:spPr>
                <a:xfrm flipH="1" rot="20756400">
                  <a:off x="761760" y="1003680"/>
                  <a:ext cx="88920" cy="6588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未知"/>
                <p:cNvSpPr/>
                <p:nvPr/>
              </p:nvSpPr>
              <p:spPr>
                <a:xfrm flipH="1" rot="20756400">
                  <a:off x="648000" y="994680"/>
                  <a:ext cx="142200" cy="11556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未知"/>
                <p:cNvSpPr/>
                <p:nvPr/>
              </p:nvSpPr>
              <p:spPr>
                <a:xfrm flipH="1" rot="20756400">
                  <a:off x="550800" y="986400"/>
                  <a:ext cx="153000" cy="16884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未知"/>
                <p:cNvSpPr/>
                <p:nvPr/>
              </p:nvSpPr>
              <p:spPr>
                <a:xfrm flipH="1" rot="20756400">
                  <a:off x="635400" y="1089360"/>
                  <a:ext cx="16560" cy="6732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未知"/>
                <p:cNvSpPr/>
                <p:nvPr/>
              </p:nvSpPr>
              <p:spPr>
                <a:xfrm flipH="1" rot="20756400">
                  <a:off x="478080" y="985320"/>
                  <a:ext cx="105840" cy="20772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未知"/>
                <p:cNvSpPr/>
                <p:nvPr/>
              </p:nvSpPr>
              <p:spPr>
                <a:xfrm flipH="1" rot="20756400">
                  <a:off x="594720" y="1050120"/>
                  <a:ext cx="78120" cy="3276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未知"/>
                <p:cNvSpPr/>
                <p:nvPr/>
              </p:nvSpPr>
              <p:spPr>
                <a:xfrm flipH="1" rot="20756400">
                  <a:off x="726840" y="1055880"/>
                  <a:ext cx="37800" cy="5256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4" name="未知"/>
                <p:cNvSpPr/>
                <p:nvPr/>
              </p:nvSpPr>
              <p:spPr>
                <a:xfrm flipH="1" rot="20756400">
                  <a:off x="739440" y="967320"/>
                  <a:ext cx="82440" cy="1116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未知"/>
                <p:cNvSpPr/>
                <p:nvPr/>
              </p:nvSpPr>
              <p:spPr>
                <a:xfrm flipH="1" rot="20756400">
                  <a:off x="773640" y="937800"/>
                  <a:ext cx="50760" cy="2052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6" name="未知"/>
                <p:cNvSpPr/>
                <p:nvPr/>
              </p:nvSpPr>
              <p:spPr>
                <a:xfrm flipH="1" rot="20756400">
                  <a:off x="673560" y="1077840"/>
                  <a:ext cx="16560" cy="1260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未知"/>
                <p:cNvSpPr/>
                <p:nvPr/>
              </p:nvSpPr>
              <p:spPr>
                <a:xfrm flipH="1" rot="20756400">
                  <a:off x="741960" y="932760"/>
                  <a:ext cx="14760" cy="720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8" name="未知"/>
                <p:cNvSpPr/>
                <p:nvPr/>
              </p:nvSpPr>
              <p:spPr>
                <a:xfrm flipH="1" rot="20756400">
                  <a:off x="675720" y="90360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未知"/>
                <p:cNvSpPr/>
                <p:nvPr/>
              </p:nvSpPr>
              <p:spPr>
                <a:xfrm flipH="1" rot="20756400">
                  <a:off x="864000" y="959040"/>
                  <a:ext cx="12960" cy="432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0" name="Group 1001"/>
              <p:cNvGrpSpPr/>
              <p:nvPr/>
            </p:nvGrpSpPr>
            <p:grpSpPr>
              <a:xfrm>
                <a:off x="292320" y="964440"/>
                <a:ext cx="65520" cy="55440"/>
                <a:chOff x="292320" y="964440"/>
                <a:chExt cx="65520" cy="55440"/>
              </a:xfrm>
            </p:grpSpPr>
            <p:sp>
              <p:nvSpPr>
                <p:cNvPr id="1041" name="未知"/>
                <p:cNvSpPr/>
                <p:nvPr/>
              </p:nvSpPr>
              <p:spPr>
                <a:xfrm flipH="1" rot="3520800">
                  <a:off x="310320" y="962640"/>
                  <a:ext cx="28800" cy="5904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未知"/>
                <p:cNvSpPr/>
                <p:nvPr/>
              </p:nvSpPr>
              <p:spPr>
                <a:xfrm flipH="1" rot="7167600">
                  <a:off x="311400" y="988560"/>
                  <a:ext cx="29880" cy="1764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43" name="Group 1004"/>
            <p:cNvGrpSpPr/>
            <p:nvPr/>
          </p:nvGrpSpPr>
          <p:grpSpPr>
            <a:xfrm>
              <a:off x="-148320" y="266400"/>
              <a:ext cx="1146240" cy="710640"/>
              <a:chOff x="-148320" y="266400"/>
              <a:chExt cx="1146240" cy="710640"/>
            </a:xfrm>
          </p:grpSpPr>
          <p:grpSp>
            <p:nvGrpSpPr>
              <p:cNvPr id="1044" name="Group 1005"/>
              <p:cNvGrpSpPr/>
              <p:nvPr/>
            </p:nvGrpSpPr>
            <p:grpSpPr>
              <a:xfrm>
                <a:off x="-148320" y="468360"/>
                <a:ext cx="624960" cy="508680"/>
                <a:chOff x="-148320" y="468360"/>
                <a:chExt cx="624960" cy="508680"/>
              </a:xfrm>
            </p:grpSpPr>
            <p:grpSp>
              <p:nvGrpSpPr>
                <p:cNvPr id="1045" name="Group 1006"/>
                <p:cNvGrpSpPr/>
                <p:nvPr/>
              </p:nvGrpSpPr>
              <p:grpSpPr>
                <a:xfrm>
                  <a:off x="-148320" y="468360"/>
                  <a:ext cx="609840" cy="508680"/>
                  <a:chOff x="-148320" y="468360"/>
                  <a:chExt cx="609840" cy="508680"/>
                </a:xfrm>
              </p:grpSpPr>
              <p:sp>
                <p:nvSpPr>
                  <p:cNvPr id="1046" name="未知"/>
                  <p:cNvSpPr/>
                  <p:nvPr/>
                </p:nvSpPr>
                <p:spPr>
                  <a:xfrm rot="4199400">
                    <a:off x="2520" y="435960"/>
                    <a:ext cx="307440" cy="537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62" h="4106">
                        <a:moveTo>
                          <a:pt x="0" y="3065"/>
                        </a:moveTo>
                        <a:lnTo>
                          <a:pt x="47" y="3055"/>
                        </a:lnTo>
                        <a:lnTo>
                          <a:pt x="150" y="3044"/>
                        </a:lnTo>
                        <a:lnTo>
                          <a:pt x="260" y="3034"/>
                        </a:lnTo>
                        <a:lnTo>
                          <a:pt x="302" y="3034"/>
                        </a:lnTo>
                        <a:lnTo>
                          <a:pt x="317" y="3034"/>
                        </a:lnTo>
                        <a:lnTo>
                          <a:pt x="327" y="3039"/>
                        </a:lnTo>
                        <a:lnTo>
                          <a:pt x="281" y="3117"/>
                        </a:lnTo>
                        <a:lnTo>
                          <a:pt x="322" y="3102"/>
                        </a:lnTo>
                        <a:lnTo>
                          <a:pt x="421" y="3065"/>
                        </a:lnTo>
                        <a:lnTo>
                          <a:pt x="474" y="3055"/>
                        </a:lnTo>
                        <a:lnTo>
                          <a:pt x="526" y="3049"/>
                        </a:lnTo>
                        <a:lnTo>
                          <a:pt x="546" y="3049"/>
                        </a:lnTo>
                        <a:lnTo>
                          <a:pt x="562" y="3060"/>
                        </a:lnTo>
                        <a:lnTo>
                          <a:pt x="577" y="3065"/>
                        </a:lnTo>
                        <a:lnTo>
                          <a:pt x="582" y="3080"/>
                        </a:lnTo>
                        <a:lnTo>
                          <a:pt x="536" y="3169"/>
                        </a:lnTo>
                        <a:lnTo>
                          <a:pt x="593" y="3154"/>
                        </a:lnTo>
                        <a:lnTo>
                          <a:pt x="723" y="3127"/>
                        </a:lnTo>
                        <a:lnTo>
                          <a:pt x="796" y="3122"/>
                        </a:lnTo>
                        <a:lnTo>
                          <a:pt x="863" y="3117"/>
                        </a:lnTo>
                        <a:lnTo>
                          <a:pt x="910" y="3117"/>
                        </a:lnTo>
                        <a:lnTo>
                          <a:pt x="926" y="3122"/>
                        </a:lnTo>
                        <a:lnTo>
                          <a:pt x="936" y="3132"/>
                        </a:lnTo>
                        <a:lnTo>
                          <a:pt x="941" y="3159"/>
                        </a:lnTo>
                        <a:lnTo>
                          <a:pt x="936" y="3185"/>
                        </a:lnTo>
                        <a:lnTo>
                          <a:pt x="926" y="3211"/>
                        </a:lnTo>
                        <a:lnTo>
                          <a:pt x="915" y="3242"/>
                        </a:lnTo>
                        <a:lnTo>
                          <a:pt x="884" y="3289"/>
                        </a:lnTo>
                        <a:lnTo>
                          <a:pt x="873" y="3310"/>
                        </a:lnTo>
                        <a:lnTo>
                          <a:pt x="900" y="3294"/>
                        </a:lnTo>
                        <a:lnTo>
                          <a:pt x="936" y="3284"/>
                        </a:lnTo>
                        <a:lnTo>
                          <a:pt x="978" y="3268"/>
                        </a:lnTo>
                        <a:lnTo>
                          <a:pt x="1030" y="3257"/>
                        </a:lnTo>
                        <a:lnTo>
                          <a:pt x="1082" y="3257"/>
                        </a:lnTo>
                        <a:lnTo>
                          <a:pt x="1133" y="3262"/>
                        </a:lnTo>
                        <a:lnTo>
                          <a:pt x="1160" y="3268"/>
                        </a:lnTo>
                        <a:lnTo>
                          <a:pt x="1185" y="3279"/>
                        </a:lnTo>
                        <a:lnTo>
                          <a:pt x="1191" y="3299"/>
                        </a:lnTo>
                        <a:lnTo>
                          <a:pt x="1201" y="3341"/>
                        </a:lnTo>
                        <a:lnTo>
                          <a:pt x="1196" y="3367"/>
                        </a:lnTo>
                        <a:lnTo>
                          <a:pt x="1196" y="3387"/>
                        </a:lnTo>
                        <a:lnTo>
                          <a:pt x="1180" y="3404"/>
                        </a:lnTo>
                        <a:lnTo>
                          <a:pt x="1175" y="3409"/>
                        </a:lnTo>
                        <a:lnTo>
                          <a:pt x="1165" y="3414"/>
                        </a:lnTo>
                        <a:lnTo>
                          <a:pt x="1155" y="3409"/>
                        </a:lnTo>
                        <a:lnTo>
                          <a:pt x="1165" y="3404"/>
                        </a:lnTo>
                        <a:lnTo>
                          <a:pt x="1191" y="3392"/>
                        </a:lnTo>
                        <a:lnTo>
                          <a:pt x="1227" y="3382"/>
                        </a:lnTo>
                        <a:lnTo>
                          <a:pt x="1269" y="3377"/>
                        </a:lnTo>
                        <a:lnTo>
                          <a:pt x="1305" y="3382"/>
                        </a:lnTo>
                        <a:lnTo>
                          <a:pt x="1320" y="3387"/>
                        </a:lnTo>
                        <a:lnTo>
                          <a:pt x="1337" y="3392"/>
                        </a:lnTo>
                        <a:lnTo>
                          <a:pt x="1347" y="3404"/>
                        </a:lnTo>
                        <a:lnTo>
                          <a:pt x="1357" y="3419"/>
                        </a:lnTo>
                        <a:lnTo>
                          <a:pt x="1357" y="3450"/>
                        </a:lnTo>
                        <a:lnTo>
                          <a:pt x="1352" y="3487"/>
                        </a:lnTo>
                        <a:lnTo>
                          <a:pt x="1342" y="3517"/>
                        </a:lnTo>
                        <a:lnTo>
                          <a:pt x="1326" y="3544"/>
                        </a:lnTo>
                        <a:lnTo>
                          <a:pt x="1290" y="3591"/>
                        </a:lnTo>
                        <a:lnTo>
                          <a:pt x="1274" y="3612"/>
                        </a:lnTo>
                        <a:lnTo>
                          <a:pt x="1315" y="3596"/>
                        </a:lnTo>
                        <a:lnTo>
                          <a:pt x="1409" y="3570"/>
                        </a:lnTo>
                        <a:lnTo>
                          <a:pt x="1456" y="3559"/>
                        </a:lnTo>
                        <a:lnTo>
                          <a:pt x="1503" y="3549"/>
                        </a:lnTo>
                        <a:lnTo>
                          <a:pt x="1534" y="3549"/>
                        </a:lnTo>
                        <a:lnTo>
                          <a:pt x="1550" y="3554"/>
                        </a:lnTo>
                        <a:lnTo>
                          <a:pt x="1555" y="3559"/>
                        </a:lnTo>
                        <a:lnTo>
                          <a:pt x="1560" y="3570"/>
                        </a:lnTo>
                        <a:lnTo>
                          <a:pt x="1560" y="3586"/>
                        </a:lnTo>
                        <a:lnTo>
                          <a:pt x="1555" y="3606"/>
                        </a:lnTo>
                        <a:lnTo>
                          <a:pt x="1550" y="3617"/>
                        </a:lnTo>
                        <a:lnTo>
                          <a:pt x="1544" y="3622"/>
                        </a:lnTo>
                        <a:lnTo>
                          <a:pt x="1565" y="3612"/>
                        </a:lnTo>
                        <a:lnTo>
                          <a:pt x="1622" y="3581"/>
                        </a:lnTo>
                        <a:lnTo>
                          <a:pt x="1659" y="3570"/>
                        </a:lnTo>
                        <a:lnTo>
                          <a:pt x="1695" y="3559"/>
                        </a:lnTo>
                        <a:lnTo>
                          <a:pt x="1737" y="3559"/>
                        </a:lnTo>
                        <a:lnTo>
                          <a:pt x="1779" y="3564"/>
                        </a:lnTo>
                        <a:lnTo>
                          <a:pt x="1799" y="3575"/>
                        </a:lnTo>
                        <a:lnTo>
                          <a:pt x="1814" y="3586"/>
                        </a:lnTo>
                        <a:lnTo>
                          <a:pt x="1856" y="3622"/>
                        </a:lnTo>
                        <a:lnTo>
                          <a:pt x="1898" y="3669"/>
                        </a:lnTo>
                        <a:lnTo>
                          <a:pt x="1929" y="3731"/>
                        </a:lnTo>
                        <a:lnTo>
                          <a:pt x="1951" y="3794"/>
                        </a:lnTo>
                        <a:lnTo>
                          <a:pt x="1956" y="3824"/>
                        </a:lnTo>
                        <a:lnTo>
                          <a:pt x="1961" y="3861"/>
                        </a:lnTo>
                        <a:lnTo>
                          <a:pt x="1956" y="3893"/>
                        </a:lnTo>
                        <a:lnTo>
                          <a:pt x="1951" y="3929"/>
                        </a:lnTo>
                        <a:lnTo>
                          <a:pt x="1939" y="3961"/>
                        </a:lnTo>
                        <a:lnTo>
                          <a:pt x="1924" y="3991"/>
                        </a:lnTo>
                        <a:lnTo>
                          <a:pt x="2116" y="3893"/>
                        </a:lnTo>
                        <a:lnTo>
                          <a:pt x="2106" y="3971"/>
                        </a:lnTo>
                        <a:lnTo>
                          <a:pt x="2132" y="3949"/>
                        </a:lnTo>
                        <a:lnTo>
                          <a:pt x="2189" y="3903"/>
                        </a:lnTo>
                        <a:lnTo>
                          <a:pt x="2226" y="3882"/>
                        </a:lnTo>
                        <a:lnTo>
                          <a:pt x="2257" y="3866"/>
                        </a:lnTo>
                        <a:lnTo>
                          <a:pt x="2268" y="3866"/>
                        </a:lnTo>
                        <a:lnTo>
                          <a:pt x="2283" y="3866"/>
                        </a:lnTo>
                        <a:lnTo>
                          <a:pt x="2293" y="3872"/>
                        </a:lnTo>
                        <a:lnTo>
                          <a:pt x="2303" y="3882"/>
                        </a:lnTo>
                        <a:lnTo>
                          <a:pt x="2314" y="3903"/>
                        </a:lnTo>
                        <a:lnTo>
                          <a:pt x="2314" y="3919"/>
                        </a:lnTo>
                        <a:lnTo>
                          <a:pt x="2308" y="3929"/>
                        </a:lnTo>
                        <a:lnTo>
                          <a:pt x="2298" y="3934"/>
                        </a:lnTo>
                        <a:lnTo>
                          <a:pt x="2278" y="3944"/>
                        </a:lnTo>
                        <a:lnTo>
                          <a:pt x="2268" y="3944"/>
                        </a:lnTo>
                        <a:lnTo>
                          <a:pt x="2548" y="3789"/>
                        </a:lnTo>
                        <a:lnTo>
                          <a:pt x="2574" y="3914"/>
                        </a:lnTo>
                        <a:lnTo>
                          <a:pt x="2595" y="3887"/>
                        </a:lnTo>
                        <a:lnTo>
                          <a:pt x="2620" y="3861"/>
                        </a:lnTo>
                        <a:lnTo>
                          <a:pt x="2652" y="3836"/>
                        </a:lnTo>
                        <a:lnTo>
                          <a:pt x="2688" y="3809"/>
                        </a:lnTo>
                        <a:lnTo>
                          <a:pt x="2709" y="3804"/>
                        </a:lnTo>
                        <a:lnTo>
                          <a:pt x="2725" y="3799"/>
                        </a:lnTo>
                        <a:lnTo>
                          <a:pt x="2745" y="3799"/>
                        </a:lnTo>
                        <a:lnTo>
                          <a:pt x="2767" y="3804"/>
                        </a:lnTo>
                        <a:lnTo>
                          <a:pt x="2782" y="3809"/>
                        </a:lnTo>
                        <a:lnTo>
                          <a:pt x="2803" y="3824"/>
                        </a:lnTo>
                        <a:lnTo>
                          <a:pt x="2814" y="3846"/>
                        </a:lnTo>
                        <a:lnTo>
                          <a:pt x="2829" y="3866"/>
                        </a:lnTo>
                        <a:lnTo>
                          <a:pt x="2844" y="3914"/>
                        </a:lnTo>
                        <a:lnTo>
                          <a:pt x="2850" y="3961"/>
                        </a:lnTo>
                        <a:lnTo>
                          <a:pt x="2844" y="4002"/>
                        </a:lnTo>
                        <a:lnTo>
                          <a:pt x="2839" y="4044"/>
                        </a:lnTo>
                        <a:lnTo>
                          <a:pt x="2829" y="4075"/>
                        </a:lnTo>
                        <a:lnTo>
                          <a:pt x="2819" y="4106"/>
                        </a:lnTo>
                        <a:lnTo>
                          <a:pt x="3074" y="3903"/>
                        </a:lnTo>
                        <a:lnTo>
                          <a:pt x="3099" y="3991"/>
                        </a:lnTo>
                        <a:lnTo>
                          <a:pt x="3286" y="3726"/>
                        </a:lnTo>
                        <a:lnTo>
                          <a:pt x="3307" y="3804"/>
                        </a:lnTo>
                        <a:lnTo>
                          <a:pt x="3338" y="3757"/>
                        </a:lnTo>
                        <a:lnTo>
                          <a:pt x="3411" y="3654"/>
                        </a:lnTo>
                        <a:lnTo>
                          <a:pt x="3453" y="3591"/>
                        </a:lnTo>
                        <a:lnTo>
                          <a:pt x="3489" y="3523"/>
                        </a:lnTo>
                        <a:lnTo>
                          <a:pt x="3521" y="3466"/>
                        </a:lnTo>
                        <a:lnTo>
                          <a:pt x="3541" y="3419"/>
                        </a:lnTo>
                        <a:lnTo>
                          <a:pt x="3551" y="3529"/>
                        </a:lnTo>
                        <a:lnTo>
                          <a:pt x="3562" y="3507"/>
                        </a:lnTo>
                        <a:lnTo>
                          <a:pt x="3593" y="3455"/>
                        </a:lnTo>
                        <a:lnTo>
                          <a:pt x="3635" y="3372"/>
                        </a:lnTo>
                        <a:lnTo>
                          <a:pt x="3650" y="3325"/>
                        </a:lnTo>
                        <a:lnTo>
                          <a:pt x="3666" y="3274"/>
                        </a:lnTo>
                        <a:lnTo>
                          <a:pt x="3692" y="3180"/>
                        </a:lnTo>
                        <a:lnTo>
                          <a:pt x="3723" y="3102"/>
                        </a:lnTo>
                        <a:lnTo>
                          <a:pt x="3760" y="3023"/>
                        </a:lnTo>
                        <a:lnTo>
                          <a:pt x="3807" y="3117"/>
                        </a:lnTo>
                        <a:lnTo>
                          <a:pt x="3832" y="3080"/>
                        </a:lnTo>
                        <a:lnTo>
                          <a:pt x="3858" y="3039"/>
                        </a:lnTo>
                        <a:lnTo>
                          <a:pt x="3890" y="2977"/>
                        </a:lnTo>
                        <a:lnTo>
                          <a:pt x="3920" y="2898"/>
                        </a:lnTo>
                        <a:lnTo>
                          <a:pt x="3947" y="2805"/>
                        </a:lnTo>
                        <a:lnTo>
                          <a:pt x="3952" y="2753"/>
                        </a:lnTo>
                        <a:lnTo>
                          <a:pt x="3957" y="2695"/>
                        </a:lnTo>
                        <a:lnTo>
                          <a:pt x="3962" y="2633"/>
                        </a:lnTo>
                        <a:lnTo>
                          <a:pt x="3957" y="2565"/>
                        </a:lnTo>
                        <a:lnTo>
                          <a:pt x="3942" y="2410"/>
                        </a:lnTo>
                        <a:lnTo>
                          <a:pt x="3915" y="2222"/>
                        </a:lnTo>
                        <a:lnTo>
                          <a:pt x="3885" y="2019"/>
                        </a:lnTo>
                        <a:lnTo>
                          <a:pt x="3853" y="1821"/>
                        </a:lnTo>
                        <a:lnTo>
                          <a:pt x="3791" y="1483"/>
                        </a:lnTo>
                        <a:lnTo>
                          <a:pt x="3760" y="1342"/>
                        </a:lnTo>
                        <a:lnTo>
                          <a:pt x="3728" y="1327"/>
                        </a:lnTo>
                        <a:lnTo>
                          <a:pt x="3692" y="1306"/>
                        </a:lnTo>
                        <a:lnTo>
                          <a:pt x="3640" y="1269"/>
                        </a:lnTo>
                        <a:lnTo>
                          <a:pt x="3583" y="1227"/>
                        </a:lnTo>
                        <a:lnTo>
                          <a:pt x="3521" y="1165"/>
                        </a:lnTo>
                        <a:lnTo>
                          <a:pt x="3448" y="1092"/>
                        </a:lnTo>
                        <a:lnTo>
                          <a:pt x="3375" y="1004"/>
                        </a:lnTo>
                        <a:lnTo>
                          <a:pt x="3209" y="770"/>
                        </a:lnTo>
                        <a:lnTo>
                          <a:pt x="3109" y="629"/>
                        </a:lnTo>
                        <a:lnTo>
                          <a:pt x="3001" y="488"/>
                        </a:lnTo>
                        <a:lnTo>
                          <a:pt x="2881" y="348"/>
                        </a:lnTo>
                        <a:lnTo>
                          <a:pt x="2824" y="285"/>
                        </a:lnTo>
                        <a:lnTo>
                          <a:pt x="2762" y="223"/>
                        </a:lnTo>
                        <a:lnTo>
                          <a:pt x="2699" y="166"/>
                        </a:lnTo>
                        <a:lnTo>
                          <a:pt x="2632" y="120"/>
                        </a:lnTo>
                        <a:lnTo>
                          <a:pt x="2569" y="72"/>
                        </a:lnTo>
                        <a:lnTo>
                          <a:pt x="2501" y="36"/>
                        </a:lnTo>
                        <a:lnTo>
                          <a:pt x="2532" y="113"/>
                        </a:lnTo>
                        <a:lnTo>
                          <a:pt x="2485" y="88"/>
                        </a:lnTo>
                        <a:lnTo>
                          <a:pt x="2433" y="67"/>
                        </a:lnTo>
                        <a:lnTo>
                          <a:pt x="2371" y="46"/>
                        </a:lnTo>
                        <a:lnTo>
                          <a:pt x="2298" y="20"/>
                        </a:lnTo>
                        <a:lnTo>
                          <a:pt x="2221" y="5"/>
                        </a:lnTo>
                        <a:lnTo>
                          <a:pt x="2148" y="0"/>
                        </a:lnTo>
                        <a:lnTo>
                          <a:pt x="2116" y="0"/>
                        </a:lnTo>
                        <a:lnTo>
                          <a:pt x="2080" y="5"/>
                        </a:lnTo>
                        <a:lnTo>
                          <a:pt x="2184" y="108"/>
                        </a:lnTo>
                        <a:lnTo>
                          <a:pt x="2002" y="93"/>
                        </a:lnTo>
                        <a:lnTo>
                          <a:pt x="1841" y="88"/>
                        </a:lnTo>
                        <a:lnTo>
                          <a:pt x="1768" y="88"/>
                        </a:lnTo>
                        <a:lnTo>
                          <a:pt x="1711" y="98"/>
                        </a:lnTo>
                        <a:lnTo>
                          <a:pt x="1804" y="140"/>
                        </a:lnTo>
                        <a:lnTo>
                          <a:pt x="1679" y="140"/>
                        </a:lnTo>
                        <a:lnTo>
                          <a:pt x="1565" y="150"/>
                        </a:lnTo>
                        <a:lnTo>
                          <a:pt x="1513" y="155"/>
                        </a:lnTo>
                        <a:lnTo>
                          <a:pt x="1467" y="166"/>
                        </a:lnTo>
                        <a:lnTo>
                          <a:pt x="1503" y="250"/>
                        </a:lnTo>
                        <a:lnTo>
                          <a:pt x="1373" y="260"/>
                        </a:lnTo>
                        <a:lnTo>
                          <a:pt x="1258" y="270"/>
                        </a:lnTo>
                        <a:lnTo>
                          <a:pt x="1201" y="280"/>
                        </a:lnTo>
                        <a:lnTo>
                          <a:pt x="1150" y="296"/>
                        </a:lnTo>
                        <a:lnTo>
                          <a:pt x="1232" y="353"/>
                        </a:lnTo>
                        <a:lnTo>
                          <a:pt x="1248" y="369"/>
                        </a:lnTo>
                        <a:lnTo>
                          <a:pt x="1263" y="390"/>
                        </a:lnTo>
                        <a:lnTo>
                          <a:pt x="1285" y="415"/>
                        </a:lnTo>
                        <a:lnTo>
                          <a:pt x="1300" y="452"/>
                        </a:lnTo>
                        <a:lnTo>
                          <a:pt x="1310" y="488"/>
                        </a:lnTo>
                        <a:lnTo>
                          <a:pt x="1310" y="535"/>
                        </a:lnTo>
                        <a:lnTo>
                          <a:pt x="1305" y="562"/>
                        </a:lnTo>
                        <a:lnTo>
                          <a:pt x="1300" y="587"/>
                        </a:lnTo>
                        <a:lnTo>
                          <a:pt x="1180" y="577"/>
                        </a:lnTo>
                        <a:lnTo>
                          <a:pt x="1269" y="645"/>
                        </a:lnTo>
                        <a:lnTo>
                          <a:pt x="1332" y="697"/>
                        </a:lnTo>
                        <a:lnTo>
                          <a:pt x="1357" y="723"/>
                        </a:lnTo>
                        <a:lnTo>
                          <a:pt x="1368" y="744"/>
                        </a:lnTo>
                        <a:lnTo>
                          <a:pt x="1368" y="754"/>
                        </a:lnTo>
                        <a:lnTo>
                          <a:pt x="1368" y="759"/>
                        </a:lnTo>
                        <a:lnTo>
                          <a:pt x="1352" y="764"/>
                        </a:lnTo>
                        <a:lnTo>
                          <a:pt x="1332" y="770"/>
                        </a:lnTo>
                        <a:lnTo>
                          <a:pt x="1305" y="764"/>
                        </a:lnTo>
                        <a:lnTo>
                          <a:pt x="1258" y="759"/>
                        </a:lnTo>
                        <a:lnTo>
                          <a:pt x="1232" y="754"/>
                        </a:lnTo>
                        <a:lnTo>
                          <a:pt x="1285" y="884"/>
                        </a:lnTo>
                        <a:lnTo>
                          <a:pt x="1160" y="894"/>
                        </a:lnTo>
                        <a:lnTo>
                          <a:pt x="1056" y="910"/>
                        </a:lnTo>
                        <a:lnTo>
                          <a:pt x="968" y="926"/>
                        </a:lnTo>
                        <a:lnTo>
                          <a:pt x="983" y="931"/>
                        </a:lnTo>
                        <a:lnTo>
                          <a:pt x="1019" y="952"/>
                        </a:lnTo>
                        <a:lnTo>
                          <a:pt x="1035" y="962"/>
                        </a:lnTo>
                        <a:lnTo>
                          <a:pt x="1050" y="977"/>
                        </a:lnTo>
                        <a:lnTo>
                          <a:pt x="1061" y="994"/>
                        </a:lnTo>
                        <a:lnTo>
                          <a:pt x="1071" y="1014"/>
                        </a:lnTo>
                        <a:lnTo>
                          <a:pt x="1066" y="1019"/>
                        </a:lnTo>
                        <a:lnTo>
                          <a:pt x="1061" y="1030"/>
                        </a:lnTo>
                        <a:lnTo>
                          <a:pt x="1035" y="1040"/>
                        </a:lnTo>
                        <a:lnTo>
                          <a:pt x="998" y="1051"/>
                        </a:lnTo>
                        <a:lnTo>
                          <a:pt x="951" y="1061"/>
                        </a:lnTo>
                        <a:lnTo>
                          <a:pt x="873" y="1072"/>
                        </a:lnTo>
                        <a:lnTo>
                          <a:pt x="838" y="1072"/>
                        </a:lnTo>
                        <a:lnTo>
                          <a:pt x="926" y="1139"/>
                        </a:lnTo>
                        <a:lnTo>
                          <a:pt x="936" y="1155"/>
                        </a:lnTo>
                        <a:lnTo>
                          <a:pt x="941" y="1171"/>
                        </a:lnTo>
                        <a:lnTo>
                          <a:pt x="941" y="1197"/>
                        </a:lnTo>
                        <a:lnTo>
                          <a:pt x="941" y="1222"/>
                        </a:lnTo>
                        <a:lnTo>
                          <a:pt x="926" y="1249"/>
                        </a:lnTo>
                        <a:lnTo>
                          <a:pt x="900" y="1279"/>
                        </a:lnTo>
                        <a:lnTo>
                          <a:pt x="863" y="1306"/>
                        </a:lnTo>
                        <a:lnTo>
                          <a:pt x="879" y="1311"/>
                        </a:lnTo>
                        <a:lnTo>
                          <a:pt x="894" y="1316"/>
                        </a:lnTo>
                        <a:lnTo>
                          <a:pt x="915" y="1327"/>
                        </a:lnTo>
                        <a:lnTo>
                          <a:pt x="931" y="1337"/>
                        </a:lnTo>
                        <a:lnTo>
                          <a:pt x="941" y="1358"/>
                        </a:lnTo>
                        <a:lnTo>
                          <a:pt x="941" y="1379"/>
                        </a:lnTo>
                        <a:lnTo>
                          <a:pt x="936" y="1409"/>
                        </a:lnTo>
                        <a:lnTo>
                          <a:pt x="921" y="1436"/>
                        </a:lnTo>
                        <a:lnTo>
                          <a:pt x="900" y="1462"/>
                        </a:lnTo>
                        <a:lnTo>
                          <a:pt x="879" y="1477"/>
                        </a:lnTo>
                        <a:lnTo>
                          <a:pt x="858" y="1488"/>
                        </a:lnTo>
                        <a:lnTo>
                          <a:pt x="821" y="1499"/>
                        </a:lnTo>
                        <a:lnTo>
                          <a:pt x="806" y="1499"/>
                        </a:lnTo>
                        <a:lnTo>
                          <a:pt x="821" y="1509"/>
                        </a:lnTo>
                        <a:lnTo>
                          <a:pt x="858" y="1524"/>
                        </a:lnTo>
                        <a:lnTo>
                          <a:pt x="873" y="1539"/>
                        </a:lnTo>
                        <a:lnTo>
                          <a:pt x="889" y="1556"/>
                        </a:lnTo>
                        <a:lnTo>
                          <a:pt x="894" y="1571"/>
                        </a:lnTo>
                        <a:lnTo>
                          <a:pt x="884" y="1592"/>
                        </a:lnTo>
                        <a:lnTo>
                          <a:pt x="868" y="1613"/>
                        </a:lnTo>
                        <a:lnTo>
                          <a:pt x="838" y="1623"/>
                        </a:lnTo>
                        <a:lnTo>
                          <a:pt x="806" y="1639"/>
                        </a:lnTo>
                        <a:lnTo>
                          <a:pt x="769" y="1649"/>
                        </a:lnTo>
                        <a:lnTo>
                          <a:pt x="713" y="1659"/>
                        </a:lnTo>
                        <a:lnTo>
                          <a:pt x="686" y="1664"/>
                        </a:lnTo>
                        <a:lnTo>
                          <a:pt x="702" y="1676"/>
                        </a:lnTo>
                        <a:lnTo>
                          <a:pt x="738" y="1701"/>
                        </a:lnTo>
                        <a:lnTo>
                          <a:pt x="754" y="1717"/>
                        </a:lnTo>
                        <a:lnTo>
                          <a:pt x="759" y="1728"/>
                        </a:lnTo>
                        <a:lnTo>
                          <a:pt x="759" y="1738"/>
                        </a:lnTo>
                        <a:lnTo>
                          <a:pt x="754" y="1743"/>
                        </a:lnTo>
                        <a:lnTo>
                          <a:pt x="733" y="1753"/>
                        </a:lnTo>
                        <a:lnTo>
                          <a:pt x="666" y="1779"/>
                        </a:lnTo>
                        <a:lnTo>
                          <a:pt x="588" y="1806"/>
                        </a:lnTo>
                        <a:lnTo>
                          <a:pt x="499" y="1847"/>
                        </a:lnTo>
                        <a:lnTo>
                          <a:pt x="531" y="1847"/>
                        </a:lnTo>
                        <a:lnTo>
                          <a:pt x="593" y="1858"/>
                        </a:lnTo>
                        <a:lnTo>
                          <a:pt x="629" y="1868"/>
                        </a:lnTo>
                        <a:lnTo>
                          <a:pt x="666" y="1883"/>
                        </a:lnTo>
                        <a:lnTo>
                          <a:pt x="691" y="1904"/>
                        </a:lnTo>
                        <a:lnTo>
                          <a:pt x="697" y="1915"/>
                        </a:lnTo>
                        <a:lnTo>
                          <a:pt x="702" y="1931"/>
                        </a:lnTo>
                        <a:lnTo>
                          <a:pt x="702" y="1961"/>
                        </a:lnTo>
                        <a:lnTo>
                          <a:pt x="691" y="1993"/>
                        </a:lnTo>
                        <a:lnTo>
                          <a:pt x="676" y="2024"/>
                        </a:lnTo>
                        <a:lnTo>
                          <a:pt x="656" y="2055"/>
                        </a:lnTo>
                        <a:lnTo>
                          <a:pt x="629" y="2081"/>
                        </a:lnTo>
                        <a:lnTo>
                          <a:pt x="609" y="2103"/>
                        </a:lnTo>
                        <a:lnTo>
                          <a:pt x="582" y="2123"/>
                        </a:lnTo>
                        <a:lnTo>
                          <a:pt x="562" y="2128"/>
                        </a:lnTo>
                        <a:lnTo>
                          <a:pt x="551" y="2133"/>
                        </a:lnTo>
                        <a:lnTo>
                          <a:pt x="551" y="2138"/>
                        </a:lnTo>
                        <a:lnTo>
                          <a:pt x="582" y="2149"/>
                        </a:lnTo>
                        <a:lnTo>
                          <a:pt x="598" y="2154"/>
                        </a:lnTo>
                        <a:lnTo>
                          <a:pt x="619" y="2165"/>
                        </a:lnTo>
                        <a:lnTo>
                          <a:pt x="629" y="2175"/>
                        </a:lnTo>
                        <a:lnTo>
                          <a:pt x="634" y="2191"/>
                        </a:lnTo>
                        <a:lnTo>
                          <a:pt x="624" y="2211"/>
                        </a:lnTo>
                        <a:lnTo>
                          <a:pt x="614" y="2233"/>
                        </a:lnTo>
                        <a:lnTo>
                          <a:pt x="593" y="2248"/>
                        </a:lnTo>
                        <a:lnTo>
                          <a:pt x="567" y="2263"/>
                        </a:lnTo>
                        <a:lnTo>
                          <a:pt x="526" y="2285"/>
                        </a:lnTo>
                        <a:lnTo>
                          <a:pt x="504" y="2295"/>
                        </a:lnTo>
                        <a:lnTo>
                          <a:pt x="531" y="2295"/>
                        </a:lnTo>
                        <a:lnTo>
                          <a:pt x="582" y="2305"/>
                        </a:lnTo>
                        <a:lnTo>
                          <a:pt x="603" y="2315"/>
                        </a:lnTo>
                        <a:lnTo>
                          <a:pt x="624" y="2326"/>
                        </a:lnTo>
                        <a:lnTo>
                          <a:pt x="629" y="2336"/>
                        </a:lnTo>
                        <a:lnTo>
                          <a:pt x="629" y="2341"/>
                        </a:lnTo>
                        <a:lnTo>
                          <a:pt x="629" y="2352"/>
                        </a:lnTo>
                        <a:lnTo>
                          <a:pt x="624" y="2363"/>
                        </a:lnTo>
                        <a:lnTo>
                          <a:pt x="603" y="2388"/>
                        </a:lnTo>
                        <a:lnTo>
                          <a:pt x="577" y="2398"/>
                        </a:lnTo>
                        <a:lnTo>
                          <a:pt x="556" y="2410"/>
                        </a:lnTo>
                        <a:lnTo>
                          <a:pt x="531" y="2420"/>
                        </a:lnTo>
                        <a:lnTo>
                          <a:pt x="489" y="2420"/>
                        </a:lnTo>
                        <a:lnTo>
                          <a:pt x="468" y="2420"/>
                        </a:lnTo>
                        <a:lnTo>
                          <a:pt x="484" y="2425"/>
                        </a:lnTo>
                        <a:lnTo>
                          <a:pt x="514" y="2430"/>
                        </a:lnTo>
                        <a:lnTo>
                          <a:pt x="526" y="2440"/>
                        </a:lnTo>
                        <a:lnTo>
                          <a:pt x="536" y="2451"/>
                        </a:lnTo>
                        <a:lnTo>
                          <a:pt x="536" y="2461"/>
                        </a:lnTo>
                        <a:lnTo>
                          <a:pt x="531" y="2477"/>
                        </a:lnTo>
                        <a:lnTo>
                          <a:pt x="509" y="2498"/>
                        </a:lnTo>
                        <a:lnTo>
                          <a:pt x="479" y="2518"/>
                        </a:lnTo>
                        <a:lnTo>
                          <a:pt x="400" y="2565"/>
                        </a:lnTo>
                        <a:lnTo>
                          <a:pt x="297" y="2617"/>
                        </a:lnTo>
                        <a:lnTo>
                          <a:pt x="317" y="2623"/>
                        </a:lnTo>
                        <a:lnTo>
                          <a:pt x="364" y="2633"/>
                        </a:lnTo>
                        <a:lnTo>
                          <a:pt x="379" y="2643"/>
                        </a:lnTo>
                        <a:lnTo>
                          <a:pt x="390" y="2654"/>
                        </a:lnTo>
                        <a:lnTo>
                          <a:pt x="395" y="2659"/>
                        </a:lnTo>
                        <a:lnTo>
                          <a:pt x="395" y="2665"/>
                        </a:lnTo>
                        <a:lnTo>
                          <a:pt x="379" y="2680"/>
                        </a:lnTo>
                        <a:lnTo>
                          <a:pt x="317" y="2711"/>
                        </a:lnTo>
                        <a:lnTo>
                          <a:pt x="250" y="2737"/>
                        </a:lnTo>
                        <a:lnTo>
                          <a:pt x="162" y="2763"/>
                        </a:lnTo>
                        <a:lnTo>
                          <a:pt x="182" y="2779"/>
                        </a:lnTo>
                        <a:lnTo>
                          <a:pt x="213" y="2810"/>
                        </a:lnTo>
                        <a:lnTo>
                          <a:pt x="229" y="2825"/>
                        </a:lnTo>
                        <a:lnTo>
                          <a:pt x="234" y="2847"/>
                        </a:lnTo>
                        <a:lnTo>
                          <a:pt x="234" y="2852"/>
                        </a:lnTo>
                        <a:lnTo>
                          <a:pt x="234" y="2862"/>
                        </a:lnTo>
                        <a:lnTo>
                          <a:pt x="229" y="2867"/>
                        </a:lnTo>
                        <a:lnTo>
                          <a:pt x="219" y="2872"/>
                        </a:lnTo>
                        <a:lnTo>
                          <a:pt x="187" y="2893"/>
                        </a:lnTo>
                        <a:lnTo>
                          <a:pt x="156" y="2919"/>
                        </a:lnTo>
                        <a:lnTo>
                          <a:pt x="83" y="2982"/>
                        </a:lnTo>
                        <a:lnTo>
                          <a:pt x="0" y="3065"/>
                        </a:lnTo>
                        <a:close/>
                      </a:path>
                    </a:pathLst>
                  </a:cu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未知"/>
                  <p:cNvSpPr/>
                  <p:nvPr/>
                </p:nvSpPr>
                <p:spPr>
                  <a:xfrm rot="4199400">
                    <a:off x="48240" y="581760"/>
                    <a:ext cx="261000" cy="2556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4" h="1941">
                        <a:moveTo>
                          <a:pt x="0" y="1941"/>
                        </a:moveTo>
                        <a:lnTo>
                          <a:pt x="141" y="1936"/>
                        </a:lnTo>
                        <a:lnTo>
                          <a:pt x="463" y="1916"/>
                        </a:lnTo>
                        <a:lnTo>
                          <a:pt x="655" y="1899"/>
                        </a:lnTo>
                        <a:lnTo>
                          <a:pt x="842" y="1874"/>
                        </a:lnTo>
                        <a:lnTo>
                          <a:pt x="1014" y="1848"/>
                        </a:lnTo>
                        <a:lnTo>
                          <a:pt x="1087" y="1837"/>
                        </a:lnTo>
                        <a:lnTo>
                          <a:pt x="1149" y="1822"/>
                        </a:lnTo>
                        <a:lnTo>
                          <a:pt x="1311" y="1775"/>
                        </a:lnTo>
                        <a:lnTo>
                          <a:pt x="1550" y="1717"/>
                        </a:lnTo>
                        <a:lnTo>
                          <a:pt x="1846" y="1644"/>
                        </a:lnTo>
                        <a:lnTo>
                          <a:pt x="2179" y="1551"/>
                        </a:lnTo>
                        <a:lnTo>
                          <a:pt x="2346" y="1499"/>
                        </a:lnTo>
                        <a:lnTo>
                          <a:pt x="2517" y="1442"/>
                        </a:lnTo>
                        <a:lnTo>
                          <a:pt x="2683" y="1379"/>
                        </a:lnTo>
                        <a:lnTo>
                          <a:pt x="2845" y="1312"/>
                        </a:lnTo>
                        <a:lnTo>
                          <a:pt x="2995" y="1244"/>
                        </a:lnTo>
                        <a:lnTo>
                          <a:pt x="3135" y="1172"/>
                        </a:lnTo>
                        <a:lnTo>
                          <a:pt x="3260" y="1093"/>
                        </a:lnTo>
                        <a:lnTo>
                          <a:pt x="3317" y="1052"/>
                        </a:lnTo>
                        <a:lnTo>
                          <a:pt x="3364" y="1010"/>
                        </a:lnTo>
                        <a:lnTo>
                          <a:pt x="3235" y="432"/>
                        </a:lnTo>
                        <a:lnTo>
                          <a:pt x="3177" y="380"/>
                        </a:lnTo>
                        <a:lnTo>
                          <a:pt x="3053" y="266"/>
                        </a:lnTo>
                        <a:lnTo>
                          <a:pt x="2975" y="198"/>
                        </a:lnTo>
                        <a:lnTo>
                          <a:pt x="2907" y="125"/>
                        </a:lnTo>
                        <a:lnTo>
                          <a:pt x="2845" y="58"/>
                        </a:lnTo>
                        <a:lnTo>
                          <a:pt x="2803" y="0"/>
                        </a:lnTo>
                        <a:lnTo>
                          <a:pt x="2704" y="52"/>
                        </a:lnTo>
                        <a:lnTo>
                          <a:pt x="2444" y="193"/>
                        </a:lnTo>
                        <a:lnTo>
                          <a:pt x="2064" y="401"/>
                        </a:lnTo>
                        <a:lnTo>
                          <a:pt x="1840" y="531"/>
                        </a:lnTo>
                        <a:lnTo>
                          <a:pt x="1612" y="672"/>
                        </a:lnTo>
                        <a:lnTo>
                          <a:pt x="1373" y="817"/>
                        </a:lnTo>
                        <a:lnTo>
                          <a:pt x="1134" y="973"/>
                        </a:lnTo>
                        <a:lnTo>
                          <a:pt x="900" y="1135"/>
                        </a:lnTo>
                        <a:lnTo>
                          <a:pt x="677" y="1296"/>
                        </a:lnTo>
                        <a:lnTo>
                          <a:pt x="468" y="1462"/>
                        </a:lnTo>
                        <a:lnTo>
                          <a:pt x="370" y="1546"/>
                        </a:lnTo>
                        <a:lnTo>
                          <a:pt x="281" y="1629"/>
                        </a:lnTo>
                        <a:lnTo>
                          <a:pt x="198" y="1707"/>
                        </a:lnTo>
                        <a:lnTo>
                          <a:pt x="125" y="1786"/>
                        </a:lnTo>
                        <a:lnTo>
                          <a:pt x="58" y="1864"/>
                        </a:lnTo>
                        <a:lnTo>
                          <a:pt x="0" y="194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未知"/>
                  <p:cNvSpPr/>
                  <p:nvPr/>
                </p:nvSpPr>
                <p:spPr>
                  <a:xfrm rot="4199400">
                    <a:off x="26640" y="585360"/>
                    <a:ext cx="37980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888" h="2436">
                        <a:moveTo>
                          <a:pt x="0" y="2436"/>
                        </a:moveTo>
                        <a:lnTo>
                          <a:pt x="358" y="2296"/>
                        </a:lnTo>
                        <a:lnTo>
                          <a:pt x="1169" y="1968"/>
                        </a:lnTo>
                        <a:lnTo>
                          <a:pt x="1628" y="1786"/>
                        </a:lnTo>
                        <a:lnTo>
                          <a:pt x="2044" y="1609"/>
                        </a:lnTo>
                        <a:lnTo>
                          <a:pt x="2381" y="1457"/>
                        </a:lnTo>
                        <a:lnTo>
                          <a:pt x="2501" y="1400"/>
                        </a:lnTo>
                        <a:lnTo>
                          <a:pt x="2584" y="1359"/>
                        </a:lnTo>
                        <a:lnTo>
                          <a:pt x="2828" y="1213"/>
                        </a:lnTo>
                        <a:lnTo>
                          <a:pt x="3057" y="1083"/>
                        </a:lnTo>
                        <a:lnTo>
                          <a:pt x="3250" y="979"/>
                        </a:lnTo>
                        <a:lnTo>
                          <a:pt x="3322" y="942"/>
                        </a:lnTo>
                        <a:lnTo>
                          <a:pt x="3380" y="922"/>
                        </a:lnTo>
                        <a:lnTo>
                          <a:pt x="3469" y="885"/>
                        </a:lnTo>
                        <a:lnTo>
                          <a:pt x="3634" y="812"/>
                        </a:lnTo>
                        <a:lnTo>
                          <a:pt x="3853" y="708"/>
                        </a:lnTo>
                        <a:lnTo>
                          <a:pt x="4103" y="583"/>
                        </a:lnTo>
                        <a:lnTo>
                          <a:pt x="4352" y="458"/>
                        </a:lnTo>
                        <a:lnTo>
                          <a:pt x="4587" y="333"/>
                        </a:lnTo>
                        <a:lnTo>
                          <a:pt x="4685" y="276"/>
                        </a:lnTo>
                        <a:lnTo>
                          <a:pt x="4774" y="219"/>
                        </a:lnTo>
                        <a:lnTo>
                          <a:pt x="4841" y="172"/>
                        </a:lnTo>
                        <a:lnTo>
                          <a:pt x="4888" y="136"/>
                        </a:lnTo>
                        <a:lnTo>
                          <a:pt x="4888" y="115"/>
                        </a:lnTo>
                        <a:lnTo>
                          <a:pt x="4888" y="73"/>
                        </a:lnTo>
                        <a:lnTo>
                          <a:pt x="4882" y="47"/>
                        </a:lnTo>
                        <a:lnTo>
                          <a:pt x="4877" y="26"/>
                        </a:lnTo>
                        <a:lnTo>
                          <a:pt x="4867" y="11"/>
                        </a:lnTo>
                        <a:lnTo>
                          <a:pt x="4846" y="0"/>
                        </a:lnTo>
                        <a:lnTo>
                          <a:pt x="4836" y="0"/>
                        </a:lnTo>
                        <a:lnTo>
                          <a:pt x="4826" y="6"/>
                        </a:lnTo>
                        <a:lnTo>
                          <a:pt x="4799" y="26"/>
                        </a:lnTo>
                        <a:lnTo>
                          <a:pt x="4727" y="109"/>
                        </a:lnTo>
                        <a:lnTo>
                          <a:pt x="4680" y="161"/>
                        </a:lnTo>
                        <a:lnTo>
                          <a:pt x="4628" y="219"/>
                        </a:lnTo>
                        <a:lnTo>
                          <a:pt x="4560" y="271"/>
                        </a:lnTo>
                        <a:lnTo>
                          <a:pt x="4524" y="297"/>
                        </a:lnTo>
                        <a:lnTo>
                          <a:pt x="4482" y="318"/>
                        </a:lnTo>
                        <a:lnTo>
                          <a:pt x="4233" y="443"/>
                        </a:lnTo>
                        <a:lnTo>
                          <a:pt x="3900" y="604"/>
                        </a:lnTo>
                        <a:lnTo>
                          <a:pt x="3593" y="745"/>
                        </a:lnTo>
                        <a:lnTo>
                          <a:pt x="3484" y="792"/>
                        </a:lnTo>
                        <a:lnTo>
                          <a:pt x="3422" y="817"/>
                        </a:lnTo>
                        <a:lnTo>
                          <a:pt x="3380" y="833"/>
                        </a:lnTo>
                        <a:lnTo>
                          <a:pt x="3317" y="864"/>
                        </a:lnTo>
                        <a:lnTo>
                          <a:pt x="3172" y="947"/>
                        </a:lnTo>
                        <a:lnTo>
                          <a:pt x="3010" y="1047"/>
                        </a:lnTo>
                        <a:lnTo>
                          <a:pt x="2875" y="1135"/>
                        </a:lnTo>
                        <a:lnTo>
                          <a:pt x="2730" y="1224"/>
                        </a:lnTo>
                        <a:lnTo>
                          <a:pt x="2533" y="1327"/>
                        </a:lnTo>
                        <a:lnTo>
                          <a:pt x="2329" y="1437"/>
                        </a:lnTo>
                        <a:lnTo>
                          <a:pt x="2152" y="1520"/>
                        </a:lnTo>
                        <a:lnTo>
                          <a:pt x="1726" y="1702"/>
                        </a:lnTo>
                        <a:lnTo>
                          <a:pt x="999" y="2014"/>
                        </a:lnTo>
                        <a:lnTo>
                          <a:pt x="0" y="243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未知"/>
                  <p:cNvSpPr/>
                  <p:nvPr/>
                </p:nvSpPr>
                <p:spPr>
                  <a:xfrm rot="4199400">
                    <a:off x="96480" y="658800"/>
                    <a:ext cx="1234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597" h="240">
                        <a:moveTo>
                          <a:pt x="0" y="5"/>
                        </a:moveTo>
                        <a:lnTo>
                          <a:pt x="198" y="17"/>
                        </a:lnTo>
                        <a:lnTo>
                          <a:pt x="411" y="27"/>
                        </a:lnTo>
                        <a:lnTo>
                          <a:pt x="656" y="47"/>
                        </a:lnTo>
                        <a:lnTo>
                          <a:pt x="921" y="79"/>
                        </a:lnTo>
                        <a:lnTo>
                          <a:pt x="1051" y="95"/>
                        </a:lnTo>
                        <a:lnTo>
                          <a:pt x="1176" y="115"/>
                        </a:lnTo>
                        <a:lnTo>
                          <a:pt x="1285" y="142"/>
                        </a:lnTo>
                        <a:lnTo>
                          <a:pt x="1389" y="172"/>
                        </a:lnTo>
                        <a:lnTo>
                          <a:pt x="1472" y="204"/>
                        </a:lnTo>
                        <a:lnTo>
                          <a:pt x="1509" y="219"/>
                        </a:lnTo>
                        <a:lnTo>
                          <a:pt x="1540" y="240"/>
                        </a:lnTo>
                        <a:lnTo>
                          <a:pt x="1597" y="225"/>
                        </a:lnTo>
                        <a:lnTo>
                          <a:pt x="1571" y="214"/>
                        </a:lnTo>
                        <a:lnTo>
                          <a:pt x="1487" y="183"/>
                        </a:lnTo>
                        <a:lnTo>
                          <a:pt x="1358" y="142"/>
                        </a:lnTo>
                        <a:lnTo>
                          <a:pt x="1176" y="100"/>
                        </a:lnTo>
                        <a:lnTo>
                          <a:pt x="1067" y="73"/>
                        </a:lnTo>
                        <a:lnTo>
                          <a:pt x="947" y="53"/>
                        </a:lnTo>
                        <a:lnTo>
                          <a:pt x="811" y="37"/>
                        </a:lnTo>
                        <a:lnTo>
                          <a:pt x="671" y="22"/>
                        </a:lnTo>
                        <a:lnTo>
                          <a:pt x="521" y="11"/>
                        </a:lnTo>
                        <a:lnTo>
                          <a:pt x="354" y="0"/>
                        </a:lnTo>
                        <a:lnTo>
                          <a:pt x="18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未知"/>
                  <p:cNvSpPr/>
                  <p:nvPr/>
                </p:nvSpPr>
                <p:spPr>
                  <a:xfrm rot="4199400">
                    <a:off x="179640" y="619920"/>
                    <a:ext cx="1594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9" h="906">
                        <a:moveTo>
                          <a:pt x="0" y="427"/>
                        </a:moveTo>
                        <a:lnTo>
                          <a:pt x="141" y="448"/>
                        </a:lnTo>
                        <a:lnTo>
                          <a:pt x="463" y="505"/>
                        </a:lnTo>
                        <a:lnTo>
                          <a:pt x="640" y="542"/>
                        </a:lnTo>
                        <a:lnTo>
                          <a:pt x="806" y="578"/>
                        </a:lnTo>
                        <a:lnTo>
                          <a:pt x="879" y="599"/>
                        </a:lnTo>
                        <a:lnTo>
                          <a:pt x="941" y="619"/>
                        </a:lnTo>
                        <a:lnTo>
                          <a:pt x="989" y="641"/>
                        </a:lnTo>
                        <a:lnTo>
                          <a:pt x="1024" y="661"/>
                        </a:lnTo>
                        <a:lnTo>
                          <a:pt x="1061" y="677"/>
                        </a:lnTo>
                        <a:lnTo>
                          <a:pt x="1108" y="698"/>
                        </a:lnTo>
                        <a:lnTo>
                          <a:pt x="1171" y="719"/>
                        </a:lnTo>
                        <a:lnTo>
                          <a:pt x="1238" y="744"/>
                        </a:lnTo>
                        <a:lnTo>
                          <a:pt x="1404" y="781"/>
                        </a:lnTo>
                        <a:lnTo>
                          <a:pt x="1581" y="823"/>
                        </a:lnTo>
                        <a:lnTo>
                          <a:pt x="1893" y="879"/>
                        </a:lnTo>
                        <a:lnTo>
                          <a:pt x="2034" y="906"/>
                        </a:lnTo>
                        <a:lnTo>
                          <a:pt x="2059" y="854"/>
                        </a:lnTo>
                        <a:lnTo>
                          <a:pt x="1924" y="833"/>
                        </a:lnTo>
                        <a:lnTo>
                          <a:pt x="1623" y="781"/>
                        </a:lnTo>
                        <a:lnTo>
                          <a:pt x="1456" y="749"/>
                        </a:lnTo>
                        <a:lnTo>
                          <a:pt x="1295" y="714"/>
                        </a:lnTo>
                        <a:lnTo>
                          <a:pt x="1165" y="682"/>
                        </a:lnTo>
                        <a:lnTo>
                          <a:pt x="1118" y="666"/>
                        </a:lnTo>
                        <a:lnTo>
                          <a:pt x="1087" y="651"/>
                        </a:lnTo>
                        <a:lnTo>
                          <a:pt x="1056" y="630"/>
                        </a:lnTo>
                        <a:lnTo>
                          <a:pt x="1019" y="604"/>
                        </a:lnTo>
                        <a:lnTo>
                          <a:pt x="936" y="531"/>
                        </a:lnTo>
                        <a:lnTo>
                          <a:pt x="723" y="329"/>
                        </a:lnTo>
                        <a:lnTo>
                          <a:pt x="609" y="219"/>
                        </a:lnTo>
                        <a:lnTo>
                          <a:pt x="495" y="125"/>
                        </a:lnTo>
                        <a:lnTo>
                          <a:pt x="442" y="84"/>
                        </a:lnTo>
                        <a:lnTo>
                          <a:pt x="390" y="47"/>
                        </a:lnTo>
                        <a:lnTo>
                          <a:pt x="343" y="21"/>
                        </a:lnTo>
                        <a:lnTo>
                          <a:pt x="302" y="0"/>
                        </a:lnTo>
                        <a:lnTo>
                          <a:pt x="562" y="234"/>
                        </a:lnTo>
                        <a:lnTo>
                          <a:pt x="759" y="417"/>
                        </a:lnTo>
                        <a:lnTo>
                          <a:pt x="837" y="494"/>
                        </a:lnTo>
                        <a:lnTo>
                          <a:pt x="889" y="552"/>
                        </a:lnTo>
                        <a:lnTo>
                          <a:pt x="775" y="531"/>
                        </a:lnTo>
                        <a:lnTo>
                          <a:pt x="515" y="479"/>
                        </a:lnTo>
                        <a:lnTo>
                          <a:pt x="365" y="459"/>
                        </a:lnTo>
                        <a:lnTo>
                          <a:pt x="218" y="437"/>
                        </a:lnTo>
                        <a:lnTo>
                          <a:pt x="94" y="427"/>
                        </a:lnTo>
                        <a:lnTo>
                          <a:pt x="41" y="427"/>
                        </a:lnTo>
                        <a:lnTo>
                          <a:pt x="0" y="42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未知"/>
                  <p:cNvSpPr/>
                  <p:nvPr/>
                </p:nvSpPr>
                <p:spPr>
                  <a:xfrm rot="4199400">
                    <a:off x="234360" y="609120"/>
                    <a:ext cx="17604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67" h="1181">
                        <a:moveTo>
                          <a:pt x="0" y="286"/>
                        </a:moveTo>
                        <a:lnTo>
                          <a:pt x="156" y="339"/>
                        </a:lnTo>
                        <a:lnTo>
                          <a:pt x="514" y="469"/>
                        </a:lnTo>
                        <a:lnTo>
                          <a:pt x="712" y="546"/>
                        </a:lnTo>
                        <a:lnTo>
                          <a:pt x="900" y="624"/>
                        </a:lnTo>
                        <a:lnTo>
                          <a:pt x="1050" y="692"/>
                        </a:lnTo>
                        <a:lnTo>
                          <a:pt x="1107" y="724"/>
                        </a:lnTo>
                        <a:lnTo>
                          <a:pt x="1149" y="749"/>
                        </a:lnTo>
                        <a:lnTo>
                          <a:pt x="1107" y="776"/>
                        </a:lnTo>
                        <a:lnTo>
                          <a:pt x="1008" y="822"/>
                        </a:lnTo>
                        <a:lnTo>
                          <a:pt x="940" y="848"/>
                        </a:lnTo>
                        <a:lnTo>
                          <a:pt x="868" y="874"/>
                        </a:lnTo>
                        <a:lnTo>
                          <a:pt x="785" y="896"/>
                        </a:lnTo>
                        <a:lnTo>
                          <a:pt x="701" y="906"/>
                        </a:lnTo>
                        <a:lnTo>
                          <a:pt x="743" y="906"/>
                        </a:lnTo>
                        <a:lnTo>
                          <a:pt x="790" y="901"/>
                        </a:lnTo>
                        <a:lnTo>
                          <a:pt x="853" y="896"/>
                        </a:lnTo>
                        <a:lnTo>
                          <a:pt x="925" y="884"/>
                        </a:lnTo>
                        <a:lnTo>
                          <a:pt x="1008" y="864"/>
                        </a:lnTo>
                        <a:lnTo>
                          <a:pt x="1092" y="833"/>
                        </a:lnTo>
                        <a:lnTo>
                          <a:pt x="1170" y="796"/>
                        </a:lnTo>
                        <a:lnTo>
                          <a:pt x="1305" y="859"/>
                        </a:lnTo>
                        <a:lnTo>
                          <a:pt x="1617" y="989"/>
                        </a:lnTo>
                        <a:lnTo>
                          <a:pt x="1794" y="1061"/>
                        </a:lnTo>
                        <a:lnTo>
                          <a:pt x="1965" y="1124"/>
                        </a:lnTo>
                        <a:lnTo>
                          <a:pt x="2043" y="1145"/>
                        </a:lnTo>
                        <a:lnTo>
                          <a:pt x="2111" y="1166"/>
                        </a:lnTo>
                        <a:lnTo>
                          <a:pt x="2168" y="1176"/>
                        </a:lnTo>
                        <a:lnTo>
                          <a:pt x="2210" y="1181"/>
                        </a:lnTo>
                        <a:lnTo>
                          <a:pt x="2267" y="1161"/>
                        </a:lnTo>
                        <a:lnTo>
                          <a:pt x="2230" y="1156"/>
                        </a:lnTo>
                        <a:lnTo>
                          <a:pt x="2142" y="1124"/>
                        </a:lnTo>
                        <a:lnTo>
                          <a:pt x="2095" y="1109"/>
                        </a:lnTo>
                        <a:lnTo>
                          <a:pt x="2048" y="1088"/>
                        </a:lnTo>
                        <a:lnTo>
                          <a:pt x="2007" y="1061"/>
                        </a:lnTo>
                        <a:lnTo>
                          <a:pt x="1981" y="1041"/>
                        </a:lnTo>
                        <a:lnTo>
                          <a:pt x="1856" y="869"/>
                        </a:lnTo>
                        <a:lnTo>
                          <a:pt x="1746" y="724"/>
                        </a:lnTo>
                        <a:lnTo>
                          <a:pt x="1617" y="552"/>
                        </a:lnTo>
                        <a:lnTo>
                          <a:pt x="1471" y="380"/>
                        </a:lnTo>
                        <a:lnTo>
                          <a:pt x="1399" y="297"/>
                        </a:lnTo>
                        <a:lnTo>
                          <a:pt x="1326" y="219"/>
                        </a:lnTo>
                        <a:lnTo>
                          <a:pt x="1252" y="151"/>
                        </a:lnTo>
                        <a:lnTo>
                          <a:pt x="1180" y="89"/>
                        </a:lnTo>
                        <a:lnTo>
                          <a:pt x="1112" y="37"/>
                        </a:lnTo>
                        <a:lnTo>
                          <a:pt x="1050" y="0"/>
                        </a:lnTo>
                        <a:lnTo>
                          <a:pt x="1149" y="94"/>
                        </a:lnTo>
                        <a:lnTo>
                          <a:pt x="1247" y="192"/>
                        </a:lnTo>
                        <a:lnTo>
                          <a:pt x="1377" y="327"/>
                        </a:lnTo>
                        <a:lnTo>
                          <a:pt x="1513" y="484"/>
                        </a:lnTo>
                        <a:lnTo>
                          <a:pt x="1653" y="651"/>
                        </a:lnTo>
                        <a:lnTo>
                          <a:pt x="1716" y="739"/>
                        </a:lnTo>
                        <a:lnTo>
                          <a:pt x="1778" y="833"/>
                        </a:lnTo>
                        <a:lnTo>
                          <a:pt x="1835" y="921"/>
                        </a:lnTo>
                        <a:lnTo>
                          <a:pt x="1888" y="1015"/>
                        </a:lnTo>
                        <a:lnTo>
                          <a:pt x="1846" y="1009"/>
                        </a:lnTo>
                        <a:lnTo>
                          <a:pt x="1794" y="994"/>
                        </a:lnTo>
                        <a:lnTo>
                          <a:pt x="1706" y="963"/>
                        </a:lnTo>
                        <a:lnTo>
                          <a:pt x="1591" y="916"/>
                        </a:lnTo>
                        <a:lnTo>
                          <a:pt x="1435" y="848"/>
                        </a:lnTo>
                        <a:lnTo>
                          <a:pt x="1242" y="749"/>
                        </a:lnTo>
                        <a:lnTo>
                          <a:pt x="1003" y="614"/>
                        </a:lnTo>
                        <a:lnTo>
                          <a:pt x="951" y="541"/>
                        </a:lnTo>
                        <a:lnTo>
                          <a:pt x="894" y="458"/>
                        </a:lnTo>
                        <a:lnTo>
                          <a:pt x="816" y="369"/>
                        </a:lnTo>
                        <a:lnTo>
                          <a:pt x="770" y="322"/>
                        </a:lnTo>
                        <a:lnTo>
                          <a:pt x="723" y="276"/>
                        </a:lnTo>
                        <a:lnTo>
                          <a:pt x="670" y="229"/>
                        </a:lnTo>
                        <a:lnTo>
                          <a:pt x="613" y="187"/>
                        </a:lnTo>
                        <a:lnTo>
                          <a:pt x="556" y="151"/>
                        </a:lnTo>
                        <a:lnTo>
                          <a:pt x="494" y="120"/>
                        </a:lnTo>
                        <a:lnTo>
                          <a:pt x="431" y="94"/>
                        </a:lnTo>
                        <a:lnTo>
                          <a:pt x="369" y="78"/>
                        </a:lnTo>
                        <a:lnTo>
                          <a:pt x="436" y="114"/>
                        </a:lnTo>
                        <a:lnTo>
                          <a:pt x="509" y="162"/>
                        </a:lnTo>
                        <a:lnTo>
                          <a:pt x="593" y="219"/>
                        </a:lnTo>
                        <a:lnTo>
                          <a:pt x="681" y="292"/>
                        </a:lnTo>
                        <a:lnTo>
                          <a:pt x="775" y="374"/>
                        </a:lnTo>
                        <a:lnTo>
                          <a:pt x="816" y="422"/>
                        </a:lnTo>
                        <a:lnTo>
                          <a:pt x="853" y="469"/>
                        </a:lnTo>
                        <a:lnTo>
                          <a:pt x="889" y="515"/>
                        </a:lnTo>
                        <a:lnTo>
                          <a:pt x="915" y="567"/>
                        </a:lnTo>
                        <a:lnTo>
                          <a:pt x="800" y="526"/>
                        </a:lnTo>
                        <a:lnTo>
                          <a:pt x="525" y="432"/>
                        </a:lnTo>
                        <a:lnTo>
                          <a:pt x="369" y="380"/>
                        </a:lnTo>
                        <a:lnTo>
                          <a:pt x="224" y="339"/>
                        </a:lnTo>
                        <a:lnTo>
                          <a:pt x="94" y="302"/>
                        </a:lnTo>
                        <a:lnTo>
                          <a:pt x="0" y="28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未知"/>
                  <p:cNvSpPr/>
                  <p:nvPr/>
                </p:nvSpPr>
                <p:spPr>
                  <a:xfrm rot="4199400">
                    <a:off x="65880" y="649080"/>
                    <a:ext cx="730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6" h="155">
                        <a:moveTo>
                          <a:pt x="0" y="30"/>
                        </a:moveTo>
                        <a:lnTo>
                          <a:pt x="103" y="30"/>
                        </a:lnTo>
                        <a:lnTo>
                          <a:pt x="213" y="30"/>
                        </a:lnTo>
                        <a:lnTo>
                          <a:pt x="343" y="42"/>
                        </a:lnTo>
                        <a:lnTo>
                          <a:pt x="488" y="52"/>
                        </a:lnTo>
                        <a:lnTo>
                          <a:pt x="634" y="78"/>
                        </a:lnTo>
                        <a:lnTo>
                          <a:pt x="702" y="93"/>
                        </a:lnTo>
                        <a:lnTo>
                          <a:pt x="764" y="109"/>
                        </a:lnTo>
                        <a:lnTo>
                          <a:pt x="826" y="130"/>
                        </a:lnTo>
                        <a:lnTo>
                          <a:pt x="879" y="155"/>
                        </a:lnTo>
                        <a:lnTo>
                          <a:pt x="946" y="135"/>
                        </a:lnTo>
                        <a:lnTo>
                          <a:pt x="857" y="104"/>
                        </a:lnTo>
                        <a:lnTo>
                          <a:pt x="764" y="72"/>
                        </a:lnTo>
                        <a:lnTo>
                          <a:pt x="634" y="42"/>
                        </a:lnTo>
                        <a:lnTo>
                          <a:pt x="488" y="15"/>
                        </a:lnTo>
                        <a:lnTo>
                          <a:pt x="410" y="5"/>
                        </a:lnTo>
                        <a:lnTo>
                          <a:pt x="332" y="0"/>
                        </a:lnTo>
                        <a:lnTo>
                          <a:pt x="250" y="0"/>
                        </a:lnTo>
                        <a:lnTo>
                          <a:pt x="166" y="5"/>
                        </a:lnTo>
                        <a:lnTo>
                          <a:pt x="83" y="15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未知"/>
                  <p:cNvSpPr/>
                  <p:nvPr/>
                </p:nvSpPr>
                <p:spPr>
                  <a:xfrm rot="4199400">
                    <a:off x="33120" y="637200"/>
                    <a:ext cx="381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99" h="53">
                        <a:moveTo>
                          <a:pt x="0" y="47"/>
                        </a:moveTo>
                        <a:lnTo>
                          <a:pt x="53" y="36"/>
                        </a:lnTo>
                        <a:lnTo>
                          <a:pt x="110" y="31"/>
                        </a:lnTo>
                        <a:lnTo>
                          <a:pt x="172" y="21"/>
                        </a:lnTo>
                        <a:lnTo>
                          <a:pt x="245" y="16"/>
                        </a:lnTo>
                        <a:lnTo>
                          <a:pt x="323" y="21"/>
                        </a:lnTo>
                        <a:lnTo>
                          <a:pt x="385" y="31"/>
                        </a:lnTo>
                        <a:lnTo>
                          <a:pt x="417" y="42"/>
                        </a:lnTo>
                        <a:lnTo>
                          <a:pt x="442" y="53"/>
                        </a:lnTo>
                        <a:lnTo>
                          <a:pt x="499" y="36"/>
                        </a:lnTo>
                        <a:lnTo>
                          <a:pt x="474" y="21"/>
                        </a:lnTo>
                        <a:lnTo>
                          <a:pt x="432" y="11"/>
                        </a:lnTo>
                        <a:lnTo>
                          <a:pt x="380" y="5"/>
                        </a:lnTo>
                        <a:lnTo>
                          <a:pt x="312" y="0"/>
                        </a:lnTo>
                        <a:lnTo>
                          <a:pt x="224" y="5"/>
                        </a:lnTo>
                        <a:lnTo>
                          <a:pt x="120" y="21"/>
                        </a:lnTo>
                        <a:lnTo>
                          <a:pt x="0" y="4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未知"/>
                  <p:cNvSpPr/>
                  <p:nvPr/>
                </p:nvSpPr>
                <p:spPr>
                  <a:xfrm rot="4199400">
                    <a:off x="20160" y="634320"/>
                    <a:ext cx="27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411">
                        <a:moveTo>
                          <a:pt x="0" y="411"/>
                        </a:moveTo>
                        <a:lnTo>
                          <a:pt x="57" y="370"/>
                        </a:lnTo>
                        <a:lnTo>
                          <a:pt x="119" y="323"/>
                        </a:lnTo>
                        <a:lnTo>
                          <a:pt x="187" y="271"/>
                        </a:lnTo>
                        <a:lnTo>
                          <a:pt x="254" y="203"/>
                        </a:lnTo>
                        <a:lnTo>
                          <a:pt x="286" y="172"/>
                        </a:lnTo>
                        <a:lnTo>
                          <a:pt x="312" y="135"/>
                        </a:lnTo>
                        <a:lnTo>
                          <a:pt x="332" y="99"/>
                        </a:lnTo>
                        <a:lnTo>
                          <a:pt x="348" y="63"/>
                        </a:lnTo>
                        <a:lnTo>
                          <a:pt x="359" y="31"/>
                        </a:lnTo>
                        <a:lnTo>
                          <a:pt x="359" y="0"/>
                        </a:lnTo>
                        <a:lnTo>
                          <a:pt x="296" y="26"/>
                        </a:lnTo>
                        <a:lnTo>
                          <a:pt x="296" y="31"/>
                        </a:lnTo>
                        <a:lnTo>
                          <a:pt x="301" y="42"/>
                        </a:lnTo>
                        <a:lnTo>
                          <a:pt x="301" y="63"/>
                        </a:lnTo>
                        <a:lnTo>
                          <a:pt x="291" y="99"/>
                        </a:lnTo>
                        <a:lnTo>
                          <a:pt x="264" y="146"/>
                        </a:lnTo>
                        <a:lnTo>
                          <a:pt x="207" y="213"/>
                        </a:lnTo>
                        <a:lnTo>
                          <a:pt x="124" y="302"/>
                        </a:lnTo>
                        <a:lnTo>
                          <a:pt x="0" y="41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未知"/>
                  <p:cNvSpPr/>
                  <p:nvPr/>
                </p:nvSpPr>
                <p:spPr>
                  <a:xfrm rot="4199400">
                    <a:off x="26640" y="639720"/>
                    <a:ext cx="4860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29" h="776">
                        <a:moveTo>
                          <a:pt x="0" y="776"/>
                        </a:moveTo>
                        <a:lnTo>
                          <a:pt x="93" y="697"/>
                        </a:lnTo>
                        <a:lnTo>
                          <a:pt x="192" y="609"/>
                        </a:lnTo>
                        <a:lnTo>
                          <a:pt x="302" y="500"/>
                        </a:lnTo>
                        <a:lnTo>
                          <a:pt x="353" y="442"/>
                        </a:lnTo>
                        <a:lnTo>
                          <a:pt x="405" y="380"/>
                        </a:lnTo>
                        <a:lnTo>
                          <a:pt x="452" y="317"/>
                        </a:lnTo>
                        <a:lnTo>
                          <a:pt x="494" y="255"/>
                        </a:lnTo>
                        <a:lnTo>
                          <a:pt x="530" y="192"/>
                        </a:lnTo>
                        <a:lnTo>
                          <a:pt x="551" y="130"/>
                        </a:lnTo>
                        <a:lnTo>
                          <a:pt x="567" y="73"/>
                        </a:lnTo>
                        <a:lnTo>
                          <a:pt x="567" y="47"/>
                        </a:lnTo>
                        <a:lnTo>
                          <a:pt x="562" y="20"/>
                        </a:lnTo>
                        <a:lnTo>
                          <a:pt x="629" y="0"/>
                        </a:lnTo>
                        <a:lnTo>
                          <a:pt x="624" y="20"/>
                        </a:lnTo>
                        <a:lnTo>
                          <a:pt x="603" y="83"/>
                        </a:lnTo>
                        <a:lnTo>
                          <a:pt x="567" y="172"/>
                        </a:lnTo>
                        <a:lnTo>
                          <a:pt x="540" y="229"/>
                        </a:lnTo>
                        <a:lnTo>
                          <a:pt x="509" y="287"/>
                        </a:lnTo>
                        <a:lnTo>
                          <a:pt x="473" y="344"/>
                        </a:lnTo>
                        <a:lnTo>
                          <a:pt x="427" y="411"/>
                        </a:lnTo>
                        <a:lnTo>
                          <a:pt x="374" y="474"/>
                        </a:lnTo>
                        <a:lnTo>
                          <a:pt x="317" y="536"/>
                        </a:lnTo>
                        <a:lnTo>
                          <a:pt x="250" y="604"/>
                        </a:lnTo>
                        <a:lnTo>
                          <a:pt x="177" y="666"/>
                        </a:lnTo>
                        <a:lnTo>
                          <a:pt x="93" y="724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未知"/>
                  <p:cNvSpPr/>
                  <p:nvPr/>
                </p:nvSpPr>
                <p:spPr>
                  <a:xfrm rot="4199400">
                    <a:off x="36720" y="644040"/>
                    <a:ext cx="781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1358">
                        <a:moveTo>
                          <a:pt x="0" y="1358"/>
                        </a:moveTo>
                        <a:lnTo>
                          <a:pt x="145" y="1187"/>
                        </a:lnTo>
                        <a:lnTo>
                          <a:pt x="296" y="1010"/>
                        </a:lnTo>
                        <a:lnTo>
                          <a:pt x="472" y="791"/>
                        </a:lnTo>
                        <a:lnTo>
                          <a:pt x="649" y="562"/>
                        </a:lnTo>
                        <a:lnTo>
                          <a:pt x="728" y="448"/>
                        </a:lnTo>
                        <a:lnTo>
                          <a:pt x="801" y="339"/>
                        </a:lnTo>
                        <a:lnTo>
                          <a:pt x="863" y="234"/>
                        </a:lnTo>
                        <a:lnTo>
                          <a:pt x="915" y="146"/>
                        </a:lnTo>
                        <a:lnTo>
                          <a:pt x="946" y="62"/>
                        </a:lnTo>
                        <a:lnTo>
                          <a:pt x="956" y="31"/>
                        </a:lnTo>
                        <a:lnTo>
                          <a:pt x="961" y="0"/>
                        </a:lnTo>
                        <a:lnTo>
                          <a:pt x="1003" y="10"/>
                        </a:lnTo>
                        <a:lnTo>
                          <a:pt x="998" y="26"/>
                        </a:lnTo>
                        <a:lnTo>
                          <a:pt x="978" y="84"/>
                        </a:lnTo>
                        <a:lnTo>
                          <a:pt x="936" y="182"/>
                        </a:lnTo>
                        <a:lnTo>
                          <a:pt x="899" y="249"/>
                        </a:lnTo>
                        <a:lnTo>
                          <a:pt x="858" y="328"/>
                        </a:lnTo>
                        <a:lnTo>
                          <a:pt x="801" y="411"/>
                        </a:lnTo>
                        <a:lnTo>
                          <a:pt x="733" y="511"/>
                        </a:lnTo>
                        <a:lnTo>
                          <a:pt x="649" y="624"/>
                        </a:lnTo>
                        <a:lnTo>
                          <a:pt x="556" y="744"/>
                        </a:lnTo>
                        <a:lnTo>
                          <a:pt x="442" y="880"/>
                        </a:lnTo>
                        <a:lnTo>
                          <a:pt x="312" y="1025"/>
                        </a:lnTo>
                        <a:lnTo>
                          <a:pt x="166" y="1187"/>
                        </a:lnTo>
                        <a:lnTo>
                          <a:pt x="0" y="1358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未知"/>
                  <p:cNvSpPr/>
                  <p:nvPr/>
                </p:nvSpPr>
                <p:spPr>
                  <a:xfrm rot="4199400">
                    <a:off x="56880" y="649080"/>
                    <a:ext cx="83880" cy="261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81" h="1995">
                        <a:moveTo>
                          <a:pt x="0" y="1995"/>
                        </a:moveTo>
                        <a:lnTo>
                          <a:pt x="167" y="1745"/>
                        </a:lnTo>
                        <a:lnTo>
                          <a:pt x="332" y="1485"/>
                        </a:lnTo>
                        <a:lnTo>
                          <a:pt x="531" y="1166"/>
                        </a:lnTo>
                        <a:lnTo>
                          <a:pt x="624" y="1001"/>
                        </a:lnTo>
                        <a:lnTo>
                          <a:pt x="723" y="834"/>
                        </a:lnTo>
                        <a:lnTo>
                          <a:pt x="806" y="667"/>
                        </a:lnTo>
                        <a:lnTo>
                          <a:pt x="884" y="511"/>
                        </a:lnTo>
                        <a:lnTo>
                          <a:pt x="946" y="365"/>
                        </a:lnTo>
                        <a:lnTo>
                          <a:pt x="998" y="230"/>
                        </a:lnTo>
                        <a:lnTo>
                          <a:pt x="1013" y="172"/>
                        </a:lnTo>
                        <a:lnTo>
                          <a:pt x="1025" y="115"/>
                        </a:lnTo>
                        <a:lnTo>
                          <a:pt x="1030" y="69"/>
                        </a:lnTo>
                        <a:lnTo>
                          <a:pt x="1030" y="27"/>
                        </a:lnTo>
                        <a:lnTo>
                          <a:pt x="1081" y="0"/>
                        </a:lnTo>
                        <a:lnTo>
                          <a:pt x="1081" y="22"/>
                        </a:lnTo>
                        <a:lnTo>
                          <a:pt x="1066" y="100"/>
                        </a:lnTo>
                        <a:lnTo>
                          <a:pt x="1050" y="157"/>
                        </a:lnTo>
                        <a:lnTo>
                          <a:pt x="1030" y="235"/>
                        </a:lnTo>
                        <a:lnTo>
                          <a:pt x="998" y="324"/>
                        </a:lnTo>
                        <a:lnTo>
                          <a:pt x="951" y="433"/>
                        </a:lnTo>
                        <a:lnTo>
                          <a:pt x="894" y="558"/>
                        </a:lnTo>
                        <a:lnTo>
                          <a:pt x="821" y="704"/>
                        </a:lnTo>
                        <a:lnTo>
                          <a:pt x="733" y="864"/>
                        </a:lnTo>
                        <a:lnTo>
                          <a:pt x="629" y="1047"/>
                        </a:lnTo>
                        <a:lnTo>
                          <a:pt x="504" y="1250"/>
                        </a:lnTo>
                        <a:lnTo>
                          <a:pt x="359" y="1474"/>
                        </a:lnTo>
                        <a:lnTo>
                          <a:pt x="192" y="1723"/>
                        </a:lnTo>
                        <a:lnTo>
                          <a:pt x="0" y="199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未知"/>
                  <p:cNvSpPr/>
                  <p:nvPr/>
                </p:nvSpPr>
                <p:spPr>
                  <a:xfrm rot="4199400">
                    <a:off x="14760" y="755640"/>
                    <a:ext cx="900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797">
                        <a:moveTo>
                          <a:pt x="0" y="797"/>
                        </a:moveTo>
                        <a:lnTo>
                          <a:pt x="31" y="708"/>
                        </a:lnTo>
                        <a:lnTo>
                          <a:pt x="57" y="608"/>
                        </a:lnTo>
                        <a:lnTo>
                          <a:pt x="77" y="495"/>
                        </a:lnTo>
                        <a:lnTo>
                          <a:pt x="89" y="432"/>
                        </a:lnTo>
                        <a:lnTo>
                          <a:pt x="94" y="370"/>
                        </a:lnTo>
                        <a:lnTo>
                          <a:pt x="99" y="307"/>
                        </a:lnTo>
                        <a:lnTo>
                          <a:pt x="94" y="250"/>
                        </a:lnTo>
                        <a:lnTo>
                          <a:pt x="89" y="193"/>
                        </a:lnTo>
                        <a:lnTo>
                          <a:pt x="72" y="140"/>
                        </a:lnTo>
                        <a:lnTo>
                          <a:pt x="52" y="93"/>
                        </a:lnTo>
                        <a:lnTo>
                          <a:pt x="20" y="51"/>
                        </a:lnTo>
                        <a:lnTo>
                          <a:pt x="57" y="0"/>
                        </a:lnTo>
                        <a:lnTo>
                          <a:pt x="67" y="16"/>
                        </a:lnTo>
                        <a:lnTo>
                          <a:pt x="83" y="51"/>
                        </a:lnTo>
                        <a:lnTo>
                          <a:pt x="104" y="114"/>
                        </a:lnTo>
                        <a:lnTo>
                          <a:pt x="114" y="156"/>
                        </a:lnTo>
                        <a:lnTo>
                          <a:pt x="119" y="203"/>
                        </a:lnTo>
                        <a:lnTo>
                          <a:pt x="125" y="260"/>
                        </a:lnTo>
                        <a:lnTo>
                          <a:pt x="125" y="318"/>
                        </a:lnTo>
                        <a:lnTo>
                          <a:pt x="125" y="385"/>
                        </a:lnTo>
                        <a:lnTo>
                          <a:pt x="114" y="453"/>
                        </a:lnTo>
                        <a:lnTo>
                          <a:pt x="99" y="531"/>
                        </a:lnTo>
                        <a:lnTo>
                          <a:pt x="72" y="614"/>
                        </a:lnTo>
                        <a:lnTo>
                          <a:pt x="42" y="703"/>
                        </a:lnTo>
                        <a:lnTo>
                          <a:pt x="0" y="79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未知"/>
                  <p:cNvSpPr/>
                  <p:nvPr/>
                </p:nvSpPr>
                <p:spPr>
                  <a:xfrm rot="4199400">
                    <a:off x="96480" y="666360"/>
                    <a:ext cx="57960" cy="321480"/>
                  </a:xfrm>
                  <a:custGeom>
                    <a:avLst/>
                    <a:gdLst/>
                    <a:ahLst/>
                    <a:rect l="l" t="t" r="r" b="b"/>
                    <a:pathLst>
                      <a:path w="749" h="2451">
                        <a:moveTo>
                          <a:pt x="0" y="2451"/>
                        </a:moveTo>
                        <a:lnTo>
                          <a:pt x="57" y="2306"/>
                        </a:lnTo>
                        <a:lnTo>
                          <a:pt x="192" y="1957"/>
                        </a:lnTo>
                        <a:lnTo>
                          <a:pt x="270" y="1734"/>
                        </a:lnTo>
                        <a:lnTo>
                          <a:pt x="348" y="1509"/>
                        </a:lnTo>
                        <a:lnTo>
                          <a:pt x="416" y="1285"/>
                        </a:lnTo>
                        <a:lnTo>
                          <a:pt x="442" y="1182"/>
                        </a:lnTo>
                        <a:lnTo>
                          <a:pt x="462" y="1082"/>
                        </a:lnTo>
                        <a:lnTo>
                          <a:pt x="499" y="895"/>
                        </a:lnTo>
                        <a:lnTo>
                          <a:pt x="530" y="713"/>
                        </a:lnTo>
                        <a:lnTo>
                          <a:pt x="587" y="385"/>
                        </a:lnTo>
                        <a:lnTo>
                          <a:pt x="614" y="250"/>
                        </a:lnTo>
                        <a:lnTo>
                          <a:pt x="634" y="141"/>
                        </a:lnTo>
                        <a:lnTo>
                          <a:pt x="660" y="63"/>
                        </a:lnTo>
                        <a:lnTo>
                          <a:pt x="671" y="36"/>
                        </a:lnTo>
                        <a:lnTo>
                          <a:pt x="681" y="16"/>
                        </a:lnTo>
                        <a:lnTo>
                          <a:pt x="749" y="0"/>
                        </a:lnTo>
                        <a:lnTo>
                          <a:pt x="722" y="109"/>
                        </a:lnTo>
                        <a:lnTo>
                          <a:pt x="655" y="365"/>
                        </a:lnTo>
                        <a:lnTo>
                          <a:pt x="582" y="666"/>
                        </a:lnTo>
                        <a:lnTo>
                          <a:pt x="556" y="807"/>
                        </a:lnTo>
                        <a:lnTo>
                          <a:pt x="540" y="910"/>
                        </a:lnTo>
                        <a:lnTo>
                          <a:pt x="535" y="958"/>
                        </a:lnTo>
                        <a:lnTo>
                          <a:pt x="540" y="1015"/>
                        </a:lnTo>
                        <a:lnTo>
                          <a:pt x="556" y="1130"/>
                        </a:lnTo>
                        <a:lnTo>
                          <a:pt x="582" y="1265"/>
                        </a:lnTo>
                        <a:lnTo>
                          <a:pt x="614" y="1400"/>
                        </a:lnTo>
                        <a:lnTo>
                          <a:pt x="639" y="1535"/>
                        </a:lnTo>
                        <a:lnTo>
                          <a:pt x="660" y="1666"/>
                        </a:lnTo>
                        <a:lnTo>
                          <a:pt x="660" y="1728"/>
                        </a:lnTo>
                        <a:lnTo>
                          <a:pt x="660" y="1786"/>
                        </a:lnTo>
                        <a:lnTo>
                          <a:pt x="649" y="1837"/>
                        </a:lnTo>
                        <a:lnTo>
                          <a:pt x="639" y="1879"/>
                        </a:lnTo>
                        <a:lnTo>
                          <a:pt x="639" y="1811"/>
                        </a:lnTo>
                        <a:lnTo>
                          <a:pt x="634" y="1734"/>
                        </a:lnTo>
                        <a:lnTo>
                          <a:pt x="629" y="1639"/>
                        </a:lnTo>
                        <a:lnTo>
                          <a:pt x="614" y="1525"/>
                        </a:lnTo>
                        <a:lnTo>
                          <a:pt x="592" y="1400"/>
                        </a:lnTo>
                        <a:lnTo>
                          <a:pt x="561" y="1275"/>
                        </a:lnTo>
                        <a:lnTo>
                          <a:pt x="540" y="1212"/>
                        </a:lnTo>
                        <a:lnTo>
                          <a:pt x="514" y="1150"/>
                        </a:lnTo>
                        <a:lnTo>
                          <a:pt x="462" y="1317"/>
                        </a:lnTo>
                        <a:lnTo>
                          <a:pt x="405" y="1494"/>
                        </a:lnTo>
                        <a:lnTo>
                          <a:pt x="332" y="1702"/>
                        </a:lnTo>
                        <a:lnTo>
                          <a:pt x="249" y="1926"/>
                        </a:lnTo>
                        <a:lnTo>
                          <a:pt x="160" y="2139"/>
                        </a:lnTo>
                        <a:lnTo>
                          <a:pt x="120" y="2233"/>
                        </a:lnTo>
                        <a:lnTo>
                          <a:pt x="78" y="2321"/>
                        </a:lnTo>
                        <a:lnTo>
                          <a:pt x="36" y="2394"/>
                        </a:lnTo>
                        <a:lnTo>
                          <a:pt x="0" y="245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未知"/>
                  <p:cNvSpPr/>
                  <p:nvPr/>
                </p:nvSpPr>
                <p:spPr>
                  <a:xfrm rot="4199400">
                    <a:off x="81000" y="748800"/>
                    <a:ext cx="4284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7" h="380">
                        <a:moveTo>
                          <a:pt x="0" y="380"/>
                        </a:moveTo>
                        <a:lnTo>
                          <a:pt x="53" y="333"/>
                        </a:lnTo>
                        <a:lnTo>
                          <a:pt x="115" y="287"/>
                        </a:lnTo>
                        <a:lnTo>
                          <a:pt x="188" y="229"/>
                        </a:lnTo>
                        <a:lnTo>
                          <a:pt x="272" y="172"/>
                        </a:lnTo>
                        <a:lnTo>
                          <a:pt x="360" y="125"/>
                        </a:lnTo>
                        <a:lnTo>
                          <a:pt x="407" y="98"/>
                        </a:lnTo>
                        <a:lnTo>
                          <a:pt x="454" y="83"/>
                        </a:lnTo>
                        <a:lnTo>
                          <a:pt x="495" y="68"/>
                        </a:lnTo>
                        <a:lnTo>
                          <a:pt x="536" y="57"/>
                        </a:lnTo>
                        <a:lnTo>
                          <a:pt x="557" y="0"/>
                        </a:lnTo>
                        <a:lnTo>
                          <a:pt x="506" y="21"/>
                        </a:lnTo>
                        <a:lnTo>
                          <a:pt x="442" y="47"/>
                        </a:lnTo>
                        <a:lnTo>
                          <a:pt x="365" y="83"/>
                        </a:lnTo>
                        <a:lnTo>
                          <a:pt x="277" y="135"/>
                        </a:lnTo>
                        <a:lnTo>
                          <a:pt x="183" y="203"/>
                        </a:lnTo>
                        <a:lnTo>
                          <a:pt x="137" y="240"/>
                        </a:lnTo>
                        <a:lnTo>
                          <a:pt x="89" y="281"/>
                        </a:lnTo>
                        <a:lnTo>
                          <a:pt x="42" y="328"/>
                        </a:lnTo>
                        <a:lnTo>
                          <a:pt x="0" y="38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未知"/>
                  <p:cNvSpPr/>
                  <p:nvPr/>
                </p:nvSpPr>
                <p:spPr>
                  <a:xfrm rot="4199400">
                    <a:off x="9360" y="701640"/>
                    <a:ext cx="21240" cy="8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635">
                        <a:moveTo>
                          <a:pt x="0" y="635"/>
                        </a:moveTo>
                        <a:lnTo>
                          <a:pt x="41" y="577"/>
                        </a:lnTo>
                        <a:lnTo>
                          <a:pt x="83" y="521"/>
                        </a:lnTo>
                        <a:lnTo>
                          <a:pt x="125" y="447"/>
                        </a:lnTo>
                        <a:lnTo>
                          <a:pt x="166" y="359"/>
                        </a:lnTo>
                        <a:lnTo>
                          <a:pt x="187" y="312"/>
                        </a:lnTo>
                        <a:lnTo>
                          <a:pt x="198" y="260"/>
                        </a:lnTo>
                        <a:lnTo>
                          <a:pt x="208" y="214"/>
                        </a:lnTo>
                        <a:lnTo>
                          <a:pt x="218" y="162"/>
                        </a:lnTo>
                        <a:lnTo>
                          <a:pt x="218" y="115"/>
                        </a:lnTo>
                        <a:lnTo>
                          <a:pt x="208" y="68"/>
                        </a:lnTo>
                        <a:lnTo>
                          <a:pt x="260" y="0"/>
                        </a:lnTo>
                        <a:lnTo>
                          <a:pt x="265" y="57"/>
                        </a:lnTo>
                        <a:lnTo>
                          <a:pt x="260" y="120"/>
                        </a:lnTo>
                        <a:lnTo>
                          <a:pt x="250" y="203"/>
                        </a:lnTo>
                        <a:lnTo>
                          <a:pt x="233" y="255"/>
                        </a:lnTo>
                        <a:lnTo>
                          <a:pt x="218" y="302"/>
                        </a:lnTo>
                        <a:lnTo>
                          <a:pt x="198" y="354"/>
                        </a:lnTo>
                        <a:lnTo>
                          <a:pt x="171" y="412"/>
                        </a:lnTo>
                        <a:lnTo>
                          <a:pt x="140" y="464"/>
                        </a:lnTo>
                        <a:lnTo>
                          <a:pt x="98" y="521"/>
                        </a:lnTo>
                        <a:lnTo>
                          <a:pt x="51" y="577"/>
                        </a:lnTo>
                        <a:lnTo>
                          <a:pt x="0" y="63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未知"/>
                  <p:cNvSpPr/>
                  <p:nvPr/>
                </p:nvSpPr>
                <p:spPr>
                  <a:xfrm rot="4199400">
                    <a:off x="128520" y="651600"/>
                    <a:ext cx="453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83" h="130">
                        <a:moveTo>
                          <a:pt x="0" y="104"/>
                        </a:moveTo>
                        <a:lnTo>
                          <a:pt x="62" y="114"/>
                        </a:lnTo>
                        <a:lnTo>
                          <a:pt x="125" y="114"/>
                        </a:lnTo>
                        <a:lnTo>
                          <a:pt x="209" y="114"/>
                        </a:lnTo>
                        <a:lnTo>
                          <a:pt x="297" y="104"/>
                        </a:lnTo>
                        <a:lnTo>
                          <a:pt x="339" y="94"/>
                        </a:lnTo>
                        <a:lnTo>
                          <a:pt x="385" y="84"/>
                        </a:lnTo>
                        <a:lnTo>
                          <a:pt x="427" y="67"/>
                        </a:lnTo>
                        <a:lnTo>
                          <a:pt x="469" y="52"/>
                        </a:lnTo>
                        <a:lnTo>
                          <a:pt x="504" y="26"/>
                        </a:lnTo>
                        <a:lnTo>
                          <a:pt x="536" y="0"/>
                        </a:lnTo>
                        <a:lnTo>
                          <a:pt x="583" y="16"/>
                        </a:lnTo>
                        <a:lnTo>
                          <a:pt x="546" y="42"/>
                        </a:lnTo>
                        <a:lnTo>
                          <a:pt x="499" y="67"/>
                        </a:lnTo>
                        <a:lnTo>
                          <a:pt x="437" y="94"/>
                        </a:lnTo>
                        <a:lnTo>
                          <a:pt x="354" y="114"/>
                        </a:lnTo>
                        <a:lnTo>
                          <a:pt x="307" y="125"/>
                        </a:lnTo>
                        <a:lnTo>
                          <a:pt x="255" y="130"/>
                        </a:lnTo>
                        <a:lnTo>
                          <a:pt x="197" y="130"/>
                        </a:lnTo>
                        <a:lnTo>
                          <a:pt x="135" y="125"/>
                        </a:lnTo>
                        <a:lnTo>
                          <a:pt x="68" y="120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未知"/>
                  <p:cNvSpPr/>
                  <p:nvPr/>
                </p:nvSpPr>
                <p:spPr>
                  <a:xfrm rot="4199400">
                    <a:off x="161280" y="621000"/>
                    <a:ext cx="277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240">
                        <a:moveTo>
                          <a:pt x="0" y="0"/>
                        </a:moveTo>
                        <a:lnTo>
                          <a:pt x="36" y="21"/>
                        </a:lnTo>
                        <a:lnTo>
                          <a:pt x="124" y="73"/>
                        </a:lnTo>
                        <a:lnTo>
                          <a:pt x="177" y="105"/>
                        </a:lnTo>
                        <a:lnTo>
                          <a:pt x="229" y="146"/>
                        </a:lnTo>
                        <a:lnTo>
                          <a:pt x="276" y="188"/>
                        </a:lnTo>
                        <a:lnTo>
                          <a:pt x="312" y="235"/>
                        </a:lnTo>
                        <a:lnTo>
                          <a:pt x="359" y="240"/>
                        </a:lnTo>
                        <a:lnTo>
                          <a:pt x="338" y="213"/>
                        </a:lnTo>
                        <a:lnTo>
                          <a:pt x="312" y="188"/>
                        </a:lnTo>
                        <a:lnTo>
                          <a:pt x="276" y="151"/>
                        </a:lnTo>
                        <a:lnTo>
                          <a:pt x="224" y="115"/>
                        </a:lnTo>
                        <a:lnTo>
                          <a:pt x="166" y="73"/>
                        </a:lnTo>
                        <a:lnTo>
                          <a:pt x="89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未知"/>
                  <p:cNvSpPr/>
                  <p:nvPr/>
                </p:nvSpPr>
                <p:spPr>
                  <a:xfrm rot="4199400">
                    <a:off x="47520" y="757800"/>
                    <a:ext cx="900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146">
                        <a:moveTo>
                          <a:pt x="47" y="146"/>
                        </a:moveTo>
                        <a:lnTo>
                          <a:pt x="57" y="146"/>
                        </a:lnTo>
                        <a:lnTo>
                          <a:pt x="93" y="141"/>
                        </a:lnTo>
                        <a:lnTo>
                          <a:pt x="109" y="130"/>
                        </a:lnTo>
                        <a:lnTo>
                          <a:pt x="119" y="120"/>
                        </a:lnTo>
                        <a:lnTo>
                          <a:pt x="124" y="104"/>
                        </a:lnTo>
                        <a:lnTo>
                          <a:pt x="124" y="84"/>
                        </a:lnTo>
                        <a:lnTo>
                          <a:pt x="114" y="57"/>
                        </a:lnTo>
                        <a:lnTo>
                          <a:pt x="104" y="37"/>
                        </a:lnTo>
                        <a:lnTo>
                          <a:pt x="87" y="21"/>
                        </a:lnTo>
                        <a:lnTo>
                          <a:pt x="72" y="5"/>
                        </a:lnTo>
                        <a:lnTo>
                          <a:pt x="57" y="0"/>
                        </a:lnTo>
                        <a:lnTo>
                          <a:pt x="41" y="0"/>
                        </a:lnTo>
                        <a:lnTo>
                          <a:pt x="25" y="11"/>
                        </a:lnTo>
                        <a:lnTo>
                          <a:pt x="10" y="32"/>
                        </a:lnTo>
                        <a:lnTo>
                          <a:pt x="0" y="57"/>
                        </a:lnTo>
                        <a:lnTo>
                          <a:pt x="0" y="79"/>
                        </a:lnTo>
                        <a:lnTo>
                          <a:pt x="5" y="99"/>
                        </a:lnTo>
                        <a:lnTo>
                          <a:pt x="15" y="115"/>
                        </a:lnTo>
                        <a:lnTo>
                          <a:pt x="36" y="141"/>
                        </a:lnTo>
                        <a:lnTo>
                          <a:pt x="47" y="146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未知"/>
                  <p:cNvSpPr/>
                  <p:nvPr/>
                </p:nvSpPr>
                <p:spPr>
                  <a:xfrm rot="4199400">
                    <a:off x="213120" y="641880"/>
                    <a:ext cx="79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78">
                        <a:moveTo>
                          <a:pt x="0" y="57"/>
                        </a:moveTo>
                        <a:lnTo>
                          <a:pt x="15" y="62"/>
                        </a:lnTo>
                        <a:lnTo>
                          <a:pt x="46" y="73"/>
                        </a:lnTo>
                        <a:lnTo>
                          <a:pt x="62" y="78"/>
                        </a:lnTo>
                        <a:lnTo>
                          <a:pt x="78" y="78"/>
                        </a:lnTo>
                        <a:lnTo>
                          <a:pt x="93" y="67"/>
                        </a:lnTo>
                        <a:lnTo>
                          <a:pt x="98" y="57"/>
                        </a:lnTo>
                        <a:lnTo>
                          <a:pt x="98" y="41"/>
                        </a:lnTo>
                        <a:lnTo>
                          <a:pt x="88" y="25"/>
                        </a:lnTo>
                        <a:lnTo>
                          <a:pt x="73" y="20"/>
                        </a:lnTo>
                        <a:lnTo>
                          <a:pt x="56" y="10"/>
                        </a:lnTo>
                        <a:lnTo>
                          <a:pt x="15" y="5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未知"/>
                  <p:cNvSpPr/>
                  <p:nvPr/>
                </p:nvSpPr>
                <p:spPr>
                  <a:xfrm rot="4199400">
                    <a:off x="286200" y="646920"/>
                    <a:ext cx="900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125">
                        <a:moveTo>
                          <a:pt x="0" y="58"/>
                        </a:moveTo>
                        <a:lnTo>
                          <a:pt x="5" y="73"/>
                        </a:lnTo>
                        <a:lnTo>
                          <a:pt x="25" y="105"/>
                        </a:lnTo>
                        <a:lnTo>
                          <a:pt x="42" y="115"/>
                        </a:lnTo>
                        <a:lnTo>
                          <a:pt x="57" y="125"/>
                        </a:lnTo>
                        <a:lnTo>
                          <a:pt x="77" y="125"/>
                        </a:lnTo>
                        <a:lnTo>
                          <a:pt x="98" y="115"/>
                        </a:lnTo>
                        <a:lnTo>
                          <a:pt x="114" y="94"/>
                        </a:lnTo>
                        <a:lnTo>
                          <a:pt x="119" y="78"/>
                        </a:lnTo>
                        <a:lnTo>
                          <a:pt x="119" y="58"/>
                        </a:lnTo>
                        <a:lnTo>
                          <a:pt x="114" y="42"/>
                        </a:lnTo>
                        <a:lnTo>
                          <a:pt x="98" y="26"/>
                        </a:lnTo>
                        <a:lnTo>
                          <a:pt x="82" y="11"/>
                        </a:lnTo>
                        <a:lnTo>
                          <a:pt x="67" y="5"/>
                        </a:lnTo>
                        <a:lnTo>
                          <a:pt x="52" y="0"/>
                        </a:lnTo>
                        <a:lnTo>
                          <a:pt x="35" y="0"/>
                        </a:lnTo>
                        <a:lnTo>
                          <a:pt x="25" y="11"/>
                        </a:lnTo>
                        <a:lnTo>
                          <a:pt x="10" y="31"/>
                        </a:lnTo>
                        <a:lnTo>
                          <a:pt x="0" y="47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未知"/>
                  <p:cNvSpPr/>
                  <p:nvPr/>
                </p:nvSpPr>
                <p:spPr>
                  <a:xfrm rot="4199400">
                    <a:off x="115200" y="614880"/>
                    <a:ext cx="68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57">
                        <a:moveTo>
                          <a:pt x="21" y="57"/>
                        </a:moveTo>
                        <a:lnTo>
                          <a:pt x="42" y="57"/>
                        </a:lnTo>
                        <a:lnTo>
                          <a:pt x="73" y="52"/>
                        </a:lnTo>
                        <a:lnTo>
                          <a:pt x="83" y="47"/>
                        </a:lnTo>
                        <a:lnTo>
                          <a:pt x="94" y="37"/>
                        </a:lnTo>
                        <a:lnTo>
                          <a:pt x="94" y="26"/>
                        </a:lnTo>
                        <a:lnTo>
                          <a:pt x="78" y="15"/>
                        </a:lnTo>
                        <a:lnTo>
                          <a:pt x="58" y="5"/>
                        </a:lnTo>
                        <a:lnTo>
                          <a:pt x="42" y="0"/>
                        </a:lnTo>
                        <a:lnTo>
                          <a:pt x="26" y="0"/>
                        </a:lnTo>
                        <a:lnTo>
                          <a:pt x="11" y="5"/>
                        </a:lnTo>
                        <a:lnTo>
                          <a:pt x="6" y="15"/>
                        </a:lnTo>
                        <a:lnTo>
                          <a:pt x="0" y="32"/>
                        </a:lnTo>
                        <a:lnTo>
                          <a:pt x="11" y="47"/>
                        </a:lnTo>
                        <a:lnTo>
                          <a:pt x="21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8" name="Group 1029"/>
                <p:cNvGrpSpPr/>
                <p:nvPr/>
              </p:nvGrpSpPr>
              <p:grpSpPr>
                <a:xfrm>
                  <a:off x="429120" y="849240"/>
                  <a:ext cx="47520" cy="34920"/>
                  <a:chOff x="429120" y="849240"/>
                  <a:chExt cx="47520" cy="34920"/>
                </a:xfrm>
              </p:grpSpPr>
              <p:sp>
                <p:nvSpPr>
                  <p:cNvPr id="1069" name="未知"/>
                  <p:cNvSpPr/>
                  <p:nvPr/>
                </p:nvSpPr>
                <p:spPr>
                  <a:xfrm rot="21435000">
                    <a:off x="431640" y="849960"/>
                    <a:ext cx="4428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33" h="417">
                        <a:moveTo>
                          <a:pt x="323" y="417"/>
                        </a:moveTo>
                        <a:lnTo>
                          <a:pt x="281" y="407"/>
                        </a:lnTo>
                        <a:lnTo>
                          <a:pt x="239" y="391"/>
                        </a:lnTo>
                        <a:lnTo>
                          <a:pt x="193" y="375"/>
                        </a:lnTo>
                        <a:lnTo>
                          <a:pt x="146" y="350"/>
                        </a:lnTo>
                        <a:lnTo>
                          <a:pt x="99" y="318"/>
                        </a:lnTo>
                        <a:lnTo>
                          <a:pt x="83" y="302"/>
                        </a:lnTo>
                        <a:lnTo>
                          <a:pt x="68" y="282"/>
                        </a:lnTo>
                        <a:lnTo>
                          <a:pt x="57" y="261"/>
                        </a:lnTo>
                        <a:lnTo>
                          <a:pt x="47" y="240"/>
                        </a:lnTo>
                        <a:lnTo>
                          <a:pt x="26" y="147"/>
                        </a:lnTo>
                        <a:lnTo>
                          <a:pt x="6" y="68"/>
                        </a:lnTo>
                        <a:lnTo>
                          <a:pt x="0" y="37"/>
                        </a:lnTo>
                        <a:lnTo>
                          <a:pt x="0" y="1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21" y="0"/>
                        </a:lnTo>
                        <a:lnTo>
                          <a:pt x="31" y="6"/>
                        </a:lnTo>
                        <a:lnTo>
                          <a:pt x="57" y="11"/>
                        </a:lnTo>
                        <a:lnTo>
                          <a:pt x="83" y="27"/>
                        </a:lnTo>
                        <a:lnTo>
                          <a:pt x="146" y="73"/>
                        </a:lnTo>
                        <a:lnTo>
                          <a:pt x="208" y="125"/>
                        </a:lnTo>
                        <a:lnTo>
                          <a:pt x="271" y="193"/>
                        </a:lnTo>
                        <a:lnTo>
                          <a:pt x="296" y="230"/>
                        </a:lnTo>
                        <a:lnTo>
                          <a:pt x="313" y="261"/>
                        </a:lnTo>
                        <a:lnTo>
                          <a:pt x="323" y="292"/>
                        </a:lnTo>
                        <a:lnTo>
                          <a:pt x="333" y="323"/>
                        </a:lnTo>
                        <a:lnTo>
                          <a:pt x="333" y="350"/>
                        </a:lnTo>
                        <a:lnTo>
                          <a:pt x="333" y="375"/>
                        </a:lnTo>
                        <a:lnTo>
                          <a:pt x="323" y="417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未知"/>
                  <p:cNvSpPr/>
                  <p:nvPr/>
                </p:nvSpPr>
                <p:spPr>
                  <a:xfrm rot="17788200">
                    <a:off x="436320" y="855000"/>
                    <a:ext cx="165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214">
                        <a:moveTo>
                          <a:pt x="0" y="151"/>
                        </a:moveTo>
                        <a:lnTo>
                          <a:pt x="36" y="120"/>
                        </a:lnTo>
                        <a:lnTo>
                          <a:pt x="115" y="57"/>
                        </a:lnTo>
                        <a:lnTo>
                          <a:pt x="156" y="32"/>
                        </a:lnTo>
                        <a:lnTo>
                          <a:pt x="187" y="6"/>
                        </a:lnTo>
                        <a:lnTo>
                          <a:pt x="208" y="0"/>
                        </a:lnTo>
                        <a:lnTo>
                          <a:pt x="213" y="0"/>
                        </a:lnTo>
                        <a:lnTo>
                          <a:pt x="213" y="11"/>
                        </a:lnTo>
                        <a:lnTo>
                          <a:pt x="193" y="69"/>
                        </a:lnTo>
                        <a:lnTo>
                          <a:pt x="162" y="136"/>
                        </a:lnTo>
                        <a:lnTo>
                          <a:pt x="140" y="167"/>
                        </a:lnTo>
                        <a:lnTo>
                          <a:pt x="120" y="187"/>
                        </a:lnTo>
                        <a:lnTo>
                          <a:pt x="98" y="209"/>
                        </a:lnTo>
                        <a:lnTo>
                          <a:pt x="73" y="214"/>
                        </a:lnTo>
                        <a:lnTo>
                          <a:pt x="47" y="209"/>
                        </a:lnTo>
                        <a:lnTo>
                          <a:pt x="31" y="204"/>
                        </a:lnTo>
                        <a:lnTo>
                          <a:pt x="21" y="193"/>
                        </a:lnTo>
                        <a:lnTo>
                          <a:pt x="10" y="182"/>
                        </a:lnTo>
                        <a:lnTo>
                          <a:pt x="0" y="162"/>
                        </a:lnTo>
                        <a:lnTo>
                          <a:pt x="0" y="151"/>
                        </a:lnTo>
                        <a:close/>
                      </a:path>
                    </a:pathLst>
                  </a:cu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1" name="Group 1032"/>
              <p:cNvGrpSpPr/>
              <p:nvPr/>
            </p:nvGrpSpPr>
            <p:grpSpPr>
              <a:xfrm>
                <a:off x="338760" y="266400"/>
                <a:ext cx="659160" cy="641160"/>
                <a:chOff x="338760" y="266400"/>
                <a:chExt cx="659160" cy="641160"/>
              </a:xfrm>
            </p:grpSpPr>
            <p:grpSp>
              <p:nvGrpSpPr>
                <p:cNvPr id="1072" name="Group 1033"/>
                <p:cNvGrpSpPr/>
                <p:nvPr/>
              </p:nvGrpSpPr>
              <p:grpSpPr>
                <a:xfrm>
                  <a:off x="338760" y="266400"/>
                  <a:ext cx="659160" cy="641160"/>
                  <a:chOff x="338760" y="266400"/>
                  <a:chExt cx="659160" cy="641160"/>
                </a:xfrm>
              </p:grpSpPr>
              <p:sp>
                <p:nvSpPr>
                  <p:cNvPr id="1073" name="未知"/>
                  <p:cNvSpPr/>
                  <p:nvPr/>
                </p:nvSpPr>
                <p:spPr>
                  <a:xfrm rot="8424000">
                    <a:off x="444600" y="391320"/>
                    <a:ext cx="508680" cy="32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962" h="4106">
                        <a:moveTo>
                          <a:pt x="0" y="3065"/>
                        </a:moveTo>
                        <a:lnTo>
                          <a:pt x="47" y="3055"/>
                        </a:lnTo>
                        <a:lnTo>
                          <a:pt x="150" y="3044"/>
                        </a:lnTo>
                        <a:lnTo>
                          <a:pt x="260" y="3034"/>
                        </a:lnTo>
                        <a:lnTo>
                          <a:pt x="302" y="3034"/>
                        </a:lnTo>
                        <a:lnTo>
                          <a:pt x="317" y="3034"/>
                        </a:lnTo>
                        <a:lnTo>
                          <a:pt x="327" y="3039"/>
                        </a:lnTo>
                        <a:lnTo>
                          <a:pt x="281" y="3117"/>
                        </a:lnTo>
                        <a:lnTo>
                          <a:pt x="322" y="3102"/>
                        </a:lnTo>
                        <a:lnTo>
                          <a:pt x="421" y="3065"/>
                        </a:lnTo>
                        <a:lnTo>
                          <a:pt x="474" y="3055"/>
                        </a:lnTo>
                        <a:lnTo>
                          <a:pt x="526" y="3049"/>
                        </a:lnTo>
                        <a:lnTo>
                          <a:pt x="546" y="3049"/>
                        </a:lnTo>
                        <a:lnTo>
                          <a:pt x="562" y="3060"/>
                        </a:lnTo>
                        <a:lnTo>
                          <a:pt x="577" y="3065"/>
                        </a:lnTo>
                        <a:lnTo>
                          <a:pt x="582" y="3080"/>
                        </a:lnTo>
                        <a:lnTo>
                          <a:pt x="536" y="3169"/>
                        </a:lnTo>
                        <a:lnTo>
                          <a:pt x="593" y="3154"/>
                        </a:lnTo>
                        <a:lnTo>
                          <a:pt x="723" y="3127"/>
                        </a:lnTo>
                        <a:lnTo>
                          <a:pt x="796" y="3122"/>
                        </a:lnTo>
                        <a:lnTo>
                          <a:pt x="863" y="3117"/>
                        </a:lnTo>
                        <a:lnTo>
                          <a:pt x="910" y="3117"/>
                        </a:lnTo>
                        <a:lnTo>
                          <a:pt x="926" y="3122"/>
                        </a:lnTo>
                        <a:lnTo>
                          <a:pt x="936" y="3132"/>
                        </a:lnTo>
                        <a:lnTo>
                          <a:pt x="941" y="3159"/>
                        </a:lnTo>
                        <a:lnTo>
                          <a:pt x="936" y="3185"/>
                        </a:lnTo>
                        <a:lnTo>
                          <a:pt x="926" y="3211"/>
                        </a:lnTo>
                        <a:lnTo>
                          <a:pt x="915" y="3242"/>
                        </a:lnTo>
                        <a:lnTo>
                          <a:pt x="884" y="3289"/>
                        </a:lnTo>
                        <a:lnTo>
                          <a:pt x="873" y="3310"/>
                        </a:lnTo>
                        <a:lnTo>
                          <a:pt x="900" y="3294"/>
                        </a:lnTo>
                        <a:lnTo>
                          <a:pt x="936" y="3284"/>
                        </a:lnTo>
                        <a:lnTo>
                          <a:pt x="978" y="3268"/>
                        </a:lnTo>
                        <a:lnTo>
                          <a:pt x="1030" y="3257"/>
                        </a:lnTo>
                        <a:lnTo>
                          <a:pt x="1082" y="3257"/>
                        </a:lnTo>
                        <a:lnTo>
                          <a:pt x="1133" y="3262"/>
                        </a:lnTo>
                        <a:lnTo>
                          <a:pt x="1160" y="3268"/>
                        </a:lnTo>
                        <a:lnTo>
                          <a:pt x="1185" y="3279"/>
                        </a:lnTo>
                        <a:lnTo>
                          <a:pt x="1191" y="3299"/>
                        </a:lnTo>
                        <a:lnTo>
                          <a:pt x="1201" y="3341"/>
                        </a:lnTo>
                        <a:lnTo>
                          <a:pt x="1196" y="3367"/>
                        </a:lnTo>
                        <a:lnTo>
                          <a:pt x="1196" y="3387"/>
                        </a:lnTo>
                        <a:lnTo>
                          <a:pt x="1180" y="3404"/>
                        </a:lnTo>
                        <a:lnTo>
                          <a:pt x="1175" y="3409"/>
                        </a:lnTo>
                        <a:lnTo>
                          <a:pt x="1165" y="3414"/>
                        </a:lnTo>
                        <a:lnTo>
                          <a:pt x="1155" y="3409"/>
                        </a:lnTo>
                        <a:lnTo>
                          <a:pt x="1165" y="3404"/>
                        </a:lnTo>
                        <a:lnTo>
                          <a:pt x="1191" y="3392"/>
                        </a:lnTo>
                        <a:lnTo>
                          <a:pt x="1227" y="3382"/>
                        </a:lnTo>
                        <a:lnTo>
                          <a:pt x="1269" y="3377"/>
                        </a:lnTo>
                        <a:lnTo>
                          <a:pt x="1305" y="3382"/>
                        </a:lnTo>
                        <a:lnTo>
                          <a:pt x="1320" y="3387"/>
                        </a:lnTo>
                        <a:lnTo>
                          <a:pt x="1337" y="3392"/>
                        </a:lnTo>
                        <a:lnTo>
                          <a:pt x="1347" y="3404"/>
                        </a:lnTo>
                        <a:lnTo>
                          <a:pt x="1357" y="3419"/>
                        </a:lnTo>
                        <a:lnTo>
                          <a:pt x="1357" y="3450"/>
                        </a:lnTo>
                        <a:lnTo>
                          <a:pt x="1352" y="3487"/>
                        </a:lnTo>
                        <a:lnTo>
                          <a:pt x="1342" y="3517"/>
                        </a:lnTo>
                        <a:lnTo>
                          <a:pt x="1326" y="3544"/>
                        </a:lnTo>
                        <a:lnTo>
                          <a:pt x="1290" y="3591"/>
                        </a:lnTo>
                        <a:lnTo>
                          <a:pt x="1274" y="3612"/>
                        </a:lnTo>
                        <a:lnTo>
                          <a:pt x="1315" y="3596"/>
                        </a:lnTo>
                        <a:lnTo>
                          <a:pt x="1409" y="3570"/>
                        </a:lnTo>
                        <a:lnTo>
                          <a:pt x="1456" y="3559"/>
                        </a:lnTo>
                        <a:lnTo>
                          <a:pt x="1503" y="3549"/>
                        </a:lnTo>
                        <a:lnTo>
                          <a:pt x="1534" y="3549"/>
                        </a:lnTo>
                        <a:lnTo>
                          <a:pt x="1550" y="3554"/>
                        </a:lnTo>
                        <a:lnTo>
                          <a:pt x="1555" y="3559"/>
                        </a:lnTo>
                        <a:lnTo>
                          <a:pt x="1560" y="3570"/>
                        </a:lnTo>
                        <a:lnTo>
                          <a:pt x="1560" y="3586"/>
                        </a:lnTo>
                        <a:lnTo>
                          <a:pt x="1555" y="3606"/>
                        </a:lnTo>
                        <a:lnTo>
                          <a:pt x="1550" y="3617"/>
                        </a:lnTo>
                        <a:lnTo>
                          <a:pt x="1544" y="3622"/>
                        </a:lnTo>
                        <a:lnTo>
                          <a:pt x="1565" y="3612"/>
                        </a:lnTo>
                        <a:lnTo>
                          <a:pt x="1622" y="3581"/>
                        </a:lnTo>
                        <a:lnTo>
                          <a:pt x="1659" y="3570"/>
                        </a:lnTo>
                        <a:lnTo>
                          <a:pt x="1695" y="3559"/>
                        </a:lnTo>
                        <a:lnTo>
                          <a:pt x="1737" y="3559"/>
                        </a:lnTo>
                        <a:lnTo>
                          <a:pt x="1779" y="3564"/>
                        </a:lnTo>
                        <a:lnTo>
                          <a:pt x="1799" y="3575"/>
                        </a:lnTo>
                        <a:lnTo>
                          <a:pt x="1814" y="3586"/>
                        </a:lnTo>
                        <a:lnTo>
                          <a:pt x="1856" y="3622"/>
                        </a:lnTo>
                        <a:lnTo>
                          <a:pt x="1898" y="3669"/>
                        </a:lnTo>
                        <a:lnTo>
                          <a:pt x="1929" y="3731"/>
                        </a:lnTo>
                        <a:lnTo>
                          <a:pt x="1951" y="3794"/>
                        </a:lnTo>
                        <a:lnTo>
                          <a:pt x="1956" y="3824"/>
                        </a:lnTo>
                        <a:lnTo>
                          <a:pt x="1961" y="3861"/>
                        </a:lnTo>
                        <a:lnTo>
                          <a:pt x="1956" y="3893"/>
                        </a:lnTo>
                        <a:lnTo>
                          <a:pt x="1951" y="3929"/>
                        </a:lnTo>
                        <a:lnTo>
                          <a:pt x="1939" y="3961"/>
                        </a:lnTo>
                        <a:lnTo>
                          <a:pt x="1924" y="3991"/>
                        </a:lnTo>
                        <a:lnTo>
                          <a:pt x="2116" y="3893"/>
                        </a:lnTo>
                        <a:lnTo>
                          <a:pt x="2106" y="3971"/>
                        </a:lnTo>
                        <a:lnTo>
                          <a:pt x="2132" y="3949"/>
                        </a:lnTo>
                        <a:lnTo>
                          <a:pt x="2189" y="3903"/>
                        </a:lnTo>
                        <a:lnTo>
                          <a:pt x="2226" y="3882"/>
                        </a:lnTo>
                        <a:lnTo>
                          <a:pt x="2257" y="3866"/>
                        </a:lnTo>
                        <a:lnTo>
                          <a:pt x="2268" y="3866"/>
                        </a:lnTo>
                        <a:lnTo>
                          <a:pt x="2283" y="3866"/>
                        </a:lnTo>
                        <a:lnTo>
                          <a:pt x="2293" y="3872"/>
                        </a:lnTo>
                        <a:lnTo>
                          <a:pt x="2303" y="3882"/>
                        </a:lnTo>
                        <a:lnTo>
                          <a:pt x="2314" y="3903"/>
                        </a:lnTo>
                        <a:lnTo>
                          <a:pt x="2314" y="3919"/>
                        </a:lnTo>
                        <a:lnTo>
                          <a:pt x="2308" y="3929"/>
                        </a:lnTo>
                        <a:lnTo>
                          <a:pt x="2298" y="3934"/>
                        </a:lnTo>
                        <a:lnTo>
                          <a:pt x="2278" y="3944"/>
                        </a:lnTo>
                        <a:lnTo>
                          <a:pt x="2268" y="3944"/>
                        </a:lnTo>
                        <a:lnTo>
                          <a:pt x="2548" y="3789"/>
                        </a:lnTo>
                        <a:lnTo>
                          <a:pt x="2574" y="3914"/>
                        </a:lnTo>
                        <a:lnTo>
                          <a:pt x="2595" y="3887"/>
                        </a:lnTo>
                        <a:lnTo>
                          <a:pt x="2620" y="3861"/>
                        </a:lnTo>
                        <a:lnTo>
                          <a:pt x="2652" y="3836"/>
                        </a:lnTo>
                        <a:lnTo>
                          <a:pt x="2688" y="3809"/>
                        </a:lnTo>
                        <a:lnTo>
                          <a:pt x="2709" y="3804"/>
                        </a:lnTo>
                        <a:lnTo>
                          <a:pt x="2725" y="3799"/>
                        </a:lnTo>
                        <a:lnTo>
                          <a:pt x="2745" y="3799"/>
                        </a:lnTo>
                        <a:lnTo>
                          <a:pt x="2767" y="3804"/>
                        </a:lnTo>
                        <a:lnTo>
                          <a:pt x="2782" y="3809"/>
                        </a:lnTo>
                        <a:lnTo>
                          <a:pt x="2803" y="3824"/>
                        </a:lnTo>
                        <a:lnTo>
                          <a:pt x="2814" y="3846"/>
                        </a:lnTo>
                        <a:lnTo>
                          <a:pt x="2829" y="3866"/>
                        </a:lnTo>
                        <a:lnTo>
                          <a:pt x="2844" y="3914"/>
                        </a:lnTo>
                        <a:lnTo>
                          <a:pt x="2850" y="3961"/>
                        </a:lnTo>
                        <a:lnTo>
                          <a:pt x="2844" y="4002"/>
                        </a:lnTo>
                        <a:lnTo>
                          <a:pt x="2839" y="4044"/>
                        </a:lnTo>
                        <a:lnTo>
                          <a:pt x="2829" y="4075"/>
                        </a:lnTo>
                        <a:lnTo>
                          <a:pt x="2819" y="4106"/>
                        </a:lnTo>
                        <a:lnTo>
                          <a:pt x="3074" y="3903"/>
                        </a:lnTo>
                        <a:lnTo>
                          <a:pt x="3099" y="3991"/>
                        </a:lnTo>
                        <a:lnTo>
                          <a:pt x="3286" y="3726"/>
                        </a:lnTo>
                        <a:lnTo>
                          <a:pt x="3307" y="3804"/>
                        </a:lnTo>
                        <a:lnTo>
                          <a:pt x="3338" y="3757"/>
                        </a:lnTo>
                        <a:lnTo>
                          <a:pt x="3411" y="3654"/>
                        </a:lnTo>
                        <a:lnTo>
                          <a:pt x="3453" y="3591"/>
                        </a:lnTo>
                        <a:lnTo>
                          <a:pt x="3489" y="3523"/>
                        </a:lnTo>
                        <a:lnTo>
                          <a:pt x="3521" y="3466"/>
                        </a:lnTo>
                        <a:lnTo>
                          <a:pt x="3541" y="3419"/>
                        </a:lnTo>
                        <a:lnTo>
                          <a:pt x="3551" y="3529"/>
                        </a:lnTo>
                        <a:lnTo>
                          <a:pt x="3562" y="3507"/>
                        </a:lnTo>
                        <a:lnTo>
                          <a:pt x="3593" y="3455"/>
                        </a:lnTo>
                        <a:lnTo>
                          <a:pt x="3635" y="3372"/>
                        </a:lnTo>
                        <a:lnTo>
                          <a:pt x="3650" y="3325"/>
                        </a:lnTo>
                        <a:lnTo>
                          <a:pt x="3666" y="3274"/>
                        </a:lnTo>
                        <a:lnTo>
                          <a:pt x="3692" y="3180"/>
                        </a:lnTo>
                        <a:lnTo>
                          <a:pt x="3723" y="3102"/>
                        </a:lnTo>
                        <a:lnTo>
                          <a:pt x="3760" y="3023"/>
                        </a:lnTo>
                        <a:lnTo>
                          <a:pt x="3807" y="3117"/>
                        </a:lnTo>
                        <a:lnTo>
                          <a:pt x="3832" y="3080"/>
                        </a:lnTo>
                        <a:lnTo>
                          <a:pt x="3858" y="3039"/>
                        </a:lnTo>
                        <a:lnTo>
                          <a:pt x="3890" y="2977"/>
                        </a:lnTo>
                        <a:lnTo>
                          <a:pt x="3920" y="2898"/>
                        </a:lnTo>
                        <a:lnTo>
                          <a:pt x="3947" y="2805"/>
                        </a:lnTo>
                        <a:lnTo>
                          <a:pt x="3952" y="2753"/>
                        </a:lnTo>
                        <a:lnTo>
                          <a:pt x="3957" y="2695"/>
                        </a:lnTo>
                        <a:lnTo>
                          <a:pt x="3962" y="2633"/>
                        </a:lnTo>
                        <a:lnTo>
                          <a:pt x="3957" y="2565"/>
                        </a:lnTo>
                        <a:lnTo>
                          <a:pt x="3942" y="2410"/>
                        </a:lnTo>
                        <a:lnTo>
                          <a:pt x="3915" y="2222"/>
                        </a:lnTo>
                        <a:lnTo>
                          <a:pt x="3885" y="2019"/>
                        </a:lnTo>
                        <a:lnTo>
                          <a:pt x="3853" y="1821"/>
                        </a:lnTo>
                        <a:lnTo>
                          <a:pt x="3791" y="1483"/>
                        </a:lnTo>
                        <a:lnTo>
                          <a:pt x="3760" y="1342"/>
                        </a:lnTo>
                        <a:lnTo>
                          <a:pt x="3728" y="1327"/>
                        </a:lnTo>
                        <a:lnTo>
                          <a:pt x="3692" y="1306"/>
                        </a:lnTo>
                        <a:lnTo>
                          <a:pt x="3640" y="1269"/>
                        </a:lnTo>
                        <a:lnTo>
                          <a:pt x="3583" y="1227"/>
                        </a:lnTo>
                        <a:lnTo>
                          <a:pt x="3521" y="1165"/>
                        </a:lnTo>
                        <a:lnTo>
                          <a:pt x="3448" y="1092"/>
                        </a:lnTo>
                        <a:lnTo>
                          <a:pt x="3375" y="1004"/>
                        </a:lnTo>
                        <a:lnTo>
                          <a:pt x="3209" y="770"/>
                        </a:lnTo>
                        <a:lnTo>
                          <a:pt x="3109" y="629"/>
                        </a:lnTo>
                        <a:lnTo>
                          <a:pt x="3001" y="488"/>
                        </a:lnTo>
                        <a:lnTo>
                          <a:pt x="2881" y="348"/>
                        </a:lnTo>
                        <a:lnTo>
                          <a:pt x="2824" y="285"/>
                        </a:lnTo>
                        <a:lnTo>
                          <a:pt x="2762" y="223"/>
                        </a:lnTo>
                        <a:lnTo>
                          <a:pt x="2699" y="166"/>
                        </a:lnTo>
                        <a:lnTo>
                          <a:pt x="2632" y="120"/>
                        </a:lnTo>
                        <a:lnTo>
                          <a:pt x="2569" y="72"/>
                        </a:lnTo>
                        <a:lnTo>
                          <a:pt x="2501" y="36"/>
                        </a:lnTo>
                        <a:lnTo>
                          <a:pt x="2532" y="113"/>
                        </a:lnTo>
                        <a:lnTo>
                          <a:pt x="2485" y="88"/>
                        </a:lnTo>
                        <a:lnTo>
                          <a:pt x="2433" y="67"/>
                        </a:lnTo>
                        <a:lnTo>
                          <a:pt x="2371" y="46"/>
                        </a:lnTo>
                        <a:lnTo>
                          <a:pt x="2298" y="20"/>
                        </a:lnTo>
                        <a:lnTo>
                          <a:pt x="2221" y="5"/>
                        </a:lnTo>
                        <a:lnTo>
                          <a:pt x="2148" y="0"/>
                        </a:lnTo>
                        <a:lnTo>
                          <a:pt x="2116" y="0"/>
                        </a:lnTo>
                        <a:lnTo>
                          <a:pt x="2080" y="5"/>
                        </a:lnTo>
                        <a:lnTo>
                          <a:pt x="2184" y="108"/>
                        </a:lnTo>
                        <a:lnTo>
                          <a:pt x="2002" y="93"/>
                        </a:lnTo>
                        <a:lnTo>
                          <a:pt x="1841" y="88"/>
                        </a:lnTo>
                        <a:lnTo>
                          <a:pt x="1768" y="88"/>
                        </a:lnTo>
                        <a:lnTo>
                          <a:pt x="1711" y="98"/>
                        </a:lnTo>
                        <a:lnTo>
                          <a:pt x="1804" y="140"/>
                        </a:lnTo>
                        <a:lnTo>
                          <a:pt x="1679" y="140"/>
                        </a:lnTo>
                        <a:lnTo>
                          <a:pt x="1565" y="150"/>
                        </a:lnTo>
                        <a:lnTo>
                          <a:pt x="1513" y="155"/>
                        </a:lnTo>
                        <a:lnTo>
                          <a:pt x="1467" y="166"/>
                        </a:lnTo>
                        <a:lnTo>
                          <a:pt x="1503" y="250"/>
                        </a:lnTo>
                        <a:lnTo>
                          <a:pt x="1373" y="260"/>
                        </a:lnTo>
                        <a:lnTo>
                          <a:pt x="1258" y="270"/>
                        </a:lnTo>
                        <a:lnTo>
                          <a:pt x="1201" y="280"/>
                        </a:lnTo>
                        <a:lnTo>
                          <a:pt x="1150" y="296"/>
                        </a:lnTo>
                        <a:lnTo>
                          <a:pt x="1232" y="353"/>
                        </a:lnTo>
                        <a:lnTo>
                          <a:pt x="1248" y="369"/>
                        </a:lnTo>
                        <a:lnTo>
                          <a:pt x="1263" y="390"/>
                        </a:lnTo>
                        <a:lnTo>
                          <a:pt x="1285" y="415"/>
                        </a:lnTo>
                        <a:lnTo>
                          <a:pt x="1300" y="452"/>
                        </a:lnTo>
                        <a:lnTo>
                          <a:pt x="1310" y="488"/>
                        </a:lnTo>
                        <a:lnTo>
                          <a:pt x="1310" y="535"/>
                        </a:lnTo>
                        <a:lnTo>
                          <a:pt x="1305" y="562"/>
                        </a:lnTo>
                        <a:lnTo>
                          <a:pt x="1300" y="587"/>
                        </a:lnTo>
                        <a:lnTo>
                          <a:pt x="1180" y="577"/>
                        </a:lnTo>
                        <a:lnTo>
                          <a:pt x="1269" y="645"/>
                        </a:lnTo>
                        <a:lnTo>
                          <a:pt x="1332" y="697"/>
                        </a:lnTo>
                        <a:lnTo>
                          <a:pt x="1357" y="723"/>
                        </a:lnTo>
                        <a:lnTo>
                          <a:pt x="1368" y="744"/>
                        </a:lnTo>
                        <a:lnTo>
                          <a:pt x="1368" y="754"/>
                        </a:lnTo>
                        <a:lnTo>
                          <a:pt x="1368" y="759"/>
                        </a:lnTo>
                        <a:lnTo>
                          <a:pt x="1352" y="764"/>
                        </a:lnTo>
                        <a:lnTo>
                          <a:pt x="1332" y="770"/>
                        </a:lnTo>
                        <a:lnTo>
                          <a:pt x="1305" y="764"/>
                        </a:lnTo>
                        <a:lnTo>
                          <a:pt x="1258" y="759"/>
                        </a:lnTo>
                        <a:lnTo>
                          <a:pt x="1232" y="754"/>
                        </a:lnTo>
                        <a:lnTo>
                          <a:pt x="1285" y="884"/>
                        </a:lnTo>
                        <a:lnTo>
                          <a:pt x="1160" y="894"/>
                        </a:lnTo>
                        <a:lnTo>
                          <a:pt x="1056" y="910"/>
                        </a:lnTo>
                        <a:lnTo>
                          <a:pt x="968" y="926"/>
                        </a:lnTo>
                        <a:lnTo>
                          <a:pt x="983" y="931"/>
                        </a:lnTo>
                        <a:lnTo>
                          <a:pt x="1019" y="952"/>
                        </a:lnTo>
                        <a:lnTo>
                          <a:pt x="1035" y="962"/>
                        </a:lnTo>
                        <a:lnTo>
                          <a:pt x="1050" y="977"/>
                        </a:lnTo>
                        <a:lnTo>
                          <a:pt x="1061" y="994"/>
                        </a:lnTo>
                        <a:lnTo>
                          <a:pt x="1071" y="1014"/>
                        </a:lnTo>
                        <a:lnTo>
                          <a:pt x="1066" y="1019"/>
                        </a:lnTo>
                        <a:lnTo>
                          <a:pt x="1061" y="1030"/>
                        </a:lnTo>
                        <a:lnTo>
                          <a:pt x="1035" y="1040"/>
                        </a:lnTo>
                        <a:lnTo>
                          <a:pt x="998" y="1051"/>
                        </a:lnTo>
                        <a:lnTo>
                          <a:pt x="951" y="1061"/>
                        </a:lnTo>
                        <a:lnTo>
                          <a:pt x="873" y="1072"/>
                        </a:lnTo>
                        <a:lnTo>
                          <a:pt x="838" y="1072"/>
                        </a:lnTo>
                        <a:lnTo>
                          <a:pt x="926" y="1139"/>
                        </a:lnTo>
                        <a:lnTo>
                          <a:pt x="936" y="1155"/>
                        </a:lnTo>
                        <a:lnTo>
                          <a:pt x="941" y="1171"/>
                        </a:lnTo>
                        <a:lnTo>
                          <a:pt x="941" y="1197"/>
                        </a:lnTo>
                        <a:lnTo>
                          <a:pt x="941" y="1222"/>
                        </a:lnTo>
                        <a:lnTo>
                          <a:pt x="926" y="1249"/>
                        </a:lnTo>
                        <a:lnTo>
                          <a:pt x="900" y="1279"/>
                        </a:lnTo>
                        <a:lnTo>
                          <a:pt x="863" y="1306"/>
                        </a:lnTo>
                        <a:lnTo>
                          <a:pt x="879" y="1311"/>
                        </a:lnTo>
                        <a:lnTo>
                          <a:pt x="894" y="1316"/>
                        </a:lnTo>
                        <a:lnTo>
                          <a:pt x="915" y="1327"/>
                        </a:lnTo>
                        <a:lnTo>
                          <a:pt x="931" y="1337"/>
                        </a:lnTo>
                        <a:lnTo>
                          <a:pt x="941" y="1358"/>
                        </a:lnTo>
                        <a:lnTo>
                          <a:pt x="941" y="1379"/>
                        </a:lnTo>
                        <a:lnTo>
                          <a:pt x="936" y="1409"/>
                        </a:lnTo>
                        <a:lnTo>
                          <a:pt x="921" y="1436"/>
                        </a:lnTo>
                        <a:lnTo>
                          <a:pt x="900" y="1462"/>
                        </a:lnTo>
                        <a:lnTo>
                          <a:pt x="879" y="1477"/>
                        </a:lnTo>
                        <a:lnTo>
                          <a:pt x="858" y="1488"/>
                        </a:lnTo>
                        <a:lnTo>
                          <a:pt x="821" y="1499"/>
                        </a:lnTo>
                        <a:lnTo>
                          <a:pt x="806" y="1499"/>
                        </a:lnTo>
                        <a:lnTo>
                          <a:pt x="821" y="1509"/>
                        </a:lnTo>
                        <a:lnTo>
                          <a:pt x="858" y="1524"/>
                        </a:lnTo>
                        <a:lnTo>
                          <a:pt x="873" y="1539"/>
                        </a:lnTo>
                        <a:lnTo>
                          <a:pt x="889" y="1556"/>
                        </a:lnTo>
                        <a:lnTo>
                          <a:pt x="894" y="1571"/>
                        </a:lnTo>
                        <a:lnTo>
                          <a:pt x="884" y="1592"/>
                        </a:lnTo>
                        <a:lnTo>
                          <a:pt x="868" y="1613"/>
                        </a:lnTo>
                        <a:lnTo>
                          <a:pt x="838" y="1623"/>
                        </a:lnTo>
                        <a:lnTo>
                          <a:pt x="806" y="1639"/>
                        </a:lnTo>
                        <a:lnTo>
                          <a:pt x="769" y="1649"/>
                        </a:lnTo>
                        <a:lnTo>
                          <a:pt x="713" y="1659"/>
                        </a:lnTo>
                        <a:lnTo>
                          <a:pt x="686" y="1664"/>
                        </a:lnTo>
                        <a:lnTo>
                          <a:pt x="702" y="1676"/>
                        </a:lnTo>
                        <a:lnTo>
                          <a:pt x="738" y="1701"/>
                        </a:lnTo>
                        <a:lnTo>
                          <a:pt x="754" y="1717"/>
                        </a:lnTo>
                        <a:lnTo>
                          <a:pt x="759" y="1728"/>
                        </a:lnTo>
                        <a:lnTo>
                          <a:pt x="759" y="1738"/>
                        </a:lnTo>
                        <a:lnTo>
                          <a:pt x="754" y="1743"/>
                        </a:lnTo>
                        <a:lnTo>
                          <a:pt x="733" y="1753"/>
                        </a:lnTo>
                        <a:lnTo>
                          <a:pt x="666" y="1779"/>
                        </a:lnTo>
                        <a:lnTo>
                          <a:pt x="588" y="1806"/>
                        </a:lnTo>
                        <a:lnTo>
                          <a:pt x="499" y="1847"/>
                        </a:lnTo>
                        <a:lnTo>
                          <a:pt x="531" y="1847"/>
                        </a:lnTo>
                        <a:lnTo>
                          <a:pt x="593" y="1858"/>
                        </a:lnTo>
                        <a:lnTo>
                          <a:pt x="629" y="1868"/>
                        </a:lnTo>
                        <a:lnTo>
                          <a:pt x="666" y="1883"/>
                        </a:lnTo>
                        <a:lnTo>
                          <a:pt x="691" y="1904"/>
                        </a:lnTo>
                        <a:lnTo>
                          <a:pt x="697" y="1915"/>
                        </a:lnTo>
                        <a:lnTo>
                          <a:pt x="702" y="1931"/>
                        </a:lnTo>
                        <a:lnTo>
                          <a:pt x="702" y="1961"/>
                        </a:lnTo>
                        <a:lnTo>
                          <a:pt x="691" y="1993"/>
                        </a:lnTo>
                        <a:lnTo>
                          <a:pt x="676" y="2024"/>
                        </a:lnTo>
                        <a:lnTo>
                          <a:pt x="656" y="2055"/>
                        </a:lnTo>
                        <a:lnTo>
                          <a:pt x="629" y="2081"/>
                        </a:lnTo>
                        <a:lnTo>
                          <a:pt x="609" y="2103"/>
                        </a:lnTo>
                        <a:lnTo>
                          <a:pt x="582" y="2123"/>
                        </a:lnTo>
                        <a:lnTo>
                          <a:pt x="562" y="2128"/>
                        </a:lnTo>
                        <a:lnTo>
                          <a:pt x="551" y="2133"/>
                        </a:lnTo>
                        <a:lnTo>
                          <a:pt x="551" y="2138"/>
                        </a:lnTo>
                        <a:lnTo>
                          <a:pt x="582" y="2149"/>
                        </a:lnTo>
                        <a:lnTo>
                          <a:pt x="598" y="2154"/>
                        </a:lnTo>
                        <a:lnTo>
                          <a:pt x="619" y="2165"/>
                        </a:lnTo>
                        <a:lnTo>
                          <a:pt x="629" y="2175"/>
                        </a:lnTo>
                        <a:lnTo>
                          <a:pt x="634" y="2191"/>
                        </a:lnTo>
                        <a:lnTo>
                          <a:pt x="624" y="2211"/>
                        </a:lnTo>
                        <a:lnTo>
                          <a:pt x="614" y="2233"/>
                        </a:lnTo>
                        <a:lnTo>
                          <a:pt x="593" y="2248"/>
                        </a:lnTo>
                        <a:lnTo>
                          <a:pt x="567" y="2263"/>
                        </a:lnTo>
                        <a:lnTo>
                          <a:pt x="526" y="2285"/>
                        </a:lnTo>
                        <a:lnTo>
                          <a:pt x="504" y="2295"/>
                        </a:lnTo>
                        <a:lnTo>
                          <a:pt x="531" y="2295"/>
                        </a:lnTo>
                        <a:lnTo>
                          <a:pt x="582" y="2305"/>
                        </a:lnTo>
                        <a:lnTo>
                          <a:pt x="603" y="2315"/>
                        </a:lnTo>
                        <a:lnTo>
                          <a:pt x="624" y="2326"/>
                        </a:lnTo>
                        <a:lnTo>
                          <a:pt x="629" y="2336"/>
                        </a:lnTo>
                        <a:lnTo>
                          <a:pt x="629" y="2341"/>
                        </a:lnTo>
                        <a:lnTo>
                          <a:pt x="629" y="2352"/>
                        </a:lnTo>
                        <a:lnTo>
                          <a:pt x="624" y="2363"/>
                        </a:lnTo>
                        <a:lnTo>
                          <a:pt x="603" y="2388"/>
                        </a:lnTo>
                        <a:lnTo>
                          <a:pt x="577" y="2398"/>
                        </a:lnTo>
                        <a:lnTo>
                          <a:pt x="556" y="2410"/>
                        </a:lnTo>
                        <a:lnTo>
                          <a:pt x="531" y="2420"/>
                        </a:lnTo>
                        <a:lnTo>
                          <a:pt x="489" y="2420"/>
                        </a:lnTo>
                        <a:lnTo>
                          <a:pt x="468" y="2420"/>
                        </a:lnTo>
                        <a:lnTo>
                          <a:pt x="484" y="2425"/>
                        </a:lnTo>
                        <a:lnTo>
                          <a:pt x="514" y="2430"/>
                        </a:lnTo>
                        <a:lnTo>
                          <a:pt x="526" y="2440"/>
                        </a:lnTo>
                        <a:lnTo>
                          <a:pt x="536" y="2451"/>
                        </a:lnTo>
                        <a:lnTo>
                          <a:pt x="536" y="2461"/>
                        </a:lnTo>
                        <a:lnTo>
                          <a:pt x="531" y="2477"/>
                        </a:lnTo>
                        <a:lnTo>
                          <a:pt x="509" y="2498"/>
                        </a:lnTo>
                        <a:lnTo>
                          <a:pt x="479" y="2518"/>
                        </a:lnTo>
                        <a:lnTo>
                          <a:pt x="400" y="2565"/>
                        </a:lnTo>
                        <a:lnTo>
                          <a:pt x="297" y="2617"/>
                        </a:lnTo>
                        <a:lnTo>
                          <a:pt x="317" y="2623"/>
                        </a:lnTo>
                        <a:lnTo>
                          <a:pt x="364" y="2633"/>
                        </a:lnTo>
                        <a:lnTo>
                          <a:pt x="379" y="2643"/>
                        </a:lnTo>
                        <a:lnTo>
                          <a:pt x="390" y="2654"/>
                        </a:lnTo>
                        <a:lnTo>
                          <a:pt x="395" y="2659"/>
                        </a:lnTo>
                        <a:lnTo>
                          <a:pt x="395" y="2665"/>
                        </a:lnTo>
                        <a:lnTo>
                          <a:pt x="379" y="2680"/>
                        </a:lnTo>
                        <a:lnTo>
                          <a:pt x="317" y="2711"/>
                        </a:lnTo>
                        <a:lnTo>
                          <a:pt x="250" y="2737"/>
                        </a:lnTo>
                        <a:lnTo>
                          <a:pt x="162" y="2763"/>
                        </a:lnTo>
                        <a:lnTo>
                          <a:pt x="182" y="2779"/>
                        </a:lnTo>
                        <a:lnTo>
                          <a:pt x="213" y="2810"/>
                        </a:lnTo>
                        <a:lnTo>
                          <a:pt x="229" y="2825"/>
                        </a:lnTo>
                        <a:lnTo>
                          <a:pt x="234" y="2847"/>
                        </a:lnTo>
                        <a:lnTo>
                          <a:pt x="234" y="2852"/>
                        </a:lnTo>
                        <a:lnTo>
                          <a:pt x="234" y="2862"/>
                        </a:lnTo>
                        <a:lnTo>
                          <a:pt x="229" y="2867"/>
                        </a:lnTo>
                        <a:lnTo>
                          <a:pt x="219" y="2872"/>
                        </a:lnTo>
                        <a:lnTo>
                          <a:pt x="187" y="2893"/>
                        </a:lnTo>
                        <a:lnTo>
                          <a:pt x="156" y="2919"/>
                        </a:lnTo>
                        <a:lnTo>
                          <a:pt x="83" y="2982"/>
                        </a:lnTo>
                        <a:lnTo>
                          <a:pt x="0" y="3065"/>
                        </a:lnTo>
                        <a:close/>
                      </a:path>
                    </a:pathLst>
                  </a:cu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未知"/>
                  <p:cNvSpPr/>
                  <p:nvPr/>
                </p:nvSpPr>
                <p:spPr>
                  <a:xfrm rot="8424000">
                    <a:off x="474480" y="498600"/>
                    <a:ext cx="431280" cy="1530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4" h="1941">
                        <a:moveTo>
                          <a:pt x="0" y="1941"/>
                        </a:moveTo>
                        <a:lnTo>
                          <a:pt x="141" y="1936"/>
                        </a:lnTo>
                        <a:lnTo>
                          <a:pt x="463" y="1916"/>
                        </a:lnTo>
                        <a:lnTo>
                          <a:pt x="655" y="1899"/>
                        </a:lnTo>
                        <a:lnTo>
                          <a:pt x="842" y="1874"/>
                        </a:lnTo>
                        <a:lnTo>
                          <a:pt x="1014" y="1848"/>
                        </a:lnTo>
                        <a:lnTo>
                          <a:pt x="1087" y="1837"/>
                        </a:lnTo>
                        <a:lnTo>
                          <a:pt x="1149" y="1822"/>
                        </a:lnTo>
                        <a:lnTo>
                          <a:pt x="1311" y="1775"/>
                        </a:lnTo>
                        <a:lnTo>
                          <a:pt x="1550" y="1717"/>
                        </a:lnTo>
                        <a:lnTo>
                          <a:pt x="1846" y="1644"/>
                        </a:lnTo>
                        <a:lnTo>
                          <a:pt x="2179" y="1551"/>
                        </a:lnTo>
                        <a:lnTo>
                          <a:pt x="2346" y="1499"/>
                        </a:lnTo>
                        <a:lnTo>
                          <a:pt x="2517" y="1442"/>
                        </a:lnTo>
                        <a:lnTo>
                          <a:pt x="2683" y="1379"/>
                        </a:lnTo>
                        <a:lnTo>
                          <a:pt x="2845" y="1312"/>
                        </a:lnTo>
                        <a:lnTo>
                          <a:pt x="2995" y="1244"/>
                        </a:lnTo>
                        <a:lnTo>
                          <a:pt x="3135" y="1172"/>
                        </a:lnTo>
                        <a:lnTo>
                          <a:pt x="3260" y="1093"/>
                        </a:lnTo>
                        <a:lnTo>
                          <a:pt x="3317" y="1052"/>
                        </a:lnTo>
                        <a:lnTo>
                          <a:pt x="3364" y="1010"/>
                        </a:lnTo>
                        <a:lnTo>
                          <a:pt x="3235" y="432"/>
                        </a:lnTo>
                        <a:lnTo>
                          <a:pt x="3177" y="380"/>
                        </a:lnTo>
                        <a:lnTo>
                          <a:pt x="3053" y="266"/>
                        </a:lnTo>
                        <a:lnTo>
                          <a:pt x="2975" y="198"/>
                        </a:lnTo>
                        <a:lnTo>
                          <a:pt x="2907" y="125"/>
                        </a:lnTo>
                        <a:lnTo>
                          <a:pt x="2845" y="58"/>
                        </a:lnTo>
                        <a:lnTo>
                          <a:pt x="2803" y="0"/>
                        </a:lnTo>
                        <a:lnTo>
                          <a:pt x="2704" y="52"/>
                        </a:lnTo>
                        <a:lnTo>
                          <a:pt x="2444" y="193"/>
                        </a:lnTo>
                        <a:lnTo>
                          <a:pt x="2064" y="401"/>
                        </a:lnTo>
                        <a:lnTo>
                          <a:pt x="1840" y="531"/>
                        </a:lnTo>
                        <a:lnTo>
                          <a:pt x="1612" y="672"/>
                        </a:lnTo>
                        <a:lnTo>
                          <a:pt x="1373" y="817"/>
                        </a:lnTo>
                        <a:lnTo>
                          <a:pt x="1134" y="973"/>
                        </a:lnTo>
                        <a:lnTo>
                          <a:pt x="900" y="1135"/>
                        </a:lnTo>
                        <a:lnTo>
                          <a:pt x="677" y="1296"/>
                        </a:lnTo>
                        <a:lnTo>
                          <a:pt x="468" y="1462"/>
                        </a:lnTo>
                        <a:lnTo>
                          <a:pt x="370" y="1546"/>
                        </a:lnTo>
                        <a:lnTo>
                          <a:pt x="281" y="1629"/>
                        </a:lnTo>
                        <a:lnTo>
                          <a:pt x="198" y="1707"/>
                        </a:lnTo>
                        <a:lnTo>
                          <a:pt x="125" y="1786"/>
                        </a:lnTo>
                        <a:lnTo>
                          <a:pt x="58" y="1864"/>
                        </a:lnTo>
                        <a:lnTo>
                          <a:pt x="0" y="194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未知"/>
                  <p:cNvSpPr/>
                  <p:nvPr/>
                </p:nvSpPr>
                <p:spPr>
                  <a:xfrm rot="8424000">
                    <a:off x="327600" y="538560"/>
                    <a:ext cx="627480" cy="190800"/>
                  </a:xfrm>
                  <a:custGeom>
                    <a:avLst/>
                    <a:gdLst/>
                    <a:ahLst/>
                    <a:rect l="l" t="t" r="r" b="b"/>
                    <a:pathLst>
                      <a:path w="4888" h="2436">
                        <a:moveTo>
                          <a:pt x="0" y="2436"/>
                        </a:moveTo>
                        <a:lnTo>
                          <a:pt x="358" y="2296"/>
                        </a:lnTo>
                        <a:lnTo>
                          <a:pt x="1169" y="1968"/>
                        </a:lnTo>
                        <a:lnTo>
                          <a:pt x="1628" y="1786"/>
                        </a:lnTo>
                        <a:lnTo>
                          <a:pt x="2044" y="1609"/>
                        </a:lnTo>
                        <a:lnTo>
                          <a:pt x="2381" y="1457"/>
                        </a:lnTo>
                        <a:lnTo>
                          <a:pt x="2501" y="1400"/>
                        </a:lnTo>
                        <a:lnTo>
                          <a:pt x="2584" y="1359"/>
                        </a:lnTo>
                        <a:lnTo>
                          <a:pt x="2828" y="1213"/>
                        </a:lnTo>
                        <a:lnTo>
                          <a:pt x="3057" y="1083"/>
                        </a:lnTo>
                        <a:lnTo>
                          <a:pt x="3250" y="979"/>
                        </a:lnTo>
                        <a:lnTo>
                          <a:pt x="3322" y="942"/>
                        </a:lnTo>
                        <a:lnTo>
                          <a:pt x="3380" y="922"/>
                        </a:lnTo>
                        <a:lnTo>
                          <a:pt x="3469" y="885"/>
                        </a:lnTo>
                        <a:lnTo>
                          <a:pt x="3634" y="812"/>
                        </a:lnTo>
                        <a:lnTo>
                          <a:pt x="3853" y="708"/>
                        </a:lnTo>
                        <a:lnTo>
                          <a:pt x="4103" y="583"/>
                        </a:lnTo>
                        <a:lnTo>
                          <a:pt x="4352" y="458"/>
                        </a:lnTo>
                        <a:lnTo>
                          <a:pt x="4587" y="333"/>
                        </a:lnTo>
                        <a:lnTo>
                          <a:pt x="4685" y="276"/>
                        </a:lnTo>
                        <a:lnTo>
                          <a:pt x="4774" y="219"/>
                        </a:lnTo>
                        <a:lnTo>
                          <a:pt x="4841" y="172"/>
                        </a:lnTo>
                        <a:lnTo>
                          <a:pt x="4888" y="136"/>
                        </a:lnTo>
                        <a:lnTo>
                          <a:pt x="4888" y="115"/>
                        </a:lnTo>
                        <a:lnTo>
                          <a:pt x="4888" y="73"/>
                        </a:lnTo>
                        <a:lnTo>
                          <a:pt x="4882" y="47"/>
                        </a:lnTo>
                        <a:lnTo>
                          <a:pt x="4877" y="26"/>
                        </a:lnTo>
                        <a:lnTo>
                          <a:pt x="4867" y="11"/>
                        </a:lnTo>
                        <a:lnTo>
                          <a:pt x="4846" y="0"/>
                        </a:lnTo>
                        <a:lnTo>
                          <a:pt x="4836" y="0"/>
                        </a:lnTo>
                        <a:lnTo>
                          <a:pt x="4826" y="6"/>
                        </a:lnTo>
                        <a:lnTo>
                          <a:pt x="4799" y="26"/>
                        </a:lnTo>
                        <a:lnTo>
                          <a:pt x="4727" y="109"/>
                        </a:lnTo>
                        <a:lnTo>
                          <a:pt x="4680" y="161"/>
                        </a:lnTo>
                        <a:lnTo>
                          <a:pt x="4628" y="219"/>
                        </a:lnTo>
                        <a:lnTo>
                          <a:pt x="4560" y="271"/>
                        </a:lnTo>
                        <a:lnTo>
                          <a:pt x="4524" y="297"/>
                        </a:lnTo>
                        <a:lnTo>
                          <a:pt x="4482" y="318"/>
                        </a:lnTo>
                        <a:lnTo>
                          <a:pt x="4233" y="443"/>
                        </a:lnTo>
                        <a:lnTo>
                          <a:pt x="3900" y="604"/>
                        </a:lnTo>
                        <a:lnTo>
                          <a:pt x="3593" y="745"/>
                        </a:lnTo>
                        <a:lnTo>
                          <a:pt x="3484" y="792"/>
                        </a:lnTo>
                        <a:lnTo>
                          <a:pt x="3422" y="817"/>
                        </a:lnTo>
                        <a:lnTo>
                          <a:pt x="3380" y="833"/>
                        </a:lnTo>
                        <a:lnTo>
                          <a:pt x="3317" y="864"/>
                        </a:lnTo>
                        <a:lnTo>
                          <a:pt x="3172" y="947"/>
                        </a:lnTo>
                        <a:lnTo>
                          <a:pt x="3010" y="1047"/>
                        </a:lnTo>
                        <a:lnTo>
                          <a:pt x="2875" y="1135"/>
                        </a:lnTo>
                        <a:lnTo>
                          <a:pt x="2730" y="1224"/>
                        </a:lnTo>
                        <a:lnTo>
                          <a:pt x="2533" y="1327"/>
                        </a:lnTo>
                        <a:lnTo>
                          <a:pt x="2329" y="1437"/>
                        </a:lnTo>
                        <a:lnTo>
                          <a:pt x="2152" y="1520"/>
                        </a:lnTo>
                        <a:lnTo>
                          <a:pt x="1726" y="1702"/>
                        </a:lnTo>
                        <a:lnTo>
                          <a:pt x="999" y="2014"/>
                        </a:lnTo>
                        <a:lnTo>
                          <a:pt x="0" y="243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未知"/>
                  <p:cNvSpPr/>
                  <p:nvPr/>
                </p:nvSpPr>
                <p:spPr>
                  <a:xfrm rot="8424000">
                    <a:off x="636840" y="519840"/>
                    <a:ext cx="2037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597" h="240">
                        <a:moveTo>
                          <a:pt x="0" y="5"/>
                        </a:moveTo>
                        <a:lnTo>
                          <a:pt x="198" y="17"/>
                        </a:lnTo>
                        <a:lnTo>
                          <a:pt x="411" y="27"/>
                        </a:lnTo>
                        <a:lnTo>
                          <a:pt x="656" y="47"/>
                        </a:lnTo>
                        <a:lnTo>
                          <a:pt x="921" y="79"/>
                        </a:lnTo>
                        <a:lnTo>
                          <a:pt x="1051" y="95"/>
                        </a:lnTo>
                        <a:lnTo>
                          <a:pt x="1176" y="115"/>
                        </a:lnTo>
                        <a:lnTo>
                          <a:pt x="1285" y="142"/>
                        </a:lnTo>
                        <a:lnTo>
                          <a:pt x="1389" y="172"/>
                        </a:lnTo>
                        <a:lnTo>
                          <a:pt x="1472" y="204"/>
                        </a:lnTo>
                        <a:lnTo>
                          <a:pt x="1509" y="219"/>
                        </a:lnTo>
                        <a:lnTo>
                          <a:pt x="1540" y="240"/>
                        </a:lnTo>
                        <a:lnTo>
                          <a:pt x="1597" y="225"/>
                        </a:lnTo>
                        <a:lnTo>
                          <a:pt x="1571" y="214"/>
                        </a:lnTo>
                        <a:lnTo>
                          <a:pt x="1487" y="183"/>
                        </a:lnTo>
                        <a:lnTo>
                          <a:pt x="1358" y="142"/>
                        </a:lnTo>
                        <a:lnTo>
                          <a:pt x="1176" y="100"/>
                        </a:lnTo>
                        <a:lnTo>
                          <a:pt x="1067" y="73"/>
                        </a:lnTo>
                        <a:lnTo>
                          <a:pt x="947" y="53"/>
                        </a:lnTo>
                        <a:lnTo>
                          <a:pt x="811" y="37"/>
                        </a:lnTo>
                        <a:lnTo>
                          <a:pt x="671" y="22"/>
                        </a:lnTo>
                        <a:lnTo>
                          <a:pt x="521" y="11"/>
                        </a:lnTo>
                        <a:lnTo>
                          <a:pt x="354" y="0"/>
                        </a:lnTo>
                        <a:lnTo>
                          <a:pt x="18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未知"/>
                  <p:cNvSpPr/>
                  <p:nvPr/>
                </p:nvSpPr>
                <p:spPr>
                  <a:xfrm rot="8424000">
                    <a:off x="593640" y="577800"/>
                    <a:ext cx="26388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9" h="906">
                        <a:moveTo>
                          <a:pt x="0" y="427"/>
                        </a:moveTo>
                        <a:lnTo>
                          <a:pt x="141" y="448"/>
                        </a:lnTo>
                        <a:lnTo>
                          <a:pt x="463" y="505"/>
                        </a:lnTo>
                        <a:lnTo>
                          <a:pt x="640" y="542"/>
                        </a:lnTo>
                        <a:lnTo>
                          <a:pt x="806" y="578"/>
                        </a:lnTo>
                        <a:lnTo>
                          <a:pt x="879" y="599"/>
                        </a:lnTo>
                        <a:lnTo>
                          <a:pt x="941" y="619"/>
                        </a:lnTo>
                        <a:lnTo>
                          <a:pt x="989" y="641"/>
                        </a:lnTo>
                        <a:lnTo>
                          <a:pt x="1024" y="661"/>
                        </a:lnTo>
                        <a:lnTo>
                          <a:pt x="1061" y="677"/>
                        </a:lnTo>
                        <a:lnTo>
                          <a:pt x="1108" y="698"/>
                        </a:lnTo>
                        <a:lnTo>
                          <a:pt x="1171" y="719"/>
                        </a:lnTo>
                        <a:lnTo>
                          <a:pt x="1238" y="744"/>
                        </a:lnTo>
                        <a:lnTo>
                          <a:pt x="1404" y="781"/>
                        </a:lnTo>
                        <a:lnTo>
                          <a:pt x="1581" y="823"/>
                        </a:lnTo>
                        <a:lnTo>
                          <a:pt x="1893" y="879"/>
                        </a:lnTo>
                        <a:lnTo>
                          <a:pt x="2034" y="906"/>
                        </a:lnTo>
                        <a:lnTo>
                          <a:pt x="2059" y="854"/>
                        </a:lnTo>
                        <a:lnTo>
                          <a:pt x="1924" y="833"/>
                        </a:lnTo>
                        <a:lnTo>
                          <a:pt x="1623" y="781"/>
                        </a:lnTo>
                        <a:lnTo>
                          <a:pt x="1456" y="749"/>
                        </a:lnTo>
                        <a:lnTo>
                          <a:pt x="1295" y="714"/>
                        </a:lnTo>
                        <a:lnTo>
                          <a:pt x="1165" y="682"/>
                        </a:lnTo>
                        <a:lnTo>
                          <a:pt x="1118" y="666"/>
                        </a:lnTo>
                        <a:lnTo>
                          <a:pt x="1087" y="651"/>
                        </a:lnTo>
                        <a:lnTo>
                          <a:pt x="1056" y="630"/>
                        </a:lnTo>
                        <a:lnTo>
                          <a:pt x="1019" y="604"/>
                        </a:lnTo>
                        <a:lnTo>
                          <a:pt x="936" y="531"/>
                        </a:lnTo>
                        <a:lnTo>
                          <a:pt x="723" y="329"/>
                        </a:lnTo>
                        <a:lnTo>
                          <a:pt x="609" y="219"/>
                        </a:lnTo>
                        <a:lnTo>
                          <a:pt x="495" y="125"/>
                        </a:lnTo>
                        <a:lnTo>
                          <a:pt x="442" y="84"/>
                        </a:lnTo>
                        <a:lnTo>
                          <a:pt x="390" y="47"/>
                        </a:lnTo>
                        <a:lnTo>
                          <a:pt x="343" y="21"/>
                        </a:lnTo>
                        <a:lnTo>
                          <a:pt x="302" y="0"/>
                        </a:lnTo>
                        <a:lnTo>
                          <a:pt x="562" y="234"/>
                        </a:lnTo>
                        <a:lnTo>
                          <a:pt x="759" y="417"/>
                        </a:lnTo>
                        <a:lnTo>
                          <a:pt x="837" y="494"/>
                        </a:lnTo>
                        <a:lnTo>
                          <a:pt x="889" y="552"/>
                        </a:lnTo>
                        <a:lnTo>
                          <a:pt x="775" y="531"/>
                        </a:lnTo>
                        <a:lnTo>
                          <a:pt x="515" y="479"/>
                        </a:lnTo>
                        <a:lnTo>
                          <a:pt x="365" y="459"/>
                        </a:lnTo>
                        <a:lnTo>
                          <a:pt x="218" y="437"/>
                        </a:lnTo>
                        <a:lnTo>
                          <a:pt x="94" y="427"/>
                        </a:lnTo>
                        <a:lnTo>
                          <a:pt x="41" y="427"/>
                        </a:lnTo>
                        <a:lnTo>
                          <a:pt x="0" y="42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未知"/>
                  <p:cNvSpPr/>
                  <p:nvPr/>
                </p:nvSpPr>
                <p:spPr>
                  <a:xfrm rot="8424000">
                    <a:off x="564120" y="622800"/>
                    <a:ext cx="2908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267" h="1181">
                        <a:moveTo>
                          <a:pt x="0" y="286"/>
                        </a:moveTo>
                        <a:lnTo>
                          <a:pt x="156" y="339"/>
                        </a:lnTo>
                        <a:lnTo>
                          <a:pt x="514" y="469"/>
                        </a:lnTo>
                        <a:lnTo>
                          <a:pt x="712" y="546"/>
                        </a:lnTo>
                        <a:lnTo>
                          <a:pt x="900" y="624"/>
                        </a:lnTo>
                        <a:lnTo>
                          <a:pt x="1050" y="692"/>
                        </a:lnTo>
                        <a:lnTo>
                          <a:pt x="1107" y="724"/>
                        </a:lnTo>
                        <a:lnTo>
                          <a:pt x="1149" y="749"/>
                        </a:lnTo>
                        <a:lnTo>
                          <a:pt x="1107" y="776"/>
                        </a:lnTo>
                        <a:lnTo>
                          <a:pt x="1008" y="822"/>
                        </a:lnTo>
                        <a:lnTo>
                          <a:pt x="940" y="848"/>
                        </a:lnTo>
                        <a:lnTo>
                          <a:pt x="868" y="874"/>
                        </a:lnTo>
                        <a:lnTo>
                          <a:pt x="785" y="896"/>
                        </a:lnTo>
                        <a:lnTo>
                          <a:pt x="701" y="906"/>
                        </a:lnTo>
                        <a:lnTo>
                          <a:pt x="743" y="906"/>
                        </a:lnTo>
                        <a:lnTo>
                          <a:pt x="790" y="901"/>
                        </a:lnTo>
                        <a:lnTo>
                          <a:pt x="853" y="896"/>
                        </a:lnTo>
                        <a:lnTo>
                          <a:pt x="925" y="884"/>
                        </a:lnTo>
                        <a:lnTo>
                          <a:pt x="1008" y="864"/>
                        </a:lnTo>
                        <a:lnTo>
                          <a:pt x="1092" y="833"/>
                        </a:lnTo>
                        <a:lnTo>
                          <a:pt x="1170" y="796"/>
                        </a:lnTo>
                        <a:lnTo>
                          <a:pt x="1305" y="859"/>
                        </a:lnTo>
                        <a:lnTo>
                          <a:pt x="1617" y="989"/>
                        </a:lnTo>
                        <a:lnTo>
                          <a:pt x="1794" y="1061"/>
                        </a:lnTo>
                        <a:lnTo>
                          <a:pt x="1965" y="1124"/>
                        </a:lnTo>
                        <a:lnTo>
                          <a:pt x="2043" y="1145"/>
                        </a:lnTo>
                        <a:lnTo>
                          <a:pt x="2111" y="1166"/>
                        </a:lnTo>
                        <a:lnTo>
                          <a:pt x="2168" y="1176"/>
                        </a:lnTo>
                        <a:lnTo>
                          <a:pt x="2210" y="1181"/>
                        </a:lnTo>
                        <a:lnTo>
                          <a:pt x="2267" y="1161"/>
                        </a:lnTo>
                        <a:lnTo>
                          <a:pt x="2230" y="1156"/>
                        </a:lnTo>
                        <a:lnTo>
                          <a:pt x="2142" y="1124"/>
                        </a:lnTo>
                        <a:lnTo>
                          <a:pt x="2095" y="1109"/>
                        </a:lnTo>
                        <a:lnTo>
                          <a:pt x="2048" y="1088"/>
                        </a:lnTo>
                        <a:lnTo>
                          <a:pt x="2007" y="1061"/>
                        </a:lnTo>
                        <a:lnTo>
                          <a:pt x="1981" y="1041"/>
                        </a:lnTo>
                        <a:lnTo>
                          <a:pt x="1856" y="869"/>
                        </a:lnTo>
                        <a:lnTo>
                          <a:pt x="1746" y="724"/>
                        </a:lnTo>
                        <a:lnTo>
                          <a:pt x="1617" y="552"/>
                        </a:lnTo>
                        <a:lnTo>
                          <a:pt x="1471" y="380"/>
                        </a:lnTo>
                        <a:lnTo>
                          <a:pt x="1399" y="297"/>
                        </a:lnTo>
                        <a:lnTo>
                          <a:pt x="1326" y="219"/>
                        </a:lnTo>
                        <a:lnTo>
                          <a:pt x="1252" y="151"/>
                        </a:lnTo>
                        <a:lnTo>
                          <a:pt x="1180" y="89"/>
                        </a:lnTo>
                        <a:lnTo>
                          <a:pt x="1112" y="37"/>
                        </a:lnTo>
                        <a:lnTo>
                          <a:pt x="1050" y="0"/>
                        </a:lnTo>
                        <a:lnTo>
                          <a:pt x="1149" y="94"/>
                        </a:lnTo>
                        <a:lnTo>
                          <a:pt x="1247" y="192"/>
                        </a:lnTo>
                        <a:lnTo>
                          <a:pt x="1377" y="327"/>
                        </a:lnTo>
                        <a:lnTo>
                          <a:pt x="1513" y="484"/>
                        </a:lnTo>
                        <a:lnTo>
                          <a:pt x="1653" y="651"/>
                        </a:lnTo>
                        <a:lnTo>
                          <a:pt x="1716" y="739"/>
                        </a:lnTo>
                        <a:lnTo>
                          <a:pt x="1778" y="833"/>
                        </a:lnTo>
                        <a:lnTo>
                          <a:pt x="1835" y="921"/>
                        </a:lnTo>
                        <a:lnTo>
                          <a:pt x="1888" y="1015"/>
                        </a:lnTo>
                        <a:lnTo>
                          <a:pt x="1846" y="1009"/>
                        </a:lnTo>
                        <a:lnTo>
                          <a:pt x="1794" y="994"/>
                        </a:lnTo>
                        <a:lnTo>
                          <a:pt x="1706" y="963"/>
                        </a:lnTo>
                        <a:lnTo>
                          <a:pt x="1591" y="916"/>
                        </a:lnTo>
                        <a:lnTo>
                          <a:pt x="1435" y="848"/>
                        </a:lnTo>
                        <a:lnTo>
                          <a:pt x="1242" y="749"/>
                        </a:lnTo>
                        <a:lnTo>
                          <a:pt x="1003" y="614"/>
                        </a:lnTo>
                        <a:lnTo>
                          <a:pt x="951" y="541"/>
                        </a:lnTo>
                        <a:lnTo>
                          <a:pt x="894" y="458"/>
                        </a:lnTo>
                        <a:lnTo>
                          <a:pt x="816" y="369"/>
                        </a:lnTo>
                        <a:lnTo>
                          <a:pt x="770" y="322"/>
                        </a:lnTo>
                        <a:lnTo>
                          <a:pt x="723" y="276"/>
                        </a:lnTo>
                        <a:lnTo>
                          <a:pt x="670" y="229"/>
                        </a:lnTo>
                        <a:lnTo>
                          <a:pt x="613" y="187"/>
                        </a:lnTo>
                        <a:lnTo>
                          <a:pt x="556" y="151"/>
                        </a:lnTo>
                        <a:lnTo>
                          <a:pt x="494" y="120"/>
                        </a:lnTo>
                        <a:lnTo>
                          <a:pt x="431" y="94"/>
                        </a:lnTo>
                        <a:lnTo>
                          <a:pt x="369" y="78"/>
                        </a:lnTo>
                        <a:lnTo>
                          <a:pt x="436" y="114"/>
                        </a:lnTo>
                        <a:lnTo>
                          <a:pt x="509" y="162"/>
                        </a:lnTo>
                        <a:lnTo>
                          <a:pt x="593" y="219"/>
                        </a:lnTo>
                        <a:lnTo>
                          <a:pt x="681" y="292"/>
                        </a:lnTo>
                        <a:lnTo>
                          <a:pt x="775" y="374"/>
                        </a:lnTo>
                        <a:lnTo>
                          <a:pt x="816" y="422"/>
                        </a:lnTo>
                        <a:lnTo>
                          <a:pt x="853" y="469"/>
                        </a:lnTo>
                        <a:lnTo>
                          <a:pt x="889" y="515"/>
                        </a:lnTo>
                        <a:lnTo>
                          <a:pt x="915" y="567"/>
                        </a:lnTo>
                        <a:lnTo>
                          <a:pt x="800" y="526"/>
                        </a:lnTo>
                        <a:lnTo>
                          <a:pt x="525" y="432"/>
                        </a:lnTo>
                        <a:lnTo>
                          <a:pt x="369" y="380"/>
                        </a:lnTo>
                        <a:lnTo>
                          <a:pt x="224" y="339"/>
                        </a:lnTo>
                        <a:lnTo>
                          <a:pt x="94" y="302"/>
                        </a:lnTo>
                        <a:lnTo>
                          <a:pt x="0" y="28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" name="未知"/>
                  <p:cNvSpPr/>
                  <p:nvPr/>
                </p:nvSpPr>
                <p:spPr>
                  <a:xfrm rot="8424000">
                    <a:off x="702720" y="465840"/>
                    <a:ext cx="1209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946" h="155">
                        <a:moveTo>
                          <a:pt x="0" y="30"/>
                        </a:moveTo>
                        <a:lnTo>
                          <a:pt x="103" y="30"/>
                        </a:lnTo>
                        <a:lnTo>
                          <a:pt x="213" y="30"/>
                        </a:lnTo>
                        <a:lnTo>
                          <a:pt x="343" y="42"/>
                        </a:lnTo>
                        <a:lnTo>
                          <a:pt x="488" y="52"/>
                        </a:lnTo>
                        <a:lnTo>
                          <a:pt x="634" y="78"/>
                        </a:lnTo>
                        <a:lnTo>
                          <a:pt x="702" y="93"/>
                        </a:lnTo>
                        <a:lnTo>
                          <a:pt x="764" y="109"/>
                        </a:lnTo>
                        <a:lnTo>
                          <a:pt x="826" y="130"/>
                        </a:lnTo>
                        <a:lnTo>
                          <a:pt x="879" y="155"/>
                        </a:lnTo>
                        <a:lnTo>
                          <a:pt x="946" y="135"/>
                        </a:lnTo>
                        <a:lnTo>
                          <a:pt x="857" y="104"/>
                        </a:lnTo>
                        <a:lnTo>
                          <a:pt x="764" y="72"/>
                        </a:lnTo>
                        <a:lnTo>
                          <a:pt x="634" y="42"/>
                        </a:lnTo>
                        <a:lnTo>
                          <a:pt x="488" y="15"/>
                        </a:lnTo>
                        <a:lnTo>
                          <a:pt x="410" y="5"/>
                        </a:lnTo>
                        <a:lnTo>
                          <a:pt x="332" y="0"/>
                        </a:lnTo>
                        <a:lnTo>
                          <a:pt x="250" y="0"/>
                        </a:lnTo>
                        <a:lnTo>
                          <a:pt x="166" y="5"/>
                        </a:lnTo>
                        <a:lnTo>
                          <a:pt x="83" y="15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未知"/>
                  <p:cNvSpPr/>
                  <p:nvPr/>
                </p:nvSpPr>
                <p:spPr>
                  <a:xfrm rot="8424000">
                    <a:off x="758880" y="415080"/>
                    <a:ext cx="63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99" h="53">
                        <a:moveTo>
                          <a:pt x="0" y="47"/>
                        </a:moveTo>
                        <a:lnTo>
                          <a:pt x="53" y="36"/>
                        </a:lnTo>
                        <a:lnTo>
                          <a:pt x="110" y="31"/>
                        </a:lnTo>
                        <a:lnTo>
                          <a:pt x="172" y="21"/>
                        </a:lnTo>
                        <a:lnTo>
                          <a:pt x="245" y="16"/>
                        </a:lnTo>
                        <a:lnTo>
                          <a:pt x="323" y="21"/>
                        </a:lnTo>
                        <a:lnTo>
                          <a:pt x="385" y="31"/>
                        </a:lnTo>
                        <a:lnTo>
                          <a:pt x="417" y="42"/>
                        </a:lnTo>
                        <a:lnTo>
                          <a:pt x="442" y="53"/>
                        </a:lnTo>
                        <a:lnTo>
                          <a:pt x="499" y="36"/>
                        </a:lnTo>
                        <a:lnTo>
                          <a:pt x="474" y="21"/>
                        </a:lnTo>
                        <a:lnTo>
                          <a:pt x="432" y="11"/>
                        </a:lnTo>
                        <a:lnTo>
                          <a:pt x="380" y="5"/>
                        </a:lnTo>
                        <a:lnTo>
                          <a:pt x="312" y="0"/>
                        </a:lnTo>
                        <a:lnTo>
                          <a:pt x="224" y="5"/>
                        </a:lnTo>
                        <a:lnTo>
                          <a:pt x="120" y="21"/>
                        </a:lnTo>
                        <a:lnTo>
                          <a:pt x="0" y="4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未知"/>
                  <p:cNvSpPr/>
                  <p:nvPr/>
                </p:nvSpPr>
                <p:spPr>
                  <a:xfrm rot="8424000">
                    <a:off x="741600" y="403560"/>
                    <a:ext cx="4644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411">
                        <a:moveTo>
                          <a:pt x="0" y="411"/>
                        </a:moveTo>
                        <a:lnTo>
                          <a:pt x="57" y="370"/>
                        </a:lnTo>
                        <a:lnTo>
                          <a:pt x="119" y="323"/>
                        </a:lnTo>
                        <a:lnTo>
                          <a:pt x="187" y="271"/>
                        </a:lnTo>
                        <a:lnTo>
                          <a:pt x="254" y="203"/>
                        </a:lnTo>
                        <a:lnTo>
                          <a:pt x="286" y="172"/>
                        </a:lnTo>
                        <a:lnTo>
                          <a:pt x="312" y="135"/>
                        </a:lnTo>
                        <a:lnTo>
                          <a:pt x="332" y="99"/>
                        </a:lnTo>
                        <a:lnTo>
                          <a:pt x="348" y="63"/>
                        </a:lnTo>
                        <a:lnTo>
                          <a:pt x="359" y="31"/>
                        </a:lnTo>
                        <a:lnTo>
                          <a:pt x="359" y="0"/>
                        </a:lnTo>
                        <a:lnTo>
                          <a:pt x="296" y="26"/>
                        </a:lnTo>
                        <a:lnTo>
                          <a:pt x="296" y="31"/>
                        </a:lnTo>
                        <a:lnTo>
                          <a:pt x="301" y="42"/>
                        </a:lnTo>
                        <a:lnTo>
                          <a:pt x="301" y="63"/>
                        </a:lnTo>
                        <a:lnTo>
                          <a:pt x="291" y="99"/>
                        </a:lnTo>
                        <a:lnTo>
                          <a:pt x="264" y="146"/>
                        </a:lnTo>
                        <a:lnTo>
                          <a:pt x="207" y="213"/>
                        </a:lnTo>
                        <a:lnTo>
                          <a:pt x="124" y="302"/>
                        </a:lnTo>
                        <a:lnTo>
                          <a:pt x="0" y="41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未知"/>
                  <p:cNvSpPr/>
                  <p:nvPr/>
                </p:nvSpPr>
                <p:spPr>
                  <a:xfrm rot="8424000">
                    <a:off x="685080" y="426600"/>
                    <a:ext cx="806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629" h="776">
                        <a:moveTo>
                          <a:pt x="0" y="776"/>
                        </a:moveTo>
                        <a:lnTo>
                          <a:pt x="93" y="697"/>
                        </a:lnTo>
                        <a:lnTo>
                          <a:pt x="192" y="609"/>
                        </a:lnTo>
                        <a:lnTo>
                          <a:pt x="302" y="500"/>
                        </a:lnTo>
                        <a:lnTo>
                          <a:pt x="353" y="442"/>
                        </a:lnTo>
                        <a:lnTo>
                          <a:pt x="405" y="380"/>
                        </a:lnTo>
                        <a:lnTo>
                          <a:pt x="452" y="317"/>
                        </a:lnTo>
                        <a:lnTo>
                          <a:pt x="494" y="255"/>
                        </a:lnTo>
                        <a:lnTo>
                          <a:pt x="530" y="192"/>
                        </a:lnTo>
                        <a:lnTo>
                          <a:pt x="551" y="130"/>
                        </a:lnTo>
                        <a:lnTo>
                          <a:pt x="567" y="73"/>
                        </a:lnTo>
                        <a:lnTo>
                          <a:pt x="567" y="47"/>
                        </a:lnTo>
                        <a:lnTo>
                          <a:pt x="562" y="20"/>
                        </a:lnTo>
                        <a:lnTo>
                          <a:pt x="629" y="0"/>
                        </a:lnTo>
                        <a:lnTo>
                          <a:pt x="624" y="20"/>
                        </a:lnTo>
                        <a:lnTo>
                          <a:pt x="603" y="83"/>
                        </a:lnTo>
                        <a:lnTo>
                          <a:pt x="567" y="172"/>
                        </a:lnTo>
                        <a:lnTo>
                          <a:pt x="540" y="229"/>
                        </a:lnTo>
                        <a:lnTo>
                          <a:pt x="509" y="287"/>
                        </a:lnTo>
                        <a:lnTo>
                          <a:pt x="473" y="344"/>
                        </a:lnTo>
                        <a:lnTo>
                          <a:pt x="427" y="411"/>
                        </a:lnTo>
                        <a:lnTo>
                          <a:pt x="374" y="474"/>
                        </a:lnTo>
                        <a:lnTo>
                          <a:pt x="317" y="536"/>
                        </a:lnTo>
                        <a:lnTo>
                          <a:pt x="250" y="604"/>
                        </a:lnTo>
                        <a:lnTo>
                          <a:pt x="177" y="666"/>
                        </a:lnTo>
                        <a:lnTo>
                          <a:pt x="93" y="724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未知"/>
                  <p:cNvSpPr/>
                  <p:nvPr/>
                </p:nvSpPr>
                <p:spPr>
                  <a:xfrm rot="8424000">
                    <a:off x="602640" y="459000"/>
                    <a:ext cx="129240" cy="10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1358">
                        <a:moveTo>
                          <a:pt x="0" y="1358"/>
                        </a:moveTo>
                        <a:lnTo>
                          <a:pt x="145" y="1187"/>
                        </a:lnTo>
                        <a:lnTo>
                          <a:pt x="296" y="1010"/>
                        </a:lnTo>
                        <a:lnTo>
                          <a:pt x="472" y="791"/>
                        </a:lnTo>
                        <a:lnTo>
                          <a:pt x="649" y="562"/>
                        </a:lnTo>
                        <a:lnTo>
                          <a:pt x="728" y="448"/>
                        </a:lnTo>
                        <a:lnTo>
                          <a:pt x="801" y="339"/>
                        </a:lnTo>
                        <a:lnTo>
                          <a:pt x="863" y="234"/>
                        </a:lnTo>
                        <a:lnTo>
                          <a:pt x="915" y="146"/>
                        </a:lnTo>
                        <a:lnTo>
                          <a:pt x="946" y="62"/>
                        </a:lnTo>
                        <a:lnTo>
                          <a:pt x="956" y="31"/>
                        </a:lnTo>
                        <a:lnTo>
                          <a:pt x="961" y="0"/>
                        </a:lnTo>
                        <a:lnTo>
                          <a:pt x="1003" y="10"/>
                        </a:lnTo>
                        <a:lnTo>
                          <a:pt x="998" y="26"/>
                        </a:lnTo>
                        <a:lnTo>
                          <a:pt x="978" y="84"/>
                        </a:lnTo>
                        <a:lnTo>
                          <a:pt x="936" y="182"/>
                        </a:lnTo>
                        <a:lnTo>
                          <a:pt x="899" y="249"/>
                        </a:lnTo>
                        <a:lnTo>
                          <a:pt x="858" y="328"/>
                        </a:lnTo>
                        <a:lnTo>
                          <a:pt x="801" y="411"/>
                        </a:lnTo>
                        <a:lnTo>
                          <a:pt x="733" y="511"/>
                        </a:lnTo>
                        <a:lnTo>
                          <a:pt x="649" y="624"/>
                        </a:lnTo>
                        <a:lnTo>
                          <a:pt x="556" y="744"/>
                        </a:lnTo>
                        <a:lnTo>
                          <a:pt x="442" y="880"/>
                        </a:lnTo>
                        <a:lnTo>
                          <a:pt x="312" y="1025"/>
                        </a:lnTo>
                        <a:lnTo>
                          <a:pt x="166" y="1187"/>
                        </a:lnTo>
                        <a:lnTo>
                          <a:pt x="0" y="1358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未知"/>
                  <p:cNvSpPr/>
                  <p:nvPr/>
                </p:nvSpPr>
                <p:spPr>
                  <a:xfrm rot="8424000">
                    <a:off x="533160" y="491760"/>
                    <a:ext cx="13932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81" h="1995">
                        <a:moveTo>
                          <a:pt x="0" y="1995"/>
                        </a:moveTo>
                        <a:lnTo>
                          <a:pt x="167" y="1745"/>
                        </a:lnTo>
                        <a:lnTo>
                          <a:pt x="332" y="1485"/>
                        </a:lnTo>
                        <a:lnTo>
                          <a:pt x="531" y="1166"/>
                        </a:lnTo>
                        <a:lnTo>
                          <a:pt x="624" y="1001"/>
                        </a:lnTo>
                        <a:lnTo>
                          <a:pt x="723" y="834"/>
                        </a:lnTo>
                        <a:lnTo>
                          <a:pt x="806" y="667"/>
                        </a:lnTo>
                        <a:lnTo>
                          <a:pt x="884" y="511"/>
                        </a:lnTo>
                        <a:lnTo>
                          <a:pt x="946" y="365"/>
                        </a:lnTo>
                        <a:lnTo>
                          <a:pt x="998" y="230"/>
                        </a:lnTo>
                        <a:lnTo>
                          <a:pt x="1013" y="172"/>
                        </a:lnTo>
                        <a:lnTo>
                          <a:pt x="1025" y="115"/>
                        </a:lnTo>
                        <a:lnTo>
                          <a:pt x="1030" y="69"/>
                        </a:lnTo>
                        <a:lnTo>
                          <a:pt x="1030" y="27"/>
                        </a:lnTo>
                        <a:lnTo>
                          <a:pt x="1081" y="0"/>
                        </a:lnTo>
                        <a:lnTo>
                          <a:pt x="1081" y="22"/>
                        </a:lnTo>
                        <a:lnTo>
                          <a:pt x="1066" y="100"/>
                        </a:lnTo>
                        <a:lnTo>
                          <a:pt x="1050" y="157"/>
                        </a:lnTo>
                        <a:lnTo>
                          <a:pt x="1030" y="235"/>
                        </a:lnTo>
                        <a:lnTo>
                          <a:pt x="998" y="324"/>
                        </a:lnTo>
                        <a:lnTo>
                          <a:pt x="951" y="433"/>
                        </a:lnTo>
                        <a:lnTo>
                          <a:pt x="894" y="558"/>
                        </a:lnTo>
                        <a:lnTo>
                          <a:pt x="821" y="704"/>
                        </a:lnTo>
                        <a:lnTo>
                          <a:pt x="733" y="864"/>
                        </a:lnTo>
                        <a:lnTo>
                          <a:pt x="629" y="1047"/>
                        </a:lnTo>
                        <a:lnTo>
                          <a:pt x="504" y="1250"/>
                        </a:lnTo>
                        <a:lnTo>
                          <a:pt x="359" y="1474"/>
                        </a:lnTo>
                        <a:lnTo>
                          <a:pt x="192" y="1723"/>
                        </a:lnTo>
                        <a:lnTo>
                          <a:pt x="0" y="199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未知"/>
                  <p:cNvSpPr/>
                  <p:nvPr/>
                </p:nvSpPr>
                <p:spPr>
                  <a:xfrm rot="8424000">
                    <a:off x="565920" y="497520"/>
                    <a:ext cx="151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797">
                        <a:moveTo>
                          <a:pt x="0" y="797"/>
                        </a:moveTo>
                        <a:lnTo>
                          <a:pt x="31" y="708"/>
                        </a:lnTo>
                        <a:lnTo>
                          <a:pt x="57" y="608"/>
                        </a:lnTo>
                        <a:lnTo>
                          <a:pt x="77" y="495"/>
                        </a:lnTo>
                        <a:lnTo>
                          <a:pt x="89" y="432"/>
                        </a:lnTo>
                        <a:lnTo>
                          <a:pt x="94" y="370"/>
                        </a:lnTo>
                        <a:lnTo>
                          <a:pt x="99" y="307"/>
                        </a:lnTo>
                        <a:lnTo>
                          <a:pt x="94" y="250"/>
                        </a:lnTo>
                        <a:lnTo>
                          <a:pt x="89" y="193"/>
                        </a:lnTo>
                        <a:lnTo>
                          <a:pt x="72" y="140"/>
                        </a:lnTo>
                        <a:lnTo>
                          <a:pt x="52" y="93"/>
                        </a:lnTo>
                        <a:lnTo>
                          <a:pt x="20" y="51"/>
                        </a:lnTo>
                        <a:lnTo>
                          <a:pt x="57" y="0"/>
                        </a:lnTo>
                        <a:lnTo>
                          <a:pt x="67" y="16"/>
                        </a:lnTo>
                        <a:lnTo>
                          <a:pt x="83" y="51"/>
                        </a:lnTo>
                        <a:lnTo>
                          <a:pt x="104" y="114"/>
                        </a:lnTo>
                        <a:lnTo>
                          <a:pt x="114" y="156"/>
                        </a:lnTo>
                        <a:lnTo>
                          <a:pt x="119" y="203"/>
                        </a:lnTo>
                        <a:lnTo>
                          <a:pt x="125" y="260"/>
                        </a:lnTo>
                        <a:lnTo>
                          <a:pt x="125" y="318"/>
                        </a:lnTo>
                        <a:lnTo>
                          <a:pt x="125" y="385"/>
                        </a:lnTo>
                        <a:lnTo>
                          <a:pt x="114" y="453"/>
                        </a:lnTo>
                        <a:lnTo>
                          <a:pt x="99" y="531"/>
                        </a:lnTo>
                        <a:lnTo>
                          <a:pt x="72" y="614"/>
                        </a:lnTo>
                        <a:lnTo>
                          <a:pt x="42" y="703"/>
                        </a:lnTo>
                        <a:lnTo>
                          <a:pt x="0" y="79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未知"/>
                  <p:cNvSpPr/>
                  <p:nvPr/>
                </p:nvSpPr>
                <p:spPr>
                  <a:xfrm rot="8424000">
                    <a:off x="489960" y="533520"/>
                    <a:ext cx="96120" cy="193680"/>
                  </a:xfrm>
                  <a:custGeom>
                    <a:avLst/>
                    <a:gdLst/>
                    <a:ahLst/>
                    <a:rect l="l" t="t" r="r" b="b"/>
                    <a:pathLst>
                      <a:path w="749" h="2451">
                        <a:moveTo>
                          <a:pt x="0" y="2451"/>
                        </a:moveTo>
                        <a:lnTo>
                          <a:pt x="57" y="2306"/>
                        </a:lnTo>
                        <a:lnTo>
                          <a:pt x="192" y="1957"/>
                        </a:lnTo>
                        <a:lnTo>
                          <a:pt x="270" y="1734"/>
                        </a:lnTo>
                        <a:lnTo>
                          <a:pt x="348" y="1509"/>
                        </a:lnTo>
                        <a:lnTo>
                          <a:pt x="416" y="1285"/>
                        </a:lnTo>
                        <a:lnTo>
                          <a:pt x="442" y="1182"/>
                        </a:lnTo>
                        <a:lnTo>
                          <a:pt x="462" y="1082"/>
                        </a:lnTo>
                        <a:lnTo>
                          <a:pt x="499" y="895"/>
                        </a:lnTo>
                        <a:lnTo>
                          <a:pt x="530" y="713"/>
                        </a:lnTo>
                        <a:lnTo>
                          <a:pt x="587" y="385"/>
                        </a:lnTo>
                        <a:lnTo>
                          <a:pt x="614" y="250"/>
                        </a:lnTo>
                        <a:lnTo>
                          <a:pt x="634" y="141"/>
                        </a:lnTo>
                        <a:lnTo>
                          <a:pt x="660" y="63"/>
                        </a:lnTo>
                        <a:lnTo>
                          <a:pt x="671" y="36"/>
                        </a:lnTo>
                        <a:lnTo>
                          <a:pt x="681" y="16"/>
                        </a:lnTo>
                        <a:lnTo>
                          <a:pt x="749" y="0"/>
                        </a:lnTo>
                        <a:lnTo>
                          <a:pt x="722" y="109"/>
                        </a:lnTo>
                        <a:lnTo>
                          <a:pt x="655" y="365"/>
                        </a:lnTo>
                        <a:lnTo>
                          <a:pt x="582" y="666"/>
                        </a:lnTo>
                        <a:lnTo>
                          <a:pt x="556" y="807"/>
                        </a:lnTo>
                        <a:lnTo>
                          <a:pt x="540" y="910"/>
                        </a:lnTo>
                        <a:lnTo>
                          <a:pt x="535" y="958"/>
                        </a:lnTo>
                        <a:lnTo>
                          <a:pt x="540" y="1015"/>
                        </a:lnTo>
                        <a:lnTo>
                          <a:pt x="556" y="1130"/>
                        </a:lnTo>
                        <a:lnTo>
                          <a:pt x="582" y="1265"/>
                        </a:lnTo>
                        <a:lnTo>
                          <a:pt x="614" y="1400"/>
                        </a:lnTo>
                        <a:lnTo>
                          <a:pt x="639" y="1535"/>
                        </a:lnTo>
                        <a:lnTo>
                          <a:pt x="660" y="1666"/>
                        </a:lnTo>
                        <a:lnTo>
                          <a:pt x="660" y="1728"/>
                        </a:lnTo>
                        <a:lnTo>
                          <a:pt x="660" y="1786"/>
                        </a:lnTo>
                        <a:lnTo>
                          <a:pt x="649" y="1837"/>
                        </a:lnTo>
                        <a:lnTo>
                          <a:pt x="639" y="1879"/>
                        </a:lnTo>
                        <a:lnTo>
                          <a:pt x="639" y="1811"/>
                        </a:lnTo>
                        <a:lnTo>
                          <a:pt x="634" y="1734"/>
                        </a:lnTo>
                        <a:lnTo>
                          <a:pt x="629" y="1639"/>
                        </a:lnTo>
                        <a:lnTo>
                          <a:pt x="614" y="1525"/>
                        </a:lnTo>
                        <a:lnTo>
                          <a:pt x="592" y="1400"/>
                        </a:lnTo>
                        <a:lnTo>
                          <a:pt x="561" y="1275"/>
                        </a:lnTo>
                        <a:lnTo>
                          <a:pt x="540" y="1212"/>
                        </a:lnTo>
                        <a:lnTo>
                          <a:pt x="514" y="1150"/>
                        </a:lnTo>
                        <a:lnTo>
                          <a:pt x="462" y="1317"/>
                        </a:lnTo>
                        <a:lnTo>
                          <a:pt x="405" y="1494"/>
                        </a:lnTo>
                        <a:lnTo>
                          <a:pt x="332" y="1702"/>
                        </a:lnTo>
                        <a:lnTo>
                          <a:pt x="249" y="1926"/>
                        </a:lnTo>
                        <a:lnTo>
                          <a:pt x="160" y="2139"/>
                        </a:lnTo>
                        <a:lnTo>
                          <a:pt x="120" y="2233"/>
                        </a:lnTo>
                        <a:lnTo>
                          <a:pt x="78" y="2321"/>
                        </a:lnTo>
                        <a:lnTo>
                          <a:pt x="36" y="2394"/>
                        </a:lnTo>
                        <a:lnTo>
                          <a:pt x="0" y="245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未知"/>
                  <p:cNvSpPr/>
                  <p:nvPr/>
                </p:nvSpPr>
                <p:spPr>
                  <a:xfrm rot="8424000">
                    <a:off x="574560" y="552240"/>
                    <a:ext cx="7092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57" h="380">
                        <a:moveTo>
                          <a:pt x="0" y="380"/>
                        </a:moveTo>
                        <a:lnTo>
                          <a:pt x="53" y="333"/>
                        </a:lnTo>
                        <a:lnTo>
                          <a:pt x="115" y="287"/>
                        </a:lnTo>
                        <a:lnTo>
                          <a:pt x="188" y="229"/>
                        </a:lnTo>
                        <a:lnTo>
                          <a:pt x="272" y="172"/>
                        </a:lnTo>
                        <a:lnTo>
                          <a:pt x="360" y="125"/>
                        </a:lnTo>
                        <a:lnTo>
                          <a:pt x="407" y="98"/>
                        </a:lnTo>
                        <a:lnTo>
                          <a:pt x="454" y="83"/>
                        </a:lnTo>
                        <a:lnTo>
                          <a:pt x="495" y="68"/>
                        </a:lnTo>
                        <a:lnTo>
                          <a:pt x="536" y="57"/>
                        </a:lnTo>
                        <a:lnTo>
                          <a:pt x="557" y="0"/>
                        </a:lnTo>
                        <a:lnTo>
                          <a:pt x="506" y="21"/>
                        </a:lnTo>
                        <a:lnTo>
                          <a:pt x="442" y="47"/>
                        </a:lnTo>
                        <a:lnTo>
                          <a:pt x="365" y="83"/>
                        </a:lnTo>
                        <a:lnTo>
                          <a:pt x="277" y="135"/>
                        </a:lnTo>
                        <a:lnTo>
                          <a:pt x="183" y="203"/>
                        </a:lnTo>
                        <a:lnTo>
                          <a:pt x="137" y="240"/>
                        </a:lnTo>
                        <a:lnTo>
                          <a:pt x="89" y="281"/>
                        </a:lnTo>
                        <a:lnTo>
                          <a:pt x="42" y="328"/>
                        </a:lnTo>
                        <a:lnTo>
                          <a:pt x="0" y="38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未知"/>
                  <p:cNvSpPr/>
                  <p:nvPr/>
                </p:nvSpPr>
                <p:spPr>
                  <a:xfrm rot="8424000">
                    <a:off x="641160" y="452160"/>
                    <a:ext cx="3420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635">
                        <a:moveTo>
                          <a:pt x="0" y="635"/>
                        </a:moveTo>
                        <a:lnTo>
                          <a:pt x="41" y="577"/>
                        </a:lnTo>
                        <a:lnTo>
                          <a:pt x="83" y="521"/>
                        </a:lnTo>
                        <a:lnTo>
                          <a:pt x="125" y="447"/>
                        </a:lnTo>
                        <a:lnTo>
                          <a:pt x="166" y="359"/>
                        </a:lnTo>
                        <a:lnTo>
                          <a:pt x="187" y="312"/>
                        </a:lnTo>
                        <a:lnTo>
                          <a:pt x="198" y="260"/>
                        </a:lnTo>
                        <a:lnTo>
                          <a:pt x="208" y="214"/>
                        </a:lnTo>
                        <a:lnTo>
                          <a:pt x="218" y="162"/>
                        </a:lnTo>
                        <a:lnTo>
                          <a:pt x="218" y="115"/>
                        </a:lnTo>
                        <a:lnTo>
                          <a:pt x="208" y="68"/>
                        </a:lnTo>
                        <a:lnTo>
                          <a:pt x="260" y="0"/>
                        </a:lnTo>
                        <a:lnTo>
                          <a:pt x="265" y="57"/>
                        </a:lnTo>
                        <a:lnTo>
                          <a:pt x="260" y="120"/>
                        </a:lnTo>
                        <a:lnTo>
                          <a:pt x="250" y="203"/>
                        </a:lnTo>
                        <a:lnTo>
                          <a:pt x="233" y="255"/>
                        </a:lnTo>
                        <a:lnTo>
                          <a:pt x="218" y="302"/>
                        </a:lnTo>
                        <a:lnTo>
                          <a:pt x="198" y="354"/>
                        </a:lnTo>
                        <a:lnTo>
                          <a:pt x="171" y="412"/>
                        </a:lnTo>
                        <a:lnTo>
                          <a:pt x="140" y="464"/>
                        </a:lnTo>
                        <a:lnTo>
                          <a:pt x="98" y="521"/>
                        </a:lnTo>
                        <a:lnTo>
                          <a:pt x="51" y="577"/>
                        </a:lnTo>
                        <a:lnTo>
                          <a:pt x="0" y="63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未知"/>
                  <p:cNvSpPr/>
                  <p:nvPr/>
                </p:nvSpPr>
                <p:spPr>
                  <a:xfrm rot="8424000">
                    <a:off x="721440" y="506880"/>
                    <a:ext cx="7488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583" h="130">
                        <a:moveTo>
                          <a:pt x="0" y="104"/>
                        </a:moveTo>
                        <a:lnTo>
                          <a:pt x="62" y="114"/>
                        </a:lnTo>
                        <a:lnTo>
                          <a:pt x="125" y="114"/>
                        </a:lnTo>
                        <a:lnTo>
                          <a:pt x="209" y="114"/>
                        </a:lnTo>
                        <a:lnTo>
                          <a:pt x="297" y="104"/>
                        </a:lnTo>
                        <a:lnTo>
                          <a:pt x="339" y="94"/>
                        </a:lnTo>
                        <a:lnTo>
                          <a:pt x="385" y="84"/>
                        </a:lnTo>
                        <a:lnTo>
                          <a:pt x="427" y="67"/>
                        </a:lnTo>
                        <a:lnTo>
                          <a:pt x="469" y="52"/>
                        </a:lnTo>
                        <a:lnTo>
                          <a:pt x="504" y="26"/>
                        </a:lnTo>
                        <a:lnTo>
                          <a:pt x="536" y="0"/>
                        </a:lnTo>
                        <a:lnTo>
                          <a:pt x="583" y="16"/>
                        </a:lnTo>
                        <a:lnTo>
                          <a:pt x="546" y="42"/>
                        </a:lnTo>
                        <a:lnTo>
                          <a:pt x="499" y="67"/>
                        </a:lnTo>
                        <a:lnTo>
                          <a:pt x="437" y="94"/>
                        </a:lnTo>
                        <a:lnTo>
                          <a:pt x="354" y="114"/>
                        </a:lnTo>
                        <a:lnTo>
                          <a:pt x="307" y="125"/>
                        </a:lnTo>
                        <a:lnTo>
                          <a:pt x="255" y="130"/>
                        </a:lnTo>
                        <a:lnTo>
                          <a:pt x="197" y="130"/>
                        </a:lnTo>
                        <a:lnTo>
                          <a:pt x="135" y="125"/>
                        </a:lnTo>
                        <a:lnTo>
                          <a:pt x="68" y="120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未知"/>
                  <p:cNvSpPr/>
                  <p:nvPr/>
                </p:nvSpPr>
                <p:spPr>
                  <a:xfrm rot="8424000">
                    <a:off x="764640" y="502560"/>
                    <a:ext cx="4644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240">
                        <a:moveTo>
                          <a:pt x="0" y="0"/>
                        </a:moveTo>
                        <a:lnTo>
                          <a:pt x="36" y="21"/>
                        </a:lnTo>
                        <a:lnTo>
                          <a:pt x="124" y="73"/>
                        </a:lnTo>
                        <a:lnTo>
                          <a:pt x="177" y="105"/>
                        </a:lnTo>
                        <a:lnTo>
                          <a:pt x="229" y="146"/>
                        </a:lnTo>
                        <a:lnTo>
                          <a:pt x="276" y="188"/>
                        </a:lnTo>
                        <a:lnTo>
                          <a:pt x="312" y="235"/>
                        </a:lnTo>
                        <a:lnTo>
                          <a:pt x="359" y="240"/>
                        </a:lnTo>
                        <a:lnTo>
                          <a:pt x="338" y="213"/>
                        </a:lnTo>
                        <a:lnTo>
                          <a:pt x="312" y="188"/>
                        </a:lnTo>
                        <a:lnTo>
                          <a:pt x="276" y="151"/>
                        </a:lnTo>
                        <a:lnTo>
                          <a:pt x="224" y="115"/>
                        </a:lnTo>
                        <a:lnTo>
                          <a:pt x="166" y="73"/>
                        </a:lnTo>
                        <a:lnTo>
                          <a:pt x="89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未知"/>
                  <p:cNvSpPr/>
                  <p:nvPr/>
                </p:nvSpPr>
                <p:spPr>
                  <a:xfrm rot="8424000">
                    <a:off x="615600" y="516240"/>
                    <a:ext cx="151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146">
                        <a:moveTo>
                          <a:pt x="47" y="146"/>
                        </a:moveTo>
                        <a:lnTo>
                          <a:pt x="57" y="146"/>
                        </a:lnTo>
                        <a:lnTo>
                          <a:pt x="93" y="141"/>
                        </a:lnTo>
                        <a:lnTo>
                          <a:pt x="109" y="130"/>
                        </a:lnTo>
                        <a:lnTo>
                          <a:pt x="119" y="120"/>
                        </a:lnTo>
                        <a:lnTo>
                          <a:pt x="124" y="104"/>
                        </a:lnTo>
                        <a:lnTo>
                          <a:pt x="124" y="84"/>
                        </a:lnTo>
                        <a:lnTo>
                          <a:pt x="114" y="57"/>
                        </a:lnTo>
                        <a:lnTo>
                          <a:pt x="104" y="37"/>
                        </a:lnTo>
                        <a:lnTo>
                          <a:pt x="87" y="21"/>
                        </a:lnTo>
                        <a:lnTo>
                          <a:pt x="72" y="5"/>
                        </a:lnTo>
                        <a:lnTo>
                          <a:pt x="57" y="0"/>
                        </a:lnTo>
                        <a:lnTo>
                          <a:pt x="41" y="0"/>
                        </a:lnTo>
                        <a:lnTo>
                          <a:pt x="25" y="11"/>
                        </a:lnTo>
                        <a:lnTo>
                          <a:pt x="10" y="32"/>
                        </a:lnTo>
                        <a:lnTo>
                          <a:pt x="0" y="57"/>
                        </a:lnTo>
                        <a:lnTo>
                          <a:pt x="0" y="79"/>
                        </a:lnTo>
                        <a:lnTo>
                          <a:pt x="5" y="99"/>
                        </a:lnTo>
                        <a:lnTo>
                          <a:pt x="15" y="115"/>
                        </a:lnTo>
                        <a:lnTo>
                          <a:pt x="36" y="141"/>
                        </a:lnTo>
                        <a:lnTo>
                          <a:pt x="47" y="146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未知"/>
                  <p:cNvSpPr/>
                  <p:nvPr/>
                </p:nvSpPr>
                <p:spPr>
                  <a:xfrm rot="8424000">
                    <a:off x="762120" y="550800"/>
                    <a:ext cx="136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78">
                        <a:moveTo>
                          <a:pt x="0" y="57"/>
                        </a:moveTo>
                        <a:lnTo>
                          <a:pt x="15" y="62"/>
                        </a:lnTo>
                        <a:lnTo>
                          <a:pt x="46" y="73"/>
                        </a:lnTo>
                        <a:lnTo>
                          <a:pt x="62" y="78"/>
                        </a:lnTo>
                        <a:lnTo>
                          <a:pt x="78" y="78"/>
                        </a:lnTo>
                        <a:lnTo>
                          <a:pt x="93" y="67"/>
                        </a:lnTo>
                        <a:lnTo>
                          <a:pt x="98" y="57"/>
                        </a:lnTo>
                        <a:lnTo>
                          <a:pt x="98" y="41"/>
                        </a:lnTo>
                        <a:lnTo>
                          <a:pt x="88" y="25"/>
                        </a:lnTo>
                        <a:lnTo>
                          <a:pt x="73" y="20"/>
                        </a:lnTo>
                        <a:lnTo>
                          <a:pt x="56" y="10"/>
                        </a:lnTo>
                        <a:lnTo>
                          <a:pt x="15" y="5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未知"/>
                  <p:cNvSpPr/>
                  <p:nvPr/>
                </p:nvSpPr>
                <p:spPr>
                  <a:xfrm rot="8424000">
                    <a:off x="748080" y="613800"/>
                    <a:ext cx="15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125">
                        <a:moveTo>
                          <a:pt x="0" y="58"/>
                        </a:moveTo>
                        <a:lnTo>
                          <a:pt x="5" y="73"/>
                        </a:lnTo>
                        <a:lnTo>
                          <a:pt x="25" y="105"/>
                        </a:lnTo>
                        <a:lnTo>
                          <a:pt x="42" y="115"/>
                        </a:lnTo>
                        <a:lnTo>
                          <a:pt x="57" y="125"/>
                        </a:lnTo>
                        <a:lnTo>
                          <a:pt x="77" y="125"/>
                        </a:lnTo>
                        <a:lnTo>
                          <a:pt x="98" y="115"/>
                        </a:lnTo>
                        <a:lnTo>
                          <a:pt x="114" y="94"/>
                        </a:lnTo>
                        <a:lnTo>
                          <a:pt x="119" y="78"/>
                        </a:lnTo>
                        <a:lnTo>
                          <a:pt x="119" y="58"/>
                        </a:lnTo>
                        <a:lnTo>
                          <a:pt x="114" y="42"/>
                        </a:lnTo>
                        <a:lnTo>
                          <a:pt x="98" y="26"/>
                        </a:lnTo>
                        <a:lnTo>
                          <a:pt x="82" y="11"/>
                        </a:lnTo>
                        <a:lnTo>
                          <a:pt x="67" y="5"/>
                        </a:lnTo>
                        <a:lnTo>
                          <a:pt x="52" y="0"/>
                        </a:lnTo>
                        <a:lnTo>
                          <a:pt x="35" y="0"/>
                        </a:lnTo>
                        <a:lnTo>
                          <a:pt x="25" y="11"/>
                        </a:lnTo>
                        <a:lnTo>
                          <a:pt x="10" y="31"/>
                        </a:lnTo>
                        <a:lnTo>
                          <a:pt x="0" y="47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未知"/>
                  <p:cNvSpPr/>
                  <p:nvPr/>
                </p:nvSpPr>
                <p:spPr>
                  <a:xfrm rot="8424000">
                    <a:off x="809640" y="450000"/>
                    <a:ext cx="1152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57">
                        <a:moveTo>
                          <a:pt x="21" y="57"/>
                        </a:moveTo>
                        <a:lnTo>
                          <a:pt x="42" y="57"/>
                        </a:lnTo>
                        <a:lnTo>
                          <a:pt x="73" y="52"/>
                        </a:lnTo>
                        <a:lnTo>
                          <a:pt x="83" y="47"/>
                        </a:lnTo>
                        <a:lnTo>
                          <a:pt x="94" y="37"/>
                        </a:lnTo>
                        <a:lnTo>
                          <a:pt x="94" y="26"/>
                        </a:lnTo>
                        <a:lnTo>
                          <a:pt x="78" y="15"/>
                        </a:lnTo>
                        <a:lnTo>
                          <a:pt x="58" y="5"/>
                        </a:lnTo>
                        <a:lnTo>
                          <a:pt x="42" y="0"/>
                        </a:lnTo>
                        <a:lnTo>
                          <a:pt x="26" y="0"/>
                        </a:lnTo>
                        <a:lnTo>
                          <a:pt x="11" y="5"/>
                        </a:lnTo>
                        <a:lnTo>
                          <a:pt x="6" y="15"/>
                        </a:lnTo>
                        <a:lnTo>
                          <a:pt x="0" y="32"/>
                        </a:lnTo>
                        <a:lnTo>
                          <a:pt x="11" y="47"/>
                        </a:lnTo>
                        <a:lnTo>
                          <a:pt x="21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5" name="Group 1056"/>
                <p:cNvGrpSpPr/>
                <p:nvPr/>
              </p:nvGrpSpPr>
              <p:grpSpPr>
                <a:xfrm>
                  <a:off x="471600" y="816120"/>
                  <a:ext cx="59400" cy="45360"/>
                  <a:chOff x="471600" y="816120"/>
                  <a:chExt cx="59400" cy="45360"/>
                </a:xfrm>
              </p:grpSpPr>
              <p:sp>
                <p:nvSpPr>
                  <p:cNvPr id="1096" name="未知"/>
                  <p:cNvSpPr/>
                  <p:nvPr/>
                </p:nvSpPr>
                <p:spPr>
                  <a:xfrm rot="4059600">
                    <a:off x="487440" y="812160"/>
                    <a:ext cx="27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33" h="417">
                        <a:moveTo>
                          <a:pt x="323" y="417"/>
                        </a:moveTo>
                        <a:lnTo>
                          <a:pt x="281" y="407"/>
                        </a:lnTo>
                        <a:lnTo>
                          <a:pt x="239" y="391"/>
                        </a:lnTo>
                        <a:lnTo>
                          <a:pt x="193" y="375"/>
                        </a:lnTo>
                        <a:lnTo>
                          <a:pt x="146" y="350"/>
                        </a:lnTo>
                        <a:lnTo>
                          <a:pt x="99" y="318"/>
                        </a:lnTo>
                        <a:lnTo>
                          <a:pt x="83" y="302"/>
                        </a:lnTo>
                        <a:lnTo>
                          <a:pt x="68" y="282"/>
                        </a:lnTo>
                        <a:lnTo>
                          <a:pt x="57" y="261"/>
                        </a:lnTo>
                        <a:lnTo>
                          <a:pt x="47" y="240"/>
                        </a:lnTo>
                        <a:lnTo>
                          <a:pt x="26" y="147"/>
                        </a:lnTo>
                        <a:lnTo>
                          <a:pt x="6" y="68"/>
                        </a:lnTo>
                        <a:lnTo>
                          <a:pt x="0" y="37"/>
                        </a:lnTo>
                        <a:lnTo>
                          <a:pt x="0" y="1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21" y="0"/>
                        </a:lnTo>
                        <a:lnTo>
                          <a:pt x="31" y="6"/>
                        </a:lnTo>
                        <a:lnTo>
                          <a:pt x="57" y="11"/>
                        </a:lnTo>
                        <a:lnTo>
                          <a:pt x="83" y="27"/>
                        </a:lnTo>
                        <a:lnTo>
                          <a:pt x="146" y="73"/>
                        </a:lnTo>
                        <a:lnTo>
                          <a:pt x="208" y="125"/>
                        </a:lnTo>
                        <a:lnTo>
                          <a:pt x="271" y="193"/>
                        </a:lnTo>
                        <a:lnTo>
                          <a:pt x="296" y="230"/>
                        </a:lnTo>
                        <a:lnTo>
                          <a:pt x="313" y="261"/>
                        </a:lnTo>
                        <a:lnTo>
                          <a:pt x="323" y="292"/>
                        </a:lnTo>
                        <a:lnTo>
                          <a:pt x="333" y="323"/>
                        </a:lnTo>
                        <a:lnTo>
                          <a:pt x="333" y="350"/>
                        </a:lnTo>
                        <a:lnTo>
                          <a:pt x="333" y="375"/>
                        </a:lnTo>
                        <a:lnTo>
                          <a:pt x="323" y="417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未知"/>
                  <p:cNvSpPr/>
                  <p:nvPr/>
                </p:nvSpPr>
                <p:spPr>
                  <a:xfrm rot="412800">
                    <a:off x="484200" y="826200"/>
                    <a:ext cx="2700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214">
                        <a:moveTo>
                          <a:pt x="0" y="151"/>
                        </a:moveTo>
                        <a:lnTo>
                          <a:pt x="36" y="120"/>
                        </a:lnTo>
                        <a:lnTo>
                          <a:pt x="115" y="57"/>
                        </a:lnTo>
                        <a:lnTo>
                          <a:pt x="156" y="32"/>
                        </a:lnTo>
                        <a:lnTo>
                          <a:pt x="187" y="6"/>
                        </a:lnTo>
                        <a:lnTo>
                          <a:pt x="208" y="0"/>
                        </a:lnTo>
                        <a:lnTo>
                          <a:pt x="213" y="0"/>
                        </a:lnTo>
                        <a:lnTo>
                          <a:pt x="213" y="11"/>
                        </a:lnTo>
                        <a:lnTo>
                          <a:pt x="193" y="69"/>
                        </a:lnTo>
                        <a:lnTo>
                          <a:pt x="162" y="136"/>
                        </a:lnTo>
                        <a:lnTo>
                          <a:pt x="140" y="167"/>
                        </a:lnTo>
                        <a:lnTo>
                          <a:pt x="120" y="187"/>
                        </a:lnTo>
                        <a:lnTo>
                          <a:pt x="98" y="209"/>
                        </a:lnTo>
                        <a:lnTo>
                          <a:pt x="73" y="214"/>
                        </a:lnTo>
                        <a:lnTo>
                          <a:pt x="47" y="209"/>
                        </a:lnTo>
                        <a:lnTo>
                          <a:pt x="31" y="204"/>
                        </a:lnTo>
                        <a:lnTo>
                          <a:pt x="21" y="193"/>
                        </a:lnTo>
                        <a:lnTo>
                          <a:pt x="10" y="182"/>
                        </a:lnTo>
                        <a:lnTo>
                          <a:pt x="0" y="162"/>
                        </a:lnTo>
                        <a:lnTo>
                          <a:pt x="0" y="151"/>
                        </a:lnTo>
                        <a:close/>
                      </a:path>
                    </a:pathLst>
                  </a:cu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98" name="Group 1059"/>
            <p:cNvGrpSpPr/>
            <p:nvPr/>
          </p:nvGrpSpPr>
          <p:grpSpPr>
            <a:xfrm>
              <a:off x="983520" y="433440"/>
              <a:ext cx="657000" cy="344160"/>
              <a:chOff x="983520" y="433440"/>
              <a:chExt cx="657000" cy="344160"/>
            </a:xfrm>
          </p:grpSpPr>
          <p:grpSp>
            <p:nvGrpSpPr>
              <p:cNvPr id="1099" name="Group 1060"/>
              <p:cNvGrpSpPr/>
              <p:nvPr/>
            </p:nvGrpSpPr>
            <p:grpSpPr>
              <a:xfrm>
                <a:off x="983520" y="433440"/>
                <a:ext cx="657000" cy="344160"/>
                <a:chOff x="983520" y="433440"/>
                <a:chExt cx="657000" cy="344160"/>
              </a:xfrm>
            </p:grpSpPr>
            <p:sp>
              <p:nvSpPr>
                <p:cNvPr id="1100" name="未知"/>
                <p:cNvSpPr/>
                <p:nvPr/>
              </p:nvSpPr>
              <p:spPr>
                <a:xfrm flipH="1" rot="21294600">
                  <a:off x="1140840" y="454320"/>
                  <a:ext cx="487080" cy="30204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未知"/>
                <p:cNvSpPr/>
                <p:nvPr/>
              </p:nvSpPr>
              <p:spPr>
                <a:xfrm flipH="1" rot="21294600">
                  <a:off x="1157400" y="524520"/>
                  <a:ext cx="412920" cy="14328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未知"/>
                <p:cNvSpPr/>
                <p:nvPr/>
              </p:nvSpPr>
              <p:spPr>
                <a:xfrm flipH="1" rot="21294600">
                  <a:off x="990000" y="500400"/>
                  <a:ext cx="601560" cy="17856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未知"/>
                <p:cNvSpPr/>
                <p:nvPr/>
              </p:nvSpPr>
              <p:spPr>
                <a:xfrm flipH="1" rot="21294600">
                  <a:off x="1329840" y="586080"/>
                  <a:ext cx="195480" cy="1764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未知"/>
                <p:cNvSpPr/>
                <p:nvPr/>
              </p:nvSpPr>
              <p:spPr>
                <a:xfrm flipH="1" rot="21294600">
                  <a:off x="1234800" y="514440"/>
                  <a:ext cx="252720" cy="6588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未知"/>
                <p:cNvSpPr/>
                <p:nvPr/>
              </p:nvSpPr>
              <p:spPr>
                <a:xfrm flipH="1" rot="21294600">
                  <a:off x="1173600" y="476640"/>
                  <a:ext cx="278640" cy="8712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未知"/>
                <p:cNvSpPr/>
                <p:nvPr/>
              </p:nvSpPr>
              <p:spPr>
                <a:xfrm flipH="1" rot="21294600">
                  <a:off x="1423800" y="610920"/>
                  <a:ext cx="115920" cy="1080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未知"/>
                <p:cNvSpPr/>
                <p:nvPr/>
              </p:nvSpPr>
              <p:spPr>
                <a:xfrm flipH="1" rot="21294600">
                  <a:off x="1508040" y="632880"/>
                  <a:ext cx="60480" cy="432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未知"/>
                <p:cNvSpPr/>
                <p:nvPr/>
              </p:nvSpPr>
              <p:spPr>
                <a:xfrm flipH="1" rot="21294600">
                  <a:off x="1495800" y="634680"/>
                  <a:ext cx="44280" cy="3096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未知"/>
                <p:cNvSpPr/>
                <p:nvPr/>
              </p:nvSpPr>
              <p:spPr>
                <a:xfrm flipH="1" rot="21294600">
                  <a:off x="1427760" y="622800"/>
                  <a:ext cx="77400" cy="5724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未知"/>
                <p:cNvSpPr/>
                <p:nvPr/>
              </p:nvSpPr>
              <p:spPr>
                <a:xfrm flipH="1" rot="21294600">
                  <a:off x="1327320" y="603000"/>
                  <a:ext cx="123840" cy="10044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未知"/>
                <p:cNvSpPr/>
                <p:nvPr/>
              </p:nvSpPr>
              <p:spPr>
                <a:xfrm flipH="1" rot="21294600">
                  <a:off x="1240920" y="583560"/>
                  <a:ext cx="132840" cy="14652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未知"/>
                <p:cNvSpPr/>
                <p:nvPr/>
              </p:nvSpPr>
              <p:spPr>
                <a:xfrm flipH="1" rot="21294600">
                  <a:off x="1308240" y="675000"/>
                  <a:ext cx="14400" cy="5832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未知"/>
                <p:cNvSpPr/>
                <p:nvPr/>
              </p:nvSpPr>
              <p:spPr>
                <a:xfrm flipH="1" rot="21294600">
                  <a:off x="1176480" y="569160"/>
                  <a:ext cx="91800" cy="18072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未知"/>
                <p:cNvSpPr/>
                <p:nvPr/>
              </p:nvSpPr>
              <p:spPr>
                <a:xfrm flipH="1" rot="21294600">
                  <a:off x="1279800" y="639720"/>
                  <a:ext cx="68040" cy="2808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未知"/>
                <p:cNvSpPr/>
                <p:nvPr/>
              </p:nvSpPr>
              <p:spPr>
                <a:xfrm flipH="1" rot="21294600">
                  <a:off x="1391760" y="659520"/>
                  <a:ext cx="32760" cy="4644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未知"/>
                <p:cNvSpPr/>
                <p:nvPr/>
              </p:nvSpPr>
              <p:spPr>
                <a:xfrm flipH="1" rot="21294600">
                  <a:off x="1417320" y="588600"/>
                  <a:ext cx="72000" cy="972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未知"/>
                <p:cNvSpPr/>
                <p:nvPr/>
              </p:nvSpPr>
              <p:spPr>
                <a:xfrm flipH="1" rot="21294600">
                  <a:off x="1449360" y="565200"/>
                  <a:ext cx="44280" cy="1764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未知"/>
                <p:cNvSpPr/>
                <p:nvPr/>
              </p:nvSpPr>
              <p:spPr>
                <a:xfrm flipH="1" rot="21294600">
                  <a:off x="1346040" y="669960"/>
                  <a:ext cx="14400" cy="1044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未知"/>
                <p:cNvSpPr/>
                <p:nvPr/>
              </p:nvSpPr>
              <p:spPr>
                <a:xfrm flipH="1" rot="21294600">
                  <a:off x="1424160" y="555120"/>
                  <a:ext cx="12960" cy="648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未知"/>
                <p:cNvSpPr/>
                <p:nvPr/>
              </p:nvSpPr>
              <p:spPr>
                <a:xfrm flipH="1" rot="21294600">
                  <a:off x="1371960" y="520920"/>
                  <a:ext cx="14400" cy="828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未知"/>
                <p:cNvSpPr/>
                <p:nvPr/>
              </p:nvSpPr>
              <p:spPr>
                <a:xfrm flipH="1" rot="21294600">
                  <a:off x="1526040" y="594000"/>
                  <a:ext cx="11160" cy="396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Group 1083"/>
              <p:cNvGrpSpPr/>
              <p:nvPr/>
            </p:nvGrpSpPr>
            <p:grpSpPr>
              <a:xfrm>
                <a:off x="1030320" y="525960"/>
                <a:ext cx="57240" cy="43200"/>
                <a:chOff x="1030320" y="525960"/>
                <a:chExt cx="57240" cy="43200"/>
              </a:xfrm>
            </p:grpSpPr>
            <p:sp>
              <p:nvSpPr>
                <p:cNvPr id="1123" name="未知"/>
                <p:cNvSpPr/>
                <p:nvPr/>
              </p:nvSpPr>
              <p:spPr>
                <a:xfrm flipH="1" rot="4059600">
                  <a:off x="1045800" y="521640"/>
                  <a:ext cx="25200" cy="5148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未知"/>
                <p:cNvSpPr/>
                <p:nvPr/>
              </p:nvSpPr>
              <p:spPr>
                <a:xfrm flipH="1" rot="7706400">
                  <a:off x="1045800" y="544680"/>
                  <a:ext cx="25920" cy="1548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5" name="Group 1086"/>
            <p:cNvGrpSpPr/>
            <p:nvPr/>
          </p:nvGrpSpPr>
          <p:grpSpPr>
            <a:xfrm>
              <a:off x="919800" y="31320"/>
              <a:ext cx="471240" cy="565200"/>
              <a:chOff x="919800" y="31320"/>
              <a:chExt cx="471240" cy="565200"/>
            </a:xfrm>
          </p:grpSpPr>
          <p:grpSp>
            <p:nvGrpSpPr>
              <p:cNvPr id="1126" name="Group 1087"/>
              <p:cNvGrpSpPr/>
              <p:nvPr/>
            </p:nvGrpSpPr>
            <p:grpSpPr>
              <a:xfrm>
                <a:off x="919800" y="31320"/>
                <a:ext cx="471240" cy="565200"/>
                <a:chOff x="919800" y="31320"/>
                <a:chExt cx="471240" cy="565200"/>
              </a:xfrm>
            </p:grpSpPr>
            <p:sp>
              <p:nvSpPr>
                <p:cNvPr id="1127" name="未知"/>
                <p:cNvSpPr/>
                <p:nvPr/>
              </p:nvSpPr>
              <p:spPr>
                <a:xfrm rot="7630800">
                  <a:off x="957600" y="145800"/>
                  <a:ext cx="414000" cy="25380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未知"/>
                <p:cNvSpPr/>
                <p:nvPr/>
              </p:nvSpPr>
              <p:spPr>
                <a:xfrm rot="7630800">
                  <a:off x="986760" y="231840"/>
                  <a:ext cx="351000" cy="12060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未知"/>
                <p:cNvSpPr/>
                <p:nvPr/>
              </p:nvSpPr>
              <p:spPr>
                <a:xfrm rot="7630800">
                  <a:off x="878400" y="272520"/>
                  <a:ext cx="511200" cy="14976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未知"/>
                <p:cNvSpPr/>
                <p:nvPr/>
              </p:nvSpPr>
              <p:spPr>
                <a:xfrm rot="7630800">
                  <a:off x="1109160" y="239040"/>
                  <a:ext cx="165960" cy="1476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未知"/>
                <p:cNvSpPr/>
                <p:nvPr/>
              </p:nvSpPr>
              <p:spPr>
                <a:xfrm rot="7630800">
                  <a:off x="1089000" y="286920"/>
                  <a:ext cx="214560" cy="5508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未知"/>
                <p:cNvSpPr/>
                <p:nvPr/>
              </p:nvSpPr>
              <p:spPr>
                <a:xfrm rot="7630800">
                  <a:off x="1075320" y="326160"/>
                  <a:ext cx="236880" cy="7308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未知"/>
                <p:cNvSpPr/>
                <p:nvPr/>
              </p:nvSpPr>
              <p:spPr>
                <a:xfrm rot="7630800">
                  <a:off x="1152360" y="191520"/>
                  <a:ext cx="98280" cy="936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未知"/>
                <p:cNvSpPr/>
                <p:nvPr/>
              </p:nvSpPr>
              <p:spPr>
                <a:xfrm rot="7630800">
                  <a:off x="1187640" y="147240"/>
                  <a:ext cx="51480" cy="360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未知"/>
                <p:cNvSpPr/>
                <p:nvPr/>
              </p:nvSpPr>
              <p:spPr>
                <a:xfrm rot="7630800">
                  <a:off x="1175040" y="143640"/>
                  <a:ext cx="37440" cy="2592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未知"/>
                <p:cNvSpPr/>
                <p:nvPr/>
              </p:nvSpPr>
              <p:spPr>
                <a:xfrm rot="7630800">
                  <a:off x="1136880" y="169560"/>
                  <a:ext cx="65520" cy="4752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未知"/>
                <p:cNvSpPr/>
                <p:nvPr/>
              </p:nvSpPr>
              <p:spPr>
                <a:xfrm rot="7630800">
                  <a:off x="1080720" y="205560"/>
                  <a:ext cx="105120" cy="8388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未知"/>
                <p:cNvSpPr/>
                <p:nvPr/>
              </p:nvSpPr>
              <p:spPr>
                <a:xfrm rot="7630800">
                  <a:off x="1036800" y="243720"/>
                  <a:ext cx="113040" cy="12276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未知"/>
                <p:cNvSpPr/>
                <p:nvPr/>
              </p:nvSpPr>
              <p:spPr>
                <a:xfrm rot="7630800">
                  <a:off x="1057680" y="253440"/>
                  <a:ext cx="12240" cy="4896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未知"/>
                <p:cNvSpPr/>
                <p:nvPr/>
              </p:nvSpPr>
              <p:spPr>
                <a:xfrm rot="7630800">
                  <a:off x="1013760" y="288720"/>
                  <a:ext cx="78120" cy="15192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未知"/>
                <p:cNvSpPr/>
                <p:nvPr/>
              </p:nvSpPr>
              <p:spPr>
                <a:xfrm rot="7630800">
                  <a:off x="1069560" y="290520"/>
                  <a:ext cx="57960" cy="2412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未知"/>
                <p:cNvSpPr/>
                <p:nvPr/>
              </p:nvSpPr>
              <p:spPr>
                <a:xfrm rot="7630800">
                  <a:off x="1105920" y="201600"/>
                  <a:ext cx="28080" cy="3924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未知"/>
                <p:cNvSpPr/>
                <p:nvPr/>
              </p:nvSpPr>
              <p:spPr>
                <a:xfrm rot="7630800">
                  <a:off x="1173600" y="224640"/>
                  <a:ext cx="60840" cy="828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未知"/>
                <p:cNvSpPr/>
                <p:nvPr/>
              </p:nvSpPr>
              <p:spPr>
                <a:xfrm rot="7630800">
                  <a:off x="1208160" y="216000"/>
                  <a:ext cx="37440" cy="1476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未知"/>
                <p:cNvSpPr/>
                <p:nvPr/>
              </p:nvSpPr>
              <p:spPr>
                <a:xfrm rot="7630800">
                  <a:off x="1095120" y="259200"/>
                  <a:ext cx="12240" cy="900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未知"/>
                <p:cNvSpPr/>
                <p:nvPr/>
              </p:nvSpPr>
              <p:spPr>
                <a:xfrm rot="7630800">
                  <a:off x="1214280" y="257400"/>
                  <a:ext cx="10800" cy="540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未知"/>
                <p:cNvSpPr/>
                <p:nvPr/>
              </p:nvSpPr>
              <p:spPr>
                <a:xfrm rot="7630800">
                  <a:off x="1213920" y="308160"/>
                  <a:ext cx="12240" cy="720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未知"/>
                <p:cNvSpPr/>
                <p:nvPr/>
              </p:nvSpPr>
              <p:spPr>
                <a:xfrm rot="7630800">
                  <a:off x="1234440" y="169560"/>
                  <a:ext cx="9360" cy="324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9" name="Group 1110"/>
              <p:cNvGrpSpPr/>
              <p:nvPr/>
            </p:nvGrpSpPr>
            <p:grpSpPr>
              <a:xfrm>
                <a:off x="1035720" y="511200"/>
                <a:ext cx="47160" cy="42120"/>
                <a:chOff x="1035720" y="511200"/>
                <a:chExt cx="47160" cy="42120"/>
              </a:xfrm>
            </p:grpSpPr>
            <p:sp>
              <p:nvSpPr>
                <p:cNvPr id="1150" name="未知"/>
                <p:cNvSpPr/>
                <p:nvPr/>
              </p:nvSpPr>
              <p:spPr>
                <a:xfrm rot="3266400">
                  <a:off x="1048680" y="510480"/>
                  <a:ext cx="20880" cy="4320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未知"/>
                <p:cNvSpPr/>
                <p:nvPr/>
              </p:nvSpPr>
              <p:spPr>
                <a:xfrm rot="21219600">
                  <a:off x="1044720" y="523080"/>
                  <a:ext cx="21960" cy="1260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2" name="Group 1113"/>
            <p:cNvGrpSpPr/>
            <p:nvPr/>
          </p:nvGrpSpPr>
          <p:grpSpPr>
            <a:xfrm>
              <a:off x="1434600" y="142920"/>
              <a:ext cx="474480" cy="468000"/>
              <a:chOff x="1434600" y="142920"/>
              <a:chExt cx="474480" cy="468000"/>
            </a:xfrm>
          </p:grpSpPr>
          <p:grpSp>
            <p:nvGrpSpPr>
              <p:cNvPr id="1153" name="Group 1114"/>
              <p:cNvGrpSpPr/>
              <p:nvPr/>
            </p:nvGrpSpPr>
            <p:grpSpPr>
              <a:xfrm>
                <a:off x="1456200" y="142920"/>
                <a:ext cx="452880" cy="468000"/>
                <a:chOff x="1456200" y="142920"/>
                <a:chExt cx="452880" cy="468000"/>
              </a:xfrm>
            </p:grpSpPr>
            <p:sp>
              <p:nvSpPr>
                <p:cNvPr id="1154" name="未知"/>
                <p:cNvSpPr/>
                <p:nvPr/>
              </p:nvSpPr>
              <p:spPr>
                <a:xfrm rot="12159000">
                  <a:off x="1577880" y="178200"/>
                  <a:ext cx="264960" cy="39672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未知"/>
                <p:cNvSpPr/>
                <p:nvPr/>
              </p:nvSpPr>
              <p:spPr>
                <a:xfrm rot="12159000">
                  <a:off x="1582560" y="292680"/>
                  <a:ext cx="224640" cy="18792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未知"/>
                <p:cNvSpPr/>
                <p:nvPr/>
              </p:nvSpPr>
              <p:spPr>
                <a:xfrm rot="12159000">
                  <a:off x="1488240" y="270360"/>
                  <a:ext cx="327240" cy="23364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未知"/>
                <p:cNvSpPr/>
                <p:nvPr/>
              </p:nvSpPr>
              <p:spPr>
                <a:xfrm rot="12159000">
                  <a:off x="1676160" y="382320"/>
                  <a:ext cx="106560" cy="2304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未知"/>
                <p:cNvSpPr/>
                <p:nvPr/>
              </p:nvSpPr>
              <p:spPr>
                <a:xfrm rot="12159000">
                  <a:off x="1602720" y="402120"/>
                  <a:ext cx="137520" cy="8604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未知"/>
                <p:cNvSpPr/>
                <p:nvPr/>
              </p:nvSpPr>
              <p:spPr>
                <a:xfrm rot="12159000">
                  <a:off x="1557000" y="416520"/>
                  <a:ext cx="151560" cy="11412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未知"/>
                <p:cNvSpPr/>
                <p:nvPr/>
              </p:nvSpPr>
              <p:spPr>
                <a:xfrm rot="12159000">
                  <a:off x="1737720" y="365760"/>
                  <a:ext cx="63000" cy="1440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未知"/>
                <p:cNvSpPr/>
                <p:nvPr/>
              </p:nvSpPr>
              <p:spPr>
                <a:xfrm rot="12159000">
                  <a:off x="1791720" y="353520"/>
                  <a:ext cx="32760" cy="576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未知"/>
                <p:cNvSpPr/>
                <p:nvPr/>
              </p:nvSpPr>
              <p:spPr>
                <a:xfrm rot="12159000">
                  <a:off x="1791720" y="315360"/>
                  <a:ext cx="23760" cy="4032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未知"/>
                <p:cNvSpPr/>
                <p:nvPr/>
              </p:nvSpPr>
              <p:spPr>
                <a:xfrm rot="12159000">
                  <a:off x="1755000" y="291960"/>
                  <a:ext cx="42120" cy="7488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未知"/>
                <p:cNvSpPr/>
                <p:nvPr/>
              </p:nvSpPr>
              <p:spPr>
                <a:xfrm rot="12159000">
                  <a:off x="1701360" y="253080"/>
                  <a:ext cx="67320" cy="13176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未知"/>
                <p:cNvSpPr/>
                <p:nvPr/>
              </p:nvSpPr>
              <p:spPr>
                <a:xfrm rot="12159000">
                  <a:off x="1655640" y="209520"/>
                  <a:ext cx="72360" cy="19224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未知"/>
                <p:cNvSpPr/>
                <p:nvPr/>
              </p:nvSpPr>
              <p:spPr>
                <a:xfrm rot="12159000">
                  <a:off x="1713960" y="211320"/>
                  <a:ext cx="8280" cy="7668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7" name="未知"/>
                <p:cNvSpPr/>
                <p:nvPr/>
              </p:nvSpPr>
              <p:spPr>
                <a:xfrm rot="12159000">
                  <a:off x="1622880" y="175680"/>
                  <a:ext cx="50040" cy="23724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未知"/>
                <p:cNvSpPr/>
                <p:nvPr/>
              </p:nvSpPr>
              <p:spPr>
                <a:xfrm rot="12159000">
                  <a:off x="1675800" y="292320"/>
                  <a:ext cx="37080" cy="3744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未知"/>
                <p:cNvSpPr/>
                <p:nvPr/>
              </p:nvSpPr>
              <p:spPr>
                <a:xfrm rot="12159000">
                  <a:off x="1749960" y="254160"/>
                  <a:ext cx="17640" cy="6048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未知"/>
                <p:cNvSpPr/>
                <p:nvPr/>
              </p:nvSpPr>
              <p:spPr>
                <a:xfrm rot="12159000">
                  <a:off x="1722960" y="391680"/>
                  <a:ext cx="38520" cy="1296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未知"/>
                <p:cNvSpPr/>
                <p:nvPr/>
              </p:nvSpPr>
              <p:spPr>
                <a:xfrm rot="12159000">
                  <a:off x="1731960" y="412560"/>
                  <a:ext cx="23760" cy="2304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未知"/>
                <p:cNvSpPr/>
                <p:nvPr/>
              </p:nvSpPr>
              <p:spPr>
                <a:xfrm rot="12159000">
                  <a:off x="1721160" y="280440"/>
                  <a:ext cx="8280" cy="1440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未知"/>
                <p:cNvSpPr/>
                <p:nvPr/>
              </p:nvSpPr>
              <p:spPr>
                <a:xfrm rot="12159000">
                  <a:off x="1711080" y="4359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未知"/>
                <p:cNvSpPr/>
                <p:nvPr/>
              </p:nvSpPr>
              <p:spPr>
                <a:xfrm rot="12159000">
                  <a:off x="1666440" y="469440"/>
                  <a:ext cx="8280" cy="1080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未知"/>
                <p:cNvSpPr/>
                <p:nvPr/>
              </p:nvSpPr>
              <p:spPr>
                <a:xfrm rot="12159000">
                  <a:off x="1783080" y="401040"/>
                  <a:ext cx="6120" cy="576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6" name="Group 1137"/>
              <p:cNvGrpSpPr/>
              <p:nvPr/>
            </p:nvGrpSpPr>
            <p:grpSpPr>
              <a:xfrm>
                <a:off x="1434600" y="423000"/>
                <a:ext cx="42840" cy="43560"/>
                <a:chOff x="1434600" y="423000"/>
                <a:chExt cx="42840" cy="43560"/>
              </a:xfrm>
            </p:grpSpPr>
            <p:sp>
              <p:nvSpPr>
                <p:cNvPr id="1177" name="未知"/>
                <p:cNvSpPr/>
                <p:nvPr/>
              </p:nvSpPr>
              <p:spPr>
                <a:xfrm rot="7794000">
                  <a:off x="1439280" y="43056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未知"/>
                <p:cNvSpPr/>
                <p:nvPr/>
              </p:nvSpPr>
              <p:spPr>
                <a:xfrm rot="4147200">
                  <a:off x="1451880" y="429120"/>
                  <a:ext cx="14040" cy="2016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79" name="Group 1140"/>
          <p:cNvGrpSpPr/>
          <p:nvPr/>
        </p:nvGrpSpPr>
        <p:grpSpPr>
          <a:xfrm>
            <a:off x="-193320" y="755640"/>
            <a:ext cx="1494000" cy="1305000"/>
            <a:chOff x="-193320" y="755640"/>
            <a:chExt cx="1494000" cy="1305000"/>
          </a:xfrm>
        </p:grpSpPr>
        <p:sp>
          <p:nvSpPr>
            <p:cNvPr id="1180" name="未知"/>
            <p:cNvSpPr/>
            <p:nvPr/>
          </p:nvSpPr>
          <p:spPr>
            <a:xfrm flipH="1" rot="4059600">
              <a:off x="373680" y="722160"/>
              <a:ext cx="216720" cy="1191960"/>
            </a:xfrm>
            <a:custGeom>
              <a:avLst/>
              <a:gdLst/>
              <a:ahLst/>
              <a:rect l="l" t="t" r="r" b="b"/>
              <a:pathLst>
                <a:path w="2573" h="12419">
                  <a:moveTo>
                    <a:pt x="103" y="11997"/>
                  </a:moveTo>
                  <a:lnTo>
                    <a:pt x="103" y="11955"/>
                  </a:lnTo>
                  <a:lnTo>
                    <a:pt x="113" y="11851"/>
                  </a:lnTo>
                  <a:lnTo>
                    <a:pt x="124" y="11788"/>
                  </a:lnTo>
                  <a:lnTo>
                    <a:pt x="135" y="11737"/>
                  </a:lnTo>
                  <a:lnTo>
                    <a:pt x="150" y="11690"/>
                  </a:lnTo>
                  <a:lnTo>
                    <a:pt x="160" y="11669"/>
                  </a:lnTo>
                  <a:lnTo>
                    <a:pt x="170" y="11658"/>
                  </a:lnTo>
                  <a:lnTo>
                    <a:pt x="228" y="11596"/>
                  </a:lnTo>
                  <a:lnTo>
                    <a:pt x="264" y="11555"/>
                  </a:lnTo>
                  <a:lnTo>
                    <a:pt x="300" y="11503"/>
                  </a:lnTo>
                  <a:lnTo>
                    <a:pt x="332" y="11445"/>
                  </a:lnTo>
                  <a:lnTo>
                    <a:pt x="368" y="11378"/>
                  </a:lnTo>
                  <a:lnTo>
                    <a:pt x="394" y="11305"/>
                  </a:lnTo>
                  <a:lnTo>
                    <a:pt x="410" y="11221"/>
                  </a:lnTo>
                  <a:lnTo>
                    <a:pt x="447" y="11071"/>
                  </a:lnTo>
                  <a:lnTo>
                    <a:pt x="504" y="10821"/>
                  </a:lnTo>
                  <a:lnTo>
                    <a:pt x="670" y="10144"/>
                  </a:lnTo>
                  <a:lnTo>
                    <a:pt x="831" y="9488"/>
                  </a:lnTo>
                  <a:lnTo>
                    <a:pt x="883" y="9254"/>
                  </a:lnTo>
                  <a:lnTo>
                    <a:pt x="904" y="9140"/>
                  </a:lnTo>
                  <a:lnTo>
                    <a:pt x="909" y="9056"/>
                  </a:lnTo>
                  <a:lnTo>
                    <a:pt x="914" y="9004"/>
                  </a:lnTo>
                  <a:lnTo>
                    <a:pt x="919" y="8983"/>
                  </a:lnTo>
                  <a:lnTo>
                    <a:pt x="930" y="8973"/>
                  </a:lnTo>
                  <a:lnTo>
                    <a:pt x="946" y="8963"/>
                  </a:lnTo>
                  <a:lnTo>
                    <a:pt x="966" y="8958"/>
                  </a:lnTo>
                  <a:lnTo>
                    <a:pt x="981" y="8946"/>
                  </a:lnTo>
                  <a:lnTo>
                    <a:pt x="1003" y="8921"/>
                  </a:lnTo>
                  <a:lnTo>
                    <a:pt x="1023" y="8884"/>
                  </a:lnTo>
                  <a:lnTo>
                    <a:pt x="1050" y="8833"/>
                  </a:lnTo>
                  <a:lnTo>
                    <a:pt x="1106" y="8708"/>
                  </a:lnTo>
                  <a:lnTo>
                    <a:pt x="1169" y="8556"/>
                  </a:lnTo>
                  <a:lnTo>
                    <a:pt x="1231" y="8395"/>
                  </a:lnTo>
                  <a:lnTo>
                    <a:pt x="1288" y="8239"/>
                  </a:lnTo>
                  <a:lnTo>
                    <a:pt x="1335" y="8104"/>
                  </a:lnTo>
                  <a:lnTo>
                    <a:pt x="1367" y="7999"/>
                  </a:lnTo>
                  <a:lnTo>
                    <a:pt x="1445" y="7755"/>
                  </a:lnTo>
                  <a:lnTo>
                    <a:pt x="1554" y="7401"/>
                  </a:lnTo>
                  <a:lnTo>
                    <a:pt x="1606" y="7213"/>
                  </a:lnTo>
                  <a:lnTo>
                    <a:pt x="1647" y="7026"/>
                  </a:lnTo>
                  <a:lnTo>
                    <a:pt x="1669" y="6943"/>
                  </a:lnTo>
                  <a:lnTo>
                    <a:pt x="1679" y="6860"/>
                  </a:lnTo>
                  <a:lnTo>
                    <a:pt x="1689" y="6786"/>
                  </a:lnTo>
                  <a:lnTo>
                    <a:pt x="1689" y="6719"/>
                  </a:lnTo>
                  <a:lnTo>
                    <a:pt x="1694" y="6651"/>
                  </a:lnTo>
                  <a:lnTo>
                    <a:pt x="1699" y="6558"/>
                  </a:lnTo>
                  <a:lnTo>
                    <a:pt x="1731" y="6318"/>
                  </a:lnTo>
                  <a:lnTo>
                    <a:pt x="1772" y="6032"/>
                  </a:lnTo>
                  <a:lnTo>
                    <a:pt x="1814" y="5730"/>
                  </a:lnTo>
                  <a:lnTo>
                    <a:pt x="1902" y="5163"/>
                  </a:lnTo>
                  <a:lnTo>
                    <a:pt x="1934" y="4955"/>
                  </a:lnTo>
                  <a:lnTo>
                    <a:pt x="1939" y="4877"/>
                  </a:lnTo>
                  <a:lnTo>
                    <a:pt x="1944" y="4830"/>
                  </a:lnTo>
                  <a:lnTo>
                    <a:pt x="1949" y="4236"/>
                  </a:lnTo>
                  <a:lnTo>
                    <a:pt x="1964" y="3133"/>
                  </a:lnTo>
                  <a:lnTo>
                    <a:pt x="1970" y="2555"/>
                  </a:lnTo>
                  <a:lnTo>
                    <a:pt x="1970" y="2050"/>
                  </a:lnTo>
                  <a:lnTo>
                    <a:pt x="1964" y="1686"/>
                  </a:lnTo>
                  <a:lnTo>
                    <a:pt x="1959" y="1571"/>
                  </a:lnTo>
                  <a:lnTo>
                    <a:pt x="1954" y="1541"/>
                  </a:lnTo>
                  <a:lnTo>
                    <a:pt x="1954" y="1524"/>
                  </a:lnTo>
                  <a:lnTo>
                    <a:pt x="1918" y="1457"/>
                  </a:lnTo>
                  <a:lnTo>
                    <a:pt x="1892" y="1399"/>
                  </a:lnTo>
                  <a:lnTo>
                    <a:pt x="1887" y="1374"/>
                  </a:lnTo>
                  <a:lnTo>
                    <a:pt x="1882" y="1347"/>
                  </a:lnTo>
                  <a:lnTo>
                    <a:pt x="1882" y="1327"/>
                  </a:lnTo>
                  <a:lnTo>
                    <a:pt x="1892" y="1311"/>
                  </a:lnTo>
                  <a:lnTo>
                    <a:pt x="1897" y="1306"/>
                  </a:lnTo>
                  <a:lnTo>
                    <a:pt x="1907" y="1301"/>
                  </a:lnTo>
                  <a:lnTo>
                    <a:pt x="1923" y="1306"/>
                  </a:lnTo>
                  <a:lnTo>
                    <a:pt x="1944" y="1311"/>
                  </a:lnTo>
                  <a:lnTo>
                    <a:pt x="1964" y="1322"/>
                  </a:lnTo>
                  <a:lnTo>
                    <a:pt x="1986" y="1332"/>
                  </a:lnTo>
                  <a:lnTo>
                    <a:pt x="2006" y="1337"/>
                  </a:lnTo>
                  <a:lnTo>
                    <a:pt x="2022" y="1337"/>
                  </a:lnTo>
                  <a:lnTo>
                    <a:pt x="2027" y="1332"/>
                  </a:lnTo>
                  <a:lnTo>
                    <a:pt x="2032" y="1322"/>
                  </a:lnTo>
                  <a:lnTo>
                    <a:pt x="2214" y="775"/>
                  </a:lnTo>
                  <a:lnTo>
                    <a:pt x="2386" y="265"/>
                  </a:lnTo>
                  <a:lnTo>
                    <a:pt x="2376" y="228"/>
                  </a:lnTo>
                  <a:lnTo>
                    <a:pt x="2360" y="140"/>
                  </a:lnTo>
                  <a:lnTo>
                    <a:pt x="2360" y="93"/>
                  </a:lnTo>
                  <a:lnTo>
                    <a:pt x="2360" y="51"/>
                  </a:lnTo>
                  <a:lnTo>
                    <a:pt x="2365" y="20"/>
                  </a:lnTo>
                  <a:lnTo>
                    <a:pt x="2376" y="10"/>
                  </a:lnTo>
                  <a:lnTo>
                    <a:pt x="2386" y="5"/>
                  </a:lnTo>
                  <a:lnTo>
                    <a:pt x="2396" y="0"/>
                  </a:lnTo>
                  <a:lnTo>
                    <a:pt x="2401" y="5"/>
                  </a:lnTo>
                  <a:lnTo>
                    <a:pt x="2417" y="15"/>
                  </a:lnTo>
                  <a:lnTo>
                    <a:pt x="2423" y="36"/>
                  </a:lnTo>
                  <a:lnTo>
                    <a:pt x="2428" y="67"/>
                  </a:lnTo>
                  <a:lnTo>
                    <a:pt x="2438" y="130"/>
                  </a:lnTo>
                  <a:lnTo>
                    <a:pt x="2448" y="155"/>
                  </a:lnTo>
                  <a:lnTo>
                    <a:pt x="2464" y="177"/>
                  </a:lnTo>
                  <a:lnTo>
                    <a:pt x="2485" y="187"/>
                  </a:lnTo>
                  <a:lnTo>
                    <a:pt x="2505" y="197"/>
                  </a:lnTo>
                  <a:lnTo>
                    <a:pt x="2547" y="213"/>
                  </a:lnTo>
                  <a:lnTo>
                    <a:pt x="2563" y="218"/>
                  </a:lnTo>
                  <a:lnTo>
                    <a:pt x="2568" y="228"/>
                  </a:lnTo>
                  <a:lnTo>
                    <a:pt x="2573" y="233"/>
                  </a:lnTo>
                  <a:lnTo>
                    <a:pt x="2568" y="245"/>
                  </a:lnTo>
                  <a:lnTo>
                    <a:pt x="2531" y="275"/>
                  </a:lnTo>
                  <a:lnTo>
                    <a:pt x="2490" y="327"/>
                  </a:lnTo>
                  <a:lnTo>
                    <a:pt x="2443" y="390"/>
                  </a:lnTo>
                  <a:lnTo>
                    <a:pt x="2423" y="421"/>
                  </a:lnTo>
                  <a:lnTo>
                    <a:pt x="2406" y="457"/>
                  </a:lnTo>
                  <a:lnTo>
                    <a:pt x="2334" y="650"/>
                  </a:lnTo>
                  <a:lnTo>
                    <a:pt x="2219" y="999"/>
                  </a:lnTo>
                  <a:lnTo>
                    <a:pt x="2163" y="1186"/>
                  </a:lnTo>
                  <a:lnTo>
                    <a:pt x="2116" y="1363"/>
                  </a:lnTo>
                  <a:lnTo>
                    <a:pt x="2084" y="1504"/>
                  </a:lnTo>
                  <a:lnTo>
                    <a:pt x="2074" y="1556"/>
                  </a:lnTo>
                  <a:lnTo>
                    <a:pt x="2074" y="1592"/>
                  </a:lnTo>
                  <a:lnTo>
                    <a:pt x="2074" y="1706"/>
                  </a:lnTo>
                  <a:lnTo>
                    <a:pt x="2074" y="1915"/>
                  </a:lnTo>
                  <a:lnTo>
                    <a:pt x="2069" y="2456"/>
                  </a:lnTo>
                  <a:lnTo>
                    <a:pt x="2053" y="3195"/>
                  </a:lnTo>
                  <a:lnTo>
                    <a:pt x="2064" y="3185"/>
                  </a:lnTo>
                  <a:lnTo>
                    <a:pt x="2089" y="3164"/>
                  </a:lnTo>
                  <a:lnTo>
                    <a:pt x="2106" y="3154"/>
                  </a:lnTo>
                  <a:lnTo>
                    <a:pt x="2116" y="3154"/>
                  </a:lnTo>
                  <a:lnTo>
                    <a:pt x="2121" y="3159"/>
                  </a:lnTo>
                  <a:lnTo>
                    <a:pt x="2121" y="3174"/>
                  </a:lnTo>
                  <a:lnTo>
                    <a:pt x="2111" y="3227"/>
                  </a:lnTo>
                  <a:lnTo>
                    <a:pt x="2089" y="3284"/>
                  </a:lnTo>
                  <a:lnTo>
                    <a:pt x="2069" y="3352"/>
                  </a:lnTo>
                  <a:lnTo>
                    <a:pt x="2064" y="3394"/>
                  </a:lnTo>
                  <a:lnTo>
                    <a:pt x="2064" y="3435"/>
                  </a:lnTo>
                  <a:lnTo>
                    <a:pt x="2058" y="3747"/>
                  </a:lnTo>
                  <a:lnTo>
                    <a:pt x="2043" y="4356"/>
                  </a:lnTo>
                  <a:lnTo>
                    <a:pt x="2032" y="4705"/>
                  </a:lnTo>
                  <a:lnTo>
                    <a:pt x="2022" y="5048"/>
                  </a:lnTo>
                  <a:lnTo>
                    <a:pt x="2001" y="5360"/>
                  </a:lnTo>
                  <a:lnTo>
                    <a:pt x="1981" y="5610"/>
                  </a:lnTo>
                  <a:lnTo>
                    <a:pt x="1954" y="5834"/>
                  </a:lnTo>
                  <a:lnTo>
                    <a:pt x="1923" y="6058"/>
                  </a:lnTo>
                  <a:lnTo>
                    <a:pt x="1850" y="6490"/>
                  </a:lnTo>
                  <a:lnTo>
                    <a:pt x="1819" y="6673"/>
                  </a:lnTo>
                  <a:lnTo>
                    <a:pt x="1799" y="6818"/>
                  </a:lnTo>
                  <a:lnTo>
                    <a:pt x="1794" y="6922"/>
                  </a:lnTo>
                  <a:lnTo>
                    <a:pt x="1794" y="6953"/>
                  </a:lnTo>
                  <a:lnTo>
                    <a:pt x="1804" y="6974"/>
                  </a:lnTo>
                  <a:lnTo>
                    <a:pt x="1819" y="6985"/>
                  </a:lnTo>
                  <a:lnTo>
                    <a:pt x="1834" y="6990"/>
                  </a:lnTo>
                  <a:lnTo>
                    <a:pt x="1866" y="6990"/>
                  </a:lnTo>
                  <a:lnTo>
                    <a:pt x="1876" y="6990"/>
                  </a:lnTo>
                  <a:lnTo>
                    <a:pt x="1887" y="6995"/>
                  </a:lnTo>
                  <a:lnTo>
                    <a:pt x="1897" y="7010"/>
                  </a:lnTo>
                  <a:lnTo>
                    <a:pt x="1902" y="7031"/>
                  </a:lnTo>
                  <a:lnTo>
                    <a:pt x="1897" y="7063"/>
                  </a:lnTo>
                  <a:lnTo>
                    <a:pt x="1887" y="7100"/>
                  </a:lnTo>
                  <a:lnTo>
                    <a:pt x="1866" y="7130"/>
                  </a:lnTo>
                  <a:lnTo>
                    <a:pt x="1845" y="7162"/>
                  </a:lnTo>
                  <a:lnTo>
                    <a:pt x="1804" y="7208"/>
                  </a:lnTo>
                  <a:lnTo>
                    <a:pt x="1782" y="7224"/>
                  </a:lnTo>
                  <a:lnTo>
                    <a:pt x="1076" y="9108"/>
                  </a:lnTo>
                  <a:lnTo>
                    <a:pt x="571" y="11174"/>
                  </a:lnTo>
                  <a:lnTo>
                    <a:pt x="582" y="11201"/>
                  </a:lnTo>
                  <a:lnTo>
                    <a:pt x="587" y="11243"/>
                  </a:lnTo>
                  <a:lnTo>
                    <a:pt x="582" y="11294"/>
                  </a:lnTo>
                  <a:lnTo>
                    <a:pt x="571" y="11331"/>
                  </a:lnTo>
                  <a:lnTo>
                    <a:pt x="550" y="11378"/>
                  </a:lnTo>
                  <a:lnTo>
                    <a:pt x="487" y="11492"/>
                  </a:lnTo>
                  <a:lnTo>
                    <a:pt x="457" y="11550"/>
                  </a:lnTo>
                  <a:lnTo>
                    <a:pt x="431" y="11606"/>
                  </a:lnTo>
                  <a:lnTo>
                    <a:pt x="410" y="11658"/>
                  </a:lnTo>
                  <a:lnTo>
                    <a:pt x="405" y="11695"/>
                  </a:lnTo>
                  <a:lnTo>
                    <a:pt x="399" y="11737"/>
                  </a:lnTo>
                  <a:lnTo>
                    <a:pt x="389" y="11783"/>
                  </a:lnTo>
                  <a:lnTo>
                    <a:pt x="352" y="11898"/>
                  </a:lnTo>
                  <a:lnTo>
                    <a:pt x="312" y="12018"/>
                  </a:lnTo>
                  <a:lnTo>
                    <a:pt x="259" y="12122"/>
                  </a:lnTo>
                  <a:lnTo>
                    <a:pt x="197" y="12220"/>
                  </a:lnTo>
                  <a:lnTo>
                    <a:pt x="113" y="12330"/>
                  </a:lnTo>
                  <a:lnTo>
                    <a:pt x="77" y="12377"/>
                  </a:lnTo>
                  <a:lnTo>
                    <a:pt x="40" y="12408"/>
                  </a:lnTo>
                  <a:lnTo>
                    <a:pt x="25" y="12419"/>
                  </a:lnTo>
                  <a:lnTo>
                    <a:pt x="15" y="12419"/>
                  </a:lnTo>
                  <a:lnTo>
                    <a:pt x="5" y="12419"/>
                  </a:lnTo>
                  <a:lnTo>
                    <a:pt x="0" y="12413"/>
                  </a:lnTo>
                  <a:lnTo>
                    <a:pt x="0" y="12397"/>
                  </a:lnTo>
                  <a:lnTo>
                    <a:pt x="0" y="12377"/>
                  </a:lnTo>
                  <a:lnTo>
                    <a:pt x="10" y="12320"/>
                  </a:lnTo>
                  <a:lnTo>
                    <a:pt x="40" y="12185"/>
                  </a:lnTo>
                  <a:lnTo>
                    <a:pt x="82" y="12055"/>
                  </a:lnTo>
                  <a:lnTo>
                    <a:pt x="103" y="11997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未知"/>
            <p:cNvSpPr/>
            <p:nvPr/>
          </p:nvSpPr>
          <p:spPr>
            <a:xfrm flipH="1" rot="4059600">
              <a:off x="-20520" y="1599840"/>
              <a:ext cx="24120" cy="45720"/>
            </a:xfrm>
            <a:custGeom>
              <a:avLst/>
              <a:gdLst/>
              <a:ahLst/>
              <a:rect l="l" t="t" r="r" b="b"/>
              <a:pathLst>
                <a:path w="297" h="479">
                  <a:moveTo>
                    <a:pt x="265" y="0"/>
                  </a:moveTo>
                  <a:lnTo>
                    <a:pt x="249" y="5"/>
                  </a:lnTo>
                  <a:lnTo>
                    <a:pt x="228" y="10"/>
                  </a:lnTo>
                  <a:lnTo>
                    <a:pt x="202" y="22"/>
                  </a:lnTo>
                  <a:lnTo>
                    <a:pt x="177" y="37"/>
                  </a:lnTo>
                  <a:lnTo>
                    <a:pt x="145" y="57"/>
                  </a:lnTo>
                  <a:lnTo>
                    <a:pt x="120" y="89"/>
                  </a:lnTo>
                  <a:lnTo>
                    <a:pt x="93" y="130"/>
                  </a:lnTo>
                  <a:lnTo>
                    <a:pt x="73" y="182"/>
                  </a:lnTo>
                  <a:lnTo>
                    <a:pt x="52" y="245"/>
                  </a:lnTo>
                  <a:lnTo>
                    <a:pt x="31" y="312"/>
                  </a:lnTo>
                  <a:lnTo>
                    <a:pt x="10" y="375"/>
                  </a:lnTo>
                  <a:lnTo>
                    <a:pt x="5" y="427"/>
                  </a:lnTo>
                  <a:lnTo>
                    <a:pt x="0" y="464"/>
                  </a:lnTo>
                  <a:lnTo>
                    <a:pt x="5" y="474"/>
                  </a:lnTo>
                  <a:lnTo>
                    <a:pt x="10" y="479"/>
                  </a:lnTo>
                  <a:lnTo>
                    <a:pt x="20" y="474"/>
                  </a:lnTo>
                  <a:lnTo>
                    <a:pt x="36" y="464"/>
                  </a:lnTo>
                  <a:lnTo>
                    <a:pt x="73" y="422"/>
                  </a:lnTo>
                  <a:lnTo>
                    <a:pt x="125" y="359"/>
                  </a:lnTo>
                  <a:lnTo>
                    <a:pt x="177" y="282"/>
                  </a:lnTo>
                  <a:lnTo>
                    <a:pt x="228" y="204"/>
                  </a:lnTo>
                  <a:lnTo>
                    <a:pt x="270" y="125"/>
                  </a:lnTo>
                  <a:lnTo>
                    <a:pt x="280" y="89"/>
                  </a:lnTo>
                  <a:lnTo>
                    <a:pt x="290" y="63"/>
                  </a:lnTo>
                  <a:lnTo>
                    <a:pt x="297" y="37"/>
                  </a:lnTo>
                  <a:lnTo>
                    <a:pt x="297" y="16"/>
                  </a:lnTo>
                  <a:lnTo>
                    <a:pt x="285" y="5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2" name="Group 1143"/>
            <p:cNvGrpSpPr/>
            <p:nvPr/>
          </p:nvGrpSpPr>
          <p:grpSpPr>
            <a:xfrm>
              <a:off x="-123840" y="1514160"/>
              <a:ext cx="497880" cy="546480"/>
              <a:chOff x="-123840" y="1514160"/>
              <a:chExt cx="497880" cy="546480"/>
            </a:xfrm>
          </p:grpSpPr>
          <p:grpSp>
            <p:nvGrpSpPr>
              <p:cNvPr id="1183" name="Group 1144"/>
              <p:cNvGrpSpPr/>
              <p:nvPr/>
            </p:nvGrpSpPr>
            <p:grpSpPr>
              <a:xfrm>
                <a:off x="-123840" y="1518840"/>
                <a:ext cx="497880" cy="541800"/>
                <a:chOff x="-123840" y="1518840"/>
                <a:chExt cx="497880" cy="541800"/>
              </a:xfrm>
            </p:grpSpPr>
            <p:sp>
              <p:nvSpPr>
                <p:cNvPr id="1184" name="未知"/>
                <p:cNvSpPr/>
                <p:nvPr/>
              </p:nvSpPr>
              <p:spPr>
                <a:xfrm flipH="1" rot="3919200">
                  <a:off x="-42480" y="1629000"/>
                  <a:ext cx="334800" cy="39420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未知"/>
                <p:cNvSpPr/>
                <p:nvPr/>
              </p:nvSpPr>
              <p:spPr>
                <a:xfrm flipH="1" rot="3919200">
                  <a:off x="-9360" y="1713600"/>
                  <a:ext cx="284040" cy="18720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未知"/>
                <p:cNvSpPr/>
                <p:nvPr/>
              </p:nvSpPr>
              <p:spPr>
                <a:xfrm flipH="1" rot="3919200">
                  <a:off x="-79200" y="1638720"/>
                  <a:ext cx="413640" cy="23292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未知"/>
                <p:cNvSpPr/>
                <p:nvPr/>
              </p:nvSpPr>
              <p:spPr>
                <a:xfrm flipH="1" rot="3919200">
                  <a:off x="78480" y="1838160"/>
                  <a:ext cx="134280" cy="2304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未知"/>
                <p:cNvSpPr/>
                <p:nvPr/>
              </p:nvSpPr>
              <p:spPr>
                <a:xfrm flipH="1" rot="3919200">
                  <a:off x="104040" y="1739880"/>
                  <a:ext cx="173520" cy="8604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未知"/>
                <p:cNvSpPr/>
                <p:nvPr/>
              </p:nvSpPr>
              <p:spPr>
                <a:xfrm flipH="1" rot="3919200">
                  <a:off x="119160" y="1679760"/>
                  <a:ext cx="191520" cy="11376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未知"/>
                <p:cNvSpPr/>
                <p:nvPr/>
              </p:nvSpPr>
              <p:spPr>
                <a:xfrm flipH="1" rot="3919200">
                  <a:off x="89280" y="1890000"/>
                  <a:ext cx="79560" cy="1476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未知"/>
                <p:cNvSpPr/>
                <p:nvPr/>
              </p:nvSpPr>
              <p:spPr>
                <a:xfrm flipH="1" rot="3919200">
                  <a:off x="96120" y="1940760"/>
                  <a:ext cx="41400" cy="576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未知"/>
                <p:cNvSpPr/>
                <p:nvPr/>
              </p:nvSpPr>
              <p:spPr>
                <a:xfrm flipH="1" rot="3919200">
                  <a:off x="79920" y="1917720"/>
                  <a:ext cx="30240" cy="4032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未知"/>
                <p:cNvSpPr/>
                <p:nvPr/>
              </p:nvSpPr>
              <p:spPr>
                <a:xfrm flipH="1" rot="3919200">
                  <a:off x="58320" y="1865880"/>
                  <a:ext cx="52920" cy="7452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未知"/>
                <p:cNvSpPr/>
                <p:nvPr/>
              </p:nvSpPr>
              <p:spPr>
                <a:xfrm flipH="1" rot="3919200">
                  <a:off x="26640" y="1787760"/>
                  <a:ext cx="84960" cy="13068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未知"/>
                <p:cNvSpPr/>
                <p:nvPr/>
              </p:nvSpPr>
              <p:spPr>
                <a:xfrm flipH="1" rot="3919200">
                  <a:off x="2520" y="1703880"/>
                  <a:ext cx="91440" cy="19152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未知"/>
                <p:cNvSpPr/>
                <p:nvPr/>
              </p:nvSpPr>
              <p:spPr>
                <a:xfrm flipH="1" rot="3919200">
                  <a:off x="-11520" y="1789200"/>
                  <a:ext cx="9720" cy="7632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未知"/>
                <p:cNvSpPr/>
                <p:nvPr/>
              </p:nvSpPr>
              <p:spPr>
                <a:xfrm flipH="1" rot="3919200">
                  <a:off x="-720" y="1625760"/>
                  <a:ext cx="63000" cy="23580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未知"/>
                <p:cNvSpPr/>
                <p:nvPr/>
              </p:nvSpPr>
              <p:spPr>
                <a:xfrm flipH="1" rot="3919200">
                  <a:off x="29880" y="1783800"/>
                  <a:ext cx="46800" cy="3744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未知"/>
                <p:cNvSpPr/>
                <p:nvPr/>
              </p:nvSpPr>
              <p:spPr>
                <a:xfrm flipH="1" rot="3919200">
                  <a:off x="24120" y="1849320"/>
                  <a:ext cx="22680" cy="6012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未知"/>
                <p:cNvSpPr/>
                <p:nvPr/>
              </p:nvSpPr>
              <p:spPr>
                <a:xfrm flipH="1" rot="3919200">
                  <a:off x="127080" y="1859760"/>
                  <a:ext cx="48960" cy="1296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未知"/>
                <p:cNvSpPr/>
                <p:nvPr/>
              </p:nvSpPr>
              <p:spPr>
                <a:xfrm flipH="1" rot="3919200">
                  <a:off x="163440" y="1858320"/>
                  <a:ext cx="30240" cy="2304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未知"/>
                <p:cNvSpPr/>
                <p:nvPr/>
              </p:nvSpPr>
              <p:spPr>
                <a:xfrm flipH="1" rot="3919200">
                  <a:off x="29880" y="1832040"/>
                  <a:ext cx="9720" cy="1440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未知"/>
                <p:cNvSpPr/>
                <p:nvPr/>
              </p:nvSpPr>
              <p:spPr>
                <a:xfrm flipH="1" rot="3919200">
                  <a:off x="185760" y="1830600"/>
                  <a:ext cx="8640" cy="828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未知"/>
                <p:cNvSpPr/>
                <p:nvPr/>
              </p:nvSpPr>
              <p:spPr>
                <a:xfrm flipH="1" rot="3919200">
                  <a:off x="216000" y="1778040"/>
                  <a:ext cx="9720" cy="1116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未知"/>
                <p:cNvSpPr/>
                <p:nvPr/>
              </p:nvSpPr>
              <p:spPr>
                <a:xfrm flipH="1" rot="3919200">
                  <a:off x="159840" y="1917720"/>
                  <a:ext cx="7560" cy="504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6" name="Group 1167"/>
              <p:cNvGrpSpPr/>
              <p:nvPr/>
            </p:nvGrpSpPr>
            <p:grpSpPr>
              <a:xfrm>
                <a:off x="135000" y="1514160"/>
                <a:ext cx="47880" cy="48240"/>
                <a:chOff x="135000" y="1514160"/>
                <a:chExt cx="47880" cy="48240"/>
              </a:xfrm>
            </p:grpSpPr>
            <p:sp>
              <p:nvSpPr>
                <p:cNvPr id="1207" name="未知"/>
                <p:cNvSpPr/>
                <p:nvPr/>
              </p:nvSpPr>
              <p:spPr>
                <a:xfrm flipH="1" rot="8284200">
                  <a:off x="142200" y="1520640"/>
                  <a:ext cx="32760" cy="3528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未知"/>
                <p:cNvSpPr/>
                <p:nvPr/>
              </p:nvSpPr>
              <p:spPr>
                <a:xfrm flipH="1" rot="11931000">
                  <a:off x="143280" y="1531440"/>
                  <a:ext cx="18000" cy="1980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9" name="Group 1170"/>
            <p:cNvGrpSpPr/>
            <p:nvPr/>
          </p:nvGrpSpPr>
          <p:grpSpPr>
            <a:xfrm>
              <a:off x="129600" y="1356840"/>
              <a:ext cx="555480" cy="429120"/>
              <a:chOff x="129600" y="1356840"/>
              <a:chExt cx="555480" cy="429120"/>
            </a:xfrm>
          </p:grpSpPr>
          <p:grpSp>
            <p:nvGrpSpPr>
              <p:cNvPr id="1210" name="Group 1171"/>
              <p:cNvGrpSpPr/>
              <p:nvPr/>
            </p:nvGrpSpPr>
            <p:grpSpPr>
              <a:xfrm>
                <a:off x="129600" y="1356840"/>
                <a:ext cx="555480" cy="429120"/>
                <a:chOff x="129600" y="1356840"/>
                <a:chExt cx="555480" cy="429120"/>
              </a:xfrm>
            </p:grpSpPr>
            <p:sp>
              <p:nvSpPr>
                <p:cNvPr id="1211" name="未知"/>
                <p:cNvSpPr/>
                <p:nvPr/>
              </p:nvSpPr>
              <p:spPr>
                <a:xfrm flipH="1" rot="20756400">
                  <a:off x="268920" y="1397520"/>
                  <a:ext cx="379800" cy="34740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未知"/>
                <p:cNvSpPr/>
                <p:nvPr/>
              </p:nvSpPr>
              <p:spPr>
                <a:xfrm flipH="1" rot="20756400">
                  <a:off x="279720" y="1479960"/>
                  <a:ext cx="321840" cy="16488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未知"/>
                <p:cNvSpPr/>
                <p:nvPr/>
              </p:nvSpPr>
              <p:spPr>
                <a:xfrm flipH="1" rot="20756400">
                  <a:off x="146880" y="1458720"/>
                  <a:ext cx="468720" cy="20520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未知"/>
                <p:cNvSpPr/>
                <p:nvPr/>
              </p:nvSpPr>
              <p:spPr>
                <a:xfrm flipH="1" rot="20756400">
                  <a:off x="414000" y="1545480"/>
                  <a:ext cx="152280" cy="2016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未知"/>
                <p:cNvSpPr/>
                <p:nvPr/>
              </p:nvSpPr>
              <p:spPr>
                <a:xfrm flipH="1" rot="20756400">
                  <a:off x="330120" y="1469880"/>
                  <a:ext cx="196920" cy="7560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未知"/>
                <p:cNvSpPr/>
                <p:nvPr/>
              </p:nvSpPr>
              <p:spPr>
                <a:xfrm flipH="1" rot="20756400">
                  <a:off x="276480" y="1431000"/>
                  <a:ext cx="217080" cy="10008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未知"/>
                <p:cNvSpPr/>
                <p:nvPr/>
              </p:nvSpPr>
              <p:spPr>
                <a:xfrm flipH="1" rot="20756400">
                  <a:off x="492120" y="1568520"/>
                  <a:ext cx="90360" cy="1260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未知"/>
                <p:cNvSpPr/>
                <p:nvPr/>
              </p:nvSpPr>
              <p:spPr>
                <a:xfrm flipH="1" rot="20756400">
                  <a:off x="560520" y="1587960"/>
                  <a:ext cx="47160" cy="468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未知"/>
                <p:cNvSpPr/>
                <p:nvPr/>
              </p:nvSpPr>
              <p:spPr>
                <a:xfrm flipH="1" rot="20756400">
                  <a:off x="554040" y="1591560"/>
                  <a:ext cx="34560" cy="3564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未知"/>
                <p:cNvSpPr/>
                <p:nvPr/>
              </p:nvSpPr>
              <p:spPr>
                <a:xfrm flipH="1" rot="20756400">
                  <a:off x="501840" y="1582560"/>
                  <a:ext cx="60120" cy="6516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未知"/>
                <p:cNvSpPr/>
                <p:nvPr/>
              </p:nvSpPr>
              <p:spPr>
                <a:xfrm flipH="1" rot="20756400">
                  <a:off x="424440" y="1566720"/>
                  <a:ext cx="96480" cy="11556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未知"/>
                <p:cNvSpPr/>
                <p:nvPr/>
              </p:nvSpPr>
              <p:spPr>
                <a:xfrm flipH="1" rot="20756400">
                  <a:off x="357480" y="1551960"/>
                  <a:ext cx="103680" cy="16884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未知"/>
                <p:cNvSpPr/>
                <p:nvPr/>
              </p:nvSpPr>
              <p:spPr>
                <a:xfrm flipH="1" rot="20756400">
                  <a:off x="420120" y="1654920"/>
                  <a:ext cx="11160" cy="6696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未知"/>
                <p:cNvSpPr/>
                <p:nvPr/>
              </p:nvSpPr>
              <p:spPr>
                <a:xfrm flipH="1" rot="20756400">
                  <a:off x="307800" y="1542960"/>
                  <a:ext cx="71640" cy="20772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未知"/>
                <p:cNvSpPr/>
                <p:nvPr/>
              </p:nvSpPr>
              <p:spPr>
                <a:xfrm flipH="1" rot="20756400">
                  <a:off x="386640" y="1615320"/>
                  <a:ext cx="52920" cy="3276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未知"/>
                <p:cNvSpPr/>
                <p:nvPr/>
              </p:nvSpPr>
              <p:spPr>
                <a:xfrm flipH="1" rot="20756400">
                  <a:off x="480240" y="1630080"/>
                  <a:ext cx="25560" cy="5292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未知"/>
                <p:cNvSpPr/>
                <p:nvPr/>
              </p:nvSpPr>
              <p:spPr>
                <a:xfrm flipH="1" rot="20756400">
                  <a:off x="481320" y="1545480"/>
                  <a:ext cx="55800" cy="1116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未知"/>
                <p:cNvSpPr/>
                <p:nvPr/>
              </p:nvSpPr>
              <p:spPr>
                <a:xfrm flipH="1" rot="20756400">
                  <a:off x="502920" y="1517760"/>
                  <a:ext cx="34560" cy="2052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未知"/>
                <p:cNvSpPr/>
                <p:nvPr/>
              </p:nvSpPr>
              <p:spPr>
                <a:xfrm flipH="1" rot="20756400">
                  <a:off x="443520" y="1647000"/>
                  <a:ext cx="11160" cy="1224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未知"/>
                <p:cNvSpPr/>
                <p:nvPr/>
              </p:nvSpPr>
              <p:spPr>
                <a:xfrm flipH="1" rot="20756400">
                  <a:off x="480240" y="1509840"/>
                  <a:ext cx="10080" cy="720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未知"/>
                <p:cNvSpPr/>
                <p:nvPr/>
              </p:nvSpPr>
              <p:spPr>
                <a:xfrm flipH="1" rot="20756400">
                  <a:off x="431280" y="1476000"/>
                  <a:ext cx="11160" cy="972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未知"/>
                <p:cNvSpPr/>
                <p:nvPr/>
              </p:nvSpPr>
              <p:spPr>
                <a:xfrm flipH="1" rot="20756400">
                  <a:off x="567000" y="1544040"/>
                  <a:ext cx="8640" cy="432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3" name="Group 1194"/>
              <p:cNvGrpSpPr/>
              <p:nvPr/>
            </p:nvGrpSpPr>
            <p:grpSpPr>
              <a:xfrm>
                <a:off x="146880" y="1494720"/>
                <a:ext cx="48960" cy="45360"/>
                <a:chOff x="146880" y="1494720"/>
                <a:chExt cx="48960" cy="45360"/>
              </a:xfrm>
            </p:grpSpPr>
            <p:sp>
              <p:nvSpPr>
                <p:cNvPr id="1234" name="未知"/>
                <p:cNvSpPr/>
                <p:nvPr/>
              </p:nvSpPr>
              <p:spPr>
                <a:xfrm flipH="1" rot="3520800">
                  <a:off x="156960" y="1497240"/>
                  <a:ext cx="28800" cy="3996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未知"/>
                <p:cNvSpPr/>
                <p:nvPr/>
              </p:nvSpPr>
              <p:spPr>
                <a:xfrm flipH="1" rot="7167600">
                  <a:off x="163080" y="1514160"/>
                  <a:ext cx="20160" cy="1764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6" name="Group 1197"/>
            <p:cNvGrpSpPr/>
            <p:nvPr/>
          </p:nvGrpSpPr>
          <p:grpSpPr>
            <a:xfrm>
              <a:off x="-193320" y="921960"/>
              <a:ext cx="836280" cy="571320"/>
              <a:chOff x="-193320" y="921960"/>
              <a:chExt cx="836280" cy="571320"/>
            </a:xfrm>
          </p:grpSpPr>
          <p:grpSp>
            <p:nvGrpSpPr>
              <p:cNvPr id="1237" name="Group 1198"/>
              <p:cNvGrpSpPr/>
              <p:nvPr/>
            </p:nvGrpSpPr>
            <p:grpSpPr>
              <a:xfrm>
                <a:off x="-193320" y="1026720"/>
                <a:ext cx="448560" cy="466560"/>
                <a:chOff x="-193320" y="1026720"/>
                <a:chExt cx="448560" cy="466560"/>
              </a:xfrm>
            </p:grpSpPr>
            <p:grpSp>
              <p:nvGrpSpPr>
                <p:cNvPr id="1238" name="Group 1199"/>
                <p:cNvGrpSpPr/>
                <p:nvPr/>
              </p:nvGrpSpPr>
              <p:grpSpPr>
                <a:xfrm>
                  <a:off x="-193320" y="1026720"/>
                  <a:ext cx="447120" cy="466560"/>
                  <a:chOff x="-193320" y="1026720"/>
                  <a:chExt cx="447120" cy="466560"/>
                </a:xfrm>
              </p:grpSpPr>
              <p:sp>
                <p:nvSpPr>
                  <p:cNvPr id="1239" name="未知"/>
                  <p:cNvSpPr/>
                  <p:nvPr/>
                </p:nvSpPr>
                <p:spPr>
                  <a:xfrm rot="4199400">
                    <a:off x="-123480" y="1051200"/>
                    <a:ext cx="307440" cy="363960"/>
                  </a:xfrm>
                  <a:custGeom>
                    <a:avLst/>
                    <a:gdLst/>
                    <a:ahLst/>
                    <a:rect l="l" t="t" r="r" b="b"/>
                    <a:pathLst>
                      <a:path w="3962" h="4106">
                        <a:moveTo>
                          <a:pt x="0" y="3065"/>
                        </a:moveTo>
                        <a:lnTo>
                          <a:pt x="47" y="3055"/>
                        </a:lnTo>
                        <a:lnTo>
                          <a:pt x="150" y="3044"/>
                        </a:lnTo>
                        <a:lnTo>
                          <a:pt x="260" y="3034"/>
                        </a:lnTo>
                        <a:lnTo>
                          <a:pt x="302" y="3034"/>
                        </a:lnTo>
                        <a:lnTo>
                          <a:pt x="317" y="3034"/>
                        </a:lnTo>
                        <a:lnTo>
                          <a:pt x="327" y="3039"/>
                        </a:lnTo>
                        <a:lnTo>
                          <a:pt x="281" y="3117"/>
                        </a:lnTo>
                        <a:lnTo>
                          <a:pt x="322" y="3102"/>
                        </a:lnTo>
                        <a:lnTo>
                          <a:pt x="421" y="3065"/>
                        </a:lnTo>
                        <a:lnTo>
                          <a:pt x="474" y="3055"/>
                        </a:lnTo>
                        <a:lnTo>
                          <a:pt x="526" y="3049"/>
                        </a:lnTo>
                        <a:lnTo>
                          <a:pt x="546" y="3049"/>
                        </a:lnTo>
                        <a:lnTo>
                          <a:pt x="562" y="3060"/>
                        </a:lnTo>
                        <a:lnTo>
                          <a:pt x="577" y="3065"/>
                        </a:lnTo>
                        <a:lnTo>
                          <a:pt x="582" y="3080"/>
                        </a:lnTo>
                        <a:lnTo>
                          <a:pt x="536" y="3169"/>
                        </a:lnTo>
                        <a:lnTo>
                          <a:pt x="593" y="3154"/>
                        </a:lnTo>
                        <a:lnTo>
                          <a:pt x="723" y="3127"/>
                        </a:lnTo>
                        <a:lnTo>
                          <a:pt x="796" y="3122"/>
                        </a:lnTo>
                        <a:lnTo>
                          <a:pt x="863" y="3117"/>
                        </a:lnTo>
                        <a:lnTo>
                          <a:pt x="910" y="3117"/>
                        </a:lnTo>
                        <a:lnTo>
                          <a:pt x="926" y="3122"/>
                        </a:lnTo>
                        <a:lnTo>
                          <a:pt x="936" y="3132"/>
                        </a:lnTo>
                        <a:lnTo>
                          <a:pt x="941" y="3159"/>
                        </a:lnTo>
                        <a:lnTo>
                          <a:pt x="936" y="3185"/>
                        </a:lnTo>
                        <a:lnTo>
                          <a:pt x="926" y="3211"/>
                        </a:lnTo>
                        <a:lnTo>
                          <a:pt x="915" y="3242"/>
                        </a:lnTo>
                        <a:lnTo>
                          <a:pt x="884" y="3289"/>
                        </a:lnTo>
                        <a:lnTo>
                          <a:pt x="873" y="3310"/>
                        </a:lnTo>
                        <a:lnTo>
                          <a:pt x="900" y="3294"/>
                        </a:lnTo>
                        <a:lnTo>
                          <a:pt x="936" y="3284"/>
                        </a:lnTo>
                        <a:lnTo>
                          <a:pt x="978" y="3268"/>
                        </a:lnTo>
                        <a:lnTo>
                          <a:pt x="1030" y="3257"/>
                        </a:lnTo>
                        <a:lnTo>
                          <a:pt x="1082" y="3257"/>
                        </a:lnTo>
                        <a:lnTo>
                          <a:pt x="1133" y="3262"/>
                        </a:lnTo>
                        <a:lnTo>
                          <a:pt x="1160" y="3268"/>
                        </a:lnTo>
                        <a:lnTo>
                          <a:pt x="1185" y="3279"/>
                        </a:lnTo>
                        <a:lnTo>
                          <a:pt x="1191" y="3299"/>
                        </a:lnTo>
                        <a:lnTo>
                          <a:pt x="1201" y="3341"/>
                        </a:lnTo>
                        <a:lnTo>
                          <a:pt x="1196" y="3367"/>
                        </a:lnTo>
                        <a:lnTo>
                          <a:pt x="1196" y="3387"/>
                        </a:lnTo>
                        <a:lnTo>
                          <a:pt x="1180" y="3404"/>
                        </a:lnTo>
                        <a:lnTo>
                          <a:pt x="1175" y="3409"/>
                        </a:lnTo>
                        <a:lnTo>
                          <a:pt x="1165" y="3414"/>
                        </a:lnTo>
                        <a:lnTo>
                          <a:pt x="1155" y="3409"/>
                        </a:lnTo>
                        <a:lnTo>
                          <a:pt x="1165" y="3404"/>
                        </a:lnTo>
                        <a:lnTo>
                          <a:pt x="1191" y="3392"/>
                        </a:lnTo>
                        <a:lnTo>
                          <a:pt x="1227" y="3382"/>
                        </a:lnTo>
                        <a:lnTo>
                          <a:pt x="1269" y="3377"/>
                        </a:lnTo>
                        <a:lnTo>
                          <a:pt x="1305" y="3382"/>
                        </a:lnTo>
                        <a:lnTo>
                          <a:pt x="1320" y="3387"/>
                        </a:lnTo>
                        <a:lnTo>
                          <a:pt x="1337" y="3392"/>
                        </a:lnTo>
                        <a:lnTo>
                          <a:pt x="1347" y="3404"/>
                        </a:lnTo>
                        <a:lnTo>
                          <a:pt x="1357" y="3419"/>
                        </a:lnTo>
                        <a:lnTo>
                          <a:pt x="1357" y="3450"/>
                        </a:lnTo>
                        <a:lnTo>
                          <a:pt x="1352" y="3487"/>
                        </a:lnTo>
                        <a:lnTo>
                          <a:pt x="1342" y="3517"/>
                        </a:lnTo>
                        <a:lnTo>
                          <a:pt x="1326" y="3544"/>
                        </a:lnTo>
                        <a:lnTo>
                          <a:pt x="1290" y="3591"/>
                        </a:lnTo>
                        <a:lnTo>
                          <a:pt x="1274" y="3612"/>
                        </a:lnTo>
                        <a:lnTo>
                          <a:pt x="1315" y="3596"/>
                        </a:lnTo>
                        <a:lnTo>
                          <a:pt x="1409" y="3570"/>
                        </a:lnTo>
                        <a:lnTo>
                          <a:pt x="1456" y="3559"/>
                        </a:lnTo>
                        <a:lnTo>
                          <a:pt x="1503" y="3549"/>
                        </a:lnTo>
                        <a:lnTo>
                          <a:pt x="1534" y="3549"/>
                        </a:lnTo>
                        <a:lnTo>
                          <a:pt x="1550" y="3554"/>
                        </a:lnTo>
                        <a:lnTo>
                          <a:pt x="1555" y="3559"/>
                        </a:lnTo>
                        <a:lnTo>
                          <a:pt x="1560" y="3570"/>
                        </a:lnTo>
                        <a:lnTo>
                          <a:pt x="1560" y="3586"/>
                        </a:lnTo>
                        <a:lnTo>
                          <a:pt x="1555" y="3606"/>
                        </a:lnTo>
                        <a:lnTo>
                          <a:pt x="1550" y="3617"/>
                        </a:lnTo>
                        <a:lnTo>
                          <a:pt x="1544" y="3622"/>
                        </a:lnTo>
                        <a:lnTo>
                          <a:pt x="1565" y="3612"/>
                        </a:lnTo>
                        <a:lnTo>
                          <a:pt x="1622" y="3581"/>
                        </a:lnTo>
                        <a:lnTo>
                          <a:pt x="1659" y="3570"/>
                        </a:lnTo>
                        <a:lnTo>
                          <a:pt x="1695" y="3559"/>
                        </a:lnTo>
                        <a:lnTo>
                          <a:pt x="1737" y="3559"/>
                        </a:lnTo>
                        <a:lnTo>
                          <a:pt x="1779" y="3564"/>
                        </a:lnTo>
                        <a:lnTo>
                          <a:pt x="1799" y="3575"/>
                        </a:lnTo>
                        <a:lnTo>
                          <a:pt x="1814" y="3586"/>
                        </a:lnTo>
                        <a:lnTo>
                          <a:pt x="1856" y="3622"/>
                        </a:lnTo>
                        <a:lnTo>
                          <a:pt x="1898" y="3669"/>
                        </a:lnTo>
                        <a:lnTo>
                          <a:pt x="1929" y="3731"/>
                        </a:lnTo>
                        <a:lnTo>
                          <a:pt x="1951" y="3794"/>
                        </a:lnTo>
                        <a:lnTo>
                          <a:pt x="1956" y="3824"/>
                        </a:lnTo>
                        <a:lnTo>
                          <a:pt x="1961" y="3861"/>
                        </a:lnTo>
                        <a:lnTo>
                          <a:pt x="1956" y="3893"/>
                        </a:lnTo>
                        <a:lnTo>
                          <a:pt x="1951" y="3929"/>
                        </a:lnTo>
                        <a:lnTo>
                          <a:pt x="1939" y="3961"/>
                        </a:lnTo>
                        <a:lnTo>
                          <a:pt x="1924" y="3991"/>
                        </a:lnTo>
                        <a:lnTo>
                          <a:pt x="2116" y="3893"/>
                        </a:lnTo>
                        <a:lnTo>
                          <a:pt x="2106" y="3971"/>
                        </a:lnTo>
                        <a:lnTo>
                          <a:pt x="2132" y="3949"/>
                        </a:lnTo>
                        <a:lnTo>
                          <a:pt x="2189" y="3903"/>
                        </a:lnTo>
                        <a:lnTo>
                          <a:pt x="2226" y="3882"/>
                        </a:lnTo>
                        <a:lnTo>
                          <a:pt x="2257" y="3866"/>
                        </a:lnTo>
                        <a:lnTo>
                          <a:pt x="2268" y="3866"/>
                        </a:lnTo>
                        <a:lnTo>
                          <a:pt x="2283" y="3866"/>
                        </a:lnTo>
                        <a:lnTo>
                          <a:pt x="2293" y="3872"/>
                        </a:lnTo>
                        <a:lnTo>
                          <a:pt x="2303" y="3882"/>
                        </a:lnTo>
                        <a:lnTo>
                          <a:pt x="2314" y="3903"/>
                        </a:lnTo>
                        <a:lnTo>
                          <a:pt x="2314" y="3919"/>
                        </a:lnTo>
                        <a:lnTo>
                          <a:pt x="2308" y="3929"/>
                        </a:lnTo>
                        <a:lnTo>
                          <a:pt x="2298" y="3934"/>
                        </a:lnTo>
                        <a:lnTo>
                          <a:pt x="2278" y="3944"/>
                        </a:lnTo>
                        <a:lnTo>
                          <a:pt x="2268" y="3944"/>
                        </a:lnTo>
                        <a:lnTo>
                          <a:pt x="2548" y="3789"/>
                        </a:lnTo>
                        <a:lnTo>
                          <a:pt x="2574" y="3914"/>
                        </a:lnTo>
                        <a:lnTo>
                          <a:pt x="2595" y="3887"/>
                        </a:lnTo>
                        <a:lnTo>
                          <a:pt x="2620" y="3861"/>
                        </a:lnTo>
                        <a:lnTo>
                          <a:pt x="2652" y="3836"/>
                        </a:lnTo>
                        <a:lnTo>
                          <a:pt x="2688" y="3809"/>
                        </a:lnTo>
                        <a:lnTo>
                          <a:pt x="2709" y="3804"/>
                        </a:lnTo>
                        <a:lnTo>
                          <a:pt x="2725" y="3799"/>
                        </a:lnTo>
                        <a:lnTo>
                          <a:pt x="2745" y="3799"/>
                        </a:lnTo>
                        <a:lnTo>
                          <a:pt x="2767" y="3804"/>
                        </a:lnTo>
                        <a:lnTo>
                          <a:pt x="2782" y="3809"/>
                        </a:lnTo>
                        <a:lnTo>
                          <a:pt x="2803" y="3824"/>
                        </a:lnTo>
                        <a:lnTo>
                          <a:pt x="2814" y="3846"/>
                        </a:lnTo>
                        <a:lnTo>
                          <a:pt x="2829" y="3866"/>
                        </a:lnTo>
                        <a:lnTo>
                          <a:pt x="2844" y="3914"/>
                        </a:lnTo>
                        <a:lnTo>
                          <a:pt x="2850" y="3961"/>
                        </a:lnTo>
                        <a:lnTo>
                          <a:pt x="2844" y="4002"/>
                        </a:lnTo>
                        <a:lnTo>
                          <a:pt x="2839" y="4044"/>
                        </a:lnTo>
                        <a:lnTo>
                          <a:pt x="2829" y="4075"/>
                        </a:lnTo>
                        <a:lnTo>
                          <a:pt x="2819" y="4106"/>
                        </a:lnTo>
                        <a:lnTo>
                          <a:pt x="3074" y="3903"/>
                        </a:lnTo>
                        <a:lnTo>
                          <a:pt x="3099" y="3991"/>
                        </a:lnTo>
                        <a:lnTo>
                          <a:pt x="3286" y="3726"/>
                        </a:lnTo>
                        <a:lnTo>
                          <a:pt x="3307" y="3804"/>
                        </a:lnTo>
                        <a:lnTo>
                          <a:pt x="3338" y="3757"/>
                        </a:lnTo>
                        <a:lnTo>
                          <a:pt x="3411" y="3654"/>
                        </a:lnTo>
                        <a:lnTo>
                          <a:pt x="3453" y="3591"/>
                        </a:lnTo>
                        <a:lnTo>
                          <a:pt x="3489" y="3523"/>
                        </a:lnTo>
                        <a:lnTo>
                          <a:pt x="3521" y="3466"/>
                        </a:lnTo>
                        <a:lnTo>
                          <a:pt x="3541" y="3419"/>
                        </a:lnTo>
                        <a:lnTo>
                          <a:pt x="3551" y="3529"/>
                        </a:lnTo>
                        <a:lnTo>
                          <a:pt x="3562" y="3507"/>
                        </a:lnTo>
                        <a:lnTo>
                          <a:pt x="3593" y="3455"/>
                        </a:lnTo>
                        <a:lnTo>
                          <a:pt x="3635" y="3372"/>
                        </a:lnTo>
                        <a:lnTo>
                          <a:pt x="3650" y="3325"/>
                        </a:lnTo>
                        <a:lnTo>
                          <a:pt x="3666" y="3274"/>
                        </a:lnTo>
                        <a:lnTo>
                          <a:pt x="3692" y="3180"/>
                        </a:lnTo>
                        <a:lnTo>
                          <a:pt x="3723" y="3102"/>
                        </a:lnTo>
                        <a:lnTo>
                          <a:pt x="3760" y="3023"/>
                        </a:lnTo>
                        <a:lnTo>
                          <a:pt x="3807" y="3117"/>
                        </a:lnTo>
                        <a:lnTo>
                          <a:pt x="3832" y="3080"/>
                        </a:lnTo>
                        <a:lnTo>
                          <a:pt x="3858" y="3039"/>
                        </a:lnTo>
                        <a:lnTo>
                          <a:pt x="3890" y="2977"/>
                        </a:lnTo>
                        <a:lnTo>
                          <a:pt x="3920" y="2898"/>
                        </a:lnTo>
                        <a:lnTo>
                          <a:pt x="3947" y="2805"/>
                        </a:lnTo>
                        <a:lnTo>
                          <a:pt x="3952" y="2753"/>
                        </a:lnTo>
                        <a:lnTo>
                          <a:pt x="3957" y="2695"/>
                        </a:lnTo>
                        <a:lnTo>
                          <a:pt x="3962" y="2633"/>
                        </a:lnTo>
                        <a:lnTo>
                          <a:pt x="3957" y="2565"/>
                        </a:lnTo>
                        <a:lnTo>
                          <a:pt x="3942" y="2410"/>
                        </a:lnTo>
                        <a:lnTo>
                          <a:pt x="3915" y="2222"/>
                        </a:lnTo>
                        <a:lnTo>
                          <a:pt x="3885" y="2019"/>
                        </a:lnTo>
                        <a:lnTo>
                          <a:pt x="3853" y="1821"/>
                        </a:lnTo>
                        <a:lnTo>
                          <a:pt x="3791" y="1483"/>
                        </a:lnTo>
                        <a:lnTo>
                          <a:pt x="3760" y="1342"/>
                        </a:lnTo>
                        <a:lnTo>
                          <a:pt x="3728" y="1327"/>
                        </a:lnTo>
                        <a:lnTo>
                          <a:pt x="3692" y="1306"/>
                        </a:lnTo>
                        <a:lnTo>
                          <a:pt x="3640" y="1269"/>
                        </a:lnTo>
                        <a:lnTo>
                          <a:pt x="3583" y="1227"/>
                        </a:lnTo>
                        <a:lnTo>
                          <a:pt x="3521" y="1165"/>
                        </a:lnTo>
                        <a:lnTo>
                          <a:pt x="3448" y="1092"/>
                        </a:lnTo>
                        <a:lnTo>
                          <a:pt x="3375" y="1004"/>
                        </a:lnTo>
                        <a:lnTo>
                          <a:pt x="3209" y="770"/>
                        </a:lnTo>
                        <a:lnTo>
                          <a:pt x="3109" y="629"/>
                        </a:lnTo>
                        <a:lnTo>
                          <a:pt x="3001" y="488"/>
                        </a:lnTo>
                        <a:lnTo>
                          <a:pt x="2881" y="348"/>
                        </a:lnTo>
                        <a:lnTo>
                          <a:pt x="2824" y="285"/>
                        </a:lnTo>
                        <a:lnTo>
                          <a:pt x="2762" y="223"/>
                        </a:lnTo>
                        <a:lnTo>
                          <a:pt x="2699" y="166"/>
                        </a:lnTo>
                        <a:lnTo>
                          <a:pt x="2632" y="120"/>
                        </a:lnTo>
                        <a:lnTo>
                          <a:pt x="2569" y="72"/>
                        </a:lnTo>
                        <a:lnTo>
                          <a:pt x="2501" y="36"/>
                        </a:lnTo>
                        <a:lnTo>
                          <a:pt x="2532" y="113"/>
                        </a:lnTo>
                        <a:lnTo>
                          <a:pt x="2485" y="88"/>
                        </a:lnTo>
                        <a:lnTo>
                          <a:pt x="2433" y="67"/>
                        </a:lnTo>
                        <a:lnTo>
                          <a:pt x="2371" y="46"/>
                        </a:lnTo>
                        <a:lnTo>
                          <a:pt x="2298" y="20"/>
                        </a:lnTo>
                        <a:lnTo>
                          <a:pt x="2221" y="5"/>
                        </a:lnTo>
                        <a:lnTo>
                          <a:pt x="2148" y="0"/>
                        </a:lnTo>
                        <a:lnTo>
                          <a:pt x="2116" y="0"/>
                        </a:lnTo>
                        <a:lnTo>
                          <a:pt x="2080" y="5"/>
                        </a:lnTo>
                        <a:lnTo>
                          <a:pt x="2184" y="108"/>
                        </a:lnTo>
                        <a:lnTo>
                          <a:pt x="2002" y="93"/>
                        </a:lnTo>
                        <a:lnTo>
                          <a:pt x="1841" y="88"/>
                        </a:lnTo>
                        <a:lnTo>
                          <a:pt x="1768" y="88"/>
                        </a:lnTo>
                        <a:lnTo>
                          <a:pt x="1711" y="98"/>
                        </a:lnTo>
                        <a:lnTo>
                          <a:pt x="1804" y="140"/>
                        </a:lnTo>
                        <a:lnTo>
                          <a:pt x="1679" y="140"/>
                        </a:lnTo>
                        <a:lnTo>
                          <a:pt x="1565" y="150"/>
                        </a:lnTo>
                        <a:lnTo>
                          <a:pt x="1513" y="155"/>
                        </a:lnTo>
                        <a:lnTo>
                          <a:pt x="1467" y="166"/>
                        </a:lnTo>
                        <a:lnTo>
                          <a:pt x="1503" y="250"/>
                        </a:lnTo>
                        <a:lnTo>
                          <a:pt x="1373" y="260"/>
                        </a:lnTo>
                        <a:lnTo>
                          <a:pt x="1258" y="270"/>
                        </a:lnTo>
                        <a:lnTo>
                          <a:pt x="1201" y="280"/>
                        </a:lnTo>
                        <a:lnTo>
                          <a:pt x="1150" y="296"/>
                        </a:lnTo>
                        <a:lnTo>
                          <a:pt x="1232" y="353"/>
                        </a:lnTo>
                        <a:lnTo>
                          <a:pt x="1248" y="369"/>
                        </a:lnTo>
                        <a:lnTo>
                          <a:pt x="1263" y="390"/>
                        </a:lnTo>
                        <a:lnTo>
                          <a:pt x="1285" y="415"/>
                        </a:lnTo>
                        <a:lnTo>
                          <a:pt x="1300" y="452"/>
                        </a:lnTo>
                        <a:lnTo>
                          <a:pt x="1310" y="488"/>
                        </a:lnTo>
                        <a:lnTo>
                          <a:pt x="1310" y="535"/>
                        </a:lnTo>
                        <a:lnTo>
                          <a:pt x="1305" y="562"/>
                        </a:lnTo>
                        <a:lnTo>
                          <a:pt x="1300" y="587"/>
                        </a:lnTo>
                        <a:lnTo>
                          <a:pt x="1180" y="577"/>
                        </a:lnTo>
                        <a:lnTo>
                          <a:pt x="1269" y="645"/>
                        </a:lnTo>
                        <a:lnTo>
                          <a:pt x="1332" y="697"/>
                        </a:lnTo>
                        <a:lnTo>
                          <a:pt x="1357" y="723"/>
                        </a:lnTo>
                        <a:lnTo>
                          <a:pt x="1368" y="744"/>
                        </a:lnTo>
                        <a:lnTo>
                          <a:pt x="1368" y="754"/>
                        </a:lnTo>
                        <a:lnTo>
                          <a:pt x="1368" y="759"/>
                        </a:lnTo>
                        <a:lnTo>
                          <a:pt x="1352" y="764"/>
                        </a:lnTo>
                        <a:lnTo>
                          <a:pt x="1332" y="770"/>
                        </a:lnTo>
                        <a:lnTo>
                          <a:pt x="1305" y="764"/>
                        </a:lnTo>
                        <a:lnTo>
                          <a:pt x="1258" y="759"/>
                        </a:lnTo>
                        <a:lnTo>
                          <a:pt x="1232" y="754"/>
                        </a:lnTo>
                        <a:lnTo>
                          <a:pt x="1285" y="884"/>
                        </a:lnTo>
                        <a:lnTo>
                          <a:pt x="1160" y="894"/>
                        </a:lnTo>
                        <a:lnTo>
                          <a:pt x="1056" y="910"/>
                        </a:lnTo>
                        <a:lnTo>
                          <a:pt x="968" y="926"/>
                        </a:lnTo>
                        <a:lnTo>
                          <a:pt x="983" y="931"/>
                        </a:lnTo>
                        <a:lnTo>
                          <a:pt x="1019" y="952"/>
                        </a:lnTo>
                        <a:lnTo>
                          <a:pt x="1035" y="962"/>
                        </a:lnTo>
                        <a:lnTo>
                          <a:pt x="1050" y="977"/>
                        </a:lnTo>
                        <a:lnTo>
                          <a:pt x="1061" y="994"/>
                        </a:lnTo>
                        <a:lnTo>
                          <a:pt x="1071" y="1014"/>
                        </a:lnTo>
                        <a:lnTo>
                          <a:pt x="1066" y="1019"/>
                        </a:lnTo>
                        <a:lnTo>
                          <a:pt x="1061" y="1030"/>
                        </a:lnTo>
                        <a:lnTo>
                          <a:pt x="1035" y="1040"/>
                        </a:lnTo>
                        <a:lnTo>
                          <a:pt x="998" y="1051"/>
                        </a:lnTo>
                        <a:lnTo>
                          <a:pt x="951" y="1061"/>
                        </a:lnTo>
                        <a:lnTo>
                          <a:pt x="873" y="1072"/>
                        </a:lnTo>
                        <a:lnTo>
                          <a:pt x="838" y="1072"/>
                        </a:lnTo>
                        <a:lnTo>
                          <a:pt x="926" y="1139"/>
                        </a:lnTo>
                        <a:lnTo>
                          <a:pt x="936" y="1155"/>
                        </a:lnTo>
                        <a:lnTo>
                          <a:pt x="941" y="1171"/>
                        </a:lnTo>
                        <a:lnTo>
                          <a:pt x="941" y="1197"/>
                        </a:lnTo>
                        <a:lnTo>
                          <a:pt x="941" y="1222"/>
                        </a:lnTo>
                        <a:lnTo>
                          <a:pt x="926" y="1249"/>
                        </a:lnTo>
                        <a:lnTo>
                          <a:pt x="900" y="1279"/>
                        </a:lnTo>
                        <a:lnTo>
                          <a:pt x="863" y="1306"/>
                        </a:lnTo>
                        <a:lnTo>
                          <a:pt x="879" y="1311"/>
                        </a:lnTo>
                        <a:lnTo>
                          <a:pt x="894" y="1316"/>
                        </a:lnTo>
                        <a:lnTo>
                          <a:pt x="915" y="1327"/>
                        </a:lnTo>
                        <a:lnTo>
                          <a:pt x="931" y="1337"/>
                        </a:lnTo>
                        <a:lnTo>
                          <a:pt x="941" y="1358"/>
                        </a:lnTo>
                        <a:lnTo>
                          <a:pt x="941" y="1379"/>
                        </a:lnTo>
                        <a:lnTo>
                          <a:pt x="936" y="1409"/>
                        </a:lnTo>
                        <a:lnTo>
                          <a:pt x="921" y="1436"/>
                        </a:lnTo>
                        <a:lnTo>
                          <a:pt x="900" y="1462"/>
                        </a:lnTo>
                        <a:lnTo>
                          <a:pt x="879" y="1477"/>
                        </a:lnTo>
                        <a:lnTo>
                          <a:pt x="858" y="1488"/>
                        </a:lnTo>
                        <a:lnTo>
                          <a:pt x="821" y="1499"/>
                        </a:lnTo>
                        <a:lnTo>
                          <a:pt x="806" y="1499"/>
                        </a:lnTo>
                        <a:lnTo>
                          <a:pt x="821" y="1509"/>
                        </a:lnTo>
                        <a:lnTo>
                          <a:pt x="858" y="1524"/>
                        </a:lnTo>
                        <a:lnTo>
                          <a:pt x="873" y="1539"/>
                        </a:lnTo>
                        <a:lnTo>
                          <a:pt x="889" y="1556"/>
                        </a:lnTo>
                        <a:lnTo>
                          <a:pt x="894" y="1571"/>
                        </a:lnTo>
                        <a:lnTo>
                          <a:pt x="884" y="1592"/>
                        </a:lnTo>
                        <a:lnTo>
                          <a:pt x="868" y="1613"/>
                        </a:lnTo>
                        <a:lnTo>
                          <a:pt x="838" y="1623"/>
                        </a:lnTo>
                        <a:lnTo>
                          <a:pt x="806" y="1639"/>
                        </a:lnTo>
                        <a:lnTo>
                          <a:pt x="769" y="1649"/>
                        </a:lnTo>
                        <a:lnTo>
                          <a:pt x="713" y="1659"/>
                        </a:lnTo>
                        <a:lnTo>
                          <a:pt x="686" y="1664"/>
                        </a:lnTo>
                        <a:lnTo>
                          <a:pt x="702" y="1676"/>
                        </a:lnTo>
                        <a:lnTo>
                          <a:pt x="738" y="1701"/>
                        </a:lnTo>
                        <a:lnTo>
                          <a:pt x="754" y="1717"/>
                        </a:lnTo>
                        <a:lnTo>
                          <a:pt x="759" y="1728"/>
                        </a:lnTo>
                        <a:lnTo>
                          <a:pt x="759" y="1738"/>
                        </a:lnTo>
                        <a:lnTo>
                          <a:pt x="754" y="1743"/>
                        </a:lnTo>
                        <a:lnTo>
                          <a:pt x="733" y="1753"/>
                        </a:lnTo>
                        <a:lnTo>
                          <a:pt x="666" y="1779"/>
                        </a:lnTo>
                        <a:lnTo>
                          <a:pt x="588" y="1806"/>
                        </a:lnTo>
                        <a:lnTo>
                          <a:pt x="499" y="1847"/>
                        </a:lnTo>
                        <a:lnTo>
                          <a:pt x="531" y="1847"/>
                        </a:lnTo>
                        <a:lnTo>
                          <a:pt x="593" y="1858"/>
                        </a:lnTo>
                        <a:lnTo>
                          <a:pt x="629" y="1868"/>
                        </a:lnTo>
                        <a:lnTo>
                          <a:pt x="666" y="1883"/>
                        </a:lnTo>
                        <a:lnTo>
                          <a:pt x="691" y="1904"/>
                        </a:lnTo>
                        <a:lnTo>
                          <a:pt x="697" y="1915"/>
                        </a:lnTo>
                        <a:lnTo>
                          <a:pt x="702" y="1931"/>
                        </a:lnTo>
                        <a:lnTo>
                          <a:pt x="702" y="1961"/>
                        </a:lnTo>
                        <a:lnTo>
                          <a:pt x="691" y="1993"/>
                        </a:lnTo>
                        <a:lnTo>
                          <a:pt x="676" y="2024"/>
                        </a:lnTo>
                        <a:lnTo>
                          <a:pt x="656" y="2055"/>
                        </a:lnTo>
                        <a:lnTo>
                          <a:pt x="629" y="2081"/>
                        </a:lnTo>
                        <a:lnTo>
                          <a:pt x="609" y="2103"/>
                        </a:lnTo>
                        <a:lnTo>
                          <a:pt x="582" y="2123"/>
                        </a:lnTo>
                        <a:lnTo>
                          <a:pt x="562" y="2128"/>
                        </a:lnTo>
                        <a:lnTo>
                          <a:pt x="551" y="2133"/>
                        </a:lnTo>
                        <a:lnTo>
                          <a:pt x="551" y="2138"/>
                        </a:lnTo>
                        <a:lnTo>
                          <a:pt x="582" y="2149"/>
                        </a:lnTo>
                        <a:lnTo>
                          <a:pt x="598" y="2154"/>
                        </a:lnTo>
                        <a:lnTo>
                          <a:pt x="619" y="2165"/>
                        </a:lnTo>
                        <a:lnTo>
                          <a:pt x="629" y="2175"/>
                        </a:lnTo>
                        <a:lnTo>
                          <a:pt x="634" y="2191"/>
                        </a:lnTo>
                        <a:lnTo>
                          <a:pt x="624" y="2211"/>
                        </a:lnTo>
                        <a:lnTo>
                          <a:pt x="614" y="2233"/>
                        </a:lnTo>
                        <a:lnTo>
                          <a:pt x="593" y="2248"/>
                        </a:lnTo>
                        <a:lnTo>
                          <a:pt x="567" y="2263"/>
                        </a:lnTo>
                        <a:lnTo>
                          <a:pt x="526" y="2285"/>
                        </a:lnTo>
                        <a:lnTo>
                          <a:pt x="504" y="2295"/>
                        </a:lnTo>
                        <a:lnTo>
                          <a:pt x="531" y="2295"/>
                        </a:lnTo>
                        <a:lnTo>
                          <a:pt x="582" y="2305"/>
                        </a:lnTo>
                        <a:lnTo>
                          <a:pt x="603" y="2315"/>
                        </a:lnTo>
                        <a:lnTo>
                          <a:pt x="624" y="2326"/>
                        </a:lnTo>
                        <a:lnTo>
                          <a:pt x="629" y="2336"/>
                        </a:lnTo>
                        <a:lnTo>
                          <a:pt x="629" y="2341"/>
                        </a:lnTo>
                        <a:lnTo>
                          <a:pt x="629" y="2352"/>
                        </a:lnTo>
                        <a:lnTo>
                          <a:pt x="624" y="2363"/>
                        </a:lnTo>
                        <a:lnTo>
                          <a:pt x="603" y="2388"/>
                        </a:lnTo>
                        <a:lnTo>
                          <a:pt x="577" y="2398"/>
                        </a:lnTo>
                        <a:lnTo>
                          <a:pt x="556" y="2410"/>
                        </a:lnTo>
                        <a:lnTo>
                          <a:pt x="531" y="2420"/>
                        </a:lnTo>
                        <a:lnTo>
                          <a:pt x="489" y="2420"/>
                        </a:lnTo>
                        <a:lnTo>
                          <a:pt x="468" y="2420"/>
                        </a:lnTo>
                        <a:lnTo>
                          <a:pt x="484" y="2425"/>
                        </a:lnTo>
                        <a:lnTo>
                          <a:pt x="514" y="2430"/>
                        </a:lnTo>
                        <a:lnTo>
                          <a:pt x="526" y="2440"/>
                        </a:lnTo>
                        <a:lnTo>
                          <a:pt x="536" y="2451"/>
                        </a:lnTo>
                        <a:lnTo>
                          <a:pt x="536" y="2461"/>
                        </a:lnTo>
                        <a:lnTo>
                          <a:pt x="531" y="2477"/>
                        </a:lnTo>
                        <a:lnTo>
                          <a:pt x="509" y="2498"/>
                        </a:lnTo>
                        <a:lnTo>
                          <a:pt x="479" y="2518"/>
                        </a:lnTo>
                        <a:lnTo>
                          <a:pt x="400" y="2565"/>
                        </a:lnTo>
                        <a:lnTo>
                          <a:pt x="297" y="2617"/>
                        </a:lnTo>
                        <a:lnTo>
                          <a:pt x="317" y="2623"/>
                        </a:lnTo>
                        <a:lnTo>
                          <a:pt x="364" y="2633"/>
                        </a:lnTo>
                        <a:lnTo>
                          <a:pt x="379" y="2643"/>
                        </a:lnTo>
                        <a:lnTo>
                          <a:pt x="390" y="2654"/>
                        </a:lnTo>
                        <a:lnTo>
                          <a:pt x="395" y="2659"/>
                        </a:lnTo>
                        <a:lnTo>
                          <a:pt x="395" y="2665"/>
                        </a:lnTo>
                        <a:lnTo>
                          <a:pt x="379" y="2680"/>
                        </a:lnTo>
                        <a:lnTo>
                          <a:pt x="317" y="2711"/>
                        </a:lnTo>
                        <a:lnTo>
                          <a:pt x="250" y="2737"/>
                        </a:lnTo>
                        <a:lnTo>
                          <a:pt x="162" y="2763"/>
                        </a:lnTo>
                        <a:lnTo>
                          <a:pt x="182" y="2779"/>
                        </a:lnTo>
                        <a:lnTo>
                          <a:pt x="213" y="2810"/>
                        </a:lnTo>
                        <a:lnTo>
                          <a:pt x="229" y="2825"/>
                        </a:lnTo>
                        <a:lnTo>
                          <a:pt x="234" y="2847"/>
                        </a:lnTo>
                        <a:lnTo>
                          <a:pt x="234" y="2852"/>
                        </a:lnTo>
                        <a:lnTo>
                          <a:pt x="234" y="2862"/>
                        </a:lnTo>
                        <a:lnTo>
                          <a:pt x="229" y="2867"/>
                        </a:lnTo>
                        <a:lnTo>
                          <a:pt x="219" y="2872"/>
                        </a:lnTo>
                        <a:lnTo>
                          <a:pt x="187" y="2893"/>
                        </a:lnTo>
                        <a:lnTo>
                          <a:pt x="156" y="2919"/>
                        </a:lnTo>
                        <a:lnTo>
                          <a:pt x="83" y="2982"/>
                        </a:lnTo>
                        <a:lnTo>
                          <a:pt x="0" y="3065"/>
                        </a:lnTo>
                        <a:close/>
                      </a:path>
                    </a:pathLst>
                  </a:cu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" name="未知"/>
                  <p:cNvSpPr/>
                  <p:nvPr/>
                </p:nvSpPr>
                <p:spPr>
                  <a:xfrm rot="4199400">
                    <a:off x="-82440" y="1153800"/>
                    <a:ext cx="26100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4" h="1941">
                        <a:moveTo>
                          <a:pt x="0" y="1941"/>
                        </a:moveTo>
                        <a:lnTo>
                          <a:pt x="141" y="1936"/>
                        </a:lnTo>
                        <a:lnTo>
                          <a:pt x="463" y="1916"/>
                        </a:lnTo>
                        <a:lnTo>
                          <a:pt x="655" y="1899"/>
                        </a:lnTo>
                        <a:lnTo>
                          <a:pt x="842" y="1874"/>
                        </a:lnTo>
                        <a:lnTo>
                          <a:pt x="1014" y="1848"/>
                        </a:lnTo>
                        <a:lnTo>
                          <a:pt x="1087" y="1837"/>
                        </a:lnTo>
                        <a:lnTo>
                          <a:pt x="1149" y="1822"/>
                        </a:lnTo>
                        <a:lnTo>
                          <a:pt x="1311" y="1775"/>
                        </a:lnTo>
                        <a:lnTo>
                          <a:pt x="1550" y="1717"/>
                        </a:lnTo>
                        <a:lnTo>
                          <a:pt x="1846" y="1644"/>
                        </a:lnTo>
                        <a:lnTo>
                          <a:pt x="2179" y="1551"/>
                        </a:lnTo>
                        <a:lnTo>
                          <a:pt x="2346" y="1499"/>
                        </a:lnTo>
                        <a:lnTo>
                          <a:pt x="2517" y="1442"/>
                        </a:lnTo>
                        <a:lnTo>
                          <a:pt x="2683" y="1379"/>
                        </a:lnTo>
                        <a:lnTo>
                          <a:pt x="2845" y="1312"/>
                        </a:lnTo>
                        <a:lnTo>
                          <a:pt x="2995" y="1244"/>
                        </a:lnTo>
                        <a:lnTo>
                          <a:pt x="3135" y="1172"/>
                        </a:lnTo>
                        <a:lnTo>
                          <a:pt x="3260" y="1093"/>
                        </a:lnTo>
                        <a:lnTo>
                          <a:pt x="3317" y="1052"/>
                        </a:lnTo>
                        <a:lnTo>
                          <a:pt x="3364" y="1010"/>
                        </a:lnTo>
                        <a:lnTo>
                          <a:pt x="3235" y="432"/>
                        </a:lnTo>
                        <a:lnTo>
                          <a:pt x="3177" y="380"/>
                        </a:lnTo>
                        <a:lnTo>
                          <a:pt x="3053" y="266"/>
                        </a:lnTo>
                        <a:lnTo>
                          <a:pt x="2975" y="198"/>
                        </a:lnTo>
                        <a:lnTo>
                          <a:pt x="2907" y="125"/>
                        </a:lnTo>
                        <a:lnTo>
                          <a:pt x="2845" y="58"/>
                        </a:lnTo>
                        <a:lnTo>
                          <a:pt x="2803" y="0"/>
                        </a:lnTo>
                        <a:lnTo>
                          <a:pt x="2704" y="52"/>
                        </a:lnTo>
                        <a:lnTo>
                          <a:pt x="2444" y="193"/>
                        </a:lnTo>
                        <a:lnTo>
                          <a:pt x="2064" y="401"/>
                        </a:lnTo>
                        <a:lnTo>
                          <a:pt x="1840" y="531"/>
                        </a:lnTo>
                        <a:lnTo>
                          <a:pt x="1612" y="672"/>
                        </a:lnTo>
                        <a:lnTo>
                          <a:pt x="1373" y="817"/>
                        </a:lnTo>
                        <a:lnTo>
                          <a:pt x="1134" y="973"/>
                        </a:lnTo>
                        <a:lnTo>
                          <a:pt x="900" y="1135"/>
                        </a:lnTo>
                        <a:lnTo>
                          <a:pt x="677" y="1296"/>
                        </a:lnTo>
                        <a:lnTo>
                          <a:pt x="468" y="1462"/>
                        </a:lnTo>
                        <a:lnTo>
                          <a:pt x="370" y="1546"/>
                        </a:lnTo>
                        <a:lnTo>
                          <a:pt x="281" y="1629"/>
                        </a:lnTo>
                        <a:lnTo>
                          <a:pt x="198" y="1707"/>
                        </a:lnTo>
                        <a:lnTo>
                          <a:pt x="125" y="1786"/>
                        </a:lnTo>
                        <a:lnTo>
                          <a:pt x="58" y="1864"/>
                        </a:lnTo>
                        <a:lnTo>
                          <a:pt x="0" y="194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未知"/>
                  <p:cNvSpPr/>
                  <p:nvPr/>
                </p:nvSpPr>
                <p:spPr>
                  <a:xfrm rot="4199400">
                    <a:off x="-111600" y="1170720"/>
                    <a:ext cx="379800" cy="214560"/>
                  </a:xfrm>
                  <a:custGeom>
                    <a:avLst/>
                    <a:gdLst/>
                    <a:ahLst/>
                    <a:rect l="l" t="t" r="r" b="b"/>
                    <a:pathLst>
                      <a:path w="4888" h="2436">
                        <a:moveTo>
                          <a:pt x="0" y="2436"/>
                        </a:moveTo>
                        <a:lnTo>
                          <a:pt x="358" y="2296"/>
                        </a:lnTo>
                        <a:lnTo>
                          <a:pt x="1169" y="1968"/>
                        </a:lnTo>
                        <a:lnTo>
                          <a:pt x="1628" y="1786"/>
                        </a:lnTo>
                        <a:lnTo>
                          <a:pt x="2044" y="1609"/>
                        </a:lnTo>
                        <a:lnTo>
                          <a:pt x="2381" y="1457"/>
                        </a:lnTo>
                        <a:lnTo>
                          <a:pt x="2501" y="1400"/>
                        </a:lnTo>
                        <a:lnTo>
                          <a:pt x="2584" y="1359"/>
                        </a:lnTo>
                        <a:lnTo>
                          <a:pt x="2828" y="1213"/>
                        </a:lnTo>
                        <a:lnTo>
                          <a:pt x="3057" y="1083"/>
                        </a:lnTo>
                        <a:lnTo>
                          <a:pt x="3250" y="979"/>
                        </a:lnTo>
                        <a:lnTo>
                          <a:pt x="3322" y="942"/>
                        </a:lnTo>
                        <a:lnTo>
                          <a:pt x="3380" y="922"/>
                        </a:lnTo>
                        <a:lnTo>
                          <a:pt x="3469" y="885"/>
                        </a:lnTo>
                        <a:lnTo>
                          <a:pt x="3634" y="812"/>
                        </a:lnTo>
                        <a:lnTo>
                          <a:pt x="3853" y="708"/>
                        </a:lnTo>
                        <a:lnTo>
                          <a:pt x="4103" y="583"/>
                        </a:lnTo>
                        <a:lnTo>
                          <a:pt x="4352" y="458"/>
                        </a:lnTo>
                        <a:lnTo>
                          <a:pt x="4587" y="333"/>
                        </a:lnTo>
                        <a:lnTo>
                          <a:pt x="4685" y="276"/>
                        </a:lnTo>
                        <a:lnTo>
                          <a:pt x="4774" y="219"/>
                        </a:lnTo>
                        <a:lnTo>
                          <a:pt x="4841" y="172"/>
                        </a:lnTo>
                        <a:lnTo>
                          <a:pt x="4888" y="136"/>
                        </a:lnTo>
                        <a:lnTo>
                          <a:pt x="4888" y="115"/>
                        </a:lnTo>
                        <a:lnTo>
                          <a:pt x="4888" y="73"/>
                        </a:lnTo>
                        <a:lnTo>
                          <a:pt x="4882" y="47"/>
                        </a:lnTo>
                        <a:lnTo>
                          <a:pt x="4877" y="26"/>
                        </a:lnTo>
                        <a:lnTo>
                          <a:pt x="4867" y="11"/>
                        </a:lnTo>
                        <a:lnTo>
                          <a:pt x="4846" y="0"/>
                        </a:lnTo>
                        <a:lnTo>
                          <a:pt x="4836" y="0"/>
                        </a:lnTo>
                        <a:lnTo>
                          <a:pt x="4826" y="6"/>
                        </a:lnTo>
                        <a:lnTo>
                          <a:pt x="4799" y="26"/>
                        </a:lnTo>
                        <a:lnTo>
                          <a:pt x="4727" y="109"/>
                        </a:lnTo>
                        <a:lnTo>
                          <a:pt x="4680" y="161"/>
                        </a:lnTo>
                        <a:lnTo>
                          <a:pt x="4628" y="219"/>
                        </a:lnTo>
                        <a:lnTo>
                          <a:pt x="4560" y="271"/>
                        </a:lnTo>
                        <a:lnTo>
                          <a:pt x="4524" y="297"/>
                        </a:lnTo>
                        <a:lnTo>
                          <a:pt x="4482" y="318"/>
                        </a:lnTo>
                        <a:lnTo>
                          <a:pt x="4233" y="443"/>
                        </a:lnTo>
                        <a:lnTo>
                          <a:pt x="3900" y="604"/>
                        </a:lnTo>
                        <a:lnTo>
                          <a:pt x="3593" y="745"/>
                        </a:lnTo>
                        <a:lnTo>
                          <a:pt x="3484" y="792"/>
                        </a:lnTo>
                        <a:lnTo>
                          <a:pt x="3422" y="817"/>
                        </a:lnTo>
                        <a:lnTo>
                          <a:pt x="3380" y="833"/>
                        </a:lnTo>
                        <a:lnTo>
                          <a:pt x="3317" y="864"/>
                        </a:lnTo>
                        <a:lnTo>
                          <a:pt x="3172" y="947"/>
                        </a:lnTo>
                        <a:lnTo>
                          <a:pt x="3010" y="1047"/>
                        </a:lnTo>
                        <a:lnTo>
                          <a:pt x="2875" y="1135"/>
                        </a:lnTo>
                        <a:lnTo>
                          <a:pt x="2730" y="1224"/>
                        </a:lnTo>
                        <a:lnTo>
                          <a:pt x="2533" y="1327"/>
                        </a:lnTo>
                        <a:lnTo>
                          <a:pt x="2329" y="1437"/>
                        </a:lnTo>
                        <a:lnTo>
                          <a:pt x="2152" y="1520"/>
                        </a:lnTo>
                        <a:lnTo>
                          <a:pt x="1726" y="1702"/>
                        </a:lnTo>
                        <a:lnTo>
                          <a:pt x="999" y="2014"/>
                        </a:lnTo>
                        <a:lnTo>
                          <a:pt x="0" y="243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未知"/>
                  <p:cNvSpPr/>
                  <p:nvPr/>
                </p:nvSpPr>
                <p:spPr>
                  <a:xfrm rot="4199400">
                    <a:off x="-33120" y="1193760"/>
                    <a:ext cx="12348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97" h="240">
                        <a:moveTo>
                          <a:pt x="0" y="5"/>
                        </a:moveTo>
                        <a:lnTo>
                          <a:pt x="198" y="17"/>
                        </a:lnTo>
                        <a:lnTo>
                          <a:pt x="411" y="27"/>
                        </a:lnTo>
                        <a:lnTo>
                          <a:pt x="656" y="47"/>
                        </a:lnTo>
                        <a:lnTo>
                          <a:pt x="921" y="79"/>
                        </a:lnTo>
                        <a:lnTo>
                          <a:pt x="1051" y="95"/>
                        </a:lnTo>
                        <a:lnTo>
                          <a:pt x="1176" y="115"/>
                        </a:lnTo>
                        <a:lnTo>
                          <a:pt x="1285" y="142"/>
                        </a:lnTo>
                        <a:lnTo>
                          <a:pt x="1389" y="172"/>
                        </a:lnTo>
                        <a:lnTo>
                          <a:pt x="1472" y="204"/>
                        </a:lnTo>
                        <a:lnTo>
                          <a:pt x="1509" y="219"/>
                        </a:lnTo>
                        <a:lnTo>
                          <a:pt x="1540" y="240"/>
                        </a:lnTo>
                        <a:lnTo>
                          <a:pt x="1597" y="225"/>
                        </a:lnTo>
                        <a:lnTo>
                          <a:pt x="1571" y="214"/>
                        </a:lnTo>
                        <a:lnTo>
                          <a:pt x="1487" y="183"/>
                        </a:lnTo>
                        <a:lnTo>
                          <a:pt x="1358" y="142"/>
                        </a:lnTo>
                        <a:lnTo>
                          <a:pt x="1176" y="100"/>
                        </a:lnTo>
                        <a:lnTo>
                          <a:pt x="1067" y="73"/>
                        </a:lnTo>
                        <a:lnTo>
                          <a:pt x="947" y="53"/>
                        </a:lnTo>
                        <a:lnTo>
                          <a:pt x="811" y="37"/>
                        </a:lnTo>
                        <a:lnTo>
                          <a:pt x="671" y="22"/>
                        </a:lnTo>
                        <a:lnTo>
                          <a:pt x="521" y="11"/>
                        </a:lnTo>
                        <a:lnTo>
                          <a:pt x="354" y="0"/>
                        </a:lnTo>
                        <a:lnTo>
                          <a:pt x="18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未知"/>
                  <p:cNvSpPr/>
                  <p:nvPr/>
                </p:nvSpPr>
                <p:spPr>
                  <a:xfrm rot="4199400">
                    <a:off x="22320" y="1179720"/>
                    <a:ext cx="15948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59" h="906">
                        <a:moveTo>
                          <a:pt x="0" y="427"/>
                        </a:moveTo>
                        <a:lnTo>
                          <a:pt x="141" y="448"/>
                        </a:lnTo>
                        <a:lnTo>
                          <a:pt x="463" y="505"/>
                        </a:lnTo>
                        <a:lnTo>
                          <a:pt x="640" y="542"/>
                        </a:lnTo>
                        <a:lnTo>
                          <a:pt x="806" y="578"/>
                        </a:lnTo>
                        <a:lnTo>
                          <a:pt x="879" y="599"/>
                        </a:lnTo>
                        <a:lnTo>
                          <a:pt x="941" y="619"/>
                        </a:lnTo>
                        <a:lnTo>
                          <a:pt x="989" y="641"/>
                        </a:lnTo>
                        <a:lnTo>
                          <a:pt x="1024" y="661"/>
                        </a:lnTo>
                        <a:lnTo>
                          <a:pt x="1061" y="677"/>
                        </a:lnTo>
                        <a:lnTo>
                          <a:pt x="1108" y="698"/>
                        </a:lnTo>
                        <a:lnTo>
                          <a:pt x="1171" y="719"/>
                        </a:lnTo>
                        <a:lnTo>
                          <a:pt x="1238" y="744"/>
                        </a:lnTo>
                        <a:lnTo>
                          <a:pt x="1404" y="781"/>
                        </a:lnTo>
                        <a:lnTo>
                          <a:pt x="1581" y="823"/>
                        </a:lnTo>
                        <a:lnTo>
                          <a:pt x="1893" y="879"/>
                        </a:lnTo>
                        <a:lnTo>
                          <a:pt x="2034" y="906"/>
                        </a:lnTo>
                        <a:lnTo>
                          <a:pt x="2059" y="854"/>
                        </a:lnTo>
                        <a:lnTo>
                          <a:pt x="1924" y="833"/>
                        </a:lnTo>
                        <a:lnTo>
                          <a:pt x="1623" y="781"/>
                        </a:lnTo>
                        <a:lnTo>
                          <a:pt x="1456" y="749"/>
                        </a:lnTo>
                        <a:lnTo>
                          <a:pt x="1295" y="714"/>
                        </a:lnTo>
                        <a:lnTo>
                          <a:pt x="1165" y="682"/>
                        </a:lnTo>
                        <a:lnTo>
                          <a:pt x="1118" y="666"/>
                        </a:lnTo>
                        <a:lnTo>
                          <a:pt x="1087" y="651"/>
                        </a:lnTo>
                        <a:lnTo>
                          <a:pt x="1056" y="630"/>
                        </a:lnTo>
                        <a:lnTo>
                          <a:pt x="1019" y="604"/>
                        </a:lnTo>
                        <a:lnTo>
                          <a:pt x="936" y="531"/>
                        </a:lnTo>
                        <a:lnTo>
                          <a:pt x="723" y="329"/>
                        </a:lnTo>
                        <a:lnTo>
                          <a:pt x="609" y="219"/>
                        </a:lnTo>
                        <a:lnTo>
                          <a:pt x="495" y="125"/>
                        </a:lnTo>
                        <a:lnTo>
                          <a:pt x="442" y="84"/>
                        </a:lnTo>
                        <a:lnTo>
                          <a:pt x="390" y="47"/>
                        </a:lnTo>
                        <a:lnTo>
                          <a:pt x="343" y="21"/>
                        </a:lnTo>
                        <a:lnTo>
                          <a:pt x="302" y="0"/>
                        </a:lnTo>
                        <a:lnTo>
                          <a:pt x="562" y="234"/>
                        </a:lnTo>
                        <a:lnTo>
                          <a:pt x="759" y="417"/>
                        </a:lnTo>
                        <a:lnTo>
                          <a:pt x="837" y="494"/>
                        </a:lnTo>
                        <a:lnTo>
                          <a:pt x="889" y="552"/>
                        </a:lnTo>
                        <a:lnTo>
                          <a:pt x="775" y="531"/>
                        </a:lnTo>
                        <a:lnTo>
                          <a:pt x="515" y="479"/>
                        </a:lnTo>
                        <a:lnTo>
                          <a:pt x="365" y="459"/>
                        </a:lnTo>
                        <a:lnTo>
                          <a:pt x="218" y="437"/>
                        </a:lnTo>
                        <a:lnTo>
                          <a:pt x="94" y="427"/>
                        </a:lnTo>
                        <a:lnTo>
                          <a:pt x="41" y="427"/>
                        </a:lnTo>
                        <a:lnTo>
                          <a:pt x="0" y="42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4" name="未知"/>
                  <p:cNvSpPr/>
                  <p:nvPr/>
                </p:nvSpPr>
                <p:spPr>
                  <a:xfrm rot="4199400">
                    <a:off x="58680" y="1180800"/>
                    <a:ext cx="176040" cy="10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7" h="1181">
                        <a:moveTo>
                          <a:pt x="0" y="286"/>
                        </a:moveTo>
                        <a:lnTo>
                          <a:pt x="156" y="339"/>
                        </a:lnTo>
                        <a:lnTo>
                          <a:pt x="514" y="469"/>
                        </a:lnTo>
                        <a:lnTo>
                          <a:pt x="712" y="546"/>
                        </a:lnTo>
                        <a:lnTo>
                          <a:pt x="900" y="624"/>
                        </a:lnTo>
                        <a:lnTo>
                          <a:pt x="1050" y="692"/>
                        </a:lnTo>
                        <a:lnTo>
                          <a:pt x="1107" y="724"/>
                        </a:lnTo>
                        <a:lnTo>
                          <a:pt x="1149" y="749"/>
                        </a:lnTo>
                        <a:lnTo>
                          <a:pt x="1107" y="776"/>
                        </a:lnTo>
                        <a:lnTo>
                          <a:pt x="1008" y="822"/>
                        </a:lnTo>
                        <a:lnTo>
                          <a:pt x="940" y="848"/>
                        </a:lnTo>
                        <a:lnTo>
                          <a:pt x="868" y="874"/>
                        </a:lnTo>
                        <a:lnTo>
                          <a:pt x="785" y="896"/>
                        </a:lnTo>
                        <a:lnTo>
                          <a:pt x="701" y="906"/>
                        </a:lnTo>
                        <a:lnTo>
                          <a:pt x="743" y="906"/>
                        </a:lnTo>
                        <a:lnTo>
                          <a:pt x="790" y="901"/>
                        </a:lnTo>
                        <a:lnTo>
                          <a:pt x="853" y="896"/>
                        </a:lnTo>
                        <a:lnTo>
                          <a:pt x="925" y="884"/>
                        </a:lnTo>
                        <a:lnTo>
                          <a:pt x="1008" y="864"/>
                        </a:lnTo>
                        <a:lnTo>
                          <a:pt x="1092" y="833"/>
                        </a:lnTo>
                        <a:lnTo>
                          <a:pt x="1170" y="796"/>
                        </a:lnTo>
                        <a:lnTo>
                          <a:pt x="1305" y="859"/>
                        </a:lnTo>
                        <a:lnTo>
                          <a:pt x="1617" y="989"/>
                        </a:lnTo>
                        <a:lnTo>
                          <a:pt x="1794" y="1061"/>
                        </a:lnTo>
                        <a:lnTo>
                          <a:pt x="1965" y="1124"/>
                        </a:lnTo>
                        <a:lnTo>
                          <a:pt x="2043" y="1145"/>
                        </a:lnTo>
                        <a:lnTo>
                          <a:pt x="2111" y="1166"/>
                        </a:lnTo>
                        <a:lnTo>
                          <a:pt x="2168" y="1176"/>
                        </a:lnTo>
                        <a:lnTo>
                          <a:pt x="2210" y="1181"/>
                        </a:lnTo>
                        <a:lnTo>
                          <a:pt x="2267" y="1161"/>
                        </a:lnTo>
                        <a:lnTo>
                          <a:pt x="2230" y="1156"/>
                        </a:lnTo>
                        <a:lnTo>
                          <a:pt x="2142" y="1124"/>
                        </a:lnTo>
                        <a:lnTo>
                          <a:pt x="2095" y="1109"/>
                        </a:lnTo>
                        <a:lnTo>
                          <a:pt x="2048" y="1088"/>
                        </a:lnTo>
                        <a:lnTo>
                          <a:pt x="2007" y="1061"/>
                        </a:lnTo>
                        <a:lnTo>
                          <a:pt x="1981" y="1041"/>
                        </a:lnTo>
                        <a:lnTo>
                          <a:pt x="1856" y="869"/>
                        </a:lnTo>
                        <a:lnTo>
                          <a:pt x="1746" y="724"/>
                        </a:lnTo>
                        <a:lnTo>
                          <a:pt x="1617" y="552"/>
                        </a:lnTo>
                        <a:lnTo>
                          <a:pt x="1471" y="380"/>
                        </a:lnTo>
                        <a:lnTo>
                          <a:pt x="1399" y="297"/>
                        </a:lnTo>
                        <a:lnTo>
                          <a:pt x="1326" y="219"/>
                        </a:lnTo>
                        <a:lnTo>
                          <a:pt x="1252" y="151"/>
                        </a:lnTo>
                        <a:lnTo>
                          <a:pt x="1180" y="89"/>
                        </a:lnTo>
                        <a:lnTo>
                          <a:pt x="1112" y="37"/>
                        </a:lnTo>
                        <a:lnTo>
                          <a:pt x="1050" y="0"/>
                        </a:lnTo>
                        <a:lnTo>
                          <a:pt x="1149" y="94"/>
                        </a:lnTo>
                        <a:lnTo>
                          <a:pt x="1247" y="192"/>
                        </a:lnTo>
                        <a:lnTo>
                          <a:pt x="1377" y="327"/>
                        </a:lnTo>
                        <a:lnTo>
                          <a:pt x="1513" y="484"/>
                        </a:lnTo>
                        <a:lnTo>
                          <a:pt x="1653" y="651"/>
                        </a:lnTo>
                        <a:lnTo>
                          <a:pt x="1716" y="739"/>
                        </a:lnTo>
                        <a:lnTo>
                          <a:pt x="1778" y="833"/>
                        </a:lnTo>
                        <a:lnTo>
                          <a:pt x="1835" y="921"/>
                        </a:lnTo>
                        <a:lnTo>
                          <a:pt x="1888" y="1015"/>
                        </a:lnTo>
                        <a:lnTo>
                          <a:pt x="1846" y="1009"/>
                        </a:lnTo>
                        <a:lnTo>
                          <a:pt x="1794" y="994"/>
                        </a:lnTo>
                        <a:lnTo>
                          <a:pt x="1706" y="963"/>
                        </a:lnTo>
                        <a:lnTo>
                          <a:pt x="1591" y="916"/>
                        </a:lnTo>
                        <a:lnTo>
                          <a:pt x="1435" y="848"/>
                        </a:lnTo>
                        <a:lnTo>
                          <a:pt x="1242" y="749"/>
                        </a:lnTo>
                        <a:lnTo>
                          <a:pt x="1003" y="614"/>
                        </a:lnTo>
                        <a:lnTo>
                          <a:pt x="951" y="541"/>
                        </a:lnTo>
                        <a:lnTo>
                          <a:pt x="894" y="458"/>
                        </a:lnTo>
                        <a:lnTo>
                          <a:pt x="816" y="369"/>
                        </a:lnTo>
                        <a:lnTo>
                          <a:pt x="770" y="322"/>
                        </a:lnTo>
                        <a:lnTo>
                          <a:pt x="723" y="276"/>
                        </a:lnTo>
                        <a:lnTo>
                          <a:pt x="670" y="229"/>
                        </a:lnTo>
                        <a:lnTo>
                          <a:pt x="613" y="187"/>
                        </a:lnTo>
                        <a:lnTo>
                          <a:pt x="556" y="151"/>
                        </a:lnTo>
                        <a:lnTo>
                          <a:pt x="494" y="120"/>
                        </a:lnTo>
                        <a:lnTo>
                          <a:pt x="431" y="94"/>
                        </a:lnTo>
                        <a:lnTo>
                          <a:pt x="369" y="78"/>
                        </a:lnTo>
                        <a:lnTo>
                          <a:pt x="436" y="114"/>
                        </a:lnTo>
                        <a:lnTo>
                          <a:pt x="509" y="162"/>
                        </a:lnTo>
                        <a:lnTo>
                          <a:pt x="593" y="219"/>
                        </a:lnTo>
                        <a:lnTo>
                          <a:pt x="681" y="292"/>
                        </a:lnTo>
                        <a:lnTo>
                          <a:pt x="775" y="374"/>
                        </a:lnTo>
                        <a:lnTo>
                          <a:pt x="816" y="422"/>
                        </a:lnTo>
                        <a:lnTo>
                          <a:pt x="853" y="469"/>
                        </a:lnTo>
                        <a:lnTo>
                          <a:pt x="889" y="515"/>
                        </a:lnTo>
                        <a:lnTo>
                          <a:pt x="915" y="567"/>
                        </a:lnTo>
                        <a:lnTo>
                          <a:pt x="800" y="526"/>
                        </a:lnTo>
                        <a:lnTo>
                          <a:pt x="525" y="432"/>
                        </a:lnTo>
                        <a:lnTo>
                          <a:pt x="369" y="380"/>
                        </a:lnTo>
                        <a:lnTo>
                          <a:pt x="224" y="339"/>
                        </a:lnTo>
                        <a:lnTo>
                          <a:pt x="94" y="302"/>
                        </a:lnTo>
                        <a:lnTo>
                          <a:pt x="0" y="28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" name="未知"/>
                  <p:cNvSpPr/>
                  <p:nvPr/>
                </p:nvSpPr>
                <p:spPr>
                  <a:xfrm rot="4199400">
                    <a:off x="-48960" y="1176840"/>
                    <a:ext cx="7308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946" h="155">
                        <a:moveTo>
                          <a:pt x="0" y="30"/>
                        </a:moveTo>
                        <a:lnTo>
                          <a:pt x="103" y="30"/>
                        </a:lnTo>
                        <a:lnTo>
                          <a:pt x="213" y="30"/>
                        </a:lnTo>
                        <a:lnTo>
                          <a:pt x="343" y="42"/>
                        </a:lnTo>
                        <a:lnTo>
                          <a:pt x="488" y="52"/>
                        </a:lnTo>
                        <a:lnTo>
                          <a:pt x="634" y="78"/>
                        </a:lnTo>
                        <a:lnTo>
                          <a:pt x="702" y="93"/>
                        </a:lnTo>
                        <a:lnTo>
                          <a:pt x="764" y="109"/>
                        </a:lnTo>
                        <a:lnTo>
                          <a:pt x="826" y="130"/>
                        </a:lnTo>
                        <a:lnTo>
                          <a:pt x="879" y="155"/>
                        </a:lnTo>
                        <a:lnTo>
                          <a:pt x="946" y="135"/>
                        </a:lnTo>
                        <a:lnTo>
                          <a:pt x="857" y="104"/>
                        </a:lnTo>
                        <a:lnTo>
                          <a:pt x="764" y="72"/>
                        </a:lnTo>
                        <a:lnTo>
                          <a:pt x="634" y="42"/>
                        </a:lnTo>
                        <a:lnTo>
                          <a:pt x="488" y="15"/>
                        </a:lnTo>
                        <a:lnTo>
                          <a:pt x="410" y="5"/>
                        </a:lnTo>
                        <a:lnTo>
                          <a:pt x="332" y="0"/>
                        </a:lnTo>
                        <a:lnTo>
                          <a:pt x="250" y="0"/>
                        </a:lnTo>
                        <a:lnTo>
                          <a:pt x="166" y="5"/>
                        </a:lnTo>
                        <a:lnTo>
                          <a:pt x="83" y="15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" name="未知"/>
                  <p:cNvSpPr/>
                  <p:nvPr/>
                </p:nvSpPr>
                <p:spPr>
                  <a:xfrm rot="4199400">
                    <a:off x="-69840" y="1158480"/>
                    <a:ext cx="3816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499" h="53">
                        <a:moveTo>
                          <a:pt x="0" y="47"/>
                        </a:moveTo>
                        <a:lnTo>
                          <a:pt x="53" y="36"/>
                        </a:lnTo>
                        <a:lnTo>
                          <a:pt x="110" y="31"/>
                        </a:lnTo>
                        <a:lnTo>
                          <a:pt x="172" y="21"/>
                        </a:lnTo>
                        <a:lnTo>
                          <a:pt x="245" y="16"/>
                        </a:lnTo>
                        <a:lnTo>
                          <a:pt x="323" y="21"/>
                        </a:lnTo>
                        <a:lnTo>
                          <a:pt x="385" y="31"/>
                        </a:lnTo>
                        <a:lnTo>
                          <a:pt x="417" y="42"/>
                        </a:lnTo>
                        <a:lnTo>
                          <a:pt x="442" y="53"/>
                        </a:lnTo>
                        <a:lnTo>
                          <a:pt x="499" y="36"/>
                        </a:lnTo>
                        <a:lnTo>
                          <a:pt x="474" y="21"/>
                        </a:lnTo>
                        <a:lnTo>
                          <a:pt x="432" y="11"/>
                        </a:lnTo>
                        <a:lnTo>
                          <a:pt x="380" y="5"/>
                        </a:lnTo>
                        <a:lnTo>
                          <a:pt x="312" y="0"/>
                        </a:lnTo>
                        <a:lnTo>
                          <a:pt x="224" y="5"/>
                        </a:lnTo>
                        <a:lnTo>
                          <a:pt x="120" y="21"/>
                        </a:lnTo>
                        <a:lnTo>
                          <a:pt x="0" y="4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" name="未知"/>
                  <p:cNvSpPr/>
                  <p:nvPr/>
                </p:nvSpPr>
                <p:spPr>
                  <a:xfrm rot="4199400">
                    <a:off x="-74880" y="1161360"/>
                    <a:ext cx="2772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411">
                        <a:moveTo>
                          <a:pt x="0" y="411"/>
                        </a:moveTo>
                        <a:lnTo>
                          <a:pt x="57" y="370"/>
                        </a:lnTo>
                        <a:lnTo>
                          <a:pt x="119" y="323"/>
                        </a:lnTo>
                        <a:lnTo>
                          <a:pt x="187" y="271"/>
                        </a:lnTo>
                        <a:lnTo>
                          <a:pt x="254" y="203"/>
                        </a:lnTo>
                        <a:lnTo>
                          <a:pt x="286" y="172"/>
                        </a:lnTo>
                        <a:lnTo>
                          <a:pt x="312" y="135"/>
                        </a:lnTo>
                        <a:lnTo>
                          <a:pt x="332" y="99"/>
                        </a:lnTo>
                        <a:lnTo>
                          <a:pt x="348" y="63"/>
                        </a:lnTo>
                        <a:lnTo>
                          <a:pt x="359" y="31"/>
                        </a:lnTo>
                        <a:lnTo>
                          <a:pt x="359" y="0"/>
                        </a:lnTo>
                        <a:lnTo>
                          <a:pt x="296" y="26"/>
                        </a:lnTo>
                        <a:lnTo>
                          <a:pt x="296" y="31"/>
                        </a:lnTo>
                        <a:lnTo>
                          <a:pt x="301" y="42"/>
                        </a:lnTo>
                        <a:lnTo>
                          <a:pt x="301" y="63"/>
                        </a:lnTo>
                        <a:lnTo>
                          <a:pt x="291" y="99"/>
                        </a:lnTo>
                        <a:lnTo>
                          <a:pt x="264" y="146"/>
                        </a:lnTo>
                        <a:lnTo>
                          <a:pt x="207" y="213"/>
                        </a:lnTo>
                        <a:lnTo>
                          <a:pt x="124" y="302"/>
                        </a:lnTo>
                        <a:lnTo>
                          <a:pt x="0" y="41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未知"/>
                  <p:cNvSpPr/>
                  <p:nvPr/>
                </p:nvSpPr>
                <p:spPr>
                  <a:xfrm rot="4199400">
                    <a:off x="-70200" y="1173960"/>
                    <a:ext cx="4860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629" h="776">
                        <a:moveTo>
                          <a:pt x="0" y="776"/>
                        </a:moveTo>
                        <a:lnTo>
                          <a:pt x="93" y="697"/>
                        </a:lnTo>
                        <a:lnTo>
                          <a:pt x="192" y="609"/>
                        </a:lnTo>
                        <a:lnTo>
                          <a:pt x="302" y="500"/>
                        </a:lnTo>
                        <a:lnTo>
                          <a:pt x="353" y="442"/>
                        </a:lnTo>
                        <a:lnTo>
                          <a:pt x="405" y="380"/>
                        </a:lnTo>
                        <a:lnTo>
                          <a:pt x="452" y="317"/>
                        </a:lnTo>
                        <a:lnTo>
                          <a:pt x="494" y="255"/>
                        </a:lnTo>
                        <a:lnTo>
                          <a:pt x="530" y="192"/>
                        </a:lnTo>
                        <a:lnTo>
                          <a:pt x="551" y="130"/>
                        </a:lnTo>
                        <a:lnTo>
                          <a:pt x="567" y="73"/>
                        </a:lnTo>
                        <a:lnTo>
                          <a:pt x="567" y="47"/>
                        </a:lnTo>
                        <a:lnTo>
                          <a:pt x="562" y="20"/>
                        </a:lnTo>
                        <a:lnTo>
                          <a:pt x="629" y="0"/>
                        </a:lnTo>
                        <a:lnTo>
                          <a:pt x="624" y="20"/>
                        </a:lnTo>
                        <a:lnTo>
                          <a:pt x="603" y="83"/>
                        </a:lnTo>
                        <a:lnTo>
                          <a:pt x="567" y="172"/>
                        </a:lnTo>
                        <a:lnTo>
                          <a:pt x="540" y="229"/>
                        </a:lnTo>
                        <a:lnTo>
                          <a:pt x="509" y="287"/>
                        </a:lnTo>
                        <a:lnTo>
                          <a:pt x="473" y="344"/>
                        </a:lnTo>
                        <a:lnTo>
                          <a:pt x="427" y="411"/>
                        </a:lnTo>
                        <a:lnTo>
                          <a:pt x="374" y="474"/>
                        </a:lnTo>
                        <a:lnTo>
                          <a:pt x="317" y="536"/>
                        </a:lnTo>
                        <a:lnTo>
                          <a:pt x="250" y="604"/>
                        </a:lnTo>
                        <a:lnTo>
                          <a:pt x="177" y="666"/>
                        </a:lnTo>
                        <a:lnTo>
                          <a:pt x="93" y="724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" name="未知"/>
                  <p:cNvSpPr/>
                  <p:nvPr/>
                </p:nvSpPr>
                <p:spPr>
                  <a:xfrm rot="4199400">
                    <a:off x="-63360" y="1191960"/>
                    <a:ext cx="78120" cy="1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1358">
                        <a:moveTo>
                          <a:pt x="0" y="1358"/>
                        </a:moveTo>
                        <a:lnTo>
                          <a:pt x="145" y="1187"/>
                        </a:lnTo>
                        <a:lnTo>
                          <a:pt x="296" y="1010"/>
                        </a:lnTo>
                        <a:lnTo>
                          <a:pt x="472" y="791"/>
                        </a:lnTo>
                        <a:lnTo>
                          <a:pt x="649" y="562"/>
                        </a:lnTo>
                        <a:lnTo>
                          <a:pt x="728" y="448"/>
                        </a:lnTo>
                        <a:lnTo>
                          <a:pt x="801" y="339"/>
                        </a:lnTo>
                        <a:lnTo>
                          <a:pt x="863" y="234"/>
                        </a:lnTo>
                        <a:lnTo>
                          <a:pt x="915" y="146"/>
                        </a:lnTo>
                        <a:lnTo>
                          <a:pt x="946" y="62"/>
                        </a:lnTo>
                        <a:lnTo>
                          <a:pt x="956" y="31"/>
                        </a:lnTo>
                        <a:lnTo>
                          <a:pt x="961" y="0"/>
                        </a:lnTo>
                        <a:lnTo>
                          <a:pt x="1003" y="10"/>
                        </a:lnTo>
                        <a:lnTo>
                          <a:pt x="998" y="26"/>
                        </a:lnTo>
                        <a:lnTo>
                          <a:pt x="978" y="84"/>
                        </a:lnTo>
                        <a:lnTo>
                          <a:pt x="936" y="182"/>
                        </a:lnTo>
                        <a:lnTo>
                          <a:pt x="899" y="249"/>
                        </a:lnTo>
                        <a:lnTo>
                          <a:pt x="858" y="328"/>
                        </a:lnTo>
                        <a:lnTo>
                          <a:pt x="801" y="411"/>
                        </a:lnTo>
                        <a:lnTo>
                          <a:pt x="733" y="511"/>
                        </a:lnTo>
                        <a:lnTo>
                          <a:pt x="649" y="624"/>
                        </a:lnTo>
                        <a:lnTo>
                          <a:pt x="556" y="744"/>
                        </a:lnTo>
                        <a:lnTo>
                          <a:pt x="442" y="880"/>
                        </a:lnTo>
                        <a:lnTo>
                          <a:pt x="312" y="1025"/>
                        </a:lnTo>
                        <a:lnTo>
                          <a:pt x="166" y="1187"/>
                        </a:lnTo>
                        <a:lnTo>
                          <a:pt x="0" y="1358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" name="未知"/>
                  <p:cNvSpPr/>
                  <p:nvPr/>
                </p:nvSpPr>
                <p:spPr>
                  <a:xfrm rot="4199400">
                    <a:off x="-44280" y="1211760"/>
                    <a:ext cx="8388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81" h="1995">
                        <a:moveTo>
                          <a:pt x="0" y="1995"/>
                        </a:moveTo>
                        <a:lnTo>
                          <a:pt x="167" y="1745"/>
                        </a:lnTo>
                        <a:lnTo>
                          <a:pt x="332" y="1485"/>
                        </a:lnTo>
                        <a:lnTo>
                          <a:pt x="531" y="1166"/>
                        </a:lnTo>
                        <a:lnTo>
                          <a:pt x="624" y="1001"/>
                        </a:lnTo>
                        <a:lnTo>
                          <a:pt x="723" y="834"/>
                        </a:lnTo>
                        <a:lnTo>
                          <a:pt x="806" y="667"/>
                        </a:lnTo>
                        <a:lnTo>
                          <a:pt x="884" y="511"/>
                        </a:lnTo>
                        <a:lnTo>
                          <a:pt x="946" y="365"/>
                        </a:lnTo>
                        <a:lnTo>
                          <a:pt x="998" y="230"/>
                        </a:lnTo>
                        <a:lnTo>
                          <a:pt x="1013" y="172"/>
                        </a:lnTo>
                        <a:lnTo>
                          <a:pt x="1025" y="115"/>
                        </a:lnTo>
                        <a:lnTo>
                          <a:pt x="1030" y="69"/>
                        </a:lnTo>
                        <a:lnTo>
                          <a:pt x="1030" y="27"/>
                        </a:lnTo>
                        <a:lnTo>
                          <a:pt x="1081" y="0"/>
                        </a:lnTo>
                        <a:lnTo>
                          <a:pt x="1081" y="22"/>
                        </a:lnTo>
                        <a:lnTo>
                          <a:pt x="1066" y="100"/>
                        </a:lnTo>
                        <a:lnTo>
                          <a:pt x="1050" y="157"/>
                        </a:lnTo>
                        <a:lnTo>
                          <a:pt x="1030" y="235"/>
                        </a:lnTo>
                        <a:lnTo>
                          <a:pt x="998" y="324"/>
                        </a:lnTo>
                        <a:lnTo>
                          <a:pt x="951" y="433"/>
                        </a:lnTo>
                        <a:lnTo>
                          <a:pt x="894" y="558"/>
                        </a:lnTo>
                        <a:lnTo>
                          <a:pt x="821" y="704"/>
                        </a:lnTo>
                        <a:lnTo>
                          <a:pt x="733" y="864"/>
                        </a:lnTo>
                        <a:lnTo>
                          <a:pt x="629" y="1047"/>
                        </a:lnTo>
                        <a:lnTo>
                          <a:pt x="504" y="1250"/>
                        </a:lnTo>
                        <a:lnTo>
                          <a:pt x="359" y="1474"/>
                        </a:lnTo>
                        <a:lnTo>
                          <a:pt x="192" y="1723"/>
                        </a:lnTo>
                        <a:lnTo>
                          <a:pt x="0" y="199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" name="未知"/>
                  <p:cNvSpPr/>
                  <p:nvPr/>
                </p:nvSpPr>
                <p:spPr>
                  <a:xfrm rot="4199400">
                    <a:off x="-60840" y="1282680"/>
                    <a:ext cx="90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797">
                        <a:moveTo>
                          <a:pt x="0" y="797"/>
                        </a:moveTo>
                        <a:lnTo>
                          <a:pt x="31" y="708"/>
                        </a:lnTo>
                        <a:lnTo>
                          <a:pt x="57" y="608"/>
                        </a:lnTo>
                        <a:lnTo>
                          <a:pt x="77" y="495"/>
                        </a:lnTo>
                        <a:lnTo>
                          <a:pt x="89" y="432"/>
                        </a:lnTo>
                        <a:lnTo>
                          <a:pt x="94" y="370"/>
                        </a:lnTo>
                        <a:lnTo>
                          <a:pt x="99" y="307"/>
                        </a:lnTo>
                        <a:lnTo>
                          <a:pt x="94" y="250"/>
                        </a:lnTo>
                        <a:lnTo>
                          <a:pt x="89" y="193"/>
                        </a:lnTo>
                        <a:lnTo>
                          <a:pt x="72" y="140"/>
                        </a:lnTo>
                        <a:lnTo>
                          <a:pt x="52" y="93"/>
                        </a:lnTo>
                        <a:lnTo>
                          <a:pt x="20" y="51"/>
                        </a:lnTo>
                        <a:lnTo>
                          <a:pt x="57" y="0"/>
                        </a:lnTo>
                        <a:lnTo>
                          <a:pt x="67" y="16"/>
                        </a:lnTo>
                        <a:lnTo>
                          <a:pt x="83" y="51"/>
                        </a:lnTo>
                        <a:lnTo>
                          <a:pt x="104" y="114"/>
                        </a:lnTo>
                        <a:lnTo>
                          <a:pt x="114" y="156"/>
                        </a:lnTo>
                        <a:lnTo>
                          <a:pt x="119" y="203"/>
                        </a:lnTo>
                        <a:lnTo>
                          <a:pt x="125" y="260"/>
                        </a:lnTo>
                        <a:lnTo>
                          <a:pt x="125" y="318"/>
                        </a:lnTo>
                        <a:lnTo>
                          <a:pt x="125" y="385"/>
                        </a:lnTo>
                        <a:lnTo>
                          <a:pt x="114" y="453"/>
                        </a:lnTo>
                        <a:lnTo>
                          <a:pt x="99" y="531"/>
                        </a:lnTo>
                        <a:lnTo>
                          <a:pt x="72" y="614"/>
                        </a:lnTo>
                        <a:lnTo>
                          <a:pt x="42" y="703"/>
                        </a:lnTo>
                        <a:lnTo>
                          <a:pt x="0" y="79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未知"/>
                  <p:cNvSpPr/>
                  <p:nvPr/>
                </p:nvSpPr>
                <p:spPr>
                  <a:xfrm rot="4199400">
                    <a:off x="-7560" y="1239120"/>
                    <a:ext cx="579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749" h="2451">
                        <a:moveTo>
                          <a:pt x="0" y="2451"/>
                        </a:moveTo>
                        <a:lnTo>
                          <a:pt x="57" y="2306"/>
                        </a:lnTo>
                        <a:lnTo>
                          <a:pt x="192" y="1957"/>
                        </a:lnTo>
                        <a:lnTo>
                          <a:pt x="270" y="1734"/>
                        </a:lnTo>
                        <a:lnTo>
                          <a:pt x="348" y="1509"/>
                        </a:lnTo>
                        <a:lnTo>
                          <a:pt x="416" y="1285"/>
                        </a:lnTo>
                        <a:lnTo>
                          <a:pt x="442" y="1182"/>
                        </a:lnTo>
                        <a:lnTo>
                          <a:pt x="462" y="1082"/>
                        </a:lnTo>
                        <a:lnTo>
                          <a:pt x="499" y="895"/>
                        </a:lnTo>
                        <a:lnTo>
                          <a:pt x="530" y="713"/>
                        </a:lnTo>
                        <a:lnTo>
                          <a:pt x="587" y="385"/>
                        </a:lnTo>
                        <a:lnTo>
                          <a:pt x="614" y="250"/>
                        </a:lnTo>
                        <a:lnTo>
                          <a:pt x="634" y="141"/>
                        </a:lnTo>
                        <a:lnTo>
                          <a:pt x="660" y="63"/>
                        </a:lnTo>
                        <a:lnTo>
                          <a:pt x="671" y="36"/>
                        </a:lnTo>
                        <a:lnTo>
                          <a:pt x="681" y="16"/>
                        </a:lnTo>
                        <a:lnTo>
                          <a:pt x="749" y="0"/>
                        </a:lnTo>
                        <a:lnTo>
                          <a:pt x="722" y="109"/>
                        </a:lnTo>
                        <a:lnTo>
                          <a:pt x="655" y="365"/>
                        </a:lnTo>
                        <a:lnTo>
                          <a:pt x="582" y="666"/>
                        </a:lnTo>
                        <a:lnTo>
                          <a:pt x="556" y="807"/>
                        </a:lnTo>
                        <a:lnTo>
                          <a:pt x="540" y="910"/>
                        </a:lnTo>
                        <a:lnTo>
                          <a:pt x="535" y="958"/>
                        </a:lnTo>
                        <a:lnTo>
                          <a:pt x="540" y="1015"/>
                        </a:lnTo>
                        <a:lnTo>
                          <a:pt x="556" y="1130"/>
                        </a:lnTo>
                        <a:lnTo>
                          <a:pt x="582" y="1265"/>
                        </a:lnTo>
                        <a:lnTo>
                          <a:pt x="614" y="1400"/>
                        </a:lnTo>
                        <a:lnTo>
                          <a:pt x="639" y="1535"/>
                        </a:lnTo>
                        <a:lnTo>
                          <a:pt x="660" y="1666"/>
                        </a:lnTo>
                        <a:lnTo>
                          <a:pt x="660" y="1728"/>
                        </a:lnTo>
                        <a:lnTo>
                          <a:pt x="660" y="1786"/>
                        </a:lnTo>
                        <a:lnTo>
                          <a:pt x="649" y="1837"/>
                        </a:lnTo>
                        <a:lnTo>
                          <a:pt x="639" y="1879"/>
                        </a:lnTo>
                        <a:lnTo>
                          <a:pt x="639" y="1811"/>
                        </a:lnTo>
                        <a:lnTo>
                          <a:pt x="634" y="1734"/>
                        </a:lnTo>
                        <a:lnTo>
                          <a:pt x="629" y="1639"/>
                        </a:lnTo>
                        <a:lnTo>
                          <a:pt x="614" y="1525"/>
                        </a:lnTo>
                        <a:lnTo>
                          <a:pt x="592" y="1400"/>
                        </a:lnTo>
                        <a:lnTo>
                          <a:pt x="561" y="1275"/>
                        </a:lnTo>
                        <a:lnTo>
                          <a:pt x="540" y="1212"/>
                        </a:lnTo>
                        <a:lnTo>
                          <a:pt x="514" y="1150"/>
                        </a:lnTo>
                        <a:lnTo>
                          <a:pt x="462" y="1317"/>
                        </a:lnTo>
                        <a:lnTo>
                          <a:pt x="405" y="1494"/>
                        </a:lnTo>
                        <a:lnTo>
                          <a:pt x="332" y="1702"/>
                        </a:lnTo>
                        <a:lnTo>
                          <a:pt x="249" y="1926"/>
                        </a:lnTo>
                        <a:lnTo>
                          <a:pt x="160" y="2139"/>
                        </a:lnTo>
                        <a:lnTo>
                          <a:pt x="120" y="2233"/>
                        </a:lnTo>
                        <a:lnTo>
                          <a:pt x="78" y="2321"/>
                        </a:lnTo>
                        <a:lnTo>
                          <a:pt x="36" y="2394"/>
                        </a:lnTo>
                        <a:lnTo>
                          <a:pt x="0" y="245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未知"/>
                  <p:cNvSpPr/>
                  <p:nvPr/>
                </p:nvSpPr>
                <p:spPr>
                  <a:xfrm rot="4199400">
                    <a:off x="-22320" y="1277280"/>
                    <a:ext cx="428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557" h="380">
                        <a:moveTo>
                          <a:pt x="0" y="380"/>
                        </a:moveTo>
                        <a:lnTo>
                          <a:pt x="53" y="333"/>
                        </a:lnTo>
                        <a:lnTo>
                          <a:pt x="115" y="287"/>
                        </a:lnTo>
                        <a:lnTo>
                          <a:pt x="188" y="229"/>
                        </a:lnTo>
                        <a:lnTo>
                          <a:pt x="272" y="172"/>
                        </a:lnTo>
                        <a:lnTo>
                          <a:pt x="360" y="125"/>
                        </a:lnTo>
                        <a:lnTo>
                          <a:pt x="407" y="98"/>
                        </a:lnTo>
                        <a:lnTo>
                          <a:pt x="454" y="83"/>
                        </a:lnTo>
                        <a:lnTo>
                          <a:pt x="495" y="68"/>
                        </a:lnTo>
                        <a:lnTo>
                          <a:pt x="536" y="57"/>
                        </a:lnTo>
                        <a:lnTo>
                          <a:pt x="557" y="0"/>
                        </a:lnTo>
                        <a:lnTo>
                          <a:pt x="506" y="21"/>
                        </a:lnTo>
                        <a:lnTo>
                          <a:pt x="442" y="47"/>
                        </a:lnTo>
                        <a:lnTo>
                          <a:pt x="365" y="83"/>
                        </a:lnTo>
                        <a:lnTo>
                          <a:pt x="277" y="135"/>
                        </a:lnTo>
                        <a:lnTo>
                          <a:pt x="183" y="203"/>
                        </a:lnTo>
                        <a:lnTo>
                          <a:pt x="137" y="240"/>
                        </a:lnTo>
                        <a:lnTo>
                          <a:pt x="89" y="281"/>
                        </a:lnTo>
                        <a:lnTo>
                          <a:pt x="42" y="328"/>
                        </a:lnTo>
                        <a:lnTo>
                          <a:pt x="0" y="38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未知"/>
                  <p:cNvSpPr/>
                  <p:nvPr/>
                </p:nvSpPr>
                <p:spPr>
                  <a:xfrm rot="4199400">
                    <a:off x="-73080" y="1228320"/>
                    <a:ext cx="2124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635">
                        <a:moveTo>
                          <a:pt x="0" y="635"/>
                        </a:moveTo>
                        <a:lnTo>
                          <a:pt x="41" y="577"/>
                        </a:lnTo>
                        <a:lnTo>
                          <a:pt x="83" y="521"/>
                        </a:lnTo>
                        <a:lnTo>
                          <a:pt x="125" y="447"/>
                        </a:lnTo>
                        <a:lnTo>
                          <a:pt x="166" y="359"/>
                        </a:lnTo>
                        <a:lnTo>
                          <a:pt x="187" y="312"/>
                        </a:lnTo>
                        <a:lnTo>
                          <a:pt x="198" y="260"/>
                        </a:lnTo>
                        <a:lnTo>
                          <a:pt x="208" y="214"/>
                        </a:lnTo>
                        <a:lnTo>
                          <a:pt x="218" y="162"/>
                        </a:lnTo>
                        <a:lnTo>
                          <a:pt x="218" y="115"/>
                        </a:lnTo>
                        <a:lnTo>
                          <a:pt x="208" y="68"/>
                        </a:lnTo>
                        <a:lnTo>
                          <a:pt x="260" y="0"/>
                        </a:lnTo>
                        <a:lnTo>
                          <a:pt x="265" y="57"/>
                        </a:lnTo>
                        <a:lnTo>
                          <a:pt x="260" y="120"/>
                        </a:lnTo>
                        <a:lnTo>
                          <a:pt x="250" y="203"/>
                        </a:lnTo>
                        <a:lnTo>
                          <a:pt x="233" y="255"/>
                        </a:lnTo>
                        <a:lnTo>
                          <a:pt x="218" y="302"/>
                        </a:lnTo>
                        <a:lnTo>
                          <a:pt x="198" y="354"/>
                        </a:lnTo>
                        <a:lnTo>
                          <a:pt x="171" y="412"/>
                        </a:lnTo>
                        <a:lnTo>
                          <a:pt x="140" y="464"/>
                        </a:lnTo>
                        <a:lnTo>
                          <a:pt x="98" y="521"/>
                        </a:lnTo>
                        <a:lnTo>
                          <a:pt x="51" y="577"/>
                        </a:lnTo>
                        <a:lnTo>
                          <a:pt x="0" y="63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" name="未知"/>
                  <p:cNvSpPr/>
                  <p:nvPr/>
                </p:nvSpPr>
                <p:spPr>
                  <a:xfrm rot="4199400">
                    <a:off x="0" y="1183680"/>
                    <a:ext cx="453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583" h="130">
                        <a:moveTo>
                          <a:pt x="0" y="104"/>
                        </a:moveTo>
                        <a:lnTo>
                          <a:pt x="62" y="114"/>
                        </a:lnTo>
                        <a:lnTo>
                          <a:pt x="125" y="114"/>
                        </a:lnTo>
                        <a:lnTo>
                          <a:pt x="209" y="114"/>
                        </a:lnTo>
                        <a:lnTo>
                          <a:pt x="297" y="104"/>
                        </a:lnTo>
                        <a:lnTo>
                          <a:pt x="339" y="94"/>
                        </a:lnTo>
                        <a:lnTo>
                          <a:pt x="385" y="84"/>
                        </a:lnTo>
                        <a:lnTo>
                          <a:pt x="427" y="67"/>
                        </a:lnTo>
                        <a:lnTo>
                          <a:pt x="469" y="52"/>
                        </a:lnTo>
                        <a:lnTo>
                          <a:pt x="504" y="26"/>
                        </a:lnTo>
                        <a:lnTo>
                          <a:pt x="536" y="0"/>
                        </a:lnTo>
                        <a:lnTo>
                          <a:pt x="583" y="16"/>
                        </a:lnTo>
                        <a:lnTo>
                          <a:pt x="546" y="42"/>
                        </a:lnTo>
                        <a:lnTo>
                          <a:pt x="499" y="67"/>
                        </a:lnTo>
                        <a:lnTo>
                          <a:pt x="437" y="94"/>
                        </a:lnTo>
                        <a:lnTo>
                          <a:pt x="354" y="114"/>
                        </a:lnTo>
                        <a:lnTo>
                          <a:pt x="307" y="125"/>
                        </a:lnTo>
                        <a:lnTo>
                          <a:pt x="255" y="130"/>
                        </a:lnTo>
                        <a:lnTo>
                          <a:pt x="197" y="130"/>
                        </a:lnTo>
                        <a:lnTo>
                          <a:pt x="135" y="125"/>
                        </a:lnTo>
                        <a:lnTo>
                          <a:pt x="68" y="120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" name="未知"/>
                  <p:cNvSpPr/>
                  <p:nvPr/>
                </p:nvSpPr>
                <p:spPr>
                  <a:xfrm rot="4199400">
                    <a:off x="23040" y="1158840"/>
                    <a:ext cx="2772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240">
                        <a:moveTo>
                          <a:pt x="0" y="0"/>
                        </a:moveTo>
                        <a:lnTo>
                          <a:pt x="36" y="21"/>
                        </a:lnTo>
                        <a:lnTo>
                          <a:pt x="124" y="73"/>
                        </a:lnTo>
                        <a:lnTo>
                          <a:pt x="177" y="105"/>
                        </a:lnTo>
                        <a:lnTo>
                          <a:pt x="229" y="146"/>
                        </a:lnTo>
                        <a:lnTo>
                          <a:pt x="276" y="188"/>
                        </a:lnTo>
                        <a:lnTo>
                          <a:pt x="312" y="235"/>
                        </a:lnTo>
                        <a:lnTo>
                          <a:pt x="359" y="240"/>
                        </a:lnTo>
                        <a:lnTo>
                          <a:pt x="338" y="213"/>
                        </a:lnTo>
                        <a:lnTo>
                          <a:pt x="312" y="188"/>
                        </a:lnTo>
                        <a:lnTo>
                          <a:pt x="276" y="151"/>
                        </a:lnTo>
                        <a:lnTo>
                          <a:pt x="224" y="115"/>
                        </a:lnTo>
                        <a:lnTo>
                          <a:pt x="166" y="73"/>
                        </a:lnTo>
                        <a:lnTo>
                          <a:pt x="89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" name="未知"/>
                  <p:cNvSpPr/>
                  <p:nvPr/>
                </p:nvSpPr>
                <p:spPr>
                  <a:xfrm rot="4199400">
                    <a:off x="-42120" y="1276560"/>
                    <a:ext cx="90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146">
                        <a:moveTo>
                          <a:pt x="47" y="146"/>
                        </a:moveTo>
                        <a:lnTo>
                          <a:pt x="57" y="146"/>
                        </a:lnTo>
                        <a:lnTo>
                          <a:pt x="93" y="141"/>
                        </a:lnTo>
                        <a:lnTo>
                          <a:pt x="109" y="130"/>
                        </a:lnTo>
                        <a:lnTo>
                          <a:pt x="119" y="120"/>
                        </a:lnTo>
                        <a:lnTo>
                          <a:pt x="124" y="104"/>
                        </a:lnTo>
                        <a:lnTo>
                          <a:pt x="124" y="84"/>
                        </a:lnTo>
                        <a:lnTo>
                          <a:pt x="114" y="57"/>
                        </a:lnTo>
                        <a:lnTo>
                          <a:pt x="104" y="37"/>
                        </a:lnTo>
                        <a:lnTo>
                          <a:pt x="87" y="21"/>
                        </a:lnTo>
                        <a:lnTo>
                          <a:pt x="72" y="5"/>
                        </a:lnTo>
                        <a:lnTo>
                          <a:pt x="57" y="0"/>
                        </a:lnTo>
                        <a:lnTo>
                          <a:pt x="41" y="0"/>
                        </a:lnTo>
                        <a:lnTo>
                          <a:pt x="25" y="11"/>
                        </a:lnTo>
                        <a:lnTo>
                          <a:pt x="10" y="32"/>
                        </a:lnTo>
                        <a:lnTo>
                          <a:pt x="0" y="57"/>
                        </a:lnTo>
                        <a:lnTo>
                          <a:pt x="0" y="79"/>
                        </a:lnTo>
                        <a:lnTo>
                          <a:pt x="5" y="99"/>
                        </a:lnTo>
                        <a:lnTo>
                          <a:pt x="15" y="115"/>
                        </a:lnTo>
                        <a:lnTo>
                          <a:pt x="36" y="141"/>
                        </a:lnTo>
                        <a:lnTo>
                          <a:pt x="47" y="146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8" name="未知"/>
                  <p:cNvSpPr/>
                  <p:nvPr/>
                </p:nvSpPr>
                <p:spPr>
                  <a:xfrm rot="4199400">
                    <a:off x="64080" y="1181160"/>
                    <a:ext cx="792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78">
                        <a:moveTo>
                          <a:pt x="0" y="57"/>
                        </a:moveTo>
                        <a:lnTo>
                          <a:pt x="15" y="62"/>
                        </a:lnTo>
                        <a:lnTo>
                          <a:pt x="46" y="73"/>
                        </a:lnTo>
                        <a:lnTo>
                          <a:pt x="62" y="78"/>
                        </a:lnTo>
                        <a:lnTo>
                          <a:pt x="78" y="78"/>
                        </a:lnTo>
                        <a:lnTo>
                          <a:pt x="93" y="67"/>
                        </a:lnTo>
                        <a:lnTo>
                          <a:pt x="98" y="57"/>
                        </a:lnTo>
                        <a:lnTo>
                          <a:pt x="98" y="41"/>
                        </a:lnTo>
                        <a:lnTo>
                          <a:pt x="88" y="25"/>
                        </a:lnTo>
                        <a:lnTo>
                          <a:pt x="73" y="20"/>
                        </a:lnTo>
                        <a:lnTo>
                          <a:pt x="56" y="10"/>
                        </a:lnTo>
                        <a:lnTo>
                          <a:pt x="15" y="5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9" name="未知"/>
                  <p:cNvSpPr/>
                  <p:nvPr/>
                </p:nvSpPr>
                <p:spPr>
                  <a:xfrm rot="4199400">
                    <a:off x="117000" y="1193760"/>
                    <a:ext cx="900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125">
                        <a:moveTo>
                          <a:pt x="0" y="58"/>
                        </a:moveTo>
                        <a:lnTo>
                          <a:pt x="5" y="73"/>
                        </a:lnTo>
                        <a:lnTo>
                          <a:pt x="25" y="105"/>
                        </a:lnTo>
                        <a:lnTo>
                          <a:pt x="42" y="115"/>
                        </a:lnTo>
                        <a:lnTo>
                          <a:pt x="57" y="125"/>
                        </a:lnTo>
                        <a:lnTo>
                          <a:pt x="77" y="125"/>
                        </a:lnTo>
                        <a:lnTo>
                          <a:pt x="98" y="115"/>
                        </a:lnTo>
                        <a:lnTo>
                          <a:pt x="114" y="94"/>
                        </a:lnTo>
                        <a:lnTo>
                          <a:pt x="119" y="78"/>
                        </a:lnTo>
                        <a:lnTo>
                          <a:pt x="119" y="58"/>
                        </a:lnTo>
                        <a:lnTo>
                          <a:pt x="114" y="42"/>
                        </a:lnTo>
                        <a:lnTo>
                          <a:pt x="98" y="26"/>
                        </a:lnTo>
                        <a:lnTo>
                          <a:pt x="82" y="11"/>
                        </a:lnTo>
                        <a:lnTo>
                          <a:pt x="67" y="5"/>
                        </a:lnTo>
                        <a:lnTo>
                          <a:pt x="52" y="0"/>
                        </a:lnTo>
                        <a:lnTo>
                          <a:pt x="35" y="0"/>
                        </a:lnTo>
                        <a:lnTo>
                          <a:pt x="25" y="11"/>
                        </a:lnTo>
                        <a:lnTo>
                          <a:pt x="10" y="31"/>
                        </a:lnTo>
                        <a:lnTo>
                          <a:pt x="0" y="47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未知"/>
                  <p:cNvSpPr/>
                  <p:nvPr/>
                </p:nvSpPr>
                <p:spPr>
                  <a:xfrm rot="4199400">
                    <a:off x="-9000" y="1143720"/>
                    <a:ext cx="684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57">
                        <a:moveTo>
                          <a:pt x="21" y="57"/>
                        </a:moveTo>
                        <a:lnTo>
                          <a:pt x="42" y="57"/>
                        </a:lnTo>
                        <a:lnTo>
                          <a:pt x="73" y="52"/>
                        </a:lnTo>
                        <a:lnTo>
                          <a:pt x="83" y="47"/>
                        </a:lnTo>
                        <a:lnTo>
                          <a:pt x="94" y="37"/>
                        </a:lnTo>
                        <a:lnTo>
                          <a:pt x="94" y="26"/>
                        </a:lnTo>
                        <a:lnTo>
                          <a:pt x="78" y="15"/>
                        </a:lnTo>
                        <a:lnTo>
                          <a:pt x="58" y="5"/>
                        </a:lnTo>
                        <a:lnTo>
                          <a:pt x="42" y="0"/>
                        </a:lnTo>
                        <a:lnTo>
                          <a:pt x="26" y="0"/>
                        </a:lnTo>
                        <a:lnTo>
                          <a:pt x="11" y="5"/>
                        </a:lnTo>
                        <a:lnTo>
                          <a:pt x="6" y="15"/>
                        </a:lnTo>
                        <a:lnTo>
                          <a:pt x="0" y="32"/>
                        </a:lnTo>
                        <a:lnTo>
                          <a:pt x="11" y="47"/>
                        </a:lnTo>
                        <a:lnTo>
                          <a:pt x="21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1" name="Group 1222"/>
                <p:cNvGrpSpPr/>
                <p:nvPr/>
              </p:nvGrpSpPr>
              <p:grpSpPr>
                <a:xfrm>
                  <a:off x="221760" y="1382760"/>
                  <a:ext cx="33480" cy="34200"/>
                  <a:chOff x="221760" y="1382760"/>
                  <a:chExt cx="33480" cy="34200"/>
                </a:xfrm>
              </p:grpSpPr>
              <p:sp>
                <p:nvSpPr>
                  <p:cNvPr id="1262" name="未知"/>
                  <p:cNvSpPr/>
                  <p:nvPr/>
                </p:nvSpPr>
                <p:spPr>
                  <a:xfrm rot="21435000">
                    <a:off x="224280" y="1383120"/>
                    <a:ext cx="3024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33" h="417">
                        <a:moveTo>
                          <a:pt x="323" y="417"/>
                        </a:moveTo>
                        <a:lnTo>
                          <a:pt x="281" y="407"/>
                        </a:lnTo>
                        <a:lnTo>
                          <a:pt x="239" y="391"/>
                        </a:lnTo>
                        <a:lnTo>
                          <a:pt x="193" y="375"/>
                        </a:lnTo>
                        <a:lnTo>
                          <a:pt x="146" y="350"/>
                        </a:lnTo>
                        <a:lnTo>
                          <a:pt x="99" y="318"/>
                        </a:lnTo>
                        <a:lnTo>
                          <a:pt x="83" y="302"/>
                        </a:lnTo>
                        <a:lnTo>
                          <a:pt x="68" y="282"/>
                        </a:lnTo>
                        <a:lnTo>
                          <a:pt x="57" y="261"/>
                        </a:lnTo>
                        <a:lnTo>
                          <a:pt x="47" y="240"/>
                        </a:lnTo>
                        <a:lnTo>
                          <a:pt x="26" y="147"/>
                        </a:lnTo>
                        <a:lnTo>
                          <a:pt x="6" y="68"/>
                        </a:lnTo>
                        <a:lnTo>
                          <a:pt x="0" y="37"/>
                        </a:lnTo>
                        <a:lnTo>
                          <a:pt x="0" y="1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21" y="0"/>
                        </a:lnTo>
                        <a:lnTo>
                          <a:pt x="31" y="6"/>
                        </a:lnTo>
                        <a:lnTo>
                          <a:pt x="57" y="11"/>
                        </a:lnTo>
                        <a:lnTo>
                          <a:pt x="83" y="27"/>
                        </a:lnTo>
                        <a:lnTo>
                          <a:pt x="146" y="73"/>
                        </a:lnTo>
                        <a:lnTo>
                          <a:pt x="208" y="125"/>
                        </a:lnTo>
                        <a:lnTo>
                          <a:pt x="271" y="193"/>
                        </a:lnTo>
                        <a:lnTo>
                          <a:pt x="296" y="230"/>
                        </a:lnTo>
                        <a:lnTo>
                          <a:pt x="313" y="261"/>
                        </a:lnTo>
                        <a:lnTo>
                          <a:pt x="323" y="292"/>
                        </a:lnTo>
                        <a:lnTo>
                          <a:pt x="333" y="323"/>
                        </a:lnTo>
                        <a:lnTo>
                          <a:pt x="333" y="350"/>
                        </a:lnTo>
                        <a:lnTo>
                          <a:pt x="333" y="375"/>
                        </a:lnTo>
                        <a:lnTo>
                          <a:pt x="323" y="417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未知"/>
                  <p:cNvSpPr/>
                  <p:nvPr/>
                </p:nvSpPr>
                <p:spPr>
                  <a:xfrm rot="17788200">
                    <a:off x="225000" y="1391760"/>
                    <a:ext cx="1656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214">
                        <a:moveTo>
                          <a:pt x="0" y="151"/>
                        </a:moveTo>
                        <a:lnTo>
                          <a:pt x="36" y="120"/>
                        </a:lnTo>
                        <a:lnTo>
                          <a:pt x="115" y="57"/>
                        </a:lnTo>
                        <a:lnTo>
                          <a:pt x="156" y="32"/>
                        </a:lnTo>
                        <a:lnTo>
                          <a:pt x="187" y="6"/>
                        </a:lnTo>
                        <a:lnTo>
                          <a:pt x="208" y="0"/>
                        </a:lnTo>
                        <a:lnTo>
                          <a:pt x="213" y="0"/>
                        </a:lnTo>
                        <a:lnTo>
                          <a:pt x="213" y="11"/>
                        </a:lnTo>
                        <a:lnTo>
                          <a:pt x="193" y="69"/>
                        </a:lnTo>
                        <a:lnTo>
                          <a:pt x="162" y="136"/>
                        </a:lnTo>
                        <a:lnTo>
                          <a:pt x="140" y="167"/>
                        </a:lnTo>
                        <a:lnTo>
                          <a:pt x="120" y="187"/>
                        </a:lnTo>
                        <a:lnTo>
                          <a:pt x="98" y="209"/>
                        </a:lnTo>
                        <a:lnTo>
                          <a:pt x="73" y="214"/>
                        </a:lnTo>
                        <a:lnTo>
                          <a:pt x="47" y="209"/>
                        </a:lnTo>
                        <a:lnTo>
                          <a:pt x="31" y="204"/>
                        </a:lnTo>
                        <a:lnTo>
                          <a:pt x="21" y="193"/>
                        </a:lnTo>
                        <a:lnTo>
                          <a:pt x="10" y="182"/>
                        </a:lnTo>
                        <a:lnTo>
                          <a:pt x="0" y="162"/>
                        </a:lnTo>
                        <a:lnTo>
                          <a:pt x="0" y="151"/>
                        </a:lnTo>
                        <a:close/>
                      </a:path>
                    </a:pathLst>
                  </a:cu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64" name="Group 1225"/>
              <p:cNvGrpSpPr/>
              <p:nvPr/>
            </p:nvGrpSpPr>
            <p:grpSpPr>
              <a:xfrm>
                <a:off x="149040" y="921960"/>
                <a:ext cx="493920" cy="505080"/>
                <a:chOff x="149040" y="921960"/>
                <a:chExt cx="493920" cy="505080"/>
              </a:xfrm>
            </p:grpSpPr>
            <p:grpSp>
              <p:nvGrpSpPr>
                <p:cNvPr id="1265" name="Group 1226"/>
                <p:cNvGrpSpPr/>
                <p:nvPr/>
              </p:nvGrpSpPr>
              <p:grpSpPr>
                <a:xfrm>
                  <a:off x="149040" y="921960"/>
                  <a:ext cx="493920" cy="505080"/>
                  <a:chOff x="149040" y="921960"/>
                  <a:chExt cx="493920" cy="505080"/>
                </a:xfrm>
              </p:grpSpPr>
              <p:sp>
                <p:nvSpPr>
                  <p:cNvPr id="1266" name="未知"/>
                  <p:cNvSpPr/>
                  <p:nvPr/>
                </p:nvSpPr>
                <p:spPr>
                  <a:xfrm rot="8424000">
                    <a:off x="234720" y="994680"/>
                    <a:ext cx="344880" cy="32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962" h="4106">
                        <a:moveTo>
                          <a:pt x="0" y="3065"/>
                        </a:moveTo>
                        <a:lnTo>
                          <a:pt x="47" y="3055"/>
                        </a:lnTo>
                        <a:lnTo>
                          <a:pt x="150" y="3044"/>
                        </a:lnTo>
                        <a:lnTo>
                          <a:pt x="260" y="3034"/>
                        </a:lnTo>
                        <a:lnTo>
                          <a:pt x="302" y="3034"/>
                        </a:lnTo>
                        <a:lnTo>
                          <a:pt x="317" y="3034"/>
                        </a:lnTo>
                        <a:lnTo>
                          <a:pt x="327" y="3039"/>
                        </a:lnTo>
                        <a:lnTo>
                          <a:pt x="281" y="3117"/>
                        </a:lnTo>
                        <a:lnTo>
                          <a:pt x="322" y="3102"/>
                        </a:lnTo>
                        <a:lnTo>
                          <a:pt x="421" y="3065"/>
                        </a:lnTo>
                        <a:lnTo>
                          <a:pt x="474" y="3055"/>
                        </a:lnTo>
                        <a:lnTo>
                          <a:pt x="526" y="3049"/>
                        </a:lnTo>
                        <a:lnTo>
                          <a:pt x="546" y="3049"/>
                        </a:lnTo>
                        <a:lnTo>
                          <a:pt x="562" y="3060"/>
                        </a:lnTo>
                        <a:lnTo>
                          <a:pt x="577" y="3065"/>
                        </a:lnTo>
                        <a:lnTo>
                          <a:pt x="582" y="3080"/>
                        </a:lnTo>
                        <a:lnTo>
                          <a:pt x="536" y="3169"/>
                        </a:lnTo>
                        <a:lnTo>
                          <a:pt x="593" y="3154"/>
                        </a:lnTo>
                        <a:lnTo>
                          <a:pt x="723" y="3127"/>
                        </a:lnTo>
                        <a:lnTo>
                          <a:pt x="796" y="3122"/>
                        </a:lnTo>
                        <a:lnTo>
                          <a:pt x="863" y="3117"/>
                        </a:lnTo>
                        <a:lnTo>
                          <a:pt x="910" y="3117"/>
                        </a:lnTo>
                        <a:lnTo>
                          <a:pt x="926" y="3122"/>
                        </a:lnTo>
                        <a:lnTo>
                          <a:pt x="936" y="3132"/>
                        </a:lnTo>
                        <a:lnTo>
                          <a:pt x="941" y="3159"/>
                        </a:lnTo>
                        <a:lnTo>
                          <a:pt x="936" y="3185"/>
                        </a:lnTo>
                        <a:lnTo>
                          <a:pt x="926" y="3211"/>
                        </a:lnTo>
                        <a:lnTo>
                          <a:pt x="915" y="3242"/>
                        </a:lnTo>
                        <a:lnTo>
                          <a:pt x="884" y="3289"/>
                        </a:lnTo>
                        <a:lnTo>
                          <a:pt x="873" y="3310"/>
                        </a:lnTo>
                        <a:lnTo>
                          <a:pt x="900" y="3294"/>
                        </a:lnTo>
                        <a:lnTo>
                          <a:pt x="936" y="3284"/>
                        </a:lnTo>
                        <a:lnTo>
                          <a:pt x="978" y="3268"/>
                        </a:lnTo>
                        <a:lnTo>
                          <a:pt x="1030" y="3257"/>
                        </a:lnTo>
                        <a:lnTo>
                          <a:pt x="1082" y="3257"/>
                        </a:lnTo>
                        <a:lnTo>
                          <a:pt x="1133" y="3262"/>
                        </a:lnTo>
                        <a:lnTo>
                          <a:pt x="1160" y="3268"/>
                        </a:lnTo>
                        <a:lnTo>
                          <a:pt x="1185" y="3279"/>
                        </a:lnTo>
                        <a:lnTo>
                          <a:pt x="1191" y="3299"/>
                        </a:lnTo>
                        <a:lnTo>
                          <a:pt x="1201" y="3341"/>
                        </a:lnTo>
                        <a:lnTo>
                          <a:pt x="1196" y="3367"/>
                        </a:lnTo>
                        <a:lnTo>
                          <a:pt x="1196" y="3387"/>
                        </a:lnTo>
                        <a:lnTo>
                          <a:pt x="1180" y="3404"/>
                        </a:lnTo>
                        <a:lnTo>
                          <a:pt x="1175" y="3409"/>
                        </a:lnTo>
                        <a:lnTo>
                          <a:pt x="1165" y="3414"/>
                        </a:lnTo>
                        <a:lnTo>
                          <a:pt x="1155" y="3409"/>
                        </a:lnTo>
                        <a:lnTo>
                          <a:pt x="1165" y="3404"/>
                        </a:lnTo>
                        <a:lnTo>
                          <a:pt x="1191" y="3392"/>
                        </a:lnTo>
                        <a:lnTo>
                          <a:pt x="1227" y="3382"/>
                        </a:lnTo>
                        <a:lnTo>
                          <a:pt x="1269" y="3377"/>
                        </a:lnTo>
                        <a:lnTo>
                          <a:pt x="1305" y="3382"/>
                        </a:lnTo>
                        <a:lnTo>
                          <a:pt x="1320" y="3387"/>
                        </a:lnTo>
                        <a:lnTo>
                          <a:pt x="1337" y="3392"/>
                        </a:lnTo>
                        <a:lnTo>
                          <a:pt x="1347" y="3404"/>
                        </a:lnTo>
                        <a:lnTo>
                          <a:pt x="1357" y="3419"/>
                        </a:lnTo>
                        <a:lnTo>
                          <a:pt x="1357" y="3450"/>
                        </a:lnTo>
                        <a:lnTo>
                          <a:pt x="1352" y="3487"/>
                        </a:lnTo>
                        <a:lnTo>
                          <a:pt x="1342" y="3517"/>
                        </a:lnTo>
                        <a:lnTo>
                          <a:pt x="1326" y="3544"/>
                        </a:lnTo>
                        <a:lnTo>
                          <a:pt x="1290" y="3591"/>
                        </a:lnTo>
                        <a:lnTo>
                          <a:pt x="1274" y="3612"/>
                        </a:lnTo>
                        <a:lnTo>
                          <a:pt x="1315" y="3596"/>
                        </a:lnTo>
                        <a:lnTo>
                          <a:pt x="1409" y="3570"/>
                        </a:lnTo>
                        <a:lnTo>
                          <a:pt x="1456" y="3559"/>
                        </a:lnTo>
                        <a:lnTo>
                          <a:pt x="1503" y="3549"/>
                        </a:lnTo>
                        <a:lnTo>
                          <a:pt x="1534" y="3549"/>
                        </a:lnTo>
                        <a:lnTo>
                          <a:pt x="1550" y="3554"/>
                        </a:lnTo>
                        <a:lnTo>
                          <a:pt x="1555" y="3559"/>
                        </a:lnTo>
                        <a:lnTo>
                          <a:pt x="1560" y="3570"/>
                        </a:lnTo>
                        <a:lnTo>
                          <a:pt x="1560" y="3586"/>
                        </a:lnTo>
                        <a:lnTo>
                          <a:pt x="1555" y="3606"/>
                        </a:lnTo>
                        <a:lnTo>
                          <a:pt x="1550" y="3617"/>
                        </a:lnTo>
                        <a:lnTo>
                          <a:pt x="1544" y="3622"/>
                        </a:lnTo>
                        <a:lnTo>
                          <a:pt x="1565" y="3612"/>
                        </a:lnTo>
                        <a:lnTo>
                          <a:pt x="1622" y="3581"/>
                        </a:lnTo>
                        <a:lnTo>
                          <a:pt x="1659" y="3570"/>
                        </a:lnTo>
                        <a:lnTo>
                          <a:pt x="1695" y="3559"/>
                        </a:lnTo>
                        <a:lnTo>
                          <a:pt x="1737" y="3559"/>
                        </a:lnTo>
                        <a:lnTo>
                          <a:pt x="1779" y="3564"/>
                        </a:lnTo>
                        <a:lnTo>
                          <a:pt x="1799" y="3575"/>
                        </a:lnTo>
                        <a:lnTo>
                          <a:pt x="1814" y="3586"/>
                        </a:lnTo>
                        <a:lnTo>
                          <a:pt x="1856" y="3622"/>
                        </a:lnTo>
                        <a:lnTo>
                          <a:pt x="1898" y="3669"/>
                        </a:lnTo>
                        <a:lnTo>
                          <a:pt x="1929" y="3731"/>
                        </a:lnTo>
                        <a:lnTo>
                          <a:pt x="1951" y="3794"/>
                        </a:lnTo>
                        <a:lnTo>
                          <a:pt x="1956" y="3824"/>
                        </a:lnTo>
                        <a:lnTo>
                          <a:pt x="1961" y="3861"/>
                        </a:lnTo>
                        <a:lnTo>
                          <a:pt x="1956" y="3893"/>
                        </a:lnTo>
                        <a:lnTo>
                          <a:pt x="1951" y="3929"/>
                        </a:lnTo>
                        <a:lnTo>
                          <a:pt x="1939" y="3961"/>
                        </a:lnTo>
                        <a:lnTo>
                          <a:pt x="1924" y="3991"/>
                        </a:lnTo>
                        <a:lnTo>
                          <a:pt x="2116" y="3893"/>
                        </a:lnTo>
                        <a:lnTo>
                          <a:pt x="2106" y="3971"/>
                        </a:lnTo>
                        <a:lnTo>
                          <a:pt x="2132" y="3949"/>
                        </a:lnTo>
                        <a:lnTo>
                          <a:pt x="2189" y="3903"/>
                        </a:lnTo>
                        <a:lnTo>
                          <a:pt x="2226" y="3882"/>
                        </a:lnTo>
                        <a:lnTo>
                          <a:pt x="2257" y="3866"/>
                        </a:lnTo>
                        <a:lnTo>
                          <a:pt x="2268" y="3866"/>
                        </a:lnTo>
                        <a:lnTo>
                          <a:pt x="2283" y="3866"/>
                        </a:lnTo>
                        <a:lnTo>
                          <a:pt x="2293" y="3872"/>
                        </a:lnTo>
                        <a:lnTo>
                          <a:pt x="2303" y="3882"/>
                        </a:lnTo>
                        <a:lnTo>
                          <a:pt x="2314" y="3903"/>
                        </a:lnTo>
                        <a:lnTo>
                          <a:pt x="2314" y="3919"/>
                        </a:lnTo>
                        <a:lnTo>
                          <a:pt x="2308" y="3929"/>
                        </a:lnTo>
                        <a:lnTo>
                          <a:pt x="2298" y="3934"/>
                        </a:lnTo>
                        <a:lnTo>
                          <a:pt x="2278" y="3944"/>
                        </a:lnTo>
                        <a:lnTo>
                          <a:pt x="2268" y="3944"/>
                        </a:lnTo>
                        <a:lnTo>
                          <a:pt x="2548" y="3789"/>
                        </a:lnTo>
                        <a:lnTo>
                          <a:pt x="2574" y="3914"/>
                        </a:lnTo>
                        <a:lnTo>
                          <a:pt x="2595" y="3887"/>
                        </a:lnTo>
                        <a:lnTo>
                          <a:pt x="2620" y="3861"/>
                        </a:lnTo>
                        <a:lnTo>
                          <a:pt x="2652" y="3836"/>
                        </a:lnTo>
                        <a:lnTo>
                          <a:pt x="2688" y="3809"/>
                        </a:lnTo>
                        <a:lnTo>
                          <a:pt x="2709" y="3804"/>
                        </a:lnTo>
                        <a:lnTo>
                          <a:pt x="2725" y="3799"/>
                        </a:lnTo>
                        <a:lnTo>
                          <a:pt x="2745" y="3799"/>
                        </a:lnTo>
                        <a:lnTo>
                          <a:pt x="2767" y="3804"/>
                        </a:lnTo>
                        <a:lnTo>
                          <a:pt x="2782" y="3809"/>
                        </a:lnTo>
                        <a:lnTo>
                          <a:pt x="2803" y="3824"/>
                        </a:lnTo>
                        <a:lnTo>
                          <a:pt x="2814" y="3846"/>
                        </a:lnTo>
                        <a:lnTo>
                          <a:pt x="2829" y="3866"/>
                        </a:lnTo>
                        <a:lnTo>
                          <a:pt x="2844" y="3914"/>
                        </a:lnTo>
                        <a:lnTo>
                          <a:pt x="2850" y="3961"/>
                        </a:lnTo>
                        <a:lnTo>
                          <a:pt x="2844" y="4002"/>
                        </a:lnTo>
                        <a:lnTo>
                          <a:pt x="2839" y="4044"/>
                        </a:lnTo>
                        <a:lnTo>
                          <a:pt x="2829" y="4075"/>
                        </a:lnTo>
                        <a:lnTo>
                          <a:pt x="2819" y="4106"/>
                        </a:lnTo>
                        <a:lnTo>
                          <a:pt x="3074" y="3903"/>
                        </a:lnTo>
                        <a:lnTo>
                          <a:pt x="3099" y="3991"/>
                        </a:lnTo>
                        <a:lnTo>
                          <a:pt x="3286" y="3726"/>
                        </a:lnTo>
                        <a:lnTo>
                          <a:pt x="3307" y="3804"/>
                        </a:lnTo>
                        <a:lnTo>
                          <a:pt x="3338" y="3757"/>
                        </a:lnTo>
                        <a:lnTo>
                          <a:pt x="3411" y="3654"/>
                        </a:lnTo>
                        <a:lnTo>
                          <a:pt x="3453" y="3591"/>
                        </a:lnTo>
                        <a:lnTo>
                          <a:pt x="3489" y="3523"/>
                        </a:lnTo>
                        <a:lnTo>
                          <a:pt x="3521" y="3466"/>
                        </a:lnTo>
                        <a:lnTo>
                          <a:pt x="3541" y="3419"/>
                        </a:lnTo>
                        <a:lnTo>
                          <a:pt x="3551" y="3529"/>
                        </a:lnTo>
                        <a:lnTo>
                          <a:pt x="3562" y="3507"/>
                        </a:lnTo>
                        <a:lnTo>
                          <a:pt x="3593" y="3455"/>
                        </a:lnTo>
                        <a:lnTo>
                          <a:pt x="3635" y="3372"/>
                        </a:lnTo>
                        <a:lnTo>
                          <a:pt x="3650" y="3325"/>
                        </a:lnTo>
                        <a:lnTo>
                          <a:pt x="3666" y="3274"/>
                        </a:lnTo>
                        <a:lnTo>
                          <a:pt x="3692" y="3180"/>
                        </a:lnTo>
                        <a:lnTo>
                          <a:pt x="3723" y="3102"/>
                        </a:lnTo>
                        <a:lnTo>
                          <a:pt x="3760" y="3023"/>
                        </a:lnTo>
                        <a:lnTo>
                          <a:pt x="3807" y="3117"/>
                        </a:lnTo>
                        <a:lnTo>
                          <a:pt x="3832" y="3080"/>
                        </a:lnTo>
                        <a:lnTo>
                          <a:pt x="3858" y="3039"/>
                        </a:lnTo>
                        <a:lnTo>
                          <a:pt x="3890" y="2977"/>
                        </a:lnTo>
                        <a:lnTo>
                          <a:pt x="3920" y="2898"/>
                        </a:lnTo>
                        <a:lnTo>
                          <a:pt x="3947" y="2805"/>
                        </a:lnTo>
                        <a:lnTo>
                          <a:pt x="3952" y="2753"/>
                        </a:lnTo>
                        <a:lnTo>
                          <a:pt x="3957" y="2695"/>
                        </a:lnTo>
                        <a:lnTo>
                          <a:pt x="3962" y="2633"/>
                        </a:lnTo>
                        <a:lnTo>
                          <a:pt x="3957" y="2565"/>
                        </a:lnTo>
                        <a:lnTo>
                          <a:pt x="3942" y="2410"/>
                        </a:lnTo>
                        <a:lnTo>
                          <a:pt x="3915" y="2222"/>
                        </a:lnTo>
                        <a:lnTo>
                          <a:pt x="3885" y="2019"/>
                        </a:lnTo>
                        <a:lnTo>
                          <a:pt x="3853" y="1821"/>
                        </a:lnTo>
                        <a:lnTo>
                          <a:pt x="3791" y="1483"/>
                        </a:lnTo>
                        <a:lnTo>
                          <a:pt x="3760" y="1342"/>
                        </a:lnTo>
                        <a:lnTo>
                          <a:pt x="3728" y="1327"/>
                        </a:lnTo>
                        <a:lnTo>
                          <a:pt x="3692" y="1306"/>
                        </a:lnTo>
                        <a:lnTo>
                          <a:pt x="3640" y="1269"/>
                        </a:lnTo>
                        <a:lnTo>
                          <a:pt x="3583" y="1227"/>
                        </a:lnTo>
                        <a:lnTo>
                          <a:pt x="3521" y="1165"/>
                        </a:lnTo>
                        <a:lnTo>
                          <a:pt x="3448" y="1092"/>
                        </a:lnTo>
                        <a:lnTo>
                          <a:pt x="3375" y="1004"/>
                        </a:lnTo>
                        <a:lnTo>
                          <a:pt x="3209" y="770"/>
                        </a:lnTo>
                        <a:lnTo>
                          <a:pt x="3109" y="629"/>
                        </a:lnTo>
                        <a:lnTo>
                          <a:pt x="3001" y="488"/>
                        </a:lnTo>
                        <a:lnTo>
                          <a:pt x="2881" y="348"/>
                        </a:lnTo>
                        <a:lnTo>
                          <a:pt x="2824" y="285"/>
                        </a:lnTo>
                        <a:lnTo>
                          <a:pt x="2762" y="223"/>
                        </a:lnTo>
                        <a:lnTo>
                          <a:pt x="2699" y="166"/>
                        </a:lnTo>
                        <a:lnTo>
                          <a:pt x="2632" y="120"/>
                        </a:lnTo>
                        <a:lnTo>
                          <a:pt x="2569" y="72"/>
                        </a:lnTo>
                        <a:lnTo>
                          <a:pt x="2501" y="36"/>
                        </a:lnTo>
                        <a:lnTo>
                          <a:pt x="2532" y="113"/>
                        </a:lnTo>
                        <a:lnTo>
                          <a:pt x="2485" y="88"/>
                        </a:lnTo>
                        <a:lnTo>
                          <a:pt x="2433" y="67"/>
                        </a:lnTo>
                        <a:lnTo>
                          <a:pt x="2371" y="46"/>
                        </a:lnTo>
                        <a:lnTo>
                          <a:pt x="2298" y="20"/>
                        </a:lnTo>
                        <a:lnTo>
                          <a:pt x="2221" y="5"/>
                        </a:lnTo>
                        <a:lnTo>
                          <a:pt x="2148" y="0"/>
                        </a:lnTo>
                        <a:lnTo>
                          <a:pt x="2116" y="0"/>
                        </a:lnTo>
                        <a:lnTo>
                          <a:pt x="2080" y="5"/>
                        </a:lnTo>
                        <a:lnTo>
                          <a:pt x="2184" y="108"/>
                        </a:lnTo>
                        <a:lnTo>
                          <a:pt x="2002" y="93"/>
                        </a:lnTo>
                        <a:lnTo>
                          <a:pt x="1841" y="88"/>
                        </a:lnTo>
                        <a:lnTo>
                          <a:pt x="1768" y="88"/>
                        </a:lnTo>
                        <a:lnTo>
                          <a:pt x="1711" y="98"/>
                        </a:lnTo>
                        <a:lnTo>
                          <a:pt x="1804" y="140"/>
                        </a:lnTo>
                        <a:lnTo>
                          <a:pt x="1679" y="140"/>
                        </a:lnTo>
                        <a:lnTo>
                          <a:pt x="1565" y="150"/>
                        </a:lnTo>
                        <a:lnTo>
                          <a:pt x="1513" y="155"/>
                        </a:lnTo>
                        <a:lnTo>
                          <a:pt x="1467" y="166"/>
                        </a:lnTo>
                        <a:lnTo>
                          <a:pt x="1503" y="250"/>
                        </a:lnTo>
                        <a:lnTo>
                          <a:pt x="1373" y="260"/>
                        </a:lnTo>
                        <a:lnTo>
                          <a:pt x="1258" y="270"/>
                        </a:lnTo>
                        <a:lnTo>
                          <a:pt x="1201" y="280"/>
                        </a:lnTo>
                        <a:lnTo>
                          <a:pt x="1150" y="296"/>
                        </a:lnTo>
                        <a:lnTo>
                          <a:pt x="1232" y="353"/>
                        </a:lnTo>
                        <a:lnTo>
                          <a:pt x="1248" y="369"/>
                        </a:lnTo>
                        <a:lnTo>
                          <a:pt x="1263" y="390"/>
                        </a:lnTo>
                        <a:lnTo>
                          <a:pt x="1285" y="415"/>
                        </a:lnTo>
                        <a:lnTo>
                          <a:pt x="1300" y="452"/>
                        </a:lnTo>
                        <a:lnTo>
                          <a:pt x="1310" y="488"/>
                        </a:lnTo>
                        <a:lnTo>
                          <a:pt x="1310" y="535"/>
                        </a:lnTo>
                        <a:lnTo>
                          <a:pt x="1305" y="562"/>
                        </a:lnTo>
                        <a:lnTo>
                          <a:pt x="1300" y="587"/>
                        </a:lnTo>
                        <a:lnTo>
                          <a:pt x="1180" y="577"/>
                        </a:lnTo>
                        <a:lnTo>
                          <a:pt x="1269" y="645"/>
                        </a:lnTo>
                        <a:lnTo>
                          <a:pt x="1332" y="697"/>
                        </a:lnTo>
                        <a:lnTo>
                          <a:pt x="1357" y="723"/>
                        </a:lnTo>
                        <a:lnTo>
                          <a:pt x="1368" y="744"/>
                        </a:lnTo>
                        <a:lnTo>
                          <a:pt x="1368" y="754"/>
                        </a:lnTo>
                        <a:lnTo>
                          <a:pt x="1368" y="759"/>
                        </a:lnTo>
                        <a:lnTo>
                          <a:pt x="1352" y="764"/>
                        </a:lnTo>
                        <a:lnTo>
                          <a:pt x="1332" y="770"/>
                        </a:lnTo>
                        <a:lnTo>
                          <a:pt x="1305" y="764"/>
                        </a:lnTo>
                        <a:lnTo>
                          <a:pt x="1258" y="759"/>
                        </a:lnTo>
                        <a:lnTo>
                          <a:pt x="1232" y="754"/>
                        </a:lnTo>
                        <a:lnTo>
                          <a:pt x="1285" y="884"/>
                        </a:lnTo>
                        <a:lnTo>
                          <a:pt x="1160" y="894"/>
                        </a:lnTo>
                        <a:lnTo>
                          <a:pt x="1056" y="910"/>
                        </a:lnTo>
                        <a:lnTo>
                          <a:pt x="968" y="926"/>
                        </a:lnTo>
                        <a:lnTo>
                          <a:pt x="983" y="931"/>
                        </a:lnTo>
                        <a:lnTo>
                          <a:pt x="1019" y="952"/>
                        </a:lnTo>
                        <a:lnTo>
                          <a:pt x="1035" y="962"/>
                        </a:lnTo>
                        <a:lnTo>
                          <a:pt x="1050" y="977"/>
                        </a:lnTo>
                        <a:lnTo>
                          <a:pt x="1061" y="994"/>
                        </a:lnTo>
                        <a:lnTo>
                          <a:pt x="1071" y="1014"/>
                        </a:lnTo>
                        <a:lnTo>
                          <a:pt x="1066" y="1019"/>
                        </a:lnTo>
                        <a:lnTo>
                          <a:pt x="1061" y="1030"/>
                        </a:lnTo>
                        <a:lnTo>
                          <a:pt x="1035" y="1040"/>
                        </a:lnTo>
                        <a:lnTo>
                          <a:pt x="998" y="1051"/>
                        </a:lnTo>
                        <a:lnTo>
                          <a:pt x="951" y="1061"/>
                        </a:lnTo>
                        <a:lnTo>
                          <a:pt x="873" y="1072"/>
                        </a:lnTo>
                        <a:lnTo>
                          <a:pt x="838" y="1072"/>
                        </a:lnTo>
                        <a:lnTo>
                          <a:pt x="926" y="1139"/>
                        </a:lnTo>
                        <a:lnTo>
                          <a:pt x="936" y="1155"/>
                        </a:lnTo>
                        <a:lnTo>
                          <a:pt x="941" y="1171"/>
                        </a:lnTo>
                        <a:lnTo>
                          <a:pt x="941" y="1197"/>
                        </a:lnTo>
                        <a:lnTo>
                          <a:pt x="941" y="1222"/>
                        </a:lnTo>
                        <a:lnTo>
                          <a:pt x="926" y="1249"/>
                        </a:lnTo>
                        <a:lnTo>
                          <a:pt x="900" y="1279"/>
                        </a:lnTo>
                        <a:lnTo>
                          <a:pt x="863" y="1306"/>
                        </a:lnTo>
                        <a:lnTo>
                          <a:pt x="879" y="1311"/>
                        </a:lnTo>
                        <a:lnTo>
                          <a:pt x="894" y="1316"/>
                        </a:lnTo>
                        <a:lnTo>
                          <a:pt x="915" y="1327"/>
                        </a:lnTo>
                        <a:lnTo>
                          <a:pt x="931" y="1337"/>
                        </a:lnTo>
                        <a:lnTo>
                          <a:pt x="941" y="1358"/>
                        </a:lnTo>
                        <a:lnTo>
                          <a:pt x="941" y="1379"/>
                        </a:lnTo>
                        <a:lnTo>
                          <a:pt x="936" y="1409"/>
                        </a:lnTo>
                        <a:lnTo>
                          <a:pt x="921" y="1436"/>
                        </a:lnTo>
                        <a:lnTo>
                          <a:pt x="900" y="1462"/>
                        </a:lnTo>
                        <a:lnTo>
                          <a:pt x="879" y="1477"/>
                        </a:lnTo>
                        <a:lnTo>
                          <a:pt x="858" y="1488"/>
                        </a:lnTo>
                        <a:lnTo>
                          <a:pt x="821" y="1499"/>
                        </a:lnTo>
                        <a:lnTo>
                          <a:pt x="806" y="1499"/>
                        </a:lnTo>
                        <a:lnTo>
                          <a:pt x="821" y="1509"/>
                        </a:lnTo>
                        <a:lnTo>
                          <a:pt x="858" y="1524"/>
                        </a:lnTo>
                        <a:lnTo>
                          <a:pt x="873" y="1539"/>
                        </a:lnTo>
                        <a:lnTo>
                          <a:pt x="889" y="1556"/>
                        </a:lnTo>
                        <a:lnTo>
                          <a:pt x="894" y="1571"/>
                        </a:lnTo>
                        <a:lnTo>
                          <a:pt x="884" y="1592"/>
                        </a:lnTo>
                        <a:lnTo>
                          <a:pt x="868" y="1613"/>
                        </a:lnTo>
                        <a:lnTo>
                          <a:pt x="838" y="1623"/>
                        </a:lnTo>
                        <a:lnTo>
                          <a:pt x="806" y="1639"/>
                        </a:lnTo>
                        <a:lnTo>
                          <a:pt x="769" y="1649"/>
                        </a:lnTo>
                        <a:lnTo>
                          <a:pt x="713" y="1659"/>
                        </a:lnTo>
                        <a:lnTo>
                          <a:pt x="686" y="1664"/>
                        </a:lnTo>
                        <a:lnTo>
                          <a:pt x="702" y="1676"/>
                        </a:lnTo>
                        <a:lnTo>
                          <a:pt x="738" y="1701"/>
                        </a:lnTo>
                        <a:lnTo>
                          <a:pt x="754" y="1717"/>
                        </a:lnTo>
                        <a:lnTo>
                          <a:pt x="759" y="1728"/>
                        </a:lnTo>
                        <a:lnTo>
                          <a:pt x="759" y="1738"/>
                        </a:lnTo>
                        <a:lnTo>
                          <a:pt x="754" y="1743"/>
                        </a:lnTo>
                        <a:lnTo>
                          <a:pt x="733" y="1753"/>
                        </a:lnTo>
                        <a:lnTo>
                          <a:pt x="666" y="1779"/>
                        </a:lnTo>
                        <a:lnTo>
                          <a:pt x="588" y="1806"/>
                        </a:lnTo>
                        <a:lnTo>
                          <a:pt x="499" y="1847"/>
                        </a:lnTo>
                        <a:lnTo>
                          <a:pt x="531" y="1847"/>
                        </a:lnTo>
                        <a:lnTo>
                          <a:pt x="593" y="1858"/>
                        </a:lnTo>
                        <a:lnTo>
                          <a:pt x="629" y="1868"/>
                        </a:lnTo>
                        <a:lnTo>
                          <a:pt x="666" y="1883"/>
                        </a:lnTo>
                        <a:lnTo>
                          <a:pt x="691" y="1904"/>
                        </a:lnTo>
                        <a:lnTo>
                          <a:pt x="697" y="1915"/>
                        </a:lnTo>
                        <a:lnTo>
                          <a:pt x="702" y="1931"/>
                        </a:lnTo>
                        <a:lnTo>
                          <a:pt x="702" y="1961"/>
                        </a:lnTo>
                        <a:lnTo>
                          <a:pt x="691" y="1993"/>
                        </a:lnTo>
                        <a:lnTo>
                          <a:pt x="676" y="2024"/>
                        </a:lnTo>
                        <a:lnTo>
                          <a:pt x="656" y="2055"/>
                        </a:lnTo>
                        <a:lnTo>
                          <a:pt x="629" y="2081"/>
                        </a:lnTo>
                        <a:lnTo>
                          <a:pt x="609" y="2103"/>
                        </a:lnTo>
                        <a:lnTo>
                          <a:pt x="582" y="2123"/>
                        </a:lnTo>
                        <a:lnTo>
                          <a:pt x="562" y="2128"/>
                        </a:lnTo>
                        <a:lnTo>
                          <a:pt x="551" y="2133"/>
                        </a:lnTo>
                        <a:lnTo>
                          <a:pt x="551" y="2138"/>
                        </a:lnTo>
                        <a:lnTo>
                          <a:pt x="582" y="2149"/>
                        </a:lnTo>
                        <a:lnTo>
                          <a:pt x="598" y="2154"/>
                        </a:lnTo>
                        <a:lnTo>
                          <a:pt x="619" y="2165"/>
                        </a:lnTo>
                        <a:lnTo>
                          <a:pt x="629" y="2175"/>
                        </a:lnTo>
                        <a:lnTo>
                          <a:pt x="634" y="2191"/>
                        </a:lnTo>
                        <a:lnTo>
                          <a:pt x="624" y="2211"/>
                        </a:lnTo>
                        <a:lnTo>
                          <a:pt x="614" y="2233"/>
                        </a:lnTo>
                        <a:lnTo>
                          <a:pt x="593" y="2248"/>
                        </a:lnTo>
                        <a:lnTo>
                          <a:pt x="567" y="2263"/>
                        </a:lnTo>
                        <a:lnTo>
                          <a:pt x="526" y="2285"/>
                        </a:lnTo>
                        <a:lnTo>
                          <a:pt x="504" y="2295"/>
                        </a:lnTo>
                        <a:lnTo>
                          <a:pt x="531" y="2295"/>
                        </a:lnTo>
                        <a:lnTo>
                          <a:pt x="582" y="2305"/>
                        </a:lnTo>
                        <a:lnTo>
                          <a:pt x="603" y="2315"/>
                        </a:lnTo>
                        <a:lnTo>
                          <a:pt x="624" y="2326"/>
                        </a:lnTo>
                        <a:lnTo>
                          <a:pt x="629" y="2336"/>
                        </a:lnTo>
                        <a:lnTo>
                          <a:pt x="629" y="2341"/>
                        </a:lnTo>
                        <a:lnTo>
                          <a:pt x="629" y="2352"/>
                        </a:lnTo>
                        <a:lnTo>
                          <a:pt x="624" y="2363"/>
                        </a:lnTo>
                        <a:lnTo>
                          <a:pt x="603" y="2388"/>
                        </a:lnTo>
                        <a:lnTo>
                          <a:pt x="577" y="2398"/>
                        </a:lnTo>
                        <a:lnTo>
                          <a:pt x="556" y="2410"/>
                        </a:lnTo>
                        <a:lnTo>
                          <a:pt x="531" y="2420"/>
                        </a:lnTo>
                        <a:lnTo>
                          <a:pt x="489" y="2420"/>
                        </a:lnTo>
                        <a:lnTo>
                          <a:pt x="468" y="2420"/>
                        </a:lnTo>
                        <a:lnTo>
                          <a:pt x="484" y="2425"/>
                        </a:lnTo>
                        <a:lnTo>
                          <a:pt x="514" y="2430"/>
                        </a:lnTo>
                        <a:lnTo>
                          <a:pt x="526" y="2440"/>
                        </a:lnTo>
                        <a:lnTo>
                          <a:pt x="536" y="2451"/>
                        </a:lnTo>
                        <a:lnTo>
                          <a:pt x="536" y="2461"/>
                        </a:lnTo>
                        <a:lnTo>
                          <a:pt x="531" y="2477"/>
                        </a:lnTo>
                        <a:lnTo>
                          <a:pt x="509" y="2498"/>
                        </a:lnTo>
                        <a:lnTo>
                          <a:pt x="479" y="2518"/>
                        </a:lnTo>
                        <a:lnTo>
                          <a:pt x="400" y="2565"/>
                        </a:lnTo>
                        <a:lnTo>
                          <a:pt x="297" y="2617"/>
                        </a:lnTo>
                        <a:lnTo>
                          <a:pt x="317" y="2623"/>
                        </a:lnTo>
                        <a:lnTo>
                          <a:pt x="364" y="2633"/>
                        </a:lnTo>
                        <a:lnTo>
                          <a:pt x="379" y="2643"/>
                        </a:lnTo>
                        <a:lnTo>
                          <a:pt x="390" y="2654"/>
                        </a:lnTo>
                        <a:lnTo>
                          <a:pt x="395" y="2659"/>
                        </a:lnTo>
                        <a:lnTo>
                          <a:pt x="395" y="2665"/>
                        </a:lnTo>
                        <a:lnTo>
                          <a:pt x="379" y="2680"/>
                        </a:lnTo>
                        <a:lnTo>
                          <a:pt x="317" y="2711"/>
                        </a:lnTo>
                        <a:lnTo>
                          <a:pt x="250" y="2737"/>
                        </a:lnTo>
                        <a:lnTo>
                          <a:pt x="162" y="2763"/>
                        </a:lnTo>
                        <a:lnTo>
                          <a:pt x="182" y="2779"/>
                        </a:lnTo>
                        <a:lnTo>
                          <a:pt x="213" y="2810"/>
                        </a:lnTo>
                        <a:lnTo>
                          <a:pt x="229" y="2825"/>
                        </a:lnTo>
                        <a:lnTo>
                          <a:pt x="234" y="2847"/>
                        </a:lnTo>
                        <a:lnTo>
                          <a:pt x="234" y="2852"/>
                        </a:lnTo>
                        <a:lnTo>
                          <a:pt x="234" y="2862"/>
                        </a:lnTo>
                        <a:lnTo>
                          <a:pt x="229" y="2867"/>
                        </a:lnTo>
                        <a:lnTo>
                          <a:pt x="219" y="2872"/>
                        </a:lnTo>
                        <a:lnTo>
                          <a:pt x="187" y="2893"/>
                        </a:lnTo>
                        <a:lnTo>
                          <a:pt x="156" y="2919"/>
                        </a:lnTo>
                        <a:lnTo>
                          <a:pt x="83" y="2982"/>
                        </a:lnTo>
                        <a:lnTo>
                          <a:pt x="0" y="3065"/>
                        </a:lnTo>
                        <a:close/>
                      </a:path>
                    </a:pathLst>
                  </a:cu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未知"/>
                  <p:cNvSpPr/>
                  <p:nvPr/>
                </p:nvSpPr>
                <p:spPr>
                  <a:xfrm rot="8424000">
                    <a:off x="257760" y="1097280"/>
                    <a:ext cx="292680" cy="153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64" h="1941">
                        <a:moveTo>
                          <a:pt x="0" y="1941"/>
                        </a:moveTo>
                        <a:lnTo>
                          <a:pt x="141" y="1936"/>
                        </a:lnTo>
                        <a:lnTo>
                          <a:pt x="463" y="1916"/>
                        </a:lnTo>
                        <a:lnTo>
                          <a:pt x="655" y="1899"/>
                        </a:lnTo>
                        <a:lnTo>
                          <a:pt x="842" y="1874"/>
                        </a:lnTo>
                        <a:lnTo>
                          <a:pt x="1014" y="1848"/>
                        </a:lnTo>
                        <a:lnTo>
                          <a:pt x="1087" y="1837"/>
                        </a:lnTo>
                        <a:lnTo>
                          <a:pt x="1149" y="1822"/>
                        </a:lnTo>
                        <a:lnTo>
                          <a:pt x="1311" y="1775"/>
                        </a:lnTo>
                        <a:lnTo>
                          <a:pt x="1550" y="1717"/>
                        </a:lnTo>
                        <a:lnTo>
                          <a:pt x="1846" y="1644"/>
                        </a:lnTo>
                        <a:lnTo>
                          <a:pt x="2179" y="1551"/>
                        </a:lnTo>
                        <a:lnTo>
                          <a:pt x="2346" y="1499"/>
                        </a:lnTo>
                        <a:lnTo>
                          <a:pt x="2517" y="1442"/>
                        </a:lnTo>
                        <a:lnTo>
                          <a:pt x="2683" y="1379"/>
                        </a:lnTo>
                        <a:lnTo>
                          <a:pt x="2845" y="1312"/>
                        </a:lnTo>
                        <a:lnTo>
                          <a:pt x="2995" y="1244"/>
                        </a:lnTo>
                        <a:lnTo>
                          <a:pt x="3135" y="1172"/>
                        </a:lnTo>
                        <a:lnTo>
                          <a:pt x="3260" y="1093"/>
                        </a:lnTo>
                        <a:lnTo>
                          <a:pt x="3317" y="1052"/>
                        </a:lnTo>
                        <a:lnTo>
                          <a:pt x="3364" y="1010"/>
                        </a:lnTo>
                        <a:lnTo>
                          <a:pt x="3235" y="432"/>
                        </a:lnTo>
                        <a:lnTo>
                          <a:pt x="3177" y="380"/>
                        </a:lnTo>
                        <a:lnTo>
                          <a:pt x="3053" y="266"/>
                        </a:lnTo>
                        <a:lnTo>
                          <a:pt x="2975" y="198"/>
                        </a:lnTo>
                        <a:lnTo>
                          <a:pt x="2907" y="125"/>
                        </a:lnTo>
                        <a:lnTo>
                          <a:pt x="2845" y="58"/>
                        </a:lnTo>
                        <a:lnTo>
                          <a:pt x="2803" y="0"/>
                        </a:lnTo>
                        <a:lnTo>
                          <a:pt x="2704" y="52"/>
                        </a:lnTo>
                        <a:lnTo>
                          <a:pt x="2444" y="193"/>
                        </a:lnTo>
                        <a:lnTo>
                          <a:pt x="2064" y="401"/>
                        </a:lnTo>
                        <a:lnTo>
                          <a:pt x="1840" y="531"/>
                        </a:lnTo>
                        <a:lnTo>
                          <a:pt x="1612" y="672"/>
                        </a:lnTo>
                        <a:lnTo>
                          <a:pt x="1373" y="817"/>
                        </a:lnTo>
                        <a:lnTo>
                          <a:pt x="1134" y="973"/>
                        </a:lnTo>
                        <a:lnTo>
                          <a:pt x="900" y="1135"/>
                        </a:lnTo>
                        <a:lnTo>
                          <a:pt x="677" y="1296"/>
                        </a:lnTo>
                        <a:lnTo>
                          <a:pt x="468" y="1462"/>
                        </a:lnTo>
                        <a:lnTo>
                          <a:pt x="370" y="1546"/>
                        </a:lnTo>
                        <a:lnTo>
                          <a:pt x="281" y="1629"/>
                        </a:lnTo>
                        <a:lnTo>
                          <a:pt x="198" y="1707"/>
                        </a:lnTo>
                        <a:lnTo>
                          <a:pt x="125" y="1786"/>
                        </a:lnTo>
                        <a:lnTo>
                          <a:pt x="58" y="1864"/>
                        </a:lnTo>
                        <a:lnTo>
                          <a:pt x="0" y="194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" name="未知"/>
                  <p:cNvSpPr/>
                  <p:nvPr/>
                </p:nvSpPr>
                <p:spPr>
                  <a:xfrm rot="8424000">
                    <a:off x="160560" y="1122120"/>
                    <a:ext cx="425880" cy="190800"/>
                  </a:xfrm>
                  <a:custGeom>
                    <a:avLst/>
                    <a:gdLst/>
                    <a:ahLst/>
                    <a:rect l="l" t="t" r="r" b="b"/>
                    <a:pathLst>
                      <a:path w="4888" h="2436">
                        <a:moveTo>
                          <a:pt x="0" y="2436"/>
                        </a:moveTo>
                        <a:lnTo>
                          <a:pt x="358" y="2296"/>
                        </a:lnTo>
                        <a:lnTo>
                          <a:pt x="1169" y="1968"/>
                        </a:lnTo>
                        <a:lnTo>
                          <a:pt x="1628" y="1786"/>
                        </a:lnTo>
                        <a:lnTo>
                          <a:pt x="2044" y="1609"/>
                        </a:lnTo>
                        <a:lnTo>
                          <a:pt x="2381" y="1457"/>
                        </a:lnTo>
                        <a:lnTo>
                          <a:pt x="2501" y="1400"/>
                        </a:lnTo>
                        <a:lnTo>
                          <a:pt x="2584" y="1359"/>
                        </a:lnTo>
                        <a:lnTo>
                          <a:pt x="2828" y="1213"/>
                        </a:lnTo>
                        <a:lnTo>
                          <a:pt x="3057" y="1083"/>
                        </a:lnTo>
                        <a:lnTo>
                          <a:pt x="3250" y="979"/>
                        </a:lnTo>
                        <a:lnTo>
                          <a:pt x="3322" y="942"/>
                        </a:lnTo>
                        <a:lnTo>
                          <a:pt x="3380" y="922"/>
                        </a:lnTo>
                        <a:lnTo>
                          <a:pt x="3469" y="885"/>
                        </a:lnTo>
                        <a:lnTo>
                          <a:pt x="3634" y="812"/>
                        </a:lnTo>
                        <a:lnTo>
                          <a:pt x="3853" y="708"/>
                        </a:lnTo>
                        <a:lnTo>
                          <a:pt x="4103" y="583"/>
                        </a:lnTo>
                        <a:lnTo>
                          <a:pt x="4352" y="458"/>
                        </a:lnTo>
                        <a:lnTo>
                          <a:pt x="4587" y="333"/>
                        </a:lnTo>
                        <a:lnTo>
                          <a:pt x="4685" y="276"/>
                        </a:lnTo>
                        <a:lnTo>
                          <a:pt x="4774" y="219"/>
                        </a:lnTo>
                        <a:lnTo>
                          <a:pt x="4841" y="172"/>
                        </a:lnTo>
                        <a:lnTo>
                          <a:pt x="4888" y="136"/>
                        </a:lnTo>
                        <a:lnTo>
                          <a:pt x="4888" y="115"/>
                        </a:lnTo>
                        <a:lnTo>
                          <a:pt x="4888" y="73"/>
                        </a:lnTo>
                        <a:lnTo>
                          <a:pt x="4882" y="47"/>
                        </a:lnTo>
                        <a:lnTo>
                          <a:pt x="4877" y="26"/>
                        </a:lnTo>
                        <a:lnTo>
                          <a:pt x="4867" y="11"/>
                        </a:lnTo>
                        <a:lnTo>
                          <a:pt x="4846" y="0"/>
                        </a:lnTo>
                        <a:lnTo>
                          <a:pt x="4836" y="0"/>
                        </a:lnTo>
                        <a:lnTo>
                          <a:pt x="4826" y="6"/>
                        </a:lnTo>
                        <a:lnTo>
                          <a:pt x="4799" y="26"/>
                        </a:lnTo>
                        <a:lnTo>
                          <a:pt x="4727" y="109"/>
                        </a:lnTo>
                        <a:lnTo>
                          <a:pt x="4680" y="161"/>
                        </a:lnTo>
                        <a:lnTo>
                          <a:pt x="4628" y="219"/>
                        </a:lnTo>
                        <a:lnTo>
                          <a:pt x="4560" y="271"/>
                        </a:lnTo>
                        <a:lnTo>
                          <a:pt x="4524" y="297"/>
                        </a:lnTo>
                        <a:lnTo>
                          <a:pt x="4482" y="318"/>
                        </a:lnTo>
                        <a:lnTo>
                          <a:pt x="4233" y="443"/>
                        </a:lnTo>
                        <a:lnTo>
                          <a:pt x="3900" y="604"/>
                        </a:lnTo>
                        <a:lnTo>
                          <a:pt x="3593" y="745"/>
                        </a:lnTo>
                        <a:lnTo>
                          <a:pt x="3484" y="792"/>
                        </a:lnTo>
                        <a:lnTo>
                          <a:pt x="3422" y="817"/>
                        </a:lnTo>
                        <a:lnTo>
                          <a:pt x="3380" y="833"/>
                        </a:lnTo>
                        <a:lnTo>
                          <a:pt x="3317" y="864"/>
                        </a:lnTo>
                        <a:lnTo>
                          <a:pt x="3172" y="947"/>
                        </a:lnTo>
                        <a:lnTo>
                          <a:pt x="3010" y="1047"/>
                        </a:lnTo>
                        <a:lnTo>
                          <a:pt x="2875" y="1135"/>
                        </a:lnTo>
                        <a:lnTo>
                          <a:pt x="2730" y="1224"/>
                        </a:lnTo>
                        <a:lnTo>
                          <a:pt x="2533" y="1327"/>
                        </a:lnTo>
                        <a:lnTo>
                          <a:pt x="2329" y="1437"/>
                        </a:lnTo>
                        <a:lnTo>
                          <a:pt x="2152" y="1520"/>
                        </a:lnTo>
                        <a:lnTo>
                          <a:pt x="1726" y="1702"/>
                        </a:lnTo>
                        <a:lnTo>
                          <a:pt x="999" y="2014"/>
                        </a:lnTo>
                        <a:lnTo>
                          <a:pt x="0" y="243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" name="未知"/>
                  <p:cNvSpPr/>
                  <p:nvPr/>
                </p:nvSpPr>
                <p:spPr>
                  <a:xfrm rot="8424000">
                    <a:off x="366840" y="1132560"/>
                    <a:ext cx="13824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597" h="240">
                        <a:moveTo>
                          <a:pt x="0" y="5"/>
                        </a:moveTo>
                        <a:lnTo>
                          <a:pt x="198" y="17"/>
                        </a:lnTo>
                        <a:lnTo>
                          <a:pt x="411" y="27"/>
                        </a:lnTo>
                        <a:lnTo>
                          <a:pt x="656" y="47"/>
                        </a:lnTo>
                        <a:lnTo>
                          <a:pt x="921" y="79"/>
                        </a:lnTo>
                        <a:lnTo>
                          <a:pt x="1051" y="95"/>
                        </a:lnTo>
                        <a:lnTo>
                          <a:pt x="1176" y="115"/>
                        </a:lnTo>
                        <a:lnTo>
                          <a:pt x="1285" y="142"/>
                        </a:lnTo>
                        <a:lnTo>
                          <a:pt x="1389" y="172"/>
                        </a:lnTo>
                        <a:lnTo>
                          <a:pt x="1472" y="204"/>
                        </a:lnTo>
                        <a:lnTo>
                          <a:pt x="1509" y="219"/>
                        </a:lnTo>
                        <a:lnTo>
                          <a:pt x="1540" y="240"/>
                        </a:lnTo>
                        <a:lnTo>
                          <a:pt x="1597" y="225"/>
                        </a:lnTo>
                        <a:lnTo>
                          <a:pt x="1571" y="214"/>
                        </a:lnTo>
                        <a:lnTo>
                          <a:pt x="1487" y="183"/>
                        </a:lnTo>
                        <a:lnTo>
                          <a:pt x="1358" y="142"/>
                        </a:lnTo>
                        <a:lnTo>
                          <a:pt x="1176" y="100"/>
                        </a:lnTo>
                        <a:lnTo>
                          <a:pt x="1067" y="73"/>
                        </a:lnTo>
                        <a:lnTo>
                          <a:pt x="947" y="53"/>
                        </a:lnTo>
                        <a:lnTo>
                          <a:pt x="811" y="37"/>
                        </a:lnTo>
                        <a:lnTo>
                          <a:pt x="671" y="22"/>
                        </a:lnTo>
                        <a:lnTo>
                          <a:pt x="521" y="11"/>
                        </a:lnTo>
                        <a:lnTo>
                          <a:pt x="354" y="0"/>
                        </a:lnTo>
                        <a:lnTo>
                          <a:pt x="18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" name="未知"/>
                  <p:cNvSpPr/>
                  <p:nvPr/>
                </p:nvSpPr>
                <p:spPr>
                  <a:xfrm rot="8424000">
                    <a:off x="348480" y="1177560"/>
                    <a:ext cx="17892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9" h="906">
                        <a:moveTo>
                          <a:pt x="0" y="427"/>
                        </a:moveTo>
                        <a:lnTo>
                          <a:pt x="141" y="448"/>
                        </a:lnTo>
                        <a:lnTo>
                          <a:pt x="463" y="505"/>
                        </a:lnTo>
                        <a:lnTo>
                          <a:pt x="640" y="542"/>
                        </a:lnTo>
                        <a:lnTo>
                          <a:pt x="806" y="578"/>
                        </a:lnTo>
                        <a:lnTo>
                          <a:pt x="879" y="599"/>
                        </a:lnTo>
                        <a:lnTo>
                          <a:pt x="941" y="619"/>
                        </a:lnTo>
                        <a:lnTo>
                          <a:pt x="989" y="641"/>
                        </a:lnTo>
                        <a:lnTo>
                          <a:pt x="1024" y="661"/>
                        </a:lnTo>
                        <a:lnTo>
                          <a:pt x="1061" y="677"/>
                        </a:lnTo>
                        <a:lnTo>
                          <a:pt x="1108" y="698"/>
                        </a:lnTo>
                        <a:lnTo>
                          <a:pt x="1171" y="719"/>
                        </a:lnTo>
                        <a:lnTo>
                          <a:pt x="1238" y="744"/>
                        </a:lnTo>
                        <a:lnTo>
                          <a:pt x="1404" y="781"/>
                        </a:lnTo>
                        <a:lnTo>
                          <a:pt x="1581" y="823"/>
                        </a:lnTo>
                        <a:lnTo>
                          <a:pt x="1893" y="879"/>
                        </a:lnTo>
                        <a:lnTo>
                          <a:pt x="2034" y="906"/>
                        </a:lnTo>
                        <a:lnTo>
                          <a:pt x="2059" y="854"/>
                        </a:lnTo>
                        <a:lnTo>
                          <a:pt x="1924" y="833"/>
                        </a:lnTo>
                        <a:lnTo>
                          <a:pt x="1623" y="781"/>
                        </a:lnTo>
                        <a:lnTo>
                          <a:pt x="1456" y="749"/>
                        </a:lnTo>
                        <a:lnTo>
                          <a:pt x="1295" y="714"/>
                        </a:lnTo>
                        <a:lnTo>
                          <a:pt x="1165" y="682"/>
                        </a:lnTo>
                        <a:lnTo>
                          <a:pt x="1118" y="666"/>
                        </a:lnTo>
                        <a:lnTo>
                          <a:pt x="1087" y="651"/>
                        </a:lnTo>
                        <a:lnTo>
                          <a:pt x="1056" y="630"/>
                        </a:lnTo>
                        <a:lnTo>
                          <a:pt x="1019" y="604"/>
                        </a:lnTo>
                        <a:lnTo>
                          <a:pt x="936" y="531"/>
                        </a:lnTo>
                        <a:lnTo>
                          <a:pt x="723" y="329"/>
                        </a:lnTo>
                        <a:lnTo>
                          <a:pt x="609" y="219"/>
                        </a:lnTo>
                        <a:lnTo>
                          <a:pt x="495" y="125"/>
                        </a:lnTo>
                        <a:lnTo>
                          <a:pt x="442" y="84"/>
                        </a:lnTo>
                        <a:lnTo>
                          <a:pt x="390" y="47"/>
                        </a:lnTo>
                        <a:lnTo>
                          <a:pt x="343" y="21"/>
                        </a:lnTo>
                        <a:lnTo>
                          <a:pt x="302" y="0"/>
                        </a:lnTo>
                        <a:lnTo>
                          <a:pt x="562" y="234"/>
                        </a:lnTo>
                        <a:lnTo>
                          <a:pt x="759" y="417"/>
                        </a:lnTo>
                        <a:lnTo>
                          <a:pt x="837" y="494"/>
                        </a:lnTo>
                        <a:lnTo>
                          <a:pt x="889" y="552"/>
                        </a:lnTo>
                        <a:lnTo>
                          <a:pt x="775" y="531"/>
                        </a:lnTo>
                        <a:lnTo>
                          <a:pt x="515" y="479"/>
                        </a:lnTo>
                        <a:lnTo>
                          <a:pt x="365" y="459"/>
                        </a:lnTo>
                        <a:lnTo>
                          <a:pt x="218" y="437"/>
                        </a:lnTo>
                        <a:lnTo>
                          <a:pt x="94" y="427"/>
                        </a:lnTo>
                        <a:lnTo>
                          <a:pt x="41" y="427"/>
                        </a:lnTo>
                        <a:lnTo>
                          <a:pt x="0" y="42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" name="未知"/>
                  <p:cNvSpPr/>
                  <p:nvPr/>
                </p:nvSpPr>
                <p:spPr>
                  <a:xfrm rot="8424000">
                    <a:off x="335880" y="1212480"/>
                    <a:ext cx="1972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267" h="1181">
                        <a:moveTo>
                          <a:pt x="0" y="286"/>
                        </a:moveTo>
                        <a:lnTo>
                          <a:pt x="156" y="339"/>
                        </a:lnTo>
                        <a:lnTo>
                          <a:pt x="514" y="469"/>
                        </a:lnTo>
                        <a:lnTo>
                          <a:pt x="712" y="546"/>
                        </a:lnTo>
                        <a:lnTo>
                          <a:pt x="900" y="624"/>
                        </a:lnTo>
                        <a:lnTo>
                          <a:pt x="1050" y="692"/>
                        </a:lnTo>
                        <a:lnTo>
                          <a:pt x="1107" y="724"/>
                        </a:lnTo>
                        <a:lnTo>
                          <a:pt x="1149" y="749"/>
                        </a:lnTo>
                        <a:lnTo>
                          <a:pt x="1107" y="776"/>
                        </a:lnTo>
                        <a:lnTo>
                          <a:pt x="1008" y="822"/>
                        </a:lnTo>
                        <a:lnTo>
                          <a:pt x="940" y="848"/>
                        </a:lnTo>
                        <a:lnTo>
                          <a:pt x="868" y="874"/>
                        </a:lnTo>
                        <a:lnTo>
                          <a:pt x="785" y="896"/>
                        </a:lnTo>
                        <a:lnTo>
                          <a:pt x="701" y="906"/>
                        </a:lnTo>
                        <a:lnTo>
                          <a:pt x="743" y="906"/>
                        </a:lnTo>
                        <a:lnTo>
                          <a:pt x="790" y="901"/>
                        </a:lnTo>
                        <a:lnTo>
                          <a:pt x="853" y="896"/>
                        </a:lnTo>
                        <a:lnTo>
                          <a:pt x="925" y="884"/>
                        </a:lnTo>
                        <a:lnTo>
                          <a:pt x="1008" y="864"/>
                        </a:lnTo>
                        <a:lnTo>
                          <a:pt x="1092" y="833"/>
                        </a:lnTo>
                        <a:lnTo>
                          <a:pt x="1170" y="796"/>
                        </a:lnTo>
                        <a:lnTo>
                          <a:pt x="1305" y="859"/>
                        </a:lnTo>
                        <a:lnTo>
                          <a:pt x="1617" y="989"/>
                        </a:lnTo>
                        <a:lnTo>
                          <a:pt x="1794" y="1061"/>
                        </a:lnTo>
                        <a:lnTo>
                          <a:pt x="1965" y="1124"/>
                        </a:lnTo>
                        <a:lnTo>
                          <a:pt x="2043" y="1145"/>
                        </a:lnTo>
                        <a:lnTo>
                          <a:pt x="2111" y="1166"/>
                        </a:lnTo>
                        <a:lnTo>
                          <a:pt x="2168" y="1176"/>
                        </a:lnTo>
                        <a:lnTo>
                          <a:pt x="2210" y="1181"/>
                        </a:lnTo>
                        <a:lnTo>
                          <a:pt x="2267" y="1161"/>
                        </a:lnTo>
                        <a:lnTo>
                          <a:pt x="2230" y="1156"/>
                        </a:lnTo>
                        <a:lnTo>
                          <a:pt x="2142" y="1124"/>
                        </a:lnTo>
                        <a:lnTo>
                          <a:pt x="2095" y="1109"/>
                        </a:lnTo>
                        <a:lnTo>
                          <a:pt x="2048" y="1088"/>
                        </a:lnTo>
                        <a:lnTo>
                          <a:pt x="2007" y="1061"/>
                        </a:lnTo>
                        <a:lnTo>
                          <a:pt x="1981" y="1041"/>
                        </a:lnTo>
                        <a:lnTo>
                          <a:pt x="1856" y="869"/>
                        </a:lnTo>
                        <a:lnTo>
                          <a:pt x="1746" y="724"/>
                        </a:lnTo>
                        <a:lnTo>
                          <a:pt x="1617" y="552"/>
                        </a:lnTo>
                        <a:lnTo>
                          <a:pt x="1471" y="380"/>
                        </a:lnTo>
                        <a:lnTo>
                          <a:pt x="1399" y="297"/>
                        </a:lnTo>
                        <a:lnTo>
                          <a:pt x="1326" y="219"/>
                        </a:lnTo>
                        <a:lnTo>
                          <a:pt x="1252" y="151"/>
                        </a:lnTo>
                        <a:lnTo>
                          <a:pt x="1180" y="89"/>
                        </a:lnTo>
                        <a:lnTo>
                          <a:pt x="1112" y="37"/>
                        </a:lnTo>
                        <a:lnTo>
                          <a:pt x="1050" y="0"/>
                        </a:lnTo>
                        <a:lnTo>
                          <a:pt x="1149" y="94"/>
                        </a:lnTo>
                        <a:lnTo>
                          <a:pt x="1247" y="192"/>
                        </a:lnTo>
                        <a:lnTo>
                          <a:pt x="1377" y="327"/>
                        </a:lnTo>
                        <a:lnTo>
                          <a:pt x="1513" y="484"/>
                        </a:lnTo>
                        <a:lnTo>
                          <a:pt x="1653" y="651"/>
                        </a:lnTo>
                        <a:lnTo>
                          <a:pt x="1716" y="739"/>
                        </a:lnTo>
                        <a:lnTo>
                          <a:pt x="1778" y="833"/>
                        </a:lnTo>
                        <a:lnTo>
                          <a:pt x="1835" y="921"/>
                        </a:lnTo>
                        <a:lnTo>
                          <a:pt x="1888" y="1015"/>
                        </a:lnTo>
                        <a:lnTo>
                          <a:pt x="1846" y="1009"/>
                        </a:lnTo>
                        <a:lnTo>
                          <a:pt x="1794" y="994"/>
                        </a:lnTo>
                        <a:lnTo>
                          <a:pt x="1706" y="963"/>
                        </a:lnTo>
                        <a:lnTo>
                          <a:pt x="1591" y="916"/>
                        </a:lnTo>
                        <a:lnTo>
                          <a:pt x="1435" y="848"/>
                        </a:lnTo>
                        <a:lnTo>
                          <a:pt x="1242" y="749"/>
                        </a:lnTo>
                        <a:lnTo>
                          <a:pt x="1003" y="614"/>
                        </a:lnTo>
                        <a:lnTo>
                          <a:pt x="951" y="541"/>
                        </a:lnTo>
                        <a:lnTo>
                          <a:pt x="894" y="458"/>
                        </a:lnTo>
                        <a:lnTo>
                          <a:pt x="816" y="369"/>
                        </a:lnTo>
                        <a:lnTo>
                          <a:pt x="770" y="322"/>
                        </a:lnTo>
                        <a:lnTo>
                          <a:pt x="723" y="276"/>
                        </a:lnTo>
                        <a:lnTo>
                          <a:pt x="670" y="229"/>
                        </a:lnTo>
                        <a:lnTo>
                          <a:pt x="613" y="187"/>
                        </a:lnTo>
                        <a:lnTo>
                          <a:pt x="556" y="151"/>
                        </a:lnTo>
                        <a:lnTo>
                          <a:pt x="494" y="120"/>
                        </a:lnTo>
                        <a:lnTo>
                          <a:pt x="431" y="94"/>
                        </a:lnTo>
                        <a:lnTo>
                          <a:pt x="369" y="78"/>
                        </a:lnTo>
                        <a:lnTo>
                          <a:pt x="436" y="114"/>
                        </a:lnTo>
                        <a:lnTo>
                          <a:pt x="509" y="162"/>
                        </a:lnTo>
                        <a:lnTo>
                          <a:pt x="593" y="219"/>
                        </a:lnTo>
                        <a:lnTo>
                          <a:pt x="681" y="292"/>
                        </a:lnTo>
                        <a:lnTo>
                          <a:pt x="775" y="374"/>
                        </a:lnTo>
                        <a:lnTo>
                          <a:pt x="816" y="422"/>
                        </a:lnTo>
                        <a:lnTo>
                          <a:pt x="853" y="469"/>
                        </a:lnTo>
                        <a:lnTo>
                          <a:pt x="889" y="515"/>
                        </a:lnTo>
                        <a:lnTo>
                          <a:pt x="915" y="567"/>
                        </a:lnTo>
                        <a:lnTo>
                          <a:pt x="800" y="526"/>
                        </a:lnTo>
                        <a:lnTo>
                          <a:pt x="525" y="432"/>
                        </a:lnTo>
                        <a:lnTo>
                          <a:pt x="369" y="380"/>
                        </a:lnTo>
                        <a:lnTo>
                          <a:pt x="224" y="339"/>
                        </a:lnTo>
                        <a:lnTo>
                          <a:pt x="94" y="302"/>
                        </a:lnTo>
                        <a:lnTo>
                          <a:pt x="0" y="28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2" name="未知"/>
                  <p:cNvSpPr/>
                  <p:nvPr/>
                </p:nvSpPr>
                <p:spPr>
                  <a:xfrm rot="8424000">
                    <a:off x="405360" y="1089720"/>
                    <a:ext cx="820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946" h="155">
                        <a:moveTo>
                          <a:pt x="0" y="30"/>
                        </a:moveTo>
                        <a:lnTo>
                          <a:pt x="103" y="30"/>
                        </a:lnTo>
                        <a:lnTo>
                          <a:pt x="213" y="30"/>
                        </a:lnTo>
                        <a:lnTo>
                          <a:pt x="343" y="42"/>
                        </a:lnTo>
                        <a:lnTo>
                          <a:pt x="488" y="52"/>
                        </a:lnTo>
                        <a:lnTo>
                          <a:pt x="634" y="78"/>
                        </a:lnTo>
                        <a:lnTo>
                          <a:pt x="702" y="93"/>
                        </a:lnTo>
                        <a:lnTo>
                          <a:pt x="764" y="109"/>
                        </a:lnTo>
                        <a:lnTo>
                          <a:pt x="826" y="130"/>
                        </a:lnTo>
                        <a:lnTo>
                          <a:pt x="879" y="155"/>
                        </a:lnTo>
                        <a:lnTo>
                          <a:pt x="946" y="135"/>
                        </a:lnTo>
                        <a:lnTo>
                          <a:pt x="857" y="104"/>
                        </a:lnTo>
                        <a:lnTo>
                          <a:pt x="764" y="72"/>
                        </a:lnTo>
                        <a:lnTo>
                          <a:pt x="634" y="42"/>
                        </a:lnTo>
                        <a:lnTo>
                          <a:pt x="488" y="15"/>
                        </a:lnTo>
                        <a:lnTo>
                          <a:pt x="410" y="5"/>
                        </a:lnTo>
                        <a:lnTo>
                          <a:pt x="332" y="0"/>
                        </a:lnTo>
                        <a:lnTo>
                          <a:pt x="250" y="0"/>
                        </a:lnTo>
                        <a:lnTo>
                          <a:pt x="166" y="5"/>
                        </a:lnTo>
                        <a:lnTo>
                          <a:pt x="83" y="15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未知"/>
                  <p:cNvSpPr/>
                  <p:nvPr/>
                </p:nvSpPr>
                <p:spPr>
                  <a:xfrm rot="8424000">
                    <a:off x="438480" y="1050480"/>
                    <a:ext cx="4284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499" h="53">
                        <a:moveTo>
                          <a:pt x="0" y="47"/>
                        </a:moveTo>
                        <a:lnTo>
                          <a:pt x="53" y="36"/>
                        </a:lnTo>
                        <a:lnTo>
                          <a:pt x="110" y="31"/>
                        </a:lnTo>
                        <a:lnTo>
                          <a:pt x="172" y="21"/>
                        </a:lnTo>
                        <a:lnTo>
                          <a:pt x="245" y="16"/>
                        </a:lnTo>
                        <a:lnTo>
                          <a:pt x="323" y="21"/>
                        </a:lnTo>
                        <a:lnTo>
                          <a:pt x="385" y="31"/>
                        </a:lnTo>
                        <a:lnTo>
                          <a:pt x="417" y="42"/>
                        </a:lnTo>
                        <a:lnTo>
                          <a:pt x="442" y="53"/>
                        </a:lnTo>
                        <a:lnTo>
                          <a:pt x="499" y="36"/>
                        </a:lnTo>
                        <a:lnTo>
                          <a:pt x="474" y="21"/>
                        </a:lnTo>
                        <a:lnTo>
                          <a:pt x="432" y="11"/>
                        </a:lnTo>
                        <a:lnTo>
                          <a:pt x="380" y="5"/>
                        </a:lnTo>
                        <a:lnTo>
                          <a:pt x="312" y="0"/>
                        </a:lnTo>
                        <a:lnTo>
                          <a:pt x="224" y="5"/>
                        </a:lnTo>
                        <a:lnTo>
                          <a:pt x="120" y="21"/>
                        </a:lnTo>
                        <a:lnTo>
                          <a:pt x="0" y="4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未知"/>
                  <p:cNvSpPr/>
                  <p:nvPr/>
                </p:nvSpPr>
                <p:spPr>
                  <a:xfrm rot="8424000">
                    <a:off x="423720" y="1034640"/>
                    <a:ext cx="3132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411">
                        <a:moveTo>
                          <a:pt x="0" y="411"/>
                        </a:moveTo>
                        <a:lnTo>
                          <a:pt x="57" y="370"/>
                        </a:lnTo>
                        <a:lnTo>
                          <a:pt x="119" y="323"/>
                        </a:lnTo>
                        <a:lnTo>
                          <a:pt x="187" y="271"/>
                        </a:lnTo>
                        <a:lnTo>
                          <a:pt x="254" y="203"/>
                        </a:lnTo>
                        <a:lnTo>
                          <a:pt x="286" y="172"/>
                        </a:lnTo>
                        <a:lnTo>
                          <a:pt x="312" y="135"/>
                        </a:lnTo>
                        <a:lnTo>
                          <a:pt x="332" y="99"/>
                        </a:lnTo>
                        <a:lnTo>
                          <a:pt x="348" y="63"/>
                        </a:lnTo>
                        <a:lnTo>
                          <a:pt x="359" y="31"/>
                        </a:lnTo>
                        <a:lnTo>
                          <a:pt x="359" y="0"/>
                        </a:lnTo>
                        <a:lnTo>
                          <a:pt x="296" y="26"/>
                        </a:lnTo>
                        <a:lnTo>
                          <a:pt x="296" y="31"/>
                        </a:lnTo>
                        <a:lnTo>
                          <a:pt x="301" y="42"/>
                        </a:lnTo>
                        <a:lnTo>
                          <a:pt x="301" y="63"/>
                        </a:lnTo>
                        <a:lnTo>
                          <a:pt x="291" y="99"/>
                        </a:lnTo>
                        <a:lnTo>
                          <a:pt x="264" y="146"/>
                        </a:lnTo>
                        <a:lnTo>
                          <a:pt x="207" y="213"/>
                        </a:lnTo>
                        <a:lnTo>
                          <a:pt x="124" y="302"/>
                        </a:lnTo>
                        <a:lnTo>
                          <a:pt x="0" y="41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未知"/>
                  <p:cNvSpPr/>
                  <p:nvPr/>
                </p:nvSpPr>
                <p:spPr>
                  <a:xfrm rot="8424000">
                    <a:off x="386640" y="1046880"/>
                    <a:ext cx="5472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629" h="776">
                        <a:moveTo>
                          <a:pt x="0" y="776"/>
                        </a:moveTo>
                        <a:lnTo>
                          <a:pt x="93" y="697"/>
                        </a:lnTo>
                        <a:lnTo>
                          <a:pt x="192" y="609"/>
                        </a:lnTo>
                        <a:lnTo>
                          <a:pt x="302" y="500"/>
                        </a:lnTo>
                        <a:lnTo>
                          <a:pt x="353" y="442"/>
                        </a:lnTo>
                        <a:lnTo>
                          <a:pt x="405" y="380"/>
                        </a:lnTo>
                        <a:lnTo>
                          <a:pt x="452" y="317"/>
                        </a:lnTo>
                        <a:lnTo>
                          <a:pt x="494" y="255"/>
                        </a:lnTo>
                        <a:lnTo>
                          <a:pt x="530" y="192"/>
                        </a:lnTo>
                        <a:lnTo>
                          <a:pt x="551" y="130"/>
                        </a:lnTo>
                        <a:lnTo>
                          <a:pt x="567" y="73"/>
                        </a:lnTo>
                        <a:lnTo>
                          <a:pt x="567" y="47"/>
                        </a:lnTo>
                        <a:lnTo>
                          <a:pt x="562" y="20"/>
                        </a:lnTo>
                        <a:lnTo>
                          <a:pt x="629" y="0"/>
                        </a:lnTo>
                        <a:lnTo>
                          <a:pt x="624" y="20"/>
                        </a:lnTo>
                        <a:lnTo>
                          <a:pt x="603" y="83"/>
                        </a:lnTo>
                        <a:lnTo>
                          <a:pt x="567" y="172"/>
                        </a:lnTo>
                        <a:lnTo>
                          <a:pt x="540" y="229"/>
                        </a:lnTo>
                        <a:lnTo>
                          <a:pt x="509" y="287"/>
                        </a:lnTo>
                        <a:lnTo>
                          <a:pt x="473" y="344"/>
                        </a:lnTo>
                        <a:lnTo>
                          <a:pt x="427" y="411"/>
                        </a:lnTo>
                        <a:lnTo>
                          <a:pt x="374" y="474"/>
                        </a:lnTo>
                        <a:lnTo>
                          <a:pt x="317" y="536"/>
                        </a:lnTo>
                        <a:lnTo>
                          <a:pt x="250" y="604"/>
                        </a:lnTo>
                        <a:lnTo>
                          <a:pt x="177" y="666"/>
                        </a:lnTo>
                        <a:lnTo>
                          <a:pt x="93" y="724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未知"/>
                  <p:cNvSpPr/>
                  <p:nvPr/>
                </p:nvSpPr>
                <p:spPr>
                  <a:xfrm rot="8424000">
                    <a:off x="331920" y="1062360"/>
                    <a:ext cx="8748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1358">
                        <a:moveTo>
                          <a:pt x="0" y="1358"/>
                        </a:moveTo>
                        <a:lnTo>
                          <a:pt x="145" y="1187"/>
                        </a:lnTo>
                        <a:lnTo>
                          <a:pt x="296" y="1010"/>
                        </a:lnTo>
                        <a:lnTo>
                          <a:pt x="472" y="791"/>
                        </a:lnTo>
                        <a:lnTo>
                          <a:pt x="649" y="562"/>
                        </a:lnTo>
                        <a:lnTo>
                          <a:pt x="728" y="448"/>
                        </a:lnTo>
                        <a:lnTo>
                          <a:pt x="801" y="339"/>
                        </a:lnTo>
                        <a:lnTo>
                          <a:pt x="863" y="234"/>
                        </a:lnTo>
                        <a:lnTo>
                          <a:pt x="915" y="146"/>
                        </a:lnTo>
                        <a:lnTo>
                          <a:pt x="946" y="62"/>
                        </a:lnTo>
                        <a:lnTo>
                          <a:pt x="956" y="31"/>
                        </a:lnTo>
                        <a:lnTo>
                          <a:pt x="961" y="0"/>
                        </a:lnTo>
                        <a:lnTo>
                          <a:pt x="1003" y="10"/>
                        </a:lnTo>
                        <a:lnTo>
                          <a:pt x="998" y="26"/>
                        </a:lnTo>
                        <a:lnTo>
                          <a:pt x="978" y="84"/>
                        </a:lnTo>
                        <a:lnTo>
                          <a:pt x="936" y="182"/>
                        </a:lnTo>
                        <a:lnTo>
                          <a:pt x="899" y="249"/>
                        </a:lnTo>
                        <a:lnTo>
                          <a:pt x="858" y="328"/>
                        </a:lnTo>
                        <a:lnTo>
                          <a:pt x="801" y="411"/>
                        </a:lnTo>
                        <a:lnTo>
                          <a:pt x="733" y="511"/>
                        </a:lnTo>
                        <a:lnTo>
                          <a:pt x="649" y="624"/>
                        </a:lnTo>
                        <a:lnTo>
                          <a:pt x="556" y="744"/>
                        </a:lnTo>
                        <a:lnTo>
                          <a:pt x="442" y="880"/>
                        </a:lnTo>
                        <a:lnTo>
                          <a:pt x="312" y="1025"/>
                        </a:lnTo>
                        <a:lnTo>
                          <a:pt x="166" y="1187"/>
                        </a:lnTo>
                        <a:lnTo>
                          <a:pt x="0" y="1358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未知"/>
                  <p:cNvSpPr/>
                  <p:nvPr/>
                </p:nvSpPr>
                <p:spPr>
                  <a:xfrm rot="8424000">
                    <a:off x="286200" y="1077120"/>
                    <a:ext cx="9396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81" h="1995">
                        <a:moveTo>
                          <a:pt x="0" y="1995"/>
                        </a:moveTo>
                        <a:lnTo>
                          <a:pt x="167" y="1745"/>
                        </a:lnTo>
                        <a:lnTo>
                          <a:pt x="332" y="1485"/>
                        </a:lnTo>
                        <a:lnTo>
                          <a:pt x="531" y="1166"/>
                        </a:lnTo>
                        <a:lnTo>
                          <a:pt x="624" y="1001"/>
                        </a:lnTo>
                        <a:lnTo>
                          <a:pt x="723" y="834"/>
                        </a:lnTo>
                        <a:lnTo>
                          <a:pt x="806" y="667"/>
                        </a:lnTo>
                        <a:lnTo>
                          <a:pt x="884" y="511"/>
                        </a:lnTo>
                        <a:lnTo>
                          <a:pt x="946" y="365"/>
                        </a:lnTo>
                        <a:lnTo>
                          <a:pt x="998" y="230"/>
                        </a:lnTo>
                        <a:lnTo>
                          <a:pt x="1013" y="172"/>
                        </a:lnTo>
                        <a:lnTo>
                          <a:pt x="1025" y="115"/>
                        </a:lnTo>
                        <a:lnTo>
                          <a:pt x="1030" y="69"/>
                        </a:lnTo>
                        <a:lnTo>
                          <a:pt x="1030" y="27"/>
                        </a:lnTo>
                        <a:lnTo>
                          <a:pt x="1081" y="0"/>
                        </a:lnTo>
                        <a:lnTo>
                          <a:pt x="1081" y="22"/>
                        </a:lnTo>
                        <a:lnTo>
                          <a:pt x="1066" y="100"/>
                        </a:lnTo>
                        <a:lnTo>
                          <a:pt x="1050" y="157"/>
                        </a:lnTo>
                        <a:lnTo>
                          <a:pt x="1030" y="235"/>
                        </a:lnTo>
                        <a:lnTo>
                          <a:pt x="998" y="324"/>
                        </a:lnTo>
                        <a:lnTo>
                          <a:pt x="951" y="433"/>
                        </a:lnTo>
                        <a:lnTo>
                          <a:pt x="894" y="558"/>
                        </a:lnTo>
                        <a:lnTo>
                          <a:pt x="821" y="704"/>
                        </a:lnTo>
                        <a:lnTo>
                          <a:pt x="733" y="864"/>
                        </a:lnTo>
                        <a:lnTo>
                          <a:pt x="629" y="1047"/>
                        </a:lnTo>
                        <a:lnTo>
                          <a:pt x="504" y="1250"/>
                        </a:lnTo>
                        <a:lnTo>
                          <a:pt x="359" y="1474"/>
                        </a:lnTo>
                        <a:lnTo>
                          <a:pt x="192" y="1723"/>
                        </a:lnTo>
                        <a:lnTo>
                          <a:pt x="0" y="199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" name="未知"/>
                  <p:cNvSpPr/>
                  <p:nvPr/>
                </p:nvSpPr>
                <p:spPr>
                  <a:xfrm rot="8424000">
                    <a:off x="297360" y="1083600"/>
                    <a:ext cx="1008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797">
                        <a:moveTo>
                          <a:pt x="0" y="797"/>
                        </a:moveTo>
                        <a:lnTo>
                          <a:pt x="31" y="708"/>
                        </a:lnTo>
                        <a:lnTo>
                          <a:pt x="57" y="608"/>
                        </a:lnTo>
                        <a:lnTo>
                          <a:pt x="77" y="495"/>
                        </a:lnTo>
                        <a:lnTo>
                          <a:pt x="89" y="432"/>
                        </a:lnTo>
                        <a:lnTo>
                          <a:pt x="94" y="370"/>
                        </a:lnTo>
                        <a:lnTo>
                          <a:pt x="99" y="307"/>
                        </a:lnTo>
                        <a:lnTo>
                          <a:pt x="94" y="250"/>
                        </a:lnTo>
                        <a:lnTo>
                          <a:pt x="89" y="193"/>
                        </a:lnTo>
                        <a:lnTo>
                          <a:pt x="72" y="140"/>
                        </a:lnTo>
                        <a:lnTo>
                          <a:pt x="52" y="93"/>
                        </a:lnTo>
                        <a:lnTo>
                          <a:pt x="20" y="51"/>
                        </a:lnTo>
                        <a:lnTo>
                          <a:pt x="57" y="0"/>
                        </a:lnTo>
                        <a:lnTo>
                          <a:pt x="67" y="16"/>
                        </a:lnTo>
                        <a:lnTo>
                          <a:pt x="83" y="51"/>
                        </a:lnTo>
                        <a:lnTo>
                          <a:pt x="104" y="114"/>
                        </a:lnTo>
                        <a:lnTo>
                          <a:pt x="114" y="156"/>
                        </a:lnTo>
                        <a:lnTo>
                          <a:pt x="119" y="203"/>
                        </a:lnTo>
                        <a:lnTo>
                          <a:pt x="125" y="260"/>
                        </a:lnTo>
                        <a:lnTo>
                          <a:pt x="125" y="318"/>
                        </a:lnTo>
                        <a:lnTo>
                          <a:pt x="125" y="385"/>
                        </a:lnTo>
                        <a:lnTo>
                          <a:pt x="114" y="453"/>
                        </a:lnTo>
                        <a:lnTo>
                          <a:pt x="99" y="531"/>
                        </a:lnTo>
                        <a:lnTo>
                          <a:pt x="72" y="614"/>
                        </a:lnTo>
                        <a:lnTo>
                          <a:pt x="42" y="703"/>
                        </a:lnTo>
                        <a:lnTo>
                          <a:pt x="0" y="79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未知"/>
                  <p:cNvSpPr/>
                  <p:nvPr/>
                </p:nvSpPr>
                <p:spPr>
                  <a:xfrm rot="8424000">
                    <a:off x="257400" y="1101600"/>
                    <a:ext cx="64800" cy="193320"/>
                  </a:xfrm>
                  <a:custGeom>
                    <a:avLst/>
                    <a:gdLst/>
                    <a:ahLst/>
                    <a:rect l="l" t="t" r="r" b="b"/>
                    <a:pathLst>
                      <a:path w="749" h="2451">
                        <a:moveTo>
                          <a:pt x="0" y="2451"/>
                        </a:moveTo>
                        <a:lnTo>
                          <a:pt x="57" y="2306"/>
                        </a:lnTo>
                        <a:lnTo>
                          <a:pt x="192" y="1957"/>
                        </a:lnTo>
                        <a:lnTo>
                          <a:pt x="270" y="1734"/>
                        </a:lnTo>
                        <a:lnTo>
                          <a:pt x="348" y="1509"/>
                        </a:lnTo>
                        <a:lnTo>
                          <a:pt x="416" y="1285"/>
                        </a:lnTo>
                        <a:lnTo>
                          <a:pt x="442" y="1182"/>
                        </a:lnTo>
                        <a:lnTo>
                          <a:pt x="462" y="1082"/>
                        </a:lnTo>
                        <a:lnTo>
                          <a:pt x="499" y="895"/>
                        </a:lnTo>
                        <a:lnTo>
                          <a:pt x="530" y="713"/>
                        </a:lnTo>
                        <a:lnTo>
                          <a:pt x="587" y="385"/>
                        </a:lnTo>
                        <a:lnTo>
                          <a:pt x="614" y="250"/>
                        </a:lnTo>
                        <a:lnTo>
                          <a:pt x="634" y="141"/>
                        </a:lnTo>
                        <a:lnTo>
                          <a:pt x="660" y="63"/>
                        </a:lnTo>
                        <a:lnTo>
                          <a:pt x="671" y="36"/>
                        </a:lnTo>
                        <a:lnTo>
                          <a:pt x="681" y="16"/>
                        </a:lnTo>
                        <a:lnTo>
                          <a:pt x="749" y="0"/>
                        </a:lnTo>
                        <a:lnTo>
                          <a:pt x="722" y="109"/>
                        </a:lnTo>
                        <a:lnTo>
                          <a:pt x="655" y="365"/>
                        </a:lnTo>
                        <a:lnTo>
                          <a:pt x="582" y="666"/>
                        </a:lnTo>
                        <a:lnTo>
                          <a:pt x="556" y="807"/>
                        </a:lnTo>
                        <a:lnTo>
                          <a:pt x="540" y="910"/>
                        </a:lnTo>
                        <a:lnTo>
                          <a:pt x="535" y="958"/>
                        </a:lnTo>
                        <a:lnTo>
                          <a:pt x="540" y="1015"/>
                        </a:lnTo>
                        <a:lnTo>
                          <a:pt x="556" y="1130"/>
                        </a:lnTo>
                        <a:lnTo>
                          <a:pt x="582" y="1265"/>
                        </a:lnTo>
                        <a:lnTo>
                          <a:pt x="614" y="1400"/>
                        </a:lnTo>
                        <a:lnTo>
                          <a:pt x="639" y="1535"/>
                        </a:lnTo>
                        <a:lnTo>
                          <a:pt x="660" y="1666"/>
                        </a:lnTo>
                        <a:lnTo>
                          <a:pt x="660" y="1728"/>
                        </a:lnTo>
                        <a:lnTo>
                          <a:pt x="660" y="1786"/>
                        </a:lnTo>
                        <a:lnTo>
                          <a:pt x="649" y="1837"/>
                        </a:lnTo>
                        <a:lnTo>
                          <a:pt x="639" y="1879"/>
                        </a:lnTo>
                        <a:lnTo>
                          <a:pt x="639" y="1811"/>
                        </a:lnTo>
                        <a:lnTo>
                          <a:pt x="634" y="1734"/>
                        </a:lnTo>
                        <a:lnTo>
                          <a:pt x="629" y="1639"/>
                        </a:lnTo>
                        <a:lnTo>
                          <a:pt x="614" y="1525"/>
                        </a:lnTo>
                        <a:lnTo>
                          <a:pt x="592" y="1400"/>
                        </a:lnTo>
                        <a:lnTo>
                          <a:pt x="561" y="1275"/>
                        </a:lnTo>
                        <a:lnTo>
                          <a:pt x="540" y="1212"/>
                        </a:lnTo>
                        <a:lnTo>
                          <a:pt x="514" y="1150"/>
                        </a:lnTo>
                        <a:lnTo>
                          <a:pt x="462" y="1317"/>
                        </a:lnTo>
                        <a:lnTo>
                          <a:pt x="405" y="1494"/>
                        </a:lnTo>
                        <a:lnTo>
                          <a:pt x="332" y="1702"/>
                        </a:lnTo>
                        <a:lnTo>
                          <a:pt x="249" y="1926"/>
                        </a:lnTo>
                        <a:lnTo>
                          <a:pt x="160" y="2139"/>
                        </a:lnTo>
                        <a:lnTo>
                          <a:pt x="120" y="2233"/>
                        </a:lnTo>
                        <a:lnTo>
                          <a:pt x="78" y="2321"/>
                        </a:lnTo>
                        <a:lnTo>
                          <a:pt x="36" y="2394"/>
                        </a:lnTo>
                        <a:lnTo>
                          <a:pt x="0" y="245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未知"/>
                  <p:cNvSpPr/>
                  <p:nvPr/>
                </p:nvSpPr>
                <p:spPr>
                  <a:xfrm rot="8424000">
                    <a:off x="314280" y="1140120"/>
                    <a:ext cx="4824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57" h="380">
                        <a:moveTo>
                          <a:pt x="0" y="380"/>
                        </a:moveTo>
                        <a:lnTo>
                          <a:pt x="53" y="333"/>
                        </a:lnTo>
                        <a:lnTo>
                          <a:pt x="115" y="287"/>
                        </a:lnTo>
                        <a:lnTo>
                          <a:pt x="188" y="229"/>
                        </a:lnTo>
                        <a:lnTo>
                          <a:pt x="272" y="172"/>
                        </a:lnTo>
                        <a:lnTo>
                          <a:pt x="360" y="125"/>
                        </a:lnTo>
                        <a:lnTo>
                          <a:pt x="407" y="98"/>
                        </a:lnTo>
                        <a:lnTo>
                          <a:pt x="454" y="83"/>
                        </a:lnTo>
                        <a:lnTo>
                          <a:pt x="495" y="68"/>
                        </a:lnTo>
                        <a:lnTo>
                          <a:pt x="536" y="57"/>
                        </a:lnTo>
                        <a:lnTo>
                          <a:pt x="557" y="0"/>
                        </a:lnTo>
                        <a:lnTo>
                          <a:pt x="506" y="21"/>
                        </a:lnTo>
                        <a:lnTo>
                          <a:pt x="442" y="47"/>
                        </a:lnTo>
                        <a:lnTo>
                          <a:pt x="365" y="83"/>
                        </a:lnTo>
                        <a:lnTo>
                          <a:pt x="277" y="135"/>
                        </a:lnTo>
                        <a:lnTo>
                          <a:pt x="183" y="203"/>
                        </a:lnTo>
                        <a:lnTo>
                          <a:pt x="137" y="240"/>
                        </a:lnTo>
                        <a:lnTo>
                          <a:pt x="89" y="281"/>
                        </a:lnTo>
                        <a:lnTo>
                          <a:pt x="42" y="328"/>
                        </a:lnTo>
                        <a:lnTo>
                          <a:pt x="0" y="38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未知"/>
                  <p:cNvSpPr/>
                  <p:nvPr/>
                </p:nvSpPr>
                <p:spPr>
                  <a:xfrm rot="8424000">
                    <a:off x="350640" y="1058760"/>
                    <a:ext cx="2340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635">
                        <a:moveTo>
                          <a:pt x="0" y="635"/>
                        </a:moveTo>
                        <a:lnTo>
                          <a:pt x="41" y="577"/>
                        </a:lnTo>
                        <a:lnTo>
                          <a:pt x="83" y="521"/>
                        </a:lnTo>
                        <a:lnTo>
                          <a:pt x="125" y="447"/>
                        </a:lnTo>
                        <a:lnTo>
                          <a:pt x="166" y="359"/>
                        </a:lnTo>
                        <a:lnTo>
                          <a:pt x="187" y="312"/>
                        </a:lnTo>
                        <a:lnTo>
                          <a:pt x="198" y="260"/>
                        </a:lnTo>
                        <a:lnTo>
                          <a:pt x="208" y="214"/>
                        </a:lnTo>
                        <a:lnTo>
                          <a:pt x="218" y="162"/>
                        </a:lnTo>
                        <a:lnTo>
                          <a:pt x="218" y="115"/>
                        </a:lnTo>
                        <a:lnTo>
                          <a:pt x="208" y="68"/>
                        </a:lnTo>
                        <a:lnTo>
                          <a:pt x="260" y="0"/>
                        </a:lnTo>
                        <a:lnTo>
                          <a:pt x="265" y="57"/>
                        </a:lnTo>
                        <a:lnTo>
                          <a:pt x="260" y="120"/>
                        </a:lnTo>
                        <a:lnTo>
                          <a:pt x="250" y="203"/>
                        </a:lnTo>
                        <a:lnTo>
                          <a:pt x="233" y="255"/>
                        </a:lnTo>
                        <a:lnTo>
                          <a:pt x="218" y="302"/>
                        </a:lnTo>
                        <a:lnTo>
                          <a:pt x="198" y="354"/>
                        </a:lnTo>
                        <a:lnTo>
                          <a:pt x="171" y="412"/>
                        </a:lnTo>
                        <a:lnTo>
                          <a:pt x="140" y="464"/>
                        </a:lnTo>
                        <a:lnTo>
                          <a:pt x="98" y="521"/>
                        </a:lnTo>
                        <a:lnTo>
                          <a:pt x="51" y="577"/>
                        </a:lnTo>
                        <a:lnTo>
                          <a:pt x="0" y="63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" name="未知"/>
                  <p:cNvSpPr/>
                  <p:nvPr/>
                </p:nvSpPr>
                <p:spPr>
                  <a:xfrm rot="8424000">
                    <a:off x="423720" y="1124640"/>
                    <a:ext cx="5076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583" h="130">
                        <a:moveTo>
                          <a:pt x="0" y="104"/>
                        </a:moveTo>
                        <a:lnTo>
                          <a:pt x="62" y="114"/>
                        </a:lnTo>
                        <a:lnTo>
                          <a:pt x="125" y="114"/>
                        </a:lnTo>
                        <a:lnTo>
                          <a:pt x="209" y="114"/>
                        </a:lnTo>
                        <a:lnTo>
                          <a:pt x="297" y="104"/>
                        </a:lnTo>
                        <a:lnTo>
                          <a:pt x="339" y="94"/>
                        </a:lnTo>
                        <a:lnTo>
                          <a:pt x="385" y="84"/>
                        </a:lnTo>
                        <a:lnTo>
                          <a:pt x="427" y="67"/>
                        </a:lnTo>
                        <a:lnTo>
                          <a:pt x="469" y="52"/>
                        </a:lnTo>
                        <a:lnTo>
                          <a:pt x="504" y="26"/>
                        </a:lnTo>
                        <a:lnTo>
                          <a:pt x="536" y="0"/>
                        </a:lnTo>
                        <a:lnTo>
                          <a:pt x="583" y="16"/>
                        </a:lnTo>
                        <a:lnTo>
                          <a:pt x="546" y="42"/>
                        </a:lnTo>
                        <a:lnTo>
                          <a:pt x="499" y="67"/>
                        </a:lnTo>
                        <a:lnTo>
                          <a:pt x="437" y="94"/>
                        </a:lnTo>
                        <a:lnTo>
                          <a:pt x="354" y="114"/>
                        </a:lnTo>
                        <a:lnTo>
                          <a:pt x="307" y="125"/>
                        </a:lnTo>
                        <a:lnTo>
                          <a:pt x="255" y="130"/>
                        </a:lnTo>
                        <a:lnTo>
                          <a:pt x="197" y="130"/>
                        </a:lnTo>
                        <a:lnTo>
                          <a:pt x="135" y="125"/>
                        </a:lnTo>
                        <a:lnTo>
                          <a:pt x="68" y="120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" name="未知"/>
                  <p:cNvSpPr/>
                  <p:nvPr/>
                </p:nvSpPr>
                <p:spPr>
                  <a:xfrm rot="8424000">
                    <a:off x="457200" y="1124280"/>
                    <a:ext cx="3132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240">
                        <a:moveTo>
                          <a:pt x="0" y="0"/>
                        </a:moveTo>
                        <a:lnTo>
                          <a:pt x="36" y="21"/>
                        </a:lnTo>
                        <a:lnTo>
                          <a:pt x="124" y="73"/>
                        </a:lnTo>
                        <a:lnTo>
                          <a:pt x="177" y="105"/>
                        </a:lnTo>
                        <a:lnTo>
                          <a:pt x="229" y="146"/>
                        </a:lnTo>
                        <a:lnTo>
                          <a:pt x="276" y="188"/>
                        </a:lnTo>
                        <a:lnTo>
                          <a:pt x="312" y="235"/>
                        </a:lnTo>
                        <a:lnTo>
                          <a:pt x="359" y="240"/>
                        </a:lnTo>
                        <a:lnTo>
                          <a:pt x="338" y="213"/>
                        </a:lnTo>
                        <a:lnTo>
                          <a:pt x="312" y="188"/>
                        </a:lnTo>
                        <a:lnTo>
                          <a:pt x="276" y="151"/>
                        </a:lnTo>
                        <a:lnTo>
                          <a:pt x="224" y="115"/>
                        </a:lnTo>
                        <a:lnTo>
                          <a:pt x="166" y="73"/>
                        </a:lnTo>
                        <a:lnTo>
                          <a:pt x="89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未知"/>
                  <p:cNvSpPr/>
                  <p:nvPr/>
                </p:nvSpPr>
                <p:spPr>
                  <a:xfrm rot="8424000">
                    <a:off x="336600" y="1111680"/>
                    <a:ext cx="100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146">
                        <a:moveTo>
                          <a:pt x="47" y="146"/>
                        </a:moveTo>
                        <a:lnTo>
                          <a:pt x="57" y="146"/>
                        </a:lnTo>
                        <a:lnTo>
                          <a:pt x="93" y="141"/>
                        </a:lnTo>
                        <a:lnTo>
                          <a:pt x="109" y="130"/>
                        </a:lnTo>
                        <a:lnTo>
                          <a:pt x="119" y="120"/>
                        </a:lnTo>
                        <a:lnTo>
                          <a:pt x="124" y="104"/>
                        </a:lnTo>
                        <a:lnTo>
                          <a:pt x="124" y="84"/>
                        </a:lnTo>
                        <a:lnTo>
                          <a:pt x="114" y="57"/>
                        </a:lnTo>
                        <a:lnTo>
                          <a:pt x="104" y="37"/>
                        </a:lnTo>
                        <a:lnTo>
                          <a:pt x="87" y="21"/>
                        </a:lnTo>
                        <a:lnTo>
                          <a:pt x="72" y="5"/>
                        </a:lnTo>
                        <a:lnTo>
                          <a:pt x="57" y="0"/>
                        </a:lnTo>
                        <a:lnTo>
                          <a:pt x="41" y="0"/>
                        </a:lnTo>
                        <a:lnTo>
                          <a:pt x="25" y="11"/>
                        </a:lnTo>
                        <a:lnTo>
                          <a:pt x="10" y="32"/>
                        </a:lnTo>
                        <a:lnTo>
                          <a:pt x="0" y="57"/>
                        </a:lnTo>
                        <a:lnTo>
                          <a:pt x="0" y="79"/>
                        </a:lnTo>
                        <a:lnTo>
                          <a:pt x="5" y="99"/>
                        </a:lnTo>
                        <a:lnTo>
                          <a:pt x="15" y="115"/>
                        </a:lnTo>
                        <a:lnTo>
                          <a:pt x="36" y="141"/>
                        </a:lnTo>
                        <a:lnTo>
                          <a:pt x="47" y="146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未知"/>
                  <p:cNvSpPr/>
                  <p:nvPr/>
                </p:nvSpPr>
                <p:spPr>
                  <a:xfrm rot="8424000">
                    <a:off x="459720" y="1164960"/>
                    <a:ext cx="900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78">
                        <a:moveTo>
                          <a:pt x="0" y="57"/>
                        </a:moveTo>
                        <a:lnTo>
                          <a:pt x="15" y="62"/>
                        </a:lnTo>
                        <a:lnTo>
                          <a:pt x="46" y="73"/>
                        </a:lnTo>
                        <a:lnTo>
                          <a:pt x="62" y="78"/>
                        </a:lnTo>
                        <a:lnTo>
                          <a:pt x="78" y="78"/>
                        </a:lnTo>
                        <a:lnTo>
                          <a:pt x="93" y="67"/>
                        </a:lnTo>
                        <a:lnTo>
                          <a:pt x="98" y="57"/>
                        </a:lnTo>
                        <a:lnTo>
                          <a:pt x="98" y="41"/>
                        </a:lnTo>
                        <a:lnTo>
                          <a:pt x="88" y="25"/>
                        </a:lnTo>
                        <a:lnTo>
                          <a:pt x="73" y="20"/>
                        </a:lnTo>
                        <a:lnTo>
                          <a:pt x="56" y="10"/>
                        </a:lnTo>
                        <a:lnTo>
                          <a:pt x="15" y="5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未知"/>
                  <p:cNvSpPr/>
                  <p:nvPr/>
                </p:nvSpPr>
                <p:spPr>
                  <a:xfrm rot="8424000">
                    <a:off x="458280" y="1216800"/>
                    <a:ext cx="100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125">
                        <a:moveTo>
                          <a:pt x="0" y="58"/>
                        </a:moveTo>
                        <a:lnTo>
                          <a:pt x="5" y="73"/>
                        </a:lnTo>
                        <a:lnTo>
                          <a:pt x="25" y="105"/>
                        </a:lnTo>
                        <a:lnTo>
                          <a:pt x="42" y="115"/>
                        </a:lnTo>
                        <a:lnTo>
                          <a:pt x="57" y="125"/>
                        </a:lnTo>
                        <a:lnTo>
                          <a:pt x="77" y="125"/>
                        </a:lnTo>
                        <a:lnTo>
                          <a:pt x="98" y="115"/>
                        </a:lnTo>
                        <a:lnTo>
                          <a:pt x="114" y="94"/>
                        </a:lnTo>
                        <a:lnTo>
                          <a:pt x="119" y="78"/>
                        </a:lnTo>
                        <a:lnTo>
                          <a:pt x="119" y="58"/>
                        </a:lnTo>
                        <a:lnTo>
                          <a:pt x="114" y="42"/>
                        </a:lnTo>
                        <a:lnTo>
                          <a:pt x="98" y="26"/>
                        </a:lnTo>
                        <a:lnTo>
                          <a:pt x="82" y="11"/>
                        </a:lnTo>
                        <a:lnTo>
                          <a:pt x="67" y="5"/>
                        </a:lnTo>
                        <a:lnTo>
                          <a:pt x="52" y="0"/>
                        </a:lnTo>
                        <a:lnTo>
                          <a:pt x="35" y="0"/>
                        </a:lnTo>
                        <a:lnTo>
                          <a:pt x="25" y="11"/>
                        </a:lnTo>
                        <a:lnTo>
                          <a:pt x="10" y="31"/>
                        </a:lnTo>
                        <a:lnTo>
                          <a:pt x="0" y="47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未知"/>
                  <p:cNvSpPr/>
                  <p:nvPr/>
                </p:nvSpPr>
                <p:spPr>
                  <a:xfrm rot="8424000">
                    <a:off x="482040" y="108396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57">
                        <a:moveTo>
                          <a:pt x="21" y="57"/>
                        </a:moveTo>
                        <a:lnTo>
                          <a:pt x="42" y="57"/>
                        </a:lnTo>
                        <a:lnTo>
                          <a:pt x="73" y="52"/>
                        </a:lnTo>
                        <a:lnTo>
                          <a:pt x="83" y="47"/>
                        </a:lnTo>
                        <a:lnTo>
                          <a:pt x="94" y="37"/>
                        </a:lnTo>
                        <a:lnTo>
                          <a:pt x="94" y="26"/>
                        </a:lnTo>
                        <a:lnTo>
                          <a:pt x="78" y="15"/>
                        </a:lnTo>
                        <a:lnTo>
                          <a:pt x="58" y="5"/>
                        </a:lnTo>
                        <a:lnTo>
                          <a:pt x="42" y="0"/>
                        </a:lnTo>
                        <a:lnTo>
                          <a:pt x="26" y="0"/>
                        </a:lnTo>
                        <a:lnTo>
                          <a:pt x="11" y="5"/>
                        </a:lnTo>
                        <a:lnTo>
                          <a:pt x="6" y="15"/>
                        </a:lnTo>
                        <a:lnTo>
                          <a:pt x="0" y="32"/>
                        </a:lnTo>
                        <a:lnTo>
                          <a:pt x="11" y="47"/>
                        </a:lnTo>
                        <a:lnTo>
                          <a:pt x="21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8" name="Group 1249"/>
                <p:cNvGrpSpPr/>
                <p:nvPr/>
              </p:nvGrpSpPr>
              <p:grpSpPr>
                <a:xfrm>
                  <a:off x="272160" y="1379520"/>
                  <a:ext cx="43920" cy="38880"/>
                  <a:chOff x="272160" y="1379520"/>
                  <a:chExt cx="43920" cy="38880"/>
                </a:xfrm>
              </p:grpSpPr>
              <p:sp>
                <p:nvSpPr>
                  <p:cNvPr id="1289" name="未知"/>
                  <p:cNvSpPr/>
                  <p:nvPr/>
                </p:nvSpPr>
                <p:spPr>
                  <a:xfrm rot="4059600">
                    <a:off x="280440" y="1380600"/>
                    <a:ext cx="270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3" h="417">
                        <a:moveTo>
                          <a:pt x="323" y="417"/>
                        </a:moveTo>
                        <a:lnTo>
                          <a:pt x="281" y="407"/>
                        </a:lnTo>
                        <a:lnTo>
                          <a:pt x="239" y="391"/>
                        </a:lnTo>
                        <a:lnTo>
                          <a:pt x="193" y="375"/>
                        </a:lnTo>
                        <a:lnTo>
                          <a:pt x="146" y="350"/>
                        </a:lnTo>
                        <a:lnTo>
                          <a:pt x="99" y="318"/>
                        </a:lnTo>
                        <a:lnTo>
                          <a:pt x="83" y="302"/>
                        </a:lnTo>
                        <a:lnTo>
                          <a:pt x="68" y="282"/>
                        </a:lnTo>
                        <a:lnTo>
                          <a:pt x="57" y="261"/>
                        </a:lnTo>
                        <a:lnTo>
                          <a:pt x="47" y="240"/>
                        </a:lnTo>
                        <a:lnTo>
                          <a:pt x="26" y="147"/>
                        </a:lnTo>
                        <a:lnTo>
                          <a:pt x="6" y="68"/>
                        </a:lnTo>
                        <a:lnTo>
                          <a:pt x="0" y="37"/>
                        </a:lnTo>
                        <a:lnTo>
                          <a:pt x="0" y="1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21" y="0"/>
                        </a:lnTo>
                        <a:lnTo>
                          <a:pt x="31" y="6"/>
                        </a:lnTo>
                        <a:lnTo>
                          <a:pt x="57" y="11"/>
                        </a:lnTo>
                        <a:lnTo>
                          <a:pt x="83" y="27"/>
                        </a:lnTo>
                        <a:lnTo>
                          <a:pt x="146" y="73"/>
                        </a:lnTo>
                        <a:lnTo>
                          <a:pt x="208" y="125"/>
                        </a:lnTo>
                        <a:lnTo>
                          <a:pt x="271" y="193"/>
                        </a:lnTo>
                        <a:lnTo>
                          <a:pt x="296" y="230"/>
                        </a:lnTo>
                        <a:lnTo>
                          <a:pt x="313" y="261"/>
                        </a:lnTo>
                        <a:lnTo>
                          <a:pt x="323" y="292"/>
                        </a:lnTo>
                        <a:lnTo>
                          <a:pt x="333" y="323"/>
                        </a:lnTo>
                        <a:lnTo>
                          <a:pt x="333" y="350"/>
                        </a:lnTo>
                        <a:lnTo>
                          <a:pt x="333" y="375"/>
                        </a:lnTo>
                        <a:lnTo>
                          <a:pt x="323" y="417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" name="未知"/>
                  <p:cNvSpPr/>
                  <p:nvPr/>
                </p:nvSpPr>
                <p:spPr>
                  <a:xfrm rot="412800">
                    <a:off x="281880" y="1386000"/>
                    <a:ext cx="18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214">
                        <a:moveTo>
                          <a:pt x="0" y="151"/>
                        </a:moveTo>
                        <a:lnTo>
                          <a:pt x="36" y="120"/>
                        </a:lnTo>
                        <a:lnTo>
                          <a:pt x="115" y="57"/>
                        </a:lnTo>
                        <a:lnTo>
                          <a:pt x="156" y="32"/>
                        </a:lnTo>
                        <a:lnTo>
                          <a:pt x="187" y="6"/>
                        </a:lnTo>
                        <a:lnTo>
                          <a:pt x="208" y="0"/>
                        </a:lnTo>
                        <a:lnTo>
                          <a:pt x="213" y="0"/>
                        </a:lnTo>
                        <a:lnTo>
                          <a:pt x="213" y="11"/>
                        </a:lnTo>
                        <a:lnTo>
                          <a:pt x="193" y="69"/>
                        </a:lnTo>
                        <a:lnTo>
                          <a:pt x="162" y="136"/>
                        </a:lnTo>
                        <a:lnTo>
                          <a:pt x="140" y="167"/>
                        </a:lnTo>
                        <a:lnTo>
                          <a:pt x="120" y="187"/>
                        </a:lnTo>
                        <a:lnTo>
                          <a:pt x="98" y="209"/>
                        </a:lnTo>
                        <a:lnTo>
                          <a:pt x="73" y="214"/>
                        </a:lnTo>
                        <a:lnTo>
                          <a:pt x="47" y="209"/>
                        </a:lnTo>
                        <a:lnTo>
                          <a:pt x="31" y="204"/>
                        </a:lnTo>
                        <a:lnTo>
                          <a:pt x="21" y="193"/>
                        </a:lnTo>
                        <a:lnTo>
                          <a:pt x="10" y="182"/>
                        </a:lnTo>
                        <a:lnTo>
                          <a:pt x="0" y="162"/>
                        </a:lnTo>
                        <a:lnTo>
                          <a:pt x="0" y="151"/>
                        </a:lnTo>
                        <a:close/>
                      </a:path>
                    </a:pathLst>
                  </a:cu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91" name="Group 1252"/>
            <p:cNvGrpSpPr/>
            <p:nvPr/>
          </p:nvGrpSpPr>
          <p:grpSpPr>
            <a:xfrm>
              <a:off x="628920" y="1105560"/>
              <a:ext cx="453600" cy="330120"/>
              <a:chOff x="628920" y="1105560"/>
              <a:chExt cx="453600" cy="330120"/>
            </a:xfrm>
          </p:grpSpPr>
          <p:grpSp>
            <p:nvGrpSpPr>
              <p:cNvPr id="1292" name="Group 1253"/>
              <p:cNvGrpSpPr/>
              <p:nvPr/>
            </p:nvGrpSpPr>
            <p:grpSpPr>
              <a:xfrm>
                <a:off x="628920" y="1105560"/>
                <a:ext cx="453600" cy="330120"/>
                <a:chOff x="628920" y="1105560"/>
                <a:chExt cx="453600" cy="330120"/>
              </a:xfrm>
            </p:grpSpPr>
            <p:sp>
              <p:nvSpPr>
                <p:cNvPr id="1293" name="未知"/>
                <p:cNvSpPr/>
                <p:nvPr/>
              </p:nvSpPr>
              <p:spPr>
                <a:xfrm flipH="1" rot="21294600">
                  <a:off x="739800" y="1119240"/>
                  <a:ext cx="330120" cy="30204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4" name="未知"/>
                <p:cNvSpPr/>
                <p:nvPr/>
              </p:nvSpPr>
              <p:spPr>
                <a:xfrm flipH="1" rot="21294600">
                  <a:off x="749520" y="1188360"/>
                  <a:ext cx="280080" cy="14328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5" name="未知"/>
                <p:cNvSpPr/>
                <p:nvPr/>
              </p:nvSpPr>
              <p:spPr>
                <a:xfrm flipH="1" rot="21294600">
                  <a:off x="635040" y="1162440"/>
                  <a:ext cx="407520" cy="17856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未知"/>
                <p:cNvSpPr/>
                <p:nvPr/>
              </p:nvSpPr>
              <p:spPr>
                <a:xfrm flipH="1" rot="21294600">
                  <a:off x="866880" y="1252080"/>
                  <a:ext cx="132480" cy="1728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未知"/>
                <p:cNvSpPr/>
                <p:nvPr/>
              </p:nvSpPr>
              <p:spPr>
                <a:xfrm flipH="1" rot="21294600">
                  <a:off x="802080" y="1178640"/>
                  <a:ext cx="171360" cy="6588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未知"/>
                <p:cNvSpPr/>
                <p:nvPr/>
              </p:nvSpPr>
              <p:spPr>
                <a:xfrm flipH="1" rot="21294600">
                  <a:off x="758880" y="1139760"/>
                  <a:ext cx="189000" cy="8748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9" name="未知"/>
                <p:cNvSpPr/>
                <p:nvPr/>
              </p:nvSpPr>
              <p:spPr>
                <a:xfrm flipH="1" rot="21294600">
                  <a:off x="932760" y="1278360"/>
                  <a:ext cx="78480" cy="1116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0" name="未知"/>
                <p:cNvSpPr/>
                <p:nvPr/>
              </p:nvSpPr>
              <p:spPr>
                <a:xfrm flipH="1" rot="21294600">
                  <a:off x="988920" y="1301400"/>
                  <a:ext cx="41040" cy="432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1" name="未知"/>
                <p:cNvSpPr/>
                <p:nvPr/>
              </p:nvSpPr>
              <p:spPr>
                <a:xfrm flipH="1" rot="21294600">
                  <a:off x="981720" y="1302840"/>
                  <a:ext cx="29880" cy="3096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2" name="未知"/>
                <p:cNvSpPr/>
                <p:nvPr/>
              </p:nvSpPr>
              <p:spPr>
                <a:xfrm flipH="1" rot="21294600">
                  <a:off x="936000" y="1289880"/>
                  <a:ext cx="52200" cy="5724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3" name="未知"/>
                <p:cNvSpPr/>
                <p:nvPr/>
              </p:nvSpPr>
              <p:spPr>
                <a:xfrm flipH="1" rot="21294600">
                  <a:off x="866880" y="1267560"/>
                  <a:ext cx="83880" cy="10044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4" name="未知"/>
                <p:cNvSpPr/>
                <p:nvPr/>
              </p:nvSpPr>
              <p:spPr>
                <a:xfrm flipH="1" rot="21294600">
                  <a:off x="808560" y="1245960"/>
                  <a:ext cx="90000" cy="14688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5" name="未知"/>
                <p:cNvSpPr/>
                <p:nvPr/>
              </p:nvSpPr>
              <p:spPr>
                <a:xfrm flipH="1" rot="21294600">
                  <a:off x="854640" y="1337040"/>
                  <a:ext cx="9720" cy="5868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6" name="未知"/>
                <p:cNvSpPr/>
                <p:nvPr/>
              </p:nvSpPr>
              <p:spPr>
                <a:xfrm flipH="1" rot="21294600">
                  <a:off x="764640" y="1229040"/>
                  <a:ext cx="62280" cy="18072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7" name="未知"/>
                <p:cNvSpPr/>
                <p:nvPr/>
              </p:nvSpPr>
              <p:spPr>
                <a:xfrm flipH="1" rot="21294600">
                  <a:off x="834120" y="1302480"/>
                  <a:ext cx="45720" cy="2844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8" name="未知"/>
                <p:cNvSpPr/>
                <p:nvPr/>
              </p:nvSpPr>
              <p:spPr>
                <a:xfrm flipH="1" rot="21294600">
                  <a:off x="911160" y="1324800"/>
                  <a:ext cx="22320" cy="4644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9" name="未知"/>
                <p:cNvSpPr/>
                <p:nvPr/>
              </p:nvSpPr>
              <p:spPr>
                <a:xfrm flipH="1" rot="21294600">
                  <a:off x="926640" y="1254960"/>
                  <a:ext cx="48600" cy="972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0" name="未知"/>
                <p:cNvSpPr/>
                <p:nvPr/>
              </p:nvSpPr>
              <p:spPr>
                <a:xfrm flipH="1" rot="21294600">
                  <a:off x="948240" y="1232640"/>
                  <a:ext cx="29880" cy="1764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1" name="未知"/>
                <p:cNvSpPr/>
                <p:nvPr/>
              </p:nvSpPr>
              <p:spPr>
                <a:xfrm flipH="1" rot="21294600">
                  <a:off x="880200" y="1333440"/>
                  <a:ext cx="9720" cy="1080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2" name="未知"/>
                <p:cNvSpPr/>
                <p:nvPr/>
              </p:nvSpPr>
              <p:spPr>
                <a:xfrm flipH="1" rot="21294600">
                  <a:off x="930600" y="1221120"/>
                  <a:ext cx="8640" cy="648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3" name="未知"/>
                <p:cNvSpPr/>
                <p:nvPr/>
              </p:nvSpPr>
              <p:spPr>
                <a:xfrm flipH="1" rot="21294600">
                  <a:off x="893880" y="1185120"/>
                  <a:ext cx="9720" cy="864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4" name="未知"/>
                <p:cNvSpPr/>
                <p:nvPr/>
              </p:nvSpPr>
              <p:spPr>
                <a:xfrm flipH="1" rot="21294600">
                  <a:off x="1000440" y="1262520"/>
                  <a:ext cx="7560" cy="396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5" name="Group 1276"/>
              <p:cNvGrpSpPr/>
              <p:nvPr/>
            </p:nvGrpSpPr>
            <p:grpSpPr>
              <a:xfrm>
                <a:off x="644040" y="1166400"/>
                <a:ext cx="41760" cy="36360"/>
                <a:chOff x="644040" y="1166400"/>
                <a:chExt cx="41760" cy="36360"/>
              </a:xfrm>
            </p:grpSpPr>
            <p:sp>
              <p:nvSpPr>
                <p:cNvPr id="1316" name="未知"/>
                <p:cNvSpPr/>
                <p:nvPr/>
              </p:nvSpPr>
              <p:spPr>
                <a:xfrm flipH="1" rot="4059600">
                  <a:off x="651960" y="1167480"/>
                  <a:ext cx="25200" cy="3456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7" name="未知"/>
                <p:cNvSpPr/>
                <p:nvPr/>
              </p:nvSpPr>
              <p:spPr>
                <a:xfrm flipH="1" rot="7706400">
                  <a:off x="657000" y="1181880"/>
                  <a:ext cx="17280" cy="1548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8" name="Group 1279"/>
            <p:cNvGrpSpPr/>
            <p:nvPr/>
          </p:nvGrpSpPr>
          <p:grpSpPr>
            <a:xfrm>
              <a:off x="528120" y="755640"/>
              <a:ext cx="371880" cy="427320"/>
              <a:chOff x="528120" y="755640"/>
              <a:chExt cx="371880" cy="427320"/>
            </a:xfrm>
          </p:grpSpPr>
          <p:grpSp>
            <p:nvGrpSpPr>
              <p:cNvPr id="1319" name="Group 1280"/>
              <p:cNvGrpSpPr/>
              <p:nvPr/>
            </p:nvGrpSpPr>
            <p:grpSpPr>
              <a:xfrm>
                <a:off x="528120" y="755640"/>
                <a:ext cx="371880" cy="427320"/>
                <a:chOff x="528120" y="755640"/>
                <a:chExt cx="371880" cy="427320"/>
              </a:xfrm>
            </p:grpSpPr>
            <p:sp>
              <p:nvSpPr>
                <p:cNvPr id="1320" name="未知"/>
                <p:cNvSpPr/>
                <p:nvPr/>
              </p:nvSpPr>
              <p:spPr>
                <a:xfrm rot="7630800">
                  <a:off x="573480" y="817200"/>
                  <a:ext cx="280440" cy="25416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未知"/>
                <p:cNvSpPr/>
                <p:nvPr/>
              </p:nvSpPr>
              <p:spPr>
                <a:xfrm rot="7630800">
                  <a:off x="595080" y="899640"/>
                  <a:ext cx="237960" cy="11988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2" name="未知"/>
                <p:cNvSpPr/>
                <p:nvPr/>
              </p:nvSpPr>
              <p:spPr>
                <a:xfrm rot="7630800">
                  <a:off x="524520" y="924480"/>
                  <a:ext cx="346680" cy="14976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未知"/>
                <p:cNvSpPr/>
                <p:nvPr/>
              </p:nvSpPr>
              <p:spPr>
                <a:xfrm rot="7630800">
                  <a:off x="677520" y="919440"/>
                  <a:ext cx="112680" cy="1476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未知"/>
                <p:cNvSpPr/>
                <p:nvPr/>
              </p:nvSpPr>
              <p:spPr>
                <a:xfrm rot="7630800">
                  <a:off x="675000" y="954720"/>
                  <a:ext cx="145440" cy="5544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5" name="未知"/>
                <p:cNvSpPr/>
                <p:nvPr/>
              </p:nvSpPr>
              <p:spPr>
                <a:xfrm rot="7630800">
                  <a:off x="672840" y="983160"/>
                  <a:ext cx="160560" cy="7308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6" name="未知"/>
                <p:cNvSpPr/>
                <p:nvPr/>
              </p:nvSpPr>
              <p:spPr>
                <a:xfrm rot="7630800">
                  <a:off x="701280" y="884880"/>
                  <a:ext cx="66600" cy="1008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未知"/>
                <p:cNvSpPr/>
                <p:nvPr/>
              </p:nvSpPr>
              <p:spPr>
                <a:xfrm rot="7630800">
                  <a:off x="720000" y="851760"/>
                  <a:ext cx="34920" cy="360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8" name="未知"/>
                <p:cNvSpPr/>
                <p:nvPr/>
              </p:nvSpPr>
              <p:spPr>
                <a:xfrm rot="7630800">
                  <a:off x="708840" y="843840"/>
                  <a:ext cx="25560" cy="2556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未知"/>
                <p:cNvSpPr/>
                <p:nvPr/>
              </p:nvSpPr>
              <p:spPr>
                <a:xfrm rot="7630800">
                  <a:off x="683280" y="858240"/>
                  <a:ext cx="44280" cy="4752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0" name="未知"/>
                <p:cNvSpPr/>
                <p:nvPr/>
              </p:nvSpPr>
              <p:spPr>
                <a:xfrm rot="7630800">
                  <a:off x="646920" y="877320"/>
                  <a:ext cx="71280" cy="8388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未知"/>
                <p:cNvSpPr/>
                <p:nvPr/>
              </p:nvSpPr>
              <p:spPr>
                <a:xfrm rot="7630800">
                  <a:off x="617040" y="897480"/>
                  <a:ext cx="76680" cy="12312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未知"/>
                <p:cNvSpPr/>
                <p:nvPr/>
              </p:nvSpPr>
              <p:spPr>
                <a:xfrm rot="7630800">
                  <a:off x="621360" y="908640"/>
                  <a:ext cx="8280" cy="4932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未知"/>
                <p:cNvSpPr/>
                <p:nvPr/>
              </p:nvSpPr>
              <p:spPr>
                <a:xfrm rot="7630800">
                  <a:off x="603000" y="924480"/>
                  <a:ext cx="52920" cy="15192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4" name="未知"/>
                <p:cNvSpPr/>
                <p:nvPr/>
              </p:nvSpPr>
              <p:spPr>
                <a:xfrm rot="7630800">
                  <a:off x="640440" y="945720"/>
                  <a:ext cx="39240" cy="2376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5" name="未知"/>
                <p:cNvSpPr/>
                <p:nvPr/>
              </p:nvSpPr>
              <p:spPr>
                <a:xfrm rot="7630800">
                  <a:off x="657360" y="876960"/>
                  <a:ext cx="18360" cy="3888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6" name="未知"/>
                <p:cNvSpPr/>
                <p:nvPr/>
              </p:nvSpPr>
              <p:spPr>
                <a:xfrm rot="7630800">
                  <a:off x="721440" y="911880"/>
                  <a:ext cx="41400" cy="756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7" name="未知"/>
                <p:cNvSpPr/>
                <p:nvPr/>
              </p:nvSpPr>
              <p:spPr>
                <a:xfrm rot="7630800">
                  <a:off x="748440" y="907200"/>
                  <a:ext cx="25560" cy="1476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8" name="未知"/>
                <p:cNvSpPr/>
                <p:nvPr/>
              </p:nvSpPr>
              <p:spPr>
                <a:xfrm rot="7630800">
                  <a:off x="651960" y="923040"/>
                  <a:ext cx="8280" cy="936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9" name="未知"/>
                <p:cNvSpPr/>
                <p:nvPr/>
              </p:nvSpPr>
              <p:spPr>
                <a:xfrm rot="7630800">
                  <a:off x="757080" y="939960"/>
                  <a:ext cx="7200" cy="540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未知"/>
                <p:cNvSpPr/>
                <p:nvPr/>
              </p:nvSpPr>
              <p:spPr>
                <a:xfrm rot="7630800">
                  <a:off x="764640" y="980640"/>
                  <a:ext cx="8280" cy="756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1" name="未知"/>
                <p:cNvSpPr/>
                <p:nvPr/>
              </p:nvSpPr>
              <p:spPr>
                <a:xfrm rot="7630800">
                  <a:off x="759960" y="87336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2" name="Group 1303"/>
              <p:cNvGrpSpPr/>
              <p:nvPr/>
            </p:nvGrpSpPr>
            <p:grpSpPr>
              <a:xfrm>
                <a:off x="648720" y="1137600"/>
                <a:ext cx="36000" cy="34200"/>
                <a:chOff x="648720" y="1137600"/>
                <a:chExt cx="36000" cy="34200"/>
              </a:xfrm>
            </p:grpSpPr>
            <p:sp>
              <p:nvSpPr>
                <p:cNvPr id="1343" name="未知"/>
                <p:cNvSpPr/>
                <p:nvPr/>
              </p:nvSpPr>
              <p:spPr>
                <a:xfrm rot="3266400">
                  <a:off x="655920" y="1139760"/>
                  <a:ext cx="20880" cy="2952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4" name="未知"/>
                <p:cNvSpPr/>
                <p:nvPr/>
              </p:nvSpPr>
              <p:spPr>
                <a:xfrm rot="21219600">
                  <a:off x="655200" y="1145520"/>
                  <a:ext cx="15120" cy="1224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5" name="Group 1306"/>
            <p:cNvGrpSpPr/>
            <p:nvPr/>
          </p:nvGrpSpPr>
          <p:grpSpPr>
            <a:xfrm>
              <a:off x="890640" y="918720"/>
              <a:ext cx="410040" cy="350280"/>
              <a:chOff x="890640" y="918720"/>
              <a:chExt cx="410040" cy="350280"/>
            </a:xfrm>
          </p:grpSpPr>
          <p:grpSp>
            <p:nvGrpSpPr>
              <p:cNvPr id="1346" name="Group 1307"/>
              <p:cNvGrpSpPr/>
              <p:nvPr/>
            </p:nvGrpSpPr>
            <p:grpSpPr>
              <a:xfrm>
                <a:off x="890640" y="918720"/>
                <a:ext cx="410040" cy="350280"/>
                <a:chOff x="890640" y="918720"/>
                <a:chExt cx="410040" cy="350280"/>
              </a:xfrm>
            </p:grpSpPr>
            <p:sp>
              <p:nvSpPr>
                <p:cNvPr id="1347" name="未知"/>
                <p:cNvSpPr/>
                <p:nvPr/>
              </p:nvSpPr>
              <p:spPr>
                <a:xfrm rot="12159000">
                  <a:off x="994320" y="959400"/>
                  <a:ext cx="264960" cy="26892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8" name="未知"/>
                <p:cNvSpPr/>
                <p:nvPr/>
              </p:nvSpPr>
              <p:spPr>
                <a:xfrm rot="12159000">
                  <a:off x="1000800" y="1035720"/>
                  <a:ext cx="224640" cy="12744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9" name="未知"/>
                <p:cNvSpPr/>
                <p:nvPr/>
              </p:nvSpPr>
              <p:spPr>
                <a:xfrm rot="12159000">
                  <a:off x="908280" y="1015560"/>
                  <a:ext cx="327240" cy="15876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0" name="未知"/>
                <p:cNvSpPr/>
                <p:nvPr/>
              </p:nvSpPr>
              <p:spPr>
                <a:xfrm rot="12159000">
                  <a:off x="1093320" y="1101600"/>
                  <a:ext cx="106560" cy="1548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1" name="未知"/>
                <p:cNvSpPr/>
                <p:nvPr/>
              </p:nvSpPr>
              <p:spPr>
                <a:xfrm rot="12159000">
                  <a:off x="1028520" y="1110600"/>
                  <a:ext cx="137520" cy="5832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2" name="未知"/>
                <p:cNvSpPr/>
                <p:nvPr/>
              </p:nvSpPr>
              <p:spPr>
                <a:xfrm rot="12159000">
                  <a:off x="988200" y="111780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3" name="未知"/>
                <p:cNvSpPr/>
                <p:nvPr/>
              </p:nvSpPr>
              <p:spPr>
                <a:xfrm rot="12159000">
                  <a:off x="1150560" y="1093320"/>
                  <a:ext cx="63000" cy="972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4" name="未知"/>
                <p:cNvSpPr/>
                <p:nvPr/>
              </p:nvSpPr>
              <p:spPr>
                <a:xfrm rot="12159000">
                  <a:off x="1200960" y="1089000"/>
                  <a:ext cx="32760" cy="396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未知"/>
                <p:cNvSpPr/>
                <p:nvPr/>
              </p:nvSpPr>
              <p:spPr>
                <a:xfrm rot="12159000">
                  <a:off x="1198440" y="1062000"/>
                  <a:ext cx="23760" cy="2736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未知"/>
                <p:cNvSpPr/>
                <p:nvPr/>
              </p:nvSpPr>
              <p:spPr>
                <a:xfrm rot="12159000">
                  <a:off x="1162440" y="1041480"/>
                  <a:ext cx="42120" cy="5076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未知"/>
                <p:cNvSpPr/>
                <p:nvPr/>
              </p:nvSpPr>
              <p:spPr>
                <a:xfrm rot="12159000">
                  <a:off x="1109880" y="1010880"/>
                  <a:ext cx="67320" cy="8928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未知"/>
                <p:cNvSpPr/>
                <p:nvPr/>
              </p:nvSpPr>
              <p:spPr>
                <a:xfrm rot="12159000">
                  <a:off x="1064880" y="975600"/>
                  <a:ext cx="72360" cy="13032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9" name="未知"/>
                <p:cNvSpPr/>
                <p:nvPr/>
              </p:nvSpPr>
              <p:spPr>
                <a:xfrm rot="12159000">
                  <a:off x="1115280" y="977040"/>
                  <a:ext cx="8280" cy="5184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0" name="未知"/>
                <p:cNvSpPr/>
                <p:nvPr/>
              </p:nvSpPr>
              <p:spPr>
                <a:xfrm rot="12159000">
                  <a:off x="1032120" y="947520"/>
                  <a:ext cx="50040" cy="16056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1" name="未知"/>
                <p:cNvSpPr/>
                <p:nvPr/>
              </p:nvSpPr>
              <p:spPr>
                <a:xfrm rot="12159000">
                  <a:off x="1084680" y="1031400"/>
                  <a:ext cx="37080" cy="2556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2" name="未知"/>
                <p:cNvSpPr/>
                <p:nvPr/>
              </p:nvSpPr>
              <p:spPr>
                <a:xfrm rot="12159000">
                  <a:off x="1153440" y="1011960"/>
                  <a:ext cx="17640" cy="4104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3" name="未知"/>
                <p:cNvSpPr/>
                <p:nvPr/>
              </p:nvSpPr>
              <p:spPr>
                <a:xfrm rot="12159000">
                  <a:off x="1140120" y="1109520"/>
                  <a:ext cx="38520" cy="864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未知"/>
                <p:cNvSpPr/>
                <p:nvPr/>
              </p:nvSpPr>
              <p:spPr>
                <a:xfrm rot="12159000">
                  <a:off x="1152360" y="1125000"/>
                  <a:ext cx="23760" cy="1512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未知"/>
                <p:cNvSpPr/>
                <p:nvPr/>
              </p:nvSpPr>
              <p:spPr>
                <a:xfrm rot="12159000">
                  <a:off x="1126800" y="1026720"/>
                  <a:ext cx="8280" cy="1008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未知"/>
                <p:cNvSpPr/>
                <p:nvPr/>
              </p:nvSpPr>
              <p:spPr>
                <a:xfrm rot="12159000">
                  <a:off x="1134360" y="1137600"/>
                  <a:ext cx="6480" cy="576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7" name="未知"/>
                <p:cNvSpPr/>
                <p:nvPr/>
              </p:nvSpPr>
              <p:spPr>
                <a:xfrm rot="12159000">
                  <a:off x="1095840" y="115704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8" name="未知"/>
                <p:cNvSpPr/>
                <p:nvPr/>
              </p:nvSpPr>
              <p:spPr>
                <a:xfrm rot="12159000">
                  <a:off x="1199160" y="1121040"/>
                  <a:ext cx="6120" cy="396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9" name="Group 1330"/>
              <p:cNvGrpSpPr/>
              <p:nvPr/>
            </p:nvGrpSpPr>
            <p:grpSpPr>
              <a:xfrm>
                <a:off x="896400" y="1094040"/>
                <a:ext cx="36000" cy="35280"/>
                <a:chOff x="896400" y="1094040"/>
                <a:chExt cx="36000" cy="35280"/>
              </a:xfrm>
            </p:grpSpPr>
            <p:sp>
              <p:nvSpPr>
                <p:cNvPr id="1370" name="未知"/>
                <p:cNvSpPr/>
                <p:nvPr/>
              </p:nvSpPr>
              <p:spPr>
                <a:xfrm rot="7794000">
                  <a:off x="903240" y="1097280"/>
                  <a:ext cx="22320" cy="2808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未知"/>
                <p:cNvSpPr/>
                <p:nvPr/>
              </p:nvSpPr>
              <p:spPr>
                <a:xfrm rot="4147200">
                  <a:off x="909720" y="1101600"/>
                  <a:ext cx="14040" cy="1332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72" name="Group 1333"/>
          <p:cNvGrpSpPr/>
          <p:nvPr/>
        </p:nvGrpSpPr>
        <p:grpSpPr>
          <a:xfrm>
            <a:off x="-428040" y="358200"/>
            <a:ext cx="2052000" cy="1434240"/>
            <a:chOff x="-428040" y="358200"/>
            <a:chExt cx="2052000" cy="1434240"/>
          </a:xfrm>
        </p:grpSpPr>
        <p:sp>
          <p:nvSpPr>
            <p:cNvPr id="1373" name="未知"/>
            <p:cNvSpPr/>
            <p:nvPr/>
          </p:nvSpPr>
          <p:spPr>
            <a:xfrm flipH="1" rot="7023600">
              <a:off x="530280" y="391680"/>
              <a:ext cx="275040" cy="1504080"/>
            </a:xfrm>
            <a:custGeom>
              <a:avLst/>
              <a:gdLst/>
              <a:ahLst/>
              <a:rect l="l" t="t" r="r" b="b"/>
              <a:pathLst>
                <a:path w="2573" h="12419">
                  <a:moveTo>
                    <a:pt x="103" y="11997"/>
                  </a:moveTo>
                  <a:lnTo>
                    <a:pt x="103" y="11955"/>
                  </a:lnTo>
                  <a:lnTo>
                    <a:pt x="113" y="11851"/>
                  </a:lnTo>
                  <a:lnTo>
                    <a:pt x="124" y="11788"/>
                  </a:lnTo>
                  <a:lnTo>
                    <a:pt x="135" y="11737"/>
                  </a:lnTo>
                  <a:lnTo>
                    <a:pt x="150" y="11690"/>
                  </a:lnTo>
                  <a:lnTo>
                    <a:pt x="160" y="11669"/>
                  </a:lnTo>
                  <a:lnTo>
                    <a:pt x="170" y="11658"/>
                  </a:lnTo>
                  <a:lnTo>
                    <a:pt x="228" y="11596"/>
                  </a:lnTo>
                  <a:lnTo>
                    <a:pt x="264" y="11555"/>
                  </a:lnTo>
                  <a:lnTo>
                    <a:pt x="300" y="11503"/>
                  </a:lnTo>
                  <a:lnTo>
                    <a:pt x="332" y="11445"/>
                  </a:lnTo>
                  <a:lnTo>
                    <a:pt x="368" y="11378"/>
                  </a:lnTo>
                  <a:lnTo>
                    <a:pt x="394" y="11305"/>
                  </a:lnTo>
                  <a:lnTo>
                    <a:pt x="410" y="11221"/>
                  </a:lnTo>
                  <a:lnTo>
                    <a:pt x="447" y="11071"/>
                  </a:lnTo>
                  <a:lnTo>
                    <a:pt x="504" y="10821"/>
                  </a:lnTo>
                  <a:lnTo>
                    <a:pt x="670" y="10144"/>
                  </a:lnTo>
                  <a:lnTo>
                    <a:pt x="831" y="9488"/>
                  </a:lnTo>
                  <a:lnTo>
                    <a:pt x="883" y="9254"/>
                  </a:lnTo>
                  <a:lnTo>
                    <a:pt x="904" y="9140"/>
                  </a:lnTo>
                  <a:lnTo>
                    <a:pt x="909" y="9056"/>
                  </a:lnTo>
                  <a:lnTo>
                    <a:pt x="914" y="9004"/>
                  </a:lnTo>
                  <a:lnTo>
                    <a:pt x="919" y="8983"/>
                  </a:lnTo>
                  <a:lnTo>
                    <a:pt x="930" y="8973"/>
                  </a:lnTo>
                  <a:lnTo>
                    <a:pt x="946" y="8963"/>
                  </a:lnTo>
                  <a:lnTo>
                    <a:pt x="966" y="8958"/>
                  </a:lnTo>
                  <a:lnTo>
                    <a:pt x="981" y="8946"/>
                  </a:lnTo>
                  <a:lnTo>
                    <a:pt x="1003" y="8921"/>
                  </a:lnTo>
                  <a:lnTo>
                    <a:pt x="1023" y="8884"/>
                  </a:lnTo>
                  <a:lnTo>
                    <a:pt x="1050" y="8833"/>
                  </a:lnTo>
                  <a:lnTo>
                    <a:pt x="1106" y="8708"/>
                  </a:lnTo>
                  <a:lnTo>
                    <a:pt x="1169" y="8556"/>
                  </a:lnTo>
                  <a:lnTo>
                    <a:pt x="1231" y="8395"/>
                  </a:lnTo>
                  <a:lnTo>
                    <a:pt x="1288" y="8239"/>
                  </a:lnTo>
                  <a:lnTo>
                    <a:pt x="1335" y="8104"/>
                  </a:lnTo>
                  <a:lnTo>
                    <a:pt x="1367" y="7999"/>
                  </a:lnTo>
                  <a:lnTo>
                    <a:pt x="1445" y="7755"/>
                  </a:lnTo>
                  <a:lnTo>
                    <a:pt x="1554" y="7401"/>
                  </a:lnTo>
                  <a:lnTo>
                    <a:pt x="1606" y="7213"/>
                  </a:lnTo>
                  <a:lnTo>
                    <a:pt x="1647" y="7026"/>
                  </a:lnTo>
                  <a:lnTo>
                    <a:pt x="1669" y="6943"/>
                  </a:lnTo>
                  <a:lnTo>
                    <a:pt x="1679" y="6860"/>
                  </a:lnTo>
                  <a:lnTo>
                    <a:pt x="1689" y="6786"/>
                  </a:lnTo>
                  <a:lnTo>
                    <a:pt x="1689" y="6719"/>
                  </a:lnTo>
                  <a:lnTo>
                    <a:pt x="1694" y="6651"/>
                  </a:lnTo>
                  <a:lnTo>
                    <a:pt x="1699" y="6558"/>
                  </a:lnTo>
                  <a:lnTo>
                    <a:pt x="1731" y="6318"/>
                  </a:lnTo>
                  <a:lnTo>
                    <a:pt x="1772" y="6032"/>
                  </a:lnTo>
                  <a:lnTo>
                    <a:pt x="1814" y="5730"/>
                  </a:lnTo>
                  <a:lnTo>
                    <a:pt x="1902" y="5163"/>
                  </a:lnTo>
                  <a:lnTo>
                    <a:pt x="1934" y="4955"/>
                  </a:lnTo>
                  <a:lnTo>
                    <a:pt x="1939" y="4877"/>
                  </a:lnTo>
                  <a:lnTo>
                    <a:pt x="1944" y="4830"/>
                  </a:lnTo>
                  <a:lnTo>
                    <a:pt x="1949" y="4236"/>
                  </a:lnTo>
                  <a:lnTo>
                    <a:pt x="1964" y="3133"/>
                  </a:lnTo>
                  <a:lnTo>
                    <a:pt x="1970" y="2555"/>
                  </a:lnTo>
                  <a:lnTo>
                    <a:pt x="1970" y="2050"/>
                  </a:lnTo>
                  <a:lnTo>
                    <a:pt x="1964" y="1686"/>
                  </a:lnTo>
                  <a:lnTo>
                    <a:pt x="1959" y="1571"/>
                  </a:lnTo>
                  <a:lnTo>
                    <a:pt x="1954" y="1541"/>
                  </a:lnTo>
                  <a:lnTo>
                    <a:pt x="1954" y="1524"/>
                  </a:lnTo>
                  <a:lnTo>
                    <a:pt x="1918" y="1457"/>
                  </a:lnTo>
                  <a:lnTo>
                    <a:pt x="1892" y="1399"/>
                  </a:lnTo>
                  <a:lnTo>
                    <a:pt x="1887" y="1374"/>
                  </a:lnTo>
                  <a:lnTo>
                    <a:pt x="1882" y="1347"/>
                  </a:lnTo>
                  <a:lnTo>
                    <a:pt x="1882" y="1327"/>
                  </a:lnTo>
                  <a:lnTo>
                    <a:pt x="1892" y="1311"/>
                  </a:lnTo>
                  <a:lnTo>
                    <a:pt x="1897" y="1306"/>
                  </a:lnTo>
                  <a:lnTo>
                    <a:pt x="1907" y="1301"/>
                  </a:lnTo>
                  <a:lnTo>
                    <a:pt x="1923" y="1306"/>
                  </a:lnTo>
                  <a:lnTo>
                    <a:pt x="1944" y="1311"/>
                  </a:lnTo>
                  <a:lnTo>
                    <a:pt x="1964" y="1322"/>
                  </a:lnTo>
                  <a:lnTo>
                    <a:pt x="1986" y="1332"/>
                  </a:lnTo>
                  <a:lnTo>
                    <a:pt x="2006" y="1337"/>
                  </a:lnTo>
                  <a:lnTo>
                    <a:pt x="2022" y="1337"/>
                  </a:lnTo>
                  <a:lnTo>
                    <a:pt x="2027" y="1332"/>
                  </a:lnTo>
                  <a:lnTo>
                    <a:pt x="2032" y="1322"/>
                  </a:lnTo>
                  <a:lnTo>
                    <a:pt x="2214" y="775"/>
                  </a:lnTo>
                  <a:lnTo>
                    <a:pt x="2386" y="265"/>
                  </a:lnTo>
                  <a:lnTo>
                    <a:pt x="2376" y="228"/>
                  </a:lnTo>
                  <a:lnTo>
                    <a:pt x="2360" y="140"/>
                  </a:lnTo>
                  <a:lnTo>
                    <a:pt x="2360" y="93"/>
                  </a:lnTo>
                  <a:lnTo>
                    <a:pt x="2360" y="51"/>
                  </a:lnTo>
                  <a:lnTo>
                    <a:pt x="2365" y="20"/>
                  </a:lnTo>
                  <a:lnTo>
                    <a:pt x="2376" y="10"/>
                  </a:lnTo>
                  <a:lnTo>
                    <a:pt x="2386" y="5"/>
                  </a:lnTo>
                  <a:lnTo>
                    <a:pt x="2396" y="0"/>
                  </a:lnTo>
                  <a:lnTo>
                    <a:pt x="2401" y="5"/>
                  </a:lnTo>
                  <a:lnTo>
                    <a:pt x="2417" y="15"/>
                  </a:lnTo>
                  <a:lnTo>
                    <a:pt x="2423" y="36"/>
                  </a:lnTo>
                  <a:lnTo>
                    <a:pt x="2428" y="67"/>
                  </a:lnTo>
                  <a:lnTo>
                    <a:pt x="2438" y="130"/>
                  </a:lnTo>
                  <a:lnTo>
                    <a:pt x="2448" y="155"/>
                  </a:lnTo>
                  <a:lnTo>
                    <a:pt x="2464" y="177"/>
                  </a:lnTo>
                  <a:lnTo>
                    <a:pt x="2485" y="187"/>
                  </a:lnTo>
                  <a:lnTo>
                    <a:pt x="2505" y="197"/>
                  </a:lnTo>
                  <a:lnTo>
                    <a:pt x="2547" y="213"/>
                  </a:lnTo>
                  <a:lnTo>
                    <a:pt x="2563" y="218"/>
                  </a:lnTo>
                  <a:lnTo>
                    <a:pt x="2568" y="228"/>
                  </a:lnTo>
                  <a:lnTo>
                    <a:pt x="2573" y="233"/>
                  </a:lnTo>
                  <a:lnTo>
                    <a:pt x="2568" y="245"/>
                  </a:lnTo>
                  <a:lnTo>
                    <a:pt x="2531" y="275"/>
                  </a:lnTo>
                  <a:lnTo>
                    <a:pt x="2490" y="327"/>
                  </a:lnTo>
                  <a:lnTo>
                    <a:pt x="2443" y="390"/>
                  </a:lnTo>
                  <a:lnTo>
                    <a:pt x="2423" y="421"/>
                  </a:lnTo>
                  <a:lnTo>
                    <a:pt x="2406" y="457"/>
                  </a:lnTo>
                  <a:lnTo>
                    <a:pt x="2334" y="650"/>
                  </a:lnTo>
                  <a:lnTo>
                    <a:pt x="2219" y="999"/>
                  </a:lnTo>
                  <a:lnTo>
                    <a:pt x="2163" y="1186"/>
                  </a:lnTo>
                  <a:lnTo>
                    <a:pt x="2116" y="1363"/>
                  </a:lnTo>
                  <a:lnTo>
                    <a:pt x="2084" y="1504"/>
                  </a:lnTo>
                  <a:lnTo>
                    <a:pt x="2074" y="1556"/>
                  </a:lnTo>
                  <a:lnTo>
                    <a:pt x="2074" y="1592"/>
                  </a:lnTo>
                  <a:lnTo>
                    <a:pt x="2074" y="1706"/>
                  </a:lnTo>
                  <a:lnTo>
                    <a:pt x="2074" y="1915"/>
                  </a:lnTo>
                  <a:lnTo>
                    <a:pt x="2069" y="2456"/>
                  </a:lnTo>
                  <a:lnTo>
                    <a:pt x="2053" y="3195"/>
                  </a:lnTo>
                  <a:lnTo>
                    <a:pt x="2064" y="3185"/>
                  </a:lnTo>
                  <a:lnTo>
                    <a:pt x="2089" y="3164"/>
                  </a:lnTo>
                  <a:lnTo>
                    <a:pt x="2106" y="3154"/>
                  </a:lnTo>
                  <a:lnTo>
                    <a:pt x="2116" y="3154"/>
                  </a:lnTo>
                  <a:lnTo>
                    <a:pt x="2121" y="3159"/>
                  </a:lnTo>
                  <a:lnTo>
                    <a:pt x="2121" y="3174"/>
                  </a:lnTo>
                  <a:lnTo>
                    <a:pt x="2111" y="3227"/>
                  </a:lnTo>
                  <a:lnTo>
                    <a:pt x="2089" y="3284"/>
                  </a:lnTo>
                  <a:lnTo>
                    <a:pt x="2069" y="3352"/>
                  </a:lnTo>
                  <a:lnTo>
                    <a:pt x="2064" y="3394"/>
                  </a:lnTo>
                  <a:lnTo>
                    <a:pt x="2064" y="3435"/>
                  </a:lnTo>
                  <a:lnTo>
                    <a:pt x="2058" y="3747"/>
                  </a:lnTo>
                  <a:lnTo>
                    <a:pt x="2043" y="4356"/>
                  </a:lnTo>
                  <a:lnTo>
                    <a:pt x="2032" y="4705"/>
                  </a:lnTo>
                  <a:lnTo>
                    <a:pt x="2022" y="5048"/>
                  </a:lnTo>
                  <a:lnTo>
                    <a:pt x="2001" y="5360"/>
                  </a:lnTo>
                  <a:lnTo>
                    <a:pt x="1981" y="5610"/>
                  </a:lnTo>
                  <a:lnTo>
                    <a:pt x="1954" y="5834"/>
                  </a:lnTo>
                  <a:lnTo>
                    <a:pt x="1923" y="6058"/>
                  </a:lnTo>
                  <a:lnTo>
                    <a:pt x="1850" y="6490"/>
                  </a:lnTo>
                  <a:lnTo>
                    <a:pt x="1819" y="6673"/>
                  </a:lnTo>
                  <a:lnTo>
                    <a:pt x="1799" y="6818"/>
                  </a:lnTo>
                  <a:lnTo>
                    <a:pt x="1794" y="6922"/>
                  </a:lnTo>
                  <a:lnTo>
                    <a:pt x="1794" y="6953"/>
                  </a:lnTo>
                  <a:lnTo>
                    <a:pt x="1804" y="6974"/>
                  </a:lnTo>
                  <a:lnTo>
                    <a:pt x="1819" y="6985"/>
                  </a:lnTo>
                  <a:lnTo>
                    <a:pt x="1834" y="6990"/>
                  </a:lnTo>
                  <a:lnTo>
                    <a:pt x="1866" y="6990"/>
                  </a:lnTo>
                  <a:lnTo>
                    <a:pt x="1876" y="6990"/>
                  </a:lnTo>
                  <a:lnTo>
                    <a:pt x="1887" y="6995"/>
                  </a:lnTo>
                  <a:lnTo>
                    <a:pt x="1897" y="7010"/>
                  </a:lnTo>
                  <a:lnTo>
                    <a:pt x="1902" y="7031"/>
                  </a:lnTo>
                  <a:lnTo>
                    <a:pt x="1897" y="7063"/>
                  </a:lnTo>
                  <a:lnTo>
                    <a:pt x="1887" y="7100"/>
                  </a:lnTo>
                  <a:lnTo>
                    <a:pt x="1866" y="7130"/>
                  </a:lnTo>
                  <a:lnTo>
                    <a:pt x="1845" y="7162"/>
                  </a:lnTo>
                  <a:lnTo>
                    <a:pt x="1804" y="7208"/>
                  </a:lnTo>
                  <a:lnTo>
                    <a:pt x="1782" y="7224"/>
                  </a:lnTo>
                  <a:lnTo>
                    <a:pt x="1076" y="9108"/>
                  </a:lnTo>
                  <a:lnTo>
                    <a:pt x="571" y="11174"/>
                  </a:lnTo>
                  <a:lnTo>
                    <a:pt x="582" y="11201"/>
                  </a:lnTo>
                  <a:lnTo>
                    <a:pt x="587" y="11243"/>
                  </a:lnTo>
                  <a:lnTo>
                    <a:pt x="582" y="11294"/>
                  </a:lnTo>
                  <a:lnTo>
                    <a:pt x="571" y="11331"/>
                  </a:lnTo>
                  <a:lnTo>
                    <a:pt x="550" y="11378"/>
                  </a:lnTo>
                  <a:lnTo>
                    <a:pt x="487" y="11492"/>
                  </a:lnTo>
                  <a:lnTo>
                    <a:pt x="457" y="11550"/>
                  </a:lnTo>
                  <a:lnTo>
                    <a:pt x="431" y="11606"/>
                  </a:lnTo>
                  <a:lnTo>
                    <a:pt x="410" y="11658"/>
                  </a:lnTo>
                  <a:lnTo>
                    <a:pt x="405" y="11695"/>
                  </a:lnTo>
                  <a:lnTo>
                    <a:pt x="399" y="11737"/>
                  </a:lnTo>
                  <a:lnTo>
                    <a:pt x="389" y="11783"/>
                  </a:lnTo>
                  <a:lnTo>
                    <a:pt x="352" y="11898"/>
                  </a:lnTo>
                  <a:lnTo>
                    <a:pt x="312" y="12018"/>
                  </a:lnTo>
                  <a:lnTo>
                    <a:pt x="259" y="12122"/>
                  </a:lnTo>
                  <a:lnTo>
                    <a:pt x="197" y="12220"/>
                  </a:lnTo>
                  <a:lnTo>
                    <a:pt x="113" y="12330"/>
                  </a:lnTo>
                  <a:lnTo>
                    <a:pt x="77" y="12377"/>
                  </a:lnTo>
                  <a:lnTo>
                    <a:pt x="40" y="12408"/>
                  </a:lnTo>
                  <a:lnTo>
                    <a:pt x="25" y="12419"/>
                  </a:lnTo>
                  <a:lnTo>
                    <a:pt x="15" y="12419"/>
                  </a:lnTo>
                  <a:lnTo>
                    <a:pt x="5" y="12419"/>
                  </a:lnTo>
                  <a:lnTo>
                    <a:pt x="0" y="12413"/>
                  </a:lnTo>
                  <a:lnTo>
                    <a:pt x="0" y="12397"/>
                  </a:lnTo>
                  <a:lnTo>
                    <a:pt x="0" y="12377"/>
                  </a:lnTo>
                  <a:lnTo>
                    <a:pt x="10" y="12320"/>
                  </a:lnTo>
                  <a:lnTo>
                    <a:pt x="40" y="12185"/>
                  </a:lnTo>
                  <a:lnTo>
                    <a:pt x="82" y="12055"/>
                  </a:lnTo>
                  <a:lnTo>
                    <a:pt x="103" y="11997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未知"/>
            <p:cNvSpPr/>
            <p:nvPr/>
          </p:nvSpPr>
          <p:spPr>
            <a:xfrm flipH="1" rot="7023600">
              <a:off x="-42120" y="895320"/>
              <a:ext cx="30600" cy="57960"/>
            </a:xfrm>
            <a:custGeom>
              <a:avLst/>
              <a:gdLst/>
              <a:ahLst/>
              <a:rect l="l" t="t" r="r" b="b"/>
              <a:pathLst>
                <a:path w="297" h="479">
                  <a:moveTo>
                    <a:pt x="265" y="0"/>
                  </a:moveTo>
                  <a:lnTo>
                    <a:pt x="249" y="5"/>
                  </a:lnTo>
                  <a:lnTo>
                    <a:pt x="228" y="10"/>
                  </a:lnTo>
                  <a:lnTo>
                    <a:pt x="202" y="22"/>
                  </a:lnTo>
                  <a:lnTo>
                    <a:pt x="177" y="37"/>
                  </a:lnTo>
                  <a:lnTo>
                    <a:pt x="145" y="57"/>
                  </a:lnTo>
                  <a:lnTo>
                    <a:pt x="120" y="89"/>
                  </a:lnTo>
                  <a:lnTo>
                    <a:pt x="93" y="130"/>
                  </a:lnTo>
                  <a:lnTo>
                    <a:pt x="73" y="182"/>
                  </a:lnTo>
                  <a:lnTo>
                    <a:pt x="52" y="245"/>
                  </a:lnTo>
                  <a:lnTo>
                    <a:pt x="31" y="312"/>
                  </a:lnTo>
                  <a:lnTo>
                    <a:pt x="10" y="375"/>
                  </a:lnTo>
                  <a:lnTo>
                    <a:pt x="5" y="427"/>
                  </a:lnTo>
                  <a:lnTo>
                    <a:pt x="0" y="464"/>
                  </a:lnTo>
                  <a:lnTo>
                    <a:pt x="5" y="474"/>
                  </a:lnTo>
                  <a:lnTo>
                    <a:pt x="10" y="479"/>
                  </a:lnTo>
                  <a:lnTo>
                    <a:pt x="20" y="474"/>
                  </a:lnTo>
                  <a:lnTo>
                    <a:pt x="36" y="464"/>
                  </a:lnTo>
                  <a:lnTo>
                    <a:pt x="73" y="422"/>
                  </a:lnTo>
                  <a:lnTo>
                    <a:pt x="125" y="359"/>
                  </a:lnTo>
                  <a:lnTo>
                    <a:pt x="177" y="282"/>
                  </a:lnTo>
                  <a:lnTo>
                    <a:pt x="228" y="204"/>
                  </a:lnTo>
                  <a:lnTo>
                    <a:pt x="270" y="125"/>
                  </a:lnTo>
                  <a:lnTo>
                    <a:pt x="280" y="89"/>
                  </a:lnTo>
                  <a:lnTo>
                    <a:pt x="290" y="63"/>
                  </a:lnTo>
                  <a:lnTo>
                    <a:pt x="297" y="37"/>
                  </a:lnTo>
                  <a:lnTo>
                    <a:pt x="297" y="16"/>
                  </a:lnTo>
                  <a:lnTo>
                    <a:pt x="285" y="5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5" name="Group 1336"/>
            <p:cNvGrpSpPr/>
            <p:nvPr/>
          </p:nvGrpSpPr>
          <p:grpSpPr>
            <a:xfrm>
              <a:off x="-428040" y="865800"/>
              <a:ext cx="641520" cy="652320"/>
              <a:chOff x="-428040" y="865800"/>
              <a:chExt cx="641520" cy="652320"/>
            </a:xfrm>
          </p:grpSpPr>
          <p:grpSp>
            <p:nvGrpSpPr>
              <p:cNvPr id="1376" name="Group 1337"/>
              <p:cNvGrpSpPr/>
              <p:nvPr/>
            </p:nvGrpSpPr>
            <p:grpSpPr>
              <a:xfrm>
                <a:off x="-428040" y="865800"/>
                <a:ext cx="628920" cy="652320"/>
                <a:chOff x="-428040" y="865800"/>
                <a:chExt cx="628920" cy="652320"/>
              </a:xfrm>
            </p:grpSpPr>
            <p:sp>
              <p:nvSpPr>
                <p:cNvPr id="1377" name="未知"/>
                <p:cNvSpPr/>
                <p:nvPr/>
              </p:nvSpPr>
              <p:spPr>
                <a:xfrm flipH="1" rot="6883200">
                  <a:off x="-326160" y="972720"/>
                  <a:ext cx="424440" cy="49680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8" name="未知"/>
                <p:cNvSpPr/>
                <p:nvPr/>
              </p:nvSpPr>
              <p:spPr>
                <a:xfrm flipH="1" rot="6883200">
                  <a:off x="-269280" y="1095120"/>
                  <a:ext cx="359640" cy="23616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9" name="未知"/>
                <p:cNvSpPr/>
                <p:nvPr/>
              </p:nvSpPr>
              <p:spPr>
                <a:xfrm flipH="1" rot="6883200">
                  <a:off x="-305280" y="1018080"/>
                  <a:ext cx="523800" cy="29376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0" name="未知"/>
                <p:cNvSpPr/>
                <p:nvPr/>
              </p:nvSpPr>
              <p:spPr>
                <a:xfrm flipH="1" rot="6883200">
                  <a:off x="-204480" y="1245960"/>
                  <a:ext cx="170280" cy="2916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1" name="未知"/>
                <p:cNvSpPr/>
                <p:nvPr/>
              </p:nvSpPr>
              <p:spPr>
                <a:xfrm flipH="1" rot="6883200">
                  <a:off x="-127800" y="1194480"/>
                  <a:ext cx="219960" cy="10872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2" name="未知"/>
                <p:cNvSpPr/>
                <p:nvPr/>
              </p:nvSpPr>
              <p:spPr>
                <a:xfrm flipH="1" rot="6883200">
                  <a:off x="-75240" y="1161360"/>
                  <a:ext cx="242640" cy="14364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未知"/>
                <p:cNvSpPr/>
                <p:nvPr/>
              </p:nvSpPr>
              <p:spPr>
                <a:xfrm flipH="1" rot="6883200">
                  <a:off x="-228960" y="1275120"/>
                  <a:ext cx="100800" cy="1836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4" name="未知"/>
                <p:cNvSpPr/>
                <p:nvPr/>
              </p:nvSpPr>
              <p:spPr>
                <a:xfrm flipH="1" rot="6883200">
                  <a:off x="-258840" y="1307520"/>
                  <a:ext cx="52560" cy="720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5" name="未知"/>
                <p:cNvSpPr/>
                <p:nvPr/>
              </p:nvSpPr>
              <p:spPr>
                <a:xfrm flipH="1" rot="6883200">
                  <a:off x="-264240" y="1260000"/>
                  <a:ext cx="38520" cy="5076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未知"/>
                <p:cNvSpPr/>
                <p:nvPr/>
              </p:nvSpPr>
              <p:spPr>
                <a:xfrm flipH="1" rot="6883200">
                  <a:off x="-254160" y="1199520"/>
                  <a:ext cx="67320" cy="9396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7" name="未知"/>
                <p:cNvSpPr/>
                <p:nvPr/>
              </p:nvSpPr>
              <p:spPr>
                <a:xfrm flipH="1" rot="6883200">
                  <a:off x="-239400" y="1106280"/>
                  <a:ext cx="107640" cy="16524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8" name="未知"/>
                <p:cNvSpPr/>
                <p:nvPr/>
              </p:nvSpPr>
              <p:spPr>
                <a:xfrm flipH="1" rot="6883200">
                  <a:off x="-208440" y="1005480"/>
                  <a:ext cx="115920" cy="24156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未知"/>
                <p:cNvSpPr/>
                <p:nvPr/>
              </p:nvSpPr>
              <p:spPr>
                <a:xfrm flipH="1" rot="6883200">
                  <a:off x="-229320" y="1048320"/>
                  <a:ext cx="12600" cy="9612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0" name="未知"/>
                <p:cNvSpPr/>
                <p:nvPr/>
              </p:nvSpPr>
              <p:spPr>
                <a:xfrm flipH="1" rot="6883200">
                  <a:off x="-152280" y="914040"/>
                  <a:ext cx="79920" cy="29736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1" name="未知"/>
                <p:cNvSpPr/>
                <p:nvPr/>
              </p:nvSpPr>
              <p:spPr>
                <a:xfrm flipH="1" rot="6883200">
                  <a:off x="-178560" y="1110240"/>
                  <a:ext cx="59400" cy="4716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2" name="未知"/>
                <p:cNvSpPr/>
                <p:nvPr/>
              </p:nvSpPr>
              <p:spPr>
                <a:xfrm flipH="1" rot="6883200">
                  <a:off x="-252000" y="1142280"/>
                  <a:ext cx="28800" cy="7560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3" name="未知"/>
                <p:cNvSpPr/>
                <p:nvPr/>
              </p:nvSpPr>
              <p:spPr>
                <a:xfrm flipH="1" rot="6883200">
                  <a:off x="-160920" y="1271880"/>
                  <a:ext cx="62640" cy="1620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4" name="未知"/>
                <p:cNvSpPr/>
                <p:nvPr/>
              </p:nvSpPr>
              <p:spPr>
                <a:xfrm flipH="1" rot="6883200">
                  <a:off x="-131400" y="1293840"/>
                  <a:ext cx="38520" cy="2916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未知"/>
                <p:cNvSpPr/>
                <p:nvPr/>
              </p:nvSpPr>
              <p:spPr>
                <a:xfrm flipH="1" rot="6883200">
                  <a:off x="-206640" y="1136520"/>
                  <a:ext cx="12600" cy="1836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未知"/>
                <p:cNvSpPr/>
                <p:nvPr/>
              </p:nvSpPr>
              <p:spPr>
                <a:xfrm flipH="1" rot="6883200">
                  <a:off x="-72720" y="1286280"/>
                  <a:ext cx="11160" cy="1044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7" name="未知"/>
                <p:cNvSpPr/>
                <p:nvPr/>
              </p:nvSpPr>
              <p:spPr>
                <a:xfrm flipH="1" rot="6883200">
                  <a:off x="0" y="1270440"/>
                  <a:ext cx="12600" cy="1476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8" name="未知"/>
                <p:cNvSpPr/>
                <p:nvPr/>
              </p:nvSpPr>
              <p:spPr>
                <a:xfrm flipH="1" rot="6883200">
                  <a:off x="-177120" y="1332720"/>
                  <a:ext cx="9720" cy="648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Group 1360"/>
              <p:cNvGrpSpPr/>
              <p:nvPr/>
            </p:nvGrpSpPr>
            <p:grpSpPr>
              <a:xfrm>
                <a:off x="166320" y="991080"/>
                <a:ext cx="47160" cy="49680"/>
                <a:chOff x="166320" y="991080"/>
                <a:chExt cx="47160" cy="49680"/>
              </a:xfrm>
            </p:grpSpPr>
            <p:sp>
              <p:nvSpPr>
                <p:cNvPr id="1400" name="未知"/>
                <p:cNvSpPr/>
                <p:nvPr/>
              </p:nvSpPr>
              <p:spPr>
                <a:xfrm flipH="1" rot="11248200">
                  <a:off x="169200" y="993600"/>
                  <a:ext cx="41040" cy="4464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1" name="未知"/>
                <p:cNvSpPr/>
                <p:nvPr/>
              </p:nvSpPr>
              <p:spPr>
                <a:xfrm flipH="1" rot="14895000">
                  <a:off x="170640" y="1000800"/>
                  <a:ext cx="22680" cy="2520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2" name="Group 1363"/>
            <p:cNvGrpSpPr/>
            <p:nvPr/>
          </p:nvGrpSpPr>
          <p:grpSpPr>
            <a:xfrm>
              <a:off x="36360" y="972000"/>
              <a:ext cx="691920" cy="676080"/>
              <a:chOff x="36360" y="972000"/>
              <a:chExt cx="691920" cy="676080"/>
            </a:xfrm>
          </p:grpSpPr>
          <p:grpSp>
            <p:nvGrpSpPr>
              <p:cNvPr id="1403" name="Group 1364"/>
              <p:cNvGrpSpPr/>
              <p:nvPr/>
            </p:nvGrpSpPr>
            <p:grpSpPr>
              <a:xfrm>
                <a:off x="36360" y="972000"/>
                <a:ext cx="691920" cy="676080"/>
                <a:chOff x="36360" y="972000"/>
                <a:chExt cx="691920" cy="676080"/>
              </a:xfrm>
            </p:grpSpPr>
            <p:sp>
              <p:nvSpPr>
                <p:cNvPr id="1404" name="未知"/>
                <p:cNvSpPr/>
                <p:nvPr/>
              </p:nvSpPr>
              <p:spPr>
                <a:xfrm flipH="1" rot="2120400">
                  <a:off x="166320" y="1109520"/>
                  <a:ext cx="478440" cy="44064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5" name="未知"/>
                <p:cNvSpPr/>
                <p:nvPr/>
              </p:nvSpPr>
              <p:spPr>
                <a:xfrm flipH="1" rot="2120400">
                  <a:off x="196200" y="1200960"/>
                  <a:ext cx="405720" cy="20916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6" name="未知"/>
                <p:cNvSpPr/>
                <p:nvPr/>
              </p:nvSpPr>
              <p:spPr>
                <a:xfrm flipH="1" rot="2120400">
                  <a:off x="56520" y="1118520"/>
                  <a:ext cx="590760" cy="26028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7" name="未知"/>
                <p:cNvSpPr/>
                <p:nvPr/>
              </p:nvSpPr>
              <p:spPr>
                <a:xfrm flipH="1" rot="2120400">
                  <a:off x="351000" y="1334520"/>
                  <a:ext cx="191880" cy="2556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8" name="未知"/>
                <p:cNvSpPr/>
                <p:nvPr/>
              </p:nvSpPr>
              <p:spPr>
                <a:xfrm flipH="1" rot="2120400">
                  <a:off x="317160" y="1201320"/>
                  <a:ext cx="248400" cy="9612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9" name="未知"/>
                <p:cNvSpPr/>
                <p:nvPr/>
              </p:nvSpPr>
              <p:spPr>
                <a:xfrm flipH="1" rot="2120400">
                  <a:off x="294480" y="1122120"/>
                  <a:ext cx="273600" cy="12708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0" name="未知"/>
                <p:cNvSpPr/>
                <p:nvPr/>
              </p:nvSpPr>
              <p:spPr>
                <a:xfrm flipH="1" rot="2120400">
                  <a:off x="409320" y="1400400"/>
                  <a:ext cx="113760" cy="1620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1" name="未知"/>
                <p:cNvSpPr/>
                <p:nvPr/>
              </p:nvSpPr>
              <p:spPr>
                <a:xfrm flipH="1" rot="2120400">
                  <a:off x="459720" y="1463760"/>
                  <a:ext cx="59400" cy="612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2" name="未知"/>
                <p:cNvSpPr/>
                <p:nvPr/>
              </p:nvSpPr>
              <p:spPr>
                <a:xfrm flipH="1" rot="2120400">
                  <a:off x="439560" y="1447920"/>
                  <a:ext cx="43560" cy="4500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3" name="未知"/>
                <p:cNvSpPr/>
                <p:nvPr/>
              </p:nvSpPr>
              <p:spPr>
                <a:xfrm flipH="1" rot="2120400">
                  <a:off x="385200" y="1395000"/>
                  <a:ext cx="75960" cy="8352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4" name="未知"/>
                <p:cNvSpPr/>
                <p:nvPr/>
              </p:nvSpPr>
              <p:spPr>
                <a:xfrm flipH="1" rot="2120400">
                  <a:off x="304920" y="1314360"/>
                  <a:ext cx="122040" cy="14652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5" name="未知"/>
                <p:cNvSpPr/>
                <p:nvPr/>
              </p:nvSpPr>
              <p:spPr>
                <a:xfrm flipH="1" rot="2120400">
                  <a:off x="237600" y="1230120"/>
                  <a:ext cx="130680" cy="21420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6" name="未知"/>
                <p:cNvSpPr/>
                <p:nvPr/>
              </p:nvSpPr>
              <p:spPr>
                <a:xfrm flipH="1" rot="2120400">
                  <a:off x="258840" y="1352520"/>
                  <a:ext cx="14040" cy="8532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7" name="未知"/>
                <p:cNvSpPr/>
                <p:nvPr/>
              </p:nvSpPr>
              <p:spPr>
                <a:xfrm flipH="1" rot="2120400">
                  <a:off x="194400" y="1151280"/>
                  <a:ext cx="90360" cy="26352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8" name="未知"/>
                <p:cNvSpPr/>
                <p:nvPr/>
              </p:nvSpPr>
              <p:spPr>
                <a:xfrm flipH="1" rot="2120400">
                  <a:off x="276480" y="1316520"/>
                  <a:ext cx="66960" cy="4176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9" name="未知"/>
                <p:cNvSpPr/>
                <p:nvPr/>
              </p:nvSpPr>
              <p:spPr>
                <a:xfrm flipH="1" rot="2120400">
                  <a:off x="335520" y="1400040"/>
                  <a:ext cx="32400" cy="6732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0" name="未知"/>
                <p:cNvSpPr/>
                <p:nvPr/>
              </p:nvSpPr>
              <p:spPr>
                <a:xfrm flipH="1" rot="2120400">
                  <a:off x="430920" y="1355040"/>
                  <a:ext cx="70560" cy="1404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1" name="未知"/>
                <p:cNvSpPr/>
                <p:nvPr/>
              </p:nvSpPr>
              <p:spPr>
                <a:xfrm flipH="1" rot="2120400">
                  <a:off x="475920" y="1341360"/>
                  <a:ext cx="43560" cy="2556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2" name="未知"/>
                <p:cNvSpPr/>
                <p:nvPr/>
              </p:nvSpPr>
              <p:spPr>
                <a:xfrm flipH="1" rot="2120400">
                  <a:off x="311760" y="1380960"/>
                  <a:ext cx="14040" cy="1584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3" name="未知"/>
                <p:cNvSpPr/>
                <p:nvPr/>
              </p:nvSpPr>
              <p:spPr>
                <a:xfrm flipH="1" rot="2120400">
                  <a:off x="476640" y="1303200"/>
                  <a:ext cx="12600" cy="936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4" name="未知"/>
                <p:cNvSpPr/>
                <p:nvPr/>
              </p:nvSpPr>
              <p:spPr>
                <a:xfrm flipH="1" rot="2120400">
                  <a:off x="468360" y="1229760"/>
                  <a:ext cx="14040" cy="1260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5" name="未知"/>
                <p:cNvSpPr/>
                <p:nvPr/>
              </p:nvSpPr>
              <p:spPr>
                <a:xfrm flipH="1" rot="2120400">
                  <a:off x="515880" y="1415520"/>
                  <a:ext cx="10440" cy="612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6" name="Group 1387"/>
              <p:cNvGrpSpPr/>
              <p:nvPr/>
            </p:nvGrpSpPr>
            <p:grpSpPr>
              <a:xfrm>
                <a:off x="191880" y="984960"/>
                <a:ext cx="59040" cy="50040"/>
                <a:chOff x="191880" y="984960"/>
                <a:chExt cx="59040" cy="50040"/>
              </a:xfrm>
            </p:grpSpPr>
            <p:sp>
              <p:nvSpPr>
                <p:cNvPr id="1427" name="未知"/>
                <p:cNvSpPr/>
                <p:nvPr/>
              </p:nvSpPr>
              <p:spPr>
                <a:xfrm flipH="1" rot="6484800">
                  <a:off x="203040" y="984600"/>
                  <a:ext cx="36360" cy="5040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8" name="未知"/>
                <p:cNvSpPr/>
                <p:nvPr/>
              </p:nvSpPr>
              <p:spPr>
                <a:xfrm flipH="1" rot="10131600">
                  <a:off x="205200" y="1004760"/>
                  <a:ext cx="25560" cy="2232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9" name="Group 1390"/>
            <p:cNvGrpSpPr/>
            <p:nvPr/>
          </p:nvGrpSpPr>
          <p:grpSpPr>
            <a:xfrm>
              <a:off x="82080" y="358200"/>
              <a:ext cx="928440" cy="819360"/>
              <a:chOff x="82080" y="358200"/>
              <a:chExt cx="928440" cy="819360"/>
            </a:xfrm>
          </p:grpSpPr>
          <p:grpSp>
            <p:nvGrpSpPr>
              <p:cNvPr id="1430" name="Group 1391"/>
              <p:cNvGrpSpPr/>
              <p:nvPr/>
            </p:nvGrpSpPr>
            <p:grpSpPr>
              <a:xfrm>
                <a:off x="82080" y="358200"/>
                <a:ext cx="591480" cy="647640"/>
                <a:chOff x="82080" y="358200"/>
                <a:chExt cx="591480" cy="647640"/>
              </a:xfrm>
            </p:grpSpPr>
            <p:grpSp>
              <p:nvGrpSpPr>
                <p:cNvPr id="1431" name="Group 1392"/>
                <p:cNvGrpSpPr/>
                <p:nvPr/>
              </p:nvGrpSpPr>
              <p:grpSpPr>
                <a:xfrm>
                  <a:off x="82080" y="358200"/>
                  <a:ext cx="591480" cy="641520"/>
                  <a:chOff x="82080" y="358200"/>
                  <a:chExt cx="591480" cy="641520"/>
                </a:xfrm>
              </p:grpSpPr>
              <p:sp>
                <p:nvSpPr>
                  <p:cNvPr id="1432" name="未知"/>
                  <p:cNvSpPr/>
                  <p:nvPr/>
                </p:nvSpPr>
                <p:spPr>
                  <a:xfrm rot="7164000">
                    <a:off x="182520" y="411120"/>
                    <a:ext cx="390240" cy="459000"/>
                  </a:xfrm>
                  <a:custGeom>
                    <a:avLst/>
                    <a:gdLst/>
                    <a:ahLst/>
                    <a:rect l="l" t="t" r="r" b="b"/>
                    <a:pathLst>
                      <a:path w="3962" h="4106">
                        <a:moveTo>
                          <a:pt x="0" y="3065"/>
                        </a:moveTo>
                        <a:lnTo>
                          <a:pt x="47" y="3055"/>
                        </a:lnTo>
                        <a:lnTo>
                          <a:pt x="150" y="3044"/>
                        </a:lnTo>
                        <a:lnTo>
                          <a:pt x="260" y="3034"/>
                        </a:lnTo>
                        <a:lnTo>
                          <a:pt x="302" y="3034"/>
                        </a:lnTo>
                        <a:lnTo>
                          <a:pt x="317" y="3034"/>
                        </a:lnTo>
                        <a:lnTo>
                          <a:pt x="327" y="3039"/>
                        </a:lnTo>
                        <a:lnTo>
                          <a:pt x="281" y="3117"/>
                        </a:lnTo>
                        <a:lnTo>
                          <a:pt x="322" y="3102"/>
                        </a:lnTo>
                        <a:lnTo>
                          <a:pt x="421" y="3065"/>
                        </a:lnTo>
                        <a:lnTo>
                          <a:pt x="474" y="3055"/>
                        </a:lnTo>
                        <a:lnTo>
                          <a:pt x="526" y="3049"/>
                        </a:lnTo>
                        <a:lnTo>
                          <a:pt x="546" y="3049"/>
                        </a:lnTo>
                        <a:lnTo>
                          <a:pt x="562" y="3060"/>
                        </a:lnTo>
                        <a:lnTo>
                          <a:pt x="577" y="3065"/>
                        </a:lnTo>
                        <a:lnTo>
                          <a:pt x="582" y="3080"/>
                        </a:lnTo>
                        <a:lnTo>
                          <a:pt x="536" y="3169"/>
                        </a:lnTo>
                        <a:lnTo>
                          <a:pt x="593" y="3154"/>
                        </a:lnTo>
                        <a:lnTo>
                          <a:pt x="723" y="3127"/>
                        </a:lnTo>
                        <a:lnTo>
                          <a:pt x="796" y="3122"/>
                        </a:lnTo>
                        <a:lnTo>
                          <a:pt x="863" y="3117"/>
                        </a:lnTo>
                        <a:lnTo>
                          <a:pt x="910" y="3117"/>
                        </a:lnTo>
                        <a:lnTo>
                          <a:pt x="926" y="3122"/>
                        </a:lnTo>
                        <a:lnTo>
                          <a:pt x="936" y="3132"/>
                        </a:lnTo>
                        <a:lnTo>
                          <a:pt x="941" y="3159"/>
                        </a:lnTo>
                        <a:lnTo>
                          <a:pt x="936" y="3185"/>
                        </a:lnTo>
                        <a:lnTo>
                          <a:pt x="926" y="3211"/>
                        </a:lnTo>
                        <a:lnTo>
                          <a:pt x="915" y="3242"/>
                        </a:lnTo>
                        <a:lnTo>
                          <a:pt x="884" y="3289"/>
                        </a:lnTo>
                        <a:lnTo>
                          <a:pt x="873" y="3310"/>
                        </a:lnTo>
                        <a:lnTo>
                          <a:pt x="900" y="3294"/>
                        </a:lnTo>
                        <a:lnTo>
                          <a:pt x="936" y="3284"/>
                        </a:lnTo>
                        <a:lnTo>
                          <a:pt x="978" y="3268"/>
                        </a:lnTo>
                        <a:lnTo>
                          <a:pt x="1030" y="3257"/>
                        </a:lnTo>
                        <a:lnTo>
                          <a:pt x="1082" y="3257"/>
                        </a:lnTo>
                        <a:lnTo>
                          <a:pt x="1133" y="3262"/>
                        </a:lnTo>
                        <a:lnTo>
                          <a:pt x="1160" y="3268"/>
                        </a:lnTo>
                        <a:lnTo>
                          <a:pt x="1185" y="3279"/>
                        </a:lnTo>
                        <a:lnTo>
                          <a:pt x="1191" y="3299"/>
                        </a:lnTo>
                        <a:lnTo>
                          <a:pt x="1201" y="3341"/>
                        </a:lnTo>
                        <a:lnTo>
                          <a:pt x="1196" y="3367"/>
                        </a:lnTo>
                        <a:lnTo>
                          <a:pt x="1196" y="3387"/>
                        </a:lnTo>
                        <a:lnTo>
                          <a:pt x="1180" y="3404"/>
                        </a:lnTo>
                        <a:lnTo>
                          <a:pt x="1175" y="3409"/>
                        </a:lnTo>
                        <a:lnTo>
                          <a:pt x="1165" y="3414"/>
                        </a:lnTo>
                        <a:lnTo>
                          <a:pt x="1155" y="3409"/>
                        </a:lnTo>
                        <a:lnTo>
                          <a:pt x="1165" y="3404"/>
                        </a:lnTo>
                        <a:lnTo>
                          <a:pt x="1191" y="3392"/>
                        </a:lnTo>
                        <a:lnTo>
                          <a:pt x="1227" y="3382"/>
                        </a:lnTo>
                        <a:lnTo>
                          <a:pt x="1269" y="3377"/>
                        </a:lnTo>
                        <a:lnTo>
                          <a:pt x="1305" y="3382"/>
                        </a:lnTo>
                        <a:lnTo>
                          <a:pt x="1320" y="3387"/>
                        </a:lnTo>
                        <a:lnTo>
                          <a:pt x="1337" y="3392"/>
                        </a:lnTo>
                        <a:lnTo>
                          <a:pt x="1347" y="3404"/>
                        </a:lnTo>
                        <a:lnTo>
                          <a:pt x="1357" y="3419"/>
                        </a:lnTo>
                        <a:lnTo>
                          <a:pt x="1357" y="3450"/>
                        </a:lnTo>
                        <a:lnTo>
                          <a:pt x="1352" y="3487"/>
                        </a:lnTo>
                        <a:lnTo>
                          <a:pt x="1342" y="3517"/>
                        </a:lnTo>
                        <a:lnTo>
                          <a:pt x="1326" y="3544"/>
                        </a:lnTo>
                        <a:lnTo>
                          <a:pt x="1290" y="3591"/>
                        </a:lnTo>
                        <a:lnTo>
                          <a:pt x="1274" y="3612"/>
                        </a:lnTo>
                        <a:lnTo>
                          <a:pt x="1315" y="3596"/>
                        </a:lnTo>
                        <a:lnTo>
                          <a:pt x="1409" y="3570"/>
                        </a:lnTo>
                        <a:lnTo>
                          <a:pt x="1456" y="3559"/>
                        </a:lnTo>
                        <a:lnTo>
                          <a:pt x="1503" y="3549"/>
                        </a:lnTo>
                        <a:lnTo>
                          <a:pt x="1534" y="3549"/>
                        </a:lnTo>
                        <a:lnTo>
                          <a:pt x="1550" y="3554"/>
                        </a:lnTo>
                        <a:lnTo>
                          <a:pt x="1555" y="3559"/>
                        </a:lnTo>
                        <a:lnTo>
                          <a:pt x="1560" y="3570"/>
                        </a:lnTo>
                        <a:lnTo>
                          <a:pt x="1560" y="3586"/>
                        </a:lnTo>
                        <a:lnTo>
                          <a:pt x="1555" y="3606"/>
                        </a:lnTo>
                        <a:lnTo>
                          <a:pt x="1550" y="3617"/>
                        </a:lnTo>
                        <a:lnTo>
                          <a:pt x="1544" y="3622"/>
                        </a:lnTo>
                        <a:lnTo>
                          <a:pt x="1565" y="3612"/>
                        </a:lnTo>
                        <a:lnTo>
                          <a:pt x="1622" y="3581"/>
                        </a:lnTo>
                        <a:lnTo>
                          <a:pt x="1659" y="3570"/>
                        </a:lnTo>
                        <a:lnTo>
                          <a:pt x="1695" y="3559"/>
                        </a:lnTo>
                        <a:lnTo>
                          <a:pt x="1737" y="3559"/>
                        </a:lnTo>
                        <a:lnTo>
                          <a:pt x="1779" y="3564"/>
                        </a:lnTo>
                        <a:lnTo>
                          <a:pt x="1799" y="3575"/>
                        </a:lnTo>
                        <a:lnTo>
                          <a:pt x="1814" y="3586"/>
                        </a:lnTo>
                        <a:lnTo>
                          <a:pt x="1856" y="3622"/>
                        </a:lnTo>
                        <a:lnTo>
                          <a:pt x="1898" y="3669"/>
                        </a:lnTo>
                        <a:lnTo>
                          <a:pt x="1929" y="3731"/>
                        </a:lnTo>
                        <a:lnTo>
                          <a:pt x="1951" y="3794"/>
                        </a:lnTo>
                        <a:lnTo>
                          <a:pt x="1956" y="3824"/>
                        </a:lnTo>
                        <a:lnTo>
                          <a:pt x="1961" y="3861"/>
                        </a:lnTo>
                        <a:lnTo>
                          <a:pt x="1956" y="3893"/>
                        </a:lnTo>
                        <a:lnTo>
                          <a:pt x="1951" y="3929"/>
                        </a:lnTo>
                        <a:lnTo>
                          <a:pt x="1939" y="3961"/>
                        </a:lnTo>
                        <a:lnTo>
                          <a:pt x="1924" y="3991"/>
                        </a:lnTo>
                        <a:lnTo>
                          <a:pt x="2116" y="3893"/>
                        </a:lnTo>
                        <a:lnTo>
                          <a:pt x="2106" y="3971"/>
                        </a:lnTo>
                        <a:lnTo>
                          <a:pt x="2132" y="3949"/>
                        </a:lnTo>
                        <a:lnTo>
                          <a:pt x="2189" y="3903"/>
                        </a:lnTo>
                        <a:lnTo>
                          <a:pt x="2226" y="3882"/>
                        </a:lnTo>
                        <a:lnTo>
                          <a:pt x="2257" y="3866"/>
                        </a:lnTo>
                        <a:lnTo>
                          <a:pt x="2268" y="3866"/>
                        </a:lnTo>
                        <a:lnTo>
                          <a:pt x="2283" y="3866"/>
                        </a:lnTo>
                        <a:lnTo>
                          <a:pt x="2293" y="3872"/>
                        </a:lnTo>
                        <a:lnTo>
                          <a:pt x="2303" y="3882"/>
                        </a:lnTo>
                        <a:lnTo>
                          <a:pt x="2314" y="3903"/>
                        </a:lnTo>
                        <a:lnTo>
                          <a:pt x="2314" y="3919"/>
                        </a:lnTo>
                        <a:lnTo>
                          <a:pt x="2308" y="3929"/>
                        </a:lnTo>
                        <a:lnTo>
                          <a:pt x="2298" y="3934"/>
                        </a:lnTo>
                        <a:lnTo>
                          <a:pt x="2278" y="3944"/>
                        </a:lnTo>
                        <a:lnTo>
                          <a:pt x="2268" y="3944"/>
                        </a:lnTo>
                        <a:lnTo>
                          <a:pt x="2548" y="3789"/>
                        </a:lnTo>
                        <a:lnTo>
                          <a:pt x="2574" y="3914"/>
                        </a:lnTo>
                        <a:lnTo>
                          <a:pt x="2595" y="3887"/>
                        </a:lnTo>
                        <a:lnTo>
                          <a:pt x="2620" y="3861"/>
                        </a:lnTo>
                        <a:lnTo>
                          <a:pt x="2652" y="3836"/>
                        </a:lnTo>
                        <a:lnTo>
                          <a:pt x="2688" y="3809"/>
                        </a:lnTo>
                        <a:lnTo>
                          <a:pt x="2709" y="3804"/>
                        </a:lnTo>
                        <a:lnTo>
                          <a:pt x="2725" y="3799"/>
                        </a:lnTo>
                        <a:lnTo>
                          <a:pt x="2745" y="3799"/>
                        </a:lnTo>
                        <a:lnTo>
                          <a:pt x="2767" y="3804"/>
                        </a:lnTo>
                        <a:lnTo>
                          <a:pt x="2782" y="3809"/>
                        </a:lnTo>
                        <a:lnTo>
                          <a:pt x="2803" y="3824"/>
                        </a:lnTo>
                        <a:lnTo>
                          <a:pt x="2814" y="3846"/>
                        </a:lnTo>
                        <a:lnTo>
                          <a:pt x="2829" y="3866"/>
                        </a:lnTo>
                        <a:lnTo>
                          <a:pt x="2844" y="3914"/>
                        </a:lnTo>
                        <a:lnTo>
                          <a:pt x="2850" y="3961"/>
                        </a:lnTo>
                        <a:lnTo>
                          <a:pt x="2844" y="4002"/>
                        </a:lnTo>
                        <a:lnTo>
                          <a:pt x="2839" y="4044"/>
                        </a:lnTo>
                        <a:lnTo>
                          <a:pt x="2829" y="4075"/>
                        </a:lnTo>
                        <a:lnTo>
                          <a:pt x="2819" y="4106"/>
                        </a:lnTo>
                        <a:lnTo>
                          <a:pt x="3074" y="3903"/>
                        </a:lnTo>
                        <a:lnTo>
                          <a:pt x="3099" y="3991"/>
                        </a:lnTo>
                        <a:lnTo>
                          <a:pt x="3286" y="3726"/>
                        </a:lnTo>
                        <a:lnTo>
                          <a:pt x="3307" y="3804"/>
                        </a:lnTo>
                        <a:lnTo>
                          <a:pt x="3338" y="3757"/>
                        </a:lnTo>
                        <a:lnTo>
                          <a:pt x="3411" y="3654"/>
                        </a:lnTo>
                        <a:lnTo>
                          <a:pt x="3453" y="3591"/>
                        </a:lnTo>
                        <a:lnTo>
                          <a:pt x="3489" y="3523"/>
                        </a:lnTo>
                        <a:lnTo>
                          <a:pt x="3521" y="3466"/>
                        </a:lnTo>
                        <a:lnTo>
                          <a:pt x="3541" y="3419"/>
                        </a:lnTo>
                        <a:lnTo>
                          <a:pt x="3551" y="3529"/>
                        </a:lnTo>
                        <a:lnTo>
                          <a:pt x="3562" y="3507"/>
                        </a:lnTo>
                        <a:lnTo>
                          <a:pt x="3593" y="3455"/>
                        </a:lnTo>
                        <a:lnTo>
                          <a:pt x="3635" y="3372"/>
                        </a:lnTo>
                        <a:lnTo>
                          <a:pt x="3650" y="3325"/>
                        </a:lnTo>
                        <a:lnTo>
                          <a:pt x="3666" y="3274"/>
                        </a:lnTo>
                        <a:lnTo>
                          <a:pt x="3692" y="3180"/>
                        </a:lnTo>
                        <a:lnTo>
                          <a:pt x="3723" y="3102"/>
                        </a:lnTo>
                        <a:lnTo>
                          <a:pt x="3760" y="3023"/>
                        </a:lnTo>
                        <a:lnTo>
                          <a:pt x="3807" y="3117"/>
                        </a:lnTo>
                        <a:lnTo>
                          <a:pt x="3832" y="3080"/>
                        </a:lnTo>
                        <a:lnTo>
                          <a:pt x="3858" y="3039"/>
                        </a:lnTo>
                        <a:lnTo>
                          <a:pt x="3890" y="2977"/>
                        </a:lnTo>
                        <a:lnTo>
                          <a:pt x="3920" y="2898"/>
                        </a:lnTo>
                        <a:lnTo>
                          <a:pt x="3947" y="2805"/>
                        </a:lnTo>
                        <a:lnTo>
                          <a:pt x="3952" y="2753"/>
                        </a:lnTo>
                        <a:lnTo>
                          <a:pt x="3957" y="2695"/>
                        </a:lnTo>
                        <a:lnTo>
                          <a:pt x="3962" y="2633"/>
                        </a:lnTo>
                        <a:lnTo>
                          <a:pt x="3957" y="2565"/>
                        </a:lnTo>
                        <a:lnTo>
                          <a:pt x="3942" y="2410"/>
                        </a:lnTo>
                        <a:lnTo>
                          <a:pt x="3915" y="2222"/>
                        </a:lnTo>
                        <a:lnTo>
                          <a:pt x="3885" y="2019"/>
                        </a:lnTo>
                        <a:lnTo>
                          <a:pt x="3853" y="1821"/>
                        </a:lnTo>
                        <a:lnTo>
                          <a:pt x="3791" y="1483"/>
                        </a:lnTo>
                        <a:lnTo>
                          <a:pt x="3760" y="1342"/>
                        </a:lnTo>
                        <a:lnTo>
                          <a:pt x="3728" y="1327"/>
                        </a:lnTo>
                        <a:lnTo>
                          <a:pt x="3692" y="1306"/>
                        </a:lnTo>
                        <a:lnTo>
                          <a:pt x="3640" y="1269"/>
                        </a:lnTo>
                        <a:lnTo>
                          <a:pt x="3583" y="1227"/>
                        </a:lnTo>
                        <a:lnTo>
                          <a:pt x="3521" y="1165"/>
                        </a:lnTo>
                        <a:lnTo>
                          <a:pt x="3448" y="1092"/>
                        </a:lnTo>
                        <a:lnTo>
                          <a:pt x="3375" y="1004"/>
                        </a:lnTo>
                        <a:lnTo>
                          <a:pt x="3209" y="770"/>
                        </a:lnTo>
                        <a:lnTo>
                          <a:pt x="3109" y="629"/>
                        </a:lnTo>
                        <a:lnTo>
                          <a:pt x="3001" y="488"/>
                        </a:lnTo>
                        <a:lnTo>
                          <a:pt x="2881" y="348"/>
                        </a:lnTo>
                        <a:lnTo>
                          <a:pt x="2824" y="285"/>
                        </a:lnTo>
                        <a:lnTo>
                          <a:pt x="2762" y="223"/>
                        </a:lnTo>
                        <a:lnTo>
                          <a:pt x="2699" y="166"/>
                        </a:lnTo>
                        <a:lnTo>
                          <a:pt x="2632" y="120"/>
                        </a:lnTo>
                        <a:lnTo>
                          <a:pt x="2569" y="72"/>
                        </a:lnTo>
                        <a:lnTo>
                          <a:pt x="2501" y="36"/>
                        </a:lnTo>
                        <a:lnTo>
                          <a:pt x="2532" y="113"/>
                        </a:lnTo>
                        <a:lnTo>
                          <a:pt x="2485" y="88"/>
                        </a:lnTo>
                        <a:lnTo>
                          <a:pt x="2433" y="67"/>
                        </a:lnTo>
                        <a:lnTo>
                          <a:pt x="2371" y="46"/>
                        </a:lnTo>
                        <a:lnTo>
                          <a:pt x="2298" y="20"/>
                        </a:lnTo>
                        <a:lnTo>
                          <a:pt x="2221" y="5"/>
                        </a:lnTo>
                        <a:lnTo>
                          <a:pt x="2148" y="0"/>
                        </a:lnTo>
                        <a:lnTo>
                          <a:pt x="2116" y="0"/>
                        </a:lnTo>
                        <a:lnTo>
                          <a:pt x="2080" y="5"/>
                        </a:lnTo>
                        <a:lnTo>
                          <a:pt x="2184" y="108"/>
                        </a:lnTo>
                        <a:lnTo>
                          <a:pt x="2002" y="93"/>
                        </a:lnTo>
                        <a:lnTo>
                          <a:pt x="1841" y="88"/>
                        </a:lnTo>
                        <a:lnTo>
                          <a:pt x="1768" y="88"/>
                        </a:lnTo>
                        <a:lnTo>
                          <a:pt x="1711" y="98"/>
                        </a:lnTo>
                        <a:lnTo>
                          <a:pt x="1804" y="140"/>
                        </a:lnTo>
                        <a:lnTo>
                          <a:pt x="1679" y="140"/>
                        </a:lnTo>
                        <a:lnTo>
                          <a:pt x="1565" y="150"/>
                        </a:lnTo>
                        <a:lnTo>
                          <a:pt x="1513" y="155"/>
                        </a:lnTo>
                        <a:lnTo>
                          <a:pt x="1467" y="166"/>
                        </a:lnTo>
                        <a:lnTo>
                          <a:pt x="1503" y="250"/>
                        </a:lnTo>
                        <a:lnTo>
                          <a:pt x="1373" y="260"/>
                        </a:lnTo>
                        <a:lnTo>
                          <a:pt x="1258" y="270"/>
                        </a:lnTo>
                        <a:lnTo>
                          <a:pt x="1201" y="280"/>
                        </a:lnTo>
                        <a:lnTo>
                          <a:pt x="1150" y="296"/>
                        </a:lnTo>
                        <a:lnTo>
                          <a:pt x="1232" y="353"/>
                        </a:lnTo>
                        <a:lnTo>
                          <a:pt x="1248" y="369"/>
                        </a:lnTo>
                        <a:lnTo>
                          <a:pt x="1263" y="390"/>
                        </a:lnTo>
                        <a:lnTo>
                          <a:pt x="1285" y="415"/>
                        </a:lnTo>
                        <a:lnTo>
                          <a:pt x="1300" y="452"/>
                        </a:lnTo>
                        <a:lnTo>
                          <a:pt x="1310" y="488"/>
                        </a:lnTo>
                        <a:lnTo>
                          <a:pt x="1310" y="535"/>
                        </a:lnTo>
                        <a:lnTo>
                          <a:pt x="1305" y="562"/>
                        </a:lnTo>
                        <a:lnTo>
                          <a:pt x="1300" y="587"/>
                        </a:lnTo>
                        <a:lnTo>
                          <a:pt x="1180" y="577"/>
                        </a:lnTo>
                        <a:lnTo>
                          <a:pt x="1269" y="645"/>
                        </a:lnTo>
                        <a:lnTo>
                          <a:pt x="1332" y="697"/>
                        </a:lnTo>
                        <a:lnTo>
                          <a:pt x="1357" y="723"/>
                        </a:lnTo>
                        <a:lnTo>
                          <a:pt x="1368" y="744"/>
                        </a:lnTo>
                        <a:lnTo>
                          <a:pt x="1368" y="754"/>
                        </a:lnTo>
                        <a:lnTo>
                          <a:pt x="1368" y="759"/>
                        </a:lnTo>
                        <a:lnTo>
                          <a:pt x="1352" y="764"/>
                        </a:lnTo>
                        <a:lnTo>
                          <a:pt x="1332" y="770"/>
                        </a:lnTo>
                        <a:lnTo>
                          <a:pt x="1305" y="764"/>
                        </a:lnTo>
                        <a:lnTo>
                          <a:pt x="1258" y="759"/>
                        </a:lnTo>
                        <a:lnTo>
                          <a:pt x="1232" y="754"/>
                        </a:lnTo>
                        <a:lnTo>
                          <a:pt x="1285" y="884"/>
                        </a:lnTo>
                        <a:lnTo>
                          <a:pt x="1160" y="894"/>
                        </a:lnTo>
                        <a:lnTo>
                          <a:pt x="1056" y="910"/>
                        </a:lnTo>
                        <a:lnTo>
                          <a:pt x="968" y="926"/>
                        </a:lnTo>
                        <a:lnTo>
                          <a:pt x="983" y="931"/>
                        </a:lnTo>
                        <a:lnTo>
                          <a:pt x="1019" y="952"/>
                        </a:lnTo>
                        <a:lnTo>
                          <a:pt x="1035" y="962"/>
                        </a:lnTo>
                        <a:lnTo>
                          <a:pt x="1050" y="977"/>
                        </a:lnTo>
                        <a:lnTo>
                          <a:pt x="1061" y="994"/>
                        </a:lnTo>
                        <a:lnTo>
                          <a:pt x="1071" y="1014"/>
                        </a:lnTo>
                        <a:lnTo>
                          <a:pt x="1066" y="1019"/>
                        </a:lnTo>
                        <a:lnTo>
                          <a:pt x="1061" y="1030"/>
                        </a:lnTo>
                        <a:lnTo>
                          <a:pt x="1035" y="1040"/>
                        </a:lnTo>
                        <a:lnTo>
                          <a:pt x="998" y="1051"/>
                        </a:lnTo>
                        <a:lnTo>
                          <a:pt x="951" y="1061"/>
                        </a:lnTo>
                        <a:lnTo>
                          <a:pt x="873" y="1072"/>
                        </a:lnTo>
                        <a:lnTo>
                          <a:pt x="838" y="1072"/>
                        </a:lnTo>
                        <a:lnTo>
                          <a:pt x="926" y="1139"/>
                        </a:lnTo>
                        <a:lnTo>
                          <a:pt x="936" y="1155"/>
                        </a:lnTo>
                        <a:lnTo>
                          <a:pt x="941" y="1171"/>
                        </a:lnTo>
                        <a:lnTo>
                          <a:pt x="941" y="1197"/>
                        </a:lnTo>
                        <a:lnTo>
                          <a:pt x="941" y="1222"/>
                        </a:lnTo>
                        <a:lnTo>
                          <a:pt x="926" y="1249"/>
                        </a:lnTo>
                        <a:lnTo>
                          <a:pt x="900" y="1279"/>
                        </a:lnTo>
                        <a:lnTo>
                          <a:pt x="863" y="1306"/>
                        </a:lnTo>
                        <a:lnTo>
                          <a:pt x="879" y="1311"/>
                        </a:lnTo>
                        <a:lnTo>
                          <a:pt x="894" y="1316"/>
                        </a:lnTo>
                        <a:lnTo>
                          <a:pt x="915" y="1327"/>
                        </a:lnTo>
                        <a:lnTo>
                          <a:pt x="931" y="1337"/>
                        </a:lnTo>
                        <a:lnTo>
                          <a:pt x="941" y="1358"/>
                        </a:lnTo>
                        <a:lnTo>
                          <a:pt x="941" y="1379"/>
                        </a:lnTo>
                        <a:lnTo>
                          <a:pt x="936" y="1409"/>
                        </a:lnTo>
                        <a:lnTo>
                          <a:pt x="921" y="1436"/>
                        </a:lnTo>
                        <a:lnTo>
                          <a:pt x="900" y="1462"/>
                        </a:lnTo>
                        <a:lnTo>
                          <a:pt x="879" y="1477"/>
                        </a:lnTo>
                        <a:lnTo>
                          <a:pt x="858" y="1488"/>
                        </a:lnTo>
                        <a:lnTo>
                          <a:pt x="821" y="1499"/>
                        </a:lnTo>
                        <a:lnTo>
                          <a:pt x="806" y="1499"/>
                        </a:lnTo>
                        <a:lnTo>
                          <a:pt x="821" y="1509"/>
                        </a:lnTo>
                        <a:lnTo>
                          <a:pt x="858" y="1524"/>
                        </a:lnTo>
                        <a:lnTo>
                          <a:pt x="873" y="1539"/>
                        </a:lnTo>
                        <a:lnTo>
                          <a:pt x="889" y="1556"/>
                        </a:lnTo>
                        <a:lnTo>
                          <a:pt x="894" y="1571"/>
                        </a:lnTo>
                        <a:lnTo>
                          <a:pt x="884" y="1592"/>
                        </a:lnTo>
                        <a:lnTo>
                          <a:pt x="868" y="1613"/>
                        </a:lnTo>
                        <a:lnTo>
                          <a:pt x="838" y="1623"/>
                        </a:lnTo>
                        <a:lnTo>
                          <a:pt x="806" y="1639"/>
                        </a:lnTo>
                        <a:lnTo>
                          <a:pt x="769" y="1649"/>
                        </a:lnTo>
                        <a:lnTo>
                          <a:pt x="713" y="1659"/>
                        </a:lnTo>
                        <a:lnTo>
                          <a:pt x="686" y="1664"/>
                        </a:lnTo>
                        <a:lnTo>
                          <a:pt x="702" y="1676"/>
                        </a:lnTo>
                        <a:lnTo>
                          <a:pt x="738" y="1701"/>
                        </a:lnTo>
                        <a:lnTo>
                          <a:pt x="754" y="1717"/>
                        </a:lnTo>
                        <a:lnTo>
                          <a:pt x="759" y="1728"/>
                        </a:lnTo>
                        <a:lnTo>
                          <a:pt x="759" y="1738"/>
                        </a:lnTo>
                        <a:lnTo>
                          <a:pt x="754" y="1743"/>
                        </a:lnTo>
                        <a:lnTo>
                          <a:pt x="733" y="1753"/>
                        </a:lnTo>
                        <a:lnTo>
                          <a:pt x="666" y="1779"/>
                        </a:lnTo>
                        <a:lnTo>
                          <a:pt x="588" y="1806"/>
                        </a:lnTo>
                        <a:lnTo>
                          <a:pt x="499" y="1847"/>
                        </a:lnTo>
                        <a:lnTo>
                          <a:pt x="531" y="1847"/>
                        </a:lnTo>
                        <a:lnTo>
                          <a:pt x="593" y="1858"/>
                        </a:lnTo>
                        <a:lnTo>
                          <a:pt x="629" y="1868"/>
                        </a:lnTo>
                        <a:lnTo>
                          <a:pt x="666" y="1883"/>
                        </a:lnTo>
                        <a:lnTo>
                          <a:pt x="691" y="1904"/>
                        </a:lnTo>
                        <a:lnTo>
                          <a:pt x="697" y="1915"/>
                        </a:lnTo>
                        <a:lnTo>
                          <a:pt x="702" y="1931"/>
                        </a:lnTo>
                        <a:lnTo>
                          <a:pt x="702" y="1961"/>
                        </a:lnTo>
                        <a:lnTo>
                          <a:pt x="691" y="1993"/>
                        </a:lnTo>
                        <a:lnTo>
                          <a:pt x="676" y="2024"/>
                        </a:lnTo>
                        <a:lnTo>
                          <a:pt x="656" y="2055"/>
                        </a:lnTo>
                        <a:lnTo>
                          <a:pt x="629" y="2081"/>
                        </a:lnTo>
                        <a:lnTo>
                          <a:pt x="609" y="2103"/>
                        </a:lnTo>
                        <a:lnTo>
                          <a:pt x="582" y="2123"/>
                        </a:lnTo>
                        <a:lnTo>
                          <a:pt x="562" y="2128"/>
                        </a:lnTo>
                        <a:lnTo>
                          <a:pt x="551" y="2133"/>
                        </a:lnTo>
                        <a:lnTo>
                          <a:pt x="551" y="2138"/>
                        </a:lnTo>
                        <a:lnTo>
                          <a:pt x="582" y="2149"/>
                        </a:lnTo>
                        <a:lnTo>
                          <a:pt x="598" y="2154"/>
                        </a:lnTo>
                        <a:lnTo>
                          <a:pt x="619" y="2165"/>
                        </a:lnTo>
                        <a:lnTo>
                          <a:pt x="629" y="2175"/>
                        </a:lnTo>
                        <a:lnTo>
                          <a:pt x="634" y="2191"/>
                        </a:lnTo>
                        <a:lnTo>
                          <a:pt x="624" y="2211"/>
                        </a:lnTo>
                        <a:lnTo>
                          <a:pt x="614" y="2233"/>
                        </a:lnTo>
                        <a:lnTo>
                          <a:pt x="593" y="2248"/>
                        </a:lnTo>
                        <a:lnTo>
                          <a:pt x="567" y="2263"/>
                        </a:lnTo>
                        <a:lnTo>
                          <a:pt x="526" y="2285"/>
                        </a:lnTo>
                        <a:lnTo>
                          <a:pt x="504" y="2295"/>
                        </a:lnTo>
                        <a:lnTo>
                          <a:pt x="531" y="2295"/>
                        </a:lnTo>
                        <a:lnTo>
                          <a:pt x="582" y="2305"/>
                        </a:lnTo>
                        <a:lnTo>
                          <a:pt x="603" y="2315"/>
                        </a:lnTo>
                        <a:lnTo>
                          <a:pt x="624" y="2326"/>
                        </a:lnTo>
                        <a:lnTo>
                          <a:pt x="629" y="2336"/>
                        </a:lnTo>
                        <a:lnTo>
                          <a:pt x="629" y="2341"/>
                        </a:lnTo>
                        <a:lnTo>
                          <a:pt x="629" y="2352"/>
                        </a:lnTo>
                        <a:lnTo>
                          <a:pt x="624" y="2363"/>
                        </a:lnTo>
                        <a:lnTo>
                          <a:pt x="603" y="2388"/>
                        </a:lnTo>
                        <a:lnTo>
                          <a:pt x="577" y="2398"/>
                        </a:lnTo>
                        <a:lnTo>
                          <a:pt x="556" y="2410"/>
                        </a:lnTo>
                        <a:lnTo>
                          <a:pt x="531" y="2420"/>
                        </a:lnTo>
                        <a:lnTo>
                          <a:pt x="489" y="2420"/>
                        </a:lnTo>
                        <a:lnTo>
                          <a:pt x="468" y="2420"/>
                        </a:lnTo>
                        <a:lnTo>
                          <a:pt x="484" y="2425"/>
                        </a:lnTo>
                        <a:lnTo>
                          <a:pt x="514" y="2430"/>
                        </a:lnTo>
                        <a:lnTo>
                          <a:pt x="526" y="2440"/>
                        </a:lnTo>
                        <a:lnTo>
                          <a:pt x="536" y="2451"/>
                        </a:lnTo>
                        <a:lnTo>
                          <a:pt x="536" y="2461"/>
                        </a:lnTo>
                        <a:lnTo>
                          <a:pt x="531" y="2477"/>
                        </a:lnTo>
                        <a:lnTo>
                          <a:pt x="509" y="2498"/>
                        </a:lnTo>
                        <a:lnTo>
                          <a:pt x="479" y="2518"/>
                        </a:lnTo>
                        <a:lnTo>
                          <a:pt x="400" y="2565"/>
                        </a:lnTo>
                        <a:lnTo>
                          <a:pt x="297" y="2617"/>
                        </a:lnTo>
                        <a:lnTo>
                          <a:pt x="317" y="2623"/>
                        </a:lnTo>
                        <a:lnTo>
                          <a:pt x="364" y="2633"/>
                        </a:lnTo>
                        <a:lnTo>
                          <a:pt x="379" y="2643"/>
                        </a:lnTo>
                        <a:lnTo>
                          <a:pt x="390" y="2654"/>
                        </a:lnTo>
                        <a:lnTo>
                          <a:pt x="395" y="2659"/>
                        </a:lnTo>
                        <a:lnTo>
                          <a:pt x="395" y="2665"/>
                        </a:lnTo>
                        <a:lnTo>
                          <a:pt x="379" y="2680"/>
                        </a:lnTo>
                        <a:lnTo>
                          <a:pt x="317" y="2711"/>
                        </a:lnTo>
                        <a:lnTo>
                          <a:pt x="250" y="2737"/>
                        </a:lnTo>
                        <a:lnTo>
                          <a:pt x="162" y="2763"/>
                        </a:lnTo>
                        <a:lnTo>
                          <a:pt x="182" y="2779"/>
                        </a:lnTo>
                        <a:lnTo>
                          <a:pt x="213" y="2810"/>
                        </a:lnTo>
                        <a:lnTo>
                          <a:pt x="229" y="2825"/>
                        </a:lnTo>
                        <a:lnTo>
                          <a:pt x="234" y="2847"/>
                        </a:lnTo>
                        <a:lnTo>
                          <a:pt x="234" y="2852"/>
                        </a:lnTo>
                        <a:lnTo>
                          <a:pt x="234" y="2862"/>
                        </a:lnTo>
                        <a:lnTo>
                          <a:pt x="229" y="2867"/>
                        </a:lnTo>
                        <a:lnTo>
                          <a:pt x="219" y="2872"/>
                        </a:lnTo>
                        <a:lnTo>
                          <a:pt x="187" y="2893"/>
                        </a:lnTo>
                        <a:lnTo>
                          <a:pt x="156" y="2919"/>
                        </a:lnTo>
                        <a:lnTo>
                          <a:pt x="83" y="2982"/>
                        </a:lnTo>
                        <a:lnTo>
                          <a:pt x="0" y="3065"/>
                        </a:lnTo>
                        <a:close/>
                      </a:path>
                    </a:pathLst>
                  </a:cu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未知"/>
                  <p:cNvSpPr/>
                  <p:nvPr/>
                </p:nvSpPr>
                <p:spPr>
                  <a:xfrm rot="7164000">
                    <a:off x="219600" y="553680"/>
                    <a:ext cx="33084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364" h="1941">
                        <a:moveTo>
                          <a:pt x="0" y="1941"/>
                        </a:moveTo>
                        <a:lnTo>
                          <a:pt x="141" y="1936"/>
                        </a:lnTo>
                        <a:lnTo>
                          <a:pt x="463" y="1916"/>
                        </a:lnTo>
                        <a:lnTo>
                          <a:pt x="655" y="1899"/>
                        </a:lnTo>
                        <a:lnTo>
                          <a:pt x="842" y="1874"/>
                        </a:lnTo>
                        <a:lnTo>
                          <a:pt x="1014" y="1848"/>
                        </a:lnTo>
                        <a:lnTo>
                          <a:pt x="1087" y="1837"/>
                        </a:lnTo>
                        <a:lnTo>
                          <a:pt x="1149" y="1822"/>
                        </a:lnTo>
                        <a:lnTo>
                          <a:pt x="1311" y="1775"/>
                        </a:lnTo>
                        <a:lnTo>
                          <a:pt x="1550" y="1717"/>
                        </a:lnTo>
                        <a:lnTo>
                          <a:pt x="1846" y="1644"/>
                        </a:lnTo>
                        <a:lnTo>
                          <a:pt x="2179" y="1551"/>
                        </a:lnTo>
                        <a:lnTo>
                          <a:pt x="2346" y="1499"/>
                        </a:lnTo>
                        <a:lnTo>
                          <a:pt x="2517" y="1442"/>
                        </a:lnTo>
                        <a:lnTo>
                          <a:pt x="2683" y="1379"/>
                        </a:lnTo>
                        <a:lnTo>
                          <a:pt x="2845" y="1312"/>
                        </a:lnTo>
                        <a:lnTo>
                          <a:pt x="2995" y="1244"/>
                        </a:lnTo>
                        <a:lnTo>
                          <a:pt x="3135" y="1172"/>
                        </a:lnTo>
                        <a:lnTo>
                          <a:pt x="3260" y="1093"/>
                        </a:lnTo>
                        <a:lnTo>
                          <a:pt x="3317" y="1052"/>
                        </a:lnTo>
                        <a:lnTo>
                          <a:pt x="3364" y="1010"/>
                        </a:lnTo>
                        <a:lnTo>
                          <a:pt x="3235" y="432"/>
                        </a:lnTo>
                        <a:lnTo>
                          <a:pt x="3177" y="380"/>
                        </a:lnTo>
                        <a:lnTo>
                          <a:pt x="3053" y="266"/>
                        </a:lnTo>
                        <a:lnTo>
                          <a:pt x="2975" y="198"/>
                        </a:lnTo>
                        <a:lnTo>
                          <a:pt x="2907" y="125"/>
                        </a:lnTo>
                        <a:lnTo>
                          <a:pt x="2845" y="58"/>
                        </a:lnTo>
                        <a:lnTo>
                          <a:pt x="2803" y="0"/>
                        </a:lnTo>
                        <a:lnTo>
                          <a:pt x="2704" y="52"/>
                        </a:lnTo>
                        <a:lnTo>
                          <a:pt x="2444" y="193"/>
                        </a:lnTo>
                        <a:lnTo>
                          <a:pt x="2064" y="401"/>
                        </a:lnTo>
                        <a:lnTo>
                          <a:pt x="1840" y="531"/>
                        </a:lnTo>
                        <a:lnTo>
                          <a:pt x="1612" y="672"/>
                        </a:lnTo>
                        <a:lnTo>
                          <a:pt x="1373" y="817"/>
                        </a:lnTo>
                        <a:lnTo>
                          <a:pt x="1134" y="973"/>
                        </a:lnTo>
                        <a:lnTo>
                          <a:pt x="900" y="1135"/>
                        </a:lnTo>
                        <a:lnTo>
                          <a:pt x="677" y="1296"/>
                        </a:lnTo>
                        <a:lnTo>
                          <a:pt x="468" y="1462"/>
                        </a:lnTo>
                        <a:lnTo>
                          <a:pt x="370" y="1546"/>
                        </a:lnTo>
                        <a:lnTo>
                          <a:pt x="281" y="1629"/>
                        </a:lnTo>
                        <a:lnTo>
                          <a:pt x="198" y="1707"/>
                        </a:lnTo>
                        <a:lnTo>
                          <a:pt x="125" y="1786"/>
                        </a:lnTo>
                        <a:lnTo>
                          <a:pt x="58" y="1864"/>
                        </a:lnTo>
                        <a:lnTo>
                          <a:pt x="0" y="194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未知"/>
                  <p:cNvSpPr/>
                  <p:nvPr/>
                </p:nvSpPr>
                <p:spPr>
                  <a:xfrm rot="7164000">
                    <a:off x="132840" y="587160"/>
                    <a:ext cx="481680" cy="27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888" h="2436">
                        <a:moveTo>
                          <a:pt x="0" y="2436"/>
                        </a:moveTo>
                        <a:lnTo>
                          <a:pt x="358" y="2296"/>
                        </a:lnTo>
                        <a:lnTo>
                          <a:pt x="1169" y="1968"/>
                        </a:lnTo>
                        <a:lnTo>
                          <a:pt x="1628" y="1786"/>
                        </a:lnTo>
                        <a:lnTo>
                          <a:pt x="2044" y="1609"/>
                        </a:lnTo>
                        <a:lnTo>
                          <a:pt x="2381" y="1457"/>
                        </a:lnTo>
                        <a:lnTo>
                          <a:pt x="2501" y="1400"/>
                        </a:lnTo>
                        <a:lnTo>
                          <a:pt x="2584" y="1359"/>
                        </a:lnTo>
                        <a:lnTo>
                          <a:pt x="2828" y="1213"/>
                        </a:lnTo>
                        <a:lnTo>
                          <a:pt x="3057" y="1083"/>
                        </a:lnTo>
                        <a:lnTo>
                          <a:pt x="3250" y="979"/>
                        </a:lnTo>
                        <a:lnTo>
                          <a:pt x="3322" y="942"/>
                        </a:lnTo>
                        <a:lnTo>
                          <a:pt x="3380" y="922"/>
                        </a:lnTo>
                        <a:lnTo>
                          <a:pt x="3469" y="885"/>
                        </a:lnTo>
                        <a:lnTo>
                          <a:pt x="3634" y="812"/>
                        </a:lnTo>
                        <a:lnTo>
                          <a:pt x="3853" y="708"/>
                        </a:lnTo>
                        <a:lnTo>
                          <a:pt x="4103" y="583"/>
                        </a:lnTo>
                        <a:lnTo>
                          <a:pt x="4352" y="458"/>
                        </a:lnTo>
                        <a:lnTo>
                          <a:pt x="4587" y="333"/>
                        </a:lnTo>
                        <a:lnTo>
                          <a:pt x="4685" y="276"/>
                        </a:lnTo>
                        <a:lnTo>
                          <a:pt x="4774" y="219"/>
                        </a:lnTo>
                        <a:lnTo>
                          <a:pt x="4841" y="172"/>
                        </a:lnTo>
                        <a:lnTo>
                          <a:pt x="4888" y="136"/>
                        </a:lnTo>
                        <a:lnTo>
                          <a:pt x="4888" y="115"/>
                        </a:lnTo>
                        <a:lnTo>
                          <a:pt x="4888" y="73"/>
                        </a:lnTo>
                        <a:lnTo>
                          <a:pt x="4882" y="47"/>
                        </a:lnTo>
                        <a:lnTo>
                          <a:pt x="4877" y="26"/>
                        </a:lnTo>
                        <a:lnTo>
                          <a:pt x="4867" y="11"/>
                        </a:lnTo>
                        <a:lnTo>
                          <a:pt x="4846" y="0"/>
                        </a:lnTo>
                        <a:lnTo>
                          <a:pt x="4836" y="0"/>
                        </a:lnTo>
                        <a:lnTo>
                          <a:pt x="4826" y="6"/>
                        </a:lnTo>
                        <a:lnTo>
                          <a:pt x="4799" y="26"/>
                        </a:lnTo>
                        <a:lnTo>
                          <a:pt x="4727" y="109"/>
                        </a:lnTo>
                        <a:lnTo>
                          <a:pt x="4680" y="161"/>
                        </a:lnTo>
                        <a:lnTo>
                          <a:pt x="4628" y="219"/>
                        </a:lnTo>
                        <a:lnTo>
                          <a:pt x="4560" y="271"/>
                        </a:lnTo>
                        <a:lnTo>
                          <a:pt x="4524" y="297"/>
                        </a:lnTo>
                        <a:lnTo>
                          <a:pt x="4482" y="318"/>
                        </a:lnTo>
                        <a:lnTo>
                          <a:pt x="4233" y="443"/>
                        </a:lnTo>
                        <a:lnTo>
                          <a:pt x="3900" y="604"/>
                        </a:lnTo>
                        <a:lnTo>
                          <a:pt x="3593" y="745"/>
                        </a:lnTo>
                        <a:lnTo>
                          <a:pt x="3484" y="792"/>
                        </a:lnTo>
                        <a:lnTo>
                          <a:pt x="3422" y="817"/>
                        </a:lnTo>
                        <a:lnTo>
                          <a:pt x="3380" y="833"/>
                        </a:lnTo>
                        <a:lnTo>
                          <a:pt x="3317" y="864"/>
                        </a:lnTo>
                        <a:lnTo>
                          <a:pt x="3172" y="947"/>
                        </a:lnTo>
                        <a:lnTo>
                          <a:pt x="3010" y="1047"/>
                        </a:lnTo>
                        <a:lnTo>
                          <a:pt x="2875" y="1135"/>
                        </a:lnTo>
                        <a:lnTo>
                          <a:pt x="2730" y="1224"/>
                        </a:lnTo>
                        <a:lnTo>
                          <a:pt x="2533" y="1327"/>
                        </a:lnTo>
                        <a:lnTo>
                          <a:pt x="2329" y="1437"/>
                        </a:lnTo>
                        <a:lnTo>
                          <a:pt x="2152" y="1520"/>
                        </a:lnTo>
                        <a:lnTo>
                          <a:pt x="1726" y="1702"/>
                        </a:lnTo>
                        <a:lnTo>
                          <a:pt x="999" y="2014"/>
                        </a:lnTo>
                        <a:lnTo>
                          <a:pt x="0" y="243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" name="未知"/>
                  <p:cNvSpPr/>
                  <p:nvPr/>
                </p:nvSpPr>
                <p:spPr>
                  <a:xfrm rot="7164000">
                    <a:off x="325800" y="601560"/>
                    <a:ext cx="1566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97" h="240">
                        <a:moveTo>
                          <a:pt x="0" y="5"/>
                        </a:moveTo>
                        <a:lnTo>
                          <a:pt x="198" y="17"/>
                        </a:lnTo>
                        <a:lnTo>
                          <a:pt x="411" y="27"/>
                        </a:lnTo>
                        <a:lnTo>
                          <a:pt x="656" y="47"/>
                        </a:lnTo>
                        <a:lnTo>
                          <a:pt x="921" y="79"/>
                        </a:lnTo>
                        <a:lnTo>
                          <a:pt x="1051" y="95"/>
                        </a:lnTo>
                        <a:lnTo>
                          <a:pt x="1176" y="115"/>
                        </a:lnTo>
                        <a:lnTo>
                          <a:pt x="1285" y="142"/>
                        </a:lnTo>
                        <a:lnTo>
                          <a:pt x="1389" y="172"/>
                        </a:lnTo>
                        <a:lnTo>
                          <a:pt x="1472" y="204"/>
                        </a:lnTo>
                        <a:lnTo>
                          <a:pt x="1509" y="219"/>
                        </a:lnTo>
                        <a:lnTo>
                          <a:pt x="1540" y="240"/>
                        </a:lnTo>
                        <a:lnTo>
                          <a:pt x="1597" y="225"/>
                        </a:lnTo>
                        <a:lnTo>
                          <a:pt x="1571" y="214"/>
                        </a:lnTo>
                        <a:lnTo>
                          <a:pt x="1487" y="183"/>
                        </a:lnTo>
                        <a:lnTo>
                          <a:pt x="1358" y="142"/>
                        </a:lnTo>
                        <a:lnTo>
                          <a:pt x="1176" y="100"/>
                        </a:lnTo>
                        <a:lnTo>
                          <a:pt x="1067" y="73"/>
                        </a:lnTo>
                        <a:lnTo>
                          <a:pt x="947" y="53"/>
                        </a:lnTo>
                        <a:lnTo>
                          <a:pt x="811" y="37"/>
                        </a:lnTo>
                        <a:lnTo>
                          <a:pt x="671" y="22"/>
                        </a:lnTo>
                        <a:lnTo>
                          <a:pt x="521" y="11"/>
                        </a:lnTo>
                        <a:lnTo>
                          <a:pt x="354" y="0"/>
                        </a:lnTo>
                        <a:lnTo>
                          <a:pt x="18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6" name="未知"/>
                  <p:cNvSpPr/>
                  <p:nvPr/>
                </p:nvSpPr>
                <p:spPr>
                  <a:xfrm rot="7164000">
                    <a:off x="348480" y="646560"/>
                    <a:ext cx="2023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59" h="906">
                        <a:moveTo>
                          <a:pt x="0" y="427"/>
                        </a:moveTo>
                        <a:lnTo>
                          <a:pt x="141" y="448"/>
                        </a:lnTo>
                        <a:lnTo>
                          <a:pt x="463" y="505"/>
                        </a:lnTo>
                        <a:lnTo>
                          <a:pt x="640" y="542"/>
                        </a:lnTo>
                        <a:lnTo>
                          <a:pt x="806" y="578"/>
                        </a:lnTo>
                        <a:lnTo>
                          <a:pt x="879" y="599"/>
                        </a:lnTo>
                        <a:lnTo>
                          <a:pt x="941" y="619"/>
                        </a:lnTo>
                        <a:lnTo>
                          <a:pt x="989" y="641"/>
                        </a:lnTo>
                        <a:lnTo>
                          <a:pt x="1024" y="661"/>
                        </a:lnTo>
                        <a:lnTo>
                          <a:pt x="1061" y="677"/>
                        </a:lnTo>
                        <a:lnTo>
                          <a:pt x="1108" y="698"/>
                        </a:lnTo>
                        <a:lnTo>
                          <a:pt x="1171" y="719"/>
                        </a:lnTo>
                        <a:lnTo>
                          <a:pt x="1238" y="744"/>
                        </a:lnTo>
                        <a:lnTo>
                          <a:pt x="1404" y="781"/>
                        </a:lnTo>
                        <a:lnTo>
                          <a:pt x="1581" y="823"/>
                        </a:lnTo>
                        <a:lnTo>
                          <a:pt x="1893" y="879"/>
                        </a:lnTo>
                        <a:lnTo>
                          <a:pt x="2034" y="906"/>
                        </a:lnTo>
                        <a:lnTo>
                          <a:pt x="2059" y="854"/>
                        </a:lnTo>
                        <a:lnTo>
                          <a:pt x="1924" y="833"/>
                        </a:lnTo>
                        <a:lnTo>
                          <a:pt x="1623" y="781"/>
                        </a:lnTo>
                        <a:lnTo>
                          <a:pt x="1456" y="749"/>
                        </a:lnTo>
                        <a:lnTo>
                          <a:pt x="1295" y="714"/>
                        </a:lnTo>
                        <a:lnTo>
                          <a:pt x="1165" y="682"/>
                        </a:lnTo>
                        <a:lnTo>
                          <a:pt x="1118" y="666"/>
                        </a:lnTo>
                        <a:lnTo>
                          <a:pt x="1087" y="651"/>
                        </a:lnTo>
                        <a:lnTo>
                          <a:pt x="1056" y="630"/>
                        </a:lnTo>
                        <a:lnTo>
                          <a:pt x="1019" y="604"/>
                        </a:lnTo>
                        <a:lnTo>
                          <a:pt x="936" y="531"/>
                        </a:lnTo>
                        <a:lnTo>
                          <a:pt x="723" y="329"/>
                        </a:lnTo>
                        <a:lnTo>
                          <a:pt x="609" y="219"/>
                        </a:lnTo>
                        <a:lnTo>
                          <a:pt x="495" y="125"/>
                        </a:lnTo>
                        <a:lnTo>
                          <a:pt x="442" y="84"/>
                        </a:lnTo>
                        <a:lnTo>
                          <a:pt x="390" y="47"/>
                        </a:lnTo>
                        <a:lnTo>
                          <a:pt x="343" y="21"/>
                        </a:lnTo>
                        <a:lnTo>
                          <a:pt x="302" y="0"/>
                        </a:lnTo>
                        <a:lnTo>
                          <a:pt x="562" y="234"/>
                        </a:lnTo>
                        <a:lnTo>
                          <a:pt x="759" y="417"/>
                        </a:lnTo>
                        <a:lnTo>
                          <a:pt x="837" y="494"/>
                        </a:lnTo>
                        <a:lnTo>
                          <a:pt x="889" y="552"/>
                        </a:lnTo>
                        <a:lnTo>
                          <a:pt x="775" y="531"/>
                        </a:lnTo>
                        <a:lnTo>
                          <a:pt x="515" y="479"/>
                        </a:lnTo>
                        <a:lnTo>
                          <a:pt x="365" y="459"/>
                        </a:lnTo>
                        <a:lnTo>
                          <a:pt x="218" y="437"/>
                        </a:lnTo>
                        <a:lnTo>
                          <a:pt x="94" y="427"/>
                        </a:lnTo>
                        <a:lnTo>
                          <a:pt x="41" y="427"/>
                        </a:lnTo>
                        <a:lnTo>
                          <a:pt x="0" y="42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7" name="未知"/>
                  <p:cNvSpPr/>
                  <p:nvPr/>
                </p:nvSpPr>
                <p:spPr>
                  <a:xfrm rot="7164000">
                    <a:off x="361800" y="686160"/>
                    <a:ext cx="22320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7" h="1181">
                        <a:moveTo>
                          <a:pt x="0" y="286"/>
                        </a:moveTo>
                        <a:lnTo>
                          <a:pt x="156" y="339"/>
                        </a:lnTo>
                        <a:lnTo>
                          <a:pt x="514" y="469"/>
                        </a:lnTo>
                        <a:lnTo>
                          <a:pt x="712" y="546"/>
                        </a:lnTo>
                        <a:lnTo>
                          <a:pt x="900" y="624"/>
                        </a:lnTo>
                        <a:lnTo>
                          <a:pt x="1050" y="692"/>
                        </a:lnTo>
                        <a:lnTo>
                          <a:pt x="1107" y="724"/>
                        </a:lnTo>
                        <a:lnTo>
                          <a:pt x="1149" y="749"/>
                        </a:lnTo>
                        <a:lnTo>
                          <a:pt x="1107" y="776"/>
                        </a:lnTo>
                        <a:lnTo>
                          <a:pt x="1008" y="822"/>
                        </a:lnTo>
                        <a:lnTo>
                          <a:pt x="940" y="848"/>
                        </a:lnTo>
                        <a:lnTo>
                          <a:pt x="868" y="874"/>
                        </a:lnTo>
                        <a:lnTo>
                          <a:pt x="785" y="896"/>
                        </a:lnTo>
                        <a:lnTo>
                          <a:pt x="701" y="906"/>
                        </a:lnTo>
                        <a:lnTo>
                          <a:pt x="743" y="906"/>
                        </a:lnTo>
                        <a:lnTo>
                          <a:pt x="790" y="901"/>
                        </a:lnTo>
                        <a:lnTo>
                          <a:pt x="853" y="896"/>
                        </a:lnTo>
                        <a:lnTo>
                          <a:pt x="925" y="884"/>
                        </a:lnTo>
                        <a:lnTo>
                          <a:pt x="1008" y="864"/>
                        </a:lnTo>
                        <a:lnTo>
                          <a:pt x="1092" y="833"/>
                        </a:lnTo>
                        <a:lnTo>
                          <a:pt x="1170" y="796"/>
                        </a:lnTo>
                        <a:lnTo>
                          <a:pt x="1305" y="859"/>
                        </a:lnTo>
                        <a:lnTo>
                          <a:pt x="1617" y="989"/>
                        </a:lnTo>
                        <a:lnTo>
                          <a:pt x="1794" y="1061"/>
                        </a:lnTo>
                        <a:lnTo>
                          <a:pt x="1965" y="1124"/>
                        </a:lnTo>
                        <a:lnTo>
                          <a:pt x="2043" y="1145"/>
                        </a:lnTo>
                        <a:lnTo>
                          <a:pt x="2111" y="1166"/>
                        </a:lnTo>
                        <a:lnTo>
                          <a:pt x="2168" y="1176"/>
                        </a:lnTo>
                        <a:lnTo>
                          <a:pt x="2210" y="1181"/>
                        </a:lnTo>
                        <a:lnTo>
                          <a:pt x="2267" y="1161"/>
                        </a:lnTo>
                        <a:lnTo>
                          <a:pt x="2230" y="1156"/>
                        </a:lnTo>
                        <a:lnTo>
                          <a:pt x="2142" y="1124"/>
                        </a:lnTo>
                        <a:lnTo>
                          <a:pt x="2095" y="1109"/>
                        </a:lnTo>
                        <a:lnTo>
                          <a:pt x="2048" y="1088"/>
                        </a:lnTo>
                        <a:lnTo>
                          <a:pt x="2007" y="1061"/>
                        </a:lnTo>
                        <a:lnTo>
                          <a:pt x="1981" y="1041"/>
                        </a:lnTo>
                        <a:lnTo>
                          <a:pt x="1856" y="869"/>
                        </a:lnTo>
                        <a:lnTo>
                          <a:pt x="1746" y="724"/>
                        </a:lnTo>
                        <a:lnTo>
                          <a:pt x="1617" y="552"/>
                        </a:lnTo>
                        <a:lnTo>
                          <a:pt x="1471" y="380"/>
                        </a:lnTo>
                        <a:lnTo>
                          <a:pt x="1399" y="297"/>
                        </a:lnTo>
                        <a:lnTo>
                          <a:pt x="1326" y="219"/>
                        </a:lnTo>
                        <a:lnTo>
                          <a:pt x="1252" y="151"/>
                        </a:lnTo>
                        <a:lnTo>
                          <a:pt x="1180" y="89"/>
                        </a:lnTo>
                        <a:lnTo>
                          <a:pt x="1112" y="37"/>
                        </a:lnTo>
                        <a:lnTo>
                          <a:pt x="1050" y="0"/>
                        </a:lnTo>
                        <a:lnTo>
                          <a:pt x="1149" y="94"/>
                        </a:lnTo>
                        <a:lnTo>
                          <a:pt x="1247" y="192"/>
                        </a:lnTo>
                        <a:lnTo>
                          <a:pt x="1377" y="327"/>
                        </a:lnTo>
                        <a:lnTo>
                          <a:pt x="1513" y="484"/>
                        </a:lnTo>
                        <a:lnTo>
                          <a:pt x="1653" y="651"/>
                        </a:lnTo>
                        <a:lnTo>
                          <a:pt x="1716" y="739"/>
                        </a:lnTo>
                        <a:lnTo>
                          <a:pt x="1778" y="833"/>
                        </a:lnTo>
                        <a:lnTo>
                          <a:pt x="1835" y="921"/>
                        </a:lnTo>
                        <a:lnTo>
                          <a:pt x="1888" y="1015"/>
                        </a:lnTo>
                        <a:lnTo>
                          <a:pt x="1846" y="1009"/>
                        </a:lnTo>
                        <a:lnTo>
                          <a:pt x="1794" y="994"/>
                        </a:lnTo>
                        <a:lnTo>
                          <a:pt x="1706" y="963"/>
                        </a:lnTo>
                        <a:lnTo>
                          <a:pt x="1591" y="916"/>
                        </a:lnTo>
                        <a:lnTo>
                          <a:pt x="1435" y="848"/>
                        </a:lnTo>
                        <a:lnTo>
                          <a:pt x="1242" y="749"/>
                        </a:lnTo>
                        <a:lnTo>
                          <a:pt x="1003" y="614"/>
                        </a:lnTo>
                        <a:lnTo>
                          <a:pt x="951" y="541"/>
                        </a:lnTo>
                        <a:lnTo>
                          <a:pt x="894" y="458"/>
                        </a:lnTo>
                        <a:lnTo>
                          <a:pt x="816" y="369"/>
                        </a:lnTo>
                        <a:lnTo>
                          <a:pt x="770" y="322"/>
                        </a:lnTo>
                        <a:lnTo>
                          <a:pt x="723" y="276"/>
                        </a:lnTo>
                        <a:lnTo>
                          <a:pt x="670" y="229"/>
                        </a:lnTo>
                        <a:lnTo>
                          <a:pt x="613" y="187"/>
                        </a:lnTo>
                        <a:lnTo>
                          <a:pt x="556" y="151"/>
                        </a:lnTo>
                        <a:lnTo>
                          <a:pt x="494" y="120"/>
                        </a:lnTo>
                        <a:lnTo>
                          <a:pt x="431" y="94"/>
                        </a:lnTo>
                        <a:lnTo>
                          <a:pt x="369" y="78"/>
                        </a:lnTo>
                        <a:lnTo>
                          <a:pt x="436" y="114"/>
                        </a:lnTo>
                        <a:lnTo>
                          <a:pt x="509" y="162"/>
                        </a:lnTo>
                        <a:lnTo>
                          <a:pt x="593" y="219"/>
                        </a:lnTo>
                        <a:lnTo>
                          <a:pt x="681" y="292"/>
                        </a:lnTo>
                        <a:lnTo>
                          <a:pt x="775" y="374"/>
                        </a:lnTo>
                        <a:lnTo>
                          <a:pt x="816" y="422"/>
                        </a:lnTo>
                        <a:lnTo>
                          <a:pt x="853" y="469"/>
                        </a:lnTo>
                        <a:lnTo>
                          <a:pt x="889" y="515"/>
                        </a:lnTo>
                        <a:lnTo>
                          <a:pt x="915" y="567"/>
                        </a:lnTo>
                        <a:lnTo>
                          <a:pt x="800" y="526"/>
                        </a:lnTo>
                        <a:lnTo>
                          <a:pt x="525" y="432"/>
                        </a:lnTo>
                        <a:lnTo>
                          <a:pt x="369" y="380"/>
                        </a:lnTo>
                        <a:lnTo>
                          <a:pt x="224" y="339"/>
                        </a:lnTo>
                        <a:lnTo>
                          <a:pt x="94" y="302"/>
                        </a:lnTo>
                        <a:lnTo>
                          <a:pt x="0" y="28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" name="未知"/>
                  <p:cNvSpPr/>
                  <p:nvPr/>
                </p:nvSpPr>
                <p:spPr>
                  <a:xfrm rot="7164000">
                    <a:off x="343440" y="549720"/>
                    <a:ext cx="9288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946" h="155">
                        <a:moveTo>
                          <a:pt x="0" y="30"/>
                        </a:moveTo>
                        <a:lnTo>
                          <a:pt x="103" y="30"/>
                        </a:lnTo>
                        <a:lnTo>
                          <a:pt x="213" y="30"/>
                        </a:lnTo>
                        <a:lnTo>
                          <a:pt x="343" y="42"/>
                        </a:lnTo>
                        <a:lnTo>
                          <a:pt x="488" y="52"/>
                        </a:lnTo>
                        <a:lnTo>
                          <a:pt x="634" y="78"/>
                        </a:lnTo>
                        <a:lnTo>
                          <a:pt x="702" y="93"/>
                        </a:lnTo>
                        <a:lnTo>
                          <a:pt x="764" y="109"/>
                        </a:lnTo>
                        <a:lnTo>
                          <a:pt x="826" y="130"/>
                        </a:lnTo>
                        <a:lnTo>
                          <a:pt x="879" y="155"/>
                        </a:lnTo>
                        <a:lnTo>
                          <a:pt x="946" y="135"/>
                        </a:lnTo>
                        <a:lnTo>
                          <a:pt x="857" y="104"/>
                        </a:lnTo>
                        <a:lnTo>
                          <a:pt x="764" y="72"/>
                        </a:lnTo>
                        <a:lnTo>
                          <a:pt x="634" y="42"/>
                        </a:lnTo>
                        <a:lnTo>
                          <a:pt x="488" y="15"/>
                        </a:lnTo>
                        <a:lnTo>
                          <a:pt x="410" y="5"/>
                        </a:lnTo>
                        <a:lnTo>
                          <a:pt x="332" y="0"/>
                        </a:lnTo>
                        <a:lnTo>
                          <a:pt x="250" y="0"/>
                        </a:lnTo>
                        <a:lnTo>
                          <a:pt x="166" y="5"/>
                        </a:lnTo>
                        <a:lnTo>
                          <a:pt x="83" y="15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9" name="未知"/>
                  <p:cNvSpPr/>
                  <p:nvPr/>
                </p:nvSpPr>
                <p:spPr>
                  <a:xfrm rot="7164000">
                    <a:off x="355680" y="500040"/>
                    <a:ext cx="486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9" h="53">
                        <a:moveTo>
                          <a:pt x="0" y="47"/>
                        </a:moveTo>
                        <a:lnTo>
                          <a:pt x="53" y="36"/>
                        </a:lnTo>
                        <a:lnTo>
                          <a:pt x="110" y="31"/>
                        </a:lnTo>
                        <a:lnTo>
                          <a:pt x="172" y="21"/>
                        </a:lnTo>
                        <a:lnTo>
                          <a:pt x="245" y="16"/>
                        </a:lnTo>
                        <a:lnTo>
                          <a:pt x="323" y="21"/>
                        </a:lnTo>
                        <a:lnTo>
                          <a:pt x="385" y="31"/>
                        </a:lnTo>
                        <a:lnTo>
                          <a:pt x="417" y="42"/>
                        </a:lnTo>
                        <a:lnTo>
                          <a:pt x="442" y="53"/>
                        </a:lnTo>
                        <a:lnTo>
                          <a:pt x="499" y="36"/>
                        </a:lnTo>
                        <a:lnTo>
                          <a:pt x="474" y="21"/>
                        </a:lnTo>
                        <a:lnTo>
                          <a:pt x="432" y="11"/>
                        </a:lnTo>
                        <a:lnTo>
                          <a:pt x="380" y="5"/>
                        </a:lnTo>
                        <a:lnTo>
                          <a:pt x="312" y="0"/>
                        </a:lnTo>
                        <a:lnTo>
                          <a:pt x="224" y="5"/>
                        </a:lnTo>
                        <a:lnTo>
                          <a:pt x="120" y="21"/>
                        </a:lnTo>
                        <a:lnTo>
                          <a:pt x="0" y="4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" name="未知"/>
                  <p:cNvSpPr/>
                  <p:nvPr/>
                </p:nvSpPr>
                <p:spPr>
                  <a:xfrm rot="7164000">
                    <a:off x="336240" y="484560"/>
                    <a:ext cx="3528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411">
                        <a:moveTo>
                          <a:pt x="0" y="411"/>
                        </a:moveTo>
                        <a:lnTo>
                          <a:pt x="57" y="370"/>
                        </a:lnTo>
                        <a:lnTo>
                          <a:pt x="119" y="323"/>
                        </a:lnTo>
                        <a:lnTo>
                          <a:pt x="187" y="271"/>
                        </a:lnTo>
                        <a:lnTo>
                          <a:pt x="254" y="203"/>
                        </a:lnTo>
                        <a:lnTo>
                          <a:pt x="286" y="172"/>
                        </a:lnTo>
                        <a:lnTo>
                          <a:pt x="312" y="135"/>
                        </a:lnTo>
                        <a:lnTo>
                          <a:pt x="332" y="99"/>
                        </a:lnTo>
                        <a:lnTo>
                          <a:pt x="348" y="63"/>
                        </a:lnTo>
                        <a:lnTo>
                          <a:pt x="359" y="31"/>
                        </a:lnTo>
                        <a:lnTo>
                          <a:pt x="359" y="0"/>
                        </a:lnTo>
                        <a:lnTo>
                          <a:pt x="296" y="26"/>
                        </a:lnTo>
                        <a:lnTo>
                          <a:pt x="296" y="31"/>
                        </a:lnTo>
                        <a:lnTo>
                          <a:pt x="301" y="42"/>
                        </a:lnTo>
                        <a:lnTo>
                          <a:pt x="301" y="63"/>
                        </a:lnTo>
                        <a:lnTo>
                          <a:pt x="291" y="99"/>
                        </a:lnTo>
                        <a:lnTo>
                          <a:pt x="264" y="146"/>
                        </a:lnTo>
                        <a:lnTo>
                          <a:pt x="207" y="213"/>
                        </a:lnTo>
                        <a:lnTo>
                          <a:pt x="124" y="302"/>
                        </a:lnTo>
                        <a:lnTo>
                          <a:pt x="0" y="41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1" name="未知"/>
                  <p:cNvSpPr/>
                  <p:nvPr/>
                </p:nvSpPr>
                <p:spPr>
                  <a:xfrm rot="7164000">
                    <a:off x="307080" y="503640"/>
                    <a:ext cx="6192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629" h="776">
                        <a:moveTo>
                          <a:pt x="0" y="776"/>
                        </a:moveTo>
                        <a:lnTo>
                          <a:pt x="93" y="697"/>
                        </a:lnTo>
                        <a:lnTo>
                          <a:pt x="192" y="609"/>
                        </a:lnTo>
                        <a:lnTo>
                          <a:pt x="302" y="500"/>
                        </a:lnTo>
                        <a:lnTo>
                          <a:pt x="353" y="442"/>
                        </a:lnTo>
                        <a:lnTo>
                          <a:pt x="405" y="380"/>
                        </a:lnTo>
                        <a:lnTo>
                          <a:pt x="452" y="317"/>
                        </a:lnTo>
                        <a:lnTo>
                          <a:pt x="494" y="255"/>
                        </a:lnTo>
                        <a:lnTo>
                          <a:pt x="530" y="192"/>
                        </a:lnTo>
                        <a:lnTo>
                          <a:pt x="551" y="130"/>
                        </a:lnTo>
                        <a:lnTo>
                          <a:pt x="567" y="73"/>
                        </a:lnTo>
                        <a:lnTo>
                          <a:pt x="567" y="47"/>
                        </a:lnTo>
                        <a:lnTo>
                          <a:pt x="562" y="20"/>
                        </a:lnTo>
                        <a:lnTo>
                          <a:pt x="629" y="0"/>
                        </a:lnTo>
                        <a:lnTo>
                          <a:pt x="624" y="20"/>
                        </a:lnTo>
                        <a:lnTo>
                          <a:pt x="603" y="83"/>
                        </a:lnTo>
                        <a:lnTo>
                          <a:pt x="567" y="172"/>
                        </a:lnTo>
                        <a:lnTo>
                          <a:pt x="540" y="229"/>
                        </a:lnTo>
                        <a:lnTo>
                          <a:pt x="509" y="287"/>
                        </a:lnTo>
                        <a:lnTo>
                          <a:pt x="473" y="344"/>
                        </a:lnTo>
                        <a:lnTo>
                          <a:pt x="427" y="411"/>
                        </a:lnTo>
                        <a:lnTo>
                          <a:pt x="374" y="474"/>
                        </a:lnTo>
                        <a:lnTo>
                          <a:pt x="317" y="536"/>
                        </a:lnTo>
                        <a:lnTo>
                          <a:pt x="250" y="604"/>
                        </a:lnTo>
                        <a:lnTo>
                          <a:pt x="177" y="666"/>
                        </a:lnTo>
                        <a:lnTo>
                          <a:pt x="93" y="724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" name="未知"/>
                  <p:cNvSpPr/>
                  <p:nvPr/>
                </p:nvSpPr>
                <p:spPr>
                  <a:xfrm rot="7164000">
                    <a:off x="265320" y="527760"/>
                    <a:ext cx="99000" cy="15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1358">
                        <a:moveTo>
                          <a:pt x="0" y="1358"/>
                        </a:moveTo>
                        <a:lnTo>
                          <a:pt x="145" y="1187"/>
                        </a:lnTo>
                        <a:lnTo>
                          <a:pt x="296" y="1010"/>
                        </a:lnTo>
                        <a:lnTo>
                          <a:pt x="472" y="791"/>
                        </a:lnTo>
                        <a:lnTo>
                          <a:pt x="649" y="562"/>
                        </a:lnTo>
                        <a:lnTo>
                          <a:pt x="728" y="448"/>
                        </a:lnTo>
                        <a:lnTo>
                          <a:pt x="801" y="339"/>
                        </a:lnTo>
                        <a:lnTo>
                          <a:pt x="863" y="234"/>
                        </a:lnTo>
                        <a:lnTo>
                          <a:pt x="915" y="146"/>
                        </a:lnTo>
                        <a:lnTo>
                          <a:pt x="946" y="62"/>
                        </a:lnTo>
                        <a:lnTo>
                          <a:pt x="956" y="31"/>
                        </a:lnTo>
                        <a:lnTo>
                          <a:pt x="961" y="0"/>
                        </a:lnTo>
                        <a:lnTo>
                          <a:pt x="1003" y="10"/>
                        </a:lnTo>
                        <a:lnTo>
                          <a:pt x="998" y="26"/>
                        </a:lnTo>
                        <a:lnTo>
                          <a:pt x="978" y="84"/>
                        </a:lnTo>
                        <a:lnTo>
                          <a:pt x="936" y="182"/>
                        </a:lnTo>
                        <a:lnTo>
                          <a:pt x="899" y="249"/>
                        </a:lnTo>
                        <a:lnTo>
                          <a:pt x="858" y="328"/>
                        </a:lnTo>
                        <a:lnTo>
                          <a:pt x="801" y="411"/>
                        </a:lnTo>
                        <a:lnTo>
                          <a:pt x="733" y="511"/>
                        </a:lnTo>
                        <a:lnTo>
                          <a:pt x="649" y="624"/>
                        </a:lnTo>
                        <a:lnTo>
                          <a:pt x="556" y="744"/>
                        </a:lnTo>
                        <a:lnTo>
                          <a:pt x="442" y="880"/>
                        </a:lnTo>
                        <a:lnTo>
                          <a:pt x="312" y="1025"/>
                        </a:lnTo>
                        <a:lnTo>
                          <a:pt x="166" y="1187"/>
                        </a:lnTo>
                        <a:lnTo>
                          <a:pt x="0" y="1358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" name="未知"/>
                  <p:cNvSpPr/>
                  <p:nvPr/>
                </p:nvSpPr>
                <p:spPr>
                  <a:xfrm rot="7164000">
                    <a:off x="233280" y="552600"/>
                    <a:ext cx="106560" cy="22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081" h="1995">
                        <a:moveTo>
                          <a:pt x="0" y="1995"/>
                        </a:moveTo>
                        <a:lnTo>
                          <a:pt x="167" y="1745"/>
                        </a:lnTo>
                        <a:lnTo>
                          <a:pt x="332" y="1485"/>
                        </a:lnTo>
                        <a:lnTo>
                          <a:pt x="531" y="1166"/>
                        </a:lnTo>
                        <a:lnTo>
                          <a:pt x="624" y="1001"/>
                        </a:lnTo>
                        <a:lnTo>
                          <a:pt x="723" y="834"/>
                        </a:lnTo>
                        <a:lnTo>
                          <a:pt x="806" y="667"/>
                        </a:lnTo>
                        <a:lnTo>
                          <a:pt x="884" y="511"/>
                        </a:lnTo>
                        <a:lnTo>
                          <a:pt x="946" y="365"/>
                        </a:lnTo>
                        <a:lnTo>
                          <a:pt x="998" y="230"/>
                        </a:lnTo>
                        <a:lnTo>
                          <a:pt x="1013" y="172"/>
                        </a:lnTo>
                        <a:lnTo>
                          <a:pt x="1025" y="115"/>
                        </a:lnTo>
                        <a:lnTo>
                          <a:pt x="1030" y="69"/>
                        </a:lnTo>
                        <a:lnTo>
                          <a:pt x="1030" y="27"/>
                        </a:lnTo>
                        <a:lnTo>
                          <a:pt x="1081" y="0"/>
                        </a:lnTo>
                        <a:lnTo>
                          <a:pt x="1081" y="22"/>
                        </a:lnTo>
                        <a:lnTo>
                          <a:pt x="1066" y="100"/>
                        </a:lnTo>
                        <a:lnTo>
                          <a:pt x="1050" y="157"/>
                        </a:lnTo>
                        <a:lnTo>
                          <a:pt x="1030" y="235"/>
                        </a:lnTo>
                        <a:lnTo>
                          <a:pt x="998" y="324"/>
                        </a:lnTo>
                        <a:lnTo>
                          <a:pt x="951" y="433"/>
                        </a:lnTo>
                        <a:lnTo>
                          <a:pt x="894" y="558"/>
                        </a:lnTo>
                        <a:lnTo>
                          <a:pt x="821" y="704"/>
                        </a:lnTo>
                        <a:lnTo>
                          <a:pt x="733" y="864"/>
                        </a:lnTo>
                        <a:lnTo>
                          <a:pt x="629" y="1047"/>
                        </a:lnTo>
                        <a:lnTo>
                          <a:pt x="504" y="1250"/>
                        </a:lnTo>
                        <a:lnTo>
                          <a:pt x="359" y="1474"/>
                        </a:lnTo>
                        <a:lnTo>
                          <a:pt x="192" y="1723"/>
                        </a:lnTo>
                        <a:lnTo>
                          <a:pt x="0" y="199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4" name="未知"/>
                  <p:cNvSpPr/>
                  <p:nvPr/>
                </p:nvSpPr>
                <p:spPr>
                  <a:xfrm rot="7164000">
                    <a:off x="219960" y="581040"/>
                    <a:ext cx="115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797">
                        <a:moveTo>
                          <a:pt x="0" y="797"/>
                        </a:moveTo>
                        <a:lnTo>
                          <a:pt x="31" y="708"/>
                        </a:lnTo>
                        <a:lnTo>
                          <a:pt x="57" y="608"/>
                        </a:lnTo>
                        <a:lnTo>
                          <a:pt x="77" y="495"/>
                        </a:lnTo>
                        <a:lnTo>
                          <a:pt x="89" y="432"/>
                        </a:lnTo>
                        <a:lnTo>
                          <a:pt x="94" y="370"/>
                        </a:lnTo>
                        <a:lnTo>
                          <a:pt x="99" y="307"/>
                        </a:lnTo>
                        <a:lnTo>
                          <a:pt x="94" y="250"/>
                        </a:lnTo>
                        <a:lnTo>
                          <a:pt x="89" y="193"/>
                        </a:lnTo>
                        <a:lnTo>
                          <a:pt x="72" y="140"/>
                        </a:lnTo>
                        <a:lnTo>
                          <a:pt x="52" y="93"/>
                        </a:lnTo>
                        <a:lnTo>
                          <a:pt x="20" y="51"/>
                        </a:lnTo>
                        <a:lnTo>
                          <a:pt x="57" y="0"/>
                        </a:lnTo>
                        <a:lnTo>
                          <a:pt x="67" y="16"/>
                        </a:lnTo>
                        <a:lnTo>
                          <a:pt x="83" y="51"/>
                        </a:lnTo>
                        <a:lnTo>
                          <a:pt x="104" y="114"/>
                        </a:lnTo>
                        <a:lnTo>
                          <a:pt x="114" y="156"/>
                        </a:lnTo>
                        <a:lnTo>
                          <a:pt x="119" y="203"/>
                        </a:lnTo>
                        <a:lnTo>
                          <a:pt x="125" y="260"/>
                        </a:lnTo>
                        <a:lnTo>
                          <a:pt x="125" y="318"/>
                        </a:lnTo>
                        <a:lnTo>
                          <a:pt x="125" y="385"/>
                        </a:lnTo>
                        <a:lnTo>
                          <a:pt x="114" y="453"/>
                        </a:lnTo>
                        <a:lnTo>
                          <a:pt x="99" y="531"/>
                        </a:lnTo>
                        <a:lnTo>
                          <a:pt x="72" y="614"/>
                        </a:lnTo>
                        <a:lnTo>
                          <a:pt x="42" y="703"/>
                        </a:lnTo>
                        <a:lnTo>
                          <a:pt x="0" y="79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5" name="未知"/>
                  <p:cNvSpPr/>
                  <p:nvPr/>
                </p:nvSpPr>
                <p:spPr>
                  <a:xfrm rot="7164000">
                    <a:off x="223200" y="589680"/>
                    <a:ext cx="73440" cy="27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49" h="2451">
                        <a:moveTo>
                          <a:pt x="0" y="2451"/>
                        </a:moveTo>
                        <a:lnTo>
                          <a:pt x="57" y="2306"/>
                        </a:lnTo>
                        <a:lnTo>
                          <a:pt x="192" y="1957"/>
                        </a:lnTo>
                        <a:lnTo>
                          <a:pt x="270" y="1734"/>
                        </a:lnTo>
                        <a:lnTo>
                          <a:pt x="348" y="1509"/>
                        </a:lnTo>
                        <a:lnTo>
                          <a:pt x="416" y="1285"/>
                        </a:lnTo>
                        <a:lnTo>
                          <a:pt x="442" y="1182"/>
                        </a:lnTo>
                        <a:lnTo>
                          <a:pt x="462" y="1082"/>
                        </a:lnTo>
                        <a:lnTo>
                          <a:pt x="499" y="895"/>
                        </a:lnTo>
                        <a:lnTo>
                          <a:pt x="530" y="713"/>
                        </a:lnTo>
                        <a:lnTo>
                          <a:pt x="587" y="385"/>
                        </a:lnTo>
                        <a:lnTo>
                          <a:pt x="614" y="250"/>
                        </a:lnTo>
                        <a:lnTo>
                          <a:pt x="634" y="141"/>
                        </a:lnTo>
                        <a:lnTo>
                          <a:pt x="660" y="63"/>
                        </a:lnTo>
                        <a:lnTo>
                          <a:pt x="671" y="36"/>
                        </a:lnTo>
                        <a:lnTo>
                          <a:pt x="681" y="16"/>
                        </a:lnTo>
                        <a:lnTo>
                          <a:pt x="749" y="0"/>
                        </a:lnTo>
                        <a:lnTo>
                          <a:pt x="722" y="109"/>
                        </a:lnTo>
                        <a:lnTo>
                          <a:pt x="655" y="365"/>
                        </a:lnTo>
                        <a:lnTo>
                          <a:pt x="582" y="666"/>
                        </a:lnTo>
                        <a:lnTo>
                          <a:pt x="556" y="807"/>
                        </a:lnTo>
                        <a:lnTo>
                          <a:pt x="540" y="910"/>
                        </a:lnTo>
                        <a:lnTo>
                          <a:pt x="535" y="958"/>
                        </a:lnTo>
                        <a:lnTo>
                          <a:pt x="540" y="1015"/>
                        </a:lnTo>
                        <a:lnTo>
                          <a:pt x="556" y="1130"/>
                        </a:lnTo>
                        <a:lnTo>
                          <a:pt x="582" y="1265"/>
                        </a:lnTo>
                        <a:lnTo>
                          <a:pt x="614" y="1400"/>
                        </a:lnTo>
                        <a:lnTo>
                          <a:pt x="639" y="1535"/>
                        </a:lnTo>
                        <a:lnTo>
                          <a:pt x="660" y="1666"/>
                        </a:lnTo>
                        <a:lnTo>
                          <a:pt x="660" y="1728"/>
                        </a:lnTo>
                        <a:lnTo>
                          <a:pt x="660" y="1786"/>
                        </a:lnTo>
                        <a:lnTo>
                          <a:pt x="649" y="1837"/>
                        </a:lnTo>
                        <a:lnTo>
                          <a:pt x="639" y="1879"/>
                        </a:lnTo>
                        <a:lnTo>
                          <a:pt x="639" y="1811"/>
                        </a:lnTo>
                        <a:lnTo>
                          <a:pt x="634" y="1734"/>
                        </a:lnTo>
                        <a:lnTo>
                          <a:pt x="629" y="1639"/>
                        </a:lnTo>
                        <a:lnTo>
                          <a:pt x="614" y="1525"/>
                        </a:lnTo>
                        <a:lnTo>
                          <a:pt x="592" y="1400"/>
                        </a:lnTo>
                        <a:lnTo>
                          <a:pt x="561" y="1275"/>
                        </a:lnTo>
                        <a:lnTo>
                          <a:pt x="540" y="1212"/>
                        </a:lnTo>
                        <a:lnTo>
                          <a:pt x="514" y="1150"/>
                        </a:lnTo>
                        <a:lnTo>
                          <a:pt x="462" y="1317"/>
                        </a:lnTo>
                        <a:lnTo>
                          <a:pt x="405" y="1494"/>
                        </a:lnTo>
                        <a:lnTo>
                          <a:pt x="332" y="1702"/>
                        </a:lnTo>
                        <a:lnTo>
                          <a:pt x="249" y="1926"/>
                        </a:lnTo>
                        <a:lnTo>
                          <a:pt x="160" y="2139"/>
                        </a:lnTo>
                        <a:lnTo>
                          <a:pt x="120" y="2233"/>
                        </a:lnTo>
                        <a:lnTo>
                          <a:pt x="78" y="2321"/>
                        </a:lnTo>
                        <a:lnTo>
                          <a:pt x="36" y="2394"/>
                        </a:lnTo>
                        <a:lnTo>
                          <a:pt x="0" y="245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6" name="未知"/>
                  <p:cNvSpPr/>
                  <p:nvPr/>
                </p:nvSpPr>
                <p:spPr>
                  <a:xfrm rot="7164000">
                    <a:off x="265680" y="639720"/>
                    <a:ext cx="54360" cy="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557" h="380">
                        <a:moveTo>
                          <a:pt x="0" y="380"/>
                        </a:moveTo>
                        <a:lnTo>
                          <a:pt x="53" y="333"/>
                        </a:lnTo>
                        <a:lnTo>
                          <a:pt x="115" y="287"/>
                        </a:lnTo>
                        <a:lnTo>
                          <a:pt x="188" y="229"/>
                        </a:lnTo>
                        <a:lnTo>
                          <a:pt x="272" y="172"/>
                        </a:lnTo>
                        <a:lnTo>
                          <a:pt x="360" y="125"/>
                        </a:lnTo>
                        <a:lnTo>
                          <a:pt x="407" y="98"/>
                        </a:lnTo>
                        <a:lnTo>
                          <a:pt x="454" y="83"/>
                        </a:lnTo>
                        <a:lnTo>
                          <a:pt x="495" y="68"/>
                        </a:lnTo>
                        <a:lnTo>
                          <a:pt x="536" y="57"/>
                        </a:lnTo>
                        <a:lnTo>
                          <a:pt x="557" y="0"/>
                        </a:lnTo>
                        <a:lnTo>
                          <a:pt x="506" y="21"/>
                        </a:lnTo>
                        <a:lnTo>
                          <a:pt x="442" y="47"/>
                        </a:lnTo>
                        <a:lnTo>
                          <a:pt x="365" y="83"/>
                        </a:lnTo>
                        <a:lnTo>
                          <a:pt x="277" y="135"/>
                        </a:lnTo>
                        <a:lnTo>
                          <a:pt x="183" y="203"/>
                        </a:lnTo>
                        <a:lnTo>
                          <a:pt x="137" y="240"/>
                        </a:lnTo>
                        <a:lnTo>
                          <a:pt x="89" y="281"/>
                        </a:lnTo>
                        <a:lnTo>
                          <a:pt x="42" y="328"/>
                        </a:lnTo>
                        <a:lnTo>
                          <a:pt x="0" y="38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7" name="未知"/>
                  <p:cNvSpPr/>
                  <p:nvPr/>
                </p:nvSpPr>
                <p:spPr>
                  <a:xfrm rot="7164000">
                    <a:off x="266040" y="534600"/>
                    <a:ext cx="26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635">
                        <a:moveTo>
                          <a:pt x="0" y="635"/>
                        </a:moveTo>
                        <a:lnTo>
                          <a:pt x="41" y="577"/>
                        </a:lnTo>
                        <a:lnTo>
                          <a:pt x="83" y="521"/>
                        </a:lnTo>
                        <a:lnTo>
                          <a:pt x="125" y="447"/>
                        </a:lnTo>
                        <a:lnTo>
                          <a:pt x="166" y="359"/>
                        </a:lnTo>
                        <a:lnTo>
                          <a:pt x="187" y="312"/>
                        </a:lnTo>
                        <a:lnTo>
                          <a:pt x="198" y="260"/>
                        </a:lnTo>
                        <a:lnTo>
                          <a:pt x="208" y="214"/>
                        </a:lnTo>
                        <a:lnTo>
                          <a:pt x="218" y="162"/>
                        </a:lnTo>
                        <a:lnTo>
                          <a:pt x="218" y="115"/>
                        </a:lnTo>
                        <a:lnTo>
                          <a:pt x="208" y="68"/>
                        </a:lnTo>
                        <a:lnTo>
                          <a:pt x="260" y="0"/>
                        </a:lnTo>
                        <a:lnTo>
                          <a:pt x="265" y="57"/>
                        </a:lnTo>
                        <a:lnTo>
                          <a:pt x="260" y="120"/>
                        </a:lnTo>
                        <a:lnTo>
                          <a:pt x="250" y="203"/>
                        </a:lnTo>
                        <a:lnTo>
                          <a:pt x="233" y="255"/>
                        </a:lnTo>
                        <a:lnTo>
                          <a:pt x="218" y="302"/>
                        </a:lnTo>
                        <a:lnTo>
                          <a:pt x="198" y="354"/>
                        </a:lnTo>
                        <a:lnTo>
                          <a:pt x="171" y="412"/>
                        </a:lnTo>
                        <a:lnTo>
                          <a:pt x="140" y="464"/>
                        </a:lnTo>
                        <a:lnTo>
                          <a:pt x="98" y="521"/>
                        </a:lnTo>
                        <a:lnTo>
                          <a:pt x="51" y="577"/>
                        </a:lnTo>
                        <a:lnTo>
                          <a:pt x="0" y="63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8" name="未知"/>
                  <p:cNvSpPr/>
                  <p:nvPr/>
                </p:nvSpPr>
                <p:spPr>
                  <a:xfrm rot="7164000">
                    <a:off x="384120" y="589320"/>
                    <a:ext cx="5760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583" h="130">
                        <a:moveTo>
                          <a:pt x="0" y="104"/>
                        </a:moveTo>
                        <a:lnTo>
                          <a:pt x="62" y="114"/>
                        </a:lnTo>
                        <a:lnTo>
                          <a:pt x="125" y="114"/>
                        </a:lnTo>
                        <a:lnTo>
                          <a:pt x="209" y="114"/>
                        </a:lnTo>
                        <a:lnTo>
                          <a:pt x="297" y="104"/>
                        </a:lnTo>
                        <a:lnTo>
                          <a:pt x="339" y="94"/>
                        </a:lnTo>
                        <a:lnTo>
                          <a:pt x="385" y="84"/>
                        </a:lnTo>
                        <a:lnTo>
                          <a:pt x="427" y="67"/>
                        </a:lnTo>
                        <a:lnTo>
                          <a:pt x="469" y="52"/>
                        </a:lnTo>
                        <a:lnTo>
                          <a:pt x="504" y="26"/>
                        </a:lnTo>
                        <a:lnTo>
                          <a:pt x="536" y="0"/>
                        </a:lnTo>
                        <a:lnTo>
                          <a:pt x="583" y="16"/>
                        </a:lnTo>
                        <a:lnTo>
                          <a:pt x="546" y="42"/>
                        </a:lnTo>
                        <a:lnTo>
                          <a:pt x="499" y="67"/>
                        </a:lnTo>
                        <a:lnTo>
                          <a:pt x="437" y="94"/>
                        </a:lnTo>
                        <a:lnTo>
                          <a:pt x="354" y="114"/>
                        </a:lnTo>
                        <a:lnTo>
                          <a:pt x="307" y="125"/>
                        </a:lnTo>
                        <a:lnTo>
                          <a:pt x="255" y="130"/>
                        </a:lnTo>
                        <a:lnTo>
                          <a:pt x="197" y="130"/>
                        </a:lnTo>
                        <a:lnTo>
                          <a:pt x="135" y="125"/>
                        </a:lnTo>
                        <a:lnTo>
                          <a:pt x="68" y="120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9" name="未知"/>
                  <p:cNvSpPr/>
                  <p:nvPr/>
                </p:nvSpPr>
                <p:spPr>
                  <a:xfrm rot="7164000">
                    <a:off x="426600" y="581400"/>
                    <a:ext cx="352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240">
                        <a:moveTo>
                          <a:pt x="0" y="0"/>
                        </a:moveTo>
                        <a:lnTo>
                          <a:pt x="36" y="21"/>
                        </a:lnTo>
                        <a:lnTo>
                          <a:pt x="124" y="73"/>
                        </a:lnTo>
                        <a:lnTo>
                          <a:pt x="177" y="105"/>
                        </a:lnTo>
                        <a:lnTo>
                          <a:pt x="229" y="146"/>
                        </a:lnTo>
                        <a:lnTo>
                          <a:pt x="276" y="188"/>
                        </a:lnTo>
                        <a:lnTo>
                          <a:pt x="312" y="235"/>
                        </a:lnTo>
                        <a:lnTo>
                          <a:pt x="359" y="240"/>
                        </a:lnTo>
                        <a:lnTo>
                          <a:pt x="338" y="213"/>
                        </a:lnTo>
                        <a:lnTo>
                          <a:pt x="312" y="188"/>
                        </a:lnTo>
                        <a:lnTo>
                          <a:pt x="276" y="151"/>
                        </a:lnTo>
                        <a:lnTo>
                          <a:pt x="224" y="115"/>
                        </a:lnTo>
                        <a:lnTo>
                          <a:pt x="166" y="73"/>
                        </a:lnTo>
                        <a:lnTo>
                          <a:pt x="89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0" name="未知"/>
                  <p:cNvSpPr/>
                  <p:nvPr/>
                </p:nvSpPr>
                <p:spPr>
                  <a:xfrm rot="7164000">
                    <a:off x="268560" y="608040"/>
                    <a:ext cx="115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146">
                        <a:moveTo>
                          <a:pt x="47" y="146"/>
                        </a:moveTo>
                        <a:lnTo>
                          <a:pt x="57" y="146"/>
                        </a:lnTo>
                        <a:lnTo>
                          <a:pt x="93" y="141"/>
                        </a:lnTo>
                        <a:lnTo>
                          <a:pt x="109" y="130"/>
                        </a:lnTo>
                        <a:lnTo>
                          <a:pt x="119" y="120"/>
                        </a:lnTo>
                        <a:lnTo>
                          <a:pt x="124" y="104"/>
                        </a:lnTo>
                        <a:lnTo>
                          <a:pt x="124" y="84"/>
                        </a:lnTo>
                        <a:lnTo>
                          <a:pt x="114" y="57"/>
                        </a:lnTo>
                        <a:lnTo>
                          <a:pt x="104" y="37"/>
                        </a:lnTo>
                        <a:lnTo>
                          <a:pt x="87" y="21"/>
                        </a:lnTo>
                        <a:lnTo>
                          <a:pt x="72" y="5"/>
                        </a:lnTo>
                        <a:lnTo>
                          <a:pt x="57" y="0"/>
                        </a:lnTo>
                        <a:lnTo>
                          <a:pt x="41" y="0"/>
                        </a:lnTo>
                        <a:lnTo>
                          <a:pt x="25" y="11"/>
                        </a:lnTo>
                        <a:lnTo>
                          <a:pt x="10" y="32"/>
                        </a:lnTo>
                        <a:lnTo>
                          <a:pt x="0" y="57"/>
                        </a:lnTo>
                        <a:lnTo>
                          <a:pt x="0" y="79"/>
                        </a:lnTo>
                        <a:lnTo>
                          <a:pt x="5" y="99"/>
                        </a:lnTo>
                        <a:lnTo>
                          <a:pt x="15" y="115"/>
                        </a:lnTo>
                        <a:lnTo>
                          <a:pt x="36" y="141"/>
                        </a:lnTo>
                        <a:lnTo>
                          <a:pt x="47" y="146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1" name="未知"/>
                  <p:cNvSpPr/>
                  <p:nvPr/>
                </p:nvSpPr>
                <p:spPr>
                  <a:xfrm rot="7164000">
                    <a:off x="449640" y="632160"/>
                    <a:ext cx="1008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78">
                        <a:moveTo>
                          <a:pt x="0" y="57"/>
                        </a:moveTo>
                        <a:lnTo>
                          <a:pt x="15" y="62"/>
                        </a:lnTo>
                        <a:lnTo>
                          <a:pt x="46" y="73"/>
                        </a:lnTo>
                        <a:lnTo>
                          <a:pt x="62" y="78"/>
                        </a:lnTo>
                        <a:lnTo>
                          <a:pt x="78" y="78"/>
                        </a:lnTo>
                        <a:lnTo>
                          <a:pt x="93" y="67"/>
                        </a:lnTo>
                        <a:lnTo>
                          <a:pt x="98" y="57"/>
                        </a:lnTo>
                        <a:lnTo>
                          <a:pt x="98" y="41"/>
                        </a:lnTo>
                        <a:lnTo>
                          <a:pt x="88" y="25"/>
                        </a:lnTo>
                        <a:lnTo>
                          <a:pt x="73" y="20"/>
                        </a:lnTo>
                        <a:lnTo>
                          <a:pt x="56" y="10"/>
                        </a:lnTo>
                        <a:lnTo>
                          <a:pt x="15" y="5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2" name="未知"/>
                  <p:cNvSpPr/>
                  <p:nvPr/>
                </p:nvSpPr>
                <p:spPr>
                  <a:xfrm rot="7164000">
                    <a:off x="479160" y="692640"/>
                    <a:ext cx="1152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125">
                        <a:moveTo>
                          <a:pt x="0" y="58"/>
                        </a:moveTo>
                        <a:lnTo>
                          <a:pt x="5" y="73"/>
                        </a:lnTo>
                        <a:lnTo>
                          <a:pt x="25" y="105"/>
                        </a:lnTo>
                        <a:lnTo>
                          <a:pt x="42" y="115"/>
                        </a:lnTo>
                        <a:lnTo>
                          <a:pt x="57" y="125"/>
                        </a:lnTo>
                        <a:lnTo>
                          <a:pt x="77" y="125"/>
                        </a:lnTo>
                        <a:lnTo>
                          <a:pt x="98" y="115"/>
                        </a:lnTo>
                        <a:lnTo>
                          <a:pt x="114" y="94"/>
                        </a:lnTo>
                        <a:lnTo>
                          <a:pt x="119" y="78"/>
                        </a:lnTo>
                        <a:lnTo>
                          <a:pt x="119" y="58"/>
                        </a:lnTo>
                        <a:lnTo>
                          <a:pt x="114" y="42"/>
                        </a:lnTo>
                        <a:lnTo>
                          <a:pt x="98" y="26"/>
                        </a:lnTo>
                        <a:lnTo>
                          <a:pt x="82" y="11"/>
                        </a:lnTo>
                        <a:lnTo>
                          <a:pt x="67" y="5"/>
                        </a:lnTo>
                        <a:lnTo>
                          <a:pt x="52" y="0"/>
                        </a:lnTo>
                        <a:lnTo>
                          <a:pt x="35" y="0"/>
                        </a:lnTo>
                        <a:lnTo>
                          <a:pt x="25" y="11"/>
                        </a:lnTo>
                        <a:lnTo>
                          <a:pt x="10" y="31"/>
                        </a:lnTo>
                        <a:lnTo>
                          <a:pt x="0" y="47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未知"/>
                  <p:cNvSpPr/>
                  <p:nvPr/>
                </p:nvSpPr>
                <p:spPr>
                  <a:xfrm rot="7164000">
                    <a:off x="426960" y="532080"/>
                    <a:ext cx="90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57">
                        <a:moveTo>
                          <a:pt x="21" y="57"/>
                        </a:moveTo>
                        <a:lnTo>
                          <a:pt x="42" y="57"/>
                        </a:lnTo>
                        <a:lnTo>
                          <a:pt x="73" y="52"/>
                        </a:lnTo>
                        <a:lnTo>
                          <a:pt x="83" y="47"/>
                        </a:lnTo>
                        <a:lnTo>
                          <a:pt x="94" y="37"/>
                        </a:lnTo>
                        <a:lnTo>
                          <a:pt x="94" y="26"/>
                        </a:lnTo>
                        <a:lnTo>
                          <a:pt x="78" y="15"/>
                        </a:lnTo>
                        <a:lnTo>
                          <a:pt x="58" y="5"/>
                        </a:lnTo>
                        <a:lnTo>
                          <a:pt x="42" y="0"/>
                        </a:lnTo>
                        <a:lnTo>
                          <a:pt x="26" y="0"/>
                        </a:lnTo>
                        <a:lnTo>
                          <a:pt x="11" y="5"/>
                        </a:lnTo>
                        <a:lnTo>
                          <a:pt x="6" y="15"/>
                        </a:lnTo>
                        <a:lnTo>
                          <a:pt x="0" y="32"/>
                        </a:lnTo>
                        <a:lnTo>
                          <a:pt x="11" y="47"/>
                        </a:lnTo>
                        <a:lnTo>
                          <a:pt x="21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4" name="Group 1415"/>
                <p:cNvGrpSpPr/>
                <p:nvPr/>
              </p:nvGrpSpPr>
              <p:grpSpPr>
                <a:xfrm>
                  <a:off x="361080" y="950040"/>
                  <a:ext cx="55800" cy="55800"/>
                  <a:chOff x="361080" y="950040"/>
                  <a:chExt cx="55800" cy="55800"/>
                </a:xfrm>
              </p:grpSpPr>
              <p:sp>
                <p:nvSpPr>
                  <p:cNvPr id="1455" name="未知"/>
                  <p:cNvSpPr/>
                  <p:nvPr/>
                </p:nvSpPr>
                <p:spPr>
                  <a:xfrm rot="2799000">
                    <a:off x="369720" y="957240"/>
                    <a:ext cx="3780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3" h="417">
                        <a:moveTo>
                          <a:pt x="323" y="417"/>
                        </a:moveTo>
                        <a:lnTo>
                          <a:pt x="281" y="407"/>
                        </a:lnTo>
                        <a:lnTo>
                          <a:pt x="239" y="391"/>
                        </a:lnTo>
                        <a:lnTo>
                          <a:pt x="193" y="375"/>
                        </a:lnTo>
                        <a:lnTo>
                          <a:pt x="146" y="350"/>
                        </a:lnTo>
                        <a:lnTo>
                          <a:pt x="99" y="318"/>
                        </a:lnTo>
                        <a:lnTo>
                          <a:pt x="83" y="302"/>
                        </a:lnTo>
                        <a:lnTo>
                          <a:pt x="68" y="282"/>
                        </a:lnTo>
                        <a:lnTo>
                          <a:pt x="57" y="261"/>
                        </a:lnTo>
                        <a:lnTo>
                          <a:pt x="47" y="240"/>
                        </a:lnTo>
                        <a:lnTo>
                          <a:pt x="26" y="147"/>
                        </a:lnTo>
                        <a:lnTo>
                          <a:pt x="6" y="68"/>
                        </a:lnTo>
                        <a:lnTo>
                          <a:pt x="0" y="37"/>
                        </a:lnTo>
                        <a:lnTo>
                          <a:pt x="0" y="1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21" y="0"/>
                        </a:lnTo>
                        <a:lnTo>
                          <a:pt x="31" y="6"/>
                        </a:lnTo>
                        <a:lnTo>
                          <a:pt x="57" y="11"/>
                        </a:lnTo>
                        <a:lnTo>
                          <a:pt x="83" y="27"/>
                        </a:lnTo>
                        <a:lnTo>
                          <a:pt x="146" y="73"/>
                        </a:lnTo>
                        <a:lnTo>
                          <a:pt x="208" y="125"/>
                        </a:lnTo>
                        <a:lnTo>
                          <a:pt x="271" y="193"/>
                        </a:lnTo>
                        <a:lnTo>
                          <a:pt x="296" y="230"/>
                        </a:lnTo>
                        <a:lnTo>
                          <a:pt x="313" y="261"/>
                        </a:lnTo>
                        <a:lnTo>
                          <a:pt x="323" y="292"/>
                        </a:lnTo>
                        <a:lnTo>
                          <a:pt x="333" y="323"/>
                        </a:lnTo>
                        <a:lnTo>
                          <a:pt x="333" y="350"/>
                        </a:lnTo>
                        <a:lnTo>
                          <a:pt x="333" y="375"/>
                        </a:lnTo>
                        <a:lnTo>
                          <a:pt x="323" y="417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6" name="未知"/>
                  <p:cNvSpPr/>
                  <p:nvPr/>
                </p:nvSpPr>
                <p:spPr>
                  <a:xfrm rot="20752800">
                    <a:off x="372240" y="961920"/>
                    <a:ext cx="208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214">
                        <a:moveTo>
                          <a:pt x="0" y="151"/>
                        </a:moveTo>
                        <a:lnTo>
                          <a:pt x="36" y="120"/>
                        </a:lnTo>
                        <a:lnTo>
                          <a:pt x="115" y="57"/>
                        </a:lnTo>
                        <a:lnTo>
                          <a:pt x="156" y="32"/>
                        </a:lnTo>
                        <a:lnTo>
                          <a:pt x="187" y="6"/>
                        </a:lnTo>
                        <a:lnTo>
                          <a:pt x="208" y="0"/>
                        </a:lnTo>
                        <a:lnTo>
                          <a:pt x="213" y="0"/>
                        </a:lnTo>
                        <a:lnTo>
                          <a:pt x="213" y="11"/>
                        </a:lnTo>
                        <a:lnTo>
                          <a:pt x="193" y="69"/>
                        </a:lnTo>
                        <a:lnTo>
                          <a:pt x="162" y="136"/>
                        </a:lnTo>
                        <a:lnTo>
                          <a:pt x="140" y="167"/>
                        </a:lnTo>
                        <a:lnTo>
                          <a:pt x="120" y="187"/>
                        </a:lnTo>
                        <a:lnTo>
                          <a:pt x="98" y="209"/>
                        </a:lnTo>
                        <a:lnTo>
                          <a:pt x="73" y="214"/>
                        </a:lnTo>
                        <a:lnTo>
                          <a:pt x="47" y="209"/>
                        </a:lnTo>
                        <a:lnTo>
                          <a:pt x="31" y="204"/>
                        </a:lnTo>
                        <a:lnTo>
                          <a:pt x="21" y="193"/>
                        </a:lnTo>
                        <a:lnTo>
                          <a:pt x="10" y="182"/>
                        </a:lnTo>
                        <a:lnTo>
                          <a:pt x="0" y="162"/>
                        </a:lnTo>
                        <a:lnTo>
                          <a:pt x="0" y="151"/>
                        </a:lnTo>
                        <a:close/>
                      </a:path>
                    </a:pathLst>
                  </a:cu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57" name="Group 1418"/>
              <p:cNvGrpSpPr/>
              <p:nvPr/>
            </p:nvGrpSpPr>
            <p:grpSpPr>
              <a:xfrm>
                <a:off x="389880" y="700560"/>
                <a:ext cx="620640" cy="477000"/>
                <a:chOff x="389880" y="700560"/>
                <a:chExt cx="620640" cy="477000"/>
              </a:xfrm>
            </p:grpSpPr>
            <p:grpSp>
              <p:nvGrpSpPr>
                <p:cNvPr id="1458" name="Group 1419"/>
                <p:cNvGrpSpPr/>
                <p:nvPr/>
              </p:nvGrpSpPr>
              <p:grpSpPr>
                <a:xfrm>
                  <a:off x="389880" y="700560"/>
                  <a:ext cx="620640" cy="477000"/>
                  <a:chOff x="389880" y="700560"/>
                  <a:chExt cx="620640" cy="477000"/>
                </a:xfrm>
              </p:grpSpPr>
              <p:sp>
                <p:nvSpPr>
                  <p:cNvPr id="1459" name="未知"/>
                  <p:cNvSpPr/>
                  <p:nvPr/>
                </p:nvSpPr>
                <p:spPr>
                  <a:xfrm rot="11388000">
                    <a:off x="543600" y="734400"/>
                    <a:ext cx="434880" cy="408960"/>
                  </a:xfrm>
                  <a:custGeom>
                    <a:avLst/>
                    <a:gdLst/>
                    <a:ahLst/>
                    <a:rect l="l" t="t" r="r" b="b"/>
                    <a:pathLst>
                      <a:path w="3962" h="4106">
                        <a:moveTo>
                          <a:pt x="0" y="3065"/>
                        </a:moveTo>
                        <a:lnTo>
                          <a:pt x="47" y="3055"/>
                        </a:lnTo>
                        <a:lnTo>
                          <a:pt x="150" y="3044"/>
                        </a:lnTo>
                        <a:lnTo>
                          <a:pt x="260" y="3034"/>
                        </a:lnTo>
                        <a:lnTo>
                          <a:pt x="302" y="3034"/>
                        </a:lnTo>
                        <a:lnTo>
                          <a:pt x="317" y="3034"/>
                        </a:lnTo>
                        <a:lnTo>
                          <a:pt x="327" y="3039"/>
                        </a:lnTo>
                        <a:lnTo>
                          <a:pt x="281" y="3117"/>
                        </a:lnTo>
                        <a:lnTo>
                          <a:pt x="322" y="3102"/>
                        </a:lnTo>
                        <a:lnTo>
                          <a:pt x="421" y="3065"/>
                        </a:lnTo>
                        <a:lnTo>
                          <a:pt x="474" y="3055"/>
                        </a:lnTo>
                        <a:lnTo>
                          <a:pt x="526" y="3049"/>
                        </a:lnTo>
                        <a:lnTo>
                          <a:pt x="546" y="3049"/>
                        </a:lnTo>
                        <a:lnTo>
                          <a:pt x="562" y="3060"/>
                        </a:lnTo>
                        <a:lnTo>
                          <a:pt x="577" y="3065"/>
                        </a:lnTo>
                        <a:lnTo>
                          <a:pt x="582" y="3080"/>
                        </a:lnTo>
                        <a:lnTo>
                          <a:pt x="536" y="3169"/>
                        </a:lnTo>
                        <a:lnTo>
                          <a:pt x="593" y="3154"/>
                        </a:lnTo>
                        <a:lnTo>
                          <a:pt x="723" y="3127"/>
                        </a:lnTo>
                        <a:lnTo>
                          <a:pt x="796" y="3122"/>
                        </a:lnTo>
                        <a:lnTo>
                          <a:pt x="863" y="3117"/>
                        </a:lnTo>
                        <a:lnTo>
                          <a:pt x="910" y="3117"/>
                        </a:lnTo>
                        <a:lnTo>
                          <a:pt x="926" y="3122"/>
                        </a:lnTo>
                        <a:lnTo>
                          <a:pt x="936" y="3132"/>
                        </a:lnTo>
                        <a:lnTo>
                          <a:pt x="941" y="3159"/>
                        </a:lnTo>
                        <a:lnTo>
                          <a:pt x="936" y="3185"/>
                        </a:lnTo>
                        <a:lnTo>
                          <a:pt x="926" y="3211"/>
                        </a:lnTo>
                        <a:lnTo>
                          <a:pt x="915" y="3242"/>
                        </a:lnTo>
                        <a:lnTo>
                          <a:pt x="884" y="3289"/>
                        </a:lnTo>
                        <a:lnTo>
                          <a:pt x="873" y="3310"/>
                        </a:lnTo>
                        <a:lnTo>
                          <a:pt x="900" y="3294"/>
                        </a:lnTo>
                        <a:lnTo>
                          <a:pt x="936" y="3284"/>
                        </a:lnTo>
                        <a:lnTo>
                          <a:pt x="978" y="3268"/>
                        </a:lnTo>
                        <a:lnTo>
                          <a:pt x="1030" y="3257"/>
                        </a:lnTo>
                        <a:lnTo>
                          <a:pt x="1082" y="3257"/>
                        </a:lnTo>
                        <a:lnTo>
                          <a:pt x="1133" y="3262"/>
                        </a:lnTo>
                        <a:lnTo>
                          <a:pt x="1160" y="3268"/>
                        </a:lnTo>
                        <a:lnTo>
                          <a:pt x="1185" y="3279"/>
                        </a:lnTo>
                        <a:lnTo>
                          <a:pt x="1191" y="3299"/>
                        </a:lnTo>
                        <a:lnTo>
                          <a:pt x="1201" y="3341"/>
                        </a:lnTo>
                        <a:lnTo>
                          <a:pt x="1196" y="3367"/>
                        </a:lnTo>
                        <a:lnTo>
                          <a:pt x="1196" y="3387"/>
                        </a:lnTo>
                        <a:lnTo>
                          <a:pt x="1180" y="3404"/>
                        </a:lnTo>
                        <a:lnTo>
                          <a:pt x="1175" y="3409"/>
                        </a:lnTo>
                        <a:lnTo>
                          <a:pt x="1165" y="3414"/>
                        </a:lnTo>
                        <a:lnTo>
                          <a:pt x="1155" y="3409"/>
                        </a:lnTo>
                        <a:lnTo>
                          <a:pt x="1165" y="3404"/>
                        </a:lnTo>
                        <a:lnTo>
                          <a:pt x="1191" y="3392"/>
                        </a:lnTo>
                        <a:lnTo>
                          <a:pt x="1227" y="3382"/>
                        </a:lnTo>
                        <a:lnTo>
                          <a:pt x="1269" y="3377"/>
                        </a:lnTo>
                        <a:lnTo>
                          <a:pt x="1305" y="3382"/>
                        </a:lnTo>
                        <a:lnTo>
                          <a:pt x="1320" y="3387"/>
                        </a:lnTo>
                        <a:lnTo>
                          <a:pt x="1337" y="3392"/>
                        </a:lnTo>
                        <a:lnTo>
                          <a:pt x="1347" y="3404"/>
                        </a:lnTo>
                        <a:lnTo>
                          <a:pt x="1357" y="3419"/>
                        </a:lnTo>
                        <a:lnTo>
                          <a:pt x="1357" y="3450"/>
                        </a:lnTo>
                        <a:lnTo>
                          <a:pt x="1352" y="3487"/>
                        </a:lnTo>
                        <a:lnTo>
                          <a:pt x="1342" y="3517"/>
                        </a:lnTo>
                        <a:lnTo>
                          <a:pt x="1326" y="3544"/>
                        </a:lnTo>
                        <a:lnTo>
                          <a:pt x="1290" y="3591"/>
                        </a:lnTo>
                        <a:lnTo>
                          <a:pt x="1274" y="3612"/>
                        </a:lnTo>
                        <a:lnTo>
                          <a:pt x="1315" y="3596"/>
                        </a:lnTo>
                        <a:lnTo>
                          <a:pt x="1409" y="3570"/>
                        </a:lnTo>
                        <a:lnTo>
                          <a:pt x="1456" y="3559"/>
                        </a:lnTo>
                        <a:lnTo>
                          <a:pt x="1503" y="3549"/>
                        </a:lnTo>
                        <a:lnTo>
                          <a:pt x="1534" y="3549"/>
                        </a:lnTo>
                        <a:lnTo>
                          <a:pt x="1550" y="3554"/>
                        </a:lnTo>
                        <a:lnTo>
                          <a:pt x="1555" y="3559"/>
                        </a:lnTo>
                        <a:lnTo>
                          <a:pt x="1560" y="3570"/>
                        </a:lnTo>
                        <a:lnTo>
                          <a:pt x="1560" y="3586"/>
                        </a:lnTo>
                        <a:lnTo>
                          <a:pt x="1555" y="3606"/>
                        </a:lnTo>
                        <a:lnTo>
                          <a:pt x="1550" y="3617"/>
                        </a:lnTo>
                        <a:lnTo>
                          <a:pt x="1544" y="3622"/>
                        </a:lnTo>
                        <a:lnTo>
                          <a:pt x="1565" y="3612"/>
                        </a:lnTo>
                        <a:lnTo>
                          <a:pt x="1622" y="3581"/>
                        </a:lnTo>
                        <a:lnTo>
                          <a:pt x="1659" y="3570"/>
                        </a:lnTo>
                        <a:lnTo>
                          <a:pt x="1695" y="3559"/>
                        </a:lnTo>
                        <a:lnTo>
                          <a:pt x="1737" y="3559"/>
                        </a:lnTo>
                        <a:lnTo>
                          <a:pt x="1779" y="3564"/>
                        </a:lnTo>
                        <a:lnTo>
                          <a:pt x="1799" y="3575"/>
                        </a:lnTo>
                        <a:lnTo>
                          <a:pt x="1814" y="3586"/>
                        </a:lnTo>
                        <a:lnTo>
                          <a:pt x="1856" y="3622"/>
                        </a:lnTo>
                        <a:lnTo>
                          <a:pt x="1898" y="3669"/>
                        </a:lnTo>
                        <a:lnTo>
                          <a:pt x="1929" y="3731"/>
                        </a:lnTo>
                        <a:lnTo>
                          <a:pt x="1951" y="3794"/>
                        </a:lnTo>
                        <a:lnTo>
                          <a:pt x="1956" y="3824"/>
                        </a:lnTo>
                        <a:lnTo>
                          <a:pt x="1961" y="3861"/>
                        </a:lnTo>
                        <a:lnTo>
                          <a:pt x="1956" y="3893"/>
                        </a:lnTo>
                        <a:lnTo>
                          <a:pt x="1951" y="3929"/>
                        </a:lnTo>
                        <a:lnTo>
                          <a:pt x="1939" y="3961"/>
                        </a:lnTo>
                        <a:lnTo>
                          <a:pt x="1924" y="3991"/>
                        </a:lnTo>
                        <a:lnTo>
                          <a:pt x="2116" y="3893"/>
                        </a:lnTo>
                        <a:lnTo>
                          <a:pt x="2106" y="3971"/>
                        </a:lnTo>
                        <a:lnTo>
                          <a:pt x="2132" y="3949"/>
                        </a:lnTo>
                        <a:lnTo>
                          <a:pt x="2189" y="3903"/>
                        </a:lnTo>
                        <a:lnTo>
                          <a:pt x="2226" y="3882"/>
                        </a:lnTo>
                        <a:lnTo>
                          <a:pt x="2257" y="3866"/>
                        </a:lnTo>
                        <a:lnTo>
                          <a:pt x="2268" y="3866"/>
                        </a:lnTo>
                        <a:lnTo>
                          <a:pt x="2283" y="3866"/>
                        </a:lnTo>
                        <a:lnTo>
                          <a:pt x="2293" y="3872"/>
                        </a:lnTo>
                        <a:lnTo>
                          <a:pt x="2303" y="3882"/>
                        </a:lnTo>
                        <a:lnTo>
                          <a:pt x="2314" y="3903"/>
                        </a:lnTo>
                        <a:lnTo>
                          <a:pt x="2314" y="3919"/>
                        </a:lnTo>
                        <a:lnTo>
                          <a:pt x="2308" y="3929"/>
                        </a:lnTo>
                        <a:lnTo>
                          <a:pt x="2298" y="3934"/>
                        </a:lnTo>
                        <a:lnTo>
                          <a:pt x="2278" y="3944"/>
                        </a:lnTo>
                        <a:lnTo>
                          <a:pt x="2268" y="3944"/>
                        </a:lnTo>
                        <a:lnTo>
                          <a:pt x="2548" y="3789"/>
                        </a:lnTo>
                        <a:lnTo>
                          <a:pt x="2574" y="3914"/>
                        </a:lnTo>
                        <a:lnTo>
                          <a:pt x="2595" y="3887"/>
                        </a:lnTo>
                        <a:lnTo>
                          <a:pt x="2620" y="3861"/>
                        </a:lnTo>
                        <a:lnTo>
                          <a:pt x="2652" y="3836"/>
                        </a:lnTo>
                        <a:lnTo>
                          <a:pt x="2688" y="3809"/>
                        </a:lnTo>
                        <a:lnTo>
                          <a:pt x="2709" y="3804"/>
                        </a:lnTo>
                        <a:lnTo>
                          <a:pt x="2725" y="3799"/>
                        </a:lnTo>
                        <a:lnTo>
                          <a:pt x="2745" y="3799"/>
                        </a:lnTo>
                        <a:lnTo>
                          <a:pt x="2767" y="3804"/>
                        </a:lnTo>
                        <a:lnTo>
                          <a:pt x="2782" y="3809"/>
                        </a:lnTo>
                        <a:lnTo>
                          <a:pt x="2803" y="3824"/>
                        </a:lnTo>
                        <a:lnTo>
                          <a:pt x="2814" y="3846"/>
                        </a:lnTo>
                        <a:lnTo>
                          <a:pt x="2829" y="3866"/>
                        </a:lnTo>
                        <a:lnTo>
                          <a:pt x="2844" y="3914"/>
                        </a:lnTo>
                        <a:lnTo>
                          <a:pt x="2850" y="3961"/>
                        </a:lnTo>
                        <a:lnTo>
                          <a:pt x="2844" y="4002"/>
                        </a:lnTo>
                        <a:lnTo>
                          <a:pt x="2839" y="4044"/>
                        </a:lnTo>
                        <a:lnTo>
                          <a:pt x="2829" y="4075"/>
                        </a:lnTo>
                        <a:lnTo>
                          <a:pt x="2819" y="4106"/>
                        </a:lnTo>
                        <a:lnTo>
                          <a:pt x="3074" y="3903"/>
                        </a:lnTo>
                        <a:lnTo>
                          <a:pt x="3099" y="3991"/>
                        </a:lnTo>
                        <a:lnTo>
                          <a:pt x="3286" y="3726"/>
                        </a:lnTo>
                        <a:lnTo>
                          <a:pt x="3307" y="3804"/>
                        </a:lnTo>
                        <a:lnTo>
                          <a:pt x="3338" y="3757"/>
                        </a:lnTo>
                        <a:lnTo>
                          <a:pt x="3411" y="3654"/>
                        </a:lnTo>
                        <a:lnTo>
                          <a:pt x="3453" y="3591"/>
                        </a:lnTo>
                        <a:lnTo>
                          <a:pt x="3489" y="3523"/>
                        </a:lnTo>
                        <a:lnTo>
                          <a:pt x="3521" y="3466"/>
                        </a:lnTo>
                        <a:lnTo>
                          <a:pt x="3541" y="3419"/>
                        </a:lnTo>
                        <a:lnTo>
                          <a:pt x="3551" y="3529"/>
                        </a:lnTo>
                        <a:lnTo>
                          <a:pt x="3562" y="3507"/>
                        </a:lnTo>
                        <a:lnTo>
                          <a:pt x="3593" y="3455"/>
                        </a:lnTo>
                        <a:lnTo>
                          <a:pt x="3635" y="3372"/>
                        </a:lnTo>
                        <a:lnTo>
                          <a:pt x="3650" y="3325"/>
                        </a:lnTo>
                        <a:lnTo>
                          <a:pt x="3666" y="3274"/>
                        </a:lnTo>
                        <a:lnTo>
                          <a:pt x="3692" y="3180"/>
                        </a:lnTo>
                        <a:lnTo>
                          <a:pt x="3723" y="3102"/>
                        </a:lnTo>
                        <a:lnTo>
                          <a:pt x="3760" y="3023"/>
                        </a:lnTo>
                        <a:lnTo>
                          <a:pt x="3807" y="3117"/>
                        </a:lnTo>
                        <a:lnTo>
                          <a:pt x="3832" y="3080"/>
                        </a:lnTo>
                        <a:lnTo>
                          <a:pt x="3858" y="3039"/>
                        </a:lnTo>
                        <a:lnTo>
                          <a:pt x="3890" y="2977"/>
                        </a:lnTo>
                        <a:lnTo>
                          <a:pt x="3920" y="2898"/>
                        </a:lnTo>
                        <a:lnTo>
                          <a:pt x="3947" y="2805"/>
                        </a:lnTo>
                        <a:lnTo>
                          <a:pt x="3952" y="2753"/>
                        </a:lnTo>
                        <a:lnTo>
                          <a:pt x="3957" y="2695"/>
                        </a:lnTo>
                        <a:lnTo>
                          <a:pt x="3962" y="2633"/>
                        </a:lnTo>
                        <a:lnTo>
                          <a:pt x="3957" y="2565"/>
                        </a:lnTo>
                        <a:lnTo>
                          <a:pt x="3942" y="2410"/>
                        </a:lnTo>
                        <a:lnTo>
                          <a:pt x="3915" y="2222"/>
                        </a:lnTo>
                        <a:lnTo>
                          <a:pt x="3885" y="2019"/>
                        </a:lnTo>
                        <a:lnTo>
                          <a:pt x="3853" y="1821"/>
                        </a:lnTo>
                        <a:lnTo>
                          <a:pt x="3791" y="1483"/>
                        </a:lnTo>
                        <a:lnTo>
                          <a:pt x="3760" y="1342"/>
                        </a:lnTo>
                        <a:lnTo>
                          <a:pt x="3728" y="1327"/>
                        </a:lnTo>
                        <a:lnTo>
                          <a:pt x="3692" y="1306"/>
                        </a:lnTo>
                        <a:lnTo>
                          <a:pt x="3640" y="1269"/>
                        </a:lnTo>
                        <a:lnTo>
                          <a:pt x="3583" y="1227"/>
                        </a:lnTo>
                        <a:lnTo>
                          <a:pt x="3521" y="1165"/>
                        </a:lnTo>
                        <a:lnTo>
                          <a:pt x="3448" y="1092"/>
                        </a:lnTo>
                        <a:lnTo>
                          <a:pt x="3375" y="1004"/>
                        </a:lnTo>
                        <a:lnTo>
                          <a:pt x="3209" y="770"/>
                        </a:lnTo>
                        <a:lnTo>
                          <a:pt x="3109" y="629"/>
                        </a:lnTo>
                        <a:lnTo>
                          <a:pt x="3001" y="488"/>
                        </a:lnTo>
                        <a:lnTo>
                          <a:pt x="2881" y="348"/>
                        </a:lnTo>
                        <a:lnTo>
                          <a:pt x="2824" y="285"/>
                        </a:lnTo>
                        <a:lnTo>
                          <a:pt x="2762" y="223"/>
                        </a:lnTo>
                        <a:lnTo>
                          <a:pt x="2699" y="166"/>
                        </a:lnTo>
                        <a:lnTo>
                          <a:pt x="2632" y="120"/>
                        </a:lnTo>
                        <a:lnTo>
                          <a:pt x="2569" y="72"/>
                        </a:lnTo>
                        <a:lnTo>
                          <a:pt x="2501" y="36"/>
                        </a:lnTo>
                        <a:lnTo>
                          <a:pt x="2532" y="113"/>
                        </a:lnTo>
                        <a:lnTo>
                          <a:pt x="2485" y="88"/>
                        </a:lnTo>
                        <a:lnTo>
                          <a:pt x="2433" y="67"/>
                        </a:lnTo>
                        <a:lnTo>
                          <a:pt x="2371" y="46"/>
                        </a:lnTo>
                        <a:lnTo>
                          <a:pt x="2298" y="20"/>
                        </a:lnTo>
                        <a:lnTo>
                          <a:pt x="2221" y="5"/>
                        </a:lnTo>
                        <a:lnTo>
                          <a:pt x="2148" y="0"/>
                        </a:lnTo>
                        <a:lnTo>
                          <a:pt x="2116" y="0"/>
                        </a:lnTo>
                        <a:lnTo>
                          <a:pt x="2080" y="5"/>
                        </a:lnTo>
                        <a:lnTo>
                          <a:pt x="2184" y="108"/>
                        </a:lnTo>
                        <a:lnTo>
                          <a:pt x="2002" y="93"/>
                        </a:lnTo>
                        <a:lnTo>
                          <a:pt x="1841" y="88"/>
                        </a:lnTo>
                        <a:lnTo>
                          <a:pt x="1768" y="88"/>
                        </a:lnTo>
                        <a:lnTo>
                          <a:pt x="1711" y="98"/>
                        </a:lnTo>
                        <a:lnTo>
                          <a:pt x="1804" y="140"/>
                        </a:lnTo>
                        <a:lnTo>
                          <a:pt x="1679" y="140"/>
                        </a:lnTo>
                        <a:lnTo>
                          <a:pt x="1565" y="150"/>
                        </a:lnTo>
                        <a:lnTo>
                          <a:pt x="1513" y="155"/>
                        </a:lnTo>
                        <a:lnTo>
                          <a:pt x="1467" y="166"/>
                        </a:lnTo>
                        <a:lnTo>
                          <a:pt x="1503" y="250"/>
                        </a:lnTo>
                        <a:lnTo>
                          <a:pt x="1373" y="260"/>
                        </a:lnTo>
                        <a:lnTo>
                          <a:pt x="1258" y="270"/>
                        </a:lnTo>
                        <a:lnTo>
                          <a:pt x="1201" y="280"/>
                        </a:lnTo>
                        <a:lnTo>
                          <a:pt x="1150" y="296"/>
                        </a:lnTo>
                        <a:lnTo>
                          <a:pt x="1232" y="353"/>
                        </a:lnTo>
                        <a:lnTo>
                          <a:pt x="1248" y="369"/>
                        </a:lnTo>
                        <a:lnTo>
                          <a:pt x="1263" y="390"/>
                        </a:lnTo>
                        <a:lnTo>
                          <a:pt x="1285" y="415"/>
                        </a:lnTo>
                        <a:lnTo>
                          <a:pt x="1300" y="452"/>
                        </a:lnTo>
                        <a:lnTo>
                          <a:pt x="1310" y="488"/>
                        </a:lnTo>
                        <a:lnTo>
                          <a:pt x="1310" y="535"/>
                        </a:lnTo>
                        <a:lnTo>
                          <a:pt x="1305" y="562"/>
                        </a:lnTo>
                        <a:lnTo>
                          <a:pt x="1300" y="587"/>
                        </a:lnTo>
                        <a:lnTo>
                          <a:pt x="1180" y="577"/>
                        </a:lnTo>
                        <a:lnTo>
                          <a:pt x="1269" y="645"/>
                        </a:lnTo>
                        <a:lnTo>
                          <a:pt x="1332" y="697"/>
                        </a:lnTo>
                        <a:lnTo>
                          <a:pt x="1357" y="723"/>
                        </a:lnTo>
                        <a:lnTo>
                          <a:pt x="1368" y="744"/>
                        </a:lnTo>
                        <a:lnTo>
                          <a:pt x="1368" y="754"/>
                        </a:lnTo>
                        <a:lnTo>
                          <a:pt x="1368" y="759"/>
                        </a:lnTo>
                        <a:lnTo>
                          <a:pt x="1352" y="764"/>
                        </a:lnTo>
                        <a:lnTo>
                          <a:pt x="1332" y="770"/>
                        </a:lnTo>
                        <a:lnTo>
                          <a:pt x="1305" y="764"/>
                        </a:lnTo>
                        <a:lnTo>
                          <a:pt x="1258" y="759"/>
                        </a:lnTo>
                        <a:lnTo>
                          <a:pt x="1232" y="754"/>
                        </a:lnTo>
                        <a:lnTo>
                          <a:pt x="1285" y="884"/>
                        </a:lnTo>
                        <a:lnTo>
                          <a:pt x="1160" y="894"/>
                        </a:lnTo>
                        <a:lnTo>
                          <a:pt x="1056" y="910"/>
                        </a:lnTo>
                        <a:lnTo>
                          <a:pt x="968" y="926"/>
                        </a:lnTo>
                        <a:lnTo>
                          <a:pt x="983" y="931"/>
                        </a:lnTo>
                        <a:lnTo>
                          <a:pt x="1019" y="952"/>
                        </a:lnTo>
                        <a:lnTo>
                          <a:pt x="1035" y="962"/>
                        </a:lnTo>
                        <a:lnTo>
                          <a:pt x="1050" y="977"/>
                        </a:lnTo>
                        <a:lnTo>
                          <a:pt x="1061" y="994"/>
                        </a:lnTo>
                        <a:lnTo>
                          <a:pt x="1071" y="1014"/>
                        </a:lnTo>
                        <a:lnTo>
                          <a:pt x="1066" y="1019"/>
                        </a:lnTo>
                        <a:lnTo>
                          <a:pt x="1061" y="1030"/>
                        </a:lnTo>
                        <a:lnTo>
                          <a:pt x="1035" y="1040"/>
                        </a:lnTo>
                        <a:lnTo>
                          <a:pt x="998" y="1051"/>
                        </a:lnTo>
                        <a:lnTo>
                          <a:pt x="951" y="1061"/>
                        </a:lnTo>
                        <a:lnTo>
                          <a:pt x="873" y="1072"/>
                        </a:lnTo>
                        <a:lnTo>
                          <a:pt x="838" y="1072"/>
                        </a:lnTo>
                        <a:lnTo>
                          <a:pt x="926" y="1139"/>
                        </a:lnTo>
                        <a:lnTo>
                          <a:pt x="936" y="1155"/>
                        </a:lnTo>
                        <a:lnTo>
                          <a:pt x="941" y="1171"/>
                        </a:lnTo>
                        <a:lnTo>
                          <a:pt x="941" y="1197"/>
                        </a:lnTo>
                        <a:lnTo>
                          <a:pt x="941" y="1222"/>
                        </a:lnTo>
                        <a:lnTo>
                          <a:pt x="926" y="1249"/>
                        </a:lnTo>
                        <a:lnTo>
                          <a:pt x="900" y="1279"/>
                        </a:lnTo>
                        <a:lnTo>
                          <a:pt x="863" y="1306"/>
                        </a:lnTo>
                        <a:lnTo>
                          <a:pt x="879" y="1311"/>
                        </a:lnTo>
                        <a:lnTo>
                          <a:pt x="894" y="1316"/>
                        </a:lnTo>
                        <a:lnTo>
                          <a:pt x="915" y="1327"/>
                        </a:lnTo>
                        <a:lnTo>
                          <a:pt x="931" y="1337"/>
                        </a:lnTo>
                        <a:lnTo>
                          <a:pt x="941" y="1358"/>
                        </a:lnTo>
                        <a:lnTo>
                          <a:pt x="941" y="1379"/>
                        </a:lnTo>
                        <a:lnTo>
                          <a:pt x="936" y="1409"/>
                        </a:lnTo>
                        <a:lnTo>
                          <a:pt x="921" y="1436"/>
                        </a:lnTo>
                        <a:lnTo>
                          <a:pt x="900" y="1462"/>
                        </a:lnTo>
                        <a:lnTo>
                          <a:pt x="879" y="1477"/>
                        </a:lnTo>
                        <a:lnTo>
                          <a:pt x="858" y="1488"/>
                        </a:lnTo>
                        <a:lnTo>
                          <a:pt x="821" y="1499"/>
                        </a:lnTo>
                        <a:lnTo>
                          <a:pt x="806" y="1499"/>
                        </a:lnTo>
                        <a:lnTo>
                          <a:pt x="821" y="1509"/>
                        </a:lnTo>
                        <a:lnTo>
                          <a:pt x="858" y="1524"/>
                        </a:lnTo>
                        <a:lnTo>
                          <a:pt x="873" y="1539"/>
                        </a:lnTo>
                        <a:lnTo>
                          <a:pt x="889" y="1556"/>
                        </a:lnTo>
                        <a:lnTo>
                          <a:pt x="894" y="1571"/>
                        </a:lnTo>
                        <a:lnTo>
                          <a:pt x="884" y="1592"/>
                        </a:lnTo>
                        <a:lnTo>
                          <a:pt x="868" y="1613"/>
                        </a:lnTo>
                        <a:lnTo>
                          <a:pt x="838" y="1623"/>
                        </a:lnTo>
                        <a:lnTo>
                          <a:pt x="806" y="1639"/>
                        </a:lnTo>
                        <a:lnTo>
                          <a:pt x="769" y="1649"/>
                        </a:lnTo>
                        <a:lnTo>
                          <a:pt x="713" y="1659"/>
                        </a:lnTo>
                        <a:lnTo>
                          <a:pt x="686" y="1664"/>
                        </a:lnTo>
                        <a:lnTo>
                          <a:pt x="702" y="1676"/>
                        </a:lnTo>
                        <a:lnTo>
                          <a:pt x="738" y="1701"/>
                        </a:lnTo>
                        <a:lnTo>
                          <a:pt x="754" y="1717"/>
                        </a:lnTo>
                        <a:lnTo>
                          <a:pt x="759" y="1728"/>
                        </a:lnTo>
                        <a:lnTo>
                          <a:pt x="759" y="1738"/>
                        </a:lnTo>
                        <a:lnTo>
                          <a:pt x="754" y="1743"/>
                        </a:lnTo>
                        <a:lnTo>
                          <a:pt x="733" y="1753"/>
                        </a:lnTo>
                        <a:lnTo>
                          <a:pt x="666" y="1779"/>
                        </a:lnTo>
                        <a:lnTo>
                          <a:pt x="588" y="1806"/>
                        </a:lnTo>
                        <a:lnTo>
                          <a:pt x="499" y="1847"/>
                        </a:lnTo>
                        <a:lnTo>
                          <a:pt x="531" y="1847"/>
                        </a:lnTo>
                        <a:lnTo>
                          <a:pt x="593" y="1858"/>
                        </a:lnTo>
                        <a:lnTo>
                          <a:pt x="629" y="1868"/>
                        </a:lnTo>
                        <a:lnTo>
                          <a:pt x="666" y="1883"/>
                        </a:lnTo>
                        <a:lnTo>
                          <a:pt x="691" y="1904"/>
                        </a:lnTo>
                        <a:lnTo>
                          <a:pt x="697" y="1915"/>
                        </a:lnTo>
                        <a:lnTo>
                          <a:pt x="702" y="1931"/>
                        </a:lnTo>
                        <a:lnTo>
                          <a:pt x="702" y="1961"/>
                        </a:lnTo>
                        <a:lnTo>
                          <a:pt x="691" y="1993"/>
                        </a:lnTo>
                        <a:lnTo>
                          <a:pt x="676" y="2024"/>
                        </a:lnTo>
                        <a:lnTo>
                          <a:pt x="656" y="2055"/>
                        </a:lnTo>
                        <a:lnTo>
                          <a:pt x="629" y="2081"/>
                        </a:lnTo>
                        <a:lnTo>
                          <a:pt x="609" y="2103"/>
                        </a:lnTo>
                        <a:lnTo>
                          <a:pt x="582" y="2123"/>
                        </a:lnTo>
                        <a:lnTo>
                          <a:pt x="562" y="2128"/>
                        </a:lnTo>
                        <a:lnTo>
                          <a:pt x="551" y="2133"/>
                        </a:lnTo>
                        <a:lnTo>
                          <a:pt x="551" y="2138"/>
                        </a:lnTo>
                        <a:lnTo>
                          <a:pt x="582" y="2149"/>
                        </a:lnTo>
                        <a:lnTo>
                          <a:pt x="598" y="2154"/>
                        </a:lnTo>
                        <a:lnTo>
                          <a:pt x="619" y="2165"/>
                        </a:lnTo>
                        <a:lnTo>
                          <a:pt x="629" y="2175"/>
                        </a:lnTo>
                        <a:lnTo>
                          <a:pt x="634" y="2191"/>
                        </a:lnTo>
                        <a:lnTo>
                          <a:pt x="624" y="2211"/>
                        </a:lnTo>
                        <a:lnTo>
                          <a:pt x="614" y="2233"/>
                        </a:lnTo>
                        <a:lnTo>
                          <a:pt x="593" y="2248"/>
                        </a:lnTo>
                        <a:lnTo>
                          <a:pt x="567" y="2263"/>
                        </a:lnTo>
                        <a:lnTo>
                          <a:pt x="526" y="2285"/>
                        </a:lnTo>
                        <a:lnTo>
                          <a:pt x="504" y="2295"/>
                        </a:lnTo>
                        <a:lnTo>
                          <a:pt x="531" y="2295"/>
                        </a:lnTo>
                        <a:lnTo>
                          <a:pt x="582" y="2305"/>
                        </a:lnTo>
                        <a:lnTo>
                          <a:pt x="603" y="2315"/>
                        </a:lnTo>
                        <a:lnTo>
                          <a:pt x="624" y="2326"/>
                        </a:lnTo>
                        <a:lnTo>
                          <a:pt x="629" y="2336"/>
                        </a:lnTo>
                        <a:lnTo>
                          <a:pt x="629" y="2341"/>
                        </a:lnTo>
                        <a:lnTo>
                          <a:pt x="629" y="2352"/>
                        </a:lnTo>
                        <a:lnTo>
                          <a:pt x="624" y="2363"/>
                        </a:lnTo>
                        <a:lnTo>
                          <a:pt x="603" y="2388"/>
                        </a:lnTo>
                        <a:lnTo>
                          <a:pt x="577" y="2398"/>
                        </a:lnTo>
                        <a:lnTo>
                          <a:pt x="556" y="2410"/>
                        </a:lnTo>
                        <a:lnTo>
                          <a:pt x="531" y="2420"/>
                        </a:lnTo>
                        <a:lnTo>
                          <a:pt x="489" y="2420"/>
                        </a:lnTo>
                        <a:lnTo>
                          <a:pt x="468" y="2420"/>
                        </a:lnTo>
                        <a:lnTo>
                          <a:pt x="484" y="2425"/>
                        </a:lnTo>
                        <a:lnTo>
                          <a:pt x="514" y="2430"/>
                        </a:lnTo>
                        <a:lnTo>
                          <a:pt x="526" y="2440"/>
                        </a:lnTo>
                        <a:lnTo>
                          <a:pt x="536" y="2451"/>
                        </a:lnTo>
                        <a:lnTo>
                          <a:pt x="536" y="2461"/>
                        </a:lnTo>
                        <a:lnTo>
                          <a:pt x="531" y="2477"/>
                        </a:lnTo>
                        <a:lnTo>
                          <a:pt x="509" y="2498"/>
                        </a:lnTo>
                        <a:lnTo>
                          <a:pt x="479" y="2518"/>
                        </a:lnTo>
                        <a:lnTo>
                          <a:pt x="400" y="2565"/>
                        </a:lnTo>
                        <a:lnTo>
                          <a:pt x="297" y="2617"/>
                        </a:lnTo>
                        <a:lnTo>
                          <a:pt x="317" y="2623"/>
                        </a:lnTo>
                        <a:lnTo>
                          <a:pt x="364" y="2633"/>
                        </a:lnTo>
                        <a:lnTo>
                          <a:pt x="379" y="2643"/>
                        </a:lnTo>
                        <a:lnTo>
                          <a:pt x="390" y="2654"/>
                        </a:lnTo>
                        <a:lnTo>
                          <a:pt x="395" y="2659"/>
                        </a:lnTo>
                        <a:lnTo>
                          <a:pt x="395" y="2665"/>
                        </a:lnTo>
                        <a:lnTo>
                          <a:pt x="379" y="2680"/>
                        </a:lnTo>
                        <a:lnTo>
                          <a:pt x="317" y="2711"/>
                        </a:lnTo>
                        <a:lnTo>
                          <a:pt x="250" y="2737"/>
                        </a:lnTo>
                        <a:lnTo>
                          <a:pt x="162" y="2763"/>
                        </a:lnTo>
                        <a:lnTo>
                          <a:pt x="182" y="2779"/>
                        </a:lnTo>
                        <a:lnTo>
                          <a:pt x="213" y="2810"/>
                        </a:lnTo>
                        <a:lnTo>
                          <a:pt x="229" y="2825"/>
                        </a:lnTo>
                        <a:lnTo>
                          <a:pt x="234" y="2847"/>
                        </a:lnTo>
                        <a:lnTo>
                          <a:pt x="234" y="2852"/>
                        </a:lnTo>
                        <a:lnTo>
                          <a:pt x="234" y="2862"/>
                        </a:lnTo>
                        <a:lnTo>
                          <a:pt x="229" y="2867"/>
                        </a:lnTo>
                        <a:lnTo>
                          <a:pt x="219" y="2872"/>
                        </a:lnTo>
                        <a:lnTo>
                          <a:pt x="187" y="2893"/>
                        </a:lnTo>
                        <a:lnTo>
                          <a:pt x="156" y="2919"/>
                        </a:lnTo>
                        <a:lnTo>
                          <a:pt x="83" y="2982"/>
                        </a:lnTo>
                        <a:lnTo>
                          <a:pt x="0" y="3065"/>
                        </a:lnTo>
                        <a:close/>
                      </a:path>
                    </a:pathLst>
                  </a:cu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0" name="未知"/>
                  <p:cNvSpPr/>
                  <p:nvPr/>
                </p:nvSpPr>
                <p:spPr>
                  <a:xfrm rot="11388000">
                    <a:off x="556560" y="853920"/>
                    <a:ext cx="36864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4" h="1941">
                        <a:moveTo>
                          <a:pt x="0" y="1941"/>
                        </a:moveTo>
                        <a:lnTo>
                          <a:pt x="141" y="1936"/>
                        </a:lnTo>
                        <a:lnTo>
                          <a:pt x="463" y="1916"/>
                        </a:lnTo>
                        <a:lnTo>
                          <a:pt x="655" y="1899"/>
                        </a:lnTo>
                        <a:lnTo>
                          <a:pt x="842" y="1874"/>
                        </a:lnTo>
                        <a:lnTo>
                          <a:pt x="1014" y="1848"/>
                        </a:lnTo>
                        <a:lnTo>
                          <a:pt x="1087" y="1837"/>
                        </a:lnTo>
                        <a:lnTo>
                          <a:pt x="1149" y="1822"/>
                        </a:lnTo>
                        <a:lnTo>
                          <a:pt x="1311" y="1775"/>
                        </a:lnTo>
                        <a:lnTo>
                          <a:pt x="1550" y="1717"/>
                        </a:lnTo>
                        <a:lnTo>
                          <a:pt x="1846" y="1644"/>
                        </a:lnTo>
                        <a:lnTo>
                          <a:pt x="2179" y="1551"/>
                        </a:lnTo>
                        <a:lnTo>
                          <a:pt x="2346" y="1499"/>
                        </a:lnTo>
                        <a:lnTo>
                          <a:pt x="2517" y="1442"/>
                        </a:lnTo>
                        <a:lnTo>
                          <a:pt x="2683" y="1379"/>
                        </a:lnTo>
                        <a:lnTo>
                          <a:pt x="2845" y="1312"/>
                        </a:lnTo>
                        <a:lnTo>
                          <a:pt x="2995" y="1244"/>
                        </a:lnTo>
                        <a:lnTo>
                          <a:pt x="3135" y="1172"/>
                        </a:lnTo>
                        <a:lnTo>
                          <a:pt x="3260" y="1093"/>
                        </a:lnTo>
                        <a:lnTo>
                          <a:pt x="3317" y="1052"/>
                        </a:lnTo>
                        <a:lnTo>
                          <a:pt x="3364" y="1010"/>
                        </a:lnTo>
                        <a:lnTo>
                          <a:pt x="3235" y="432"/>
                        </a:lnTo>
                        <a:lnTo>
                          <a:pt x="3177" y="380"/>
                        </a:lnTo>
                        <a:lnTo>
                          <a:pt x="3053" y="266"/>
                        </a:lnTo>
                        <a:lnTo>
                          <a:pt x="2975" y="198"/>
                        </a:lnTo>
                        <a:lnTo>
                          <a:pt x="2907" y="125"/>
                        </a:lnTo>
                        <a:lnTo>
                          <a:pt x="2845" y="58"/>
                        </a:lnTo>
                        <a:lnTo>
                          <a:pt x="2803" y="0"/>
                        </a:lnTo>
                        <a:lnTo>
                          <a:pt x="2704" y="52"/>
                        </a:lnTo>
                        <a:lnTo>
                          <a:pt x="2444" y="193"/>
                        </a:lnTo>
                        <a:lnTo>
                          <a:pt x="2064" y="401"/>
                        </a:lnTo>
                        <a:lnTo>
                          <a:pt x="1840" y="531"/>
                        </a:lnTo>
                        <a:lnTo>
                          <a:pt x="1612" y="672"/>
                        </a:lnTo>
                        <a:lnTo>
                          <a:pt x="1373" y="817"/>
                        </a:lnTo>
                        <a:lnTo>
                          <a:pt x="1134" y="973"/>
                        </a:lnTo>
                        <a:lnTo>
                          <a:pt x="900" y="1135"/>
                        </a:lnTo>
                        <a:lnTo>
                          <a:pt x="677" y="1296"/>
                        </a:lnTo>
                        <a:lnTo>
                          <a:pt x="468" y="1462"/>
                        </a:lnTo>
                        <a:lnTo>
                          <a:pt x="370" y="1546"/>
                        </a:lnTo>
                        <a:lnTo>
                          <a:pt x="281" y="1629"/>
                        </a:lnTo>
                        <a:lnTo>
                          <a:pt x="198" y="1707"/>
                        </a:lnTo>
                        <a:lnTo>
                          <a:pt x="125" y="1786"/>
                        </a:lnTo>
                        <a:lnTo>
                          <a:pt x="58" y="1864"/>
                        </a:lnTo>
                        <a:lnTo>
                          <a:pt x="0" y="194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1" name="未知"/>
                  <p:cNvSpPr/>
                  <p:nvPr/>
                </p:nvSpPr>
                <p:spPr>
                  <a:xfrm rot="11388000">
                    <a:off x="406080" y="837000"/>
                    <a:ext cx="5367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4888" h="2436">
                        <a:moveTo>
                          <a:pt x="0" y="2436"/>
                        </a:moveTo>
                        <a:lnTo>
                          <a:pt x="358" y="2296"/>
                        </a:lnTo>
                        <a:lnTo>
                          <a:pt x="1169" y="1968"/>
                        </a:lnTo>
                        <a:lnTo>
                          <a:pt x="1628" y="1786"/>
                        </a:lnTo>
                        <a:lnTo>
                          <a:pt x="2044" y="1609"/>
                        </a:lnTo>
                        <a:lnTo>
                          <a:pt x="2381" y="1457"/>
                        </a:lnTo>
                        <a:lnTo>
                          <a:pt x="2501" y="1400"/>
                        </a:lnTo>
                        <a:lnTo>
                          <a:pt x="2584" y="1359"/>
                        </a:lnTo>
                        <a:lnTo>
                          <a:pt x="2828" y="1213"/>
                        </a:lnTo>
                        <a:lnTo>
                          <a:pt x="3057" y="1083"/>
                        </a:lnTo>
                        <a:lnTo>
                          <a:pt x="3250" y="979"/>
                        </a:lnTo>
                        <a:lnTo>
                          <a:pt x="3322" y="942"/>
                        </a:lnTo>
                        <a:lnTo>
                          <a:pt x="3380" y="922"/>
                        </a:lnTo>
                        <a:lnTo>
                          <a:pt x="3469" y="885"/>
                        </a:lnTo>
                        <a:lnTo>
                          <a:pt x="3634" y="812"/>
                        </a:lnTo>
                        <a:lnTo>
                          <a:pt x="3853" y="708"/>
                        </a:lnTo>
                        <a:lnTo>
                          <a:pt x="4103" y="583"/>
                        </a:lnTo>
                        <a:lnTo>
                          <a:pt x="4352" y="458"/>
                        </a:lnTo>
                        <a:lnTo>
                          <a:pt x="4587" y="333"/>
                        </a:lnTo>
                        <a:lnTo>
                          <a:pt x="4685" y="276"/>
                        </a:lnTo>
                        <a:lnTo>
                          <a:pt x="4774" y="219"/>
                        </a:lnTo>
                        <a:lnTo>
                          <a:pt x="4841" y="172"/>
                        </a:lnTo>
                        <a:lnTo>
                          <a:pt x="4888" y="136"/>
                        </a:lnTo>
                        <a:lnTo>
                          <a:pt x="4888" y="115"/>
                        </a:lnTo>
                        <a:lnTo>
                          <a:pt x="4888" y="73"/>
                        </a:lnTo>
                        <a:lnTo>
                          <a:pt x="4882" y="47"/>
                        </a:lnTo>
                        <a:lnTo>
                          <a:pt x="4877" y="26"/>
                        </a:lnTo>
                        <a:lnTo>
                          <a:pt x="4867" y="11"/>
                        </a:lnTo>
                        <a:lnTo>
                          <a:pt x="4846" y="0"/>
                        </a:lnTo>
                        <a:lnTo>
                          <a:pt x="4836" y="0"/>
                        </a:lnTo>
                        <a:lnTo>
                          <a:pt x="4826" y="6"/>
                        </a:lnTo>
                        <a:lnTo>
                          <a:pt x="4799" y="26"/>
                        </a:lnTo>
                        <a:lnTo>
                          <a:pt x="4727" y="109"/>
                        </a:lnTo>
                        <a:lnTo>
                          <a:pt x="4680" y="161"/>
                        </a:lnTo>
                        <a:lnTo>
                          <a:pt x="4628" y="219"/>
                        </a:lnTo>
                        <a:lnTo>
                          <a:pt x="4560" y="271"/>
                        </a:lnTo>
                        <a:lnTo>
                          <a:pt x="4524" y="297"/>
                        </a:lnTo>
                        <a:lnTo>
                          <a:pt x="4482" y="318"/>
                        </a:lnTo>
                        <a:lnTo>
                          <a:pt x="4233" y="443"/>
                        </a:lnTo>
                        <a:lnTo>
                          <a:pt x="3900" y="604"/>
                        </a:lnTo>
                        <a:lnTo>
                          <a:pt x="3593" y="745"/>
                        </a:lnTo>
                        <a:lnTo>
                          <a:pt x="3484" y="792"/>
                        </a:lnTo>
                        <a:lnTo>
                          <a:pt x="3422" y="817"/>
                        </a:lnTo>
                        <a:lnTo>
                          <a:pt x="3380" y="833"/>
                        </a:lnTo>
                        <a:lnTo>
                          <a:pt x="3317" y="864"/>
                        </a:lnTo>
                        <a:lnTo>
                          <a:pt x="3172" y="947"/>
                        </a:lnTo>
                        <a:lnTo>
                          <a:pt x="3010" y="1047"/>
                        </a:lnTo>
                        <a:lnTo>
                          <a:pt x="2875" y="1135"/>
                        </a:lnTo>
                        <a:lnTo>
                          <a:pt x="2730" y="1224"/>
                        </a:lnTo>
                        <a:lnTo>
                          <a:pt x="2533" y="1327"/>
                        </a:lnTo>
                        <a:lnTo>
                          <a:pt x="2329" y="1437"/>
                        </a:lnTo>
                        <a:lnTo>
                          <a:pt x="2152" y="1520"/>
                        </a:lnTo>
                        <a:lnTo>
                          <a:pt x="1726" y="1702"/>
                        </a:lnTo>
                        <a:lnTo>
                          <a:pt x="999" y="2014"/>
                        </a:lnTo>
                        <a:lnTo>
                          <a:pt x="0" y="243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2" name="未知"/>
                  <p:cNvSpPr/>
                  <p:nvPr/>
                </p:nvSpPr>
                <p:spPr>
                  <a:xfrm rot="11388000">
                    <a:off x="711720" y="943200"/>
                    <a:ext cx="174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97" h="240">
                        <a:moveTo>
                          <a:pt x="0" y="5"/>
                        </a:moveTo>
                        <a:lnTo>
                          <a:pt x="198" y="17"/>
                        </a:lnTo>
                        <a:lnTo>
                          <a:pt x="411" y="27"/>
                        </a:lnTo>
                        <a:lnTo>
                          <a:pt x="656" y="47"/>
                        </a:lnTo>
                        <a:lnTo>
                          <a:pt x="921" y="79"/>
                        </a:lnTo>
                        <a:lnTo>
                          <a:pt x="1051" y="95"/>
                        </a:lnTo>
                        <a:lnTo>
                          <a:pt x="1176" y="115"/>
                        </a:lnTo>
                        <a:lnTo>
                          <a:pt x="1285" y="142"/>
                        </a:lnTo>
                        <a:lnTo>
                          <a:pt x="1389" y="172"/>
                        </a:lnTo>
                        <a:lnTo>
                          <a:pt x="1472" y="204"/>
                        </a:lnTo>
                        <a:lnTo>
                          <a:pt x="1509" y="219"/>
                        </a:lnTo>
                        <a:lnTo>
                          <a:pt x="1540" y="240"/>
                        </a:lnTo>
                        <a:lnTo>
                          <a:pt x="1597" y="225"/>
                        </a:lnTo>
                        <a:lnTo>
                          <a:pt x="1571" y="214"/>
                        </a:lnTo>
                        <a:lnTo>
                          <a:pt x="1487" y="183"/>
                        </a:lnTo>
                        <a:lnTo>
                          <a:pt x="1358" y="142"/>
                        </a:lnTo>
                        <a:lnTo>
                          <a:pt x="1176" y="100"/>
                        </a:lnTo>
                        <a:lnTo>
                          <a:pt x="1067" y="73"/>
                        </a:lnTo>
                        <a:lnTo>
                          <a:pt x="947" y="53"/>
                        </a:lnTo>
                        <a:lnTo>
                          <a:pt x="811" y="37"/>
                        </a:lnTo>
                        <a:lnTo>
                          <a:pt x="671" y="22"/>
                        </a:lnTo>
                        <a:lnTo>
                          <a:pt x="521" y="11"/>
                        </a:lnTo>
                        <a:lnTo>
                          <a:pt x="354" y="0"/>
                        </a:lnTo>
                        <a:lnTo>
                          <a:pt x="18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3" name="未知"/>
                  <p:cNvSpPr/>
                  <p:nvPr/>
                </p:nvSpPr>
                <p:spPr>
                  <a:xfrm rot="11388000">
                    <a:off x="619200" y="970920"/>
                    <a:ext cx="22572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59" h="906">
                        <a:moveTo>
                          <a:pt x="0" y="427"/>
                        </a:moveTo>
                        <a:lnTo>
                          <a:pt x="141" y="448"/>
                        </a:lnTo>
                        <a:lnTo>
                          <a:pt x="463" y="505"/>
                        </a:lnTo>
                        <a:lnTo>
                          <a:pt x="640" y="542"/>
                        </a:lnTo>
                        <a:lnTo>
                          <a:pt x="806" y="578"/>
                        </a:lnTo>
                        <a:lnTo>
                          <a:pt x="879" y="599"/>
                        </a:lnTo>
                        <a:lnTo>
                          <a:pt x="941" y="619"/>
                        </a:lnTo>
                        <a:lnTo>
                          <a:pt x="989" y="641"/>
                        </a:lnTo>
                        <a:lnTo>
                          <a:pt x="1024" y="661"/>
                        </a:lnTo>
                        <a:lnTo>
                          <a:pt x="1061" y="677"/>
                        </a:lnTo>
                        <a:lnTo>
                          <a:pt x="1108" y="698"/>
                        </a:lnTo>
                        <a:lnTo>
                          <a:pt x="1171" y="719"/>
                        </a:lnTo>
                        <a:lnTo>
                          <a:pt x="1238" y="744"/>
                        </a:lnTo>
                        <a:lnTo>
                          <a:pt x="1404" y="781"/>
                        </a:lnTo>
                        <a:lnTo>
                          <a:pt x="1581" y="823"/>
                        </a:lnTo>
                        <a:lnTo>
                          <a:pt x="1893" y="879"/>
                        </a:lnTo>
                        <a:lnTo>
                          <a:pt x="2034" y="906"/>
                        </a:lnTo>
                        <a:lnTo>
                          <a:pt x="2059" y="854"/>
                        </a:lnTo>
                        <a:lnTo>
                          <a:pt x="1924" y="833"/>
                        </a:lnTo>
                        <a:lnTo>
                          <a:pt x="1623" y="781"/>
                        </a:lnTo>
                        <a:lnTo>
                          <a:pt x="1456" y="749"/>
                        </a:lnTo>
                        <a:lnTo>
                          <a:pt x="1295" y="714"/>
                        </a:lnTo>
                        <a:lnTo>
                          <a:pt x="1165" y="682"/>
                        </a:lnTo>
                        <a:lnTo>
                          <a:pt x="1118" y="666"/>
                        </a:lnTo>
                        <a:lnTo>
                          <a:pt x="1087" y="651"/>
                        </a:lnTo>
                        <a:lnTo>
                          <a:pt x="1056" y="630"/>
                        </a:lnTo>
                        <a:lnTo>
                          <a:pt x="1019" y="604"/>
                        </a:lnTo>
                        <a:lnTo>
                          <a:pt x="936" y="531"/>
                        </a:lnTo>
                        <a:lnTo>
                          <a:pt x="723" y="329"/>
                        </a:lnTo>
                        <a:lnTo>
                          <a:pt x="609" y="219"/>
                        </a:lnTo>
                        <a:lnTo>
                          <a:pt x="495" y="125"/>
                        </a:lnTo>
                        <a:lnTo>
                          <a:pt x="442" y="84"/>
                        </a:lnTo>
                        <a:lnTo>
                          <a:pt x="390" y="47"/>
                        </a:lnTo>
                        <a:lnTo>
                          <a:pt x="343" y="21"/>
                        </a:lnTo>
                        <a:lnTo>
                          <a:pt x="302" y="0"/>
                        </a:lnTo>
                        <a:lnTo>
                          <a:pt x="562" y="234"/>
                        </a:lnTo>
                        <a:lnTo>
                          <a:pt x="759" y="417"/>
                        </a:lnTo>
                        <a:lnTo>
                          <a:pt x="837" y="494"/>
                        </a:lnTo>
                        <a:lnTo>
                          <a:pt x="889" y="552"/>
                        </a:lnTo>
                        <a:lnTo>
                          <a:pt x="775" y="531"/>
                        </a:lnTo>
                        <a:lnTo>
                          <a:pt x="515" y="479"/>
                        </a:lnTo>
                        <a:lnTo>
                          <a:pt x="365" y="459"/>
                        </a:lnTo>
                        <a:lnTo>
                          <a:pt x="218" y="437"/>
                        </a:lnTo>
                        <a:lnTo>
                          <a:pt x="94" y="427"/>
                        </a:lnTo>
                        <a:lnTo>
                          <a:pt x="41" y="427"/>
                        </a:lnTo>
                        <a:lnTo>
                          <a:pt x="0" y="42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4" name="未知"/>
                  <p:cNvSpPr/>
                  <p:nvPr/>
                </p:nvSpPr>
                <p:spPr>
                  <a:xfrm rot="11388000">
                    <a:off x="560160" y="991800"/>
                    <a:ext cx="248760" cy="11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267" h="1181">
                        <a:moveTo>
                          <a:pt x="0" y="286"/>
                        </a:moveTo>
                        <a:lnTo>
                          <a:pt x="156" y="339"/>
                        </a:lnTo>
                        <a:lnTo>
                          <a:pt x="514" y="469"/>
                        </a:lnTo>
                        <a:lnTo>
                          <a:pt x="712" y="546"/>
                        </a:lnTo>
                        <a:lnTo>
                          <a:pt x="900" y="624"/>
                        </a:lnTo>
                        <a:lnTo>
                          <a:pt x="1050" y="692"/>
                        </a:lnTo>
                        <a:lnTo>
                          <a:pt x="1107" y="724"/>
                        </a:lnTo>
                        <a:lnTo>
                          <a:pt x="1149" y="749"/>
                        </a:lnTo>
                        <a:lnTo>
                          <a:pt x="1107" y="776"/>
                        </a:lnTo>
                        <a:lnTo>
                          <a:pt x="1008" y="822"/>
                        </a:lnTo>
                        <a:lnTo>
                          <a:pt x="940" y="848"/>
                        </a:lnTo>
                        <a:lnTo>
                          <a:pt x="868" y="874"/>
                        </a:lnTo>
                        <a:lnTo>
                          <a:pt x="785" y="896"/>
                        </a:lnTo>
                        <a:lnTo>
                          <a:pt x="701" y="906"/>
                        </a:lnTo>
                        <a:lnTo>
                          <a:pt x="743" y="906"/>
                        </a:lnTo>
                        <a:lnTo>
                          <a:pt x="790" y="901"/>
                        </a:lnTo>
                        <a:lnTo>
                          <a:pt x="853" y="896"/>
                        </a:lnTo>
                        <a:lnTo>
                          <a:pt x="925" y="884"/>
                        </a:lnTo>
                        <a:lnTo>
                          <a:pt x="1008" y="864"/>
                        </a:lnTo>
                        <a:lnTo>
                          <a:pt x="1092" y="833"/>
                        </a:lnTo>
                        <a:lnTo>
                          <a:pt x="1170" y="796"/>
                        </a:lnTo>
                        <a:lnTo>
                          <a:pt x="1305" y="859"/>
                        </a:lnTo>
                        <a:lnTo>
                          <a:pt x="1617" y="989"/>
                        </a:lnTo>
                        <a:lnTo>
                          <a:pt x="1794" y="1061"/>
                        </a:lnTo>
                        <a:lnTo>
                          <a:pt x="1965" y="1124"/>
                        </a:lnTo>
                        <a:lnTo>
                          <a:pt x="2043" y="1145"/>
                        </a:lnTo>
                        <a:lnTo>
                          <a:pt x="2111" y="1166"/>
                        </a:lnTo>
                        <a:lnTo>
                          <a:pt x="2168" y="1176"/>
                        </a:lnTo>
                        <a:lnTo>
                          <a:pt x="2210" y="1181"/>
                        </a:lnTo>
                        <a:lnTo>
                          <a:pt x="2267" y="1161"/>
                        </a:lnTo>
                        <a:lnTo>
                          <a:pt x="2230" y="1156"/>
                        </a:lnTo>
                        <a:lnTo>
                          <a:pt x="2142" y="1124"/>
                        </a:lnTo>
                        <a:lnTo>
                          <a:pt x="2095" y="1109"/>
                        </a:lnTo>
                        <a:lnTo>
                          <a:pt x="2048" y="1088"/>
                        </a:lnTo>
                        <a:lnTo>
                          <a:pt x="2007" y="1061"/>
                        </a:lnTo>
                        <a:lnTo>
                          <a:pt x="1981" y="1041"/>
                        </a:lnTo>
                        <a:lnTo>
                          <a:pt x="1856" y="869"/>
                        </a:lnTo>
                        <a:lnTo>
                          <a:pt x="1746" y="724"/>
                        </a:lnTo>
                        <a:lnTo>
                          <a:pt x="1617" y="552"/>
                        </a:lnTo>
                        <a:lnTo>
                          <a:pt x="1471" y="380"/>
                        </a:lnTo>
                        <a:lnTo>
                          <a:pt x="1399" y="297"/>
                        </a:lnTo>
                        <a:lnTo>
                          <a:pt x="1326" y="219"/>
                        </a:lnTo>
                        <a:lnTo>
                          <a:pt x="1252" y="151"/>
                        </a:lnTo>
                        <a:lnTo>
                          <a:pt x="1180" y="89"/>
                        </a:lnTo>
                        <a:lnTo>
                          <a:pt x="1112" y="37"/>
                        </a:lnTo>
                        <a:lnTo>
                          <a:pt x="1050" y="0"/>
                        </a:lnTo>
                        <a:lnTo>
                          <a:pt x="1149" y="94"/>
                        </a:lnTo>
                        <a:lnTo>
                          <a:pt x="1247" y="192"/>
                        </a:lnTo>
                        <a:lnTo>
                          <a:pt x="1377" y="327"/>
                        </a:lnTo>
                        <a:lnTo>
                          <a:pt x="1513" y="484"/>
                        </a:lnTo>
                        <a:lnTo>
                          <a:pt x="1653" y="651"/>
                        </a:lnTo>
                        <a:lnTo>
                          <a:pt x="1716" y="739"/>
                        </a:lnTo>
                        <a:lnTo>
                          <a:pt x="1778" y="833"/>
                        </a:lnTo>
                        <a:lnTo>
                          <a:pt x="1835" y="921"/>
                        </a:lnTo>
                        <a:lnTo>
                          <a:pt x="1888" y="1015"/>
                        </a:lnTo>
                        <a:lnTo>
                          <a:pt x="1846" y="1009"/>
                        </a:lnTo>
                        <a:lnTo>
                          <a:pt x="1794" y="994"/>
                        </a:lnTo>
                        <a:lnTo>
                          <a:pt x="1706" y="963"/>
                        </a:lnTo>
                        <a:lnTo>
                          <a:pt x="1591" y="916"/>
                        </a:lnTo>
                        <a:lnTo>
                          <a:pt x="1435" y="848"/>
                        </a:lnTo>
                        <a:lnTo>
                          <a:pt x="1242" y="749"/>
                        </a:lnTo>
                        <a:lnTo>
                          <a:pt x="1003" y="614"/>
                        </a:lnTo>
                        <a:lnTo>
                          <a:pt x="951" y="541"/>
                        </a:lnTo>
                        <a:lnTo>
                          <a:pt x="894" y="458"/>
                        </a:lnTo>
                        <a:lnTo>
                          <a:pt x="816" y="369"/>
                        </a:lnTo>
                        <a:lnTo>
                          <a:pt x="770" y="322"/>
                        </a:lnTo>
                        <a:lnTo>
                          <a:pt x="723" y="276"/>
                        </a:lnTo>
                        <a:lnTo>
                          <a:pt x="670" y="229"/>
                        </a:lnTo>
                        <a:lnTo>
                          <a:pt x="613" y="187"/>
                        </a:lnTo>
                        <a:lnTo>
                          <a:pt x="556" y="151"/>
                        </a:lnTo>
                        <a:lnTo>
                          <a:pt x="494" y="120"/>
                        </a:lnTo>
                        <a:lnTo>
                          <a:pt x="431" y="94"/>
                        </a:lnTo>
                        <a:lnTo>
                          <a:pt x="369" y="78"/>
                        </a:lnTo>
                        <a:lnTo>
                          <a:pt x="436" y="114"/>
                        </a:lnTo>
                        <a:lnTo>
                          <a:pt x="509" y="162"/>
                        </a:lnTo>
                        <a:lnTo>
                          <a:pt x="593" y="219"/>
                        </a:lnTo>
                        <a:lnTo>
                          <a:pt x="681" y="292"/>
                        </a:lnTo>
                        <a:lnTo>
                          <a:pt x="775" y="374"/>
                        </a:lnTo>
                        <a:lnTo>
                          <a:pt x="816" y="422"/>
                        </a:lnTo>
                        <a:lnTo>
                          <a:pt x="853" y="469"/>
                        </a:lnTo>
                        <a:lnTo>
                          <a:pt x="889" y="515"/>
                        </a:lnTo>
                        <a:lnTo>
                          <a:pt x="915" y="567"/>
                        </a:lnTo>
                        <a:lnTo>
                          <a:pt x="800" y="526"/>
                        </a:lnTo>
                        <a:lnTo>
                          <a:pt x="525" y="432"/>
                        </a:lnTo>
                        <a:lnTo>
                          <a:pt x="369" y="380"/>
                        </a:lnTo>
                        <a:lnTo>
                          <a:pt x="224" y="339"/>
                        </a:lnTo>
                        <a:lnTo>
                          <a:pt x="94" y="302"/>
                        </a:lnTo>
                        <a:lnTo>
                          <a:pt x="0" y="28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5" name="未知"/>
                  <p:cNvSpPr/>
                  <p:nvPr/>
                </p:nvSpPr>
                <p:spPr>
                  <a:xfrm rot="11388000">
                    <a:off x="799560" y="919800"/>
                    <a:ext cx="103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946" h="155">
                        <a:moveTo>
                          <a:pt x="0" y="30"/>
                        </a:moveTo>
                        <a:lnTo>
                          <a:pt x="103" y="30"/>
                        </a:lnTo>
                        <a:lnTo>
                          <a:pt x="213" y="30"/>
                        </a:lnTo>
                        <a:lnTo>
                          <a:pt x="343" y="42"/>
                        </a:lnTo>
                        <a:lnTo>
                          <a:pt x="488" y="52"/>
                        </a:lnTo>
                        <a:lnTo>
                          <a:pt x="634" y="78"/>
                        </a:lnTo>
                        <a:lnTo>
                          <a:pt x="702" y="93"/>
                        </a:lnTo>
                        <a:lnTo>
                          <a:pt x="764" y="109"/>
                        </a:lnTo>
                        <a:lnTo>
                          <a:pt x="826" y="130"/>
                        </a:lnTo>
                        <a:lnTo>
                          <a:pt x="879" y="155"/>
                        </a:lnTo>
                        <a:lnTo>
                          <a:pt x="946" y="135"/>
                        </a:lnTo>
                        <a:lnTo>
                          <a:pt x="857" y="104"/>
                        </a:lnTo>
                        <a:lnTo>
                          <a:pt x="764" y="72"/>
                        </a:lnTo>
                        <a:lnTo>
                          <a:pt x="634" y="42"/>
                        </a:lnTo>
                        <a:lnTo>
                          <a:pt x="488" y="15"/>
                        </a:lnTo>
                        <a:lnTo>
                          <a:pt x="410" y="5"/>
                        </a:lnTo>
                        <a:lnTo>
                          <a:pt x="332" y="0"/>
                        </a:lnTo>
                        <a:lnTo>
                          <a:pt x="250" y="0"/>
                        </a:lnTo>
                        <a:lnTo>
                          <a:pt x="166" y="5"/>
                        </a:lnTo>
                        <a:lnTo>
                          <a:pt x="83" y="15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6" name="未知"/>
                  <p:cNvSpPr/>
                  <p:nvPr/>
                </p:nvSpPr>
                <p:spPr>
                  <a:xfrm rot="11388000">
                    <a:off x="876960" y="902160"/>
                    <a:ext cx="540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9" h="53">
                        <a:moveTo>
                          <a:pt x="0" y="47"/>
                        </a:moveTo>
                        <a:lnTo>
                          <a:pt x="53" y="36"/>
                        </a:lnTo>
                        <a:lnTo>
                          <a:pt x="110" y="31"/>
                        </a:lnTo>
                        <a:lnTo>
                          <a:pt x="172" y="21"/>
                        </a:lnTo>
                        <a:lnTo>
                          <a:pt x="245" y="16"/>
                        </a:lnTo>
                        <a:lnTo>
                          <a:pt x="323" y="21"/>
                        </a:lnTo>
                        <a:lnTo>
                          <a:pt x="385" y="31"/>
                        </a:lnTo>
                        <a:lnTo>
                          <a:pt x="417" y="42"/>
                        </a:lnTo>
                        <a:lnTo>
                          <a:pt x="442" y="53"/>
                        </a:lnTo>
                        <a:lnTo>
                          <a:pt x="499" y="36"/>
                        </a:lnTo>
                        <a:lnTo>
                          <a:pt x="474" y="21"/>
                        </a:lnTo>
                        <a:lnTo>
                          <a:pt x="432" y="11"/>
                        </a:lnTo>
                        <a:lnTo>
                          <a:pt x="380" y="5"/>
                        </a:lnTo>
                        <a:lnTo>
                          <a:pt x="312" y="0"/>
                        </a:lnTo>
                        <a:lnTo>
                          <a:pt x="224" y="5"/>
                        </a:lnTo>
                        <a:lnTo>
                          <a:pt x="120" y="21"/>
                        </a:lnTo>
                        <a:lnTo>
                          <a:pt x="0" y="4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7" name="未知"/>
                  <p:cNvSpPr/>
                  <p:nvPr/>
                </p:nvSpPr>
                <p:spPr>
                  <a:xfrm rot="11388000">
                    <a:off x="867960" y="862920"/>
                    <a:ext cx="3960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411">
                        <a:moveTo>
                          <a:pt x="0" y="411"/>
                        </a:moveTo>
                        <a:lnTo>
                          <a:pt x="57" y="370"/>
                        </a:lnTo>
                        <a:lnTo>
                          <a:pt x="119" y="323"/>
                        </a:lnTo>
                        <a:lnTo>
                          <a:pt x="187" y="271"/>
                        </a:lnTo>
                        <a:lnTo>
                          <a:pt x="254" y="203"/>
                        </a:lnTo>
                        <a:lnTo>
                          <a:pt x="286" y="172"/>
                        </a:lnTo>
                        <a:lnTo>
                          <a:pt x="312" y="135"/>
                        </a:lnTo>
                        <a:lnTo>
                          <a:pt x="332" y="99"/>
                        </a:lnTo>
                        <a:lnTo>
                          <a:pt x="348" y="63"/>
                        </a:lnTo>
                        <a:lnTo>
                          <a:pt x="359" y="31"/>
                        </a:lnTo>
                        <a:lnTo>
                          <a:pt x="359" y="0"/>
                        </a:lnTo>
                        <a:lnTo>
                          <a:pt x="296" y="26"/>
                        </a:lnTo>
                        <a:lnTo>
                          <a:pt x="296" y="31"/>
                        </a:lnTo>
                        <a:lnTo>
                          <a:pt x="301" y="42"/>
                        </a:lnTo>
                        <a:lnTo>
                          <a:pt x="301" y="63"/>
                        </a:lnTo>
                        <a:lnTo>
                          <a:pt x="291" y="99"/>
                        </a:lnTo>
                        <a:lnTo>
                          <a:pt x="264" y="146"/>
                        </a:lnTo>
                        <a:lnTo>
                          <a:pt x="207" y="213"/>
                        </a:lnTo>
                        <a:lnTo>
                          <a:pt x="124" y="302"/>
                        </a:lnTo>
                        <a:lnTo>
                          <a:pt x="0" y="41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8" name="未知"/>
                  <p:cNvSpPr/>
                  <p:nvPr/>
                </p:nvSpPr>
                <p:spPr>
                  <a:xfrm rot="11388000">
                    <a:off x="807480" y="842040"/>
                    <a:ext cx="69120" cy="77400"/>
                  </a:xfrm>
                  <a:custGeom>
                    <a:avLst/>
                    <a:gdLst/>
                    <a:ahLst/>
                    <a:rect l="l" t="t" r="r" b="b"/>
                    <a:pathLst>
                      <a:path w="629" h="776">
                        <a:moveTo>
                          <a:pt x="0" y="776"/>
                        </a:moveTo>
                        <a:lnTo>
                          <a:pt x="93" y="697"/>
                        </a:lnTo>
                        <a:lnTo>
                          <a:pt x="192" y="609"/>
                        </a:lnTo>
                        <a:lnTo>
                          <a:pt x="302" y="500"/>
                        </a:lnTo>
                        <a:lnTo>
                          <a:pt x="353" y="442"/>
                        </a:lnTo>
                        <a:lnTo>
                          <a:pt x="405" y="380"/>
                        </a:lnTo>
                        <a:lnTo>
                          <a:pt x="452" y="317"/>
                        </a:lnTo>
                        <a:lnTo>
                          <a:pt x="494" y="255"/>
                        </a:lnTo>
                        <a:lnTo>
                          <a:pt x="530" y="192"/>
                        </a:lnTo>
                        <a:lnTo>
                          <a:pt x="551" y="130"/>
                        </a:lnTo>
                        <a:lnTo>
                          <a:pt x="567" y="73"/>
                        </a:lnTo>
                        <a:lnTo>
                          <a:pt x="567" y="47"/>
                        </a:lnTo>
                        <a:lnTo>
                          <a:pt x="562" y="20"/>
                        </a:lnTo>
                        <a:lnTo>
                          <a:pt x="629" y="0"/>
                        </a:lnTo>
                        <a:lnTo>
                          <a:pt x="624" y="20"/>
                        </a:lnTo>
                        <a:lnTo>
                          <a:pt x="603" y="83"/>
                        </a:lnTo>
                        <a:lnTo>
                          <a:pt x="567" y="172"/>
                        </a:lnTo>
                        <a:lnTo>
                          <a:pt x="540" y="229"/>
                        </a:lnTo>
                        <a:lnTo>
                          <a:pt x="509" y="287"/>
                        </a:lnTo>
                        <a:lnTo>
                          <a:pt x="473" y="344"/>
                        </a:lnTo>
                        <a:lnTo>
                          <a:pt x="427" y="411"/>
                        </a:lnTo>
                        <a:lnTo>
                          <a:pt x="374" y="474"/>
                        </a:lnTo>
                        <a:lnTo>
                          <a:pt x="317" y="536"/>
                        </a:lnTo>
                        <a:lnTo>
                          <a:pt x="250" y="604"/>
                        </a:lnTo>
                        <a:lnTo>
                          <a:pt x="177" y="666"/>
                        </a:lnTo>
                        <a:lnTo>
                          <a:pt x="93" y="724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9" name="未知"/>
                  <p:cNvSpPr/>
                  <p:nvPr/>
                </p:nvSpPr>
                <p:spPr>
                  <a:xfrm rot="11388000">
                    <a:off x="718200" y="807480"/>
                    <a:ext cx="11052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1358">
                        <a:moveTo>
                          <a:pt x="0" y="1358"/>
                        </a:moveTo>
                        <a:lnTo>
                          <a:pt x="145" y="1187"/>
                        </a:lnTo>
                        <a:lnTo>
                          <a:pt x="296" y="1010"/>
                        </a:lnTo>
                        <a:lnTo>
                          <a:pt x="472" y="791"/>
                        </a:lnTo>
                        <a:lnTo>
                          <a:pt x="649" y="562"/>
                        </a:lnTo>
                        <a:lnTo>
                          <a:pt x="728" y="448"/>
                        </a:lnTo>
                        <a:lnTo>
                          <a:pt x="801" y="339"/>
                        </a:lnTo>
                        <a:lnTo>
                          <a:pt x="863" y="234"/>
                        </a:lnTo>
                        <a:lnTo>
                          <a:pt x="915" y="146"/>
                        </a:lnTo>
                        <a:lnTo>
                          <a:pt x="946" y="62"/>
                        </a:lnTo>
                        <a:lnTo>
                          <a:pt x="956" y="31"/>
                        </a:lnTo>
                        <a:lnTo>
                          <a:pt x="961" y="0"/>
                        </a:lnTo>
                        <a:lnTo>
                          <a:pt x="1003" y="10"/>
                        </a:lnTo>
                        <a:lnTo>
                          <a:pt x="998" y="26"/>
                        </a:lnTo>
                        <a:lnTo>
                          <a:pt x="978" y="84"/>
                        </a:lnTo>
                        <a:lnTo>
                          <a:pt x="936" y="182"/>
                        </a:lnTo>
                        <a:lnTo>
                          <a:pt x="899" y="249"/>
                        </a:lnTo>
                        <a:lnTo>
                          <a:pt x="858" y="328"/>
                        </a:lnTo>
                        <a:lnTo>
                          <a:pt x="801" y="411"/>
                        </a:lnTo>
                        <a:lnTo>
                          <a:pt x="733" y="511"/>
                        </a:lnTo>
                        <a:lnTo>
                          <a:pt x="649" y="624"/>
                        </a:lnTo>
                        <a:lnTo>
                          <a:pt x="556" y="744"/>
                        </a:lnTo>
                        <a:lnTo>
                          <a:pt x="442" y="880"/>
                        </a:lnTo>
                        <a:lnTo>
                          <a:pt x="312" y="1025"/>
                        </a:lnTo>
                        <a:lnTo>
                          <a:pt x="166" y="1187"/>
                        </a:lnTo>
                        <a:lnTo>
                          <a:pt x="0" y="1358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0" name="未知"/>
                  <p:cNvSpPr/>
                  <p:nvPr/>
                </p:nvSpPr>
                <p:spPr>
                  <a:xfrm rot="11388000">
                    <a:off x="640800" y="768240"/>
                    <a:ext cx="11880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81" h="1995">
                        <a:moveTo>
                          <a:pt x="0" y="1995"/>
                        </a:moveTo>
                        <a:lnTo>
                          <a:pt x="167" y="1745"/>
                        </a:lnTo>
                        <a:lnTo>
                          <a:pt x="332" y="1485"/>
                        </a:lnTo>
                        <a:lnTo>
                          <a:pt x="531" y="1166"/>
                        </a:lnTo>
                        <a:lnTo>
                          <a:pt x="624" y="1001"/>
                        </a:lnTo>
                        <a:lnTo>
                          <a:pt x="723" y="834"/>
                        </a:lnTo>
                        <a:lnTo>
                          <a:pt x="806" y="667"/>
                        </a:lnTo>
                        <a:lnTo>
                          <a:pt x="884" y="511"/>
                        </a:lnTo>
                        <a:lnTo>
                          <a:pt x="946" y="365"/>
                        </a:lnTo>
                        <a:lnTo>
                          <a:pt x="998" y="230"/>
                        </a:lnTo>
                        <a:lnTo>
                          <a:pt x="1013" y="172"/>
                        </a:lnTo>
                        <a:lnTo>
                          <a:pt x="1025" y="115"/>
                        </a:lnTo>
                        <a:lnTo>
                          <a:pt x="1030" y="69"/>
                        </a:lnTo>
                        <a:lnTo>
                          <a:pt x="1030" y="27"/>
                        </a:lnTo>
                        <a:lnTo>
                          <a:pt x="1081" y="0"/>
                        </a:lnTo>
                        <a:lnTo>
                          <a:pt x="1081" y="22"/>
                        </a:lnTo>
                        <a:lnTo>
                          <a:pt x="1066" y="100"/>
                        </a:lnTo>
                        <a:lnTo>
                          <a:pt x="1050" y="157"/>
                        </a:lnTo>
                        <a:lnTo>
                          <a:pt x="1030" y="235"/>
                        </a:lnTo>
                        <a:lnTo>
                          <a:pt x="998" y="324"/>
                        </a:lnTo>
                        <a:lnTo>
                          <a:pt x="951" y="433"/>
                        </a:lnTo>
                        <a:lnTo>
                          <a:pt x="894" y="558"/>
                        </a:lnTo>
                        <a:lnTo>
                          <a:pt x="821" y="704"/>
                        </a:lnTo>
                        <a:lnTo>
                          <a:pt x="733" y="864"/>
                        </a:lnTo>
                        <a:lnTo>
                          <a:pt x="629" y="1047"/>
                        </a:lnTo>
                        <a:lnTo>
                          <a:pt x="504" y="1250"/>
                        </a:lnTo>
                        <a:lnTo>
                          <a:pt x="359" y="1474"/>
                        </a:lnTo>
                        <a:lnTo>
                          <a:pt x="192" y="1723"/>
                        </a:lnTo>
                        <a:lnTo>
                          <a:pt x="0" y="199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1" name="未知"/>
                  <p:cNvSpPr/>
                  <p:nvPr/>
                </p:nvSpPr>
                <p:spPr>
                  <a:xfrm rot="11388000">
                    <a:off x="707400" y="765000"/>
                    <a:ext cx="1296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797">
                        <a:moveTo>
                          <a:pt x="0" y="797"/>
                        </a:moveTo>
                        <a:lnTo>
                          <a:pt x="31" y="708"/>
                        </a:lnTo>
                        <a:lnTo>
                          <a:pt x="57" y="608"/>
                        </a:lnTo>
                        <a:lnTo>
                          <a:pt x="77" y="495"/>
                        </a:lnTo>
                        <a:lnTo>
                          <a:pt x="89" y="432"/>
                        </a:lnTo>
                        <a:lnTo>
                          <a:pt x="94" y="370"/>
                        </a:lnTo>
                        <a:lnTo>
                          <a:pt x="99" y="307"/>
                        </a:lnTo>
                        <a:lnTo>
                          <a:pt x="94" y="250"/>
                        </a:lnTo>
                        <a:lnTo>
                          <a:pt x="89" y="193"/>
                        </a:lnTo>
                        <a:lnTo>
                          <a:pt x="72" y="140"/>
                        </a:lnTo>
                        <a:lnTo>
                          <a:pt x="52" y="93"/>
                        </a:lnTo>
                        <a:lnTo>
                          <a:pt x="20" y="51"/>
                        </a:lnTo>
                        <a:lnTo>
                          <a:pt x="57" y="0"/>
                        </a:lnTo>
                        <a:lnTo>
                          <a:pt x="67" y="16"/>
                        </a:lnTo>
                        <a:lnTo>
                          <a:pt x="83" y="51"/>
                        </a:lnTo>
                        <a:lnTo>
                          <a:pt x="104" y="114"/>
                        </a:lnTo>
                        <a:lnTo>
                          <a:pt x="114" y="156"/>
                        </a:lnTo>
                        <a:lnTo>
                          <a:pt x="119" y="203"/>
                        </a:lnTo>
                        <a:lnTo>
                          <a:pt x="125" y="260"/>
                        </a:lnTo>
                        <a:lnTo>
                          <a:pt x="125" y="318"/>
                        </a:lnTo>
                        <a:lnTo>
                          <a:pt x="125" y="385"/>
                        </a:lnTo>
                        <a:lnTo>
                          <a:pt x="114" y="453"/>
                        </a:lnTo>
                        <a:lnTo>
                          <a:pt x="99" y="531"/>
                        </a:lnTo>
                        <a:lnTo>
                          <a:pt x="72" y="614"/>
                        </a:lnTo>
                        <a:lnTo>
                          <a:pt x="42" y="703"/>
                        </a:lnTo>
                        <a:lnTo>
                          <a:pt x="0" y="79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2" name="未知"/>
                  <p:cNvSpPr/>
                  <p:nvPr/>
                </p:nvSpPr>
                <p:spPr>
                  <a:xfrm rot="11388000">
                    <a:off x="583200" y="739080"/>
                    <a:ext cx="82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9" h="2451">
                        <a:moveTo>
                          <a:pt x="0" y="2451"/>
                        </a:moveTo>
                        <a:lnTo>
                          <a:pt x="57" y="2306"/>
                        </a:lnTo>
                        <a:lnTo>
                          <a:pt x="192" y="1957"/>
                        </a:lnTo>
                        <a:lnTo>
                          <a:pt x="270" y="1734"/>
                        </a:lnTo>
                        <a:lnTo>
                          <a:pt x="348" y="1509"/>
                        </a:lnTo>
                        <a:lnTo>
                          <a:pt x="416" y="1285"/>
                        </a:lnTo>
                        <a:lnTo>
                          <a:pt x="442" y="1182"/>
                        </a:lnTo>
                        <a:lnTo>
                          <a:pt x="462" y="1082"/>
                        </a:lnTo>
                        <a:lnTo>
                          <a:pt x="499" y="895"/>
                        </a:lnTo>
                        <a:lnTo>
                          <a:pt x="530" y="713"/>
                        </a:lnTo>
                        <a:lnTo>
                          <a:pt x="587" y="385"/>
                        </a:lnTo>
                        <a:lnTo>
                          <a:pt x="614" y="250"/>
                        </a:lnTo>
                        <a:lnTo>
                          <a:pt x="634" y="141"/>
                        </a:lnTo>
                        <a:lnTo>
                          <a:pt x="660" y="63"/>
                        </a:lnTo>
                        <a:lnTo>
                          <a:pt x="671" y="36"/>
                        </a:lnTo>
                        <a:lnTo>
                          <a:pt x="681" y="16"/>
                        </a:lnTo>
                        <a:lnTo>
                          <a:pt x="749" y="0"/>
                        </a:lnTo>
                        <a:lnTo>
                          <a:pt x="722" y="109"/>
                        </a:lnTo>
                        <a:lnTo>
                          <a:pt x="655" y="365"/>
                        </a:lnTo>
                        <a:lnTo>
                          <a:pt x="582" y="666"/>
                        </a:lnTo>
                        <a:lnTo>
                          <a:pt x="556" y="807"/>
                        </a:lnTo>
                        <a:lnTo>
                          <a:pt x="540" y="910"/>
                        </a:lnTo>
                        <a:lnTo>
                          <a:pt x="535" y="958"/>
                        </a:lnTo>
                        <a:lnTo>
                          <a:pt x="540" y="1015"/>
                        </a:lnTo>
                        <a:lnTo>
                          <a:pt x="556" y="1130"/>
                        </a:lnTo>
                        <a:lnTo>
                          <a:pt x="582" y="1265"/>
                        </a:lnTo>
                        <a:lnTo>
                          <a:pt x="614" y="1400"/>
                        </a:lnTo>
                        <a:lnTo>
                          <a:pt x="639" y="1535"/>
                        </a:lnTo>
                        <a:lnTo>
                          <a:pt x="660" y="1666"/>
                        </a:lnTo>
                        <a:lnTo>
                          <a:pt x="660" y="1728"/>
                        </a:lnTo>
                        <a:lnTo>
                          <a:pt x="660" y="1786"/>
                        </a:lnTo>
                        <a:lnTo>
                          <a:pt x="649" y="1837"/>
                        </a:lnTo>
                        <a:lnTo>
                          <a:pt x="639" y="1879"/>
                        </a:lnTo>
                        <a:lnTo>
                          <a:pt x="639" y="1811"/>
                        </a:lnTo>
                        <a:lnTo>
                          <a:pt x="634" y="1734"/>
                        </a:lnTo>
                        <a:lnTo>
                          <a:pt x="629" y="1639"/>
                        </a:lnTo>
                        <a:lnTo>
                          <a:pt x="614" y="1525"/>
                        </a:lnTo>
                        <a:lnTo>
                          <a:pt x="592" y="1400"/>
                        </a:lnTo>
                        <a:lnTo>
                          <a:pt x="561" y="1275"/>
                        </a:lnTo>
                        <a:lnTo>
                          <a:pt x="540" y="1212"/>
                        </a:lnTo>
                        <a:lnTo>
                          <a:pt x="514" y="1150"/>
                        </a:lnTo>
                        <a:lnTo>
                          <a:pt x="462" y="1317"/>
                        </a:lnTo>
                        <a:lnTo>
                          <a:pt x="405" y="1494"/>
                        </a:lnTo>
                        <a:lnTo>
                          <a:pt x="332" y="1702"/>
                        </a:lnTo>
                        <a:lnTo>
                          <a:pt x="249" y="1926"/>
                        </a:lnTo>
                        <a:lnTo>
                          <a:pt x="160" y="2139"/>
                        </a:lnTo>
                        <a:lnTo>
                          <a:pt x="120" y="2233"/>
                        </a:lnTo>
                        <a:lnTo>
                          <a:pt x="78" y="2321"/>
                        </a:lnTo>
                        <a:lnTo>
                          <a:pt x="36" y="2394"/>
                        </a:lnTo>
                        <a:lnTo>
                          <a:pt x="0" y="245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3" name="未知"/>
                  <p:cNvSpPr/>
                  <p:nvPr/>
                </p:nvSpPr>
                <p:spPr>
                  <a:xfrm rot="11388000">
                    <a:off x="675720" y="852480"/>
                    <a:ext cx="6084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557" h="380">
                        <a:moveTo>
                          <a:pt x="0" y="380"/>
                        </a:moveTo>
                        <a:lnTo>
                          <a:pt x="53" y="333"/>
                        </a:lnTo>
                        <a:lnTo>
                          <a:pt x="115" y="287"/>
                        </a:lnTo>
                        <a:lnTo>
                          <a:pt x="188" y="229"/>
                        </a:lnTo>
                        <a:lnTo>
                          <a:pt x="272" y="172"/>
                        </a:lnTo>
                        <a:lnTo>
                          <a:pt x="360" y="125"/>
                        </a:lnTo>
                        <a:lnTo>
                          <a:pt x="407" y="98"/>
                        </a:lnTo>
                        <a:lnTo>
                          <a:pt x="454" y="83"/>
                        </a:lnTo>
                        <a:lnTo>
                          <a:pt x="495" y="68"/>
                        </a:lnTo>
                        <a:lnTo>
                          <a:pt x="536" y="57"/>
                        </a:lnTo>
                        <a:lnTo>
                          <a:pt x="557" y="0"/>
                        </a:lnTo>
                        <a:lnTo>
                          <a:pt x="506" y="21"/>
                        </a:lnTo>
                        <a:lnTo>
                          <a:pt x="442" y="47"/>
                        </a:lnTo>
                        <a:lnTo>
                          <a:pt x="365" y="83"/>
                        </a:lnTo>
                        <a:lnTo>
                          <a:pt x="277" y="135"/>
                        </a:lnTo>
                        <a:lnTo>
                          <a:pt x="183" y="203"/>
                        </a:lnTo>
                        <a:lnTo>
                          <a:pt x="137" y="240"/>
                        </a:lnTo>
                        <a:lnTo>
                          <a:pt x="89" y="281"/>
                        </a:lnTo>
                        <a:lnTo>
                          <a:pt x="42" y="328"/>
                        </a:lnTo>
                        <a:lnTo>
                          <a:pt x="0" y="38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4" name="未知"/>
                  <p:cNvSpPr/>
                  <p:nvPr/>
                </p:nvSpPr>
                <p:spPr>
                  <a:xfrm rot="11388000">
                    <a:off x="779400" y="804960"/>
                    <a:ext cx="295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635">
                        <a:moveTo>
                          <a:pt x="0" y="635"/>
                        </a:moveTo>
                        <a:lnTo>
                          <a:pt x="41" y="577"/>
                        </a:lnTo>
                        <a:lnTo>
                          <a:pt x="83" y="521"/>
                        </a:lnTo>
                        <a:lnTo>
                          <a:pt x="125" y="447"/>
                        </a:lnTo>
                        <a:lnTo>
                          <a:pt x="166" y="359"/>
                        </a:lnTo>
                        <a:lnTo>
                          <a:pt x="187" y="312"/>
                        </a:lnTo>
                        <a:lnTo>
                          <a:pt x="198" y="260"/>
                        </a:lnTo>
                        <a:lnTo>
                          <a:pt x="208" y="214"/>
                        </a:lnTo>
                        <a:lnTo>
                          <a:pt x="218" y="162"/>
                        </a:lnTo>
                        <a:lnTo>
                          <a:pt x="218" y="115"/>
                        </a:lnTo>
                        <a:lnTo>
                          <a:pt x="208" y="68"/>
                        </a:lnTo>
                        <a:lnTo>
                          <a:pt x="260" y="0"/>
                        </a:lnTo>
                        <a:lnTo>
                          <a:pt x="265" y="57"/>
                        </a:lnTo>
                        <a:lnTo>
                          <a:pt x="260" y="120"/>
                        </a:lnTo>
                        <a:lnTo>
                          <a:pt x="250" y="203"/>
                        </a:lnTo>
                        <a:lnTo>
                          <a:pt x="233" y="255"/>
                        </a:lnTo>
                        <a:lnTo>
                          <a:pt x="218" y="302"/>
                        </a:lnTo>
                        <a:lnTo>
                          <a:pt x="198" y="354"/>
                        </a:lnTo>
                        <a:lnTo>
                          <a:pt x="171" y="412"/>
                        </a:lnTo>
                        <a:lnTo>
                          <a:pt x="140" y="464"/>
                        </a:lnTo>
                        <a:lnTo>
                          <a:pt x="98" y="521"/>
                        </a:lnTo>
                        <a:lnTo>
                          <a:pt x="51" y="577"/>
                        </a:lnTo>
                        <a:lnTo>
                          <a:pt x="0" y="63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5" name="未知"/>
                  <p:cNvSpPr/>
                  <p:nvPr/>
                </p:nvSpPr>
                <p:spPr>
                  <a:xfrm rot="11388000">
                    <a:off x="788400" y="951120"/>
                    <a:ext cx="640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3" h="130">
                        <a:moveTo>
                          <a:pt x="0" y="104"/>
                        </a:moveTo>
                        <a:lnTo>
                          <a:pt x="62" y="114"/>
                        </a:lnTo>
                        <a:lnTo>
                          <a:pt x="125" y="114"/>
                        </a:lnTo>
                        <a:lnTo>
                          <a:pt x="209" y="114"/>
                        </a:lnTo>
                        <a:lnTo>
                          <a:pt x="297" y="104"/>
                        </a:lnTo>
                        <a:lnTo>
                          <a:pt x="339" y="94"/>
                        </a:lnTo>
                        <a:lnTo>
                          <a:pt x="385" y="84"/>
                        </a:lnTo>
                        <a:lnTo>
                          <a:pt x="427" y="67"/>
                        </a:lnTo>
                        <a:lnTo>
                          <a:pt x="469" y="52"/>
                        </a:lnTo>
                        <a:lnTo>
                          <a:pt x="504" y="26"/>
                        </a:lnTo>
                        <a:lnTo>
                          <a:pt x="536" y="0"/>
                        </a:lnTo>
                        <a:lnTo>
                          <a:pt x="583" y="16"/>
                        </a:lnTo>
                        <a:lnTo>
                          <a:pt x="546" y="42"/>
                        </a:lnTo>
                        <a:lnTo>
                          <a:pt x="499" y="67"/>
                        </a:lnTo>
                        <a:lnTo>
                          <a:pt x="437" y="94"/>
                        </a:lnTo>
                        <a:lnTo>
                          <a:pt x="354" y="114"/>
                        </a:lnTo>
                        <a:lnTo>
                          <a:pt x="307" y="125"/>
                        </a:lnTo>
                        <a:lnTo>
                          <a:pt x="255" y="130"/>
                        </a:lnTo>
                        <a:lnTo>
                          <a:pt x="197" y="130"/>
                        </a:lnTo>
                        <a:lnTo>
                          <a:pt x="135" y="125"/>
                        </a:lnTo>
                        <a:lnTo>
                          <a:pt x="68" y="120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6" name="未知"/>
                  <p:cNvSpPr/>
                  <p:nvPr/>
                </p:nvSpPr>
                <p:spPr>
                  <a:xfrm rot="11388000">
                    <a:off x="815760" y="972360"/>
                    <a:ext cx="39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240">
                        <a:moveTo>
                          <a:pt x="0" y="0"/>
                        </a:moveTo>
                        <a:lnTo>
                          <a:pt x="36" y="21"/>
                        </a:lnTo>
                        <a:lnTo>
                          <a:pt x="124" y="73"/>
                        </a:lnTo>
                        <a:lnTo>
                          <a:pt x="177" y="105"/>
                        </a:lnTo>
                        <a:lnTo>
                          <a:pt x="229" y="146"/>
                        </a:lnTo>
                        <a:lnTo>
                          <a:pt x="276" y="188"/>
                        </a:lnTo>
                        <a:lnTo>
                          <a:pt x="312" y="235"/>
                        </a:lnTo>
                        <a:lnTo>
                          <a:pt x="359" y="240"/>
                        </a:lnTo>
                        <a:lnTo>
                          <a:pt x="338" y="213"/>
                        </a:lnTo>
                        <a:lnTo>
                          <a:pt x="312" y="188"/>
                        </a:lnTo>
                        <a:lnTo>
                          <a:pt x="276" y="151"/>
                        </a:lnTo>
                        <a:lnTo>
                          <a:pt x="224" y="115"/>
                        </a:lnTo>
                        <a:lnTo>
                          <a:pt x="166" y="73"/>
                        </a:lnTo>
                        <a:lnTo>
                          <a:pt x="89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7" name="未知"/>
                  <p:cNvSpPr/>
                  <p:nvPr/>
                </p:nvSpPr>
                <p:spPr>
                  <a:xfrm rot="11388000">
                    <a:off x="738000" y="836640"/>
                    <a:ext cx="129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146">
                        <a:moveTo>
                          <a:pt x="47" y="146"/>
                        </a:moveTo>
                        <a:lnTo>
                          <a:pt x="57" y="146"/>
                        </a:lnTo>
                        <a:lnTo>
                          <a:pt x="93" y="141"/>
                        </a:lnTo>
                        <a:lnTo>
                          <a:pt x="109" y="130"/>
                        </a:lnTo>
                        <a:lnTo>
                          <a:pt x="119" y="120"/>
                        </a:lnTo>
                        <a:lnTo>
                          <a:pt x="124" y="104"/>
                        </a:lnTo>
                        <a:lnTo>
                          <a:pt x="124" y="84"/>
                        </a:lnTo>
                        <a:lnTo>
                          <a:pt x="114" y="57"/>
                        </a:lnTo>
                        <a:lnTo>
                          <a:pt x="104" y="37"/>
                        </a:lnTo>
                        <a:lnTo>
                          <a:pt x="87" y="21"/>
                        </a:lnTo>
                        <a:lnTo>
                          <a:pt x="72" y="5"/>
                        </a:lnTo>
                        <a:lnTo>
                          <a:pt x="57" y="0"/>
                        </a:lnTo>
                        <a:lnTo>
                          <a:pt x="41" y="0"/>
                        </a:lnTo>
                        <a:lnTo>
                          <a:pt x="25" y="11"/>
                        </a:lnTo>
                        <a:lnTo>
                          <a:pt x="10" y="32"/>
                        </a:lnTo>
                        <a:lnTo>
                          <a:pt x="0" y="57"/>
                        </a:lnTo>
                        <a:lnTo>
                          <a:pt x="0" y="79"/>
                        </a:lnTo>
                        <a:lnTo>
                          <a:pt x="5" y="99"/>
                        </a:lnTo>
                        <a:lnTo>
                          <a:pt x="15" y="115"/>
                        </a:lnTo>
                        <a:lnTo>
                          <a:pt x="36" y="141"/>
                        </a:lnTo>
                        <a:lnTo>
                          <a:pt x="47" y="146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8" name="未知"/>
                  <p:cNvSpPr/>
                  <p:nvPr/>
                </p:nvSpPr>
                <p:spPr>
                  <a:xfrm rot="11388000">
                    <a:off x="790560" y="1000440"/>
                    <a:ext cx="115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78">
                        <a:moveTo>
                          <a:pt x="0" y="57"/>
                        </a:moveTo>
                        <a:lnTo>
                          <a:pt x="15" y="62"/>
                        </a:lnTo>
                        <a:lnTo>
                          <a:pt x="46" y="73"/>
                        </a:lnTo>
                        <a:lnTo>
                          <a:pt x="62" y="78"/>
                        </a:lnTo>
                        <a:lnTo>
                          <a:pt x="78" y="78"/>
                        </a:lnTo>
                        <a:lnTo>
                          <a:pt x="93" y="67"/>
                        </a:lnTo>
                        <a:lnTo>
                          <a:pt x="98" y="57"/>
                        </a:lnTo>
                        <a:lnTo>
                          <a:pt x="98" y="41"/>
                        </a:lnTo>
                        <a:lnTo>
                          <a:pt x="88" y="25"/>
                        </a:lnTo>
                        <a:lnTo>
                          <a:pt x="73" y="20"/>
                        </a:lnTo>
                        <a:lnTo>
                          <a:pt x="56" y="10"/>
                        </a:lnTo>
                        <a:lnTo>
                          <a:pt x="15" y="5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9" name="未知"/>
                  <p:cNvSpPr/>
                  <p:nvPr/>
                </p:nvSpPr>
                <p:spPr>
                  <a:xfrm rot="11388000">
                    <a:off x="738000" y="1041120"/>
                    <a:ext cx="129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125">
                        <a:moveTo>
                          <a:pt x="0" y="58"/>
                        </a:moveTo>
                        <a:lnTo>
                          <a:pt x="5" y="73"/>
                        </a:lnTo>
                        <a:lnTo>
                          <a:pt x="25" y="105"/>
                        </a:lnTo>
                        <a:lnTo>
                          <a:pt x="42" y="115"/>
                        </a:lnTo>
                        <a:lnTo>
                          <a:pt x="57" y="125"/>
                        </a:lnTo>
                        <a:lnTo>
                          <a:pt x="77" y="125"/>
                        </a:lnTo>
                        <a:lnTo>
                          <a:pt x="98" y="115"/>
                        </a:lnTo>
                        <a:lnTo>
                          <a:pt x="114" y="94"/>
                        </a:lnTo>
                        <a:lnTo>
                          <a:pt x="119" y="78"/>
                        </a:lnTo>
                        <a:lnTo>
                          <a:pt x="119" y="58"/>
                        </a:lnTo>
                        <a:lnTo>
                          <a:pt x="114" y="42"/>
                        </a:lnTo>
                        <a:lnTo>
                          <a:pt x="98" y="26"/>
                        </a:lnTo>
                        <a:lnTo>
                          <a:pt x="82" y="11"/>
                        </a:lnTo>
                        <a:lnTo>
                          <a:pt x="67" y="5"/>
                        </a:lnTo>
                        <a:lnTo>
                          <a:pt x="52" y="0"/>
                        </a:lnTo>
                        <a:lnTo>
                          <a:pt x="35" y="0"/>
                        </a:lnTo>
                        <a:lnTo>
                          <a:pt x="25" y="11"/>
                        </a:lnTo>
                        <a:lnTo>
                          <a:pt x="10" y="31"/>
                        </a:lnTo>
                        <a:lnTo>
                          <a:pt x="0" y="47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0" name="未知"/>
                  <p:cNvSpPr/>
                  <p:nvPr/>
                </p:nvSpPr>
                <p:spPr>
                  <a:xfrm rot="11388000">
                    <a:off x="886680" y="954720"/>
                    <a:ext cx="1008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57">
                        <a:moveTo>
                          <a:pt x="21" y="57"/>
                        </a:moveTo>
                        <a:lnTo>
                          <a:pt x="42" y="57"/>
                        </a:lnTo>
                        <a:lnTo>
                          <a:pt x="73" y="52"/>
                        </a:lnTo>
                        <a:lnTo>
                          <a:pt x="83" y="47"/>
                        </a:lnTo>
                        <a:lnTo>
                          <a:pt x="94" y="37"/>
                        </a:lnTo>
                        <a:lnTo>
                          <a:pt x="94" y="26"/>
                        </a:lnTo>
                        <a:lnTo>
                          <a:pt x="78" y="15"/>
                        </a:lnTo>
                        <a:lnTo>
                          <a:pt x="58" y="5"/>
                        </a:lnTo>
                        <a:lnTo>
                          <a:pt x="42" y="0"/>
                        </a:lnTo>
                        <a:lnTo>
                          <a:pt x="26" y="0"/>
                        </a:lnTo>
                        <a:lnTo>
                          <a:pt x="11" y="5"/>
                        </a:lnTo>
                        <a:lnTo>
                          <a:pt x="6" y="15"/>
                        </a:lnTo>
                        <a:lnTo>
                          <a:pt x="0" y="32"/>
                        </a:lnTo>
                        <a:lnTo>
                          <a:pt x="11" y="47"/>
                        </a:lnTo>
                        <a:lnTo>
                          <a:pt x="21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1" name="Group 1442"/>
                <p:cNvGrpSpPr/>
                <p:nvPr/>
              </p:nvGrpSpPr>
              <p:grpSpPr>
                <a:xfrm>
                  <a:off x="406800" y="1005120"/>
                  <a:ext cx="56160" cy="51120"/>
                  <a:chOff x="406800" y="1005120"/>
                  <a:chExt cx="56160" cy="51120"/>
                </a:xfrm>
              </p:grpSpPr>
              <p:sp>
                <p:nvSpPr>
                  <p:cNvPr id="1482" name="未知"/>
                  <p:cNvSpPr/>
                  <p:nvPr/>
                </p:nvSpPr>
                <p:spPr>
                  <a:xfrm rot="7023600">
                    <a:off x="417600" y="1007640"/>
                    <a:ext cx="3420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333" h="417">
                        <a:moveTo>
                          <a:pt x="323" y="417"/>
                        </a:moveTo>
                        <a:lnTo>
                          <a:pt x="281" y="407"/>
                        </a:lnTo>
                        <a:lnTo>
                          <a:pt x="239" y="391"/>
                        </a:lnTo>
                        <a:lnTo>
                          <a:pt x="193" y="375"/>
                        </a:lnTo>
                        <a:lnTo>
                          <a:pt x="146" y="350"/>
                        </a:lnTo>
                        <a:lnTo>
                          <a:pt x="99" y="318"/>
                        </a:lnTo>
                        <a:lnTo>
                          <a:pt x="83" y="302"/>
                        </a:lnTo>
                        <a:lnTo>
                          <a:pt x="68" y="282"/>
                        </a:lnTo>
                        <a:lnTo>
                          <a:pt x="57" y="261"/>
                        </a:lnTo>
                        <a:lnTo>
                          <a:pt x="47" y="240"/>
                        </a:lnTo>
                        <a:lnTo>
                          <a:pt x="26" y="147"/>
                        </a:lnTo>
                        <a:lnTo>
                          <a:pt x="6" y="68"/>
                        </a:lnTo>
                        <a:lnTo>
                          <a:pt x="0" y="37"/>
                        </a:lnTo>
                        <a:lnTo>
                          <a:pt x="0" y="1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21" y="0"/>
                        </a:lnTo>
                        <a:lnTo>
                          <a:pt x="31" y="6"/>
                        </a:lnTo>
                        <a:lnTo>
                          <a:pt x="57" y="11"/>
                        </a:lnTo>
                        <a:lnTo>
                          <a:pt x="83" y="27"/>
                        </a:lnTo>
                        <a:lnTo>
                          <a:pt x="146" y="73"/>
                        </a:lnTo>
                        <a:lnTo>
                          <a:pt x="208" y="125"/>
                        </a:lnTo>
                        <a:lnTo>
                          <a:pt x="271" y="193"/>
                        </a:lnTo>
                        <a:lnTo>
                          <a:pt x="296" y="230"/>
                        </a:lnTo>
                        <a:lnTo>
                          <a:pt x="313" y="261"/>
                        </a:lnTo>
                        <a:lnTo>
                          <a:pt x="323" y="292"/>
                        </a:lnTo>
                        <a:lnTo>
                          <a:pt x="333" y="323"/>
                        </a:lnTo>
                        <a:lnTo>
                          <a:pt x="333" y="350"/>
                        </a:lnTo>
                        <a:lnTo>
                          <a:pt x="333" y="375"/>
                        </a:lnTo>
                        <a:lnTo>
                          <a:pt x="323" y="417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3" name="未知"/>
                  <p:cNvSpPr/>
                  <p:nvPr/>
                </p:nvSpPr>
                <p:spPr>
                  <a:xfrm rot="3376800">
                    <a:off x="424800" y="1013400"/>
                    <a:ext cx="230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214">
                        <a:moveTo>
                          <a:pt x="0" y="151"/>
                        </a:moveTo>
                        <a:lnTo>
                          <a:pt x="36" y="120"/>
                        </a:lnTo>
                        <a:lnTo>
                          <a:pt x="115" y="57"/>
                        </a:lnTo>
                        <a:lnTo>
                          <a:pt x="156" y="32"/>
                        </a:lnTo>
                        <a:lnTo>
                          <a:pt x="187" y="6"/>
                        </a:lnTo>
                        <a:lnTo>
                          <a:pt x="208" y="0"/>
                        </a:lnTo>
                        <a:lnTo>
                          <a:pt x="213" y="0"/>
                        </a:lnTo>
                        <a:lnTo>
                          <a:pt x="213" y="11"/>
                        </a:lnTo>
                        <a:lnTo>
                          <a:pt x="193" y="69"/>
                        </a:lnTo>
                        <a:lnTo>
                          <a:pt x="162" y="136"/>
                        </a:lnTo>
                        <a:lnTo>
                          <a:pt x="140" y="167"/>
                        </a:lnTo>
                        <a:lnTo>
                          <a:pt x="120" y="187"/>
                        </a:lnTo>
                        <a:lnTo>
                          <a:pt x="98" y="209"/>
                        </a:lnTo>
                        <a:lnTo>
                          <a:pt x="73" y="214"/>
                        </a:lnTo>
                        <a:lnTo>
                          <a:pt x="47" y="209"/>
                        </a:lnTo>
                        <a:lnTo>
                          <a:pt x="31" y="204"/>
                        </a:lnTo>
                        <a:lnTo>
                          <a:pt x="21" y="193"/>
                        </a:lnTo>
                        <a:lnTo>
                          <a:pt x="10" y="182"/>
                        </a:lnTo>
                        <a:lnTo>
                          <a:pt x="0" y="162"/>
                        </a:lnTo>
                        <a:lnTo>
                          <a:pt x="0" y="151"/>
                        </a:lnTo>
                        <a:close/>
                      </a:path>
                    </a:pathLst>
                  </a:cu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84" name="Group 1445"/>
            <p:cNvGrpSpPr/>
            <p:nvPr/>
          </p:nvGrpSpPr>
          <p:grpSpPr>
            <a:xfrm>
              <a:off x="761760" y="1172520"/>
              <a:ext cx="580680" cy="619920"/>
              <a:chOff x="761760" y="1172520"/>
              <a:chExt cx="580680" cy="619920"/>
            </a:xfrm>
          </p:grpSpPr>
          <p:grpSp>
            <p:nvGrpSpPr>
              <p:cNvPr id="1485" name="Group 1446"/>
              <p:cNvGrpSpPr/>
              <p:nvPr/>
            </p:nvGrpSpPr>
            <p:grpSpPr>
              <a:xfrm>
                <a:off x="761760" y="1172520"/>
                <a:ext cx="580680" cy="619920"/>
                <a:chOff x="761760" y="1172520"/>
                <a:chExt cx="580680" cy="619920"/>
              </a:xfrm>
            </p:grpSpPr>
            <p:sp>
              <p:nvSpPr>
                <p:cNvPr id="1486" name="未知"/>
                <p:cNvSpPr/>
                <p:nvPr/>
              </p:nvSpPr>
              <p:spPr>
                <a:xfrm flipH="1" rot="2658600">
                  <a:off x="851400" y="1318680"/>
                  <a:ext cx="416520" cy="38232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未知"/>
                <p:cNvSpPr/>
                <p:nvPr/>
              </p:nvSpPr>
              <p:spPr>
                <a:xfrm flipH="1" rot="2658600">
                  <a:off x="879480" y="1396800"/>
                  <a:ext cx="353160" cy="18180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8" name="未知"/>
                <p:cNvSpPr/>
                <p:nvPr/>
              </p:nvSpPr>
              <p:spPr>
                <a:xfrm flipH="1" rot="2658600">
                  <a:off x="767160" y="1319760"/>
                  <a:ext cx="514080" cy="22608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9" name="未知"/>
                <p:cNvSpPr/>
                <p:nvPr/>
              </p:nvSpPr>
              <p:spPr>
                <a:xfrm flipH="1" rot="2658600">
                  <a:off x="1009080" y="1519200"/>
                  <a:ext cx="167040" cy="2232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0" name="未知"/>
                <p:cNvSpPr/>
                <p:nvPr/>
              </p:nvSpPr>
              <p:spPr>
                <a:xfrm flipH="1" rot="2658600">
                  <a:off x="993240" y="1403640"/>
                  <a:ext cx="216000" cy="8352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1" name="未知"/>
                <p:cNvSpPr/>
                <p:nvPr/>
              </p:nvSpPr>
              <p:spPr>
                <a:xfrm flipH="1" rot="2658600">
                  <a:off x="981000" y="1334160"/>
                  <a:ext cx="238680" cy="11052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2" name="未知"/>
                <p:cNvSpPr/>
                <p:nvPr/>
              </p:nvSpPr>
              <p:spPr>
                <a:xfrm flipH="1" rot="2658600">
                  <a:off x="1052280" y="1578960"/>
                  <a:ext cx="99000" cy="1404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3" name="未知"/>
                <p:cNvSpPr/>
                <p:nvPr/>
              </p:nvSpPr>
              <p:spPr>
                <a:xfrm flipH="1" rot="2658600">
                  <a:off x="1087560" y="1636200"/>
                  <a:ext cx="51840" cy="576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4" name="未知"/>
                <p:cNvSpPr/>
                <p:nvPr/>
              </p:nvSpPr>
              <p:spPr>
                <a:xfrm flipH="1" rot="2658600">
                  <a:off x="1069920" y="1618560"/>
                  <a:ext cx="37800" cy="3924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5" name="未知"/>
                <p:cNvSpPr/>
                <p:nvPr/>
              </p:nvSpPr>
              <p:spPr>
                <a:xfrm flipH="1" rot="2658600">
                  <a:off x="1027080" y="1567440"/>
                  <a:ext cx="66600" cy="7236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未知"/>
                <p:cNvSpPr/>
                <p:nvPr/>
              </p:nvSpPr>
              <p:spPr>
                <a:xfrm flipH="1" rot="2658600">
                  <a:off x="964800" y="1490400"/>
                  <a:ext cx="105480" cy="12708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7" name="未知"/>
                <p:cNvSpPr/>
                <p:nvPr/>
              </p:nvSpPr>
              <p:spPr>
                <a:xfrm flipH="1" rot="2658600">
                  <a:off x="913320" y="1408680"/>
                  <a:ext cx="113760" cy="18576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8" name="未知"/>
                <p:cNvSpPr/>
                <p:nvPr/>
              </p:nvSpPr>
              <p:spPr>
                <a:xfrm flipH="1" rot="2658600">
                  <a:off x="924120" y="1509120"/>
                  <a:ext cx="12240" cy="7416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9" name="未知"/>
                <p:cNvSpPr/>
                <p:nvPr/>
              </p:nvSpPr>
              <p:spPr>
                <a:xfrm flipH="1" rot="2658600">
                  <a:off x="884160" y="1332000"/>
                  <a:ext cx="78480" cy="22896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未知"/>
                <p:cNvSpPr/>
                <p:nvPr/>
              </p:nvSpPr>
              <p:spPr>
                <a:xfrm flipH="1" rot="2658600">
                  <a:off x="947520" y="1485360"/>
                  <a:ext cx="58320" cy="3600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未知"/>
                <p:cNvSpPr/>
                <p:nvPr/>
              </p:nvSpPr>
              <p:spPr>
                <a:xfrm flipH="1" rot="2658600">
                  <a:off x="985680" y="1562760"/>
                  <a:ext cx="28080" cy="5796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未知"/>
                <p:cNvSpPr/>
                <p:nvPr/>
              </p:nvSpPr>
              <p:spPr>
                <a:xfrm flipH="1" rot="2658600">
                  <a:off x="1076760" y="1539000"/>
                  <a:ext cx="61200" cy="1260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未知"/>
                <p:cNvSpPr/>
                <p:nvPr/>
              </p:nvSpPr>
              <p:spPr>
                <a:xfrm flipH="1" rot="2658600">
                  <a:off x="1116720" y="1531440"/>
                  <a:ext cx="37800" cy="2232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未知"/>
                <p:cNvSpPr/>
                <p:nvPr/>
              </p:nvSpPr>
              <p:spPr>
                <a:xfrm flipH="1" rot="2658600">
                  <a:off x="971280" y="1541520"/>
                  <a:ext cx="12240" cy="1368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未知"/>
                <p:cNvSpPr/>
                <p:nvPr/>
              </p:nvSpPr>
              <p:spPr>
                <a:xfrm flipH="1" rot="2658600">
                  <a:off x="1123200" y="1497240"/>
                  <a:ext cx="10800" cy="828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未知"/>
                <p:cNvSpPr/>
                <p:nvPr/>
              </p:nvSpPr>
              <p:spPr>
                <a:xfrm flipH="1" rot="2658600">
                  <a:off x="1125360" y="1432440"/>
                  <a:ext cx="12240" cy="1080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未知"/>
                <p:cNvSpPr/>
                <p:nvPr/>
              </p:nvSpPr>
              <p:spPr>
                <a:xfrm flipH="1" rot="2658600">
                  <a:off x="1142280" y="1598760"/>
                  <a:ext cx="9360" cy="468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8" name="Group 1469"/>
              <p:cNvGrpSpPr/>
              <p:nvPr/>
            </p:nvGrpSpPr>
            <p:grpSpPr>
              <a:xfrm>
                <a:off x="918360" y="1185480"/>
                <a:ext cx="54000" cy="48240"/>
                <a:chOff x="918360" y="1185480"/>
                <a:chExt cx="54000" cy="48240"/>
              </a:xfrm>
            </p:grpSpPr>
            <p:sp>
              <p:nvSpPr>
                <p:cNvPr id="1509" name="未知"/>
                <p:cNvSpPr/>
                <p:nvPr/>
              </p:nvSpPr>
              <p:spPr>
                <a:xfrm flipH="1" rot="7023600">
                  <a:off x="929160" y="1187280"/>
                  <a:ext cx="31680" cy="4428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未知"/>
                <p:cNvSpPr/>
                <p:nvPr/>
              </p:nvSpPr>
              <p:spPr>
                <a:xfrm flipH="1" rot="10670400">
                  <a:off x="929520" y="1204560"/>
                  <a:ext cx="22320" cy="1944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11" name="Group 1472"/>
            <p:cNvGrpSpPr/>
            <p:nvPr/>
          </p:nvGrpSpPr>
          <p:grpSpPr>
            <a:xfrm>
              <a:off x="927720" y="886320"/>
              <a:ext cx="474840" cy="343080"/>
              <a:chOff x="927720" y="886320"/>
              <a:chExt cx="474840" cy="343080"/>
            </a:xfrm>
          </p:grpSpPr>
          <p:grpSp>
            <p:nvGrpSpPr>
              <p:cNvPr id="1512" name="Group 1473"/>
              <p:cNvGrpSpPr/>
              <p:nvPr/>
            </p:nvGrpSpPr>
            <p:grpSpPr>
              <a:xfrm>
                <a:off x="927720" y="886320"/>
                <a:ext cx="474840" cy="343080"/>
                <a:chOff x="927720" y="886320"/>
                <a:chExt cx="474840" cy="343080"/>
              </a:xfrm>
            </p:grpSpPr>
            <p:sp>
              <p:nvSpPr>
                <p:cNvPr id="1513" name="未知"/>
                <p:cNvSpPr/>
                <p:nvPr/>
              </p:nvSpPr>
              <p:spPr>
                <a:xfrm rot="10594800">
                  <a:off x="1039320" y="896400"/>
                  <a:ext cx="353880" cy="32256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4" name="未知"/>
                <p:cNvSpPr/>
                <p:nvPr/>
              </p:nvSpPr>
              <p:spPr>
                <a:xfrm rot="10594800">
                  <a:off x="1052280" y="994320"/>
                  <a:ext cx="300240" cy="15300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5" name="未知"/>
                <p:cNvSpPr/>
                <p:nvPr/>
              </p:nvSpPr>
              <p:spPr>
                <a:xfrm rot="10594800">
                  <a:off x="932760" y="992880"/>
                  <a:ext cx="437040" cy="19044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6" name="未知"/>
                <p:cNvSpPr/>
                <p:nvPr/>
              </p:nvSpPr>
              <p:spPr>
                <a:xfrm rot="10594800">
                  <a:off x="1177560" y="1054080"/>
                  <a:ext cx="141840" cy="1836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7" name="未知"/>
                <p:cNvSpPr/>
                <p:nvPr/>
              </p:nvSpPr>
              <p:spPr>
                <a:xfrm rot="10594800">
                  <a:off x="1115280" y="1087920"/>
                  <a:ext cx="183960" cy="6984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8" name="未知"/>
                <p:cNvSpPr/>
                <p:nvPr/>
              </p:nvSpPr>
              <p:spPr>
                <a:xfrm rot="10594800">
                  <a:off x="1075320" y="1111680"/>
                  <a:ext cx="202320" cy="9252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9" name="未知"/>
                <p:cNvSpPr/>
                <p:nvPr/>
              </p:nvSpPr>
              <p:spPr>
                <a:xfrm rot="10594800">
                  <a:off x="1243080" y="1027080"/>
                  <a:ext cx="84240" cy="1188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未知"/>
                <p:cNvSpPr/>
                <p:nvPr/>
              </p:nvSpPr>
              <p:spPr>
                <a:xfrm rot="10594800">
                  <a:off x="1301040" y="1003320"/>
                  <a:ext cx="43920" cy="468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未知"/>
                <p:cNvSpPr/>
                <p:nvPr/>
              </p:nvSpPr>
              <p:spPr>
                <a:xfrm rot="10594800">
                  <a:off x="1290960" y="976320"/>
                  <a:ext cx="32040" cy="3276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2" name="未知"/>
                <p:cNvSpPr/>
                <p:nvPr/>
              </p:nvSpPr>
              <p:spPr>
                <a:xfrm rot="10594800">
                  <a:off x="1241640" y="968040"/>
                  <a:ext cx="56160" cy="6084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3" name="未知"/>
                <p:cNvSpPr/>
                <p:nvPr/>
              </p:nvSpPr>
              <p:spPr>
                <a:xfrm rot="10594800">
                  <a:off x="1169280" y="953640"/>
                  <a:ext cx="90000" cy="10692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4" name="未知"/>
                <p:cNvSpPr/>
                <p:nvPr/>
              </p:nvSpPr>
              <p:spPr>
                <a:xfrm rot="10594800">
                  <a:off x="1106640" y="935640"/>
                  <a:ext cx="96480" cy="15660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5" name="未知"/>
                <p:cNvSpPr/>
                <p:nvPr/>
              </p:nvSpPr>
              <p:spPr>
                <a:xfrm rot="10594800">
                  <a:off x="1148760" y="932760"/>
                  <a:ext cx="10440" cy="6192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6" name="未知"/>
                <p:cNvSpPr/>
                <p:nvPr/>
              </p:nvSpPr>
              <p:spPr>
                <a:xfrm rot="10594800">
                  <a:off x="1060560" y="927000"/>
                  <a:ext cx="66600" cy="19260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7" name="未知"/>
                <p:cNvSpPr/>
                <p:nvPr/>
              </p:nvSpPr>
              <p:spPr>
                <a:xfrm rot="10594800">
                  <a:off x="1135440" y="1001520"/>
                  <a:ext cx="49320" cy="3060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8" name="未知"/>
                <p:cNvSpPr/>
                <p:nvPr/>
              </p:nvSpPr>
              <p:spPr>
                <a:xfrm rot="10594800">
                  <a:off x="1211400" y="947880"/>
                  <a:ext cx="23760" cy="4932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9" name="未知"/>
                <p:cNvSpPr/>
                <p:nvPr/>
              </p:nvSpPr>
              <p:spPr>
                <a:xfrm rot="10594800">
                  <a:off x="1240920" y="1056240"/>
                  <a:ext cx="52200" cy="1044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0" name="未知"/>
                <p:cNvSpPr/>
                <p:nvPr/>
              </p:nvSpPr>
              <p:spPr>
                <a:xfrm rot="10594800">
                  <a:off x="1267200" y="1069560"/>
                  <a:ext cx="32040" cy="1872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1" name="未知"/>
                <p:cNvSpPr/>
                <p:nvPr/>
              </p:nvSpPr>
              <p:spPr>
                <a:xfrm rot="10594800">
                  <a:off x="1180080" y="982440"/>
                  <a:ext cx="10440" cy="1152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2" name="未知"/>
                <p:cNvSpPr/>
                <p:nvPr/>
              </p:nvSpPr>
              <p:spPr>
                <a:xfrm rot="10594800">
                  <a:off x="1251720" y="1098720"/>
                  <a:ext cx="9360" cy="684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未知"/>
                <p:cNvSpPr/>
                <p:nvPr/>
              </p:nvSpPr>
              <p:spPr>
                <a:xfrm rot="10594800">
                  <a:off x="1217520" y="1139400"/>
                  <a:ext cx="10440" cy="936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4" name="未知"/>
                <p:cNvSpPr/>
                <p:nvPr/>
              </p:nvSpPr>
              <p:spPr>
                <a:xfrm rot="10594800">
                  <a:off x="1319400" y="1045800"/>
                  <a:ext cx="7920" cy="432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5" name="Group 1496"/>
              <p:cNvGrpSpPr/>
              <p:nvPr/>
            </p:nvGrpSpPr>
            <p:grpSpPr>
              <a:xfrm>
                <a:off x="955080" y="1167840"/>
                <a:ext cx="42840" cy="35280"/>
                <a:chOff x="955080" y="1167840"/>
                <a:chExt cx="42840" cy="35280"/>
              </a:xfrm>
            </p:grpSpPr>
            <p:sp>
              <p:nvSpPr>
                <p:cNvPr id="1536" name="未知"/>
                <p:cNvSpPr/>
                <p:nvPr/>
              </p:nvSpPr>
              <p:spPr>
                <a:xfrm rot="6231000">
                  <a:off x="963000" y="1166760"/>
                  <a:ext cx="26640" cy="3744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7" name="未知"/>
                <p:cNvSpPr/>
                <p:nvPr/>
              </p:nvSpPr>
              <p:spPr>
                <a:xfrm rot="2583600">
                  <a:off x="966960" y="1171800"/>
                  <a:ext cx="18720" cy="1656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38" name="Group 1499"/>
            <p:cNvGrpSpPr/>
            <p:nvPr/>
          </p:nvGrpSpPr>
          <p:grpSpPr>
            <a:xfrm>
              <a:off x="1198440" y="1298520"/>
              <a:ext cx="425520" cy="491760"/>
              <a:chOff x="1198440" y="1298520"/>
              <a:chExt cx="425520" cy="491760"/>
            </a:xfrm>
          </p:grpSpPr>
          <p:grpSp>
            <p:nvGrpSpPr>
              <p:cNvPr id="1539" name="Group 1500"/>
              <p:cNvGrpSpPr/>
              <p:nvPr/>
            </p:nvGrpSpPr>
            <p:grpSpPr>
              <a:xfrm>
                <a:off x="1198440" y="1298520"/>
                <a:ext cx="425520" cy="491760"/>
                <a:chOff x="1198440" y="1298520"/>
                <a:chExt cx="425520" cy="491760"/>
              </a:xfrm>
            </p:grpSpPr>
            <p:sp>
              <p:nvSpPr>
                <p:cNvPr id="1540" name="未知"/>
                <p:cNvSpPr/>
                <p:nvPr/>
              </p:nvSpPr>
              <p:spPr>
                <a:xfrm rot="15123000">
                  <a:off x="1242720" y="1408680"/>
                  <a:ext cx="336240" cy="33840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1" name="未知"/>
                <p:cNvSpPr/>
                <p:nvPr/>
              </p:nvSpPr>
              <p:spPr>
                <a:xfrm rot="15123000">
                  <a:off x="1252800" y="1488600"/>
                  <a:ext cx="284760" cy="16092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未知"/>
                <p:cNvSpPr/>
                <p:nvPr/>
              </p:nvSpPr>
              <p:spPr>
                <a:xfrm rot="15123000">
                  <a:off x="1157760" y="1426320"/>
                  <a:ext cx="414720" cy="20016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3" name="未知"/>
                <p:cNvSpPr/>
                <p:nvPr/>
              </p:nvSpPr>
              <p:spPr>
                <a:xfrm rot="15123000">
                  <a:off x="1346400" y="1599840"/>
                  <a:ext cx="134640" cy="2016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4" name="未知"/>
                <p:cNvSpPr/>
                <p:nvPr/>
              </p:nvSpPr>
              <p:spPr>
                <a:xfrm rot="15123000">
                  <a:off x="1256400" y="1550160"/>
                  <a:ext cx="174240" cy="7380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5" name="未知"/>
                <p:cNvSpPr/>
                <p:nvPr/>
              </p:nvSpPr>
              <p:spPr>
                <a:xfrm rot="15123000">
                  <a:off x="1204560" y="1518840"/>
                  <a:ext cx="192240" cy="9756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6" name="未知"/>
                <p:cNvSpPr/>
                <p:nvPr/>
              </p:nvSpPr>
              <p:spPr>
                <a:xfrm rot="15123000">
                  <a:off x="1413720" y="1627920"/>
                  <a:ext cx="79920" cy="1296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7" name="未知"/>
                <p:cNvSpPr/>
                <p:nvPr/>
              </p:nvSpPr>
              <p:spPr>
                <a:xfrm rot="15123000">
                  <a:off x="1468440" y="1659240"/>
                  <a:ext cx="41760" cy="504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8" name="未知"/>
                <p:cNvSpPr/>
                <p:nvPr/>
              </p:nvSpPr>
              <p:spPr>
                <a:xfrm rot="15123000">
                  <a:off x="1483560" y="1626480"/>
                  <a:ext cx="30600" cy="3492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9" name="未知"/>
                <p:cNvSpPr/>
                <p:nvPr/>
              </p:nvSpPr>
              <p:spPr>
                <a:xfrm rot="15123000">
                  <a:off x="1457280" y="1578960"/>
                  <a:ext cx="53280" cy="6408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0" name="未知"/>
                <p:cNvSpPr/>
                <p:nvPr/>
              </p:nvSpPr>
              <p:spPr>
                <a:xfrm rot="15123000">
                  <a:off x="1420200" y="1505880"/>
                  <a:ext cx="85320" cy="11268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未知"/>
                <p:cNvSpPr/>
                <p:nvPr/>
              </p:nvSpPr>
              <p:spPr>
                <a:xfrm rot="15123000">
                  <a:off x="1395720" y="1427400"/>
                  <a:ext cx="92160" cy="16416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2" name="未知"/>
                <p:cNvSpPr/>
                <p:nvPr/>
              </p:nvSpPr>
              <p:spPr>
                <a:xfrm rot="15123000">
                  <a:off x="1487880" y="1461960"/>
                  <a:ext cx="10080" cy="6552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3" name="未知"/>
                <p:cNvSpPr/>
                <p:nvPr/>
              </p:nvSpPr>
              <p:spPr>
                <a:xfrm rot="15123000">
                  <a:off x="1386720" y="1353960"/>
                  <a:ext cx="63000" cy="20268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4" name="未知"/>
                <p:cNvSpPr/>
                <p:nvPr/>
              </p:nvSpPr>
              <p:spPr>
                <a:xfrm rot="15123000">
                  <a:off x="1416960" y="1499040"/>
                  <a:ext cx="46800" cy="3204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5" name="未知"/>
                <p:cNvSpPr/>
                <p:nvPr/>
              </p:nvSpPr>
              <p:spPr>
                <a:xfrm rot="15123000">
                  <a:off x="1488240" y="1535760"/>
                  <a:ext cx="23040" cy="5184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6" name="未知"/>
                <p:cNvSpPr/>
                <p:nvPr/>
              </p:nvSpPr>
              <p:spPr>
                <a:xfrm rot="15123000">
                  <a:off x="1395000" y="1620000"/>
                  <a:ext cx="49320" cy="1116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7" name="未知"/>
                <p:cNvSpPr/>
                <p:nvPr/>
              </p:nvSpPr>
              <p:spPr>
                <a:xfrm rot="15123000">
                  <a:off x="1390320" y="1635480"/>
                  <a:ext cx="30600" cy="2016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8" name="未知"/>
                <p:cNvSpPr/>
                <p:nvPr/>
              </p:nvSpPr>
              <p:spPr>
                <a:xfrm rot="15123000">
                  <a:off x="1470240" y="1524600"/>
                  <a:ext cx="10080" cy="1224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9" name="未知"/>
                <p:cNvSpPr/>
                <p:nvPr/>
              </p:nvSpPr>
              <p:spPr>
                <a:xfrm rot="15123000">
                  <a:off x="1371960" y="1623240"/>
                  <a:ext cx="8640" cy="720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0" name="未知"/>
                <p:cNvSpPr/>
                <p:nvPr/>
              </p:nvSpPr>
              <p:spPr>
                <a:xfrm rot="15123000">
                  <a:off x="1321200" y="1602000"/>
                  <a:ext cx="10080" cy="972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1" name="未知"/>
                <p:cNvSpPr/>
                <p:nvPr/>
              </p:nvSpPr>
              <p:spPr>
                <a:xfrm rot="15123000">
                  <a:off x="1442160" y="1670760"/>
                  <a:ext cx="7560" cy="504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2" name="Group 1523"/>
              <p:cNvGrpSpPr/>
              <p:nvPr/>
            </p:nvGrpSpPr>
            <p:grpSpPr>
              <a:xfrm>
                <a:off x="1205640" y="1370520"/>
                <a:ext cx="31680" cy="35640"/>
                <a:chOff x="1205640" y="1370520"/>
                <a:chExt cx="31680" cy="35640"/>
              </a:xfrm>
            </p:grpSpPr>
            <p:sp>
              <p:nvSpPr>
                <p:cNvPr id="1563" name="未知"/>
                <p:cNvSpPr/>
                <p:nvPr/>
              </p:nvSpPr>
              <p:spPr>
                <a:xfrm rot="10758000">
                  <a:off x="1205640" y="1370520"/>
                  <a:ext cx="28080" cy="3528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4" name="未知"/>
                <p:cNvSpPr/>
                <p:nvPr/>
              </p:nvSpPr>
              <p:spPr>
                <a:xfrm rot="7111800">
                  <a:off x="1216080" y="1378080"/>
                  <a:ext cx="18000" cy="1728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65" name="AutoShape 1526"/>
          <p:cNvSpPr/>
          <p:nvPr/>
        </p:nvSpPr>
        <p:spPr>
          <a:xfrm>
            <a:off x="3924360" y="-4976640"/>
            <a:ext cx="9955080" cy="9953280"/>
          </a:xfrm>
          <a:prstGeom prst="sun">
            <a:avLst>
              <a:gd name="adj" fmla="val 39074"/>
            </a:avLst>
          </a:prstGeom>
          <a:blipFill rotWithShape="0">
            <a:blip r:embed="rId40">
              <a:alphaModFix amt="6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6" name="Picture 1527" descr="MCj04460980000[1]"/>
          <p:cNvPicPr/>
          <p:nvPr/>
        </p:nvPicPr>
        <p:blipFill>
          <a:blip r:embed="rId41"/>
          <a:stretch/>
        </p:blipFill>
        <p:spPr>
          <a:xfrm rot="5073600">
            <a:off x="7481880" y="-461880"/>
            <a:ext cx="1403280" cy="2327040"/>
          </a:xfrm>
          <a:prstGeom prst="rect">
            <a:avLst/>
          </a:prstGeom>
          <a:ln w="0">
            <a:noFill/>
          </a:ln>
        </p:spPr>
      </p:pic>
      <p:grpSp>
        <p:nvGrpSpPr>
          <p:cNvPr id="1567" name="Group 1528"/>
          <p:cNvGrpSpPr/>
          <p:nvPr/>
        </p:nvGrpSpPr>
        <p:grpSpPr>
          <a:xfrm>
            <a:off x="4722480" y="5213520"/>
            <a:ext cx="491400" cy="1253520"/>
            <a:chOff x="4722480" y="5213520"/>
            <a:chExt cx="491400" cy="1253520"/>
          </a:xfrm>
        </p:grpSpPr>
        <p:pic>
          <p:nvPicPr>
            <p:cNvPr id="1568" name="Picture 1529" descr="MCj04456520000[1]"/>
            <p:cNvPicPr/>
            <p:nvPr/>
          </p:nvPicPr>
          <p:blipFill>
            <a:blip r:embed="rId42"/>
            <a:stretch/>
          </p:blipFill>
          <p:spPr>
            <a:xfrm rot="21224400">
              <a:off x="4754160" y="5231160"/>
              <a:ext cx="358920" cy="60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9" name="Rectangle 1530"/>
            <p:cNvSpPr/>
            <p:nvPr/>
          </p:nvSpPr>
          <p:spPr>
            <a:xfrm rot="21224400">
              <a:off x="4821480" y="5846400"/>
              <a:ext cx="36036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0" name="Group 1531"/>
          <p:cNvGrpSpPr/>
          <p:nvPr/>
        </p:nvGrpSpPr>
        <p:grpSpPr>
          <a:xfrm>
            <a:off x="7034760" y="4851360"/>
            <a:ext cx="499320" cy="1325160"/>
            <a:chOff x="7034760" y="4851360"/>
            <a:chExt cx="499320" cy="1325160"/>
          </a:xfrm>
        </p:grpSpPr>
        <p:pic>
          <p:nvPicPr>
            <p:cNvPr id="1571" name="Picture 1532" descr="MCj04456520000[1]"/>
            <p:cNvPicPr/>
            <p:nvPr/>
          </p:nvPicPr>
          <p:blipFill>
            <a:blip r:embed="rId43"/>
            <a:stretch/>
          </p:blipFill>
          <p:spPr>
            <a:xfrm rot="21224400">
              <a:off x="7068240" y="4869000"/>
              <a:ext cx="358920" cy="6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2" name="Rectangle 1533"/>
            <p:cNvSpPr/>
            <p:nvPr/>
          </p:nvSpPr>
          <p:spPr>
            <a:xfrm rot="21224400">
              <a:off x="7139880" y="5520600"/>
              <a:ext cx="3603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3" name="Group 1534"/>
          <p:cNvGrpSpPr/>
          <p:nvPr/>
        </p:nvGrpSpPr>
        <p:grpSpPr>
          <a:xfrm>
            <a:off x="472680" y="4924800"/>
            <a:ext cx="507240" cy="1395720"/>
            <a:chOff x="472680" y="4924800"/>
            <a:chExt cx="507240" cy="1395720"/>
          </a:xfrm>
        </p:grpSpPr>
        <p:pic>
          <p:nvPicPr>
            <p:cNvPr id="1574" name="Picture 1535" descr="MCj04456520000[1]"/>
            <p:cNvPicPr/>
            <p:nvPr/>
          </p:nvPicPr>
          <p:blipFill>
            <a:blip r:embed="rId44"/>
            <a:stretch/>
          </p:blipFill>
          <p:spPr>
            <a:xfrm rot="21224400">
              <a:off x="507960" y="4942440"/>
              <a:ext cx="35892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5" name="Rectangle 1536"/>
            <p:cNvSpPr/>
            <p:nvPr/>
          </p:nvSpPr>
          <p:spPr>
            <a:xfrm rot="21224400">
              <a:off x="583560" y="5629320"/>
              <a:ext cx="3603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1537"/>
          <p:cNvGrpSpPr/>
          <p:nvPr/>
        </p:nvGrpSpPr>
        <p:grpSpPr>
          <a:xfrm>
            <a:off x="7088760" y="5299560"/>
            <a:ext cx="367920" cy="367920"/>
            <a:chOff x="7088760" y="5299560"/>
            <a:chExt cx="367920" cy="367920"/>
          </a:xfrm>
        </p:grpSpPr>
        <p:grpSp>
          <p:nvGrpSpPr>
            <p:cNvPr id="1577" name="Group 1538"/>
            <p:cNvGrpSpPr/>
            <p:nvPr/>
          </p:nvGrpSpPr>
          <p:grpSpPr>
            <a:xfrm>
              <a:off x="7091280" y="5302080"/>
              <a:ext cx="363240" cy="363240"/>
              <a:chOff x="7091280" y="5302080"/>
              <a:chExt cx="363240" cy="363240"/>
            </a:xfrm>
          </p:grpSpPr>
          <p:grpSp>
            <p:nvGrpSpPr>
              <p:cNvPr id="1578" name="Group 1539"/>
              <p:cNvGrpSpPr/>
              <p:nvPr/>
            </p:nvGrpSpPr>
            <p:grpSpPr>
              <a:xfrm>
                <a:off x="7091280" y="5302080"/>
                <a:ext cx="363240" cy="363240"/>
                <a:chOff x="7091280" y="5302080"/>
                <a:chExt cx="363240" cy="363240"/>
              </a:xfrm>
            </p:grpSpPr>
            <p:sp>
              <p:nvSpPr>
                <p:cNvPr id="1579" name="Oval 1540"/>
                <p:cNvSpPr/>
                <p:nvPr/>
              </p:nvSpPr>
              <p:spPr>
                <a:xfrm>
                  <a:off x="7091280" y="54432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0" name="Oval 1541"/>
                <p:cNvSpPr/>
                <p:nvPr/>
              </p:nvSpPr>
              <p:spPr>
                <a:xfrm rot="5400000">
                  <a:off x="7090560" y="544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1" name="Group 1542"/>
              <p:cNvGrpSpPr/>
              <p:nvPr/>
            </p:nvGrpSpPr>
            <p:grpSpPr>
              <a:xfrm>
                <a:off x="7114680" y="5325840"/>
                <a:ext cx="315000" cy="315720"/>
                <a:chOff x="7114680" y="5325840"/>
                <a:chExt cx="315000" cy="315720"/>
              </a:xfrm>
            </p:grpSpPr>
            <p:sp>
              <p:nvSpPr>
                <p:cNvPr id="1582" name="Oval 1543"/>
                <p:cNvSpPr/>
                <p:nvPr/>
              </p:nvSpPr>
              <p:spPr>
                <a:xfrm rot="2700000">
                  <a:off x="7090560" y="54428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3" name="Oval 1544"/>
                <p:cNvSpPr/>
                <p:nvPr/>
              </p:nvSpPr>
              <p:spPr>
                <a:xfrm rot="8100000">
                  <a:off x="7090200" y="5442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84" name="Group 1545"/>
            <p:cNvGrpSpPr/>
            <p:nvPr/>
          </p:nvGrpSpPr>
          <p:grpSpPr>
            <a:xfrm>
              <a:off x="7088760" y="5299560"/>
              <a:ext cx="367920" cy="367920"/>
              <a:chOff x="7088760" y="5299560"/>
              <a:chExt cx="367920" cy="367920"/>
            </a:xfrm>
          </p:grpSpPr>
          <p:grpSp>
            <p:nvGrpSpPr>
              <p:cNvPr id="1585" name="Group 1546"/>
              <p:cNvGrpSpPr/>
              <p:nvPr/>
            </p:nvGrpSpPr>
            <p:grpSpPr>
              <a:xfrm>
                <a:off x="7088760" y="5299560"/>
                <a:ext cx="367920" cy="367920"/>
                <a:chOff x="7088760" y="5299560"/>
                <a:chExt cx="367920" cy="367920"/>
              </a:xfrm>
            </p:grpSpPr>
            <p:sp>
              <p:nvSpPr>
                <p:cNvPr id="1586" name="Oval 1547"/>
                <p:cNvSpPr/>
                <p:nvPr/>
              </p:nvSpPr>
              <p:spPr>
                <a:xfrm rot="1320000">
                  <a:off x="7090920" y="54428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7" name="Oval 1548"/>
                <p:cNvSpPr/>
                <p:nvPr/>
              </p:nvSpPr>
              <p:spPr>
                <a:xfrm rot="6720000">
                  <a:off x="7090560" y="5442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8" name="Group 1549"/>
              <p:cNvGrpSpPr/>
              <p:nvPr/>
            </p:nvGrpSpPr>
            <p:grpSpPr>
              <a:xfrm>
                <a:off x="7089120" y="5300640"/>
                <a:ext cx="366480" cy="366480"/>
                <a:chOff x="7089120" y="5300640"/>
                <a:chExt cx="366480" cy="366480"/>
              </a:xfrm>
            </p:grpSpPr>
            <p:sp>
              <p:nvSpPr>
                <p:cNvPr id="1589" name="Oval 1550"/>
                <p:cNvSpPr/>
                <p:nvPr/>
              </p:nvSpPr>
              <p:spPr>
                <a:xfrm rot="4020000">
                  <a:off x="7090560" y="544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0" name="Oval 1551"/>
                <p:cNvSpPr/>
                <p:nvPr/>
              </p:nvSpPr>
              <p:spPr>
                <a:xfrm rot="9420000">
                  <a:off x="7090560" y="5441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1" name="Oval 1552"/>
            <p:cNvSpPr/>
            <p:nvPr/>
          </p:nvSpPr>
          <p:spPr>
            <a:xfrm>
              <a:off x="7213320" y="5430240"/>
              <a:ext cx="118800" cy="105840"/>
            </a:xfrm>
            <a:prstGeom prst="ellipse">
              <a:avLst/>
            </a:prstGeom>
            <a:blipFill rotWithShape="0">
              <a:blip r:embed="rId45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2" name="Group 1553"/>
          <p:cNvGrpSpPr/>
          <p:nvPr/>
        </p:nvGrpSpPr>
        <p:grpSpPr>
          <a:xfrm>
            <a:off x="537120" y="5298120"/>
            <a:ext cx="367920" cy="367920"/>
            <a:chOff x="537120" y="5298120"/>
            <a:chExt cx="367920" cy="367920"/>
          </a:xfrm>
        </p:grpSpPr>
        <p:grpSp>
          <p:nvGrpSpPr>
            <p:cNvPr id="1593" name="Group 1554"/>
            <p:cNvGrpSpPr/>
            <p:nvPr/>
          </p:nvGrpSpPr>
          <p:grpSpPr>
            <a:xfrm>
              <a:off x="539640" y="5300640"/>
              <a:ext cx="363240" cy="363240"/>
              <a:chOff x="539640" y="5300640"/>
              <a:chExt cx="363240" cy="363240"/>
            </a:xfrm>
          </p:grpSpPr>
          <p:grpSp>
            <p:nvGrpSpPr>
              <p:cNvPr id="1594" name="Group 1555"/>
              <p:cNvGrpSpPr/>
              <p:nvPr/>
            </p:nvGrpSpPr>
            <p:grpSpPr>
              <a:xfrm>
                <a:off x="539640" y="5300640"/>
                <a:ext cx="363240" cy="363240"/>
                <a:chOff x="539640" y="5300640"/>
                <a:chExt cx="363240" cy="363240"/>
              </a:xfrm>
            </p:grpSpPr>
            <p:sp>
              <p:nvSpPr>
                <p:cNvPr id="1595" name="Oval 1556"/>
                <p:cNvSpPr/>
                <p:nvPr/>
              </p:nvSpPr>
              <p:spPr>
                <a:xfrm>
                  <a:off x="539640" y="5441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6" name="Oval 1557"/>
                <p:cNvSpPr/>
                <p:nvPr/>
              </p:nvSpPr>
              <p:spPr>
                <a:xfrm rot="5400000">
                  <a:off x="538920" y="544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7" name="Group 1558"/>
              <p:cNvGrpSpPr/>
              <p:nvPr/>
            </p:nvGrpSpPr>
            <p:grpSpPr>
              <a:xfrm>
                <a:off x="563040" y="5324400"/>
                <a:ext cx="315000" cy="315720"/>
                <a:chOff x="563040" y="5324400"/>
                <a:chExt cx="315000" cy="315720"/>
              </a:xfrm>
            </p:grpSpPr>
            <p:sp>
              <p:nvSpPr>
                <p:cNvPr id="1598" name="Oval 1559"/>
                <p:cNvSpPr/>
                <p:nvPr/>
              </p:nvSpPr>
              <p:spPr>
                <a:xfrm rot="2700000">
                  <a:off x="538920" y="544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9" name="Oval 1560"/>
                <p:cNvSpPr/>
                <p:nvPr/>
              </p:nvSpPr>
              <p:spPr>
                <a:xfrm rot="8100000">
                  <a:off x="538560" y="5440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00" name="Group 1561"/>
            <p:cNvGrpSpPr/>
            <p:nvPr/>
          </p:nvGrpSpPr>
          <p:grpSpPr>
            <a:xfrm>
              <a:off x="537120" y="5298120"/>
              <a:ext cx="367920" cy="367920"/>
              <a:chOff x="537120" y="5298120"/>
              <a:chExt cx="367920" cy="367920"/>
            </a:xfrm>
          </p:grpSpPr>
          <p:grpSp>
            <p:nvGrpSpPr>
              <p:cNvPr id="1601" name="Group 1562"/>
              <p:cNvGrpSpPr/>
              <p:nvPr/>
            </p:nvGrpSpPr>
            <p:grpSpPr>
              <a:xfrm>
                <a:off x="537120" y="5298120"/>
                <a:ext cx="367920" cy="367920"/>
                <a:chOff x="537120" y="5298120"/>
                <a:chExt cx="367920" cy="367920"/>
              </a:xfrm>
            </p:grpSpPr>
            <p:sp>
              <p:nvSpPr>
                <p:cNvPr id="1602" name="Oval 1563"/>
                <p:cNvSpPr/>
                <p:nvPr/>
              </p:nvSpPr>
              <p:spPr>
                <a:xfrm rot="1320000">
                  <a:off x="539280" y="544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Oval 1564"/>
                <p:cNvSpPr/>
                <p:nvPr/>
              </p:nvSpPr>
              <p:spPr>
                <a:xfrm rot="6720000">
                  <a:off x="538920" y="5440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4" name="Group 1565"/>
              <p:cNvGrpSpPr/>
              <p:nvPr/>
            </p:nvGrpSpPr>
            <p:grpSpPr>
              <a:xfrm>
                <a:off x="537480" y="5299200"/>
                <a:ext cx="366480" cy="366480"/>
                <a:chOff x="537480" y="5299200"/>
                <a:chExt cx="366480" cy="366480"/>
              </a:xfrm>
            </p:grpSpPr>
            <p:sp>
              <p:nvSpPr>
                <p:cNvPr id="1605" name="Oval 1566"/>
                <p:cNvSpPr/>
                <p:nvPr/>
              </p:nvSpPr>
              <p:spPr>
                <a:xfrm rot="4020000">
                  <a:off x="538920" y="544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6" name="Oval 1567"/>
                <p:cNvSpPr/>
                <p:nvPr/>
              </p:nvSpPr>
              <p:spPr>
                <a:xfrm rot="9420000">
                  <a:off x="538920" y="54403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07" name="Oval 1568"/>
            <p:cNvSpPr/>
            <p:nvPr/>
          </p:nvSpPr>
          <p:spPr>
            <a:xfrm>
              <a:off x="661680" y="5428800"/>
              <a:ext cx="118800" cy="105840"/>
            </a:xfrm>
            <a:prstGeom prst="ellipse">
              <a:avLst/>
            </a:prstGeom>
            <a:blipFill rotWithShape="0">
              <a:blip r:embed="rId46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8" name="Group 1569"/>
          <p:cNvGrpSpPr/>
          <p:nvPr/>
        </p:nvGrpSpPr>
        <p:grpSpPr>
          <a:xfrm>
            <a:off x="6012000" y="765000"/>
            <a:ext cx="844560" cy="844560"/>
            <a:chOff x="6012000" y="765000"/>
            <a:chExt cx="844560" cy="844560"/>
          </a:xfrm>
        </p:grpSpPr>
        <p:sp>
          <p:nvSpPr>
            <p:cNvPr id="1609" name="AutoShape 1570"/>
            <p:cNvSpPr/>
            <p:nvPr/>
          </p:nvSpPr>
          <p:spPr>
            <a:xfrm>
              <a:off x="6012000" y="765000"/>
              <a:ext cx="844560" cy="844560"/>
            </a:xfrm>
            <a:custGeom>
              <a:avLst/>
              <a:gdLst>
                <a:gd name="textAreaLeft" fmla="*/ 348120 w 844560"/>
                <a:gd name="textAreaRight" fmla="*/ 496440 w 844560"/>
                <a:gd name="textAreaTop" fmla="*/ 348120 h 844560"/>
                <a:gd name="textAreaBottom" fmla="*/ 496440 h 84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AutoShape 1571"/>
            <p:cNvSpPr/>
            <p:nvPr/>
          </p:nvSpPr>
          <p:spPr>
            <a:xfrm rot="2700000">
              <a:off x="6179760" y="931320"/>
              <a:ext cx="506880" cy="506880"/>
            </a:xfrm>
            <a:custGeom>
              <a:avLst/>
              <a:gdLst>
                <a:gd name="textAreaLeft" fmla="*/ 208800 w 506880"/>
                <a:gd name="textAreaRight" fmla="*/ 298080 w 506880"/>
                <a:gd name="textAreaTop" fmla="*/ 208800 h 506880"/>
                <a:gd name="textAreaBottom" fmla="*/ 298080 h 50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Oval 1572"/>
            <p:cNvSpPr/>
            <p:nvPr/>
          </p:nvSpPr>
          <p:spPr>
            <a:xfrm>
              <a:off x="6309360" y="1061640"/>
              <a:ext cx="250200" cy="250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2" name="Group 1573"/>
          <p:cNvGrpSpPr/>
          <p:nvPr/>
        </p:nvGrpSpPr>
        <p:grpSpPr>
          <a:xfrm>
            <a:off x="4572000" y="1628640"/>
            <a:ext cx="844560" cy="844560"/>
            <a:chOff x="4572000" y="1628640"/>
            <a:chExt cx="844560" cy="844560"/>
          </a:xfrm>
        </p:grpSpPr>
        <p:sp>
          <p:nvSpPr>
            <p:cNvPr id="1613" name="AutoShape 1574"/>
            <p:cNvSpPr/>
            <p:nvPr/>
          </p:nvSpPr>
          <p:spPr>
            <a:xfrm>
              <a:off x="4572000" y="1628640"/>
              <a:ext cx="844560" cy="844560"/>
            </a:xfrm>
            <a:custGeom>
              <a:avLst/>
              <a:gdLst>
                <a:gd name="textAreaLeft" fmla="*/ 348120 w 844560"/>
                <a:gd name="textAreaRight" fmla="*/ 496440 w 844560"/>
                <a:gd name="textAreaTop" fmla="*/ 348120 h 844560"/>
                <a:gd name="textAreaBottom" fmla="*/ 496440 h 84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AutoShape 1575"/>
            <p:cNvSpPr/>
            <p:nvPr/>
          </p:nvSpPr>
          <p:spPr>
            <a:xfrm rot="2700000">
              <a:off x="4739760" y="1794960"/>
              <a:ext cx="506880" cy="506880"/>
            </a:xfrm>
            <a:custGeom>
              <a:avLst/>
              <a:gdLst>
                <a:gd name="textAreaLeft" fmla="*/ 208800 w 506880"/>
                <a:gd name="textAreaRight" fmla="*/ 298080 w 506880"/>
                <a:gd name="textAreaTop" fmla="*/ 208800 h 506880"/>
                <a:gd name="textAreaBottom" fmla="*/ 298080 h 50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Oval 1576"/>
            <p:cNvSpPr/>
            <p:nvPr/>
          </p:nvSpPr>
          <p:spPr>
            <a:xfrm>
              <a:off x="4869360" y="1925280"/>
              <a:ext cx="250200" cy="250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6" name="Group 1577"/>
          <p:cNvGrpSpPr/>
          <p:nvPr/>
        </p:nvGrpSpPr>
        <p:grpSpPr>
          <a:xfrm>
            <a:off x="2916360" y="620640"/>
            <a:ext cx="844560" cy="844560"/>
            <a:chOff x="2916360" y="620640"/>
            <a:chExt cx="844560" cy="844560"/>
          </a:xfrm>
        </p:grpSpPr>
        <p:sp>
          <p:nvSpPr>
            <p:cNvPr id="1617" name="AutoShape 1578"/>
            <p:cNvSpPr/>
            <p:nvPr/>
          </p:nvSpPr>
          <p:spPr>
            <a:xfrm>
              <a:off x="2916360" y="620640"/>
              <a:ext cx="844560" cy="844560"/>
            </a:xfrm>
            <a:custGeom>
              <a:avLst/>
              <a:gdLst>
                <a:gd name="textAreaLeft" fmla="*/ 348120 w 844560"/>
                <a:gd name="textAreaRight" fmla="*/ 496440 w 844560"/>
                <a:gd name="textAreaTop" fmla="*/ 348120 h 844560"/>
                <a:gd name="textAreaBottom" fmla="*/ 496440 h 84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AutoShape 1579"/>
            <p:cNvSpPr/>
            <p:nvPr/>
          </p:nvSpPr>
          <p:spPr>
            <a:xfrm rot="2700000">
              <a:off x="3084120" y="786960"/>
              <a:ext cx="506880" cy="506880"/>
            </a:xfrm>
            <a:custGeom>
              <a:avLst/>
              <a:gdLst>
                <a:gd name="textAreaLeft" fmla="*/ 208800 w 506880"/>
                <a:gd name="textAreaRight" fmla="*/ 298080 w 506880"/>
                <a:gd name="textAreaTop" fmla="*/ 208800 h 506880"/>
                <a:gd name="textAreaBottom" fmla="*/ 298080 h 50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Oval 1580"/>
            <p:cNvSpPr/>
            <p:nvPr/>
          </p:nvSpPr>
          <p:spPr>
            <a:xfrm>
              <a:off x="3213720" y="917280"/>
              <a:ext cx="250200" cy="250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Group 1581"/>
          <p:cNvGrpSpPr/>
          <p:nvPr/>
        </p:nvGrpSpPr>
        <p:grpSpPr>
          <a:xfrm>
            <a:off x="1979640" y="1197000"/>
            <a:ext cx="576360" cy="576360"/>
            <a:chOff x="1979640" y="1197000"/>
            <a:chExt cx="576360" cy="576360"/>
          </a:xfrm>
        </p:grpSpPr>
        <p:sp>
          <p:nvSpPr>
            <p:cNvPr id="1621" name="AutoShape 1582"/>
            <p:cNvSpPr/>
            <p:nvPr/>
          </p:nvSpPr>
          <p:spPr>
            <a:xfrm>
              <a:off x="1979640" y="1197000"/>
              <a:ext cx="576360" cy="57636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AutoShape 1583"/>
            <p:cNvSpPr/>
            <p:nvPr/>
          </p:nvSpPr>
          <p:spPr>
            <a:xfrm rot="2700000">
              <a:off x="2093760" y="1310760"/>
              <a:ext cx="345960" cy="345960"/>
            </a:xfrm>
            <a:custGeom>
              <a:avLst/>
              <a:gdLst>
                <a:gd name="textAreaLeft" fmla="*/ 142560 w 345960"/>
                <a:gd name="textAreaRight" fmla="*/ 203400 w 345960"/>
                <a:gd name="textAreaTop" fmla="*/ 142560 h 345960"/>
                <a:gd name="textAreaBottom" fmla="*/ 20340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Oval 1584"/>
            <p:cNvSpPr/>
            <p:nvPr/>
          </p:nvSpPr>
          <p:spPr>
            <a:xfrm>
              <a:off x="2182680" y="1399320"/>
              <a:ext cx="170640" cy="17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4" name="Group 1585"/>
          <p:cNvGrpSpPr/>
          <p:nvPr/>
        </p:nvGrpSpPr>
        <p:grpSpPr>
          <a:xfrm>
            <a:off x="4149720" y="549360"/>
            <a:ext cx="709560" cy="709560"/>
            <a:chOff x="4149720" y="549360"/>
            <a:chExt cx="709560" cy="709560"/>
          </a:xfrm>
        </p:grpSpPr>
        <p:sp>
          <p:nvSpPr>
            <p:cNvPr id="1625" name="AutoShape 1586"/>
            <p:cNvSpPr/>
            <p:nvPr/>
          </p:nvSpPr>
          <p:spPr>
            <a:xfrm>
              <a:off x="4149720" y="549360"/>
              <a:ext cx="709560" cy="709560"/>
            </a:xfrm>
            <a:custGeom>
              <a:avLst/>
              <a:gdLst>
                <a:gd name="textAreaLeft" fmla="*/ 292320 w 709560"/>
                <a:gd name="textAreaRight" fmla="*/ 417240 w 709560"/>
                <a:gd name="textAreaTop" fmla="*/ 292320 h 709560"/>
                <a:gd name="textAreaBottom" fmla="*/ 417240 h 7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AutoShape 1587"/>
            <p:cNvSpPr/>
            <p:nvPr/>
          </p:nvSpPr>
          <p:spPr>
            <a:xfrm rot="2700000">
              <a:off x="4290120" y="689400"/>
              <a:ext cx="425880" cy="425880"/>
            </a:xfrm>
            <a:custGeom>
              <a:avLst/>
              <a:gdLst>
                <a:gd name="textAreaLeft" fmla="*/ 175320 w 425880"/>
                <a:gd name="textAreaRight" fmla="*/ 250560 w 425880"/>
                <a:gd name="textAreaTop" fmla="*/ 175320 h 425880"/>
                <a:gd name="textAreaBottom" fmla="*/ 250560 h 42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Oval 1588"/>
            <p:cNvSpPr/>
            <p:nvPr/>
          </p:nvSpPr>
          <p:spPr>
            <a:xfrm>
              <a:off x="4399560" y="798480"/>
              <a:ext cx="210240" cy="210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8" name="Group 1589"/>
          <p:cNvGrpSpPr/>
          <p:nvPr/>
        </p:nvGrpSpPr>
        <p:grpSpPr>
          <a:xfrm>
            <a:off x="1403280" y="2421000"/>
            <a:ext cx="576360" cy="576360"/>
            <a:chOff x="1403280" y="2421000"/>
            <a:chExt cx="576360" cy="576360"/>
          </a:xfrm>
        </p:grpSpPr>
        <p:sp>
          <p:nvSpPr>
            <p:cNvPr id="1629" name="AutoShape 1590"/>
            <p:cNvSpPr/>
            <p:nvPr/>
          </p:nvSpPr>
          <p:spPr>
            <a:xfrm>
              <a:off x="1403280" y="2421000"/>
              <a:ext cx="576360" cy="57636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AutoShape 1591"/>
            <p:cNvSpPr/>
            <p:nvPr/>
          </p:nvSpPr>
          <p:spPr>
            <a:xfrm rot="2700000">
              <a:off x="1517400" y="2534760"/>
              <a:ext cx="345960" cy="345960"/>
            </a:xfrm>
            <a:custGeom>
              <a:avLst/>
              <a:gdLst>
                <a:gd name="textAreaLeft" fmla="*/ 142560 w 345960"/>
                <a:gd name="textAreaRight" fmla="*/ 203400 w 345960"/>
                <a:gd name="textAreaTop" fmla="*/ 142560 h 345960"/>
                <a:gd name="textAreaBottom" fmla="*/ 20340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Oval 1592"/>
            <p:cNvSpPr/>
            <p:nvPr/>
          </p:nvSpPr>
          <p:spPr>
            <a:xfrm>
              <a:off x="1606320" y="2623320"/>
              <a:ext cx="170640" cy="17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2" name="Group 1593"/>
          <p:cNvGrpSpPr/>
          <p:nvPr/>
        </p:nvGrpSpPr>
        <p:grpSpPr>
          <a:xfrm>
            <a:off x="1763640" y="3933720"/>
            <a:ext cx="576360" cy="576360"/>
            <a:chOff x="1763640" y="3933720"/>
            <a:chExt cx="576360" cy="576360"/>
          </a:xfrm>
        </p:grpSpPr>
        <p:sp>
          <p:nvSpPr>
            <p:cNvPr id="1633" name="AutoShape 1594"/>
            <p:cNvSpPr/>
            <p:nvPr/>
          </p:nvSpPr>
          <p:spPr>
            <a:xfrm>
              <a:off x="1763640" y="3933720"/>
              <a:ext cx="576360" cy="57636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AutoShape 1595"/>
            <p:cNvSpPr/>
            <p:nvPr/>
          </p:nvSpPr>
          <p:spPr>
            <a:xfrm rot="2700000">
              <a:off x="1877760" y="4047480"/>
              <a:ext cx="345960" cy="345960"/>
            </a:xfrm>
            <a:custGeom>
              <a:avLst/>
              <a:gdLst>
                <a:gd name="textAreaLeft" fmla="*/ 142560 w 345960"/>
                <a:gd name="textAreaRight" fmla="*/ 203400 w 345960"/>
                <a:gd name="textAreaTop" fmla="*/ 142560 h 345960"/>
                <a:gd name="textAreaBottom" fmla="*/ 20340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Oval 1596"/>
            <p:cNvSpPr/>
            <p:nvPr/>
          </p:nvSpPr>
          <p:spPr>
            <a:xfrm>
              <a:off x="1966680" y="4136040"/>
              <a:ext cx="170640" cy="17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6" name="Group 1597"/>
          <p:cNvGrpSpPr/>
          <p:nvPr/>
        </p:nvGrpSpPr>
        <p:grpSpPr>
          <a:xfrm>
            <a:off x="5796000" y="3429000"/>
            <a:ext cx="576360" cy="576360"/>
            <a:chOff x="5796000" y="3429000"/>
            <a:chExt cx="576360" cy="576360"/>
          </a:xfrm>
        </p:grpSpPr>
        <p:sp>
          <p:nvSpPr>
            <p:cNvPr id="1637" name="AutoShape 1598"/>
            <p:cNvSpPr/>
            <p:nvPr/>
          </p:nvSpPr>
          <p:spPr>
            <a:xfrm>
              <a:off x="5796000" y="3429000"/>
              <a:ext cx="576360" cy="57636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AutoShape 1599"/>
            <p:cNvSpPr/>
            <p:nvPr/>
          </p:nvSpPr>
          <p:spPr>
            <a:xfrm rot="2700000">
              <a:off x="5910120" y="3542760"/>
              <a:ext cx="345960" cy="345960"/>
            </a:xfrm>
            <a:custGeom>
              <a:avLst/>
              <a:gdLst>
                <a:gd name="textAreaLeft" fmla="*/ 142560 w 345960"/>
                <a:gd name="textAreaRight" fmla="*/ 203400 w 345960"/>
                <a:gd name="textAreaTop" fmla="*/ 142560 h 345960"/>
                <a:gd name="textAreaBottom" fmla="*/ 20340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Oval 1600"/>
            <p:cNvSpPr/>
            <p:nvPr/>
          </p:nvSpPr>
          <p:spPr>
            <a:xfrm>
              <a:off x="5999040" y="3631320"/>
              <a:ext cx="170640" cy="17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0" name="Group 1601"/>
          <p:cNvGrpSpPr/>
          <p:nvPr/>
        </p:nvGrpSpPr>
        <p:grpSpPr>
          <a:xfrm>
            <a:off x="6877080" y="3139920"/>
            <a:ext cx="576360" cy="576360"/>
            <a:chOff x="6877080" y="3139920"/>
            <a:chExt cx="576360" cy="576360"/>
          </a:xfrm>
        </p:grpSpPr>
        <p:sp>
          <p:nvSpPr>
            <p:cNvPr id="1641" name="AutoShape 1602"/>
            <p:cNvSpPr/>
            <p:nvPr/>
          </p:nvSpPr>
          <p:spPr>
            <a:xfrm>
              <a:off x="6877080" y="3139920"/>
              <a:ext cx="576360" cy="57636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AutoShape 1603"/>
            <p:cNvSpPr/>
            <p:nvPr/>
          </p:nvSpPr>
          <p:spPr>
            <a:xfrm rot="2700000">
              <a:off x="6991200" y="3253680"/>
              <a:ext cx="345960" cy="345960"/>
            </a:xfrm>
            <a:custGeom>
              <a:avLst/>
              <a:gdLst>
                <a:gd name="textAreaLeft" fmla="*/ 142560 w 345960"/>
                <a:gd name="textAreaRight" fmla="*/ 203400 w 345960"/>
                <a:gd name="textAreaTop" fmla="*/ 142560 h 345960"/>
                <a:gd name="textAreaBottom" fmla="*/ 20340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Oval 1604"/>
            <p:cNvSpPr/>
            <p:nvPr/>
          </p:nvSpPr>
          <p:spPr>
            <a:xfrm>
              <a:off x="7080120" y="3342240"/>
              <a:ext cx="170640" cy="17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4" name="Group 1605"/>
          <p:cNvGrpSpPr/>
          <p:nvPr/>
        </p:nvGrpSpPr>
        <p:grpSpPr>
          <a:xfrm>
            <a:off x="4818600" y="5658480"/>
            <a:ext cx="367920" cy="367920"/>
            <a:chOff x="4818600" y="5658480"/>
            <a:chExt cx="367920" cy="367920"/>
          </a:xfrm>
        </p:grpSpPr>
        <p:grpSp>
          <p:nvGrpSpPr>
            <p:cNvPr id="1645" name="Group 1606"/>
            <p:cNvGrpSpPr/>
            <p:nvPr/>
          </p:nvGrpSpPr>
          <p:grpSpPr>
            <a:xfrm>
              <a:off x="4821120" y="5661000"/>
              <a:ext cx="363240" cy="363240"/>
              <a:chOff x="4821120" y="5661000"/>
              <a:chExt cx="363240" cy="363240"/>
            </a:xfrm>
          </p:grpSpPr>
          <p:grpSp>
            <p:nvGrpSpPr>
              <p:cNvPr id="1646" name="Group 1607"/>
              <p:cNvGrpSpPr/>
              <p:nvPr/>
            </p:nvGrpSpPr>
            <p:grpSpPr>
              <a:xfrm>
                <a:off x="4821120" y="5661000"/>
                <a:ext cx="363240" cy="363240"/>
                <a:chOff x="4821120" y="5661000"/>
                <a:chExt cx="363240" cy="363240"/>
              </a:xfrm>
            </p:grpSpPr>
            <p:sp>
              <p:nvSpPr>
                <p:cNvPr id="1647" name="Oval 1608"/>
                <p:cNvSpPr/>
                <p:nvPr/>
              </p:nvSpPr>
              <p:spPr>
                <a:xfrm>
                  <a:off x="4821120" y="5802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8" name="Oval 1609"/>
                <p:cNvSpPr/>
                <p:nvPr/>
              </p:nvSpPr>
              <p:spPr>
                <a:xfrm rot="5400000">
                  <a:off x="482040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9" name="Group 1610"/>
              <p:cNvGrpSpPr/>
              <p:nvPr/>
            </p:nvGrpSpPr>
            <p:grpSpPr>
              <a:xfrm>
                <a:off x="4844520" y="5684760"/>
                <a:ext cx="315000" cy="315720"/>
                <a:chOff x="4844520" y="5684760"/>
                <a:chExt cx="315000" cy="315720"/>
              </a:xfrm>
            </p:grpSpPr>
            <p:sp>
              <p:nvSpPr>
                <p:cNvPr id="1650" name="Oval 1611"/>
                <p:cNvSpPr/>
                <p:nvPr/>
              </p:nvSpPr>
              <p:spPr>
                <a:xfrm rot="2700000">
                  <a:off x="4820400" y="5801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1" name="Oval 1612"/>
                <p:cNvSpPr/>
                <p:nvPr/>
              </p:nvSpPr>
              <p:spPr>
                <a:xfrm rot="8100000">
                  <a:off x="4820040" y="580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2" name="Group 1613"/>
            <p:cNvGrpSpPr/>
            <p:nvPr/>
          </p:nvGrpSpPr>
          <p:grpSpPr>
            <a:xfrm>
              <a:off x="4818600" y="5658480"/>
              <a:ext cx="367920" cy="367920"/>
              <a:chOff x="4818600" y="5658480"/>
              <a:chExt cx="367920" cy="367920"/>
            </a:xfrm>
          </p:grpSpPr>
          <p:grpSp>
            <p:nvGrpSpPr>
              <p:cNvPr id="1653" name="Group 1614"/>
              <p:cNvGrpSpPr/>
              <p:nvPr/>
            </p:nvGrpSpPr>
            <p:grpSpPr>
              <a:xfrm>
                <a:off x="4818600" y="5658480"/>
                <a:ext cx="367920" cy="367920"/>
                <a:chOff x="4818600" y="5658480"/>
                <a:chExt cx="367920" cy="367920"/>
              </a:xfrm>
            </p:grpSpPr>
            <p:sp>
              <p:nvSpPr>
                <p:cNvPr id="1654" name="Oval 1615"/>
                <p:cNvSpPr/>
                <p:nvPr/>
              </p:nvSpPr>
              <p:spPr>
                <a:xfrm rot="1320000">
                  <a:off x="4820760" y="5801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5" name="Oval 1616"/>
                <p:cNvSpPr/>
                <p:nvPr/>
              </p:nvSpPr>
              <p:spPr>
                <a:xfrm rot="6720000">
                  <a:off x="4820400" y="580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6" name="Group 1617"/>
              <p:cNvGrpSpPr/>
              <p:nvPr/>
            </p:nvGrpSpPr>
            <p:grpSpPr>
              <a:xfrm>
                <a:off x="4818960" y="5659560"/>
                <a:ext cx="366480" cy="366480"/>
                <a:chOff x="4818960" y="5659560"/>
                <a:chExt cx="366480" cy="366480"/>
              </a:xfrm>
            </p:grpSpPr>
            <p:sp>
              <p:nvSpPr>
                <p:cNvPr id="1657" name="Oval 1618"/>
                <p:cNvSpPr/>
                <p:nvPr/>
              </p:nvSpPr>
              <p:spPr>
                <a:xfrm rot="4020000">
                  <a:off x="482040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8" name="Oval 1619"/>
                <p:cNvSpPr/>
                <p:nvPr/>
              </p:nvSpPr>
              <p:spPr>
                <a:xfrm rot="9420000">
                  <a:off x="4820400" y="5800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59" name="Oval 1620"/>
            <p:cNvSpPr/>
            <p:nvPr/>
          </p:nvSpPr>
          <p:spPr>
            <a:xfrm>
              <a:off x="4943160" y="5789160"/>
              <a:ext cx="118800" cy="105840"/>
            </a:xfrm>
            <a:prstGeom prst="ellipse">
              <a:avLst/>
            </a:prstGeom>
            <a:blipFill rotWithShape="0">
              <a:blip r:embed="rId47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0" name="Text Box 1621"/>
          <p:cNvSpPr/>
          <p:nvPr/>
        </p:nvSpPr>
        <p:spPr>
          <a:xfrm>
            <a:off x="2484360" y="1125360"/>
            <a:ext cx="5443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叶根友行书繁"/>
              </a:rPr>
              <a:t>春天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叶根友行书繁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叶根友行书繁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0" fill="hold"/>
                                        <p:tgtEl>
                                          <p:spTgt spid="15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5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" dur="2500" autoRev="1" fill="hold"/>
                                        <p:tgtEl>
                                          <p:spTgt spid="15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3" dur="3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autoRev="1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1200000">
                                      <p:cBhvr>
                                        <p:cTn id="15" dur="20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" autoRev="1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1200000">
                                      <p:cBhvr>
                                        <p:cTn id="17" dur="30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9167 -0.04763 -0.18316 -0.09503 -0.25903 -0.09618 C -0.3349 -0.09734 -0.36233 -0.02243 -0.45573 -0.00647 C -0.54914 0.00948 -0.71389 0.01595 -0.81962 0 C -0.92535 -0.01595 -1.00782 -0.05942 -1.09011 -0.10266 E">
                                      <p:cBhvr>
                                        <p:cTn id="19" dur="20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9167 -0.04763 -0.18316 -0.09503 -0.25903 -0.09618 C -0.3349 -0.09734 -0.36233 -0.02243 -0.45573 -0.00647 C -0.54914 0.00948 -0.71389 0.01595 -0.81962 0 C -0.92535 -0.01595 -1.00782 -0.05942 -1.09011 -0.10266 E">
                                      <p:cBhvr>
                                        <p:cTn id="21" dur="20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9167 -0.04763 -0.18316 -0.09503 -0.25903 -0.09618 C -0.3349 -0.09734 -0.36233 -0.02243 -0.45573 -0.00647 C -0.54914 0.00948 -0.71389 0.01595 -0.81962 0 C -0.92535 -0.01595 -1.00782 -0.05942 -1.09011 -0.10266 E">
                                      <p:cBhvr>
                                        <p:cTn id="23" dur="20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9167 -0.04763 -0.18316 -0.09503 -0.25903 -0.09618 C -0.3349 -0.09734 -0.36233 -0.02243 -0.45573 -0.00647 C -0.54914 0.00948 -0.71389 0.01595 -0.81962 0 C -0.92535 -0.01595 -1.00782 -0.05942 -1.09011 -0.10266 E">
                                      <p:cBhvr>
                                        <p:cTn id="25" dur="20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2500" autoRev="1" fill="hold"/>
                                        <p:tgtEl>
                                          <p:spTgt spid="16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5000" fill="hold"/>
                                        <p:tgtEl>
                                          <p:spTgt spid="16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50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2500" autoRev="1" fill="hold"/>
                                        <p:tgtEl>
                                          <p:spTgt spid="16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5000" fill="hold"/>
                                        <p:tgtEl>
                                          <p:spTgt spid="16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5000" fill="hold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2500" autoRev="1" fill="hold"/>
                                        <p:tgtEl>
                                          <p:spTgt spid="16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5000" fill="hold"/>
                                        <p:tgtEl>
                                          <p:spTgt spid="16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50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0" autoRev="1" fill="hold"/>
                                        <p:tgtEl>
                                          <p:spTgt spid="16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5000" fill="hold"/>
                                        <p:tgtEl>
                                          <p:spTgt spid="16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50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2500" autoRev="1" fill="hold"/>
                                        <p:tgtEl>
                                          <p:spTgt spid="16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5000" fill="hold"/>
                                        <p:tgtEl>
                                          <p:spTgt spid="16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50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2500" autoRev="1" fill="hold"/>
                                        <p:tgtEl>
                                          <p:spTgt spid="16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5000" fill="hold"/>
                                        <p:tgtEl>
                                          <p:spTgt spid="16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50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2500" autoRev="1" fill="hold"/>
                                        <p:tgtEl>
                                          <p:spTgt spid="16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5000" fill="hold"/>
                                        <p:tgtEl>
                                          <p:spTgt spid="16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50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0" autoRev="1" fill="hold"/>
                                        <p:tgtEl>
                                          <p:spTgt spid="16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5000" fill="hold"/>
                                        <p:tgtEl>
                                          <p:spTgt spid="16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50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2500" autoRev="1" fill="hold"/>
                                        <p:tgtEl>
                                          <p:spTgt spid="16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5000" fill="hold"/>
                                        <p:tgtEl>
                                          <p:spTgt spid="16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5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3" presetSubtype="6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20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7-20T11:47:29Z</dcterms:modified>
  <cp:revision>1</cp:revision>
  <dc:subject/>
  <dc:title>PowerPoint 演示文稿</dc:title>
</cp:coreProperties>
</file>