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91CE-9BD3-4B47-A1F9-A72C4F147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315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1732-C70F-4ED4-9AB1-3DAF83A5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315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44DD-EE15-4636-AAAF-0EB8F87F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315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5238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9920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02AD-25F5-426E-8D3B-D67F8BF9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315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9ABD-B75E-43BA-834B-8A7D5447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315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A17E-4ECA-4236-BC0E-BF91A8F1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315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074C-E789-4940-B581-B71A3C8B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315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B096-3F53-425F-B232-4EBDF044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73152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1E8B-382F-4B79-ADBC-5AE311FC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315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5AB1-B7A4-483A-9717-578F3F97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315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9920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91D3-4E46-40D7-9A6C-2C566BD3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315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5238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0155-7264-4156-ABF8-0D3CC714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315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8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604F-2669-49F7-937D-13D0433CC5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17000"/>
            <a:ext cx="768204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餐饮美食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在线下载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4"/>
          <p:cNvSpPr/>
          <p:nvPr/>
        </p:nvSpPr>
        <p:spPr>
          <a:xfrm>
            <a:off x="0" y="659592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  <a:ea typeface="宋体"/>
              </a:rPr>
              <a:t>使用规范说明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11:28:00Z</dcterms:created>
  <dc:creator>slideplant</dc:creator>
  <dc:description/>
  <cp:keywords/>
  <dc:language>en-US</dc:language>
  <cp:lastModifiedBy>a</cp:lastModifiedBy>
  <dcterms:modified xsi:type="dcterms:W3CDTF">2015-07-20T12:06:03Z</dcterms:modified>
  <cp:revision>11</cp:revision>
  <dc:subject/>
  <dc:title>Power Point 演示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