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235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992-C21E-4F67-A1C5-F3A0EC14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95583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360" y="4370760"/>
            <a:ext cx="95583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48B-D153-4F6E-82AD-C975206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13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91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BFE-4E04-4270-9901-E36FFC25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3440" y="176364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5160" y="176364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360" y="437076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3440" y="437076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5160" y="4370760"/>
            <a:ext cx="3077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C01-40A4-4C62-B487-0EEE9F62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AA2-1344-488E-9492-E133093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A0E-4901-48C5-9543-E1B32C0C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FE5-E5CD-4D51-8D94-CEDD588B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DB2-B341-48EE-94D6-C46A7D67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1360" y="303120"/>
            <a:ext cx="95583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89F-CC0A-47A7-97AE-BF63FD53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13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78A-2526-4B88-AFDA-774D96A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9160" y="437076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F71-C8CB-46C6-AE2E-729DBCFB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13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9160" y="1763640"/>
            <a:ext cx="46641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1360" y="4370760"/>
            <a:ext cx="955836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EAF-16C3-43F0-8832-3C6E5F9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1360" y="303120"/>
            <a:ext cx="955836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1360" y="1763640"/>
            <a:ext cx="955836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88800" indent="-38880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3120" indent="-32256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852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1764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36760" indent="-258840"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1720" y="6885000"/>
            <a:ext cx="24782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29160" y="6885000"/>
            <a:ext cx="33638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1840" y="6885000"/>
            <a:ext cx="247788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669F-0288-4EF1-AA2D-B907DE18411C}" type="slidenum"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pine"/>
          <p:cNvSpPr/>
          <p:nvPr/>
        </p:nvSpPr>
        <p:spPr>
          <a:xfrm>
            <a:off x="5254560" y="324000"/>
            <a:ext cx="0" cy="6697440"/>
          </a:xfrm>
          <a:prstGeom prst="line">
            <a:avLst/>
          </a:prstGeom>
          <a:ln cap="rnd" w="127080">
            <a:solidFill>
              <a:srgbClr val="6645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4520" y="155520"/>
            <a:ext cx="9593280" cy="7166160"/>
            <a:chOff x="614520" y="155520"/>
            <a:chExt cx="9593280" cy="7166160"/>
          </a:xfrm>
        </p:grpSpPr>
        <p:pic>
          <p:nvPicPr>
            <p:cNvPr id="43" name="pright1" descr=""/>
            <p:cNvPicPr/>
            <p:nvPr/>
          </p:nvPicPr>
          <p:blipFill>
            <a:blip r:embed="rId2"/>
            <a:stretch/>
          </p:blipFill>
          <p:spPr>
            <a:xfrm>
              <a:off x="614520" y="155520"/>
              <a:ext cx="9593280" cy="71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16"/>
            <p:cNvSpPr/>
            <p:nvPr/>
          </p:nvSpPr>
          <p:spPr>
            <a:xfrm>
              <a:off x="5704920" y="952200"/>
              <a:ext cx="41076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运行情况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对该项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在项目的运行情况进行简单介绍并配项目执行“金点子”后的整体照片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效益效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将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执行后的所产生的直接经济效益和社会效益，包括对质量的提高、工期的缩短、节能降耗的指标等进行介绍，可用数字说明的要用数字说明，最好有使用前和使用后的对比，要尽量做到简明、直观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270000" y="181080"/>
            <a:ext cx="4903560" cy="7164360"/>
            <a:chOff x="270000" y="181080"/>
            <a:chExt cx="4903560" cy="7164360"/>
          </a:xfrm>
        </p:grpSpPr>
        <p:pic>
          <p:nvPicPr>
            <p:cNvPr id="46" name="pleft1" descr=""/>
            <p:cNvPicPr/>
            <p:nvPr/>
          </p:nvPicPr>
          <p:blipFill>
            <a:blip r:embed="rId3"/>
            <a:stretch/>
          </p:blipFill>
          <p:spPr>
            <a:xfrm>
              <a:off x="270000" y="181080"/>
              <a:ext cx="4903560" cy="71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24"/>
            <p:cNvSpPr/>
            <p:nvPr/>
          </p:nvSpPr>
          <p:spPr>
            <a:xfrm>
              <a:off x="765720" y="881280"/>
              <a:ext cx="4107960" cy="42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长城粗行楷体"/>
                </a:rPr>
                <a:t>二、材料要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文字材料应注意以下几点：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产生背景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将提出此项“金点子”的前提进行扼要介绍，力争一两句话将“金点子”产生的背景交待清楚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4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1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点子原理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——要尽量做到深入浅出，达到不仅技术人员能看懂，外行人也能明白七八分的目的，可适当辅之以图解和现场细部照片；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0360" y="168120"/>
            <a:ext cx="9593280" cy="7164720"/>
            <a:chOff x="630360" y="168120"/>
            <a:chExt cx="9593280" cy="7164720"/>
          </a:xfrm>
        </p:grpSpPr>
        <p:pic>
          <p:nvPicPr>
            <p:cNvPr id="49" name="pright1" descr=""/>
            <p:cNvPicPr/>
            <p:nvPr/>
          </p:nvPicPr>
          <p:blipFill>
            <a:blip r:embed="rId4"/>
            <a:stretch/>
          </p:blipFill>
          <p:spPr>
            <a:xfrm>
              <a:off x="630360" y="168120"/>
              <a:ext cx="9593280" cy="71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6"/>
            <p:cNvSpPr/>
            <p:nvPr/>
          </p:nvSpPr>
          <p:spPr>
            <a:xfrm>
              <a:off x="5736240" y="1429200"/>
              <a:ext cx="4010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3798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长城粗行楷体"/>
                </a:rPr>
                <a:t>一、定义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798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金点子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合理化建议，应立足本职岗位，建议内容着眼于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“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小</a:t>
              </a:r>
              <a:r>
                <a:rPr b="0" lang="zh-CN" sz="20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”</a:t>
              </a: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，是能够解决实际问题并带来社会和经济效果的建议。应具有先进性、可操作性和易推广性，侧重于项目的技术创新、工艺优化和工艺改进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0000" y="144360"/>
            <a:ext cx="4903200" cy="7164000"/>
            <a:chOff x="270000" y="144360"/>
            <a:chExt cx="4903200" cy="7164000"/>
          </a:xfrm>
        </p:grpSpPr>
        <p:pic>
          <p:nvPicPr>
            <p:cNvPr id="52" name="pleft1" descr=""/>
            <p:cNvPicPr/>
            <p:nvPr/>
          </p:nvPicPr>
          <p:blipFill>
            <a:blip r:embed="rId5"/>
            <a:stretch/>
          </p:blipFill>
          <p:spPr>
            <a:xfrm>
              <a:off x="270000" y="144360"/>
              <a:ext cx="4903200" cy="71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4"/>
            <p:cNvSpPr/>
            <p:nvPr/>
          </p:nvSpPr>
          <p:spPr>
            <a:xfrm>
              <a:off x="817200" y="986040"/>
              <a:ext cx="4009680" cy="15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書體坊顏體㊣"/>
                  <a:ea typeface="长城粗行楷体"/>
                </a:rPr>
                <a:t>前   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3399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       </a:t>
              </a:r>
              <a:r>
                <a:rPr b="0" lang="zh-CN" sz="2300" spc="-1" strike="noStrike">
                  <a:solidFill>
                    <a:srgbClr val="000000"/>
                  </a:solidFill>
                  <a:latin typeface="全新硬笔楷书简"/>
                  <a:ea typeface="全新硬笔楷书简"/>
                </a:rPr>
                <a:t>今年按照局拓展空间、服务大局、集成创新、助推发展的工作思路，公司合理化建议征集活动继续进行。活动的主要目的是为进一步促进“双推”（推进项目精细管理，推进生产降本增效）劳动竞赛活动的深入开展，激发职工聪明才智和创新能力，提高项目管理和赢利水平，提高企业竞争力，为职工提供展示才华的舞台。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95440" y="181080"/>
            <a:ext cx="9592920" cy="7164000"/>
            <a:chOff x="595440" y="181080"/>
            <a:chExt cx="9592920" cy="7164000"/>
          </a:xfrm>
        </p:grpSpPr>
        <p:pic>
          <p:nvPicPr>
            <p:cNvPr id="55" name="pright1" descr=""/>
            <p:cNvPicPr/>
            <p:nvPr/>
          </p:nvPicPr>
          <p:blipFill>
            <a:blip r:embed="rId6"/>
            <a:stretch/>
          </p:blipFill>
          <p:spPr>
            <a:xfrm>
              <a:off x="595440" y="181080"/>
              <a:ext cx="9592920" cy="71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ight3"/>
            <p:cNvSpPr/>
            <p:nvPr/>
          </p:nvSpPr>
          <p:spPr>
            <a:xfrm>
              <a:off x="5336640" y="2178720"/>
              <a:ext cx="44884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275440" y="3925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18040" y="259380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免费完整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6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7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4680" y="209160"/>
            <a:ext cx="9534240" cy="6318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920" y="1400040"/>
            <a:ext cx="10371240" cy="57549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464680" y="368280"/>
            <a:ext cx="161424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54F-C988-4653-9BAA-1E388A94C65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5:55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6:07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