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546-4043-4608-9FB8-BBEEF48A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4BC-95C4-4EAF-B571-4D167088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D7C-1634-4D72-B18E-FC2802E8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355-4858-417C-A054-1976F502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EA1D-1540-48F0-A466-27254A48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3B26-C442-4A96-B039-5D4E6FC5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DC5C-4921-4748-8B17-1007D400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9881-3E44-434E-A119-EABD63F4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158D-B65D-4EC7-8BEF-D2BC69AF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61B5-EB06-4A84-9ABB-F930467E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5566-FA3A-48E5-BC0E-DB33E20C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F02-B6E2-4833-8B92-D58B14FA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23F1-4E6E-4E56-8C63-74055ACB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81E9-3B37-4430-AE17-B0E2296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3825-08D5-4EF0-BF2F-450A5B72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D4FD-A5D5-428D-8D58-7D54AE9C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DAC9-1E75-436D-91C3-E016E560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7A0-E07B-4C5A-9517-264227B7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1CB-D26B-4878-B247-65969B31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C7A-270A-4C1A-B6C4-9E8C2FD4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112-2CFC-45A3-A227-90A394CE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58F-B0A7-441D-BAAE-BF41C43A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3B8-8B83-4FA4-AAB9-7474DD6C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14C-E32D-4633-994E-202F47FB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A792-840F-41BE-95A9-5459155B8D45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EE4E-4D31-4792-9876-A33524F4DB19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2548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0c0c"/>
                </a:solidFill>
                <a:latin typeface="Arial"/>
              </a:rPr>
              <a:t>动物</a:t>
            </a:r>
            <a:r>
              <a:rPr b="0" lang="zh-CN" sz="4000" spc="-1" strike="noStrike">
                <a:solidFill>
                  <a:srgbClr val="0c0c0c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c0c0c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7451640" y="0"/>
            <a:ext cx="1081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ziliao/  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fanwen/     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971640" y="27813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1449360" y="3495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c0c0c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c0c0c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b5713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4F46-3F70-43BB-89D1-F65E9A8063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PPT</dc:creator>
  <dc:description/>
  <dc:language>en-US</dc:language>
  <cp:lastModifiedBy>lenovo</cp:lastModifiedBy>
  <dcterms:modified xsi:type="dcterms:W3CDTF">2015-07-21T03:10:14Z</dcterms:modified>
  <cp:revision>146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