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87E9-7562-40A9-89D6-03417B22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C4BD-35DC-418F-B463-4A6A1B78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9710-330F-46B7-BFF9-57F8C0CA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DEC-DAB2-4871-A565-5BEAC642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EF77-5BEC-44A3-8316-D34DE397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12CF-DADA-444B-B951-90BFCEAD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9290-AEA6-46F4-92DF-60FA76FE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A22F-AEE3-4F35-B426-95C2A8A1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EC51-41A2-42C8-8E14-D91834FF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FF99-FB15-4202-93AC-A48BD141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8C2F-62BA-480A-9C4D-3A508461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A6D9-4950-433C-8FDD-B6B03CDC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533A-5904-4E5A-82EA-57926CB6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2F50-FF3A-4ADA-BCB4-493B85C2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47D3-A07A-4AD0-AD45-EBC62539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2976-62AF-40D3-9A05-6F72CD90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ACFD-47AF-49EA-BB0D-96A024FB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9575-662E-4BD2-9D64-DF44A441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C6C6-AF5D-4A84-8B36-EC5D75BB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BAF-5FED-4896-8EC0-A7139375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3BBB-E7BD-40E1-885F-EA7E6B3A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3F9-6F5B-40F8-8256-346B6B5F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4357-5266-4840-9CD7-E89D70FE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F430-EB9A-4AA3-83BF-86FCEED5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0" y="2133720"/>
            <a:ext cx="2479680" cy="47386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"/>
          <p:cNvSpPr/>
          <p:nvPr/>
        </p:nvSpPr>
        <p:spPr>
          <a:xfrm>
            <a:off x="0" y="0"/>
            <a:ext cx="2479680" cy="2133720"/>
          </a:xfrm>
          <a:prstGeom prst="rect">
            <a:avLst/>
          </a:prstGeom>
          <a:solidFill>
            <a:srgbClr val="cab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7403-D0C8-44A2-BD6B-330A8DCDD88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"/>
          <p:cNvPicPr/>
          <p:nvPr/>
        </p:nvPicPr>
        <p:blipFill>
          <a:blip r:embed="rId2"/>
          <a:stretch/>
        </p:blipFill>
        <p:spPr>
          <a:xfrm>
            <a:off x="0" y="2133720"/>
            <a:ext cx="2479680" cy="47386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0" y="0"/>
            <a:ext cx="2479680" cy="2133720"/>
          </a:xfrm>
          <a:prstGeom prst="rect">
            <a:avLst/>
          </a:prstGeom>
          <a:solidFill>
            <a:srgbClr val="cab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2133720"/>
            <a:ext cx="9144000" cy="47386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cab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7CAB-ACE7-405F-A500-3C371323433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59000" y="103824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3056040" y="330120"/>
            <a:ext cx="36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动物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38556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Example Bullet Poin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700360" y="1663560"/>
            <a:ext cx="593568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ampl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Content Placeholder 3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64036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olour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618080" y="3006720"/>
            <a:ext cx="82692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694480" y="300672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565440" y="4621320"/>
            <a:ext cx="827280" cy="610920"/>
          </a:xfrm>
          <a:prstGeom prst="rect">
            <a:avLst/>
          </a:prstGeom>
          <a:solidFill>
            <a:srgbClr val="f0c5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633920" y="4621320"/>
            <a:ext cx="826920" cy="610920"/>
          </a:xfrm>
          <a:prstGeom prst="rect">
            <a:avLst/>
          </a:prstGeom>
          <a:solidFill>
            <a:srgbClr val="6ba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702400" y="4621320"/>
            <a:ext cx="826920" cy="610920"/>
          </a:xfrm>
          <a:prstGeom prst="rect">
            <a:avLst/>
          </a:prstGeom>
          <a:solidFill>
            <a:srgbClr val="0b6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772320" y="4621320"/>
            <a:ext cx="826920" cy="610920"/>
          </a:xfrm>
          <a:prstGeom prst="rect">
            <a:avLst/>
          </a:prstGeom>
          <a:solidFill>
            <a:srgbClr val="237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754680" y="3006720"/>
            <a:ext cx="82728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3549600" y="3006720"/>
            <a:ext cx="82728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331800" y="23670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650120" y="224460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5599800" y="23670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6880680" y="224460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708000" y="398160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4655520" y="398160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5589720" y="385920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6670800" y="385776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Pictur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16360" y="1628640"/>
            <a:ext cx="200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IMG_9271"/>
          <p:cNvPicPr/>
          <p:nvPr/>
        </p:nvPicPr>
        <p:blipFill>
          <a:blip r:embed="rId1"/>
          <a:stretch/>
        </p:blipFill>
        <p:spPr>
          <a:xfrm>
            <a:off x="5651640" y="1773360"/>
            <a:ext cx="3097080" cy="3852720"/>
          </a:xfrm>
          <a:prstGeom prst="rect">
            <a:avLst/>
          </a:prstGeom>
          <a:ln w="57240">
            <a:solidFill>
              <a:srgbClr val="f0c5d4"/>
            </a:solidFill>
            <a:miter/>
          </a:ln>
        </p:spPr>
      </p:pic>
      <p:sp>
        <p:nvSpPr>
          <p:cNvPr id="118" name="Text Box 5"/>
          <p:cNvSpPr/>
          <p:nvPr/>
        </p:nvSpPr>
        <p:spPr>
          <a:xfrm>
            <a:off x="2987640" y="6237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素材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/>
  <dc:description/>
  <cp:keywords/>
  <dc:language>en-US</dc:language>
  <cp:lastModifiedBy>a</cp:lastModifiedBy>
  <dcterms:modified xsi:type="dcterms:W3CDTF">2015-07-21T03:51:23Z</dcterms:modified>
  <cp:revision>15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