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B9B-D2BD-433A-9432-603D34A8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44A-3ADD-4DDD-8659-54227046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4AC-AB12-4CFA-A14C-81021FCA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0F1-E20E-49AC-A05B-10FA78B3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4AE4-88D8-42B7-8971-AA6DDFA6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D4D-E136-4401-95B7-92AA5D62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62F-78BB-4D0A-B493-F563DB81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1D0-AD8C-468F-A1F6-763B0591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713-E351-4364-B29E-62F7D58C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B7A-AEAF-4797-B526-D1B87113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89A-71BA-44BE-BE14-DD1FC3BA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466-F8B1-4243-8A9F-61B40AA2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46D5-32DD-4F4E-A61D-D6DBA0FB7781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ED3E-A91A-475E-AB49-26CD1398336D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7128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1120" y="225360"/>
            <a:ext cx="35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11111"/>
                </a:solidFill>
                <a:latin typeface="Arial"/>
              </a:rPr>
              <a:t>翻页效果</a:t>
            </a:r>
            <a:r>
              <a:rPr b="0" lang="zh-CN" sz="4400" spc="-1" strike="noStrike">
                <a:solidFill>
                  <a:srgbClr val="111111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111111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0D1B-FFB3-4D9F-834B-0ACC22F656D3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9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5839-DBF9-4CDC-AD94-EFAD94197754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42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43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5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CC96-C097-4B0A-A57B-46B1ECEB9CC6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642480" y="2943360"/>
            <a:ext cx="39240" cy="33840"/>
            <a:chOff x="3642480" y="2943360"/>
            <a:chExt cx="39240" cy="33840"/>
          </a:xfrm>
        </p:grpSpPr>
        <p:sp>
          <p:nvSpPr>
            <p:cNvPr id="147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49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规范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F5C-0C90-49B5-8DD5-547D1F8C77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C2A7-3F7B-448D-856F-4B79259FE59C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A0E4-2ED8-4EF5-9CB1-139F4A3D5A4D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a8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f168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a83800"/>
          </a:solidFill>
          <a:ln w="9360">
            <a:solidFill>
              <a:srgbClr val="541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c00000"/>
          </a:solidFill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内容占位符 6"/>
          <p:cNvSpPr/>
          <p:nvPr/>
        </p:nvSpPr>
        <p:spPr>
          <a:xfrm>
            <a:off x="3179880" y="3332160"/>
            <a:ext cx="556884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4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直接连接符 150"/>
          <p:cNvSpPr/>
          <p:nvPr/>
        </p:nvSpPr>
        <p:spPr>
          <a:xfrm>
            <a:off x="395280" y="194004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9C44-2235-48D7-86F2-5DE44EB0C218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DC6D-BD46-4371-AF18-58F7CE94605B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5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6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6887-62DC-45A9-9F60-2C74DE660E23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0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AEAC-67EF-44D7-84F1-545E6E9783B4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2" name="内容占位符 12"/>
          <p:cNvSpPr/>
          <p:nvPr/>
        </p:nvSpPr>
        <p:spPr>
          <a:xfrm>
            <a:off x="395280" y="1339920"/>
            <a:ext cx="8353440" cy="46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E3FD-8FDC-4782-B47C-E52E1B7ED51D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F3C2-B667-418F-9232-61EC17CB1986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7" name="内容占位符 15"/>
          <p:cNvSpPr/>
          <p:nvPr/>
        </p:nvSpPr>
        <p:spPr>
          <a:xfrm>
            <a:off x="906480" y="1339920"/>
            <a:ext cx="7332480" cy="44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BCF3-15C2-421C-97F5-18391E18FFC3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8B38-E3B2-40D6-A7E9-1C1BE4419FA6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23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6784-D7AC-4710-A820-4CE409401FE3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6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3D8B-A98B-4910-9568-4C3F37419F9D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内容占位符 6"/>
          <p:cNvSpPr/>
          <p:nvPr/>
        </p:nvSpPr>
        <p:spPr>
          <a:xfrm>
            <a:off x="39528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内容占位符 6"/>
          <p:cNvSpPr/>
          <p:nvPr/>
        </p:nvSpPr>
        <p:spPr>
          <a:xfrm>
            <a:off x="463536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2FD1-9FD4-4913-A96A-383DBE96DE02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4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3C88-4A9F-4C17-9230-3A4C2C816685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36" name="内容占位符 6"/>
          <p:cNvSpPr/>
          <p:nvPr/>
        </p:nvSpPr>
        <p:spPr>
          <a:xfrm>
            <a:off x="395280" y="1197000"/>
            <a:ext cx="8353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1:20:00Z</dcterms:created>
  <dc:creator>www.slideto.me; ilovePPT.ORG</dc:creator>
  <dc:description/>
  <cp:keywords>我爱PPT中文网; 4.3; 浅棕色; 静态; L</cp:keywords>
  <dc:language>en-US</dc:language>
  <cp:lastModifiedBy>User</cp:lastModifiedBy>
  <dcterms:modified xsi:type="dcterms:W3CDTF">2015-07-20T09:26:47Z</dcterms:modified>
  <cp:revision>12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