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300-8026-4C74-BF01-2154A56A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162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4193280"/>
            <a:ext cx="7162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718-A11F-4F34-B6E0-94CBA5CE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419328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0400" y="419328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7F6-14A3-4B54-81EF-03F3A42B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1560" y="236232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3640" y="236232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419328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1560" y="419328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3640" y="419328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5FC-D957-4E81-80FD-9B20AA71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2362320"/>
            <a:ext cx="71629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FD3-4859-4CBC-954E-011B9F50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162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8FF-8857-4DE8-BA05-A9B39BBC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1AD-5809-4B6E-B042-3437DCD7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A23-A780-4F61-AC60-045A829B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990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8A8-5C2C-4285-8710-2FEF44A2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419328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F01-3D5E-4D5B-B68A-03A106F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0400" y="419328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153-E55C-47D5-A2B3-F15ADD5E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4193280"/>
            <a:ext cx="7162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432-5872-49BB-BBBB-DD62E5A8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2362320"/>
            <a:ext cx="7162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960120" indent="-191880">
              <a:spcBef>
                <a:spcPts val="7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343880" indent="-191880">
              <a:spcBef>
                <a:spcPts val="7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1728000" indent="-191880">
              <a:spcBef>
                <a:spcPts val="7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1728000" indent="-191880">
              <a:spcBef>
                <a:spcPts val="7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1728000" indent="-191880">
              <a:spcBef>
                <a:spcPts val="7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8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  <a:ea typeface="PMingLiU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EBC4-393C-4E3E-B0C1-98D3C68EA362}" type="slidenum">
              <a:rPr b="0" lang="en-US" sz="1400" spc="-1" strike="noStrike">
                <a:solidFill>
                  <a:srgbClr val="40458c"/>
                </a:solidFill>
                <a:latin typeface="Tahom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5260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731-09F7-4A79-8E05-E0997902B7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7:09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20T02:25:2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