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E93-360D-419C-BC01-99215A51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0A0-6DED-4A2B-BD35-1DE7566B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A87-C541-4661-B7A8-F74D6E35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098-E646-4BCE-9FC3-AC71B80F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F00-E241-429E-8152-D0351F5E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09B-0032-427A-BE78-6521A6B3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31B-3C2D-402E-A5EC-8EBA388E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BB8-A90B-476E-9A3B-0B7DC7D3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6B2-E420-4CFF-B87D-DF921313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B49-661C-42F5-8B25-ADFA096B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D2E-813B-4D55-A850-3A6A4BB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686-F59A-4889-AF6E-690AFA73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EAE7-798A-40C9-91E3-AE3A16AED830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타원 9"/>
          <p:cNvSpPr/>
          <p:nvPr/>
        </p:nvSpPr>
        <p:spPr>
          <a:xfrm>
            <a:off x="-1190520" y="4848120"/>
            <a:ext cx="4476600" cy="48578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타원 10"/>
          <p:cNvSpPr/>
          <p:nvPr/>
        </p:nvSpPr>
        <p:spPr>
          <a:xfrm>
            <a:off x="6315120" y="4419720"/>
            <a:ext cx="3614760" cy="50720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타원 11"/>
          <p:cNvSpPr/>
          <p:nvPr/>
        </p:nvSpPr>
        <p:spPr>
          <a:xfrm>
            <a:off x="2214720" y="5907240"/>
            <a:ext cx="3143160" cy="41558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타원 12"/>
          <p:cNvSpPr/>
          <p:nvPr/>
        </p:nvSpPr>
        <p:spPr>
          <a:xfrm>
            <a:off x="4214880" y="5549760"/>
            <a:ext cx="3286080" cy="41562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타원 137"/>
          <p:cNvSpPr/>
          <p:nvPr/>
        </p:nvSpPr>
        <p:spPr>
          <a:xfrm>
            <a:off x="-1074600" y="5072040"/>
            <a:ext cx="4217760" cy="4578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타원 138"/>
          <p:cNvSpPr/>
          <p:nvPr/>
        </p:nvSpPr>
        <p:spPr>
          <a:xfrm>
            <a:off x="6429240" y="4643280"/>
            <a:ext cx="3407040" cy="4780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타원 139"/>
          <p:cNvSpPr/>
          <p:nvPr/>
        </p:nvSpPr>
        <p:spPr>
          <a:xfrm>
            <a:off x="2286000" y="6072120"/>
            <a:ext cx="2962440" cy="39164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타원 140"/>
          <p:cNvSpPr/>
          <p:nvPr/>
        </p:nvSpPr>
        <p:spPr>
          <a:xfrm>
            <a:off x="4332240" y="5715000"/>
            <a:ext cx="3097440" cy="39164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타원 141"/>
          <p:cNvSpPr/>
          <p:nvPr/>
        </p:nvSpPr>
        <p:spPr>
          <a:xfrm>
            <a:off x="-915840" y="5286240"/>
            <a:ext cx="3844800" cy="41738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타원 142"/>
          <p:cNvSpPr/>
          <p:nvPr/>
        </p:nvSpPr>
        <p:spPr>
          <a:xfrm>
            <a:off x="6610320" y="4919760"/>
            <a:ext cx="3105360" cy="43574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타원 143"/>
          <p:cNvSpPr/>
          <p:nvPr/>
        </p:nvSpPr>
        <p:spPr>
          <a:xfrm>
            <a:off x="2443320" y="6286680"/>
            <a:ext cx="2700360" cy="357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타원 144"/>
          <p:cNvSpPr/>
          <p:nvPr/>
        </p:nvSpPr>
        <p:spPr>
          <a:xfrm>
            <a:off x="4464000" y="6000840"/>
            <a:ext cx="2822760" cy="357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타원 145"/>
          <p:cNvSpPr/>
          <p:nvPr/>
        </p:nvSpPr>
        <p:spPr>
          <a:xfrm>
            <a:off x="-814320" y="5572080"/>
            <a:ext cx="3529080" cy="38322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타원 146"/>
          <p:cNvSpPr/>
          <p:nvPr/>
        </p:nvSpPr>
        <p:spPr>
          <a:xfrm>
            <a:off x="6715080" y="5214960"/>
            <a:ext cx="2851200" cy="4000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타원 147"/>
          <p:cNvSpPr/>
          <p:nvPr/>
        </p:nvSpPr>
        <p:spPr>
          <a:xfrm>
            <a:off x="2571840" y="6572160"/>
            <a:ext cx="2479680" cy="3278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타원 148"/>
          <p:cNvSpPr/>
          <p:nvPr/>
        </p:nvSpPr>
        <p:spPr>
          <a:xfrm>
            <a:off x="4622760" y="6286680"/>
            <a:ext cx="2592360" cy="3278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타원 149"/>
          <p:cNvSpPr/>
          <p:nvPr/>
        </p:nvSpPr>
        <p:spPr>
          <a:xfrm>
            <a:off x="-579600" y="5929200"/>
            <a:ext cx="3151440" cy="3421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타원 150"/>
          <p:cNvSpPr/>
          <p:nvPr/>
        </p:nvSpPr>
        <p:spPr>
          <a:xfrm>
            <a:off x="6858000" y="5572080"/>
            <a:ext cx="2546280" cy="357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타원 151"/>
          <p:cNvSpPr/>
          <p:nvPr/>
        </p:nvSpPr>
        <p:spPr>
          <a:xfrm>
            <a:off x="2716200" y="6858000"/>
            <a:ext cx="2212920" cy="29275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타원 152"/>
          <p:cNvSpPr/>
          <p:nvPr/>
        </p:nvSpPr>
        <p:spPr>
          <a:xfrm>
            <a:off x="4786200" y="6572160"/>
            <a:ext cx="2314800" cy="29275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타원 153"/>
          <p:cNvSpPr/>
          <p:nvPr/>
        </p:nvSpPr>
        <p:spPr>
          <a:xfrm>
            <a:off x="-425520" y="6357960"/>
            <a:ext cx="2835360" cy="30780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타원 154"/>
          <p:cNvSpPr/>
          <p:nvPr/>
        </p:nvSpPr>
        <p:spPr>
          <a:xfrm>
            <a:off x="6996240" y="6000840"/>
            <a:ext cx="2290680" cy="32144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타원 155"/>
          <p:cNvSpPr/>
          <p:nvPr/>
        </p:nvSpPr>
        <p:spPr>
          <a:xfrm>
            <a:off x="2814480" y="7237440"/>
            <a:ext cx="1992600" cy="26337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타원 156"/>
          <p:cNvSpPr/>
          <p:nvPr/>
        </p:nvSpPr>
        <p:spPr>
          <a:xfrm>
            <a:off x="4917960" y="6929280"/>
            <a:ext cx="2082960" cy="26337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타원 157"/>
          <p:cNvSpPr/>
          <p:nvPr/>
        </p:nvSpPr>
        <p:spPr>
          <a:xfrm>
            <a:off x="-353880" y="6781680"/>
            <a:ext cx="2570040" cy="2791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타원 158"/>
          <p:cNvSpPr/>
          <p:nvPr/>
        </p:nvSpPr>
        <p:spPr>
          <a:xfrm>
            <a:off x="7072200" y="6429240"/>
            <a:ext cx="2076480" cy="29149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타원 159"/>
          <p:cNvSpPr/>
          <p:nvPr/>
        </p:nvSpPr>
        <p:spPr>
          <a:xfrm>
            <a:off x="2876400" y="7643880"/>
            <a:ext cx="1806840" cy="2387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타원 160"/>
          <p:cNvSpPr/>
          <p:nvPr/>
        </p:nvSpPr>
        <p:spPr>
          <a:xfrm>
            <a:off x="5041800" y="7286760"/>
            <a:ext cx="1887480" cy="2387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타원 161"/>
          <p:cNvSpPr/>
          <p:nvPr/>
        </p:nvSpPr>
        <p:spPr>
          <a:xfrm>
            <a:off x="-210960" y="7188120"/>
            <a:ext cx="2209680" cy="2400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타원 162"/>
          <p:cNvSpPr/>
          <p:nvPr/>
        </p:nvSpPr>
        <p:spPr>
          <a:xfrm>
            <a:off x="7215120" y="6929280"/>
            <a:ext cx="1785960" cy="25066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타원 163"/>
          <p:cNvSpPr/>
          <p:nvPr/>
        </p:nvSpPr>
        <p:spPr>
          <a:xfrm>
            <a:off x="2986200" y="8072280"/>
            <a:ext cx="1552320" cy="205452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타원 164"/>
          <p:cNvSpPr/>
          <p:nvPr/>
        </p:nvSpPr>
        <p:spPr>
          <a:xfrm>
            <a:off x="5162400" y="7715160"/>
            <a:ext cx="1624320" cy="205416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자유형 88"/>
          <p:cNvSpPr/>
          <p:nvPr/>
        </p:nvSpPr>
        <p:spPr>
          <a:xfrm>
            <a:off x="1643040" y="3429000"/>
            <a:ext cx="3114720" cy="2016000"/>
          </a:xfrm>
          <a:custGeom>
            <a:avLst/>
            <a:gdLst/>
            <a:ahLst/>
            <a:rect l="l" t="t" r="r" b="b"/>
            <a:pathLst>
              <a:path w="6434666" h="4234147">
                <a:moveTo>
                  <a:pt x="16933" y="2072024"/>
                </a:moveTo>
                <a:cubicBezTo>
                  <a:pt x="27709" y="2059709"/>
                  <a:pt x="56958" y="2056630"/>
                  <a:pt x="164715" y="2062788"/>
                </a:cubicBezTo>
                <a:cubicBezTo>
                  <a:pt x="272472" y="2068946"/>
                  <a:pt x="571114" y="2101273"/>
                  <a:pt x="663478" y="2108970"/>
                </a:cubicBezTo>
                <a:cubicBezTo>
                  <a:pt x="755842" y="2116667"/>
                  <a:pt x="698885" y="2113588"/>
                  <a:pt x="718897" y="2108970"/>
                </a:cubicBezTo>
                <a:cubicBezTo>
                  <a:pt x="738909" y="2104352"/>
                  <a:pt x="769697" y="2093575"/>
                  <a:pt x="783551" y="2081260"/>
                </a:cubicBezTo>
                <a:cubicBezTo>
                  <a:pt x="797406" y="2068945"/>
                  <a:pt x="791248" y="2045855"/>
                  <a:pt x="802024" y="2035079"/>
                </a:cubicBezTo>
                <a:cubicBezTo>
                  <a:pt x="812800" y="2024303"/>
                  <a:pt x="817418" y="2018145"/>
                  <a:pt x="848206" y="2016606"/>
                </a:cubicBezTo>
                <a:cubicBezTo>
                  <a:pt x="878994" y="2015067"/>
                  <a:pt x="917478" y="2011988"/>
                  <a:pt x="986751" y="2025842"/>
                </a:cubicBezTo>
                <a:cubicBezTo>
                  <a:pt x="1056024" y="2039696"/>
                  <a:pt x="1188412" y="2082800"/>
                  <a:pt x="1263842" y="2099733"/>
                </a:cubicBezTo>
                <a:cubicBezTo>
                  <a:pt x="1339272" y="2116666"/>
                  <a:pt x="1439333" y="2127442"/>
                  <a:pt x="1439333" y="2127442"/>
                </a:cubicBezTo>
                <a:lnTo>
                  <a:pt x="1993515" y="2192097"/>
                </a:lnTo>
                <a:cubicBezTo>
                  <a:pt x="2119745" y="2202873"/>
                  <a:pt x="2133600" y="2198255"/>
                  <a:pt x="2196715" y="2192097"/>
                </a:cubicBezTo>
                <a:cubicBezTo>
                  <a:pt x="2259830" y="2185939"/>
                  <a:pt x="2289079" y="2182860"/>
                  <a:pt x="2372206" y="2155151"/>
                </a:cubicBezTo>
                <a:cubicBezTo>
                  <a:pt x="2455333" y="2127442"/>
                  <a:pt x="2576945" y="2090497"/>
                  <a:pt x="2695478" y="2025842"/>
                </a:cubicBezTo>
                <a:cubicBezTo>
                  <a:pt x="2814011" y="1961187"/>
                  <a:pt x="2978727" y="1862666"/>
                  <a:pt x="3083406" y="1767224"/>
                </a:cubicBezTo>
                <a:cubicBezTo>
                  <a:pt x="3188085" y="1671782"/>
                  <a:pt x="3254278" y="1560945"/>
                  <a:pt x="3323551" y="1453188"/>
                </a:cubicBezTo>
                <a:cubicBezTo>
                  <a:pt x="3392824" y="1345431"/>
                  <a:pt x="3449781" y="1228437"/>
                  <a:pt x="3499042" y="1120679"/>
                </a:cubicBezTo>
                <a:cubicBezTo>
                  <a:pt x="3548303" y="1012921"/>
                  <a:pt x="3580630" y="912860"/>
                  <a:pt x="3619115" y="806642"/>
                </a:cubicBezTo>
                <a:cubicBezTo>
                  <a:pt x="3657600" y="700424"/>
                  <a:pt x="3700703" y="581891"/>
                  <a:pt x="3729951" y="483370"/>
                </a:cubicBezTo>
                <a:cubicBezTo>
                  <a:pt x="3759199" y="384849"/>
                  <a:pt x="3779212" y="287867"/>
                  <a:pt x="3794606" y="215515"/>
                </a:cubicBezTo>
                <a:cubicBezTo>
                  <a:pt x="3810000" y="143163"/>
                  <a:pt x="3816158" y="84666"/>
                  <a:pt x="3822315" y="49260"/>
                </a:cubicBezTo>
                <a:cubicBezTo>
                  <a:pt x="3828473" y="13854"/>
                  <a:pt x="3830012" y="6158"/>
                  <a:pt x="3831551" y="3079"/>
                </a:cubicBezTo>
                <a:cubicBezTo>
                  <a:pt x="3833090" y="0"/>
                  <a:pt x="3823854" y="21552"/>
                  <a:pt x="3831551" y="30788"/>
                </a:cubicBezTo>
                <a:cubicBezTo>
                  <a:pt x="3839248" y="40024"/>
                  <a:pt x="3854642" y="32327"/>
                  <a:pt x="3877733" y="58497"/>
                </a:cubicBezTo>
                <a:cubicBezTo>
                  <a:pt x="3900824" y="84667"/>
                  <a:pt x="3931612" y="127770"/>
                  <a:pt x="3970097" y="187806"/>
                </a:cubicBezTo>
                <a:cubicBezTo>
                  <a:pt x="4008582" y="247842"/>
                  <a:pt x="4062460" y="327891"/>
                  <a:pt x="4108642" y="418715"/>
                </a:cubicBezTo>
                <a:cubicBezTo>
                  <a:pt x="4154824" y="509539"/>
                  <a:pt x="4210242" y="600363"/>
                  <a:pt x="4247187" y="732751"/>
                </a:cubicBezTo>
                <a:cubicBezTo>
                  <a:pt x="4284133" y="865139"/>
                  <a:pt x="4316460" y="1057563"/>
                  <a:pt x="4330315" y="1213042"/>
                </a:cubicBezTo>
                <a:cubicBezTo>
                  <a:pt x="4344170" y="1368521"/>
                  <a:pt x="4342630" y="1517842"/>
                  <a:pt x="4330315" y="1665624"/>
                </a:cubicBezTo>
                <a:cubicBezTo>
                  <a:pt x="4318000" y="1813406"/>
                  <a:pt x="4270279" y="2019685"/>
                  <a:pt x="4256424" y="2099733"/>
                </a:cubicBezTo>
                <a:cubicBezTo>
                  <a:pt x="4242569" y="2179782"/>
                  <a:pt x="4219478" y="2122824"/>
                  <a:pt x="4247187" y="2145915"/>
                </a:cubicBezTo>
                <a:cubicBezTo>
                  <a:pt x="4274896" y="2169006"/>
                  <a:pt x="4341090" y="2209031"/>
                  <a:pt x="4422678" y="2238279"/>
                </a:cubicBezTo>
                <a:cubicBezTo>
                  <a:pt x="4504266" y="2267527"/>
                  <a:pt x="4655127" y="2304473"/>
                  <a:pt x="4736715" y="2321406"/>
                </a:cubicBezTo>
                <a:cubicBezTo>
                  <a:pt x="4818303" y="2338339"/>
                  <a:pt x="4912206" y="2339879"/>
                  <a:pt x="4912206" y="2339879"/>
                </a:cubicBezTo>
                <a:lnTo>
                  <a:pt x="6214533" y="2506133"/>
                </a:lnTo>
                <a:cubicBezTo>
                  <a:pt x="6434666" y="2535382"/>
                  <a:pt x="6237624" y="2504594"/>
                  <a:pt x="6233006" y="2515370"/>
                </a:cubicBezTo>
                <a:cubicBezTo>
                  <a:pt x="6228388" y="2526146"/>
                  <a:pt x="6202218" y="2558473"/>
                  <a:pt x="6186824" y="2570788"/>
                </a:cubicBezTo>
                <a:cubicBezTo>
                  <a:pt x="6171430" y="2583103"/>
                  <a:pt x="6168351" y="2587721"/>
                  <a:pt x="6140642" y="2589260"/>
                </a:cubicBezTo>
                <a:cubicBezTo>
                  <a:pt x="6112933" y="2590799"/>
                  <a:pt x="6020569" y="2580024"/>
                  <a:pt x="6020569" y="2580024"/>
                </a:cubicBezTo>
                <a:cubicBezTo>
                  <a:pt x="5914351" y="2570788"/>
                  <a:pt x="5698836" y="2547696"/>
                  <a:pt x="5503333" y="2533842"/>
                </a:cubicBezTo>
                <a:cubicBezTo>
                  <a:pt x="5307830" y="2519988"/>
                  <a:pt x="4847551" y="2496897"/>
                  <a:pt x="4847551" y="2496897"/>
                </a:cubicBezTo>
                <a:cubicBezTo>
                  <a:pt x="4685915" y="2487661"/>
                  <a:pt x="4602788" y="2478424"/>
                  <a:pt x="4533515" y="2478424"/>
                </a:cubicBezTo>
                <a:cubicBezTo>
                  <a:pt x="4464242" y="2478424"/>
                  <a:pt x="4470400" y="2490739"/>
                  <a:pt x="4431915" y="2496897"/>
                </a:cubicBezTo>
                <a:cubicBezTo>
                  <a:pt x="4393430" y="2503055"/>
                  <a:pt x="4330315" y="2506134"/>
                  <a:pt x="4302606" y="2515370"/>
                </a:cubicBezTo>
                <a:cubicBezTo>
                  <a:pt x="4274897" y="2524606"/>
                  <a:pt x="4265660" y="2552315"/>
                  <a:pt x="4265660" y="2552315"/>
                </a:cubicBezTo>
                <a:cubicBezTo>
                  <a:pt x="4250266" y="2567709"/>
                  <a:pt x="4234872" y="2563091"/>
                  <a:pt x="4210242" y="2607733"/>
                </a:cubicBezTo>
                <a:cubicBezTo>
                  <a:pt x="4185612" y="2652376"/>
                  <a:pt x="4171757" y="2704716"/>
                  <a:pt x="4117878" y="2820170"/>
                </a:cubicBezTo>
                <a:cubicBezTo>
                  <a:pt x="4063999" y="2935624"/>
                  <a:pt x="3957781" y="3168072"/>
                  <a:pt x="3886969" y="3300460"/>
                </a:cubicBezTo>
                <a:cubicBezTo>
                  <a:pt x="3816157" y="3432848"/>
                  <a:pt x="3774594" y="3500582"/>
                  <a:pt x="3693006" y="3614497"/>
                </a:cubicBezTo>
                <a:cubicBezTo>
                  <a:pt x="3611418" y="3728412"/>
                  <a:pt x="3467947" y="3904628"/>
                  <a:pt x="3397442" y="3983951"/>
                </a:cubicBezTo>
                <a:cubicBezTo>
                  <a:pt x="3326938" y="4063274"/>
                  <a:pt x="3330015" y="4050409"/>
                  <a:pt x="3269979" y="4090433"/>
                </a:cubicBezTo>
                <a:cubicBezTo>
                  <a:pt x="3209943" y="4130457"/>
                  <a:pt x="3068320" y="4234147"/>
                  <a:pt x="3037224" y="4224097"/>
                </a:cubicBezTo>
                <a:cubicBezTo>
                  <a:pt x="3006128" y="4214047"/>
                  <a:pt x="3076795" y="4064317"/>
                  <a:pt x="3083406" y="4030133"/>
                </a:cubicBezTo>
                <a:cubicBezTo>
                  <a:pt x="3090017" y="3995949"/>
                  <a:pt x="3076438" y="4066940"/>
                  <a:pt x="3076892" y="4018993"/>
                </a:cubicBezTo>
                <a:cubicBezTo>
                  <a:pt x="3077346" y="3971046"/>
                  <a:pt x="3080424" y="3834499"/>
                  <a:pt x="3086128" y="3742453"/>
                </a:cubicBezTo>
                <a:cubicBezTo>
                  <a:pt x="3091832" y="3650407"/>
                  <a:pt x="3105411" y="3588102"/>
                  <a:pt x="3111115" y="3466715"/>
                </a:cubicBezTo>
                <a:cubicBezTo>
                  <a:pt x="3116819" y="3345328"/>
                  <a:pt x="3121891" y="3141185"/>
                  <a:pt x="3120351" y="3014133"/>
                </a:cubicBezTo>
                <a:cubicBezTo>
                  <a:pt x="3118812" y="2887081"/>
                  <a:pt x="3114193" y="2795227"/>
                  <a:pt x="3101878" y="2704403"/>
                </a:cubicBezTo>
                <a:cubicBezTo>
                  <a:pt x="3089563" y="2613579"/>
                  <a:pt x="3108693" y="2512676"/>
                  <a:pt x="3046460" y="2469188"/>
                </a:cubicBezTo>
                <a:cubicBezTo>
                  <a:pt x="2984227" y="2425700"/>
                  <a:pt x="2840858" y="2449632"/>
                  <a:pt x="2728482" y="2443474"/>
                </a:cubicBezTo>
                <a:cubicBezTo>
                  <a:pt x="2616106" y="2437316"/>
                  <a:pt x="2406501" y="2432892"/>
                  <a:pt x="2372206" y="2432242"/>
                </a:cubicBezTo>
                <a:cubicBezTo>
                  <a:pt x="2337911" y="2431592"/>
                  <a:pt x="2562587" y="2445899"/>
                  <a:pt x="2522709" y="2439574"/>
                </a:cubicBezTo>
                <a:cubicBezTo>
                  <a:pt x="2482831" y="2433249"/>
                  <a:pt x="2336593" y="2417064"/>
                  <a:pt x="2132939" y="2394290"/>
                </a:cubicBezTo>
                <a:lnTo>
                  <a:pt x="1134533" y="2284460"/>
                </a:lnTo>
                <a:cubicBezTo>
                  <a:pt x="880387" y="2252301"/>
                  <a:pt x="780472" y="2225963"/>
                  <a:pt x="608060" y="2201333"/>
                </a:cubicBezTo>
                <a:cubicBezTo>
                  <a:pt x="435648" y="2176703"/>
                  <a:pt x="200120" y="2153612"/>
                  <a:pt x="100060" y="2136679"/>
                </a:cubicBezTo>
                <a:cubicBezTo>
                  <a:pt x="0" y="2119746"/>
                  <a:pt x="6157" y="2084339"/>
                  <a:pt x="16933" y="2072024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자유형 98"/>
          <p:cNvSpPr/>
          <p:nvPr/>
        </p:nvSpPr>
        <p:spPr>
          <a:xfrm>
            <a:off x="3021120" y="142920"/>
            <a:ext cx="3100320" cy="1338120"/>
          </a:xfrm>
          <a:custGeom>
            <a:avLst/>
            <a:gdLst/>
            <a:ahLst/>
            <a:rect l="l" t="t" r="r" b="b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자유형 99"/>
          <p:cNvSpPr/>
          <p:nvPr/>
        </p:nvSpPr>
        <p:spPr>
          <a:xfrm>
            <a:off x="4572000" y="785880"/>
            <a:ext cx="2286000" cy="931680"/>
          </a:xfrm>
          <a:custGeom>
            <a:avLst/>
            <a:gdLst/>
            <a:ahLst/>
            <a:rect l="l" t="t" r="r" b="b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자유형 100"/>
          <p:cNvSpPr/>
          <p:nvPr/>
        </p:nvSpPr>
        <p:spPr>
          <a:xfrm>
            <a:off x="4714920" y="3000240"/>
            <a:ext cx="2214360" cy="1433520"/>
          </a:xfrm>
          <a:custGeom>
            <a:avLst/>
            <a:gdLst/>
            <a:ahLst/>
            <a:rect l="l" t="t" r="r" b="b"/>
            <a:pathLst>
              <a:path w="6434666" h="4234147">
                <a:moveTo>
                  <a:pt x="16933" y="2072024"/>
                </a:moveTo>
                <a:cubicBezTo>
                  <a:pt x="27709" y="2059709"/>
                  <a:pt x="56958" y="2056630"/>
                  <a:pt x="164715" y="2062788"/>
                </a:cubicBezTo>
                <a:cubicBezTo>
                  <a:pt x="272472" y="2068946"/>
                  <a:pt x="571114" y="2101273"/>
                  <a:pt x="663478" y="2108970"/>
                </a:cubicBezTo>
                <a:cubicBezTo>
                  <a:pt x="755842" y="2116667"/>
                  <a:pt x="698885" y="2113588"/>
                  <a:pt x="718897" y="2108970"/>
                </a:cubicBezTo>
                <a:cubicBezTo>
                  <a:pt x="738909" y="2104352"/>
                  <a:pt x="769697" y="2093575"/>
                  <a:pt x="783551" y="2081260"/>
                </a:cubicBezTo>
                <a:cubicBezTo>
                  <a:pt x="797406" y="2068945"/>
                  <a:pt x="791248" y="2045855"/>
                  <a:pt x="802024" y="2035079"/>
                </a:cubicBezTo>
                <a:cubicBezTo>
                  <a:pt x="812800" y="2024303"/>
                  <a:pt x="817418" y="2018145"/>
                  <a:pt x="848206" y="2016606"/>
                </a:cubicBezTo>
                <a:cubicBezTo>
                  <a:pt x="878994" y="2015067"/>
                  <a:pt x="917478" y="2011988"/>
                  <a:pt x="986751" y="2025842"/>
                </a:cubicBezTo>
                <a:cubicBezTo>
                  <a:pt x="1056024" y="2039696"/>
                  <a:pt x="1188412" y="2082800"/>
                  <a:pt x="1263842" y="2099733"/>
                </a:cubicBezTo>
                <a:cubicBezTo>
                  <a:pt x="1339272" y="2116666"/>
                  <a:pt x="1439333" y="2127442"/>
                  <a:pt x="1439333" y="2127442"/>
                </a:cubicBezTo>
                <a:lnTo>
                  <a:pt x="1993515" y="2192097"/>
                </a:lnTo>
                <a:cubicBezTo>
                  <a:pt x="2119745" y="2202873"/>
                  <a:pt x="2133600" y="2198255"/>
                  <a:pt x="2196715" y="2192097"/>
                </a:cubicBezTo>
                <a:cubicBezTo>
                  <a:pt x="2259830" y="2185939"/>
                  <a:pt x="2289079" y="2182860"/>
                  <a:pt x="2372206" y="2155151"/>
                </a:cubicBezTo>
                <a:cubicBezTo>
                  <a:pt x="2455333" y="2127442"/>
                  <a:pt x="2576945" y="2090497"/>
                  <a:pt x="2695478" y="2025842"/>
                </a:cubicBezTo>
                <a:cubicBezTo>
                  <a:pt x="2814011" y="1961187"/>
                  <a:pt x="2978727" y="1862666"/>
                  <a:pt x="3083406" y="1767224"/>
                </a:cubicBezTo>
                <a:cubicBezTo>
                  <a:pt x="3188085" y="1671782"/>
                  <a:pt x="3254278" y="1560945"/>
                  <a:pt x="3323551" y="1453188"/>
                </a:cubicBezTo>
                <a:cubicBezTo>
                  <a:pt x="3392824" y="1345431"/>
                  <a:pt x="3449781" y="1228437"/>
                  <a:pt x="3499042" y="1120679"/>
                </a:cubicBezTo>
                <a:cubicBezTo>
                  <a:pt x="3548303" y="1012921"/>
                  <a:pt x="3580630" y="912860"/>
                  <a:pt x="3619115" y="806642"/>
                </a:cubicBezTo>
                <a:cubicBezTo>
                  <a:pt x="3657600" y="700424"/>
                  <a:pt x="3700703" y="581891"/>
                  <a:pt x="3729951" y="483370"/>
                </a:cubicBezTo>
                <a:cubicBezTo>
                  <a:pt x="3759199" y="384849"/>
                  <a:pt x="3779212" y="287867"/>
                  <a:pt x="3794606" y="215515"/>
                </a:cubicBezTo>
                <a:cubicBezTo>
                  <a:pt x="3810000" y="143163"/>
                  <a:pt x="3816158" y="84666"/>
                  <a:pt x="3822315" y="49260"/>
                </a:cubicBezTo>
                <a:cubicBezTo>
                  <a:pt x="3828473" y="13854"/>
                  <a:pt x="3830012" y="6158"/>
                  <a:pt x="3831551" y="3079"/>
                </a:cubicBezTo>
                <a:cubicBezTo>
                  <a:pt x="3833090" y="0"/>
                  <a:pt x="3823854" y="21552"/>
                  <a:pt x="3831551" y="30788"/>
                </a:cubicBezTo>
                <a:cubicBezTo>
                  <a:pt x="3839248" y="40024"/>
                  <a:pt x="3854642" y="32327"/>
                  <a:pt x="3877733" y="58497"/>
                </a:cubicBezTo>
                <a:cubicBezTo>
                  <a:pt x="3900824" y="84667"/>
                  <a:pt x="3931612" y="127770"/>
                  <a:pt x="3970097" y="187806"/>
                </a:cubicBezTo>
                <a:cubicBezTo>
                  <a:pt x="4008582" y="247842"/>
                  <a:pt x="4062460" y="327891"/>
                  <a:pt x="4108642" y="418715"/>
                </a:cubicBezTo>
                <a:cubicBezTo>
                  <a:pt x="4154824" y="509539"/>
                  <a:pt x="4210242" y="600363"/>
                  <a:pt x="4247187" y="732751"/>
                </a:cubicBezTo>
                <a:cubicBezTo>
                  <a:pt x="4284133" y="865139"/>
                  <a:pt x="4316460" y="1057563"/>
                  <a:pt x="4330315" y="1213042"/>
                </a:cubicBezTo>
                <a:cubicBezTo>
                  <a:pt x="4344170" y="1368521"/>
                  <a:pt x="4342630" y="1517842"/>
                  <a:pt x="4330315" y="1665624"/>
                </a:cubicBezTo>
                <a:cubicBezTo>
                  <a:pt x="4318000" y="1813406"/>
                  <a:pt x="4270279" y="2019685"/>
                  <a:pt x="4256424" y="2099733"/>
                </a:cubicBezTo>
                <a:cubicBezTo>
                  <a:pt x="4242569" y="2179782"/>
                  <a:pt x="4219478" y="2122824"/>
                  <a:pt x="4247187" y="2145915"/>
                </a:cubicBezTo>
                <a:cubicBezTo>
                  <a:pt x="4274896" y="2169006"/>
                  <a:pt x="4341090" y="2209031"/>
                  <a:pt x="4422678" y="2238279"/>
                </a:cubicBezTo>
                <a:cubicBezTo>
                  <a:pt x="4504266" y="2267527"/>
                  <a:pt x="4655127" y="2304473"/>
                  <a:pt x="4736715" y="2321406"/>
                </a:cubicBezTo>
                <a:cubicBezTo>
                  <a:pt x="4818303" y="2338339"/>
                  <a:pt x="4912206" y="2339879"/>
                  <a:pt x="4912206" y="2339879"/>
                </a:cubicBezTo>
                <a:lnTo>
                  <a:pt x="6214533" y="2506133"/>
                </a:lnTo>
                <a:cubicBezTo>
                  <a:pt x="6434666" y="2535382"/>
                  <a:pt x="6237624" y="2504594"/>
                  <a:pt x="6233006" y="2515370"/>
                </a:cubicBezTo>
                <a:cubicBezTo>
                  <a:pt x="6228388" y="2526146"/>
                  <a:pt x="6202218" y="2558473"/>
                  <a:pt x="6186824" y="2570788"/>
                </a:cubicBezTo>
                <a:cubicBezTo>
                  <a:pt x="6171430" y="2583103"/>
                  <a:pt x="6168351" y="2587721"/>
                  <a:pt x="6140642" y="2589260"/>
                </a:cubicBezTo>
                <a:cubicBezTo>
                  <a:pt x="6112933" y="2590799"/>
                  <a:pt x="6020569" y="2580024"/>
                  <a:pt x="6020569" y="2580024"/>
                </a:cubicBezTo>
                <a:cubicBezTo>
                  <a:pt x="5914351" y="2570788"/>
                  <a:pt x="5698836" y="2547696"/>
                  <a:pt x="5503333" y="2533842"/>
                </a:cubicBezTo>
                <a:cubicBezTo>
                  <a:pt x="5307830" y="2519988"/>
                  <a:pt x="4847551" y="2496897"/>
                  <a:pt x="4847551" y="2496897"/>
                </a:cubicBezTo>
                <a:cubicBezTo>
                  <a:pt x="4685915" y="2487661"/>
                  <a:pt x="4602788" y="2478424"/>
                  <a:pt x="4533515" y="2478424"/>
                </a:cubicBezTo>
                <a:cubicBezTo>
                  <a:pt x="4464242" y="2478424"/>
                  <a:pt x="4470400" y="2490739"/>
                  <a:pt x="4431915" y="2496897"/>
                </a:cubicBezTo>
                <a:cubicBezTo>
                  <a:pt x="4393430" y="2503055"/>
                  <a:pt x="4330315" y="2506134"/>
                  <a:pt x="4302606" y="2515370"/>
                </a:cubicBezTo>
                <a:cubicBezTo>
                  <a:pt x="4274897" y="2524606"/>
                  <a:pt x="4265660" y="2552315"/>
                  <a:pt x="4265660" y="2552315"/>
                </a:cubicBezTo>
                <a:cubicBezTo>
                  <a:pt x="4250266" y="2567709"/>
                  <a:pt x="4234872" y="2563091"/>
                  <a:pt x="4210242" y="2607733"/>
                </a:cubicBezTo>
                <a:cubicBezTo>
                  <a:pt x="4185612" y="2652376"/>
                  <a:pt x="4171757" y="2704716"/>
                  <a:pt x="4117878" y="2820170"/>
                </a:cubicBezTo>
                <a:cubicBezTo>
                  <a:pt x="4063999" y="2935624"/>
                  <a:pt x="3957781" y="3168072"/>
                  <a:pt x="3886969" y="3300460"/>
                </a:cubicBezTo>
                <a:cubicBezTo>
                  <a:pt x="3816157" y="3432848"/>
                  <a:pt x="3774594" y="3500582"/>
                  <a:pt x="3693006" y="3614497"/>
                </a:cubicBezTo>
                <a:cubicBezTo>
                  <a:pt x="3611418" y="3728412"/>
                  <a:pt x="3467947" y="3904628"/>
                  <a:pt x="3397442" y="3983951"/>
                </a:cubicBezTo>
                <a:cubicBezTo>
                  <a:pt x="3326938" y="4063274"/>
                  <a:pt x="3330015" y="4050409"/>
                  <a:pt x="3269979" y="4090433"/>
                </a:cubicBezTo>
                <a:cubicBezTo>
                  <a:pt x="3209943" y="4130457"/>
                  <a:pt x="3068320" y="4234147"/>
                  <a:pt x="3037224" y="4224097"/>
                </a:cubicBezTo>
                <a:cubicBezTo>
                  <a:pt x="3006128" y="4214047"/>
                  <a:pt x="3076795" y="4064317"/>
                  <a:pt x="3083406" y="4030133"/>
                </a:cubicBezTo>
                <a:cubicBezTo>
                  <a:pt x="3090017" y="3995949"/>
                  <a:pt x="3076438" y="4066940"/>
                  <a:pt x="3076892" y="4018993"/>
                </a:cubicBezTo>
                <a:cubicBezTo>
                  <a:pt x="3077346" y="3971046"/>
                  <a:pt x="3080424" y="3834499"/>
                  <a:pt x="3086128" y="3742453"/>
                </a:cubicBezTo>
                <a:cubicBezTo>
                  <a:pt x="3091832" y="3650407"/>
                  <a:pt x="3105411" y="3588102"/>
                  <a:pt x="3111115" y="3466715"/>
                </a:cubicBezTo>
                <a:cubicBezTo>
                  <a:pt x="3116819" y="3345328"/>
                  <a:pt x="3121891" y="3141185"/>
                  <a:pt x="3120351" y="3014133"/>
                </a:cubicBezTo>
                <a:cubicBezTo>
                  <a:pt x="3118812" y="2887081"/>
                  <a:pt x="3114193" y="2795227"/>
                  <a:pt x="3101878" y="2704403"/>
                </a:cubicBezTo>
                <a:cubicBezTo>
                  <a:pt x="3089563" y="2613579"/>
                  <a:pt x="3108693" y="2512676"/>
                  <a:pt x="3046460" y="2469188"/>
                </a:cubicBezTo>
                <a:cubicBezTo>
                  <a:pt x="2984227" y="2425700"/>
                  <a:pt x="2840858" y="2449632"/>
                  <a:pt x="2728482" y="2443474"/>
                </a:cubicBezTo>
                <a:cubicBezTo>
                  <a:pt x="2616106" y="2437316"/>
                  <a:pt x="2406501" y="2432892"/>
                  <a:pt x="2372206" y="2432242"/>
                </a:cubicBezTo>
                <a:cubicBezTo>
                  <a:pt x="2337911" y="2431592"/>
                  <a:pt x="2562587" y="2445899"/>
                  <a:pt x="2522709" y="2439574"/>
                </a:cubicBezTo>
                <a:cubicBezTo>
                  <a:pt x="2482831" y="2433249"/>
                  <a:pt x="2336593" y="2417064"/>
                  <a:pt x="2132939" y="2394290"/>
                </a:cubicBezTo>
                <a:lnTo>
                  <a:pt x="1134533" y="2284460"/>
                </a:lnTo>
                <a:cubicBezTo>
                  <a:pt x="880387" y="2252301"/>
                  <a:pt x="780472" y="2225963"/>
                  <a:pt x="608060" y="2201333"/>
                </a:cubicBezTo>
                <a:cubicBezTo>
                  <a:pt x="435648" y="2176703"/>
                  <a:pt x="200120" y="2153612"/>
                  <a:pt x="100060" y="2136679"/>
                </a:cubicBezTo>
                <a:cubicBezTo>
                  <a:pt x="0" y="2119746"/>
                  <a:pt x="6157" y="2084339"/>
                  <a:pt x="16933" y="2072024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835280" y="2852640"/>
            <a:ext cx="4173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algun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4221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"/>
          <p:cNvSpPr/>
          <p:nvPr/>
        </p:nvSpPr>
        <p:spPr>
          <a:xfrm>
            <a:off x="1790640" y="1125360"/>
            <a:ext cx="3422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Gulim"/>
              </a:rPr>
              <a:t>古典动态</a:t>
            </a:r>
            <a:r>
              <a:rPr b="0" lang="en-US" sz="45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Gulim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물결 15"/>
          <p:cNvSpPr/>
          <p:nvPr/>
        </p:nvSpPr>
        <p:spPr>
          <a:xfrm>
            <a:off x="0" y="6059520"/>
            <a:ext cx="9144000" cy="2357280"/>
          </a:xfrm>
          <a:custGeom>
            <a:avLst/>
            <a:gdLst>
              <a:gd name="textAreaLeft" fmla="*/ 0 w 9144000"/>
              <a:gd name="textAreaRight" fmla="*/ 9144360 w 9144000"/>
              <a:gd name="textAreaTop" fmla="*/ 797760 h 2357280"/>
              <a:gd name="textAreaBottom" fmla="*/ 155952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물결 15"/>
          <p:cNvSpPr/>
          <p:nvPr/>
        </p:nvSpPr>
        <p:spPr>
          <a:xfrm rot="10800000">
            <a:off x="0" y="-1536840"/>
            <a:ext cx="9144000" cy="2354400"/>
          </a:xfrm>
          <a:custGeom>
            <a:avLst/>
            <a:gdLst>
              <a:gd name="textAreaLeft" fmla="*/ 0 w 9144000"/>
              <a:gd name="textAreaRight" fmla="*/ 9144360 w 9144000"/>
              <a:gd name="textAreaTop" fmla="*/ 796680 h 2354400"/>
              <a:gd name="textAreaBottom" fmla="*/ 1557720 h 235440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자유형 98"/>
          <p:cNvSpPr/>
          <p:nvPr/>
        </p:nvSpPr>
        <p:spPr>
          <a:xfrm>
            <a:off x="4892760" y="0"/>
            <a:ext cx="3100320" cy="1338120"/>
          </a:xfrm>
          <a:custGeom>
            <a:avLst/>
            <a:gdLst/>
            <a:ahLst/>
            <a:rect l="l" t="t" r="r" b="b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자유형 99"/>
          <p:cNvSpPr/>
          <p:nvPr/>
        </p:nvSpPr>
        <p:spPr>
          <a:xfrm>
            <a:off x="6443640" y="642960"/>
            <a:ext cx="2286000" cy="931680"/>
          </a:xfrm>
          <a:custGeom>
            <a:avLst/>
            <a:gdLst/>
            <a:ahLst/>
            <a:rect l="l" t="t" r="r" b="b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443700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Gulim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36B-EE52-4E7B-B935-64678C9C71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자유형 22"/>
          <p:cNvSpPr/>
          <p:nvPr/>
        </p:nvSpPr>
        <p:spPr>
          <a:xfrm>
            <a:off x="6659640" y="2852640"/>
            <a:ext cx="2106360" cy="3335400"/>
          </a:xfrm>
          <a:custGeom>
            <a:avLst/>
            <a:gdLst>
              <a:gd name="textAreaLeft" fmla="*/ 0 w 2106360"/>
              <a:gd name="textAreaRight" fmla="*/ 2106720 w 2106360"/>
              <a:gd name="textAreaTop" fmla="*/ 0 h 3335400"/>
              <a:gd name="textAreaBottom" fmla="*/ 3335760 h 3335400"/>
            </a:gdLst>
            <a:ahLst/>
            <a:rect l="textAreaLeft" t="textAreaTop" r="textAreaRight" b="textAreaBottom"/>
            <a:pathLst>
              <a:path w="3605261" h="5843180">
                <a:moveTo>
                  <a:pt x="83127" y="258464"/>
                </a:moveTo>
                <a:cubicBezTo>
                  <a:pt x="166254" y="283094"/>
                  <a:pt x="937491" y="301568"/>
                  <a:pt x="1108364" y="369301"/>
                </a:cubicBezTo>
                <a:cubicBezTo>
                  <a:pt x="1279237" y="437034"/>
                  <a:pt x="1186873" y="524779"/>
                  <a:pt x="1108364" y="664864"/>
                </a:cubicBezTo>
                <a:cubicBezTo>
                  <a:pt x="1029855" y="804949"/>
                  <a:pt x="757382" y="1049713"/>
                  <a:pt x="637309" y="1209810"/>
                </a:cubicBezTo>
                <a:cubicBezTo>
                  <a:pt x="517236" y="1369907"/>
                  <a:pt x="431030" y="1459192"/>
                  <a:pt x="387927" y="1625446"/>
                </a:cubicBezTo>
                <a:cubicBezTo>
                  <a:pt x="344824" y="1791701"/>
                  <a:pt x="310958" y="2016452"/>
                  <a:pt x="378691" y="2207337"/>
                </a:cubicBezTo>
                <a:cubicBezTo>
                  <a:pt x="446424" y="2398222"/>
                  <a:pt x="608060" y="2607579"/>
                  <a:pt x="794327" y="2770755"/>
                </a:cubicBezTo>
                <a:cubicBezTo>
                  <a:pt x="980594" y="2933931"/>
                  <a:pt x="1322339" y="3066319"/>
                  <a:pt x="1496291" y="3186392"/>
                </a:cubicBezTo>
                <a:cubicBezTo>
                  <a:pt x="1670243" y="3306465"/>
                  <a:pt x="1751830" y="3364962"/>
                  <a:pt x="1838036" y="3491192"/>
                </a:cubicBezTo>
                <a:cubicBezTo>
                  <a:pt x="1924242" y="3617422"/>
                  <a:pt x="1975042" y="3762124"/>
                  <a:pt x="2013527" y="3943773"/>
                </a:cubicBezTo>
                <a:cubicBezTo>
                  <a:pt x="2052012" y="4125422"/>
                  <a:pt x="2058169" y="4388659"/>
                  <a:pt x="2068945" y="4581083"/>
                </a:cubicBezTo>
                <a:cubicBezTo>
                  <a:pt x="2079721" y="4773507"/>
                  <a:pt x="2076643" y="4941301"/>
                  <a:pt x="2078182" y="5098319"/>
                </a:cubicBezTo>
                <a:cubicBezTo>
                  <a:pt x="2079721" y="5255337"/>
                  <a:pt x="2079671" y="5414044"/>
                  <a:pt x="2078182" y="5523192"/>
                </a:cubicBezTo>
                <a:cubicBezTo>
                  <a:pt x="2076693" y="5632340"/>
                  <a:pt x="2038485" y="5714477"/>
                  <a:pt x="2069250" y="5753209"/>
                </a:cubicBezTo>
                <a:cubicBezTo>
                  <a:pt x="2100015" y="5791941"/>
                  <a:pt x="2230499" y="5843180"/>
                  <a:pt x="2262775" y="5755583"/>
                </a:cubicBezTo>
                <a:cubicBezTo>
                  <a:pt x="2295052" y="5667986"/>
                  <a:pt x="2256729" y="5452626"/>
                  <a:pt x="2262909" y="5227628"/>
                </a:cubicBezTo>
                <a:cubicBezTo>
                  <a:pt x="2269089" y="5002630"/>
                  <a:pt x="2281381" y="4648816"/>
                  <a:pt x="2299854" y="4405592"/>
                </a:cubicBezTo>
                <a:cubicBezTo>
                  <a:pt x="2318327" y="4162368"/>
                  <a:pt x="2339878" y="3931459"/>
                  <a:pt x="2373745" y="3768283"/>
                </a:cubicBezTo>
                <a:cubicBezTo>
                  <a:pt x="2407612" y="3605107"/>
                  <a:pt x="2435321" y="3508125"/>
                  <a:pt x="2503054" y="3426537"/>
                </a:cubicBezTo>
                <a:cubicBezTo>
                  <a:pt x="2570787" y="3344949"/>
                  <a:pt x="2647757" y="3306464"/>
                  <a:pt x="2780145" y="3278755"/>
                </a:cubicBezTo>
                <a:cubicBezTo>
                  <a:pt x="2912533" y="3251046"/>
                  <a:pt x="3201940" y="3263362"/>
                  <a:pt x="3297382" y="3260283"/>
                </a:cubicBezTo>
                <a:cubicBezTo>
                  <a:pt x="3392824" y="3257204"/>
                  <a:pt x="3360497" y="3267980"/>
                  <a:pt x="3352800" y="3260283"/>
                </a:cubicBezTo>
                <a:cubicBezTo>
                  <a:pt x="3345103" y="3252586"/>
                  <a:pt x="3292764" y="3255665"/>
                  <a:pt x="3251200" y="3214101"/>
                </a:cubicBezTo>
                <a:cubicBezTo>
                  <a:pt x="3209636" y="3172537"/>
                  <a:pt x="3135745" y="3092489"/>
                  <a:pt x="3103418" y="3010901"/>
                </a:cubicBezTo>
                <a:cubicBezTo>
                  <a:pt x="3071091" y="2929313"/>
                  <a:pt x="3056111" y="2770755"/>
                  <a:pt x="3057236" y="2724573"/>
                </a:cubicBezTo>
                <a:cubicBezTo>
                  <a:pt x="3058361" y="2678391"/>
                  <a:pt x="3084397" y="2729685"/>
                  <a:pt x="3110170" y="2733810"/>
                </a:cubicBezTo>
                <a:cubicBezTo>
                  <a:pt x="3135943" y="2737935"/>
                  <a:pt x="3169843" y="2748598"/>
                  <a:pt x="3211873" y="2749322"/>
                </a:cubicBezTo>
                <a:cubicBezTo>
                  <a:pt x="3253903" y="2750046"/>
                  <a:pt x="3317310" y="2745360"/>
                  <a:pt x="3362349" y="2738156"/>
                </a:cubicBezTo>
                <a:cubicBezTo>
                  <a:pt x="3407388" y="2730953"/>
                  <a:pt x="3442137" y="2717601"/>
                  <a:pt x="3482109" y="2706101"/>
                </a:cubicBezTo>
                <a:cubicBezTo>
                  <a:pt x="3522081" y="2694601"/>
                  <a:pt x="3605261" y="2692246"/>
                  <a:pt x="3602182" y="2669155"/>
                </a:cubicBezTo>
                <a:cubicBezTo>
                  <a:pt x="3599103" y="2646064"/>
                  <a:pt x="3506739" y="2602961"/>
                  <a:pt x="3463636" y="2567555"/>
                </a:cubicBezTo>
                <a:cubicBezTo>
                  <a:pt x="3420533" y="2532149"/>
                  <a:pt x="3422073" y="2519834"/>
                  <a:pt x="3343564" y="2456719"/>
                </a:cubicBezTo>
                <a:cubicBezTo>
                  <a:pt x="3265055" y="2393604"/>
                  <a:pt x="3138825" y="2268913"/>
                  <a:pt x="2992582" y="2188864"/>
                </a:cubicBezTo>
                <a:cubicBezTo>
                  <a:pt x="2846340" y="2108816"/>
                  <a:pt x="2723188" y="2033385"/>
                  <a:pt x="2466109" y="1976428"/>
                </a:cubicBezTo>
                <a:cubicBezTo>
                  <a:pt x="2209030" y="1919471"/>
                  <a:pt x="1682557" y="1874828"/>
                  <a:pt x="1450109" y="1847119"/>
                </a:cubicBezTo>
                <a:cubicBezTo>
                  <a:pt x="1217661" y="1819410"/>
                  <a:pt x="1171479" y="1828646"/>
                  <a:pt x="1071418" y="1810173"/>
                </a:cubicBezTo>
                <a:cubicBezTo>
                  <a:pt x="971357" y="1791700"/>
                  <a:pt x="892848" y="1773228"/>
                  <a:pt x="849745" y="1736283"/>
                </a:cubicBezTo>
                <a:cubicBezTo>
                  <a:pt x="806642" y="1699338"/>
                  <a:pt x="812800" y="1640840"/>
                  <a:pt x="812800" y="1588501"/>
                </a:cubicBezTo>
                <a:cubicBezTo>
                  <a:pt x="812800" y="1536162"/>
                  <a:pt x="822036" y="1486901"/>
                  <a:pt x="849745" y="1422246"/>
                </a:cubicBezTo>
                <a:cubicBezTo>
                  <a:pt x="877454" y="1357591"/>
                  <a:pt x="912860" y="1280622"/>
                  <a:pt x="979054" y="1200573"/>
                </a:cubicBezTo>
                <a:cubicBezTo>
                  <a:pt x="1045248" y="1120525"/>
                  <a:pt x="1171479" y="1018925"/>
                  <a:pt x="1246909" y="941955"/>
                </a:cubicBezTo>
                <a:cubicBezTo>
                  <a:pt x="1322339" y="864985"/>
                  <a:pt x="1373139" y="811106"/>
                  <a:pt x="1431636" y="738755"/>
                </a:cubicBezTo>
                <a:cubicBezTo>
                  <a:pt x="1490133" y="666404"/>
                  <a:pt x="1567103" y="575579"/>
                  <a:pt x="1597891" y="507846"/>
                </a:cubicBezTo>
                <a:cubicBezTo>
                  <a:pt x="1628679" y="440113"/>
                  <a:pt x="1617904" y="384694"/>
                  <a:pt x="1616364" y="332355"/>
                </a:cubicBezTo>
                <a:cubicBezTo>
                  <a:pt x="1614824" y="280016"/>
                  <a:pt x="1605587" y="232295"/>
                  <a:pt x="1588654" y="193810"/>
                </a:cubicBezTo>
                <a:cubicBezTo>
                  <a:pt x="1571721" y="155325"/>
                  <a:pt x="1544012" y="129155"/>
                  <a:pt x="1514764" y="101446"/>
                </a:cubicBezTo>
                <a:cubicBezTo>
                  <a:pt x="1485516" y="73737"/>
                  <a:pt x="1453650" y="43950"/>
                  <a:pt x="1413164" y="27555"/>
                </a:cubicBezTo>
                <a:cubicBezTo>
                  <a:pt x="1372678" y="11161"/>
                  <a:pt x="1271847" y="3079"/>
                  <a:pt x="1271847" y="3079"/>
                </a:cubicBezTo>
                <a:cubicBezTo>
                  <a:pt x="1228744" y="0"/>
                  <a:pt x="1191029" y="1925"/>
                  <a:pt x="1154545" y="9083"/>
                </a:cubicBezTo>
                <a:cubicBezTo>
                  <a:pt x="1118061" y="16241"/>
                  <a:pt x="1076036" y="30634"/>
                  <a:pt x="1052945" y="46028"/>
                </a:cubicBezTo>
                <a:cubicBezTo>
                  <a:pt x="1029854" y="61422"/>
                  <a:pt x="1033934" y="78817"/>
                  <a:pt x="1016000" y="101446"/>
                </a:cubicBezTo>
                <a:cubicBezTo>
                  <a:pt x="998066" y="124075"/>
                  <a:pt x="983311" y="161848"/>
                  <a:pt x="945342" y="181803"/>
                </a:cubicBezTo>
                <a:cubicBezTo>
                  <a:pt x="907373" y="201758"/>
                  <a:pt x="844142" y="214557"/>
                  <a:pt x="788185" y="221176"/>
                </a:cubicBezTo>
                <a:cubicBezTo>
                  <a:pt x="732228" y="227795"/>
                  <a:pt x="727110" y="215304"/>
                  <a:pt x="609600" y="221519"/>
                </a:cubicBezTo>
                <a:cubicBezTo>
                  <a:pt x="492090" y="227734"/>
                  <a:pt x="0" y="233834"/>
                  <a:pt x="83127" y="258464"/>
                </a:cubicBez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물결 15"/>
          <p:cNvSpPr/>
          <p:nvPr/>
        </p:nvSpPr>
        <p:spPr>
          <a:xfrm flipH="1">
            <a:off x="0" y="6059520"/>
            <a:ext cx="9144000" cy="2357280"/>
          </a:xfrm>
          <a:custGeom>
            <a:avLst/>
            <a:gdLst>
              <a:gd name="textAreaLeft" fmla="*/ 360 w 9144000"/>
              <a:gd name="textAreaRight" fmla="*/ 9144720 w 9144000"/>
              <a:gd name="textAreaTop" fmla="*/ 797760 h 2357280"/>
              <a:gd name="textAreaBottom" fmla="*/ 155952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물결 15"/>
          <p:cNvSpPr/>
          <p:nvPr/>
        </p:nvSpPr>
        <p:spPr>
          <a:xfrm flipH="1" rot="10800000">
            <a:off x="0" y="-1536480"/>
            <a:ext cx="9144000" cy="2354400"/>
          </a:xfrm>
          <a:custGeom>
            <a:avLst/>
            <a:gdLst>
              <a:gd name="textAreaLeft" fmla="*/ 360 w 9144000"/>
              <a:gd name="textAreaRight" fmla="*/ 9144720 w 9144000"/>
              <a:gd name="textAreaTop" fmla="*/ 796680 h 2354400"/>
              <a:gd name="textAreaBottom" fmla="*/ 1557720 h 235440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5:11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4:11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