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AF0-A709-42CC-B8E5-BBE4F463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201-BE4F-4CC6-B568-5DC399E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14F-434F-4EA1-9391-9956B6AE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041-3D52-433D-8706-3E301095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F7E-8FD6-4503-AD66-0CFE3002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8D56-7F45-49BA-BFE6-5ED243E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39C-AD1F-4E72-A578-AF71EEE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32A4-DE20-431D-90B1-F6C25B9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A9E3-5857-45C9-B9B2-3B843958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9BB3-FAEF-4DD2-A0B4-B4058EFA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1B83-31DA-4A83-86B4-769F932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767-8D57-4D38-94A3-81CD29B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A67-848F-4365-BC3D-316803A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FE8-3B95-4F64-A1D2-0542A6AA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9E9-6263-4F0B-8C25-3757973D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2AE5-D622-44FD-9C5C-39E0EBAF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C038-6056-4D49-AA18-BFBC81F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E81-F960-4D77-95DA-6F24AADB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42A-8EA5-402A-A2FC-15A6C947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9BA-B6D6-4DD2-AC6C-9CEA987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D5D-AB03-402A-BB1C-C4ADE08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4D3-3D51-45E2-93DF-E66A89E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1CD-311B-491B-BAE5-9FE55F06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2B6-5CDC-4E72-A1D5-1059814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8C7E-4929-43E5-AB15-0007078908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9C1-2E1A-4776-B602-16BF40C6C2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孙子兵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58840" y="1773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"/>
          <p:cNvSpPr/>
          <p:nvPr/>
        </p:nvSpPr>
        <p:spPr>
          <a:xfrm>
            <a:off x="346680" y="6519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孙子兵法1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孙子兵法23"/>
          <p:cNvPicPr/>
          <p:nvPr/>
        </p:nvPicPr>
        <p:blipFill>
          <a:blip r:embed="rId1"/>
          <a:stretch/>
        </p:blipFill>
        <p:spPr>
          <a:xfrm>
            <a:off x="1440" y="-23760"/>
            <a:ext cx="91411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4E77-8485-4585-8E94-30F86C5F63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01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47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