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C58-FD16-4FA5-8721-2D308EE9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DC9-2845-44EB-B44E-F842CEDA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3C5-5143-4F3C-9D2B-F2FE7F96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8CE-2356-44BD-8B89-FA8E5A3B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F85-F2BC-4488-ACA6-173F89B1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EBB-9F99-4618-8A0F-BA856DCB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2EE-FEF9-414E-80FF-B18AB8C3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208-F40E-47F5-910E-2D54F94B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2F4-CB14-4698-A2CB-2C3408D9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06E-C90E-4B88-BFAB-0D2F8B9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297-75CC-4C1C-9576-68A52962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E5C-9751-4EC9-80AB-5A9F7D9F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F2B1-40D2-4DD6-9AA7-11482B9720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D654-9CD9-4763-B1A6-39173F0AC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000" y="21304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98800" y="6137280"/>
            <a:ext cx="46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60" y="0"/>
            <a:ext cx="905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61261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734-245F-47A3-88B6-A9D328597C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080" y="0"/>
            <a:ext cx="899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0T08:17:4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