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77C-A73F-4993-A750-968EF687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94A6-0DFD-40E1-89CD-2E9CC9C0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820-728D-4C38-9751-6EEC5F82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76B-94D8-48BC-AA9D-78014EB7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CA26-716E-4EDF-B679-8B39CBFE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4BC-E0BF-4B6C-9615-10951B6D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508-CDE8-4413-BDA8-90510D55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E9E-7DB0-4772-9641-DF5F2576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708-7740-4736-A8F1-F65FA019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833-DF8B-4421-8095-A60648CC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226-2DE3-4C4D-B729-684AC2A5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B5E-1EA7-4117-B43B-1D240999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2d050"/>
              </a:buClr>
              <a:buSzPct val="25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92d05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2d05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92d05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92d05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7776-38F6-43FD-BF05-F498C0A5389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4244-B9D1-4CE2-B653-18AE3C94571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3270240"/>
            <a:ext cx="663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2148840" y="1708200"/>
            <a:ext cx="41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关于爱情的</a:t>
            </a: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4A6-8C5F-4D4D-B03B-588F3055BB5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09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3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