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20D-115E-461F-AFAF-F2781CF5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6D1-F32B-4927-A73C-86C32C6A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5B8-6D49-41DE-BCD8-CF2D79DE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EE8-FE9D-40B9-A795-FA040B7C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000-D2EB-4897-9A2A-EC6A54D2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69FE-C539-494B-9B39-52EDB6FF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6CB3-BB71-4931-B4D5-9879EB7B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D98E-DC3D-4DD0-9BA2-FB8231EC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2B85-F941-4A71-8846-0951A0D7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BF3C-A74D-4BC5-84CE-4D5DF8DC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420-4682-47DE-B9CE-CDDCC1DD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D165-BBA4-4893-9348-FFF3F9B0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CD01-0DD8-431F-84EA-3472A17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1756-D77B-4598-8DEC-420483BC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0BF4-54BB-471E-A25C-BD4035E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3D51-9328-48A0-A6DC-B3B9E5DB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6463-154C-4CCB-A2F3-91C37BD4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A6CA-245D-4353-AC75-5843E5BB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07432-8DFF-4801-85C8-DC5CD2824C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2161C-6B7B-4607-AABF-A356BB16F3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0330C-D7E9-4232-B6A4-5DB30E7C4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314-F816-4070-974E-33C569DB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5FE6D-BB2B-4B5E-BDD7-798E1BC9A9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8BB9D-5B53-41AA-8F60-40E189E389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26F34-52BD-473D-8576-EE3EEDC8B9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DBB4B-19C3-4CF8-8384-C2C6C33146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A9194-CEFB-4AC3-8736-7C075DD890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46358-E853-434F-9D42-7B95F5345D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792D79-7706-4CDE-84F1-5377581243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0CC50-535C-45ED-8685-539C05D826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C8871-2CC4-4ECB-9295-A8B097AECC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C29DE-4E02-47D1-BE2D-E3B1DBBD4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477-145B-43DE-8FE1-B28BF76B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F8B52-73BF-4B2E-816E-237EBCE8F2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9C584-9F32-48BB-B03C-796263F44B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A360A-A9E9-4A31-859A-EC4B9BE492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98993-5128-4DB0-A29D-6CA054E648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31C52-75C9-4787-ACE9-EC4DB1CB49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A5AD4-42C1-47E0-80C1-12E519ACBB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4E7A1-619F-4356-9645-77652E6EE2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33329-E87B-4A15-AEBB-E0366B7B0C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02B0A-E842-486A-B43B-D85195B0FD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4D80B-76A6-47E7-BF02-D4E71A843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99D-369B-47B7-9B05-4530A0FB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A4481-9FB8-41B1-A6AF-B26B03CA3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5F5-89F9-45A7-8A21-811B9D49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D14-07EC-411C-AE50-E24A2A6D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01B-50E6-4630-868F-15DB9A7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A93-623B-4336-8F10-FFBB8985E5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64"/>
          <p:cNvSpPr/>
          <p:nvPr/>
        </p:nvSpPr>
        <p:spPr>
          <a:xfrm flipH="1">
            <a:off x="1333440" y="642960"/>
            <a:ext cx="7786800" cy="2071800"/>
          </a:xfrm>
          <a:custGeom>
            <a:avLst/>
            <a:gdLst/>
            <a:ahLst/>
            <a:rect l="l" t="t" r="r" b="b"/>
            <a:pathLst>
              <a:path w="5839" h="1751">
                <a:moveTo>
                  <a:pt x="5735" y="1106"/>
                </a:moveTo>
                <a:lnTo>
                  <a:pt x="5735" y="884"/>
                </a:lnTo>
                <a:lnTo>
                  <a:pt x="5547" y="884"/>
                </a:lnTo>
                <a:lnTo>
                  <a:pt x="5547" y="1079"/>
                </a:lnTo>
                <a:lnTo>
                  <a:pt x="5268" y="1079"/>
                </a:lnTo>
                <a:lnTo>
                  <a:pt x="5268" y="1247"/>
                </a:lnTo>
                <a:lnTo>
                  <a:pt x="5103" y="1247"/>
                </a:lnTo>
                <a:lnTo>
                  <a:pt x="5103" y="763"/>
                </a:lnTo>
                <a:lnTo>
                  <a:pt x="4962" y="763"/>
                </a:lnTo>
                <a:lnTo>
                  <a:pt x="4800" y="601"/>
                </a:lnTo>
                <a:lnTo>
                  <a:pt x="4733" y="601"/>
                </a:lnTo>
                <a:lnTo>
                  <a:pt x="4733" y="1055"/>
                </a:lnTo>
                <a:lnTo>
                  <a:pt x="4488" y="1055"/>
                </a:lnTo>
                <a:lnTo>
                  <a:pt x="4488" y="1264"/>
                </a:lnTo>
                <a:lnTo>
                  <a:pt x="4377" y="1264"/>
                </a:lnTo>
                <a:lnTo>
                  <a:pt x="4377" y="410"/>
                </a:lnTo>
                <a:lnTo>
                  <a:pt x="4165" y="537"/>
                </a:lnTo>
                <a:lnTo>
                  <a:pt x="4165" y="1290"/>
                </a:lnTo>
                <a:lnTo>
                  <a:pt x="4020" y="1290"/>
                </a:lnTo>
                <a:lnTo>
                  <a:pt x="4020" y="867"/>
                </a:lnTo>
                <a:lnTo>
                  <a:pt x="3923" y="867"/>
                </a:lnTo>
                <a:lnTo>
                  <a:pt x="3923" y="837"/>
                </a:lnTo>
                <a:lnTo>
                  <a:pt x="3768" y="837"/>
                </a:lnTo>
                <a:lnTo>
                  <a:pt x="3768" y="901"/>
                </a:lnTo>
                <a:lnTo>
                  <a:pt x="3691" y="901"/>
                </a:lnTo>
                <a:lnTo>
                  <a:pt x="3691" y="1344"/>
                </a:lnTo>
                <a:lnTo>
                  <a:pt x="3627" y="1344"/>
                </a:lnTo>
                <a:lnTo>
                  <a:pt x="3627" y="460"/>
                </a:lnTo>
                <a:lnTo>
                  <a:pt x="3435" y="460"/>
                </a:lnTo>
                <a:lnTo>
                  <a:pt x="3435" y="285"/>
                </a:lnTo>
                <a:lnTo>
                  <a:pt x="3227" y="285"/>
                </a:lnTo>
                <a:lnTo>
                  <a:pt x="3227" y="1011"/>
                </a:lnTo>
                <a:lnTo>
                  <a:pt x="3109" y="1011"/>
                </a:lnTo>
                <a:lnTo>
                  <a:pt x="3109" y="628"/>
                </a:lnTo>
                <a:lnTo>
                  <a:pt x="2928" y="447"/>
                </a:lnTo>
                <a:lnTo>
                  <a:pt x="2928" y="1260"/>
                </a:lnTo>
                <a:lnTo>
                  <a:pt x="2827" y="1260"/>
                </a:lnTo>
                <a:lnTo>
                  <a:pt x="2827" y="880"/>
                </a:lnTo>
                <a:lnTo>
                  <a:pt x="2683" y="880"/>
                </a:lnTo>
                <a:lnTo>
                  <a:pt x="2683" y="1180"/>
                </a:lnTo>
                <a:lnTo>
                  <a:pt x="2558" y="1180"/>
                </a:lnTo>
                <a:lnTo>
                  <a:pt x="2558" y="1408"/>
                </a:lnTo>
                <a:lnTo>
                  <a:pt x="2511" y="1408"/>
                </a:lnTo>
                <a:lnTo>
                  <a:pt x="2511" y="601"/>
                </a:lnTo>
                <a:lnTo>
                  <a:pt x="2151" y="601"/>
                </a:lnTo>
                <a:lnTo>
                  <a:pt x="2151" y="766"/>
                </a:lnTo>
                <a:lnTo>
                  <a:pt x="2061" y="766"/>
                </a:lnTo>
                <a:lnTo>
                  <a:pt x="2061" y="1260"/>
                </a:lnTo>
                <a:lnTo>
                  <a:pt x="1923" y="1260"/>
                </a:lnTo>
                <a:lnTo>
                  <a:pt x="1923" y="0"/>
                </a:lnTo>
                <a:lnTo>
                  <a:pt x="1805" y="0"/>
                </a:lnTo>
                <a:lnTo>
                  <a:pt x="1805" y="262"/>
                </a:lnTo>
                <a:lnTo>
                  <a:pt x="1654" y="262"/>
                </a:lnTo>
                <a:lnTo>
                  <a:pt x="1654" y="911"/>
                </a:lnTo>
                <a:lnTo>
                  <a:pt x="1563" y="911"/>
                </a:lnTo>
                <a:lnTo>
                  <a:pt x="1563" y="504"/>
                </a:lnTo>
                <a:lnTo>
                  <a:pt x="1318" y="504"/>
                </a:lnTo>
                <a:lnTo>
                  <a:pt x="1318" y="1536"/>
                </a:lnTo>
                <a:lnTo>
                  <a:pt x="1210" y="1536"/>
                </a:lnTo>
                <a:lnTo>
                  <a:pt x="1210" y="1022"/>
                </a:lnTo>
                <a:lnTo>
                  <a:pt x="1143" y="1022"/>
                </a:lnTo>
                <a:lnTo>
                  <a:pt x="1066" y="1099"/>
                </a:lnTo>
                <a:lnTo>
                  <a:pt x="941" y="1099"/>
                </a:lnTo>
                <a:lnTo>
                  <a:pt x="941" y="1516"/>
                </a:lnTo>
                <a:lnTo>
                  <a:pt x="874" y="1516"/>
                </a:lnTo>
                <a:lnTo>
                  <a:pt x="874" y="689"/>
                </a:lnTo>
                <a:lnTo>
                  <a:pt x="746" y="689"/>
                </a:lnTo>
                <a:lnTo>
                  <a:pt x="632" y="574"/>
                </a:lnTo>
                <a:lnTo>
                  <a:pt x="551" y="574"/>
                </a:lnTo>
                <a:lnTo>
                  <a:pt x="551" y="1415"/>
                </a:lnTo>
                <a:lnTo>
                  <a:pt x="444" y="1415"/>
                </a:lnTo>
                <a:lnTo>
                  <a:pt x="444" y="773"/>
                </a:lnTo>
                <a:lnTo>
                  <a:pt x="333" y="773"/>
                </a:lnTo>
                <a:lnTo>
                  <a:pt x="333" y="867"/>
                </a:lnTo>
                <a:lnTo>
                  <a:pt x="134" y="867"/>
                </a:lnTo>
                <a:lnTo>
                  <a:pt x="134" y="1190"/>
                </a:lnTo>
                <a:lnTo>
                  <a:pt x="0" y="1190"/>
                </a:lnTo>
                <a:lnTo>
                  <a:pt x="0" y="1751"/>
                </a:lnTo>
                <a:lnTo>
                  <a:pt x="5839" y="1751"/>
                </a:lnTo>
                <a:lnTo>
                  <a:pt x="5839" y="1106"/>
                </a:lnTo>
                <a:lnTo>
                  <a:pt x="5735" y="1106"/>
                </a:lnTo>
                <a:close/>
              </a:path>
            </a:pathLst>
          </a:custGeom>
          <a:gradFill rotWithShape="0">
            <a:gsLst>
              <a:gs pos="0">
                <a:srgbClr val="e00000">
                  <a:alpha val="20000"/>
                </a:srgbClr>
              </a:gs>
              <a:gs pos="100000">
                <a:srgbClr val="e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63"/>
          <p:cNvSpPr/>
          <p:nvPr/>
        </p:nvSpPr>
        <p:spPr>
          <a:xfrm>
            <a:off x="1333440" y="1214280"/>
            <a:ext cx="7858080" cy="1500480"/>
          </a:xfrm>
          <a:custGeom>
            <a:avLst/>
            <a:gdLst/>
            <a:ahLst/>
            <a:rect l="l" t="t" r="r" b="b"/>
            <a:pathLst>
              <a:path w="5590" h="1032">
                <a:moveTo>
                  <a:pt x="0" y="682"/>
                </a:moveTo>
                <a:lnTo>
                  <a:pt x="299" y="682"/>
                </a:lnTo>
                <a:lnTo>
                  <a:pt x="299" y="507"/>
                </a:lnTo>
                <a:lnTo>
                  <a:pt x="659" y="507"/>
                </a:lnTo>
                <a:lnTo>
                  <a:pt x="659" y="299"/>
                </a:lnTo>
                <a:lnTo>
                  <a:pt x="867" y="299"/>
                </a:lnTo>
                <a:lnTo>
                  <a:pt x="867" y="191"/>
                </a:lnTo>
                <a:lnTo>
                  <a:pt x="968" y="191"/>
                </a:lnTo>
                <a:lnTo>
                  <a:pt x="968" y="544"/>
                </a:lnTo>
                <a:lnTo>
                  <a:pt x="1193" y="544"/>
                </a:lnTo>
                <a:lnTo>
                  <a:pt x="1193" y="373"/>
                </a:lnTo>
                <a:lnTo>
                  <a:pt x="1761" y="373"/>
                </a:lnTo>
                <a:lnTo>
                  <a:pt x="1761" y="292"/>
                </a:lnTo>
                <a:lnTo>
                  <a:pt x="1939" y="292"/>
                </a:lnTo>
                <a:lnTo>
                  <a:pt x="1939" y="427"/>
                </a:lnTo>
                <a:lnTo>
                  <a:pt x="2255" y="427"/>
                </a:lnTo>
                <a:lnTo>
                  <a:pt x="2255" y="242"/>
                </a:lnTo>
                <a:lnTo>
                  <a:pt x="2511" y="242"/>
                </a:lnTo>
                <a:lnTo>
                  <a:pt x="2511" y="427"/>
                </a:lnTo>
                <a:lnTo>
                  <a:pt x="2581" y="427"/>
                </a:lnTo>
                <a:lnTo>
                  <a:pt x="2581" y="322"/>
                </a:lnTo>
                <a:lnTo>
                  <a:pt x="2837" y="322"/>
                </a:lnTo>
                <a:lnTo>
                  <a:pt x="2837" y="127"/>
                </a:lnTo>
                <a:lnTo>
                  <a:pt x="3092" y="127"/>
                </a:lnTo>
                <a:lnTo>
                  <a:pt x="3092" y="282"/>
                </a:lnTo>
                <a:lnTo>
                  <a:pt x="3506" y="282"/>
                </a:lnTo>
                <a:lnTo>
                  <a:pt x="3506" y="490"/>
                </a:lnTo>
                <a:lnTo>
                  <a:pt x="3802" y="490"/>
                </a:lnTo>
                <a:lnTo>
                  <a:pt x="3802" y="349"/>
                </a:lnTo>
                <a:lnTo>
                  <a:pt x="4013" y="349"/>
                </a:lnTo>
                <a:lnTo>
                  <a:pt x="4013" y="440"/>
                </a:lnTo>
                <a:lnTo>
                  <a:pt x="4067" y="440"/>
                </a:lnTo>
                <a:lnTo>
                  <a:pt x="4067" y="222"/>
                </a:lnTo>
                <a:lnTo>
                  <a:pt x="4417" y="222"/>
                </a:lnTo>
                <a:lnTo>
                  <a:pt x="4417" y="74"/>
                </a:lnTo>
                <a:lnTo>
                  <a:pt x="4477" y="74"/>
                </a:lnTo>
                <a:lnTo>
                  <a:pt x="4477" y="151"/>
                </a:lnTo>
                <a:lnTo>
                  <a:pt x="4558" y="151"/>
                </a:lnTo>
                <a:lnTo>
                  <a:pt x="4558" y="322"/>
                </a:lnTo>
                <a:lnTo>
                  <a:pt x="4938" y="322"/>
                </a:lnTo>
                <a:lnTo>
                  <a:pt x="4938" y="403"/>
                </a:lnTo>
                <a:lnTo>
                  <a:pt x="5146" y="403"/>
                </a:lnTo>
                <a:lnTo>
                  <a:pt x="5146" y="242"/>
                </a:lnTo>
                <a:lnTo>
                  <a:pt x="5244" y="242"/>
                </a:lnTo>
                <a:lnTo>
                  <a:pt x="5244" y="0"/>
                </a:lnTo>
                <a:lnTo>
                  <a:pt x="5314" y="0"/>
                </a:lnTo>
                <a:lnTo>
                  <a:pt x="5314" y="87"/>
                </a:lnTo>
                <a:lnTo>
                  <a:pt x="5415" y="87"/>
                </a:lnTo>
                <a:lnTo>
                  <a:pt x="5415" y="349"/>
                </a:lnTo>
                <a:lnTo>
                  <a:pt x="5590" y="349"/>
                </a:lnTo>
                <a:lnTo>
                  <a:pt x="5590" y="1032"/>
                </a:lnTo>
                <a:lnTo>
                  <a:pt x="3" y="1032"/>
                </a:lnTo>
                <a:lnTo>
                  <a:pt x="0" y="682"/>
                </a:lnTo>
                <a:close/>
              </a:path>
            </a:pathLst>
          </a:custGeom>
          <a:gradFill rotWithShape="0">
            <a:gsLst>
              <a:gs pos="0">
                <a:srgbClr val="e9a600">
                  <a:alpha val="50196"/>
                </a:srgbClr>
              </a:gs>
              <a:gs pos="100000">
                <a:srgbClr val="bfedf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Freeform 64" descr=""/>
          <p:cNvPicPr/>
          <p:nvPr/>
        </p:nvPicPr>
        <p:blipFill>
          <a:blip r:embed="rId2"/>
          <a:stretch/>
        </p:blipFill>
        <p:spPr>
          <a:xfrm>
            <a:off x="1311120" y="1504800"/>
            <a:ext cx="7882200" cy="2427480"/>
          </a:xfrm>
          <a:prstGeom prst="rect">
            <a:avLst/>
          </a:prstGeom>
          <a:ln w="0">
            <a:noFill/>
          </a:ln>
        </p:spPr>
      </p:pic>
      <p:pic>
        <p:nvPicPr>
          <p:cNvPr id="83" name="右箭头 9" descr=""/>
          <p:cNvPicPr/>
          <p:nvPr/>
        </p:nvPicPr>
        <p:blipFill>
          <a:blip r:embed="rId3"/>
          <a:stretch/>
        </p:blipFill>
        <p:spPr>
          <a:xfrm>
            <a:off x="-133200" y="268200"/>
            <a:ext cx="91908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右箭头 10" descr=""/>
          <p:cNvPicPr/>
          <p:nvPr/>
        </p:nvPicPr>
        <p:blipFill>
          <a:blip r:embed="rId4"/>
          <a:stretch/>
        </p:blipFill>
        <p:spPr>
          <a:xfrm>
            <a:off x="262080" y="658800"/>
            <a:ext cx="927000" cy="2998800"/>
          </a:xfrm>
          <a:prstGeom prst="rect">
            <a:avLst/>
          </a:prstGeom>
          <a:ln w="0">
            <a:noFill/>
          </a:ln>
        </p:spPr>
      </p:pic>
      <p:pic>
        <p:nvPicPr>
          <p:cNvPr id="85" name="右箭头 11" descr=""/>
          <p:cNvPicPr/>
          <p:nvPr/>
        </p:nvPicPr>
        <p:blipFill>
          <a:blip r:embed="rId5"/>
          <a:stretch/>
        </p:blipFill>
        <p:spPr>
          <a:xfrm>
            <a:off x="639720" y="1030320"/>
            <a:ext cx="920880" cy="2773440"/>
          </a:xfrm>
          <a:prstGeom prst="rect">
            <a:avLst/>
          </a:prstGeom>
          <a:ln w="0">
            <a:noFill/>
          </a:ln>
        </p:spPr>
      </p:pic>
      <p:grpSp>
        <p:nvGrpSpPr>
          <p:cNvPr id="86" name="矩形 12"/>
          <p:cNvGrpSpPr/>
          <p:nvPr/>
        </p:nvGrpSpPr>
        <p:grpSpPr>
          <a:xfrm>
            <a:off x="0" y="2712960"/>
            <a:ext cx="9144000" cy="4145040"/>
            <a:chOff x="0" y="2712960"/>
            <a:chExt cx="9144000" cy="4145040"/>
          </a:xfrm>
        </p:grpSpPr>
        <p:pic>
          <p:nvPicPr>
            <p:cNvPr id="87" name="矩形 12" descr=""/>
            <p:cNvPicPr/>
            <p:nvPr/>
          </p:nvPicPr>
          <p:blipFill>
            <a:blip r:embed="rId6"/>
            <a:stretch/>
          </p:blipFill>
          <p:spPr>
            <a:xfrm>
              <a:off x="0" y="2712960"/>
              <a:ext cx="914400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2714400"/>
              <a:ext cx="9144000" cy="41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右箭头 13" descr=""/>
          <p:cNvPicPr/>
          <p:nvPr/>
        </p:nvPicPr>
        <p:blipFill>
          <a:blip r:embed="rId7"/>
          <a:stretch/>
        </p:blipFill>
        <p:spPr>
          <a:xfrm>
            <a:off x="9101160" y="6589800"/>
            <a:ext cx="3408480" cy="1725480"/>
          </a:xfrm>
          <a:prstGeom prst="rect">
            <a:avLst/>
          </a:prstGeom>
          <a:ln w="0">
            <a:noFill/>
          </a:ln>
        </p:spPr>
      </p:pic>
      <p:pic>
        <p:nvPicPr>
          <p:cNvPr id="90" name="右箭头 14" descr=""/>
          <p:cNvPicPr/>
          <p:nvPr/>
        </p:nvPicPr>
        <p:blipFill>
          <a:blip r:embed="rId8"/>
          <a:stretch/>
        </p:blipFill>
        <p:spPr>
          <a:xfrm>
            <a:off x="9339120" y="6199200"/>
            <a:ext cx="2511720" cy="1517760"/>
          </a:xfrm>
          <a:prstGeom prst="rect">
            <a:avLst/>
          </a:prstGeom>
          <a:ln w="0">
            <a:noFill/>
          </a:ln>
        </p:spPr>
      </p:pic>
      <p:pic>
        <p:nvPicPr>
          <p:cNvPr id="91" name="右箭头 15" descr=""/>
          <p:cNvPicPr/>
          <p:nvPr/>
        </p:nvPicPr>
        <p:blipFill>
          <a:blip r:embed="rId9"/>
          <a:stretch/>
        </p:blipFill>
        <p:spPr>
          <a:xfrm>
            <a:off x="9966240" y="5913360"/>
            <a:ext cx="2116080" cy="142560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9"/>
          <p:cNvGrpSpPr/>
          <p:nvPr/>
        </p:nvGrpSpPr>
        <p:grpSpPr>
          <a:xfrm>
            <a:off x="5429160" y="4143240"/>
            <a:ext cx="3729240" cy="3000600"/>
            <a:chOff x="5429160" y="4143240"/>
            <a:chExt cx="3729240" cy="3000600"/>
          </a:xfrm>
        </p:grpSpPr>
        <p:pic>
          <p:nvPicPr>
            <p:cNvPr id="93" name="图片 17" descr="剪影01.png"/>
            <p:cNvPicPr/>
            <p:nvPr/>
          </p:nvPicPr>
          <p:blipFill>
            <a:blip r:embed="rId10"/>
            <a:stretch/>
          </p:blipFill>
          <p:spPr>
            <a:xfrm flipH="1">
              <a:off x="5657040" y="4687200"/>
              <a:ext cx="35013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8" descr="3DSYRW_4004.jpg"/>
            <p:cNvPicPr/>
            <p:nvPr/>
          </p:nvPicPr>
          <p:blipFill>
            <a:blip r:embed="rId11"/>
            <a:stretch/>
          </p:blipFill>
          <p:spPr>
            <a:xfrm flipH="1">
              <a:off x="5429160" y="4143240"/>
              <a:ext cx="3715920" cy="30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E5E0-5B0D-43E7-8C52-ED6A58026B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37" name="平行四边形 7"/>
            <p:cNvGrpSpPr/>
            <p:nvPr/>
          </p:nvGrpSpPr>
          <p:grpSpPr>
            <a:xfrm>
              <a:off x="285840" y="0"/>
              <a:ext cx="8858160" cy="1074960"/>
              <a:chOff x="285840" y="0"/>
              <a:chExt cx="8858160" cy="1074960"/>
            </a:xfrm>
          </p:grpSpPr>
          <p:pic>
            <p:nvPicPr>
              <p:cNvPr id="138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380960" y="132840"/>
                <a:ext cx="666684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平行四边形 8"/>
            <p:cNvGrpSpPr/>
            <p:nvPr/>
          </p:nvGrpSpPr>
          <p:grpSpPr>
            <a:xfrm>
              <a:off x="1212480" y="1074960"/>
              <a:ext cx="7931520" cy="42480"/>
              <a:chOff x="1212480" y="1074960"/>
              <a:chExt cx="7931520" cy="42480"/>
            </a:xfrm>
          </p:grpSpPr>
          <p:pic>
            <p:nvPicPr>
              <p:cNvPr id="141" name="平行四边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2480" y="1074960"/>
                <a:ext cx="7931520" cy="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888200" y="1077480"/>
                <a:ext cx="6581160" cy="3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组合 7" descr=""/>
          <p:cNvPicPr/>
          <p:nvPr/>
        </p:nvPicPr>
        <p:blipFill>
          <a:blip r:embed="rId4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7" descr="3DSYRW_4001.jpg"/>
          <p:cNvPicPr/>
          <p:nvPr/>
        </p:nvPicPr>
        <p:blipFill>
          <a:blip r:embed="rId5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7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e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FED5-3CC0-4A00-AA2F-5ADFCE552608}" type="slidenum">
              <a:rPr b="0" lang="zh-CN" sz="24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85" name="平行四边形 7"/>
            <p:cNvGrpSpPr/>
            <p:nvPr/>
          </p:nvGrpSpPr>
          <p:grpSpPr>
            <a:xfrm>
              <a:off x="285840" y="0"/>
              <a:ext cx="8858160" cy="1072800"/>
              <a:chOff x="285840" y="0"/>
              <a:chExt cx="8858160" cy="1072800"/>
            </a:xfrm>
          </p:grpSpPr>
          <p:pic>
            <p:nvPicPr>
              <p:cNvPr id="186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380960" y="132480"/>
                <a:ext cx="66668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平行四边形 8"/>
            <p:cNvSpPr/>
            <p:nvPr/>
          </p:nvSpPr>
          <p:spPr>
            <a:xfrm flipH="1">
              <a:off x="1212840" y="1071720"/>
              <a:ext cx="7930440" cy="45720"/>
            </a:xfrm>
            <a:prstGeom prst="parallelogram">
              <a:avLst>
                <a:gd name="adj" fmla="val -68637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组合 7" descr=""/>
          <p:cNvPicPr/>
          <p:nvPr/>
        </p:nvPicPr>
        <p:blipFill>
          <a:blip r:embed="rId3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7" descr="3DSYRW_4001.jpg"/>
          <p:cNvPicPr/>
          <p:nvPr/>
        </p:nvPicPr>
        <p:blipFill>
          <a:blip r:embed="rId4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8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7375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0C3B-762A-4C48-B3D3-6DBE23654575}" type="slidenum">
              <a:rPr b="0" lang="zh-CN" sz="24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0320" y="307188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00000"/>
                </a:solidFill>
                <a:latin typeface="汉真广标"/>
                <a:ea typeface="汉真广标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971640" y="302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288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各种箭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上箭头 185" descr=""/>
          <p:cNvPicPr/>
          <p:nvPr/>
        </p:nvPicPr>
        <p:blipFill>
          <a:blip r:embed="rId1"/>
          <a:stretch/>
        </p:blipFill>
        <p:spPr>
          <a:xfrm>
            <a:off x="1341360" y="-12600"/>
            <a:ext cx="2462400" cy="7602480"/>
          </a:xfrm>
          <a:prstGeom prst="rect">
            <a:avLst/>
          </a:prstGeom>
          <a:ln w="0">
            <a:noFill/>
          </a:ln>
        </p:spPr>
      </p:pic>
      <p:pic>
        <p:nvPicPr>
          <p:cNvPr id="235" name="右箭头 199" descr=""/>
          <p:cNvPicPr/>
          <p:nvPr/>
        </p:nvPicPr>
        <p:blipFill>
          <a:blip r:embed="rId2"/>
          <a:stretch/>
        </p:blipFill>
        <p:spPr>
          <a:xfrm>
            <a:off x="66600" y="476280"/>
            <a:ext cx="6303960" cy="249228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184"/>
          <p:cNvGrpSpPr/>
          <p:nvPr/>
        </p:nvGrpSpPr>
        <p:grpSpPr>
          <a:xfrm>
            <a:off x="0" y="5286240"/>
            <a:ext cx="9144000" cy="1568520"/>
            <a:chOff x="0" y="5286240"/>
            <a:chExt cx="9144000" cy="1568520"/>
          </a:xfrm>
        </p:grpSpPr>
        <p:sp>
          <p:nvSpPr>
            <p:cNvPr id="237" name="矩形 142"/>
            <p:cNvSpPr/>
            <p:nvPr/>
          </p:nvSpPr>
          <p:spPr>
            <a:xfrm>
              <a:off x="0" y="5286240"/>
              <a:ext cx="9144000" cy="568440"/>
            </a:xfrm>
            <a:prstGeom prst="rect">
              <a:avLst/>
            </a:prstGeom>
            <a:solidFill>
              <a:srgbClr val="00a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43"/>
            <p:cNvSpPr/>
            <p:nvPr/>
          </p:nvSpPr>
          <p:spPr>
            <a:xfrm>
              <a:off x="0" y="5857560"/>
              <a:ext cx="9144000" cy="58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44"/>
            <p:cNvSpPr/>
            <p:nvPr/>
          </p:nvSpPr>
          <p:spPr>
            <a:xfrm>
              <a:off x="0" y="6440400"/>
              <a:ext cx="9144000" cy="414360"/>
            </a:xfrm>
            <a:prstGeom prst="rect">
              <a:avLst/>
            </a:prstGeom>
            <a:solidFill>
              <a:srgbClr val="e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图片 183" descr="3DSYRW_4012.jpg"/>
          <p:cNvPicPr/>
          <p:nvPr/>
        </p:nvPicPr>
        <p:blipFill>
          <a:blip r:embed="rId3"/>
          <a:srcRect l="0" t="16546" r="0" b="14177"/>
          <a:stretch/>
        </p:blipFill>
        <p:spPr>
          <a:xfrm>
            <a:off x="6286680" y="5232240"/>
            <a:ext cx="2714400" cy="1411560"/>
          </a:xfrm>
          <a:prstGeom prst="rect">
            <a:avLst/>
          </a:prstGeom>
          <a:ln w="0">
            <a:noFill/>
          </a:ln>
        </p:spPr>
      </p:pic>
      <p:grpSp>
        <p:nvGrpSpPr>
          <p:cNvPr id="241" name="椭圆 195"/>
          <p:cNvGrpSpPr/>
          <p:nvPr/>
        </p:nvGrpSpPr>
        <p:grpSpPr>
          <a:xfrm>
            <a:off x="2475000" y="1335240"/>
            <a:ext cx="128520" cy="128520"/>
            <a:chOff x="2475000" y="1335240"/>
            <a:chExt cx="128520" cy="128520"/>
          </a:xfrm>
        </p:grpSpPr>
        <p:pic>
          <p:nvPicPr>
            <p:cNvPr id="242" name="椭圆 195" descr=""/>
            <p:cNvPicPr/>
            <p:nvPr/>
          </p:nvPicPr>
          <p:blipFill>
            <a:blip r:embed="rId4"/>
            <a:stretch/>
          </p:blipFill>
          <p:spPr>
            <a:xfrm>
              <a:off x="2475000" y="1335240"/>
              <a:ext cx="12852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511360" y="13687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右箭头 198" descr=""/>
          <p:cNvPicPr/>
          <p:nvPr/>
        </p:nvPicPr>
        <p:blipFill>
          <a:blip r:embed="rId5"/>
          <a:stretch/>
        </p:blipFill>
        <p:spPr>
          <a:xfrm>
            <a:off x="-60480" y="2378160"/>
            <a:ext cx="6570720" cy="1955880"/>
          </a:xfrm>
          <a:prstGeom prst="rect">
            <a:avLst/>
          </a:prstGeom>
          <a:ln w="0">
            <a:noFill/>
          </a:ln>
        </p:spPr>
      </p:pic>
      <p:pic>
        <p:nvPicPr>
          <p:cNvPr id="245" name="右箭头 200" descr=""/>
          <p:cNvPicPr/>
          <p:nvPr/>
        </p:nvPicPr>
        <p:blipFill>
          <a:blip r:embed="rId6"/>
          <a:stretch/>
        </p:blipFill>
        <p:spPr>
          <a:xfrm>
            <a:off x="73080" y="3846600"/>
            <a:ext cx="6645240" cy="2163600"/>
          </a:xfrm>
          <a:prstGeom prst="rect">
            <a:avLst/>
          </a:prstGeom>
          <a:ln w="0">
            <a:noFill/>
          </a:ln>
        </p:spPr>
      </p:pic>
      <p:grpSp>
        <p:nvGrpSpPr>
          <p:cNvPr id="246" name="椭圆 201"/>
          <p:cNvGrpSpPr/>
          <p:nvPr/>
        </p:nvGrpSpPr>
        <p:grpSpPr>
          <a:xfrm>
            <a:off x="2475000" y="2835360"/>
            <a:ext cx="128520" cy="127080"/>
            <a:chOff x="2475000" y="2835360"/>
            <a:chExt cx="128520" cy="127080"/>
          </a:xfrm>
        </p:grpSpPr>
        <p:pic>
          <p:nvPicPr>
            <p:cNvPr id="247" name="椭圆 201" descr=""/>
            <p:cNvPicPr/>
            <p:nvPr/>
          </p:nvPicPr>
          <p:blipFill>
            <a:blip r:embed="rId7"/>
            <a:stretch/>
          </p:blipFill>
          <p:spPr>
            <a:xfrm>
              <a:off x="2475000" y="2835360"/>
              <a:ext cx="12852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11360" y="286884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椭圆 202"/>
          <p:cNvGrpSpPr/>
          <p:nvPr/>
        </p:nvGrpSpPr>
        <p:grpSpPr>
          <a:xfrm>
            <a:off x="2535120" y="5327640"/>
            <a:ext cx="135000" cy="128520"/>
            <a:chOff x="2535120" y="5327640"/>
            <a:chExt cx="135000" cy="128520"/>
          </a:xfrm>
        </p:grpSpPr>
        <p:pic>
          <p:nvPicPr>
            <p:cNvPr id="250" name="椭圆 202" descr=""/>
            <p:cNvPicPr/>
            <p:nvPr/>
          </p:nvPicPr>
          <p:blipFill>
            <a:blip r:embed="rId8"/>
            <a:stretch/>
          </p:blipFill>
          <p:spPr>
            <a:xfrm>
              <a:off x="2535120" y="5327640"/>
              <a:ext cx="13500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574720" y="53611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05"/>
          <p:cNvGrpSpPr/>
          <p:nvPr/>
        </p:nvGrpSpPr>
        <p:grpSpPr>
          <a:xfrm>
            <a:off x="714240" y="928440"/>
            <a:ext cx="5508360" cy="1423080"/>
            <a:chOff x="714240" y="928440"/>
            <a:chExt cx="5508360" cy="1423080"/>
          </a:xfrm>
        </p:grpSpPr>
        <p:sp>
          <p:nvSpPr>
            <p:cNvPr id="253" name="TextBox 203"/>
            <p:cNvSpPr/>
            <p:nvPr/>
          </p:nvSpPr>
          <p:spPr>
            <a:xfrm rot="21134400">
              <a:off x="738000" y="1425600"/>
              <a:ext cx="42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企业调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204"/>
            <p:cNvSpPr/>
            <p:nvPr/>
          </p:nvSpPr>
          <p:spPr>
            <a:xfrm rot="21134400">
              <a:off x="4908960" y="101088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212"/>
          <p:cNvGrpSpPr/>
          <p:nvPr/>
        </p:nvGrpSpPr>
        <p:grpSpPr>
          <a:xfrm>
            <a:off x="931320" y="4286160"/>
            <a:ext cx="5353200" cy="1166760"/>
            <a:chOff x="931320" y="4286160"/>
            <a:chExt cx="5353200" cy="1166760"/>
          </a:xfrm>
        </p:grpSpPr>
        <p:sp>
          <p:nvSpPr>
            <p:cNvPr id="256" name="TextBox 207"/>
            <p:cNvSpPr/>
            <p:nvPr/>
          </p:nvSpPr>
          <p:spPr>
            <a:xfrm rot="21314400">
              <a:off x="950400" y="4635000"/>
              <a:ext cx="42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应用与效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08"/>
            <p:cNvSpPr/>
            <p:nvPr/>
          </p:nvSpPr>
          <p:spPr>
            <a:xfrm rot="21134400">
              <a:off x="4970880" y="436860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211"/>
          <p:cNvGrpSpPr/>
          <p:nvPr/>
        </p:nvGrpSpPr>
        <p:grpSpPr>
          <a:xfrm>
            <a:off x="241920" y="2770920"/>
            <a:ext cx="5632200" cy="1065600"/>
            <a:chOff x="241920" y="2770920"/>
            <a:chExt cx="5632200" cy="1065600"/>
          </a:xfrm>
        </p:grpSpPr>
        <p:sp>
          <p:nvSpPr>
            <p:cNvPr id="259" name="TextBox 209"/>
            <p:cNvSpPr/>
            <p:nvPr/>
          </p:nvSpPr>
          <p:spPr>
            <a:xfrm rot="191400">
              <a:off x="260280" y="2811240"/>
              <a:ext cx="14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210"/>
            <p:cNvSpPr/>
            <p:nvPr/>
          </p:nvSpPr>
          <p:spPr>
            <a:xfrm rot="233400">
              <a:off x="923040" y="3026880"/>
              <a:ext cx="493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项目设计与特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23"/>
          <p:cNvSpPr/>
          <p:nvPr/>
        </p:nvSpPr>
        <p:spPr>
          <a:xfrm>
            <a:off x="7139520" y="2786040"/>
            <a:ext cx="790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提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 0.08726 E">
                                      <p:cBhvr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6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0560-19A8-4055-A789-1E408A8A6751}" type="slidenum">
              <a:rPr b="0" lang="zh-CN" sz="18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265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266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圆角矩形 10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269" name="椭圆 7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272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273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圆角矩形 17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276" name="椭圆 14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117"/>
              <p:cNvSpPr/>
              <p:nvPr/>
            </p:nvSpPr>
            <p:spPr>
              <a:xfrm>
                <a:off x="2468520" y="3287160"/>
                <a:ext cx="64764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组合 47"/>
          <p:cNvGrpSpPr/>
          <p:nvPr/>
        </p:nvGrpSpPr>
        <p:grpSpPr>
          <a:xfrm>
            <a:off x="1560600" y="3945240"/>
            <a:ext cx="2916720" cy="1455480"/>
            <a:chOff x="1560600" y="3945240"/>
            <a:chExt cx="2916720" cy="1455480"/>
          </a:xfrm>
        </p:grpSpPr>
        <p:grpSp>
          <p:nvGrpSpPr>
            <p:cNvPr id="279" name="组合 78"/>
            <p:cNvGrpSpPr/>
            <p:nvPr/>
          </p:nvGrpSpPr>
          <p:grpSpPr>
            <a:xfrm>
              <a:off x="1560600" y="3945240"/>
              <a:ext cx="2916720" cy="1455480"/>
              <a:chOff x="1560600" y="3945240"/>
              <a:chExt cx="2916720" cy="1455480"/>
            </a:xfrm>
          </p:grpSpPr>
          <p:sp>
            <p:nvSpPr>
              <p:cNvPr id="280" name="AutoShape 75"/>
              <p:cNvSpPr/>
              <p:nvPr/>
            </p:nvSpPr>
            <p:spPr>
              <a:xfrm rot="18900000">
                <a:off x="3268440" y="4174920"/>
                <a:ext cx="1033200" cy="923760"/>
              </a:xfrm>
              <a:prstGeom prst="rightArrow">
                <a:avLst>
                  <a:gd name="adj1" fmla="val 70389"/>
                  <a:gd name="adj2" fmla="val 7347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圆角矩形 24"/>
              <p:cNvSpPr/>
              <p:nvPr/>
            </p:nvSpPr>
            <p:spPr>
              <a:xfrm>
                <a:off x="1560600" y="4558320"/>
                <a:ext cx="1893960" cy="84240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283" name="椭圆 21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组合 54"/>
          <p:cNvGrpSpPr/>
          <p:nvPr/>
        </p:nvGrpSpPr>
        <p:grpSpPr>
          <a:xfrm>
            <a:off x="4512960" y="4043160"/>
            <a:ext cx="2975400" cy="1357560"/>
            <a:chOff x="4512960" y="4043160"/>
            <a:chExt cx="2975400" cy="1357560"/>
          </a:xfrm>
        </p:grpSpPr>
        <p:grpSp>
          <p:nvGrpSpPr>
            <p:cNvPr id="286" name="组合 72"/>
            <p:cNvGrpSpPr/>
            <p:nvPr/>
          </p:nvGrpSpPr>
          <p:grpSpPr>
            <a:xfrm>
              <a:off x="4512960" y="4043160"/>
              <a:ext cx="2975400" cy="1357560"/>
              <a:chOff x="4512960" y="4043160"/>
              <a:chExt cx="2975400" cy="1357560"/>
            </a:xfrm>
          </p:grpSpPr>
          <p:sp>
            <p:nvSpPr>
              <p:cNvPr id="287" name="AutoShape 69"/>
              <p:cNvSpPr/>
              <p:nvPr/>
            </p:nvSpPr>
            <p:spPr>
              <a:xfrm flipH="1" rot="2700000">
                <a:off x="4649400" y="4298760"/>
                <a:ext cx="1065960" cy="828000"/>
              </a:xfrm>
              <a:prstGeom prst="rightArrow">
                <a:avLst>
                  <a:gd name="adj1" fmla="val 70389"/>
                  <a:gd name="adj2" fmla="val 831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圆角矩形 31"/>
              <p:cNvSpPr/>
              <p:nvPr/>
            </p:nvSpPr>
            <p:spPr>
              <a:xfrm>
                <a:off x="5508720" y="464328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290" name="椭圆 28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293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294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圆角矩形 38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297" name="椭圆 35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300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301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圆角矩形 45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304" name="椭圆 42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313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2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E8B1-5CF5-4112-A1F2-66F213389A0F}" type="slidenum">
              <a:rPr b="0" lang="zh-CN" sz="18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330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356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358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361" name="Line 29"/>
              <p:cNvSpPr/>
              <p:nvPr/>
            </p:nvSpPr>
            <p:spPr>
              <a:xfrm>
                <a:off x="6896160" y="382176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Group 101"/>
              <p:cNvGrpSpPr/>
              <p:nvPr/>
            </p:nvGrpSpPr>
            <p:grpSpPr>
              <a:xfrm>
                <a:off x="7000200" y="3778920"/>
                <a:ext cx="672840" cy="111240"/>
                <a:chOff x="7000200" y="3778920"/>
                <a:chExt cx="672840" cy="111240"/>
              </a:xfrm>
            </p:grpSpPr>
            <p:sp>
              <p:nvSpPr>
                <p:cNvPr id="363" name="Rectangle 102"/>
                <p:cNvSpPr/>
                <p:nvPr/>
              </p:nvSpPr>
              <p:spPr>
                <a:xfrm>
                  <a:off x="7000200" y="377892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365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7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368" name="Line 27"/>
              <p:cNvSpPr/>
              <p:nvPr/>
            </p:nvSpPr>
            <p:spPr>
              <a:xfrm>
                <a:off x="6896160" y="3513600"/>
                <a:ext cx="258840" cy="180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07"/>
              <p:cNvSpPr/>
              <p:nvPr/>
            </p:nvSpPr>
            <p:spPr>
              <a:xfrm>
                <a:off x="6980760" y="3469320"/>
                <a:ext cx="9108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380" name="任意多边形 117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118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3133800"/>
            <a:ext cx="9144000" cy="1295280"/>
          </a:xfrm>
          <a:prstGeom prst="rect">
            <a:avLst/>
          </a:prstGeom>
          <a:gradFill rotWithShape="0">
            <a:gsLst>
              <a:gs pos="0">
                <a:srgbClr val="e9a600">
                  <a:alpha val="38039"/>
                </a:srgbClr>
              </a:gs>
              <a:gs pos="100000">
                <a:srgbClr val="80008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"/>
          <p:cNvSpPr/>
          <p:nvPr/>
        </p:nvSpPr>
        <p:spPr>
          <a:xfrm>
            <a:off x="6481800" y="183348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0" y="421020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7"/>
          <p:cNvGrpSpPr/>
          <p:nvPr/>
        </p:nvGrpSpPr>
        <p:grpSpPr>
          <a:xfrm>
            <a:off x="3605040" y="2305080"/>
            <a:ext cx="2641680" cy="2562120"/>
            <a:chOff x="3605040" y="2305080"/>
            <a:chExt cx="2641680" cy="2562120"/>
          </a:xfrm>
        </p:grpSpPr>
        <p:sp>
          <p:nvSpPr>
            <p:cNvPr id="387" name="Freeform 8"/>
            <p:cNvSpPr/>
            <p:nvPr/>
          </p:nvSpPr>
          <p:spPr>
            <a:xfrm>
              <a:off x="3605040" y="2305080"/>
              <a:ext cx="2641680" cy="256212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2562120"/>
                <a:gd name="textAreaBottom" fmla="*/ 2562480 h 2562120"/>
              </a:gdLst>
              <a:ahLst/>
              <a:rect l="textAreaLeft" t="textAreaTop" r="textAreaRight" b="textAreaBottom"/>
              <a:pathLst>
                <a:path w="851" h="826">
                  <a:moveTo>
                    <a:pt x="831" y="376"/>
                  </a:moveTo>
                  <a:cubicBezTo>
                    <a:pt x="851" y="592"/>
                    <a:pt x="686" y="785"/>
                    <a:pt x="461" y="806"/>
                  </a:cubicBezTo>
                  <a:cubicBezTo>
                    <a:pt x="237" y="826"/>
                    <a:pt x="40" y="667"/>
                    <a:pt x="20" y="451"/>
                  </a:cubicBezTo>
                  <a:cubicBezTo>
                    <a:pt x="0" y="234"/>
                    <a:pt x="165" y="41"/>
                    <a:pt x="390" y="21"/>
                  </a:cubicBezTo>
                  <a:cubicBezTo>
                    <a:pt x="614" y="0"/>
                    <a:pt x="811" y="159"/>
                    <a:pt x="831" y="376"/>
                  </a:cubicBezTo>
                  <a:close/>
                </a:path>
              </a:pathLst>
            </a:custGeom>
            <a:blipFill rotWithShape="0">
              <a:blip r:embed="rId1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"/>
            <p:cNvSpPr/>
            <p:nvPr/>
          </p:nvSpPr>
          <p:spPr>
            <a:xfrm>
              <a:off x="4095360" y="2516400"/>
              <a:ext cx="1685520" cy="221724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2217240"/>
                <a:gd name="textAreaBottom" fmla="*/ 2217600 h 2217240"/>
              </a:gdLst>
              <a:ahLst/>
              <a:rect l="textAreaLeft" t="textAreaTop" r="textAreaRight" b="textAreaBottom"/>
              <a:pathLst>
                <a:path w="543" h="715">
                  <a:moveTo>
                    <a:pt x="244" y="390"/>
                  </a:moveTo>
                  <a:cubicBezTo>
                    <a:pt x="240" y="391"/>
                    <a:pt x="234" y="399"/>
                    <a:pt x="234" y="399"/>
                  </a:cubicBezTo>
                  <a:cubicBezTo>
                    <a:pt x="219" y="395"/>
                    <a:pt x="219" y="395"/>
                    <a:pt x="219" y="395"/>
                  </a:cubicBezTo>
                  <a:cubicBezTo>
                    <a:pt x="216" y="395"/>
                    <a:pt x="212" y="394"/>
                    <a:pt x="209" y="391"/>
                  </a:cubicBezTo>
                  <a:cubicBezTo>
                    <a:pt x="200" y="384"/>
                    <a:pt x="192" y="374"/>
                    <a:pt x="186" y="364"/>
                  </a:cubicBezTo>
                  <a:cubicBezTo>
                    <a:pt x="183" y="359"/>
                    <a:pt x="174" y="364"/>
                    <a:pt x="169" y="360"/>
                  </a:cubicBezTo>
                  <a:cubicBezTo>
                    <a:pt x="155" y="353"/>
                    <a:pt x="141" y="344"/>
                    <a:pt x="123" y="344"/>
                  </a:cubicBezTo>
                  <a:cubicBezTo>
                    <a:pt x="119" y="345"/>
                    <a:pt x="114" y="344"/>
                    <a:pt x="111" y="340"/>
                  </a:cubicBezTo>
                  <a:cubicBezTo>
                    <a:pt x="104" y="337"/>
                    <a:pt x="98" y="334"/>
                    <a:pt x="98" y="334"/>
                  </a:cubicBezTo>
                  <a:cubicBezTo>
                    <a:pt x="82" y="330"/>
                    <a:pt x="82" y="330"/>
                    <a:pt x="82" y="330"/>
                  </a:cubicBezTo>
                  <a:cubicBezTo>
                    <a:pt x="75" y="319"/>
                    <a:pt x="75" y="319"/>
                    <a:pt x="75" y="319"/>
                  </a:cubicBezTo>
                  <a:cubicBezTo>
                    <a:pt x="72" y="309"/>
                    <a:pt x="72" y="309"/>
                    <a:pt x="72" y="309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0" y="297"/>
                    <a:pt x="70" y="297"/>
                    <a:pt x="70" y="297"/>
                  </a:cubicBezTo>
                  <a:cubicBezTo>
                    <a:pt x="64" y="287"/>
                    <a:pt x="64" y="287"/>
                    <a:pt x="64" y="287"/>
                  </a:cubicBezTo>
                  <a:cubicBezTo>
                    <a:pt x="61" y="283"/>
                    <a:pt x="61" y="283"/>
                    <a:pt x="61" y="283"/>
                  </a:cubicBezTo>
                  <a:cubicBezTo>
                    <a:pt x="58" y="278"/>
                    <a:pt x="58" y="278"/>
                    <a:pt x="58" y="278"/>
                  </a:cubicBezTo>
                  <a:cubicBezTo>
                    <a:pt x="56" y="275"/>
                    <a:pt x="56" y="275"/>
                    <a:pt x="56" y="275"/>
                  </a:cubicBezTo>
                  <a:cubicBezTo>
                    <a:pt x="56" y="275"/>
                    <a:pt x="57" y="273"/>
                    <a:pt x="56" y="271"/>
                  </a:cubicBezTo>
                  <a:cubicBezTo>
                    <a:pt x="55" y="268"/>
                    <a:pt x="50" y="267"/>
                    <a:pt x="50" y="265"/>
                  </a:cubicBezTo>
                  <a:cubicBezTo>
                    <a:pt x="50" y="263"/>
                    <a:pt x="47" y="258"/>
                    <a:pt x="47" y="258"/>
                  </a:cubicBezTo>
                  <a:cubicBezTo>
                    <a:pt x="47" y="258"/>
                    <a:pt x="44" y="255"/>
                    <a:pt x="43" y="252"/>
                  </a:cubicBezTo>
                  <a:cubicBezTo>
                    <a:pt x="43" y="250"/>
                    <a:pt x="43" y="242"/>
                    <a:pt x="43" y="242"/>
                  </a:cubicBezTo>
                  <a:cubicBezTo>
                    <a:pt x="42" y="237"/>
                    <a:pt x="42" y="237"/>
                    <a:pt x="42" y="237"/>
                  </a:cubicBezTo>
                  <a:cubicBezTo>
                    <a:pt x="42" y="237"/>
                    <a:pt x="38" y="232"/>
                    <a:pt x="36" y="233"/>
                  </a:cubicBezTo>
                  <a:cubicBezTo>
                    <a:pt x="34" y="234"/>
                    <a:pt x="35" y="243"/>
                    <a:pt x="35" y="243"/>
                  </a:cubicBezTo>
                  <a:cubicBezTo>
                    <a:pt x="36" y="250"/>
                    <a:pt x="36" y="250"/>
                    <a:pt x="36" y="25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1" y="262"/>
                    <a:pt x="41" y="262"/>
                    <a:pt x="41" y="262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1" y="287"/>
                    <a:pt x="51" y="287"/>
                    <a:pt x="51" y="287"/>
                  </a:cubicBezTo>
                  <a:cubicBezTo>
                    <a:pt x="51" y="287"/>
                    <a:pt x="52" y="291"/>
                    <a:pt x="51" y="293"/>
                  </a:cubicBezTo>
                  <a:cubicBezTo>
                    <a:pt x="50" y="296"/>
                    <a:pt x="46" y="294"/>
                    <a:pt x="46" y="294"/>
                  </a:cubicBezTo>
                  <a:cubicBezTo>
                    <a:pt x="38" y="281"/>
                    <a:pt x="38" y="281"/>
                    <a:pt x="38" y="281"/>
                  </a:cubicBezTo>
                  <a:cubicBezTo>
                    <a:pt x="38" y="272"/>
                    <a:pt x="38" y="272"/>
                    <a:pt x="38" y="272"/>
                  </a:cubicBezTo>
                  <a:cubicBezTo>
                    <a:pt x="38" y="272"/>
                    <a:pt x="29" y="264"/>
                    <a:pt x="27" y="261"/>
                  </a:cubicBezTo>
                  <a:cubicBezTo>
                    <a:pt x="25" y="258"/>
                    <a:pt x="33" y="259"/>
                    <a:pt x="32" y="256"/>
                  </a:cubicBezTo>
                  <a:cubicBezTo>
                    <a:pt x="32" y="254"/>
                    <a:pt x="29" y="248"/>
                    <a:pt x="29" y="245"/>
                  </a:cubicBezTo>
                  <a:cubicBezTo>
                    <a:pt x="28" y="242"/>
                    <a:pt x="28" y="234"/>
                    <a:pt x="28" y="230"/>
                  </a:cubicBezTo>
                  <a:cubicBezTo>
                    <a:pt x="28" y="227"/>
                    <a:pt x="27" y="220"/>
                    <a:pt x="27" y="218"/>
                  </a:cubicBezTo>
                  <a:cubicBezTo>
                    <a:pt x="27" y="216"/>
                    <a:pt x="18" y="209"/>
                    <a:pt x="14" y="208"/>
                  </a:cubicBezTo>
                  <a:cubicBezTo>
                    <a:pt x="11" y="208"/>
                    <a:pt x="14" y="204"/>
                    <a:pt x="14" y="199"/>
                  </a:cubicBezTo>
                  <a:cubicBezTo>
                    <a:pt x="13" y="176"/>
                    <a:pt x="22" y="155"/>
                    <a:pt x="35" y="136"/>
                  </a:cubicBezTo>
                  <a:cubicBezTo>
                    <a:pt x="38" y="133"/>
                    <a:pt x="40" y="130"/>
                    <a:pt x="42" y="127"/>
                  </a:cubicBezTo>
                  <a:cubicBezTo>
                    <a:pt x="45" y="124"/>
                    <a:pt x="49" y="121"/>
                    <a:pt x="48" y="118"/>
                  </a:cubicBezTo>
                  <a:cubicBezTo>
                    <a:pt x="48" y="114"/>
                    <a:pt x="44" y="111"/>
                    <a:pt x="43" y="107"/>
                  </a:cubicBezTo>
                  <a:cubicBezTo>
                    <a:pt x="44" y="104"/>
                    <a:pt x="47" y="100"/>
                    <a:pt x="46" y="97"/>
                  </a:cubicBezTo>
                  <a:cubicBezTo>
                    <a:pt x="48" y="84"/>
                    <a:pt x="53" y="71"/>
                    <a:pt x="56" y="59"/>
                  </a:cubicBezTo>
                  <a:cubicBezTo>
                    <a:pt x="57" y="55"/>
                    <a:pt x="57" y="49"/>
                    <a:pt x="54" y="48"/>
                  </a:cubicBezTo>
                  <a:cubicBezTo>
                    <a:pt x="40" y="38"/>
                    <a:pt x="27" y="54"/>
                    <a:pt x="10" y="54"/>
                  </a:cubicBezTo>
                  <a:cubicBezTo>
                    <a:pt x="5" y="55"/>
                    <a:pt x="0" y="56"/>
                    <a:pt x="0" y="56"/>
                  </a:cubicBezTo>
                  <a:cubicBezTo>
                    <a:pt x="0" y="56"/>
                    <a:pt x="5" y="54"/>
                    <a:pt x="10" y="52"/>
                  </a:cubicBezTo>
                  <a:cubicBezTo>
                    <a:pt x="16" y="51"/>
                    <a:pt x="24" y="50"/>
                    <a:pt x="26" y="47"/>
                  </a:cubicBezTo>
                  <a:cubicBezTo>
                    <a:pt x="44" y="23"/>
                    <a:pt x="74" y="9"/>
                    <a:pt x="103" y="5"/>
                  </a:cubicBezTo>
                  <a:cubicBezTo>
                    <a:pt x="106" y="5"/>
                    <a:pt x="112" y="15"/>
                    <a:pt x="104" y="18"/>
                  </a:cubicBezTo>
                  <a:cubicBezTo>
                    <a:pt x="107" y="18"/>
                    <a:pt x="111" y="18"/>
                    <a:pt x="113" y="19"/>
                  </a:cubicBezTo>
                  <a:cubicBezTo>
                    <a:pt x="121" y="20"/>
                    <a:pt x="125" y="19"/>
                    <a:pt x="128" y="18"/>
                  </a:cubicBezTo>
                  <a:cubicBezTo>
                    <a:pt x="131" y="18"/>
                    <a:pt x="129" y="17"/>
                    <a:pt x="131" y="17"/>
                  </a:cubicBezTo>
                  <a:cubicBezTo>
                    <a:pt x="134" y="16"/>
                    <a:pt x="138" y="24"/>
                    <a:pt x="138" y="24"/>
                  </a:cubicBezTo>
                  <a:cubicBezTo>
                    <a:pt x="144" y="26"/>
                    <a:pt x="144" y="26"/>
                    <a:pt x="144" y="26"/>
                  </a:cubicBezTo>
                  <a:cubicBezTo>
                    <a:pt x="144" y="26"/>
                    <a:pt x="141" y="29"/>
                    <a:pt x="143" y="31"/>
                  </a:cubicBezTo>
                  <a:cubicBezTo>
                    <a:pt x="145" y="33"/>
                    <a:pt x="150" y="30"/>
                    <a:pt x="150" y="30"/>
                  </a:cubicBezTo>
                  <a:cubicBezTo>
                    <a:pt x="150" y="30"/>
                    <a:pt x="158" y="32"/>
                    <a:pt x="154" y="30"/>
                  </a:cubicBezTo>
                  <a:cubicBezTo>
                    <a:pt x="149" y="28"/>
                    <a:pt x="145" y="23"/>
                    <a:pt x="145" y="23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51" y="14"/>
                    <a:pt x="151" y="14"/>
                    <a:pt x="151" y="14"/>
                  </a:cubicBezTo>
                  <a:cubicBezTo>
                    <a:pt x="151" y="14"/>
                    <a:pt x="142" y="16"/>
                    <a:pt x="142" y="14"/>
                  </a:cubicBezTo>
                  <a:cubicBezTo>
                    <a:pt x="141" y="12"/>
                    <a:pt x="146" y="9"/>
                    <a:pt x="148" y="9"/>
                  </a:cubicBezTo>
                  <a:cubicBezTo>
                    <a:pt x="150" y="9"/>
                    <a:pt x="147" y="4"/>
                    <a:pt x="154" y="3"/>
                  </a:cubicBezTo>
                  <a:cubicBezTo>
                    <a:pt x="160" y="3"/>
                    <a:pt x="163" y="6"/>
                    <a:pt x="163" y="8"/>
                  </a:cubicBezTo>
                  <a:cubicBezTo>
                    <a:pt x="163" y="10"/>
                    <a:pt x="167" y="13"/>
                    <a:pt x="167" y="13"/>
                  </a:cubicBezTo>
                  <a:cubicBezTo>
                    <a:pt x="172" y="11"/>
                    <a:pt x="185" y="7"/>
                    <a:pt x="184" y="8"/>
                  </a:cubicBezTo>
                  <a:cubicBezTo>
                    <a:pt x="183" y="10"/>
                    <a:pt x="183" y="27"/>
                    <a:pt x="170" y="31"/>
                  </a:cubicBezTo>
                  <a:cubicBezTo>
                    <a:pt x="175" y="35"/>
                    <a:pt x="180" y="34"/>
                    <a:pt x="184" y="34"/>
                  </a:cubicBezTo>
                  <a:cubicBezTo>
                    <a:pt x="186" y="32"/>
                    <a:pt x="183" y="27"/>
                    <a:pt x="187" y="25"/>
                  </a:cubicBezTo>
                  <a:cubicBezTo>
                    <a:pt x="194" y="23"/>
                    <a:pt x="197" y="16"/>
                    <a:pt x="199" y="16"/>
                  </a:cubicBezTo>
                  <a:cubicBezTo>
                    <a:pt x="202" y="17"/>
                    <a:pt x="202" y="28"/>
                    <a:pt x="208" y="31"/>
                  </a:cubicBezTo>
                  <a:cubicBezTo>
                    <a:pt x="213" y="34"/>
                    <a:pt x="215" y="31"/>
                    <a:pt x="218" y="27"/>
                  </a:cubicBezTo>
                  <a:cubicBezTo>
                    <a:pt x="212" y="26"/>
                    <a:pt x="201" y="21"/>
                    <a:pt x="209" y="15"/>
                  </a:cubicBezTo>
                  <a:cubicBezTo>
                    <a:pt x="232" y="0"/>
                    <a:pt x="266" y="22"/>
                    <a:pt x="283" y="34"/>
                  </a:cubicBezTo>
                  <a:cubicBezTo>
                    <a:pt x="280" y="38"/>
                    <a:pt x="273" y="37"/>
                    <a:pt x="268" y="39"/>
                  </a:cubicBezTo>
                  <a:cubicBezTo>
                    <a:pt x="275" y="41"/>
                    <a:pt x="284" y="51"/>
                    <a:pt x="279" y="54"/>
                  </a:cubicBezTo>
                  <a:cubicBezTo>
                    <a:pt x="275" y="57"/>
                    <a:pt x="269" y="47"/>
                    <a:pt x="262" y="48"/>
                  </a:cubicBezTo>
                  <a:cubicBezTo>
                    <a:pt x="258" y="48"/>
                    <a:pt x="276" y="63"/>
                    <a:pt x="263" y="56"/>
                  </a:cubicBezTo>
                  <a:cubicBezTo>
                    <a:pt x="250" y="49"/>
                    <a:pt x="236" y="51"/>
                    <a:pt x="237" y="47"/>
                  </a:cubicBezTo>
                  <a:cubicBezTo>
                    <a:pt x="238" y="44"/>
                    <a:pt x="247" y="39"/>
                    <a:pt x="246" y="35"/>
                  </a:cubicBezTo>
                  <a:cubicBezTo>
                    <a:pt x="246" y="27"/>
                    <a:pt x="235" y="26"/>
                    <a:pt x="228" y="23"/>
                  </a:cubicBezTo>
                  <a:cubicBezTo>
                    <a:pt x="233" y="38"/>
                    <a:pt x="219" y="37"/>
                    <a:pt x="210" y="46"/>
                  </a:cubicBezTo>
                  <a:cubicBezTo>
                    <a:pt x="217" y="49"/>
                    <a:pt x="230" y="43"/>
                    <a:pt x="228" y="51"/>
                  </a:cubicBezTo>
                  <a:cubicBezTo>
                    <a:pt x="226" y="55"/>
                    <a:pt x="214" y="55"/>
                    <a:pt x="207" y="52"/>
                  </a:cubicBezTo>
                  <a:cubicBezTo>
                    <a:pt x="196" y="49"/>
                    <a:pt x="178" y="58"/>
                    <a:pt x="178" y="70"/>
                  </a:cubicBezTo>
                  <a:cubicBezTo>
                    <a:pt x="178" y="86"/>
                    <a:pt x="202" y="89"/>
                    <a:pt x="216" y="96"/>
                  </a:cubicBezTo>
                  <a:cubicBezTo>
                    <a:pt x="216" y="96"/>
                    <a:pt x="219" y="99"/>
                    <a:pt x="219" y="102"/>
                  </a:cubicBezTo>
                  <a:cubicBezTo>
                    <a:pt x="219" y="104"/>
                    <a:pt x="222" y="112"/>
                    <a:pt x="225" y="112"/>
                  </a:cubicBezTo>
                  <a:cubicBezTo>
                    <a:pt x="228" y="113"/>
                    <a:pt x="234" y="115"/>
                    <a:pt x="234" y="110"/>
                  </a:cubicBezTo>
                  <a:cubicBezTo>
                    <a:pt x="233" y="105"/>
                    <a:pt x="232" y="100"/>
                    <a:pt x="231" y="96"/>
                  </a:cubicBezTo>
                  <a:cubicBezTo>
                    <a:pt x="237" y="94"/>
                    <a:pt x="241" y="89"/>
                    <a:pt x="246" y="84"/>
                  </a:cubicBezTo>
                  <a:cubicBezTo>
                    <a:pt x="234" y="77"/>
                    <a:pt x="229" y="67"/>
                    <a:pt x="238" y="58"/>
                  </a:cubicBezTo>
                  <a:cubicBezTo>
                    <a:pt x="244" y="54"/>
                    <a:pt x="254" y="61"/>
                    <a:pt x="262" y="67"/>
                  </a:cubicBezTo>
                  <a:cubicBezTo>
                    <a:pt x="267" y="70"/>
                    <a:pt x="275" y="72"/>
                    <a:pt x="277" y="68"/>
                  </a:cubicBezTo>
                  <a:cubicBezTo>
                    <a:pt x="278" y="65"/>
                    <a:pt x="275" y="60"/>
                    <a:pt x="278" y="60"/>
                  </a:cubicBezTo>
                  <a:cubicBezTo>
                    <a:pt x="282" y="58"/>
                    <a:pt x="285" y="62"/>
                    <a:pt x="288" y="64"/>
                  </a:cubicBezTo>
                  <a:cubicBezTo>
                    <a:pt x="291" y="66"/>
                    <a:pt x="294" y="67"/>
                    <a:pt x="295" y="69"/>
                  </a:cubicBezTo>
                  <a:cubicBezTo>
                    <a:pt x="296" y="74"/>
                    <a:pt x="304" y="83"/>
                    <a:pt x="307" y="83"/>
                  </a:cubicBezTo>
                  <a:cubicBezTo>
                    <a:pt x="310" y="84"/>
                    <a:pt x="327" y="88"/>
                    <a:pt x="328" y="90"/>
                  </a:cubicBezTo>
                  <a:cubicBezTo>
                    <a:pt x="330" y="93"/>
                    <a:pt x="327" y="100"/>
                    <a:pt x="327" y="100"/>
                  </a:cubicBezTo>
                  <a:cubicBezTo>
                    <a:pt x="327" y="100"/>
                    <a:pt x="338" y="99"/>
                    <a:pt x="335" y="102"/>
                  </a:cubicBezTo>
                  <a:cubicBezTo>
                    <a:pt x="332" y="104"/>
                    <a:pt x="337" y="108"/>
                    <a:pt x="347" y="111"/>
                  </a:cubicBezTo>
                  <a:cubicBezTo>
                    <a:pt x="357" y="114"/>
                    <a:pt x="361" y="120"/>
                    <a:pt x="361" y="120"/>
                  </a:cubicBezTo>
                  <a:cubicBezTo>
                    <a:pt x="348" y="122"/>
                    <a:pt x="348" y="122"/>
                    <a:pt x="348" y="122"/>
                  </a:cubicBezTo>
                  <a:cubicBezTo>
                    <a:pt x="330" y="117"/>
                    <a:pt x="330" y="117"/>
                    <a:pt x="330" y="117"/>
                  </a:cubicBezTo>
                  <a:cubicBezTo>
                    <a:pt x="330" y="117"/>
                    <a:pt x="329" y="120"/>
                    <a:pt x="328" y="120"/>
                  </a:cubicBezTo>
                  <a:cubicBezTo>
                    <a:pt x="326" y="121"/>
                    <a:pt x="328" y="105"/>
                    <a:pt x="328" y="105"/>
                  </a:cubicBezTo>
                  <a:cubicBezTo>
                    <a:pt x="325" y="102"/>
                    <a:pt x="325" y="102"/>
                    <a:pt x="325" y="102"/>
                  </a:cubicBezTo>
                  <a:cubicBezTo>
                    <a:pt x="317" y="108"/>
                    <a:pt x="317" y="108"/>
                    <a:pt x="317" y="108"/>
                  </a:cubicBezTo>
                  <a:cubicBezTo>
                    <a:pt x="300" y="111"/>
                    <a:pt x="300" y="111"/>
                    <a:pt x="300" y="111"/>
                  </a:cubicBezTo>
                  <a:cubicBezTo>
                    <a:pt x="300" y="111"/>
                    <a:pt x="291" y="113"/>
                    <a:pt x="288" y="116"/>
                  </a:cubicBezTo>
                  <a:cubicBezTo>
                    <a:pt x="285" y="119"/>
                    <a:pt x="279" y="127"/>
                    <a:pt x="281" y="127"/>
                  </a:cubicBezTo>
                  <a:cubicBezTo>
                    <a:pt x="283" y="127"/>
                    <a:pt x="290" y="118"/>
                    <a:pt x="292" y="119"/>
                  </a:cubicBezTo>
                  <a:cubicBezTo>
                    <a:pt x="294" y="119"/>
                    <a:pt x="300" y="117"/>
                    <a:pt x="300" y="120"/>
                  </a:cubicBezTo>
                  <a:cubicBezTo>
                    <a:pt x="300" y="122"/>
                    <a:pt x="298" y="125"/>
                    <a:pt x="298" y="125"/>
                  </a:cubicBezTo>
                  <a:cubicBezTo>
                    <a:pt x="296" y="125"/>
                    <a:pt x="296" y="125"/>
                    <a:pt x="296" y="125"/>
                  </a:cubicBezTo>
                  <a:cubicBezTo>
                    <a:pt x="296" y="125"/>
                    <a:pt x="305" y="136"/>
                    <a:pt x="307" y="136"/>
                  </a:cubicBezTo>
                  <a:cubicBezTo>
                    <a:pt x="309" y="135"/>
                    <a:pt x="311" y="137"/>
                    <a:pt x="314" y="135"/>
                  </a:cubicBezTo>
                  <a:cubicBezTo>
                    <a:pt x="318" y="133"/>
                    <a:pt x="322" y="128"/>
                    <a:pt x="323" y="129"/>
                  </a:cubicBezTo>
                  <a:cubicBezTo>
                    <a:pt x="325" y="131"/>
                    <a:pt x="318" y="133"/>
                    <a:pt x="318" y="133"/>
                  </a:cubicBezTo>
                  <a:cubicBezTo>
                    <a:pt x="318" y="133"/>
                    <a:pt x="323" y="132"/>
                    <a:pt x="325" y="135"/>
                  </a:cubicBezTo>
                  <a:cubicBezTo>
                    <a:pt x="327" y="137"/>
                    <a:pt x="317" y="138"/>
                    <a:pt x="317" y="138"/>
                  </a:cubicBezTo>
                  <a:cubicBezTo>
                    <a:pt x="307" y="146"/>
                    <a:pt x="307" y="146"/>
                    <a:pt x="307" y="146"/>
                  </a:cubicBezTo>
                  <a:cubicBezTo>
                    <a:pt x="307" y="146"/>
                    <a:pt x="304" y="151"/>
                    <a:pt x="302" y="149"/>
                  </a:cubicBezTo>
                  <a:cubicBezTo>
                    <a:pt x="300" y="148"/>
                    <a:pt x="296" y="149"/>
                    <a:pt x="296" y="147"/>
                  </a:cubicBezTo>
                  <a:cubicBezTo>
                    <a:pt x="297" y="145"/>
                    <a:pt x="300" y="140"/>
                    <a:pt x="300" y="140"/>
                  </a:cubicBezTo>
                  <a:cubicBezTo>
                    <a:pt x="289" y="146"/>
                    <a:pt x="289" y="146"/>
                    <a:pt x="289" y="146"/>
                  </a:cubicBezTo>
                  <a:cubicBezTo>
                    <a:pt x="279" y="155"/>
                    <a:pt x="279" y="155"/>
                    <a:pt x="279" y="155"/>
                  </a:cubicBezTo>
                  <a:cubicBezTo>
                    <a:pt x="280" y="165"/>
                    <a:pt x="280" y="165"/>
                    <a:pt x="280" y="165"/>
                  </a:cubicBezTo>
                  <a:cubicBezTo>
                    <a:pt x="278" y="168"/>
                    <a:pt x="275" y="168"/>
                    <a:pt x="276" y="171"/>
                  </a:cubicBezTo>
                  <a:cubicBezTo>
                    <a:pt x="277" y="174"/>
                    <a:pt x="265" y="172"/>
                    <a:pt x="264" y="175"/>
                  </a:cubicBezTo>
                  <a:cubicBezTo>
                    <a:pt x="256" y="194"/>
                    <a:pt x="241" y="209"/>
                    <a:pt x="228" y="225"/>
                  </a:cubicBezTo>
                  <a:cubicBezTo>
                    <a:pt x="216" y="241"/>
                    <a:pt x="229" y="271"/>
                    <a:pt x="229" y="276"/>
                  </a:cubicBezTo>
                  <a:cubicBezTo>
                    <a:pt x="228" y="280"/>
                    <a:pt x="225" y="277"/>
                    <a:pt x="223" y="278"/>
                  </a:cubicBezTo>
                  <a:cubicBezTo>
                    <a:pt x="216" y="268"/>
                    <a:pt x="209" y="259"/>
                    <a:pt x="202" y="252"/>
                  </a:cubicBezTo>
                  <a:cubicBezTo>
                    <a:pt x="199" y="250"/>
                    <a:pt x="196" y="248"/>
                    <a:pt x="193" y="247"/>
                  </a:cubicBezTo>
                  <a:cubicBezTo>
                    <a:pt x="186" y="242"/>
                    <a:pt x="173" y="243"/>
                    <a:pt x="171" y="245"/>
                  </a:cubicBezTo>
                  <a:cubicBezTo>
                    <a:pt x="169" y="247"/>
                    <a:pt x="170" y="258"/>
                    <a:pt x="163" y="256"/>
                  </a:cubicBezTo>
                  <a:cubicBezTo>
                    <a:pt x="149" y="251"/>
                    <a:pt x="133" y="250"/>
                    <a:pt x="127" y="266"/>
                  </a:cubicBezTo>
                  <a:cubicBezTo>
                    <a:pt x="125" y="269"/>
                    <a:pt x="123" y="273"/>
                    <a:pt x="123" y="273"/>
                  </a:cubicBezTo>
                  <a:cubicBezTo>
                    <a:pt x="119" y="286"/>
                    <a:pt x="119" y="286"/>
                    <a:pt x="119" y="286"/>
                  </a:cubicBezTo>
                  <a:cubicBezTo>
                    <a:pt x="120" y="303"/>
                    <a:pt x="120" y="303"/>
                    <a:pt x="120" y="303"/>
                  </a:cubicBezTo>
                  <a:cubicBezTo>
                    <a:pt x="124" y="318"/>
                    <a:pt x="124" y="318"/>
                    <a:pt x="124" y="318"/>
                  </a:cubicBezTo>
                  <a:cubicBezTo>
                    <a:pt x="134" y="326"/>
                    <a:pt x="147" y="331"/>
                    <a:pt x="160" y="324"/>
                  </a:cubicBezTo>
                  <a:cubicBezTo>
                    <a:pt x="164" y="321"/>
                    <a:pt x="162" y="314"/>
                    <a:pt x="165" y="311"/>
                  </a:cubicBezTo>
                  <a:cubicBezTo>
                    <a:pt x="173" y="308"/>
                    <a:pt x="186" y="301"/>
                    <a:pt x="187" y="310"/>
                  </a:cubicBezTo>
                  <a:cubicBezTo>
                    <a:pt x="187" y="320"/>
                    <a:pt x="178" y="334"/>
                    <a:pt x="180" y="342"/>
                  </a:cubicBezTo>
                  <a:cubicBezTo>
                    <a:pt x="184" y="351"/>
                    <a:pt x="204" y="341"/>
                    <a:pt x="210" y="350"/>
                  </a:cubicBezTo>
                  <a:cubicBezTo>
                    <a:pt x="216" y="360"/>
                    <a:pt x="213" y="376"/>
                    <a:pt x="222" y="386"/>
                  </a:cubicBezTo>
                  <a:cubicBezTo>
                    <a:pt x="224" y="388"/>
                    <a:pt x="230" y="388"/>
                    <a:pt x="234" y="388"/>
                  </a:cubicBezTo>
                  <a:cubicBezTo>
                    <a:pt x="239" y="388"/>
                    <a:pt x="241" y="384"/>
                    <a:pt x="247" y="385"/>
                  </a:cubicBezTo>
                  <a:cubicBezTo>
                    <a:pt x="253" y="386"/>
                    <a:pt x="259" y="390"/>
                    <a:pt x="259" y="390"/>
                  </a:cubicBezTo>
                  <a:cubicBezTo>
                    <a:pt x="268" y="383"/>
                    <a:pt x="268" y="383"/>
                    <a:pt x="268" y="383"/>
                  </a:cubicBezTo>
                  <a:cubicBezTo>
                    <a:pt x="270" y="370"/>
                    <a:pt x="297" y="361"/>
                    <a:pt x="300" y="361"/>
                  </a:cubicBezTo>
                  <a:cubicBezTo>
                    <a:pt x="304" y="362"/>
                    <a:pt x="300" y="365"/>
                    <a:pt x="301" y="367"/>
                  </a:cubicBezTo>
                  <a:cubicBezTo>
                    <a:pt x="308" y="370"/>
                    <a:pt x="310" y="359"/>
                    <a:pt x="317" y="361"/>
                  </a:cubicBezTo>
                  <a:cubicBezTo>
                    <a:pt x="328" y="364"/>
                    <a:pt x="339" y="370"/>
                    <a:pt x="352" y="363"/>
                  </a:cubicBezTo>
                  <a:cubicBezTo>
                    <a:pt x="360" y="360"/>
                    <a:pt x="376" y="360"/>
                    <a:pt x="376" y="363"/>
                  </a:cubicBezTo>
                  <a:cubicBezTo>
                    <a:pt x="376" y="365"/>
                    <a:pt x="372" y="367"/>
                    <a:pt x="371" y="368"/>
                  </a:cubicBezTo>
                  <a:cubicBezTo>
                    <a:pt x="379" y="373"/>
                    <a:pt x="388" y="377"/>
                    <a:pt x="395" y="383"/>
                  </a:cubicBezTo>
                  <a:cubicBezTo>
                    <a:pt x="406" y="387"/>
                    <a:pt x="406" y="387"/>
                    <a:pt x="406" y="387"/>
                  </a:cubicBezTo>
                  <a:cubicBezTo>
                    <a:pt x="417" y="383"/>
                    <a:pt x="429" y="390"/>
                    <a:pt x="440" y="395"/>
                  </a:cubicBezTo>
                  <a:cubicBezTo>
                    <a:pt x="448" y="400"/>
                    <a:pt x="456" y="411"/>
                    <a:pt x="452" y="422"/>
                  </a:cubicBezTo>
                  <a:cubicBezTo>
                    <a:pt x="453" y="418"/>
                    <a:pt x="458" y="419"/>
                    <a:pt x="458" y="419"/>
                  </a:cubicBezTo>
                  <a:cubicBezTo>
                    <a:pt x="458" y="419"/>
                    <a:pt x="474" y="422"/>
                    <a:pt x="483" y="423"/>
                  </a:cubicBezTo>
                  <a:cubicBezTo>
                    <a:pt x="488" y="424"/>
                    <a:pt x="486" y="427"/>
                    <a:pt x="487" y="429"/>
                  </a:cubicBezTo>
                  <a:cubicBezTo>
                    <a:pt x="495" y="433"/>
                    <a:pt x="505" y="425"/>
                    <a:pt x="514" y="428"/>
                  </a:cubicBezTo>
                  <a:cubicBezTo>
                    <a:pt x="516" y="428"/>
                    <a:pt x="520" y="429"/>
                    <a:pt x="524" y="430"/>
                  </a:cubicBezTo>
                  <a:cubicBezTo>
                    <a:pt x="527" y="431"/>
                    <a:pt x="530" y="432"/>
                    <a:pt x="530" y="432"/>
                  </a:cubicBezTo>
                  <a:cubicBezTo>
                    <a:pt x="536" y="432"/>
                    <a:pt x="536" y="432"/>
                    <a:pt x="536" y="432"/>
                  </a:cubicBezTo>
                  <a:cubicBezTo>
                    <a:pt x="543" y="443"/>
                    <a:pt x="543" y="443"/>
                    <a:pt x="543" y="443"/>
                  </a:cubicBezTo>
                  <a:cubicBezTo>
                    <a:pt x="538" y="461"/>
                    <a:pt x="538" y="461"/>
                    <a:pt x="538" y="461"/>
                  </a:cubicBezTo>
                  <a:cubicBezTo>
                    <a:pt x="528" y="479"/>
                    <a:pt x="528" y="479"/>
                    <a:pt x="528" y="479"/>
                  </a:cubicBezTo>
                  <a:cubicBezTo>
                    <a:pt x="528" y="479"/>
                    <a:pt x="519" y="484"/>
                    <a:pt x="519" y="490"/>
                  </a:cubicBezTo>
                  <a:cubicBezTo>
                    <a:pt x="520" y="496"/>
                    <a:pt x="521" y="500"/>
                    <a:pt x="520" y="505"/>
                  </a:cubicBezTo>
                  <a:cubicBezTo>
                    <a:pt x="519" y="509"/>
                    <a:pt x="511" y="524"/>
                    <a:pt x="511" y="524"/>
                  </a:cubicBezTo>
                  <a:cubicBezTo>
                    <a:pt x="503" y="539"/>
                    <a:pt x="503" y="539"/>
                    <a:pt x="503" y="539"/>
                  </a:cubicBezTo>
                  <a:cubicBezTo>
                    <a:pt x="503" y="539"/>
                    <a:pt x="500" y="544"/>
                    <a:pt x="497" y="549"/>
                  </a:cubicBezTo>
                  <a:cubicBezTo>
                    <a:pt x="494" y="554"/>
                    <a:pt x="487" y="548"/>
                    <a:pt x="485" y="554"/>
                  </a:cubicBezTo>
                  <a:cubicBezTo>
                    <a:pt x="483" y="560"/>
                    <a:pt x="477" y="560"/>
                    <a:pt x="477" y="560"/>
                  </a:cubicBezTo>
                  <a:cubicBezTo>
                    <a:pt x="467" y="567"/>
                    <a:pt x="467" y="567"/>
                    <a:pt x="467" y="567"/>
                  </a:cubicBezTo>
                  <a:cubicBezTo>
                    <a:pt x="467" y="567"/>
                    <a:pt x="457" y="569"/>
                    <a:pt x="459" y="574"/>
                  </a:cubicBezTo>
                  <a:cubicBezTo>
                    <a:pt x="460" y="579"/>
                    <a:pt x="454" y="587"/>
                    <a:pt x="454" y="587"/>
                  </a:cubicBezTo>
                  <a:cubicBezTo>
                    <a:pt x="439" y="605"/>
                    <a:pt x="439" y="605"/>
                    <a:pt x="439" y="605"/>
                  </a:cubicBezTo>
                  <a:cubicBezTo>
                    <a:pt x="426" y="618"/>
                    <a:pt x="426" y="618"/>
                    <a:pt x="426" y="618"/>
                  </a:cubicBezTo>
                  <a:cubicBezTo>
                    <a:pt x="413" y="628"/>
                    <a:pt x="413" y="628"/>
                    <a:pt x="413" y="628"/>
                  </a:cubicBezTo>
                  <a:cubicBezTo>
                    <a:pt x="413" y="628"/>
                    <a:pt x="407" y="627"/>
                    <a:pt x="402" y="626"/>
                  </a:cubicBezTo>
                  <a:cubicBezTo>
                    <a:pt x="396" y="625"/>
                    <a:pt x="391" y="625"/>
                    <a:pt x="394" y="627"/>
                  </a:cubicBezTo>
                  <a:cubicBezTo>
                    <a:pt x="399" y="631"/>
                    <a:pt x="400" y="630"/>
                    <a:pt x="399" y="631"/>
                  </a:cubicBezTo>
                  <a:cubicBezTo>
                    <a:pt x="398" y="632"/>
                    <a:pt x="399" y="637"/>
                    <a:pt x="399" y="637"/>
                  </a:cubicBezTo>
                  <a:cubicBezTo>
                    <a:pt x="395" y="645"/>
                    <a:pt x="395" y="645"/>
                    <a:pt x="395" y="645"/>
                  </a:cubicBezTo>
                  <a:cubicBezTo>
                    <a:pt x="389" y="653"/>
                    <a:pt x="373" y="650"/>
                    <a:pt x="371" y="655"/>
                  </a:cubicBezTo>
                  <a:cubicBezTo>
                    <a:pt x="365" y="665"/>
                    <a:pt x="351" y="660"/>
                    <a:pt x="350" y="665"/>
                  </a:cubicBezTo>
                  <a:cubicBezTo>
                    <a:pt x="350" y="669"/>
                    <a:pt x="349" y="681"/>
                    <a:pt x="342" y="685"/>
                  </a:cubicBezTo>
                  <a:cubicBezTo>
                    <a:pt x="343" y="688"/>
                    <a:pt x="348" y="688"/>
                    <a:pt x="349" y="690"/>
                  </a:cubicBezTo>
                  <a:cubicBezTo>
                    <a:pt x="349" y="692"/>
                    <a:pt x="333" y="693"/>
                    <a:pt x="328" y="700"/>
                  </a:cubicBezTo>
                  <a:cubicBezTo>
                    <a:pt x="334" y="704"/>
                    <a:pt x="342" y="701"/>
                    <a:pt x="346" y="706"/>
                  </a:cubicBezTo>
                  <a:cubicBezTo>
                    <a:pt x="351" y="712"/>
                    <a:pt x="317" y="715"/>
                    <a:pt x="309" y="706"/>
                  </a:cubicBezTo>
                  <a:cubicBezTo>
                    <a:pt x="294" y="687"/>
                    <a:pt x="302" y="660"/>
                    <a:pt x="316" y="638"/>
                  </a:cubicBezTo>
                  <a:cubicBezTo>
                    <a:pt x="321" y="633"/>
                    <a:pt x="316" y="622"/>
                    <a:pt x="317" y="614"/>
                  </a:cubicBezTo>
                  <a:cubicBezTo>
                    <a:pt x="317" y="614"/>
                    <a:pt x="318" y="608"/>
                    <a:pt x="319" y="602"/>
                  </a:cubicBezTo>
                  <a:cubicBezTo>
                    <a:pt x="317" y="585"/>
                    <a:pt x="334" y="556"/>
                    <a:pt x="308" y="552"/>
                  </a:cubicBezTo>
                  <a:cubicBezTo>
                    <a:pt x="301" y="549"/>
                    <a:pt x="294" y="546"/>
                    <a:pt x="294" y="546"/>
                  </a:cubicBezTo>
                  <a:cubicBezTo>
                    <a:pt x="275" y="534"/>
                    <a:pt x="275" y="534"/>
                    <a:pt x="275" y="534"/>
                  </a:cubicBezTo>
                  <a:cubicBezTo>
                    <a:pt x="275" y="534"/>
                    <a:pt x="274" y="530"/>
                    <a:pt x="272" y="526"/>
                  </a:cubicBezTo>
                  <a:cubicBezTo>
                    <a:pt x="259" y="510"/>
                    <a:pt x="234" y="483"/>
                    <a:pt x="234" y="480"/>
                  </a:cubicBezTo>
                  <a:cubicBezTo>
                    <a:pt x="234" y="477"/>
                    <a:pt x="249" y="473"/>
                    <a:pt x="245" y="467"/>
                  </a:cubicBezTo>
                  <a:cubicBezTo>
                    <a:pt x="243" y="464"/>
                    <a:pt x="236" y="464"/>
                    <a:pt x="237" y="458"/>
                  </a:cubicBezTo>
                  <a:cubicBezTo>
                    <a:pt x="240" y="447"/>
                    <a:pt x="248" y="441"/>
                    <a:pt x="256" y="434"/>
                  </a:cubicBezTo>
                  <a:cubicBezTo>
                    <a:pt x="264" y="428"/>
                    <a:pt x="256" y="419"/>
                    <a:pt x="259" y="412"/>
                  </a:cubicBezTo>
                  <a:cubicBezTo>
                    <a:pt x="259" y="407"/>
                    <a:pt x="258" y="402"/>
                    <a:pt x="257" y="401"/>
                  </a:cubicBezTo>
                  <a:cubicBezTo>
                    <a:pt x="254" y="399"/>
                    <a:pt x="250" y="393"/>
                    <a:pt x="250" y="393"/>
                  </a:cubicBezTo>
                  <a:cubicBezTo>
                    <a:pt x="250" y="393"/>
                    <a:pt x="248" y="390"/>
                    <a:pt x="244" y="390"/>
                  </a:cubicBezTo>
                  <a:close/>
                </a:path>
              </a:pathLst>
            </a:custGeom>
            <a:gradFill rotWithShape="0">
              <a:gsLst>
                <a:gs pos="0">
                  <a:srgbClr val="d09500"/>
                </a:gs>
                <a:gs pos="100000">
                  <a:srgbClr val="4b3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4642200" y="2423160"/>
              <a:ext cx="560520" cy="2566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81" h="83">
                  <a:moveTo>
                    <a:pt x="75" y="25"/>
                  </a:moveTo>
                  <a:cubicBezTo>
                    <a:pt x="89" y="24"/>
                    <a:pt x="89" y="24"/>
                    <a:pt x="89" y="24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26" y="54"/>
                    <a:pt x="126" y="54"/>
                    <a:pt x="126" y="54"/>
                  </a:cubicBezTo>
                  <a:cubicBezTo>
                    <a:pt x="126" y="54"/>
                    <a:pt x="147" y="78"/>
                    <a:pt x="152" y="77"/>
                  </a:cubicBezTo>
                  <a:cubicBezTo>
                    <a:pt x="158" y="77"/>
                    <a:pt x="174" y="83"/>
                    <a:pt x="177" y="76"/>
                  </a:cubicBezTo>
                  <a:cubicBezTo>
                    <a:pt x="181" y="69"/>
                    <a:pt x="171" y="61"/>
                    <a:pt x="172" y="51"/>
                  </a:cubicBezTo>
                  <a:cubicBezTo>
                    <a:pt x="174" y="42"/>
                    <a:pt x="177" y="35"/>
                    <a:pt x="177" y="29"/>
                  </a:cubicBezTo>
                  <a:cubicBezTo>
                    <a:pt x="177" y="24"/>
                    <a:pt x="156" y="11"/>
                    <a:pt x="156" y="11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67" y="5"/>
                    <a:pt x="67" y="5"/>
                    <a:pt x="67" y="5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49" y="34"/>
                    <a:pt x="54" y="27"/>
                  </a:cubicBezTo>
                  <a:cubicBezTo>
                    <a:pt x="58" y="20"/>
                    <a:pt x="75" y="25"/>
                    <a:pt x="75" y="25"/>
                  </a:cubicBezTo>
                  <a:close/>
                </a:path>
              </a:pathLst>
            </a:custGeom>
            <a:solidFill>
              <a:srgbClr val="d0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1"/>
            <p:cNvSpPr/>
            <p:nvPr/>
          </p:nvSpPr>
          <p:spPr>
            <a:xfrm>
              <a:off x="5247360" y="2404440"/>
              <a:ext cx="927000" cy="111024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110240"/>
                <a:gd name="textAreaBottom" fmla="*/ 1110240 h 1110240"/>
              </a:gdLst>
              <a:ahLst/>
              <a:rect l="textAreaLeft" t="textAreaTop" r="textAreaRight" b="textAreaBottom"/>
              <a:pathLst>
                <a:path w="299" h="358">
                  <a:moveTo>
                    <a:pt x="299" y="327"/>
                  </a:moveTo>
                  <a:cubicBezTo>
                    <a:pt x="293" y="321"/>
                    <a:pt x="293" y="321"/>
                    <a:pt x="293" y="321"/>
                  </a:cubicBezTo>
                  <a:cubicBezTo>
                    <a:pt x="284" y="332"/>
                    <a:pt x="282" y="358"/>
                    <a:pt x="274" y="354"/>
                  </a:cubicBezTo>
                  <a:cubicBezTo>
                    <a:pt x="228" y="333"/>
                    <a:pt x="209" y="282"/>
                    <a:pt x="202" y="232"/>
                  </a:cubicBezTo>
                  <a:cubicBezTo>
                    <a:pt x="201" y="227"/>
                    <a:pt x="201" y="224"/>
                    <a:pt x="201" y="220"/>
                  </a:cubicBezTo>
                  <a:cubicBezTo>
                    <a:pt x="201" y="217"/>
                    <a:pt x="201" y="214"/>
                    <a:pt x="201" y="211"/>
                  </a:cubicBezTo>
                  <a:cubicBezTo>
                    <a:pt x="201" y="185"/>
                    <a:pt x="193" y="150"/>
                    <a:pt x="161" y="149"/>
                  </a:cubicBezTo>
                  <a:cubicBezTo>
                    <a:pt x="158" y="149"/>
                    <a:pt x="157" y="144"/>
                    <a:pt x="156" y="140"/>
                  </a:cubicBezTo>
                  <a:cubicBezTo>
                    <a:pt x="155" y="128"/>
                    <a:pt x="154" y="113"/>
                    <a:pt x="140" y="109"/>
                  </a:cubicBezTo>
                  <a:cubicBezTo>
                    <a:pt x="137" y="107"/>
                    <a:pt x="134" y="105"/>
                    <a:pt x="133" y="102"/>
                  </a:cubicBezTo>
                  <a:cubicBezTo>
                    <a:pt x="124" y="77"/>
                    <a:pt x="111" y="57"/>
                    <a:pt x="95" y="39"/>
                  </a:cubicBezTo>
                  <a:cubicBezTo>
                    <a:pt x="92" y="35"/>
                    <a:pt x="89" y="33"/>
                    <a:pt x="86" y="30"/>
                  </a:cubicBezTo>
                  <a:cubicBezTo>
                    <a:pt x="83" y="27"/>
                    <a:pt x="73" y="27"/>
                    <a:pt x="73" y="27"/>
                  </a:cubicBezTo>
                  <a:cubicBezTo>
                    <a:pt x="73" y="27"/>
                    <a:pt x="80" y="48"/>
                    <a:pt x="75" y="48"/>
                  </a:cubicBezTo>
                  <a:cubicBezTo>
                    <a:pt x="70" y="49"/>
                    <a:pt x="31" y="23"/>
                    <a:pt x="12" y="8"/>
                  </a:cubicBezTo>
                  <a:cubicBezTo>
                    <a:pt x="6" y="4"/>
                    <a:pt x="0" y="0"/>
                    <a:pt x="0" y="0"/>
                  </a:cubicBezTo>
                  <a:cubicBezTo>
                    <a:pt x="0" y="0"/>
                    <a:pt x="3" y="1"/>
                    <a:pt x="8" y="2"/>
                  </a:cubicBezTo>
                  <a:cubicBezTo>
                    <a:pt x="10" y="3"/>
                    <a:pt x="12" y="4"/>
                    <a:pt x="15" y="4"/>
                  </a:cubicBezTo>
                  <a:cubicBezTo>
                    <a:pt x="38" y="10"/>
                    <a:pt x="59" y="17"/>
                    <a:pt x="80" y="27"/>
                  </a:cubicBezTo>
                  <a:cubicBezTo>
                    <a:pt x="85" y="29"/>
                    <a:pt x="89" y="31"/>
                    <a:pt x="93" y="33"/>
                  </a:cubicBezTo>
                  <a:cubicBezTo>
                    <a:pt x="115" y="44"/>
                    <a:pt x="134" y="61"/>
                    <a:pt x="154" y="75"/>
                  </a:cubicBezTo>
                  <a:cubicBezTo>
                    <a:pt x="157" y="78"/>
                    <a:pt x="160" y="80"/>
                    <a:pt x="164" y="82"/>
                  </a:cubicBezTo>
                  <a:cubicBezTo>
                    <a:pt x="167" y="84"/>
                    <a:pt x="173" y="88"/>
                    <a:pt x="173" y="89"/>
                  </a:cubicBezTo>
                  <a:cubicBezTo>
                    <a:pt x="165" y="111"/>
                    <a:pt x="184" y="128"/>
                    <a:pt x="196" y="143"/>
                  </a:cubicBezTo>
                  <a:cubicBezTo>
                    <a:pt x="204" y="150"/>
                    <a:pt x="198" y="132"/>
                    <a:pt x="206" y="134"/>
                  </a:cubicBezTo>
                  <a:cubicBezTo>
                    <a:pt x="228" y="137"/>
                    <a:pt x="236" y="159"/>
                    <a:pt x="247" y="177"/>
                  </a:cubicBezTo>
                  <a:cubicBezTo>
                    <a:pt x="249" y="181"/>
                    <a:pt x="252" y="186"/>
                    <a:pt x="254" y="190"/>
                  </a:cubicBezTo>
                  <a:cubicBezTo>
                    <a:pt x="257" y="195"/>
                    <a:pt x="259" y="199"/>
                    <a:pt x="261" y="203"/>
                  </a:cubicBezTo>
                  <a:cubicBezTo>
                    <a:pt x="266" y="212"/>
                    <a:pt x="269" y="219"/>
                    <a:pt x="272" y="224"/>
                  </a:cubicBezTo>
                  <a:cubicBezTo>
                    <a:pt x="273" y="227"/>
                    <a:pt x="274" y="230"/>
                    <a:pt x="275" y="233"/>
                  </a:cubicBezTo>
                  <a:cubicBezTo>
                    <a:pt x="285" y="261"/>
                    <a:pt x="287" y="266"/>
                    <a:pt x="291" y="280"/>
                  </a:cubicBezTo>
                  <a:cubicBezTo>
                    <a:pt x="295" y="294"/>
                    <a:pt x="299" y="327"/>
                    <a:pt x="299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88300"/>
                </a:gs>
                <a:gs pos="100000">
                  <a:srgbClr val="b88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3"/>
          <p:cNvGrpSpPr/>
          <p:nvPr/>
        </p:nvGrpSpPr>
        <p:grpSpPr>
          <a:xfrm>
            <a:off x="2556000" y="1243080"/>
            <a:ext cx="4680000" cy="4591080"/>
            <a:chOff x="2556000" y="1243080"/>
            <a:chExt cx="4680000" cy="4591080"/>
          </a:xfrm>
        </p:grpSpPr>
        <p:grpSp>
          <p:nvGrpSpPr>
            <p:cNvPr id="392" name="Freeform 12"/>
            <p:cNvGrpSpPr/>
            <p:nvPr/>
          </p:nvGrpSpPr>
          <p:grpSpPr>
            <a:xfrm>
              <a:off x="2938320" y="1243080"/>
              <a:ext cx="2426040" cy="2018160"/>
              <a:chOff x="2938320" y="1243080"/>
              <a:chExt cx="2426040" cy="2018160"/>
            </a:xfrm>
          </p:grpSpPr>
          <p:pic>
            <p:nvPicPr>
              <p:cNvPr id="393" name="Freefor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939400" y="1243440"/>
                <a:ext cx="2423520" cy="20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2938320" y="1243080"/>
                <a:ext cx="2426040" cy="20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Freeform 13"/>
            <p:cNvSpPr/>
            <p:nvPr/>
          </p:nvSpPr>
          <p:spPr>
            <a:xfrm>
              <a:off x="2556000" y="3115800"/>
              <a:ext cx="2025720" cy="24418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2441880"/>
                <a:gd name="textAreaBottom" fmla="*/ 2442240 h 2441880"/>
              </a:gdLst>
              <a:ahLst/>
              <a:rect l="textAreaLeft" t="textAreaTop" r="textAreaRight" b="textAreaBottom"/>
              <a:pathLst>
                <a:path w="1984" h="2393">
                  <a:moveTo>
                    <a:pt x="1032" y="529"/>
                  </a:moveTo>
                  <a:lnTo>
                    <a:pt x="1243" y="529"/>
                  </a:lnTo>
                  <a:lnTo>
                    <a:pt x="652" y="0"/>
                  </a:lnTo>
                  <a:lnTo>
                    <a:pt x="0" y="529"/>
                  </a:lnTo>
                  <a:lnTo>
                    <a:pt x="338" y="529"/>
                  </a:lnTo>
                  <a:cubicBezTo>
                    <a:pt x="356" y="1042"/>
                    <a:pt x="548" y="1481"/>
                    <a:pt x="917" y="1850"/>
                  </a:cubicBezTo>
                  <a:cubicBezTo>
                    <a:pt x="1205" y="2137"/>
                    <a:pt x="1538" y="2319"/>
                    <a:pt x="1914" y="2393"/>
                  </a:cubicBezTo>
                  <a:lnTo>
                    <a:pt x="1691" y="2079"/>
                  </a:lnTo>
                  <a:lnTo>
                    <a:pt x="1984" y="1709"/>
                  </a:lnTo>
                  <a:lnTo>
                    <a:pt x="1974" y="1702"/>
                  </a:lnTo>
                  <a:cubicBezTo>
                    <a:pt x="1762" y="1645"/>
                    <a:pt x="1573" y="1534"/>
                    <a:pt x="1407" y="1368"/>
                  </a:cubicBezTo>
                  <a:cubicBezTo>
                    <a:pt x="1173" y="1134"/>
                    <a:pt x="1048" y="855"/>
                    <a:pt x="1032" y="5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Freeform 14"/>
            <p:cNvGrpSpPr/>
            <p:nvPr/>
          </p:nvGrpSpPr>
          <p:grpSpPr>
            <a:xfrm>
              <a:off x="5261040" y="1584360"/>
              <a:ext cx="1974960" cy="2499840"/>
              <a:chOff x="5261040" y="1584360"/>
              <a:chExt cx="1974960" cy="2499840"/>
            </a:xfrm>
          </p:grpSpPr>
          <p:pic>
            <p:nvPicPr>
              <p:cNvPr id="397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61040" y="1584720"/>
                <a:ext cx="1974960" cy="24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5261040" y="1584360"/>
                <a:ext cx="1974960" cy="24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Freeform 15"/>
            <p:cNvSpPr/>
            <p:nvPr/>
          </p:nvSpPr>
          <p:spPr>
            <a:xfrm>
              <a:off x="4462560" y="3922560"/>
              <a:ext cx="2425680" cy="191160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2376" h="1873">
                  <a:moveTo>
                    <a:pt x="2069" y="344"/>
                  </a:moveTo>
                  <a:lnTo>
                    <a:pt x="2050" y="353"/>
                  </a:lnTo>
                  <a:lnTo>
                    <a:pt x="1697" y="0"/>
                  </a:lnTo>
                  <a:cubicBezTo>
                    <a:pt x="1642" y="217"/>
                    <a:pt x="1529" y="409"/>
                    <a:pt x="1360" y="578"/>
                  </a:cubicBezTo>
                  <a:cubicBezTo>
                    <a:pt x="1108" y="831"/>
                    <a:pt x="804" y="956"/>
                    <a:pt x="450" y="956"/>
                  </a:cubicBezTo>
                  <a:cubicBezTo>
                    <a:pt x="434" y="956"/>
                    <a:pt x="420" y="956"/>
                    <a:pt x="406" y="954"/>
                  </a:cubicBezTo>
                  <a:lnTo>
                    <a:pt x="406" y="804"/>
                  </a:lnTo>
                  <a:lnTo>
                    <a:pt x="388" y="804"/>
                  </a:lnTo>
                  <a:lnTo>
                    <a:pt x="0" y="1312"/>
                  </a:lnTo>
                  <a:lnTo>
                    <a:pt x="406" y="1873"/>
                  </a:lnTo>
                  <a:lnTo>
                    <a:pt x="406" y="1640"/>
                  </a:lnTo>
                  <a:cubicBezTo>
                    <a:pt x="414" y="1640"/>
                    <a:pt x="425" y="1640"/>
                    <a:pt x="436" y="1640"/>
                  </a:cubicBezTo>
                  <a:lnTo>
                    <a:pt x="451" y="1640"/>
                  </a:lnTo>
                  <a:cubicBezTo>
                    <a:pt x="1000" y="1640"/>
                    <a:pt x="1468" y="1446"/>
                    <a:pt x="1854" y="1060"/>
                  </a:cubicBezTo>
                  <a:cubicBezTo>
                    <a:pt x="2118" y="795"/>
                    <a:pt x="2293" y="494"/>
                    <a:pt x="2376" y="155"/>
                  </a:cubicBezTo>
                  <a:lnTo>
                    <a:pt x="2069" y="344"/>
                  </a:lnTo>
                  <a:close/>
                </a:path>
              </a:pathLst>
            </a:custGeom>
            <a:gradFill rotWithShape="0">
              <a:gsLst>
                <a:gs pos="0">
                  <a:srgbClr val="d09500">
                    <a:alpha val="50196"/>
                  </a:srgbClr>
                </a:gs>
                <a:gs pos="100000">
                  <a:srgbClr val="d09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Oval 16"/>
          <p:cNvSpPr/>
          <p:nvPr/>
        </p:nvSpPr>
        <p:spPr>
          <a:xfrm>
            <a:off x="2987640" y="5867280"/>
            <a:ext cx="3672000" cy="419400"/>
          </a:xfrm>
          <a:prstGeom prst="ellipse">
            <a:avLst/>
          </a:prstGeom>
          <a:gradFill rotWithShape="0">
            <a:gsLst>
              <a:gs pos="0">
                <a:srgbClr val="0070c0">
                  <a:alpha val="70196"/>
                </a:srgbClr>
              </a:gs>
              <a:gs pos="100000">
                <a:srgbClr val="0070c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D83DB-D2C1-4947-BFCE-5B174FE06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3" descr=""/>
          <p:cNvPicPr/>
          <p:nvPr/>
        </p:nvPicPr>
        <p:blipFill>
          <a:blip r:embed="rId1"/>
          <a:stretch/>
        </p:blipFill>
        <p:spPr>
          <a:xfrm>
            <a:off x="3687840" y="2895480"/>
            <a:ext cx="17683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3:23:30Z</dcterms:created>
  <dc:creator>张友坤</dc:creator>
  <dc:description/>
  <dc:language>en-US</dc:language>
  <cp:lastModifiedBy>lenovo</cp:lastModifiedBy>
  <dcterms:modified xsi:type="dcterms:W3CDTF">2015-07-20T12:18:34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