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56818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4508280"/>
            <a:ext cx="8207280" cy="445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56818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324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54687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324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56818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4508280"/>
            <a:ext cx="8207280" cy="445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56818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54687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56818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2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060560"/>
            <a:ext cx="9144000" cy="171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c000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a0004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E4AADC9-2305-4DF1-AF0D-A0D5D30EBD5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使用规范说明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22840"/>
            <a:ext cx="9144000" cy="30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33920"/>
            <a:ext cx="9144000" cy="12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68360" y="546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6640" y="1125360"/>
            <a:ext cx="3400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华丽动态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91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92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01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683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5877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3a0004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0:32Z</dcterms:modified>
  <cp:revision>3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