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268C-E3BF-49A4-BD2D-8DF897FB1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820728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96640"/>
            <a:ext cx="820728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019B-5811-4D74-86EF-A650C68C3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4681-E368-4DED-B06E-15B6257A9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2812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2812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966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966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966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3C9E-AA0D-43EC-968D-1D133BB31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281240"/>
            <a:ext cx="820728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820728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322360" y="317520"/>
            <a:ext cx="560736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281240"/>
            <a:ext cx="820728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102E3-5E81-426F-9A2E-B7A3A74ED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896640"/>
            <a:ext cx="820728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820728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896640"/>
            <a:ext cx="820728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2812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2812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8966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8966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896640"/>
            <a:ext cx="26424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820728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FC47-F799-4308-B7F7-6E37EA493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96AB-AF08-4D62-9719-BA34C5EB2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7B08-6832-48A7-87D8-9B8095086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22360" y="317520"/>
            <a:ext cx="560736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8757-E0E6-4E59-80FF-9BD43992E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1A0B-DB40-4253-B6EA-CACD174C5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966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7D40-63AA-491A-9A75-428E0C8F3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22360" y="297720"/>
            <a:ext cx="560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281240"/>
            <a:ext cx="400500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96640"/>
            <a:ext cx="8207280" cy="23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66E7-4119-4E85-ABE9-FD96821D9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5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81240"/>
            <a:ext cx="820728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E3FD549-F545-40D3-BE65-C28B0CBB1A4D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322360" y="317520"/>
            <a:ext cx="56073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6" descr="xw"/>
          <p:cNvPicPr/>
          <p:nvPr/>
        </p:nvPicPr>
        <p:blipFill>
          <a:blip r:embed="rId3"/>
          <a:stretch/>
        </p:blipFill>
        <p:spPr>
          <a:xfrm>
            <a:off x="468360" y="406440"/>
            <a:ext cx="180180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4" descr="bg3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68360" y="1281240"/>
            <a:ext cx="820728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322360" y="317520"/>
            <a:ext cx="56073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21272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33744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提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1" descr="xw"/>
          <p:cNvPicPr/>
          <p:nvPr/>
        </p:nvPicPr>
        <p:blipFill>
          <a:blip r:embed="rId1"/>
          <a:stretch/>
        </p:blipFill>
        <p:spPr>
          <a:xfrm>
            <a:off x="468360" y="406440"/>
            <a:ext cx="1801800" cy="41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552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22360" y="317520"/>
            <a:ext cx="56073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281240"/>
            <a:ext cx="820728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括标题和文本格式（包括字体，字体大小，对齐方式等）的设置在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EBAD-31D0-4DC2-96EA-59EF4A6D19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6D973B9C-6C45-4E4E-8C63-3A72F9788EE8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bg1"/>
          <p:cNvPicPr/>
          <p:nvPr/>
        </p:nvPicPr>
        <p:blipFill>
          <a:blip r:embed="rId1"/>
          <a:stretch/>
        </p:blipFill>
        <p:spPr>
          <a:xfrm>
            <a:off x="-14400" y="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468360" y="4983120"/>
            <a:ext cx="820728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xw"/>
          <p:cNvPicPr/>
          <p:nvPr/>
        </p:nvPicPr>
        <p:blipFill>
          <a:blip r:embed="rId2"/>
          <a:stretch/>
        </p:blipFill>
        <p:spPr>
          <a:xfrm>
            <a:off x="468360" y="406440"/>
            <a:ext cx="1801800" cy="41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9T03:01:55Z</dcterms:modified>
  <cp:revision>16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