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C644-7F98-487B-A4F5-BB340114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5E14-671B-405F-BA9B-12A921B9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D17E-5352-4FBC-99F1-9DB8592B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B980-AB4F-4A39-8D7D-2D811EE1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F27A-4918-4C21-B742-E4B63399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02BA-47AB-4B14-8C60-B60DD801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B502-AC64-475B-BC45-CBB2456D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24F6-E362-42B6-AF7D-8EFADBDC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A59B-6A59-45F6-88D4-2832DB20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666520" y="609480"/>
            <a:ext cx="6248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6634-8BCC-41EA-8D38-1648ED69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1511-381F-40A9-83E3-87FC47EB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96B3-EC89-4B63-8812-20A1ADC5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BF03-3CBB-4ACB-AC67-F1BE55E5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2B7A-1F5A-4D2D-BFE6-0A96D3D9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16ED-EA34-4E12-9948-C3273798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B272-F9B7-4F50-9A2E-2949D6A0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9EDC-C737-4C24-AEA3-0D19E2F3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F152-54D2-49A4-936D-F7544C00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B249-5AF6-4296-94A7-E89159C6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F832-2889-4B72-A2FC-DC678D99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6520" y="609480"/>
            <a:ext cx="6248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2305-E27E-49E8-AD55-EAF98F40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D827-411A-48B8-B893-053EBBED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0D0D-F445-44E6-AE66-D1E16814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6520" y="55512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B7BB-59F7-4597-B880-95E1CBD7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audio" Target="file:///tmp/home/.config/libreoffice/4/user/gallery/Ir_begin.wav" TargetMode="External"/><Relationship Id="rId4" Type="http://schemas.microsoft.com/office/2007/relationships/media" Target="file:///tmp/home/.config/libreoffice/4/user/gallery/Ir_begin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audio" Target="file:///tmp/home/.config/libreoffice/4/user/gallery/Ir_end.wav" TargetMode="External"/><Relationship Id="rId3" Type="http://schemas.microsoft.com/office/2007/relationships/media" Target="file:///tmp/home/.config/libreoffice/4/user/gallery/Ir_end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209680"/>
            <a:ext cx="9144000" cy="4648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666520" y="6094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1" marL="616680" indent="-237240">
              <a:spcBef>
                <a:spcPts val="901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2" marL="948600" indent="-189720">
              <a:spcBef>
                <a:spcPts val="9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3" marL="1328040" indent="-189720">
              <a:spcBef>
                <a:spcPts val="901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4" marL="1707480" indent="-189720">
              <a:spcBef>
                <a:spcPts val="901"/>
              </a:spcBef>
              <a:buClr>
                <a:srgbClr val="b2b2b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5" marL="1707480" indent="-1897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6" marL="1707480" indent="-1897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4C97-139E-4D74-9BA4-D145B2846E75}" type="slidenum"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04920" y="304920"/>
            <a:ext cx="1790640" cy="1790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flipH="1">
            <a:off x="2362320" y="1219320"/>
            <a:ext cx="6781680" cy="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4724280"/>
            <a:ext cx="9144000" cy="2127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623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8267-5A42-41E6-BC5C-555EA239F0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2286000"/>
            <a:ext cx="1790640" cy="1790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3200400"/>
            <a:ext cx="7086600" cy="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1" marL="397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2" marL="795240" algn="ctr">
              <a:spcBef>
                <a:spcPts val="901"/>
              </a:spcBef>
              <a:buClr>
                <a:srgbClr val="b2b2b2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3" marL="1193040" algn="ctr">
              <a:spcBef>
                <a:spcPts val="901"/>
              </a:spcBef>
              <a:buClr>
                <a:srgbClr val="b2b2b2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4" marL="1590840" algn="ctr">
              <a:spcBef>
                <a:spcPts val="901"/>
              </a:spcBef>
              <a:buClr>
                <a:srgbClr val="b2b2b2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5" marL="15908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6" marL="15908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eeppt.com/dongtai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3623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Targeting </a:t>
            </a:r>
            <a:endParaRPr b="0" lang="en-US" sz="48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3428640"/>
            <a:ext cx="6324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Title Master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2360" y="6219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64560" y="909720"/>
            <a:ext cx="3498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简单动态</a:t>
            </a:r>
            <a:r>
              <a:rPr b="0" lang="zh-CN" sz="45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66520" y="6094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Slide Master</a:t>
            </a: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Outline in PowerPoint with…</a:t>
            </a:r>
            <a:br>
              <a:rPr sz="3600"/>
            </a:b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Less that seven lines per slide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Less that seven words per line. 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1640" y="599436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ccff"/>
                </a:solidFill>
                <a:latin typeface="Times New Roman"/>
              </a:rPr>
              <a:t>使用规范说明</a:t>
            </a: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A1BF-DABF-4A7F-A5AF-55896611B2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66520" y="6094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On the PowerPoint menu go to: </a:t>
            </a: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-762120">
              <a:spcBef>
                <a:spcPts val="901"/>
              </a:spcBef>
              <a:buClr>
                <a:srgbClr val="b2b2b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Format/Apply Design Template 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marL="762120" indent="-762120">
              <a:spcBef>
                <a:spcPts val="901"/>
              </a:spcBef>
              <a:buClr>
                <a:srgbClr val="b2b2b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Browse to template folder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marL="762120" indent="-762120">
              <a:spcBef>
                <a:spcPts val="901"/>
              </a:spcBef>
              <a:buClr>
                <a:srgbClr val="b2b2b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Click ‘.pot’ file to preview design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marL="762120" indent="-762120">
              <a:spcBef>
                <a:spcPts val="901"/>
              </a:spcBef>
              <a:buClr>
                <a:srgbClr val="b2b2b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Double-click on your choice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marL="762120" indent="-762120">
              <a:spcBef>
                <a:spcPts val="901"/>
              </a:spcBef>
              <a:buClr>
                <a:srgbClr val="b2b2b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Template appears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2T17:40:26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12:54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