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6609-A1A6-4704-B4EE-B0EF9A9721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素材天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aitianxia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209-B0E8-4F37-B851-23DDD773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83739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640" y="3781080"/>
            <a:ext cx="83739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50F-43EF-4BCF-8715-EF03B818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4840" y="156672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3640" y="378108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4840" y="378108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9B9-1F2A-4BE9-B1FE-7BF4BB97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2696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5040" y="1566720"/>
            <a:ext cx="2696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6080" y="1566720"/>
            <a:ext cx="2696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3640" y="3781080"/>
            <a:ext cx="2696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5040" y="3781080"/>
            <a:ext cx="2696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6080" y="3781080"/>
            <a:ext cx="2696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943-80A5-4751-B395-7F91FE03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3640" y="1566720"/>
            <a:ext cx="83739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B5C-03D0-4372-B74F-DE8EAFED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83739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24F-A6C7-4FB9-8FBD-555993D7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4086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4840" y="1566720"/>
            <a:ext cx="4086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380-7B8E-4819-BEA0-B9C5EFBA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102-392D-4D83-87DB-F45E4ED4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487-E62A-4D32-83CB-8DD05020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4840" y="1566720"/>
            <a:ext cx="4086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3640" y="378108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D7C-2344-44EE-BFC2-5B8F4362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4086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4840" y="156672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4840" y="378108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477-87DE-4EAF-BE0A-AFC5CC91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4840" y="156672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3640" y="3781080"/>
            <a:ext cx="83739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8E0-5E97-4303-BA9A-944FB7BB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23640" y="1566720"/>
            <a:ext cx="83739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4B83-9829-426C-A627-4BB9BF853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002-1.png"/>
          <p:cNvPicPr/>
          <p:nvPr/>
        </p:nvPicPr>
        <p:blipFill>
          <a:blip r:embed="rId2"/>
          <a:stretch/>
        </p:blipFill>
        <p:spPr>
          <a:xfrm>
            <a:off x="1571760" y="-1284120"/>
            <a:ext cx="6491160" cy="43322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002-1.png"/>
          <p:cNvPicPr/>
          <p:nvPr/>
        </p:nvPicPr>
        <p:blipFill>
          <a:blip r:embed="rId3"/>
          <a:stretch/>
        </p:blipFill>
        <p:spPr>
          <a:xfrm>
            <a:off x="1428840" y="-1141560"/>
            <a:ext cx="6491160" cy="433260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1987920" y="67140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经典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风景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35 -0.16342 C 0.08542 -0.16342 0.11215 -0.06389 0.11233 0.05834 C 0.11215 0.18426 0.08542 0.28472 0.05035 0.28264 C 0.01528 0.28264 -0.01163 0.3831 -0.01163 0.50972 C -0.01163 0.63241 0.01528 0.73287 0.05035 0.73287 E">
                                      <p:cBhvr>
                                        <p:cTn id="6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87 -0.1669 C 0.0158 -0.1669 -0.01111 -0.06297 -0.01111 0.06527 C -0.01111 0.19606 0.0158 0.30092 0.05087 0.30162 C 0.08594 0.30162 0.11285 0.40578 0.11285 0.53726 C 0.11285 0.66504 0.08594 0.7699 0.05087 0.7706 E">
                                      <p:cBhvr>
                                        <p:cTn id="9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" descr="004-2.png"/>
          <p:cNvPicPr/>
          <p:nvPr/>
        </p:nvPicPr>
        <p:blipFill>
          <a:blip r:embed="rId2"/>
          <a:stretch/>
        </p:blipFill>
        <p:spPr>
          <a:xfrm>
            <a:off x="571680" y="-1855800"/>
            <a:ext cx="2428560" cy="24224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004-1.png"/>
          <p:cNvPicPr/>
          <p:nvPr/>
        </p:nvPicPr>
        <p:blipFill>
          <a:blip r:embed="rId3"/>
          <a:stretch/>
        </p:blipFill>
        <p:spPr>
          <a:xfrm>
            <a:off x="2143080" y="-4070520"/>
            <a:ext cx="46753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0.11389 C -0.08299 0.13403 -0.08698 0.20764 -0.06163 0.27755 C -0.03594 0.34954 0.00903 0.3919 0.0408 0.37222 C 0.07205 0.35185 0.11788 0.39514 0.14323 0.46621 C 0.16858 0.53681 0.16458 0.60949 0.13299 0.63056 E">
                                      <p:cBhvr>
                                        <p:cTn id="15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08 0.03194 C 0.06111 -0.03565 0.15486 -0.03264 0.24184 0.03518 C 0.3316 0.10509 0.38073 0.21458 0.35087 0.28287 C 0.31997 0.35023 0.36927 0.45972 0.45764 0.52917 C 0.54549 0.59629 0.64115 0.60116 0.67066 0.53217 E">
                                      <p:cBhvr>
                                        <p:cTn id="18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003-1.png"/>
          <p:cNvPicPr/>
          <p:nvPr/>
        </p:nvPicPr>
        <p:blipFill>
          <a:blip r:embed="rId2"/>
          <a:stretch/>
        </p:blipFill>
        <p:spPr>
          <a:xfrm>
            <a:off x="35712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" descr="003-3.png"/>
          <p:cNvPicPr/>
          <p:nvPr/>
        </p:nvPicPr>
        <p:blipFill>
          <a:blip r:embed="rId3"/>
          <a:stretch/>
        </p:blipFill>
        <p:spPr>
          <a:xfrm>
            <a:off x="9144000" y="3071880"/>
            <a:ext cx="1603440" cy="16034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003-4.png"/>
          <p:cNvPicPr/>
          <p:nvPr/>
        </p:nvPicPr>
        <p:blipFill>
          <a:blip r:embed="rId4"/>
          <a:stretch/>
        </p:blipFill>
        <p:spPr>
          <a:xfrm>
            <a:off x="-1244520" y="3571920"/>
            <a:ext cx="10317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61 -0.0706 C -0.12083 -0.1037 -0.14687 -0.13703 -0.16875 -0.13726 C -0.19062 -0.13773 -0.20139 -0.07685 -0.22552 -0.07291 C -0.24965 -0.06898 -0.28715 -0.11365 -0.31354 -0.11435 C -0.33993 -0.11504 -0.35538 -0.06527 -0.3842 -0.07754 C -0.41302 -0.08981 -0.45868 -0.18287 -0.48593 -0.18773 C -0.51319 -0.19259 -0.51996 -0.11388 -0.54809 -0.1074 C -0.57621 -0.10092 -0.62673 -0.16851 -0.65486 -0.14861 C -0.68298 -0.1287 -0.69323 -0.0118 -0.71701 0.01227 C -0.74079 0.03635 -0.79236 0.01598 -0.79809 -0.00393 C -0.80382 -0.02384 -0.75625 -0.0699 -0.75139 -0.1074 C -0.74652 -0.1449 -0.78767 -0.20972 -0.76875 -0.22916 C -0.74982 -0.24861 -0.66788 -0.20069 -0.63767 -0.22453 C -0.60746 -0.24837 -0.62014 -0.3625 -0.58767 -0.37175 C -0.5552 -0.38101 -0.45989 -0.31851 -0.44288 -0.27986 C -0.42586 -0.2412 -0.49809 -0.19282 -0.48593 -0.13958 C -0.47378 -0.08634 -0.36996 -0.00347 -0.37048 0.03982 C -0.371 0.08311 -0.45382 0.12315 -0.48941 0.12014 C -0.525 0.11713 -0.58142 0.05301 -0.5842 0.0213 C -0.58698 -0.01041 -0.53333 -0.07222 -0.50659 -0.0706 C -0.47986 -0.06898 -0.42569 0.00487 -0.42395 0.03056 C -0.42222 0.05625 -0.47361 0.08542 -0.49635 0.08357 C -0.51909 0.08172 -0.54027 0.01088 -0.56007 0.01899 C -0.57986 0.02709 -0.59149 0.12014 -0.61527 0.13172 C -0.63906 0.14329 -0.67777 0.07639 -0.70312 0.08797 C -0.72847 0.09954 -0.73541 0.19445 -0.76701 0.2007 C -0.79861 0.20672 -0.85677 0.11297 -0.89288 0.12477 C -0.92899 0.13658 -0.95295 0.26019 -0.9842 0.27176 C -1.01545 0.2838 -1.03906 0.19005 -1.08073 0.19607 C -1.12222 0.20209 -1.1783 0.2551 -1.2342 0.3088 E">
                                      <p:cBhvr>
                                        <p:cTn id="31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46 0.03149 C 0.06944 0.00834 0.0816 -0.01412 0.10226 -0.01689 C 0.12292 -0.01944 0.1618 0.02848 0.1816 0.01551 C 0.20139 0.00232 0.22604 -0.06435 0.22118 -0.0949 C 0.21614 -0.12569 0.15677 -0.1405 0.15226 -0.16875 C 0.14774 -0.19699 0.19757 -0.23888 0.19358 -0.26504 C 0.18958 -0.29143 0.12205 -0.29236 0.12812 -0.32708 C 0.1342 -0.36203 0.20451 -0.46944 0.22986 -0.4743 C 0.25521 -0.47939 0.28385 -0.37754 0.27986 -0.35694 C 0.27587 -0.33634 0.22674 -0.32893 0.20555 -0.35 C 0.18472 -0.37129 0.14375 -0.45069 0.15399 -0.48356 C 0.16424 -0.51597 0.22257 -0.5655 0.26771 -0.5456 C 0.31285 -0.52569 0.40833 -0.41296 0.42465 -0.36412 C 0.44097 -0.31481 0.38472 -0.24791 0.36597 -0.25115 C 0.34757 -0.25462 0.28976 -0.36018 0.31267 -0.38449 C 0.33559 -0.40925 0.45833 -0.42847 0.50399 -0.39837 C 0.54965 -0.36875 0.59045 -0.23587 0.5868 -0.20555 C 0.58316 -0.175 0.48333 -0.18634 0.4816 -0.21435 C 0.47986 -0.24236 0.54028 -0.3618 0.57639 -0.37337 C 0.6125 -0.38495 0.65937 -0.27754 0.69878 -0.28356 C 0.73819 -0.28958 0.76927 -0.39606 0.81267 -0.40995 C 0.85608 -0.42407 0.93802 -0.39675 0.9592 -0.36875 C 0.98038 -0.3405 0.96962 -0.28356 0.94028 -0.24212 C 0.91094 -0.20092 0.83073 -0.13078 0.78333 -0.12013 C 0.73594 -0.10972 0.69444 -0.19722 0.65573 -0.18009 C 0.61701 -0.16296 0.5434 -0.05416 0.55052 -0.01689 C 0.55764 0.02061 0.67257 0.05301 0.69878 0.04514 C 0.725 0.03774 0.73385 -0.06296 0.70746 -0.06296 C 0.68108 -0.06296 0.58368 0.03496 0.54028 0.04514 C 0.49687 0.05579 0.47812 -0.01481 0.44705 -0.00092 C 0.41597 0.01343 0.35139 0.0963 0.35382 0.13033 C 0.3566 0.16436 0.43941 0.20973 0.46267 0.20371 C 0.48594 0.19769 0.50243 0.11274 0.49358 0.09352 C 0.48472 0.07385 0.42934 0.06088 0.4092 0.08681 C 0.38906 0.1125 0.35226 0.22061 0.37292 0.24746 C 0.39358 0.27454 0.49601 0.27014 0.53333 0.24977 C 0.57066 0.22963 0.56285 0.13774 0.59705 0.12547 C 0.63125 0.1132 0.70104 0.19028 0.73854 0.17616 C 0.77587 0.16204 0.78837 0.06343 0.82118 0.04075 C 0.85399 0.0176 0.90608 0.06644 0.93507 0.03843 C 0.96406 0.01042 0.99496 -0.07569 0.99531 -0.12731 C 0.99566 -0.1787 0.93229 -0.228 0.9368 -0.26967 C 0.94132 -0.31134 0.98333 -0.33148 1.02292 -0.378 C 1.0625 -0.42407 1.11858 -0.48587 1.17465 -0.54768 E">
                                      <p:cBhvr>
                                        <p:cTn id="33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003-2.png"/>
          <p:cNvPicPr/>
          <p:nvPr/>
        </p:nvPicPr>
        <p:blipFill>
          <a:blip r:embed="rId2"/>
          <a:stretch/>
        </p:blipFill>
        <p:spPr>
          <a:xfrm>
            <a:off x="4643280" y="3932280"/>
            <a:ext cx="2928960" cy="29257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" descr="005-1.png"/>
          <p:cNvPicPr/>
          <p:nvPr/>
        </p:nvPicPr>
        <p:blipFill>
          <a:blip r:embed="rId3"/>
          <a:stretch/>
        </p:blipFill>
        <p:spPr>
          <a:xfrm>
            <a:off x="6480" y="-5713560"/>
            <a:ext cx="9137520" cy="60944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005-2.png"/>
          <p:cNvPicPr/>
          <p:nvPr/>
        </p:nvPicPr>
        <p:blipFill>
          <a:blip r:embed="rId4"/>
          <a:stretch/>
        </p:blipFill>
        <p:spPr>
          <a:xfrm>
            <a:off x="-998640" y="5072040"/>
            <a:ext cx="998640" cy="11034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" descr="图片3.png"/>
          <p:cNvPicPr/>
          <p:nvPr/>
        </p:nvPicPr>
        <p:blipFill>
          <a:blip r:embed="rId5"/>
          <a:stretch/>
        </p:blipFill>
        <p:spPr>
          <a:xfrm>
            <a:off x="4000680" y="3429000"/>
            <a:ext cx="2828880" cy="2825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" descr="图片3.png"/>
          <p:cNvPicPr/>
          <p:nvPr/>
        </p:nvPicPr>
        <p:blipFill>
          <a:blip r:embed="rId6"/>
          <a:stretch/>
        </p:blipFill>
        <p:spPr>
          <a:xfrm>
            <a:off x="3357720" y="4032360"/>
            <a:ext cx="2828880" cy="28256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7" descr="图片3.png"/>
          <p:cNvPicPr/>
          <p:nvPr/>
        </p:nvPicPr>
        <p:blipFill>
          <a:blip r:embed="rId7"/>
          <a:stretch/>
        </p:blipFill>
        <p:spPr>
          <a:xfrm>
            <a:off x="2928960" y="4032360"/>
            <a:ext cx="282888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29028 C 0.14444 0.28889 0.25989 0.43171 0.25989 0.60394 C 0.2585 0.78449 0.14653 0.92824 -0.00087 0.92824 C -0.14861 0.92824 -0.26025 1.07176 -0.26025 1.25116 C -0.26025 1.42732 -0.14827 1.56875 -0.00174 1.57037 E">
                                      <p:cBhvr>
                                        <p:cTn id="5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95 -0.11644 C 0.06597 -0.09468 0.07917 -0.07269 0.0875 -0.05672 C 0.09584 -0.04074 0.09775 -0.02361 0.10295 -0.01991 C 0.10816 -0.01621 0.11354 -0.0338 0.11841 -0.0338 C 0.12327 -0.0338 0.12709 -0.02153 0.13229 -0.01991 C 0.1375 -0.01829 0.14497 -0.02107 0.14948 -0.02454 C 0.154 -0.02801 0.15782 -0.04097 0.1599 -0.04051 C 0.16198 -0.04005 0.15938 -0.02292 0.16163 -0.02222 C 0.16389 -0.02153 0.1691 -0.0331 0.17361 -0.03611 C 0.17813 -0.03912 0.1849 -0.04213 0.18924 -0.04051 C 0.19358 -0.03889 0.19601 -0.025 0.19948 -0.02685 C 0.20295 -0.02871 0.20729 -0.05139 0.2099 -0.05209 C 0.2125 -0.05278 0.2132 -0.03218 0.21511 -0.03148 C 0.21702 -0.03079 0.21927 -0.04699 0.22188 -0.04746 C 0.22448 -0.04792 0.22448 -0.03334 0.23056 -0.0338 C 0.23663 -0.03426 0.25365 -0.05023 0.25816 -0.04977 C 0.26268 -0.04931 0.25556 -0.03033 0.25816 -0.03148 C 0.26077 -0.03264 0.26841 -0.05417 0.27361 -0.05672 C 0.27882 -0.05926 0.2849 -0.04908 0.28924 -0.04746 C 0.29358 -0.04584 0.29775 -0.04468 0.29948 -0.04746 C 0.30122 -0.05023 0.29809 -0.06412 0.29948 -0.06366 C 0.30087 -0.0632 0.30243 -0.04468 0.30816 -0.04514 C 0.31389 -0.0456 0.32882 -0.06551 0.33403 -0.06597 C 0.33924 -0.06644 0.33577 -0.05023 0.33924 -0.04746 C 0.34271 -0.04468 0.35104 -0.0463 0.35469 -0.04977 C 0.35834 -0.05324 0.3599 -0.06829 0.36163 -0.06829 C 0.36337 -0.06829 0.36233 -0.05278 0.36511 -0.04977 C 0.36788 -0.04676 0.37448 -0.05047 0.37882 -0.04977 C 0.38316 -0.04908 0.38889 -0.04352 0.39097 -0.04514 C 0.39306 -0.04676 0.38837 -0.05949 0.39097 -0.05903 C 0.39358 -0.05857 0.4033 -0.04283 0.40643 -0.04283 C 0.40955 -0.04283 0.40851 -0.05741 0.4099 -0.05903 E">
                                      <p:cBhvr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" descr="003-4.png"/>
          <p:cNvPicPr/>
          <p:nvPr/>
        </p:nvPicPr>
        <p:blipFill>
          <a:blip r:embed="rId2"/>
          <a:stretch/>
        </p:blipFill>
        <p:spPr>
          <a:xfrm>
            <a:off x="-1244520" y="357192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003-3.png"/>
          <p:cNvPicPr/>
          <p:nvPr/>
        </p:nvPicPr>
        <p:blipFill>
          <a:blip r:embed="rId3"/>
          <a:stretch/>
        </p:blipFill>
        <p:spPr>
          <a:xfrm>
            <a:off x="9144000" y="2643120"/>
            <a:ext cx="92376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6" descr="图片10.png"/>
          <p:cNvPicPr/>
          <p:nvPr/>
        </p:nvPicPr>
        <p:blipFill>
          <a:blip r:embed="rId4"/>
          <a:stretch/>
        </p:blipFill>
        <p:spPr>
          <a:xfrm>
            <a:off x="9144000" y="-855720"/>
            <a:ext cx="1060560" cy="1058760"/>
          </a:xfrm>
          <a:prstGeom prst="rect">
            <a:avLst/>
          </a:prstGeom>
          <a:ln w="0">
            <a:noFill/>
          </a:ln>
        </p:spPr>
      </p:pic>
      <p:pic>
        <p:nvPicPr>
          <p:cNvPr id="70" name="矩形 7" descr=""/>
          <p:cNvPicPr/>
          <p:nvPr/>
        </p:nvPicPr>
        <p:blipFill>
          <a:blip r:embed="rId5"/>
          <a:stretch/>
        </p:blipFill>
        <p:spPr>
          <a:xfrm>
            <a:off x="-236520" y="6004080"/>
            <a:ext cx="27543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46 0.03149 C 0.06944 0.00834 0.0816 -0.01412 0.10226 -0.01689 C 0.12292 -0.01944 0.1618 0.02848 0.1816 0.01551 C 0.20139 0.00232 0.22604 -0.06435 0.22118 -0.0949 C 0.21614 -0.12569 0.15677 -0.1405 0.15226 -0.16875 C 0.14774 -0.19699 0.19757 -0.23888 0.19358 -0.26504 C 0.18958 -0.29143 0.12205 -0.29236 0.12812 -0.32708 C 0.1342 -0.36203 0.20451 -0.46944 0.22986 -0.4743 C 0.25521 -0.47939 0.28385 -0.37754 0.27986 -0.35694 C 0.27587 -0.33634 0.22674 -0.32893 0.20555 -0.35 C 0.18472 -0.37129 0.14375 -0.45069 0.15399 -0.48356 C 0.16424 -0.51597 0.22257 -0.5655 0.26771 -0.5456 C 0.31285 -0.52569 0.40833 -0.41296 0.42465 -0.36412 C 0.44097 -0.31481 0.38472 -0.24791 0.36597 -0.25115 C 0.34757 -0.25462 0.28976 -0.36018 0.31267 -0.38449 C 0.33559 -0.40925 0.45833 -0.42847 0.50399 -0.39837 C 0.54965 -0.36875 0.59045 -0.23587 0.5868 -0.20555 C 0.58316 -0.175 0.48333 -0.18634 0.4816 -0.21435 C 0.47986 -0.24236 0.54028 -0.3618 0.57639 -0.37337 C 0.6125 -0.38495 0.65937 -0.27754 0.69878 -0.28356 C 0.73819 -0.28958 0.76927 -0.39606 0.81267 -0.40995 C 0.85608 -0.42407 0.93802 -0.39675 0.9592 -0.36875 C 0.98038 -0.3405 0.96962 -0.28356 0.94028 -0.24212 C 0.91094 -0.20092 0.83073 -0.13078 0.78333 -0.12013 C 0.73594 -0.10972 0.69444 -0.19722 0.65573 -0.18009 C 0.61701 -0.16296 0.5434 -0.05416 0.55052 -0.01689 C 0.55764 0.02061 0.67257 0.05301 0.69878 0.04514 C 0.725 0.03774 0.73385 -0.06296 0.70746 -0.06296 C 0.68108 -0.06296 0.58368 0.03496 0.54028 0.04514 C 0.49687 0.05579 0.47812 -0.01481 0.44705 -0.00092 C 0.41597 0.01343 0.35139 0.0963 0.35382 0.13033 C 0.3566 0.16436 0.43941 0.20973 0.46267 0.20371 C 0.48594 0.19769 0.50243 0.11274 0.49358 0.09352 C 0.48472 0.07385 0.42934 0.06088 0.4092 0.08681 C 0.38906 0.1125 0.35226 0.22061 0.37292 0.24746 C 0.39358 0.27454 0.49601 0.27014 0.53333 0.24977 C 0.57066 0.22963 0.56285 0.13774 0.59705 0.12547 C 0.63125 0.1132 0.70104 0.19028 0.73854 0.17616 C 0.77587 0.16204 0.78837 0.06343 0.82118 0.04075 C 0.85399 0.0176 0.90608 0.06644 0.93507 0.03843 C 0.96406 0.01042 0.99496 -0.07569 0.99531 -0.12731 C 0.99566 -0.1787 0.93229 -0.228 0.9368 -0.26967 C 0.94132 -0.31134 0.98333 -0.33148 1.02292 -0.378 C 1.0625 -0.42407 1.11858 -0.48587 1.17465 -0.54768 E">
                                      <p:cBhvr>
                                        <p:cTn id="87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C -0.02622 -0.03287 -0.05226 -0.06621 -0.07413 -0.06644 C -0.09601 -0.0669 -0.10677 -0.00625 -0.1309 -0.00232 C -0.15503 0.00185 -0.19253 -0.04283 -0.21892 -0.04352 C -0.24531 -0.04422 -0.26076 0.00555 -0.28958 -0.00672 C -0.3184 -0.01922 -0.36406 -0.11204 -0.39132 -0.1169 C -0.41858 -0.12176 -0.42535 -0.04306 -0.45347 -0.03658 C -0.4816 -0.0301 -0.53212 -0.09769 -0.56024 -0.07778 C -0.58837 -0.05787 -0.59861 0.05902 -0.6224 0.0831 C -0.64618 0.10717 -0.69774 0.0868 -0.70347 0.06689 C -0.7092 0.04699 -0.66163 0.000919999999999997 -0.65677 -0.03658 C -0.65191 -0.07408 -0.69306 -0.13889 -0.67413 -0.15834 C -0.65521 -0.17778 -0.57326 -0.12987 -0.54306 -0.15371 C -0.51285 -0.17755 -0.52552 -0.29167 -0.49306 -0.30093 C -0.46059 -0.31019 -0.36528 -0.24769 -0.34826 -0.20903 C -0.33125 -0.17037 -0.40347 -0.12199 -0.39132 -0.06875 C -0.37917 -0.01551 -0.27535 0.06736 -0.27587 0.11064 C -0.27639 0.15393 -0.3592 0.19398 -0.39479 0.19097 C -0.43038 0.18796 -0.48681 0.12384 -0.48958 0.09213 C -0.49236 0.06041 -0.43872 -0.00139 -0.41198 4.07407E-006 C -0.38524 0.00185 -0.33108 0.07569 -0.32934 0.10138 C -0.3276 0.12708 -0.37899 0.15625 -0.40174 0.15439 C -0.42448 0.15254 -0.44566 0.08171 -0.46545 0.08981 C -0.48524 0.09791 -0.49687 0.19097 -0.52066 0.20254 C -0.54444 0.21412 -0.58316 0.14722 -0.60851 0.15879 C -0.63385 0.17037 -0.6408 0.26527 -0.6724 0.27152 C -0.70399 0.27754 -0.76215 0.18379 -0.79826 0.1956 C -0.83437 0.2074 -0.85833 0.33101 -0.88958 0.34259 C -0.92083 0.35463 -0.94444 0.26088 -0.98611 0.26689 C -1.0276 0.27291 -1.08351 0.32592 -1.13958 0.37963 E">
                                      <p:cBhvr>
                                        <p:cTn id="89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46 0.06598 C -0.08351 0.0845 -0.10539 0.10325 -0.13039 0.10973 C -0.15539 0.11621 -0.19341 0.09329 -0.21146 0.1051 C -0.22952 0.1169 -0.2224 0.17709 -0.23907 0.18102 C -0.25573 0.18496 -0.28941 0.12431 -0.31164 0.12825 C -0.33351 0.13218 -0.34549 0.20556 -0.37171 0.20394 C -0.39809 0.20232 -0.44219 0.11621 -0.46841 0.11899 C -0.49462 0.12176 -0.50087 0.21551 -0.52882 0.22014 C -0.55643 0.22477 -0.60712 0.14399 -0.63559 0.14653 C -0.66424 0.14908 -0.69827 0.19862 -0.70105 0.23612 C -0.70382 0.27362 -0.67917 0.34676 -0.65278 0.37176 C -0.62657 0.39676 -0.57153 0.40255 -0.54254 0.38565 C -0.51372 0.36875 -0.504 0.28172 -0.48039 0.27061 C -0.45677 0.2595 -0.42552 0.32778 -0.40105 0.31899 C -0.37657 0.31019 -0.33577 0.25487 -0.33386 0.21783 C -0.33195 0.18079 -0.354 0.11528 -0.38907 0.09607 C -0.42414 0.07686 -0.51042 0.06945 -0.54445 0.10278 C -0.57813 0.13612 -0.61528 0.23473 -0.59254 0.29607 C -0.5698 0.35741 -0.47032 0.47246 -0.40799 0.47061 C -0.34584 0.46875 -0.23872 0.34723 -0.21841 0.2845 C -0.19809 0.22176 -0.24132 0.10556 -0.28559 0.09375 C -0.32986 0.08195 -0.46007 0.14607 -0.48386 0.2132 C -0.50782 0.28033 -0.46546 0.42408 -0.42865 0.49607 C -0.39184 0.56806 -0.2948 0.59167 -0.2632 0.64538 C -0.2316 0.69908 -0.22014 0.76968 -0.23907 0.81783 C -0.25799 0.86598 -0.32969 0.94213 -0.37691 0.93496 C -0.42431 0.92778 -0.51111 0.83565 -0.52361 0.77408 C -0.53594 0.7125 -0.49653 0.59769 -0.45105 0.56482 C -0.40556 0.53195 -0.29809 0.54237 -0.25105 0.57639 C -0.204 0.61042 -0.16667 0.7051 -0.16841 0.76945 C -0.17014 0.8338 -0.21875 0.92755 -0.26146 0.96274 C -0.30417 0.99792 -0.37257 0.99445 -0.42518 0.98102 C -0.47778 0.9676 -0.53924 0.92246 -0.57691 0.88218 C -0.61476 0.8419 -0.61806 0.75556 -0.65105 0.73959 C -0.68403 0.72362 -0.74497 0.79815 -0.77518 0.78565 C -0.80539 0.77315 -0.80625 0.6757 -0.83212 0.66389 C -0.85799 0.65209 -0.90452 0.72431 -0.93039 0.71436 C -0.95625 0.7044 -0.93733 0.64005 -0.98733 0.60394 C -1.03733 0.56783 -1.13386 0.53288 -1.23039 0.49815 E">
                                      <p:cBhvr>
                                        <p:cTn id="91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1:26:20Z</dcterms:modified>
  <cp:revision>1</cp:revision>
  <dc:subject/>
  <dc:title>PowerPoint 演示文稿</dc:title>
</cp:coreProperties>
</file>