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BB2-B507-48BB-8001-95FCEF8E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94B-3ADA-45F1-97D0-A3BB691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931-C676-4186-AF39-E54F5971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046-B4DF-48D1-B266-987838A6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42B1-62F7-47FA-AB52-F36E3EB5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645-51FB-4C89-AB87-3FC680F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FFF3-1E65-4D15-B5DB-09F17EA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A211-C45F-4D3B-8556-3EDA444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586D-03ED-4ABD-B524-C25206EB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4AA5-35F2-498A-A74E-A0C282C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6FE1-A33C-4AC3-8165-4F6C9E9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DE2-56CC-4695-90A5-D748C9B0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8BB1-F925-41F7-9E75-EE83B27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779-A6D3-4440-A5D4-CACFE69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019-8EB2-49D0-983C-C965684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C2D7-686A-44F3-A835-72BF996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7EC2-7BF2-4C78-AC73-79F7A296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5DB-78BF-4403-9896-BAB786A2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033-64B3-4581-A62C-F5F58C63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7B2-E90B-4C79-942B-A7E437EF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381-35F9-4320-9151-E523AECA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E9E-AB98-4390-AAB6-9C399C2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610-F4D2-4EE0-A3F2-2C48D49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038-D8DA-4AA2-AF7A-559969A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3CAB-1949-499A-96F5-C3E5E2201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B46F-348D-4A9F-A72B-C47DD6D98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animationfactory.com/sales/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animationfactory.com/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animationfactory.com/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www.animationfactory.com/" TargetMode="External"/><Relationship Id="rId11" Type="http://schemas.openxmlformats.org/officeDocument/2006/relationships/image" Target="../media/image3.gif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 </a:t>
            </a:r>
            <a:endParaRPr b="1" lang="en-US" sz="1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4" name="Picture 8" descr="world_map_animation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343560" y="480060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095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286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经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Picture 8" descr="worldwide_marketplace_map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 </a:t>
            </a:r>
            <a:endParaRPr b="1" lang="en-US" sz="1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2578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5" name="Picture 4" descr="worldwide_marketplace_map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7277040" y="4648320"/>
            <a:ext cx="16765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8600" y="3002040"/>
            <a:ext cx="236232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ly FREE templates have a watermark in the backdr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PU-ttg"/>
          <p:cNvPicPr/>
          <p:nvPr/>
        </p:nvPicPr>
        <p:blipFill>
          <a:blip r:embed="rId1"/>
          <a:stretch/>
        </p:blipFill>
        <p:spPr>
          <a:xfrm>
            <a:off x="228600" y="1432080"/>
            <a:ext cx="1390680" cy="1328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2753280" y="29955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366080" y="29955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672520" y="299556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611120" y="29955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600200" y="1432080"/>
            <a:ext cx="73915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Get Over 500 Unique Templates on one CD-RO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siness, Corporate, Religious and Educational themes with fun to serious fee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asy to Use CD-ROM interface with detailed instructions to get you up and going FA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emplates have 3 (usually 4) Backdrops designed to work with Title and Slide ma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st templates feature .GIF animations and 3-Dimensional .PNG clipart with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emplates come with an “Elements Page” to aid in cust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animfactory_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105" name="Line 15"/>
          <p:cNvSpPr/>
          <p:nvPr/>
        </p:nvSpPr>
        <p:spPr>
          <a:xfrm>
            <a:off x="45720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57200" y="46483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28600" y="4694400"/>
            <a:ext cx="23623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st templates use “clear” animations that are 300 pixels by 300 pix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platin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0120" y="5781600"/>
            <a:ext cx="1028520" cy="71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learn-mor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71800" y="76320"/>
            <a:ext cx="2590920" cy="641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2884680" y="685800"/>
            <a:ext cx="28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Click Here to learn more (requires internet conn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buy-templat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24480" y="82440"/>
            <a:ext cx="2667240" cy="660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2"/>
          <p:cNvSpPr/>
          <p:nvPr/>
        </p:nvSpPr>
        <p:spPr>
          <a:xfrm>
            <a:off x="6391800" y="68580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Click Here to buy! (requires internet conn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7238880" y="4724280"/>
            <a:ext cx="1752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et more Templates, Animations, and Clipart with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latinum Subscrip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>
            <a:hlinkClick r:id="rId10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5" descr="world_map_animation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2666880" y="5029200"/>
            <a:ext cx="2743200" cy="132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worldwide_marketplace_prt"/>
          <p:cNvPicPr/>
          <p:nvPr/>
        </p:nvPicPr>
        <p:blipFill>
          <a:blip r:embed="rId12"/>
          <a:stretch/>
        </p:blipFill>
        <p:spPr>
          <a:xfrm>
            <a:off x="7467480" y="3276720"/>
            <a:ext cx="15242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27" descr="worldwide_marketplace_qx"/>
          <p:cNvPicPr/>
          <p:nvPr/>
        </p:nvPicPr>
        <p:blipFill>
          <a:blip r:embed="rId13"/>
          <a:stretch/>
        </p:blipFill>
        <p:spPr>
          <a:xfrm>
            <a:off x="2590920" y="327672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28" descr="worldwide_marketplace_sld"/>
          <p:cNvPicPr/>
          <p:nvPr/>
        </p:nvPicPr>
        <p:blipFill>
          <a:blip r:embed="rId14"/>
          <a:stretch/>
        </p:blipFill>
        <p:spPr>
          <a:xfrm>
            <a:off x="4216320" y="3276720"/>
            <a:ext cx="15242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29" descr="worldwide_marketplace_trs"/>
          <p:cNvPicPr/>
          <p:nvPr/>
        </p:nvPicPr>
        <p:blipFill>
          <a:blip r:embed="rId15"/>
          <a:stretch/>
        </p:blipFill>
        <p:spPr>
          <a:xfrm>
            <a:off x="5842080" y="327672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Dem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Franklin Gothic Demi"/>
              </a:rPr>
              <a:t>：</a:t>
            </a: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Franklin Gothic Demi"/>
              </a:rPr>
              <a:t>特别说明：</a:t>
            </a: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Dem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Franklin Gothic Demi"/>
              </a:rPr>
              <a:t>：</a:t>
            </a: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AFA-C869-4293-A214-7CE0E2E98E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eclipse</dc:creator>
  <dc:description/>
  <dc:language>en-US</dc:language>
  <cp:lastModifiedBy>jccook</cp:lastModifiedBy>
  <dcterms:modified xsi:type="dcterms:W3CDTF">2015-07-21T01:23:0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