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25B4-FAE4-4D0C-8F88-581FFF871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4EAB-4391-4055-8585-E2F16757B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E398-13A4-4926-B9CA-B8B4DC33F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166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7620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574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166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57620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A045-958C-4F98-965B-FBB9A99AE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219C-A988-4B02-865E-609E92FFA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166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620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574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4166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7620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FB9C-CC9E-48F2-8D68-74856F049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7B78-2120-494C-AAB2-F17E2882D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DFC3-AE73-4C02-8BA4-F00A5F6BA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4EDC-A734-4C82-8F1B-706585AF6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083C-E888-43B0-A652-531A57651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1945-E0B2-4FB3-80D1-255E2AE5C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123F-FEED-413F-BD7A-861ED9F07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29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-143" b="-236"/>
          <a:stretch/>
        </p:blipFill>
        <p:spPr>
          <a:xfrm>
            <a:off x="128520" y="76320"/>
            <a:ext cx="1513080" cy="1106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60" y="1265400"/>
            <a:ext cx="9132840" cy="218880"/>
          </a:xfrm>
          <a:prstGeom prst="rect">
            <a:avLst/>
          </a:prstGeom>
          <a:gradFill rotWithShape="0">
            <a:gsLst>
              <a:gs pos="0">
                <a:srgbClr val="29686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968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790960" y="65527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7f4d5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4d5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56840" y="6553080"/>
            <a:ext cx="1066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7f4d5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45E-12F9-4281-8583-ACBDFFD141AA}" type="slidenum">
              <a:rPr b="1" lang="zh-CN" sz="1200" spc="-1" strike="noStrike">
                <a:solidFill>
                  <a:srgbClr val="f7f4d5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4d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436320" y="2286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686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0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508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5e508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508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e50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e508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e508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f4d5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12720" y="645480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6760" y="12700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计算机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6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9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f7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f77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f77c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406a"/>
                </a:gs>
                <a:gs pos="50000">
                  <a:srgbClr val="8f77c5"/>
                </a:gs>
                <a:gs pos="100000">
                  <a:srgbClr val="4d4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f77c5">
                    <a:alpha val="0"/>
                  </a:srgbClr>
                </a:gs>
                <a:gs pos="100000">
                  <a:srgbClr val="5a4b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78fa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78fa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84d58"/>
                </a:gs>
                <a:gs pos="50000">
                  <a:srgbClr val="878fa5"/>
                </a:gs>
                <a:gs pos="100000">
                  <a:srgbClr val="484d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0"/>
                  </a:srgbClr>
                </a:gs>
                <a:gs pos="100000">
                  <a:srgbClr val="555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2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9686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22f32"/>
                </a:gs>
                <a:gs pos="100000">
                  <a:srgbClr val="29686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6383a"/>
                </a:gs>
                <a:gs pos="50000">
                  <a:srgbClr val="29686d"/>
                </a:gs>
                <a:gs pos="100000">
                  <a:srgbClr val="16383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9686d">
                    <a:alpha val="0"/>
                  </a:srgbClr>
                </a:gs>
                <a:gs pos="100000">
                  <a:srgbClr val="1941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2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7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733400" y="1447920"/>
            <a:ext cx="5353200" cy="4992120"/>
            <a:chOff x="1733400" y="1447920"/>
            <a:chExt cx="5353200" cy="4992120"/>
          </a:xfrm>
        </p:grpSpPr>
        <p:sp>
          <p:nvSpPr>
            <p:cNvPr id="285" name=""/>
            <p:cNvSpPr/>
            <p:nvPr/>
          </p:nvSpPr>
          <p:spPr>
            <a:xfrm rot="13770000">
              <a:off x="4857480" y="3871080"/>
              <a:ext cx="952200" cy="1843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856000">
              <a:off x="2958840" y="3419280"/>
              <a:ext cx="970200" cy="171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394200">
              <a:off x="4977360" y="2330640"/>
              <a:ext cx="591840" cy="127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862080" y="2368440"/>
              <a:ext cx="1548000" cy="1575720"/>
              <a:chOff x="3862080" y="2368440"/>
              <a:chExt cx="1548000" cy="157572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3862080" y="2368440"/>
                <a:ext cx="1548000" cy="1575720"/>
                <a:chOff x="3862080" y="2368440"/>
                <a:chExt cx="1548000" cy="1575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862080" y="2368440"/>
                  <a:ext cx="1548000" cy="157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022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>
                  <a:off x="4038840" y="2394360"/>
                  <a:ext cx="1194120" cy="59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918240" y="30535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203800" y="1447920"/>
              <a:ext cx="909360" cy="853560"/>
              <a:chOff x="5203800" y="1447920"/>
              <a:chExt cx="909360" cy="8535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216040" y="1447920"/>
                <a:ext cx="838440" cy="853560"/>
                <a:chOff x="5216040" y="1447920"/>
                <a:chExt cx="838440" cy="8535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216040" y="1447920"/>
                  <a:ext cx="838440" cy="85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686d"/>
                    </a:gs>
                    <a:gs pos="100000">
                      <a:srgbClr val="0919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>
                  <a:off x="5311800" y="1461960"/>
                  <a:ext cx="646920" cy="322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968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5203800" y="17758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733400" y="2696760"/>
              <a:ext cx="1676520" cy="1774800"/>
              <a:chOff x="1733400" y="2696760"/>
              <a:chExt cx="1676520" cy="177480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1733400" y="2696760"/>
                <a:ext cx="1676520" cy="1774800"/>
                <a:chOff x="1733400" y="2696760"/>
                <a:chExt cx="1676520" cy="17748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33400" y="2696760"/>
                  <a:ext cx="1676520" cy="177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3d9"/>
                    </a:gs>
                    <a:gs pos="100000">
                      <a:srgbClr val="577b8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>
                  <a:off x="1924920" y="2725920"/>
                  <a:ext cx="1293120" cy="66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c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794240" y="34855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151240" y="4011480"/>
              <a:ext cx="1935360" cy="1971360"/>
              <a:chOff x="5151240" y="4011480"/>
              <a:chExt cx="1935360" cy="19713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151240" y="4011480"/>
                <a:ext cx="1935360" cy="1971360"/>
                <a:chOff x="5151240" y="4011480"/>
                <a:chExt cx="1935360" cy="19713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51240" y="4011480"/>
                  <a:ext cx="1935360" cy="19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9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5372280" y="4043880"/>
                  <a:ext cx="1492920" cy="743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f77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5396760" y="48657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927080" y="4536720"/>
              <a:ext cx="1362240" cy="456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90960" y="3947760"/>
              <a:ext cx="1363680" cy="456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3440" y="5983200"/>
              <a:ext cx="1363680" cy="456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4920" y="2368440"/>
              <a:ext cx="625680" cy="22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5" name=""/>
            <p:cNvSpPr/>
            <p:nvPr/>
          </p:nvSpPr>
          <p:spPr>
            <a:xfrm rot="17973000">
              <a:off x="4558320" y="2530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3465600">
              <a:off x="4608720" y="46411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4368800">
              <a:off x="3389760" y="2553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7534800">
              <a:off x="3351600" y="460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29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f77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f77c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406a"/>
                </a:gs>
                <a:gs pos="50000">
                  <a:srgbClr val="8f77c5"/>
                </a:gs>
                <a:gs pos="100000">
                  <a:srgbClr val="4d4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8f77c5">
                    <a:alpha val="0"/>
                  </a:srgbClr>
                </a:gs>
                <a:gs pos="100000">
                  <a:srgbClr val="5a4b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0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2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6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81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2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166400" y="3524400"/>
                <a:ext cx="1527840" cy="2426760"/>
                <a:chOff x="1166400" y="3524400"/>
                <a:chExt cx="1527840" cy="24267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1166400" y="3682080"/>
                  <a:ext cx="1422000" cy="2269080"/>
                  <a:chOff x="1166400" y="3682080"/>
                  <a:chExt cx="1422000" cy="2269080"/>
                </a:xfrm>
              </p:grpSpPr>
              <p:sp>
                <p:nvSpPr>
                  <p:cNvPr id="398" name="未知"/>
                  <p:cNvSpPr/>
                  <p:nvPr/>
                </p:nvSpPr>
                <p:spPr>
                  <a:xfrm rot="3876600">
                    <a:off x="738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未知"/>
                  <p:cNvSpPr/>
                  <p:nvPr/>
                </p:nvSpPr>
                <p:spPr>
                  <a:xfrm rot="3876600">
                    <a:off x="2107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603080" y="3524400"/>
                  <a:ext cx="1091160" cy="1740960"/>
                  <a:chOff x="1603080" y="3524400"/>
                  <a:chExt cx="1091160" cy="1740960"/>
                </a:xfrm>
              </p:grpSpPr>
              <p:sp>
                <p:nvSpPr>
                  <p:cNvPr id="401" name="未知"/>
                  <p:cNvSpPr/>
                  <p:nvPr/>
                </p:nvSpPr>
                <p:spPr>
                  <a:xfrm flipV="1" rot="3876600">
                    <a:off x="1274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未知"/>
                  <p:cNvSpPr/>
                  <p:nvPr/>
                </p:nvSpPr>
                <p:spPr>
                  <a:xfrm flipV="1" rot="3876600">
                    <a:off x="2309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"/>
              <p:cNvGrpSpPr/>
              <p:nvPr/>
            </p:nvGrpSpPr>
            <p:grpSpPr>
              <a:xfrm>
                <a:off x="762120" y="2685960"/>
                <a:ext cx="1272960" cy="1310760"/>
                <a:chOff x="762120" y="2685960"/>
                <a:chExt cx="1272960" cy="13107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2120" y="2685960"/>
                  <a:ext cx="12729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2120" y="2685960"/>
                  <a:ext cx="12729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46360" y="2770920"/>
                  <a:ext cx="110412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46360" y="2773800"/>
                  <a:ext cx="110412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901080" y="2828880"/>
                  <a:ext cx="99468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916200" y="2844720"/>
                  <a:ext cx="964080" cy="993960"/>
                  <a:chOff x="916200" y="2844720"/>
                  <a:chExt cx="964080" cy="9939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91620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9284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93852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907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4" name=""/>
              <p:cNvSpPr/>
              <p:nvPr/>
            </p:nvSpPr>
            <p:spPr>
              <a:xfrm rot="3925800">
                <a:off x="113112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3925800">
                <a:off x="159012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2912400" y="3524400"/>
                <a:ext cx="1527840" cy="2426760"/>
                <a:chOff x="2912400" y="3524400"/>
                <a:chExt cx="1527840" cy="24267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12400" y="3682080"/>
                  <a:ext cx="1422000" cy="2269080"/>
                  <a:chOff x="2912400" y="3682080"/>
                  <a:chExt cx="1422000" cy="2269080"/>
                </a:xfrm>
              </p:grpSpPr>
              <p:sp>
                <p:nvSpPr>
                  <p:cNvPr id="419" name="未知"/>
                  <p:cNvSpPr/>
                  <p:nvPr/>
                </p:nvSpPr>
                <p:spPr>
                  <a:xfrm rot="3876600">
                    <a:off x="2484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未知"/>
                  <p:cNvSpPr/>
                  <p:nvPr/>
                </p:nvSpPr>
                <p:spPr>
                  <a:xfrm rot="3876600">
                    <a:off x="3853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3349080" y="3524400"/>
                  <a:ext cx="1091160" cy="1740960"/>
                  <a:chOff x="3349080" y="3524400"/>
                  <a:chExt cx="1091160" cy="1740960"/>
                </a:xfrm>
              </p:grpSpPr>
              <p:sp>
                <p:nvSpPr>
                  <p:cNvPr id="422" name="未知"/>
                  <p:cNvSpPr/>
                  <p:nvPr/>
                </p:nvSpPr>
                <p:spPr>
                  <a:xfrm flipV="1" rot="3876600">
                    <a:off x="3020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未知"/>
                  <p:cNvSpPr/>
                  <p:nvPr/>
                </p:nvSpPr>
                <p:spPr>
                  <a:xfrm flipV="1" rot="3876600">
                    <a:off x="4055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2509920" y="2685960"/>
                <a:ext cx="1272600" cy="1310760"/>
                <a:chOff x="2509920" y="2685960"/>
                <a:chExt cx="1272600" cy="1310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594160" y="277092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94160" y="277380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648880" y="2828880"/>
                  <a:ext cx="9943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2664000" y="2844720"/>
                  <a:ext cx="963720" cy="993960"/>
                  <a:chOff x="2664000" y="2844720"/>
                  <a:chExt cx="963720" cy="9939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2664000" y="2844720"/>
                    <a:ext cx="9637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6762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686320" y="2859840"/>
                    <a:ext cx="8942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7385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 rot="3925800">
                <a:off x="287244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3925800">
                <a:off x="33318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4717440" y="3524400"/>
                <a:ext cx="1527840" cy="2426760"/>
                <a:chOff x="4717440" y="3524400"/>
                <a:chExt cx="1527840" cy="242676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4717440" y="3682080"/>
                  <a:ext cx="1422000" cy="2269080"/>
                  <a:chOff x="4717440" y="3682080"/>
                  <a:chExt cx="1422000" cy="2269080"/>
                </a:xfrm>
              </p:grpSpPr>
              <p:sp>
                <p:nvSpPr>
                  <p:cNvPr id="440" name="未知"/>
                  <p:cNvSpPr/>
                  <p:nvPr/>
                </p:nvSpPr>
                <p:spPr>
                  <a:xfrm rot="3876600">
                    <a:off x="428940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未知"/>
                  <p:cNvSpPr/>
                  <p:nvPr/>
                </p:nvSpPr>
                <p:spPr>
                  <a:xfrm rot="3876600">
                    <a:off x="565812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5154120" y="3524400"/>
                  <a:ext cx="1091160" cy="1740960"/>
                  <a:chOff x="5154120" y="3524400"/>
                  <a:chExt cx="1091160" cy="1740960"/>
                </a:xfrm>
              </p:grpSpPr>
              <p:sp>
                <p:nvSpPr>
                  <p:cNvPr id="443" name="未知"/>
                  <p:cNvSpPr/>
                  <p:nvPr/>
                </p:nvSpPr>
                <p:spPr>
                  <a:xfrm flipV="1" rot="3876600">
                    <a:off x="482544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未知"/>
                  <p:cNvSpPr/>
                  <p:nvPr/>
                </p:nvSpPr>
                <p:spPr>
                  <a:xfrm flipV="1" rot="3876600">
                    <a:off x="586044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4313160" y="2685960"/>
                <a:ext cx="1274760" cy="1310760"/>
                <a:chOff x="4313160" y="2685960"/>
                <a:chExt cx="1274760" cy="13107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97400" y="277092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97400" y="277380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452120" y="2828880"/>
                  <a:ext cx="9961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4467600" y="2844720"/>
                  <a:ext cx="965520" cy="993960"/>
                  <a:chOff x="4467600" y="2844720"/>
                  <a:chExt cx="965520" cy="9939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4467600" y="2844720"/>
                    <a:ext cx="9655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479840" y="2850120"/>
                    <a:ext cx="9421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489920" y="2859840"/>
                    <a:ext cx="8960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542120" y="2885040"/>
                    <a:ext cx="79668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6" name=""/>
              <p:cNvSpPr/>
              <p:nvPr/>
            </p:nvSpPr>
            <p:spPr>
              <a:xfrm rot="3925800">
                <a:off x="468540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925800">
                <a:off x="51444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6684480" y="3591360"/>
                <a:ext cx="1527480" cy="2426400"/>
                <a:chOff x="6684480" y="3591360"/>
                <a:chExt cx="1527480" cy="242640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6684480" y="3749040"/>
                  <a:ext cx="1421640" cy="2268720"/>
                  <a:chOff x="6684480" y="3749040"/>
                  <a:chExt cx="1421640" cy="2268720"/>
                </a:xfrm>
              </p:grpSpPr>
              <p:sp>
                <p:nvSpPr>
                  <p:cNvPr id="461" name="未知"/>
                  <p:cNvSpPr/>
                  <p:nvPr/>
                </p:nvSpPr>
                <p:spPr>
                  <a:xfrm rot="3876600">
                    <a:off x="6256440" y="4636800"/>
                    <a:ext cx="227736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未知"/>
                  <p:cNvSpPr/>
                  <p:nvPr/>
                </p:nvSpPr>
                <p:spPr>
                  <a:xfrm rot="3876600">
                    <a:off x="762480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121160" y="3591360"/>
                  <a:ext cx="1090800" cy="1740600"/>
                  <a:chOff x="7121160" y="3591360"/>
                  <a:chExt cx="1090800" cy="1740600"/>
                </a:xfrm>
              </p:grpSpPr>
              <p:sp>
                <p:nvSpPr>
                  <p:cNvPr id="464" name="未知"/>
                  <p:cNvSpPr/>
                  <p:nvPr/>
                </p:nvSpPr>
                <p:spPr>
                  <a:xfrm flipV="1" rot="3876600">
                    <a:off x="6792480" y="4272120"/>
                    <a:ext cx="1747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未知"/>
                  <p:cNvSpPr/>
                  <p:nvPr/>
                </p:nvSpPr>
                <p:spPr>
                  <a:xfrm flipV="1" rot="3876600">
                    <a:off x="7827120" y="495468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91280" y="2644920"/>
                <a:ext cx="1328040" cy="13644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93080" y="2647800"/>
                <a:ext cx="1327680" cy="1364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56800" y="2712960"/>
                <a:ext cx="119592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6275880" y="2732400"/>
                <a:ext cx="1159200" cy="1191240"/>
                <a:chOff x="6275880" y="2732400"/>
                <a:chExt cx="1159200" cy="11912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275880" y="2732400"/>
                  <a:ext cx="115920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290640" y="2738880"/>
                  <a:ext cx="113112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02520" y="2750400"/>
                  <a:ext cx="107568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365520" y="2780640"/>
                  <a:ext cx="95616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 rot="3925800">
                <a:off x="6638400" y="4648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925800">
                <a:off x="7095600" y="4365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9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cxnSp>
            <p:nvCxnSpPr>
              <p:cNvPr id="483" name=""/>
              <p:cNvCxnSpPr>
                <a:stCxn id="479" idx="3"/>
                <a:endCxn id="480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>
                <a:stCxn id="480" idx="3"/>
                <a:endCxn id="481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5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8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0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9686d"/>
                  </a:gs>
                  <a:gs pos="100000">
                    <a:srgbClr val="1c484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acae"/>
                  </a:gs>
                  <a:gs pos="50000">
                    <a:srgbClr val="29686d">
                      <a:alpha val="0"/>
                    </a:srgbClr>
                  </a:gs>
                  <a:gs pos="100000">
                    <a:srgbClr val="89aca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5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7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9bd4"/>
                  </a:gs>
                  <a:gs pos="100000">
                    <a:srgbClr val="8f77c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77c5">
                      <a:alpha val="0"/>
                    </a:srgbClr>
                  </a:gs>
                  <a:gs pos="100000">
                    <a:srgbClr val="cec4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b7c5"/>
                  </a:gs>
                  <a:gs pos="100000">
                    <a:srgbClr val="878fa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>
                      <a:alpha val="0"/>
                    </a:srgbClr>
                  </a:gs>
                  <a:gs pos="100000">
                    <a:srgbClr val="c3c7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41365a"/>
                </a:gs>
              </a:gsLst>
              <a:lin ang="1980000"/>
            </a:gra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9686d"/>
            </a:soli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41365a"/>
                </a:gs>
              </a:gsLst>
              <a:lin ang="1980000"/>
            </a:gra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9686d"/>
            </a:soli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835200" y="2514600"/>
          <a:ext cx="7397640" cy="296532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7960"/>
                <a:gridCol w="1148040"/>
                <a:gridCol w="1137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e508c"/>
                      </a:solidFill>
                    </a:lnR>
                    <a:lnT>
                      <a:noFill/>
                    </a:lnT>
                    <a:lnB w="5760">
                      <a:solidFill>
                        <a:srgbClr val="5e50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5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afafb"/>
                </a:gs>
                <a:gs pos="100000">
                  <a:srgbClr val="878f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605f53"/>
                </a:gs>
                <a:gs pos="50000">
                  <a:srgbClr val="f7f4d5"/>
                </a:gs>
                <a:gs pos="100000">
                  <a:srgbClr val="605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3a3d7"/>
                </a:gs>
                <a:gs pos="100000">
                  <a:srgbClr val="8f77c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83e41"/>
                </a:gs>
                <a:gs pos="100000">
                  <a:srgbClr val="29686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b6975"/>
                </a:gs>
                <a:gs pos="100000">
                  <a:srgbClr val="8bc3d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29686d"/>
                </a:gs>
                <a:gs pos="50000">
                  <a:srgbClr val="cad9da"/>
                </a:gs>
                <a:gs pos="100000">
                  <a:srgbClr val="2968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7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5156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e414c"/>
                  </a:gs>
                  <a:gs pos="100000">
                    <a:srgbClr val="878fa5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14c"/>
                  </a:gs>
                  <a:gs pos="100000">
                    <a:srgbClr val="878fa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e508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686d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e50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5DF4-A9DF-4B48-8D3F-BFF456F725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0480" y="393840"/>
            <a:ext cx="6902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bc3d9"/>
                </a:gs>
                <a:gs pos="50000">
                  <a:srgbClr val="e5f1f5"/>
                </a:gs>
                <a:gs pos="100000">
                  <a:srgbClr val="8bc3d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bc3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9686d"/>
                </a:gs>
                <a:gs pos="50000">
                  <a:srgbClr val="d0dedf"/>
                </a:gs>
                <a:gs pos="100000">
                  <a:srgbClr val="29686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2968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f77c5"/>
                </a:gs>
                <a:gs pos="50000">
                  <a:srgbClr val="e6e1f1"/>
                </a:gs>
                <a:gs pos="100000">
                  <a:srgbClr val="8f77c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8f77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78fa5"/>
                </a:gs>
                <a:gs pos="50000">
                  <a:srgbClr val="e4e6eb"/>
                </a:gs>
                <a:gs pos="100000">
                  <a:srgbClr val="878fa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9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9686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404a"/>
                </a:gs>
                <a:gs pos="50000">
                  <a:srgbClr val="878fa5"/>
                </a:gs>
                <a:gs pos="100000">
                  <a:srgbClr val="3d404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832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bc3d9"/>
                      </a:gs>
                      <a:gs pos="100000">
                        <a:srgbClr val="577b8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bc3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78fa5"/>
                      </a:gs>
                      <a:gs pos="100000">
                        <a:srgbClr val="20222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78fa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9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89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f77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9686d"/>
                      </a:gs>
                      <a:gs pos="100000">
                        <a:srgbClr val="14353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29686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676520" y="1563840"/>
            <a:ext cx="58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bc3d9"/>
                    </a:gs>
                    <a:gs pos="100000">
                      <a:srgbClr val="8f77c5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f7f4d5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bc3d9"/>
                  </a:gs>
                  <a:gs pos="100000">
                    <a:srgbClr val="8f77c5"/>
                  </a:gs>
                </a:gsLst>
                <a:lin ang="10800000"/>
              </a:gradFill>
              <a:effectLst>
                <a:outerShdw dist="53966" dir="2700000" blurRad="0" rotWithShape="0">
                  <a:srgbClr val="f7f4d5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46000"/>
            <a:ext cx="762948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68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1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4d8e5"/>
              </a:gs>
              <a:gs pos="100000">
                <a:srgbClr val="8bc3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395f"/>
                    </a:gs>
                    <a:gs pos="100000">
                      <a:srgbClr val="8f77c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ccc1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9686d"/>
                  </a:gs>
                  <a:gs pos="100000">
                    <a:srgbClr val="122f3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3c9cb"/>
                  </a:gs>
                  <a:gs pos="100000">
                    <a:srgbClr val="29686d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9686d">
                      <a:alpha val="48235"/>
                    </a:srgbClr>
                  </a:gs>
                  <a:gs pos="100000">
                    <a:srgbClr val="2052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29686d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2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ad2eb"/>
              </a:gs>
              <a:gs pos="100000">
                <a:srgbClr val="8f77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29686d"/>
                </a:gs>
                <a:gs pos="100000">
                  <a:srgbClr val="bdd0d2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3128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9686d"/>
                </a:gs>
                <a:gs pos="100000">
                  <a:srgbClr val="0c20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bc3d9"/>
                </a:gs>
                <a:gs pos="100000">
                  <a:srgbClr val="3145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7f4d5"/>
                </a:gs>
                <a:gs pos="100000">
                  <a:srgbClr val="5756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e31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5e508c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1752480"/>
            <a:ext cx="6477120" cy="4125960"/>
            <a:chOff x="1295280" y="1752480"/>
            <a:chExt cx="6477120" cy="4125960"/>
          </a:xfrm>
        </p:grpSpPr>
        <p:sp>
          <p:nvSpPr>
            <p:cNvPr id="148" name=""/>
            <p:cNvSpPr/>
            <p:nvPr/>
          </p:nvSpPr>
          <p:spPr>
            <a:xfrm>
              <a:off x="3759120" y="405756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9120" y="355104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04488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3263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7702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4276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2827080"/>
              <a:ext cx="492120" cy="1954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78f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2092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5120" y="253836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3280" y="232092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3120" y="253836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1480" y="2827080"/>
              <a:ext cx="490320" cy="1954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5680" y="1752480"/>
              <a:ext cx="2816280" cy="5796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8880" y="246528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048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5289480"/>
              <a:ext cx="2816280" cy="577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1365a"/>
                </a:gs>
                <a:gs pos="50000">
                  <a:srgbClr val="8f77c5"/>
                </a:gs>
                <a:gs pos="100000">
                  <a:srgbClr val="4136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048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8360" y="470988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78f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8" name="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69" name=""/>
              <p:cNvSpPr/>
              <p:nvPr/>
            </p:nvSpPr>
            <p:spPr>
              <a:xfrm flipH="1" rot="16200000">
                <a:off x="2927160" y="325368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rot="5400000">
                <a:off x="5531040" y="320256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0800000">
                <a:off x="423864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624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3908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f77c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4d406a"/>
                  </a:gs>
                  <a:gs pos="50000">
                    <a:srgbClr val="8f77c5"/>
                  </a:gs>
                  <a:gs pos="100000">
                    <a:srgbClr val="4d40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4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8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964"/>
                  </a:gs>
                  <a:gs pos="50000">
                    <a:srgbClr val="8bc3d9"/>
                  </a:gs>
                  <a:gs pos="100000">
                    <a:srgbClr val="4059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bc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365a"/>
                  </a:gs>
                  <a:gs pos="50000">
                    <a:srgbClr val="8f77c5"/>
                  </a:gs>
                  <a:gs pos="100000">
                    <a:srgbClr val="41365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8f7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14c"/>
                  </a:gs>
                  <a:gs pos="50000">
                    <a:srgbClr val="878fa5"/>
                  </a:gs>
                  <a:gs pos="100000">
                    <a:srgbClr val="3e41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22f32"/>
                  </a:gs>
                  <a:gs pos="50000">
                    <a:srgbClr val="29686d"/>
                  </a:gs>
                  <a:gs pos="100000">
                    <a:srgbClr val="122f3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96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48c9c"/>
                  </a:gs>
                  <a:gs pos="50000">
                    <a:srgbClr val="8bc3d9"/>
                  </a:gs>
                  <a:gs pos="100000">
                    <a:srgbClr val="648c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7558e"/>
                  </a:gs>
                  <a:gs pos="50000">
                    <a:srgbClr val="8f77c5"/>
                  </a:gs>
                  <a:gs pos="100000">
                    <a:srgbClr val="67558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16777"/>
                  </a:gs>
                  <a:gs pos="50000">
                    <a:srgbClr val="878fa5"/>
                  </a:gs>
                  <a:gs pos="100000">
                    <a:srgbClr val="61677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d4b4e"/>
                  </a:gs>
                  <a:gs pos="50000">
                    <a:srgbClr val="29686d"/>
                  </a:gs>
                  <a:gs pos="100000">
                    <a:srgbClr val="1d4b4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14400" y="1371600"/>
            <a:ext cx="7315200" cy="5019840"/>
            <a:chOff x="914400" y="1371600"/>
            <a:chExt cx="7315200" cy="5019840"/>
          </a:xfrm>
        </p:grpSpPr>
        <p:sp>
          <p:nvSpPr>
            <p:cNvPr id="223" name="未知"/>
            <p:cNvSpPr/>
            <p:nvPr/>
          </p:nvSpPr>
          <p:spPr>
            <a:xfrm>
              <a:off x="5073480" y="137160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f77c5"/>
                </a:gs>
                <a:gs pos="100000">
                  <a:srgbClr val="9882c9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4320" y="280512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bc3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26668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964"/>
                </a:gs>
                <a:gs pos="50000">
                  <a:srgbClr val="8bc3d9"/>
                </a:gs>
                <a:gs pos="100000">
                  <a:srgbClr val="4059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333400" y="27432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42560" y="273384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4240" y="23036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f77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49880" y="21607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1365a"/>
                </a:gs>
                <a:gs pos="50000">
                  <a:srgbClr val="8f77c5"/>
                </a:gs>
                <a:gs pos="100000">
                  <a:srgbClr val="4136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835040" y="223200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53200" y="223200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2492280" y="187308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b9bdc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13200" y="2638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27800" y="21430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914400" y="3067200"/>
              <a:ext cx="2295360" cy="3324240"/>
              <a:chOff x="914400" y="3067200"/>
              <a:chExt cx="2295360" cy="3324240"/>
            </a:xfrm>
          </p:grpSpPr>
          <p:sp>
            <p:nvSpPr>
              <p:cNvPr id="236" name=""/>
              <p:cNvSpPr/>
              <p:nvPr/>
            </p:nvSpPr>
            <p:spPr>
              <a:xfrm>
                <a:off x="914400" y="3235320"/>
                <a:ext cx="2295360" cy="315612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6120"/>
                  <a:gd name="textAreaBottom" fmla="*/ 3124800 h 3156120"/>
                </a:gdLst>
                <a:ahLst/>
                <a:rect l="textAreaLeft" t="textAreaTop" r="textAreaRight" b="textAreaBottom"/>
                <a:pathLst>
                  <a:path w="21600" h="29699">
                    <a:moveTo>
                      <a:pt x="1013" y="0"/>
                    </a:moveTo>
                    <a:arcTo wR="1013" hR="1013" stAng="16200000" swAng="-5400000"/>
                    <a:lnTo>
                      <a:pt x="0" y="28686"/>
                    </a:lnTo>
                    <a:arcTo wR="1013" hR="1013" stAng="10800000" swAng="-5400000"/>
                    <a:lnTo>
                      <a:pt x="20587" y="29699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78f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30400" y="309276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4373f"/>
                  </a:gs>
                  <a:gs pos="50000">
                    <a:srgbClr val="878fa5"/>
                  </a:gs>
                  <a:gs pos="100000">
                    <a:srgbClr val="3437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813760" y="3164040"/>
                <a:ext cx="71640" cy="144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231200" y="3164040"/>
                <a:ext cx="73080" cy="144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8600" y="306720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90720" y="3495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505320" y="30384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9920" y="250524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4:24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0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