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0945-3E79-4031-9322-C41BA549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33DA-2E1C-4EBE-B547-0CBB3CDF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9E9-60EF-4901-BEED-82535C92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447A-9033-42FF-A83D-FB022214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DB2E-8B7C-4501-945B-652CCF2E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7C5-20AC-4B23-AF6E-37A2A3A4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AE77-5932-44BD-86F7-DE329670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E74-E38A-4351-99DD-6291E079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7A3-06A7-4277-BFAE-444D615A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46A-7CB8-470C-8BE5-44E7E241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EC94-638F-4594-8FF6-56D3D6BF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523-3C8C-490B-ADD5-B73149D1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E0D5-C403-44E6-BF6A-28EC1D60D6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96840" y="-98280"/>
            <a:ext cx="9277200" cy="6937200"/>
          </a:xfrm>
          <a:prstGeom prst="rect">
            <a:avLst/>
          </a:prstGeom>
          <a:ln w="38160">
            <a:solidFill>
              <a:srgbClr val="c0c0c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1692360" y="4187880"/>
            <a:ext cx="7488000" cy="788760"/>
          </a:xfrm>
          <a:prstGeom prst="rect">
            <a:avLst/>
          </a:prstGeom>
          <a:gradFill rotWithShape="0">
            <a:gsLst>
              <a:gs pos="0">
                <a:srgbClr val="112b21">
                  <a:alpha val="20000"/>
                </a:srgbClr>
              </a:gs>
              <a:gs pos="100000">
                <a:srgbClr val="265f49">
                  <a:alpha val="74117"/>
                </a:srgbClr>
              </a:gs>
            </a:gsLst>
            <a:lin ang="10800000"/>
          </a:gradFill>
          <a:ln w="0">
            <a:solidFill>
              <a:srgbClr val="265f49"/>
            </a:solidFill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96840" y="4975200"/>
            <a:ext cx="9277200" cy="1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44560" y="4187880"/>
            <a:ext cx="743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3080" y="631044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18320" y="4187880"/>
            <a:ext cx="4309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蓝色动态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01520"/>
            <a:ext cx="80024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09080" cy="904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7280" y="1461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3000" y="1079640"/>
            <a:ext cx="8650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2960" y="1773360"/>
            <a:ext cx="5477040" cy="718920"/>
          </a:xfrm>
          <a:prstGeom prst="rect">
            <a:avLst/>
          </a:prstGeom>
          <a:solidFill>
            <a:srgbClr val="ffffff"/>
          </a:solidFill>
          <a:ln w="31680">
            <a:solidFill>
              <a:srgbClr val="35ae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2960" y="2924280"/>
            <a:ext cx="5477040" cy="720720"/>
          </a:xfrm>
          <a:prstGeom prst="rect">
            <a:avLst/>
          </a:prstGeom>
          <a:solidFill>
            <a:srgbClr val="ffffff"/>
          </a:solidFill>
          <a:ln w="31680">
            <a:solidFill>
              <a:srgbClr val="35ae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2960" y="4076640"/>
            <a:ext cx="5477040" cy="720720"/>
          </a:xfrm>
          <a:prstGeom prst="rect">
            <a:avLst/>
          </a:prstGeom>
          <a:solidFill>
            <a:srgbClr val="ffffff"/>
          </a:solidFill>
          <a:ln w="31680">
            <a:solidFill>
              <a:srgbClr val="35ae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2960" y="5229360"/>
            <a:ext cx="5477040" cy="720720"/>
          </a:xfrm>
          <a:prstGeom prst="rect">
            <a:avLst/>
          </a:prstGeom>
          <a:solidFill>
            <a:srgbClr val="ffffff"/>
          </a:solidFill>
          <a:ln w="31680">
            <a:solidFill>
              <a:srgbClr val="35ae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954080"/>
            <a:ext cx="647640" cy="360360"/>
          </a:xfrm>
          <a:prstGeom prst="rect">
            <a:avLst/>
          </a:prstGeom>
          <a:solidFill>
            <a:srgbClr val="92c0de">
              <a:alpha val="60000"/>
            </a:srgbClr>
          </a:solidFill>
          <a:ln w="0">
            <a:solidFill>
              <a:srgbClr val="92c0d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1954080"/>
            <a:ext cx="647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58960" y="1954080"/>
            <a:ext cx="65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3080" y="1954080"/>
            <a:ext cx="4390920" cy="360360"/>
          </a:xfrm>
          <a:prstGeom prst="rect">
            <a:avLst/>
          </a:prstGeom>
          <a:solidFill>
            <a:srgbClr val="ffffff"/>
          </a:solidFill>
          <a:ln w="0">
            <a:solidFill>
              <a:srgbClr val="92c0d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3080" y="1893960"/>
            <a:ext cx="43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一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3080" y="3105000"/>
            <a:ext cx="4392360" cy="358920"/>
          </a:xfrm>
          <a:prstGeom prst="rect">
            <a:avLst/>
          </a:prstGeom>
          <a:solidFill>
            <a:srgbClr val="ffffff"/>
          </a:solidFill>
          <a:ln w="0">
            <a:solidFill>
              <a:srgbClr val="92c0d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06600" y="4276800"/>
            <a:ext cx="4392720" cy="358560"/>
          </a:xfrm>
          <a:prstGeom prst="rect">
            <a:avLst/>
          </a:prstGeom>
          <a:solidFill>
            <a:srgbClr val="ffffff"/>
          </a:solidFill>
          <a:ln w="0">
            <a:solidFill>
              <a:srgbClr val="92c0d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06600" y="5416560"/>
            <a:ext cx="4392720" cy="360360"/>
          </a:xfrm>
          <a:prstGeom prst="rect">
            <a:avLst/>
          </a:prstGeom>
          <a:solidFill>
            <a:srgbClr val="ffffff"/>
          </a:solidFill>
          <a:ln w="0">
            <a:solidFill>
              <a:srgbClr val="92c0d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8960" y="3105000"/>
            <a:ext cx="647640" cy="360360"/>
          </a:xfrm>
          <a:prstGeom prst="rect">
            <a:avLst/>
          </a:prstGeom>
          <a:solidFill>
            <a:srgbClr val="92c0de">
              <a:alpha val="60000"/>
            </a:srgbClr>
          </a:solidFill>
          <a:ln w="0">
            <a:solidFill>
              <a:srgbClr val="92c0d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58960" y="4257720"/>
            <a:ext cx="647640" cy="358560"/>
          </a:xfrm>
          <a:prstGeom prst="rect">
            <a:avLst/>
          </a:prstGeom>
          <a:solidFill>
            <a:srgbClr val="92c0de">
              <a:alpha val="60000"/>
            </a:srgbClr>
          </a:solidFill>
          <a:ln w="0">
            <a:solidFill>
              <a:srgbClr val="92c0d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8960" y="5408640"/>
            <a:ext cx="647640" cy="360360"/>
          </a:xfrm>
          <a:prstGeom prst="rect">
            <a:avLst/>
          </a:prstGeom>
          <a:solidFill>
            <a:srgbClr val="92c0de">
              <a:alpha val="60000"/>
            </a:srgbClr>
          </a:solidFill>
          <a:ln w="0">
            <a:solidFill>
              <a:srgbClr val="92c0d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31212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8960" y="42768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8960" y="54165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3080" y="3060720"/>
            <a:ext cx="45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二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3080" y="4216320"/>
            <a:ext cx="45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三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3080" y="535608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四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2560" y="83664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7267-4EFA-4A0B-B778-5EB56434E4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0" y="-15840"/>
            <a:ext cx="9107640" cy="6900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1846440"/>
            <a:ext cx="8229600" cy="468612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solidFill>
              <a:srgbClr val="265f4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568440"/>
            <a:ext cx="8229600" cy="84924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solidFill>
              <a:srgbClr val="265f4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2880" y="644400"/>
            <a:ext cx="814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此处添加标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8600" y="1876320"/>
            <a:ext cx="81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6813720"/>
          </a:xfrm>
          <a:prstGeom prst="rect">
            <a:avLst/>
          </a:prstGeom>
          <a:ln w="25560">
            <a:solidFill>
              <a:srgbClr val="c0c0c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908000" y="4221000"/>
            <a:ext cx="7201080" cy="1417680"/>
          </a:xfrm>
          <a:prstGeom prst="rect">
            <a:avLst/>
          </a:prstGeom>
          <a:solidFill>
            <a:srgbClr val="ffffff">
              <a:alpha val="29000"/>
            </a:srgbClr>
          </a:solidFill>
          <a:ln w="0">
            <a:solidFill>
              <a:srgbClr val="c0c0c0"/>
            </a:solidFill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221000"/>
            <a:ext cx="9109080" cy="1800"/>
          </a:xfrm>
          <a:prstGeom prst="line">
            <a:avLst/>
          </a:prstGeom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4222800"/>
            <a:ext cx="65692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感谢你的关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Thanks 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4:55:28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5:4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ec02000000000001024140</vt:lpwstr>
  </property>
</Properties>
</file>