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C087-6B15-4DA2-A29B-CB42938C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A45B-ABC5-4032-8142-42AEB48D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3228-3C5F-47F1-BF6E-495D2BAD1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C2E-1196-4811-AC3F-FE22C40A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166B-A03E-4FF6-848A-C0EC0B46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D12D5-024F-4500-8B3C-0D7059E4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CB9E-732F-4645-90A5-E3472B08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B680C-7BAC-494E-9986-F4BDB543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9939-6AC7-43AF-91AD-69BB8BE4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FFA5-9909-47C7-B409-3AAE7F18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09CB-09A3-48DB-BD4F-F3E860B2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C75B-B89A-4CAD-A298-D7357BA7E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EA37-288B-4EA7-B57E-DC59CEAE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02E7-FC36-4123-A34F-C7EE9854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4B31-C732-4DCB-AE9C-D18936C9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A6CC6-6077-435B-86CB-228A4666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97260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97640" y="76176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56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97260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97640" y="3667320"/>
            <a:ext cx="24044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7F3C2-A4C2-4FC0-B96C-5B941858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32C1-4905-4EA6-B18D-B002F34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9816-F4B6-422A-AB55-D3361F50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4FD7-99F2-4E1A-A6DA-7B5387A8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78487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10BA-621E-4EBD-94A7-0DE4306A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8DD8-D442-464D-8AF0-FC0EFD7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74000" y="366732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3D46-2022-495C-A14E-B6A857C96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74000" y="761760"/>
            <a:ext cx="364392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7560" y="3667320"/>
            <a:ext cx="746748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B369-3B78-46BC-8588-6FC7846A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33"/>
          <p:cNvGraphicFramePr/>
          <p:nvPr/>
        </p:nvGraphicFramePr>
        <p:xfrm>
          <a:off x="0" y="0"/>
          <a:ext cx="129528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3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295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7057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522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  <a:ea typeface="Gulim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  <a:ea typeface="Gulim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3505320" y="6552720"/>
            <a:ext cx="2133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F78B-D7E4-49B8-8700-62F96543947E}" type="slidenum">
              <a:rPr b="0" lang="ko-KR" sz="10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30"/>
          <p:cNvSpPr/>
          <p:nvPr/>
        </p:nvSpPr>
        <p:spPr>
          <a:xfrm>
            <a:off x="304920" y="6553080"/>
            <a:ext cx="8534160" cy="0"/>
          </a:xfrm>
          <a:prstGeom prst="line">
            <a:avLst/>
          </a:prstGeom>
          <a:ln w="9360">
            <a:solidFill>
              <a:srgbClr val="2e4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8" name="Rectangle 34"/>
          <p:cNvSpPr/>
          <p:nvPr/>
        </p:nvSpPr>
        <p:spPr>
          <a:xfrm>
            <a:off x="0" y="0"/>
            <a:ext cx="1295280" cy="533520"/>
          </a:xfrm>
          <a:prstGeom prst="rect">
            <a:avLst/>
          </a:prstGeom>
          <a:solidFill>
            <a:srgbClr val="419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9"/>
          <p:cNvSpPr/>
          <p:nvPr/>
        </p:nvSpPr>
        <p:spPr>
          <a:xfrm>
            <a:off x="7458120" y="5943600"/>
            <a:ext cx="120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 Unicode"/>
                <a:ea typeface="Gulim"/>
              </a:rPr>
              <a:t>LOGO</a:t>
            </a:r>
            <a:endParaRPr b="0" lang="en-US" sz="2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447560" y="761760"/>
            <a:ext cx="74674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19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487da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b66d4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e4f5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19366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F37C-1B8E-4E19-9BE6-311F4430168B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8380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fe33f"/>
                </a:solidFill>
                <a:latin typeface="Verdana"/>
                <a:ea typeface="宋体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46920" y="260280"/>
            <a:ext cx="25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绿色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模板</a:t>
            </a:r>
            <a:endParaRPr b="0" lang="en-US" sz="40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152280" y="6553080"/>
            <a:ext cx="2895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e4f56"/>
                </a:solidFill>
                <a:latin typeface="Lucida Sans Unicode"/>
                <a:ea typeface="Gulim"/>
              </a:rPr>
              <a:t>Company Logo</a:t>
            </a:r>
            <a:endParaRPr b="0" lang="en-US" sz="1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1" name="AutoShape 2"/>
          <p:cNvSpPr/>
          <p:nvPr/>
        </p:nvSpPr>
        <p:spPr>
          <a:xfrm>
            <a:off x="2192400" y="193212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66d48"/>
              </a:gs>
              <a:gs pos="100000">
                <a:srgbClr val="54322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2206800" y="2789280"/>
            <a:ext cx="547344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192400" y="3639960"/>
            <a:ext cx="5473800" cy="36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fe33f"/>
              </a:gs>
              <a:gs pos="100000">
                <a:srgbClr val="6069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192400" y="4518000"/>
            <a:ext cx="5473800" cy="36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87da4"/>
              </a:gs>
              <a:gs pos="100000">
                <a:srgbClr val="213a4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53352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503440" y="18716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Introduct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2523960" y="2722680"/>
            <a:ext cx="5096160" cy="4665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Strategy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8" name="AutoShape 9"/>
          <p:cNvSpPr/>
          <p:nvPr/>
        </p:nvSpPr>
        <p:spPr>
          <a:xfrm>
            <a:off x="2514600" y="358128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hallenges Forward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2590920" y="4452840"/>
            <a:ext cx="5095800" cy="466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Gulim"/>
              </a:rPr>
              <a:t>Conclusion</a:t>
            </a:r>
            <a:endParaRPr b="0" lang="en-US" sz="20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1752480" y="1731960"/>
            <a:ext cx="685800" cy="685800"/>
          </a:xfrm>
          <a:prstGeom prst="diamond">
            <a:avLst/>
          </a:prstGeom>
          <a:solidFill>
            <a:srgbClr val="b66d48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1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1" name="AutoShape 12"/>
          <p:cNvSpPr/>
          <p:nvPr/>
        </p:nvSpPr>
        <p:spPr>
          <a:xfrm>
            <a:off x="1752480" y="2570040"/>
            <a:ext cx="685800" cy="685800"/>
          </a:xfrm>
          <a:prstGeom prst="diamond">
            <a:avLst/>
          </a:prstGeom>
          <a:solidFill>
            <a:srgbClr val="419366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2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2" name="AutoShape 13"/>
          <p:cNvSpPr/>
          <p:nvPr/>
        </p:nvSpPr>
        <p:spPr>
          <a:xfrm>
            <a:off x="1752480" y="3484440"/>
            <a:ext cx="685800" cy="685800"/>
          </a:xfrm>
          <a:prstGeom prst="diamond">
            <a:avLst/>
          </a:prstGeom>
          <a:solidFill>
            <a:srgbClr val="cfe33f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3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3" name="AutoShape 14"/>
          <p:cNvSpPr/>
          <p:nvPr/>
        </p:nvSpPr>
        <p:spPr>
          <a:xfrm>
            <a:off x="1752480" y="4322880"/>
            <a:ext cx="685800" cy="685800"/>
          </a:xfrm>
          <a:prstGeom prst="diamond">
            <a:avLst/>
          </a:prstGeom>
          <a:solidFill>
            <a:srgbClr val="487da4"/>
          </a:solidFill>
          <a:ln w="38160">
            <a:solidFill>
              <a:srgbClr val="ffffff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Gulim"/>
              </a:rPr>
              <a:t>4</a:t>
            </a:r>
            <a:endParaRPr b="0" lang="en-US" sz="2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66d48"/>
                </a:solidFill>
                <a:uFillTx/>
                <a:latin typeface="Times New Roman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2e4f56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2e4f5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3"/>
          <p:cNvSpPr txBox="1"/>
          <p:nvPr/>
        </p:nvSpPr>
        <p:spPr>
          <a:xfrm>
            <a:off x="1692360" y="2997360"/>
            <a:ext cx="5759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b66d48"/>
                    </a:gs>
                    <a:gs pos="100000">
                      <a:srgbClr val="2e4f56"/>
                    </a:gs>
                  </a:gsLst>
                  <a:lin ang="108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b66d48"/>
                  </a:gs>
                  <a:gs pos="100000">
                    <a:srgbClr val="2e4f56"/>
                  </a:gs>
                </a:gsLst>
                <a:lin ang="108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gradFill rotWithShape="0">
            <a:gsLst>
              <a:gs pos="0">
                <a:srgbClr val="419366"/>
              </a:gs>
              <a:gs pos="100000">
                <a:srgbClr val="1e442f"/>
              </a:gs>
            </a:gsLst>
            <a:lin ang="108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5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5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b66d48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419366"/>
              </a:solidFill>
              <a:latin typeface="Verdana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2e4f56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2e4f5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2FF8E-F130-49EB-BD7B-D5002CD41BE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17:48Z</dcterms:created>
  <dc:creator>keke</dc:creator>
  <dc:description/>
  <dc:language>en-US</dc:language>
  <cp:lastModifiedBy>jccook</cp:lastModifiedBy>
  <dcterms:modified xsi:type="dcterms:W3CDTF">2015-07-20T09:54:56Z</dcterms:modified>
  <cp:revision>4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