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2F3E-0C8F-4031-81DD-D5A6F1383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B777-B507-4454-A078-9AD3360D0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36B6-257F-4E8E-86EC-D1A3B76E0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92C9-38DD-47B8-84C8-1956A2FF9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74D8-5102-4171-A038-253453291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6838-B313-49A2-9EBD-D57C9DB3D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0D9D-1F55-4BB2-8C81-B1FA4E924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DC01-1D31-4C79-818C-035802B1D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E1D8-FC47-4705-99FA-CB59EF00D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79A6-EE4B-4ED4-84E9-94EDC811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6856-6A98-4AB9-A4E6-B67E9DB0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75BE-9F9C-44BE-922B-08FC4CAF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A4D50-22FD-4925-8986-53F82CA74211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8890D-503F-434F-A00A-B24E4534A99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1428840" y="2071800"/>
            <a:ext cx="6227640" cy="718920"/>
            <a:chOff x="1428840" y="2071800"/>
            <a:chExt cx="6227640" cy="718920"/>
          </a:xfrm>
        </p:grpSpPr>
        <p:sp>
          <p:nvSpPr>
            <p:cNvPr id="43" name="AutoShape 3"/>
            <p:cNvSpPr/>
            <p:nvPr/>
          </p:nvSpPr>
          <p:spPr>
            <a:xfrm>
              <a:off x="1428840" y="2071800"/>
              <a:ext cx="6227640" cy="718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AutoShape 3"/>
            <p:cNvSpPr/>
            <p:nvPr/>
          </p:nvSpPr>
          <p:spPr>
            <a:xfrm>
              <a:off x="1428840" y="2160360"/>
              <a:ext cx="6227640" cy="541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Rectangle 16"/>
          <p:cNvSpPr/>
          <p:nvPr/>
        </p:nvSpPr>
        <p:spPr>
          <a:xfrm>
            <a:off x="3181320" y="22464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428840" y="3052800"/>
            <a:ext cx="6227640" cy="719280"/>
            <a:chOff x="1428840" y="3052800"/>
            <a:chExt cx="6227640" cy="719280"/>
          </a:xfrm>
        </p:grpSpPr>
        <p:sp>
          <p:nvSpPr>
            <p:cNvPr id="47" name="AutoShape 3"/>
            <p:cNvSpPr/>
            <p:nvPr/>
          </p:nvSpPr>
          <p:spPr>
            <a:xfrm>
              <a:off x="1428840" y="3052800"/>
              <a:ext cx="6227640" cy="71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3"/>
            <p:cNvSpPr/>
            <p:nvPr/>
          </p:nvSpPr>
          <p:spPr>
            <a:xfrm>
              <a:off x="1428840" y="3141720"/>
              <a:ext cx="6227640" cy="541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Rectangle 19"/>
          <p:cNvSpPr/>
          <p:nvPr/>
        </p:nvSpPr>
        <p:spPr>
          <a:xfrm>
            <a:off x="3181320" y="322884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428840" y="4078440"/>
            <a:ext cx="6227640" cy="718920"/>
            <a:chOff x="1428840" y="4078440"/>
            <a:chExt cx="6227640" cy="718920"/>
          </a:xfrm>
        </p:grpSpPr>
        <p:sp>
          <p:nvSpPr>
            <p:cNvPr id="51" name="AutoShape 3"/>
            <p:cNvSpPr/>
            <p:nvPr/>
          </p:nvSpPr>
          <p:spPr>
            <a:xfrm>
              <a:off x="1428840" y="4078440"/>
              <a:ext cx="6225840" cy="718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AutoShape 3"/>
            <p:cNvSpPr/>
            <p:nvPr/>
          </p:nvSpPr>
          <p:spPr>
            <a:xfrm>
              <a:off x="1428840" y="4167000"/>
              <a:ext cx="6227640" cy="541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22"/>
          <p:cNvSpPr/>
          <p:nvPr/>
        </p:nvSpPr>
        <p:spPr>
          <a:xfrm>
            <a:off x="3181320" y="423396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5760" y="64134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288720" y="0"/>
            <a:ext cx="450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目录动态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801B-4FF0-48B8-B611-B630783DB77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; An</dc:creator>
  <dc:description/>
  <cp:keywords>幻灯片之家 http:/www.eeppt.com</cp:keywords>
  <dc:language>en-US</dc:language>
  <cp:lastModifiedBy/>
  <dcterms:modified xsi:type="dcterms:W3CDTF">2015-07-17T01:16:43Z</dcterms:modified>
  <cp:revision>82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