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542A36-8E65-4C07-A779-000F445A42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F5D864-2B25-4566-8707-9900AFA9CA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8E3D9A-95DA-4E73-8848-4582595295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755C7C-6986-4DF4-887E-25E7AF0A85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BDA655-2CC1-467E-910E-76703EC636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90E4F2-AB65-4A5A-8DD6-13AEE15F50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913A55-8FBF-4092-9D84-A7224A73FC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40217B-5513-4912-878E-7BC2E865A1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4F3E07-EBEE-4BD8-897E-5A73083A02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347C4C-AB86-4690-9302-429B8BC1A8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96ECB7-F569-4888-B847-974B3ADEF9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3B6D33-6F66-489C-9EFC-6F11E7C1C7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90DCA1-975D-46AE-AAFA-42EA5BCA45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DC3F20-3C1C-49AA-B7C0-B227B6B290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737EDE-F706-491A-A443-D77AE41849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5BCBFD-C2AF-43FC-B9BC-EB8544749E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4CC9AD-D320-4736-AAD6-03F76B9B5E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742F90-4F08-4159-BA29-D553613668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C48F45-2CAD-420D-8279-00C2019017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CB95E4-266B-4F4D-A877-E2630A9CEA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678CBB-82A4-4517-A00B-C8E055A829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BE23A8E-7101-4FEA-A1A0-D440853392F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E1E9C2-4A40-4E8A-AB7A-E9B334B52B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1FEE7B-7DAC-4113-B679-414BD5743B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C88F10-4C49-4445-AB46-5042F8C1C7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4D0F32-50EF-4FD2-9D68-9231605CA0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180BE4-A5C1-452F-96F2-6AD21F31F0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FE0C77-9E27-4955-AAB9-A68B0A5404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E63E87-EFD9-430F-8102-520E9CC661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E66A2B-F7BA-4526-926B-C26BF1BBA1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D9038-F880-471F-9B27-6E9374068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79DA6F-ED24-4A5A-B476-E710651AEB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1F4D2FC-0B4A-4A69-A58D-8EFD1CB878C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55C581D-04BE-4B9F-8A59-A59BB16B3B1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10F8C7C-B52F-425E-AFC2-193DE9028BC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D70603-15DD-455A-A7A1-68DDE42D06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197FBE-198E-4B70-9194-FB6F7164AE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7EEDFC-E760-4F44-993C-7C7F3BFE13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8F20DF-1CD6-4673-B420-0153460C68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0857C5-D25B-4459-AA7F-A031C9AA13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8D5D5F-D77B-4FA2-9490-63FEFF92D6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67119-A04B-426B-9A1F-0793B4283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3F732D-01B6-438C-9643-58C717E324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2E5DB2-BF92-45E3-9A7F-F29EC32FFE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211462-D157-4DD0-8FCB-16007BCFC66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CE9FDE5-1958-48BC-946E-2D768629C22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4BC1A1F-D00E-472D-B8A6-41621DF9977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FCBCC75-6470-4594-A660-D9050AED83A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A7E8C1-38A5-4A8C-81FC-DBDE2F37D2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246BFEB-173C-4F84-9EBF-6CCA8FD09D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412834-9722-4AF4-A7E9-01BA5F0DC2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F508622-067F-429F-B1AB-84B35D4FACC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6B92D-7FFE-49EC-9899-6A0281090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157CC1-49D0-4BF4-BC73-4B8F78DEC9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9C2DCF-200E-4B56-8921-D8946F9B81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E5AC0D-C4DA-4677-8D63-88CD462D47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D60639-7024-41B7-B7B7-E7B06FE08D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1CA8A68-2177-4F55-B130-49E7281C3F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DFC7F96-C0D2-41FD-9899-AA5A1A5BAE3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8FA6FDC-ECDD-408E-849D-70A4B8DDB37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A7D5E-9867-4582-9BA9-0B9B01A73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AA5CE-914E-494A-9A4E-42E53A1F3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DD9E7-54D2-4B4D-9275-3661CA374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BF3D8-9473-42FA-938E-308A58468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EDC35-46E6-402D-8A5C-08F8736BB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5759A-7CC0-46A1-A426-E46F03DA4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5A735-256C-4B7B-B693-B2D4A3F2D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847A3-BB50-40E4-9B2C-6EC5B8BCE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F79D6-CBB3-430B-9D67-FFFC0F79E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456D00-E71B-48F5-B74E-AD74994DEB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BA1F0-EE29-4DFF-82E8-961BA1BA7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64857-632F-402A-BCCE-86D6BEF76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07A0F-F0A5-4F24-B491-76DAD6F91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48689-084C-4D40-8FC5-EB110BFD2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7A1B3-1654-49C6-A38D-29808AC89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D223C-1A81-46BA-92E2-FDC96695E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18634-038F-40EB-96CD-68E0E1AD4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FD71B-D8F7-4DEB-A7B2-0BC8064A1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4614D-80EB-48EF-86E2-1D1DC09B8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881F51-6F2B-45CB-8745-282286A4B0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2A2B53-4D9B-4777-B3F0-3AAA68E2F1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741975-FA7D-4E03-804E-577AA41563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2200FE-ADCD-451B-B245-EB5DB41390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D9E2E8-E9EB-45D9-AB2C-3222DDC5DE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BDF1CB-8071-4986-B81C-E9E929EB2A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3D1855-2E9D-4E7F-B1CE-0CE3590C25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138C06-8040-4AD7-9333-D3C0BD2338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1F6AD6-1768-47BA-A5AD-3B782E828B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C75520-81D2-4D91-8B2F-05DF9B5B19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32DAC6-6BA6-44A4-A9CD-6E9A1680D8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C4449F-E74D-42A7-A0E8-0CC40B69A6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BDAE9F-AF95-412F-8233-97EC4516B6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659D14-AC26-4ACB-8A74-39CB19A856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96A31B-8631-446A-A3D9-635188D6AF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CB039B-4769-417C-A6FF-DA8F3FAF7D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8C8125-58A1-4312-A17B-5A471E9A4D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455E98-6909-4308-AD75-1E1731752E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1764E3-7F6C-409A-ABE9-2AE5CDF9A1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7302B2-8844-4721-A2EA-748EED5454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E2FD84-A05A-4DA4-8817-C396F51750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788102-EA07-4383-B560-FA5B0E49E8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7D31C3-DEAE-4F8B-A632-080103A861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FBD903-BB75-4EA3-8966-42055B3D4B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D7B032-5F09-4ABA-999A-66754E2B1A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9C25BF-4A79-4526-B5A1-20EF572F04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9AF990-9CEF-4F38-AB93-01D6BC1366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60286F-78CF-4B29-A326-D3399E4FFF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D5FC69-F51D-480B-8F92-0BF20BA020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E0A921-AF16-40C9-92EA-A688CFADAC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923691-8824-47E1-8B21-A551646BA3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3FBBEC-2CEE-4657-BA27-88F43D453B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A47DDD-B3CE-44A3-AA53-46B573FB4B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E1FC09-780D-4D57-AC3A-419A49F58E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940231-0488-47D0-A30B-3C89E61C8C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D837F1-5B59-460C-A532-2989FC5FE3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50A315-49AF-4E3B-A07C-675395763C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6FE4F9-6392-4094-83D3-974E6B9DDF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BDD337-C512-4911-B317-B2401A03EA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2D60B0-DE95-43A6-BABE-379030E50E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0E90DB-3EEA-4610-91C0-3E21E658DA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520E50-44BE-4535-BAC4-5A1622EF81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5ABFD2-0976-4E38-B304-34115E12E9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0153E0-E2F9-4409-A358-E2A09AD939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50EB77-9528-4B07-878C-664C3125A7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9B3285-2B97-476B-AA91-ABA1015AD2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26B849-D783-4D6D-8243-6D181B4516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DF172A-8045-4279-AB03-BD1E1485C4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7288B8-3301-4FEC-8DC6-EEC806F290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FE4458-A4C2-4091-876A-BAC13873E5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797406-05AA-4603-9C88-9434FC21E6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F1F61F-ECD8-4752-B66F-45D51B916A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20C061-014B-412D-986C-D974336F33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BC577A-86BB-4FC2-851D-0D447CC37B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2C06E0-5157-4980-AC24-06328B7689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CA3604-C277-4A42-8376-0D4504CE21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D8EB7F-3B97-4184-B808-BA8043F98E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E2B2D7-0B71-4A5C-AAB1-6973B9E683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057EBE-A1AA-4CCB-BEF8-56F17DA1A8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ADFCB8-C682-49DF-B6B2-AFD10A1652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2CBE93-45EF-49A4-9872-ACE3A3DE5B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087C86-848F-46C7-B1F0-94CB2F1A34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805037-1A35-4D3D-A260-C927557455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1A3BB4-B842-476B-94C1-8DA227D113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D44D3B-1D78-4030-A194-4B2E80A2B98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36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7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01AE6-3060-469F-809B-ACFD3D6A804B}"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9"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410"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11"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3D60-849B-4A10-9527-096F42846FFB}"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0"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451"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52"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A0A7C-04A8-47CB-919F-97864DF68DB2}"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1"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49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93"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D5B0-9754-4A13-A850-99828B974391}"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272F-9CCD-4727-B601-74349F40255D}"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8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8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7E2D-BB0D-4FDF-B19C-70A146B401B7}"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12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DE2B-CB3F-4BDC-85B8-3FBB53ABD891}"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16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6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743D9-F3EB-4974-953F-264CE30CA5E8}"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20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0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EF07-E137-452E-9510-C616474C716F}"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24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4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C2BB-C74F-41EB-A3DC-7E2F57D9B325}"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28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8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668F-489C-4FE6-B8AD-E85945626DE7}"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32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2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6CC8E-F7AD-4C26-BA82-69D31377AC18}"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00000" y="259920"/>
            <a:ext cx="869976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d"/>
                </a:solidFill>
                <a:latin typeface="汉仪行楷繁"/>
                <a:ea typeface="汉仪行楷繁"/>
              </a:rPr>
              <a:t>南瓜蔬菜主题</a:t>
            </a:r>
            <a:r>
              <a:rPr b="0" lang="en-US" sz="4000" spc="-1" strike="noStrike">
                <a:solidFill>
                  <a:srgbClr val="ffffcd"/>
                </a:solidFill>
                <a:latin typeface="汉仪行楷繁"/>
                <a:ea typeface="汉仪行楷繁"/>
              </a:rPr>
              <a:t>PPT</a:t>
            </a:r>
            <a:r>
              <a:rPr b="0" lang="zh-CN" sz="4000" spc="-1" strike="noStrike">
                <a:solidFill>
                  <a:srgbClr val="ffffcd"/>
                </a:solidFill>
                <a:latin typeface="汉仪行楷繁"/>
                <a:ea typeface="汉仪行楷繁"/>
              </a:rPr>
              <a:t>模板在线下载</a:t>
            </a:r>
            <a:endParaRPr b="0" lang="en-US" sz="4000" spc="-1" strike="noStrike">
              <a:solidFill>
                <a:srgbClr val="4d4d4d"/>
              </a:solidFill>
              <a:latin typeface="Microsoft Sans Serif"/>
            </a:endParaRPr>
          </a:p>
        </p:txBody>
      </p:sp>
      <p:sp>
        <p:nvSpPr>
          <p:cNvPr id="531" name="矩形 3"/>
          <p:cNvSpPr/>
          <p:nvPr/>
        </p:nvSpPr>
        <p:spPr>
          <a:xfrm>
            <a:off x="208800" y="64533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143000" y="1219320"/>
            <a:ext cx="731520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Slide master</a:t>
            </a:r>
            <a:endParaRPr b="0" lang="en-US" sz="4000" spc="-1" strike="noStrike">
              <a:solidFill>
                <a:srgbClr val="4d4d4d"/>
              </a:solidFill>
              <a:latin typeface="Microsoft Sans Serif"/>
            </a:endParaRPr>
          </a:p>
        </p:txBody>
      </p:sp>
      <p:sp>
        <p:nvSpPr>
          <p:cNvPr id="533" name="PlaceHolder 2"/>
          <p:cNvSpPr>
            <a:spLocks noGrp="1"/>
          </p:cNvSpPr>
          <p:nvPr>
            <p:ph/>
          </p:nvPr>
        </p:nvSpPr>
        <p:spPr>
          <a:xfrm>
            <a:off x="1143000" y="2057400"/>
            <a:ext cx="7315200" cy="4191120"/>
          </a:xfrm>
          <a:prstGeom prst="rect">
            <a:avLst/>
          </a:prstGeom>
          <a:noFill/>
          <a:ln w="0">
            <a:noFill/>
          </a:ln>
        </p:spPr>
        <p:txBody>
          <a:bodyPr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981080" y="68544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4d4d4d"/>
              </a:solidFill>
              <a:latin typeface="Microsoft Sans Serif"/>
            </a:endParaRPr>
          </a:p>
        </p:txBody>
      </p:sp>
      <p:sp>
        <p:nvSpPr>
          <p:cNvPr id="535" name="PlaceHolder 2"/>
          <p:cNvSpPr>
            <a:spLocks noGrp="1"/>
          </p:cNvSpPr>
          <p:nvPr>
            <p:ph/>
          </p:nvPr>
        </p:nvSpPr>
        <p:spPr>
          <a:xfrm>
            <a:off x="1981080" y="1630080"/>
            <a:ext cx="6934320" cy="426708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p:txBody>
      </p:sp>
      <p:sp>
        <p:nvSpPr>
          <p:cNvPr id="536" name="矩形 4"/>
          <p:cNvSpPr/>
          <p:nvPr/>
        </p:nvSpPr>
        <p:spPr>
          <a:xfrm>
            <a:off x="8388360" y="6627960"/>
            <a:ext cx="662040" cy="2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下载：</a:t>
            </a:r>
            <a:r>
              <a:rPr b="0" lang="en-US" sz="100" spc="-1" strike="noStrike">
                <a:solidFill>
                  <a:srgbClr val="ffffff"/>
                </a:solidFill>
                <a:latin typeface="Arial"/>
                <a:ea typeface="宋体"/>
              </a:rPr>
              <a:t>www.1ppt.com/moban/     </a:t>
            </a:r>
            <a:r>
              <a:rPr b="0" lang="zh-CN" sz="100" spc="-1" strike="noStrike">
                <a:solidFill>
                  <a:srgbClr val="ffffff"/>
                </a:solidFill>
                <a:latin typeface="Arial"/>
                <a:ea typeface="宋体"/>
              </a:rPr>
              <a:t>行业</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a:t>
            </a:r>
            <a:r>
              <a:rPr b="0" lang="en-US" sz="100" spc="-1" strike="noStrike">
                <a:solidFill>
                  <a:srgbClr val="ffffff"/>
                </a:solidFill>
                <a:latin typeface="Arial"/>
                <a:ea typeface="宋体"/>
              </a:rPr>
              <a:t>www.1ppt.com/hangye/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节日</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a:t>
            </a:r>
            <a:r>
              <a:rPr b="0" lang="en-US" sz="100" spc="-1" strike="noStrike">
                <a:solidFill>
                  <a:srgbClr val="ffffff"/>
                </a:solidFill>
                <a:latin typeface="Arial"/>
                <a:ea typeface="宋体"/>
              </a:rPr>
              <a:t>www.1ppt.com/jieri/           PPT</a:t>
            </a:r>
            <a:r>
              <a:rPr b="0" lang="zh-CN" sz="100" spc="-1" strike="noStrike">
                <a:solidFill>
                  <a:srgbClr val="ffffff"/>
                </a:solidFill>
                <a:latin typeface="Arial"/>
                <a:ea typeface="宋体"/>
              </a:rPr>
              <a:t>素材下载：</a:t>
            </a:r>
            <a:r>
              <a:rPr b="0" lang="en-US" sz="100" spc="-1" strike="noStrike">
                <a:solidFill>
                  <a:srgbClr val="ffffff"/>
                </a:solidFill>
                <a:latin typeface="Arial"/>
                <a:ea typeface="宋体"/>
              </a:rPr>
              <a:t>www.1ppt.com/sucai/</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PPT</a:t>
            </a:r>
            <a:r>
              <a:rPr b="0" lang="zh-CN" sz="100" spc="-1" strike="noStrike">
                <a:solidFill>
                  <a:srgbClr val="ffffff"/>
                </a:solidFill>
                <a:latin typeface="Arial"/>
                <a:ea typeface="宋体"/>
              </a:rPr>
              <a:t>背景图片：</a:t>
            </a:r>
            <a:r>
              <a:rPr b="0" lang="en-US" sz="100" spc="-1" strike="noStrike">
                <a:solidFill>
                  <a:srgbClr val="ffffff"/>
                </a:solidFill>
                <a:latin typeface="Arial"/>
                <a:ea typeface="宋体"/>
              </a:rPr>
              <a:t>www.1ppt.com/beijing/      PPT</a:t>
            </a:r>
            <a:r>
              <a:rPr b="0" lang="zh-CN" sz="100" spc="-1" strike="noStrike">
                <a:solidFill>
                  <a:srgbClr val="ffffff"/>
                </a:solidFill>
                <a:latin typeface="Arial"/>
                <a:ea typeface="宋体"/>
              </a:rPr>
              <a:t>图表下载：</a:t>
            </a:r>
            <a:r>
              <a:rPr b="0" lang="en-US" sz="100" spc="-1" strike="noStrike">
                <a:solidFill>
                  <a:srgbClr val="ffffff"/>
                </a:solidFill>
                <a:latin typeface="Arial"/>
                <a:ea typeface="宋体"/>
              </a:rPr>
              <a:t>www.1ppt.com/tubiao/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优秀</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下载：</a:t>
            </a:r>
            <a:r>
              <a:rPr b="0" lang="en-US" sz="100" spc="-1" strike="noStrike">
                <a:solidFill>
                  <a:srgbClr val="ffffff"/>
                </a:solidFill>
                <a:latin typeface="Arial"/>
                <a:ea typeface="宋体"/>
              </a:rPr>
              <a:t>www.1ppt.com/xiazai/        PPT</a:t>
            </a:r>
            <a:r>
              <a:rPr b="0" lang="zh-CN" sz="100" spc="-1" strike="noStrike">
                <a:solidFill>
                  <a:srgbClr val="ffffff"/>
                </a:solidFill>
                <a:latin typeface="Arial"/>
                <a:ea typeface="宋体"/>
              </a:rPr>
              <a:t>教程： </a:t>
            </a:r>
            <a:r>
              <a:rPr b="0" lang="en-US" sz="100" spc="-1" strike="noStrike">
                <a:solidFill>
                  <a:srgbClr val="ffffff"/>
                </a:solidFill>
                <a:latin typeface="Arial"/>
                <a:ea typeface="宋体"/>
              </a:rPr>
              <a:t>www.1ppt.com/powerpoint/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Word</a:t>
            </a:r>
            <a:r>
              <a:rPr b="0" lang="zh-CN" sz="100" spc="-1" strike="noStrike">
                <a:solidFill>
                  <a:srgbClr val="ffffff"/>
                </a:solidFill>
                <a:latin typeface="Arial"/>
                <a:ea typeface="宋体"/>
              </a:rPr>
              <a:t>教程： </a:t>
            </a:r>
            <a:r>
              <a:rPr b="0" lang="en-US" sz="100" spc="-1" strike="noStrike">
                <a:solidFill>
                  <a:srgbClr val="ffffff"/>
                </a:solidFill>
                <a:latin typeface="Arial"/>
                <a:ea typeface="宋体"/>
              </a:rPr>
              <a:t>www.1ppt.com/word/              Excel</a:t>
            </a:r>
            <a:r>
              <a:rPr b="0" lang="zh-CN" sz="100" spc="-1" strike="noStrike">
                <a:solidFill>
                  <a:srgbClr val="ffffff"/>
                </a:solidFill>
                <a:latin typeface="Arial"/>
                <a:ea typeface="宋体"/>
              </a:rPr>
              <a:t>教程：</a:t>
            </a:r>
            <a:r>
              <a:rPr b="0" lang="en-US" sz="100" spc="-1" strike="noStrike">
                <a:solidFill>
                  <a:srgbClr val="ffffff"/>
                </a:solidFill>
                <a:latin typeface="Arial"/>
                <a:ea typeface="宋体"/>
              </a:rPr>
              <a:t>www.1ppt.com/excel/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资料下载：</a:t>
            </a:r>
            <a:r>
              <a:rPr b="0" lang="en-US" sz="100" spc="-1" strike="noStrike">
                <a:solidFill>
                  <a:srgbClr val="ffffff"/>
                </a:solidFill>
                <a:latin typeface="Arial"/>
                <a:ea typeface="宋体"/>
              </a:rPr>
              <a:t>www.1ppt.com/ziliao/                PPT</a:t>
            </a:r>
            <a:r>
              <a:rPr b="0" lang="zh-CN" sz="100" spc="-1" strike="noStrike">
                <a:solidFill>
                  <a:srgbClr val="ffffff"/>
                </a:solidFill>
                <a:latin typeface="Arial"/>
                <a:ea typeface="宋体"/>
              </a:rPr>
              <a:t>课件下载：</a:t>
            </a:r>
            <a:r>
              <a:rPr b="0" lang="en-US" sz="100" spc="-1" strike="noStrike">
                <a:solidFill>
                  <a:srgbClr val="ffffff"/>
                </a:solidFill>
                <a:latin typeface="Arial"/>
                <a:ea typeface="宋体"/>
              </a:rPr>
              <a:t>www.1ppt.com/kejian/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范文下载：</a:t>
            </a:r>
            <a:r>
              <a:rPr b="0" lang="en-US" sz="100" spc="-1" strike="noStrike">
                <a:solidFill>
                  <a:srgbClr val="ffffff"/>
                </a:solidFill>
                <a:latin typeface="Arial"/>
                <a:ea typeface="宋体"/>
              </a:rPr>
              <a:t>www.1ppt.com/fanwen/             </a:t>
            </a:r>
            <a:r>
              <a:rPr b="0" lang="zh-CN" sz="100" spc="-1" strike="noStrike">
                <a:solidFill>
                  <a:srgbClr val="ffffff"/>
                </a:solidFill>
                <a:latin typeface="Arial"/>
                <a:ea typeface="宋体"/>
              </a:rPr>
              <a:t>试卷下载：</a:t>
            </a:r>
            <a:r>
              <a:rPr b="0" lang="en-US" sz="100" spc="-1" strike="noStrike">
                <a:solidFill>
                  <a:srgbClr val="ffffff"/>
                </a:solidFill>
                <a:latin typeface="Arial"/>
                <a:ea typeface="宋体"/>
              </a:rPr>
              <a:t>www.1ppt.com/shiti/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教案下载：</a:t>
            </a:r>
            <a:r>
              <a:rPr b="0" lang="en-US" sz="100" spc="-1" strike="noStrike">
                <a:solidFill>
                  <a:srgbClr val="ffffff"/>
                </a:solidFill>
                <a:latin typeface="Arial"/>
                <a:ea typeface="宋体"/>
              </a:rPr>
              <a:t>www.1ppt.com/jiaoan/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 </a:t>
            </a:r>
            <a:endParaRPr b="0" lang="en-US" sz="100" spc="-1" strike="noStrike">
              <a:solidFill>
                <a:srgbClr val="4d4d4d"/>
              </a:solidFill>
              <a:latin typeface="Arial"/>
            </a:endParaRPr>
          </a:p>
        </p:txBody>
      </p:sp>
      <p:sp>
        <p:nvSpPr>
          <p:cNvPr id="537" name="Text Box 5"/>
          <p:cNvSpPr/>
          <p:nvPr/>
        </p:nvSpPr>
        <p:spPr>
          <a:xfrm>
            <a:off x="2124000" y="630864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ffcc3b"/>
                </a:solidFill>
                <a:uFillTx/>
                <a:latin typeface="Verdana"/>
                <a:ea typeface="宋体"/>
                <a:hlinkClick r:id="rId2"/>
              </a:rPr>
              <a:t>PPT之家</a:t>
            </a:r>
            <a:r>
              <a:rPr b="1" lang="zh-CN" sz="1400" spc="-1" strike="noStrike">
                <a:solidFill>
                  <a:srgbClr val="1c1c1c"/>
                </a:solidFill>
                <a:latin typeface="Verdana"/>
                <a:ea typeface="宋体"/>
              </a:rPr>
              <a:t>整理发布，更多免费</a:t>
            </a:r>
            <a:r>
              <a:rPr b="1" lang="zh-CN" sz="1400" spc="-1" strike="noStrike">
                <a:solidFill>
                  <a:srgbClr val="1c1c1c"/>
                </a:solidFill>
                <a:latin typeface="Verdana"/>
                <a:ea typeface="宋体"/>
              </a:rPr>
              <a:t>PPT</a:t>
            </a:r>
            <a:r>
              <a:rPr b="1" lang="zh-CN" sz="1400" spc="-1" strike="noStrike">
                <a:solidFill>
                  <a:srgbClr val="1c1c1c"/>
                </a:solidFill>
                <a:latin typeface="Verdana"/>
                <a:ea typeface="宋体"/>
              </a:rPr>
              <a:t>模板下载请访问：</a:t>
            </a:r>
            <a:r>
              <a:rPr b="1" lang="zh-CN" sz="1400" spc="-1" strike="noStrike">
                <a:solidFill>
                  <a:srgbClr val="1c1c1c"/>
                </a:solidFill>
                <a:latin typeface="Verdana"/>
                <a:ea typeface="宋体"/>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539"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ppt</a:t>
            </a:r>
            <a:r>
              <a:rPr b="0" lang="zh-CN" sz="1300" spc="-1" strike="noStrike">
                <a:solidFill>
                  <a:srgbClr val="ededed"/>
                </a:solidFill>
                <a:latin typeface="Calibri"/>
              </a:rPr>
              <a:t>模板下载网站  </a:t>
            </a:r>
            <a:r>
              <a:rPr b="0" lang="zh-CN" sz="1300" spc="-1" strike="noStrike">
                <a:solidFill>
                  <a:srgbClr val="ededed"/>
                </a:solidFill>
                <a:latin typeface="Calibri"/>
              </a:rPr>
              <a:t>http://www.eeppt.com/                      ppt</a:t>
            </a:r>
            <a:r>
              <a:rPr b="0" lang="zh-CN" sz="1300" spc="-1" strike="noStrike">
                <a:solidFill>
                  <a:srgbClr val="ededed"/>
                </a:solidFill>
                <a:latin typeface="Calibri"/>
              </a:rPr>
              <a:t>背景图片下载  </a:t>
            </a:r>
            <a:r>
              <a:rPr b="0" lang="zh-CN" sz="1300" spc="-1" strike="noStrike">
                <a:solidFill>
                  <a:srgbClr val="ededed"/>
                </a:solidFill>
                <a:latin typeface="Calibri"/>
              </a:rPr>
              <a:t>http://www.eeppt.com/beijing/</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动态</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dongtai/               </a:t>
            </a:r>
            <a:r>
              <a:rPr b="0" lang="zh-CN" sz="1300" spc="-1" strike="noStrike">
                <a:solidFill>
                  <a:srgbClr val="ededed"/>
                </a:solidFill>
                <a:latin typeface="Calibri"/>
              </a:rPr>
              <a:t>毕业设计</a:t>
            </a:r>
            <a:r>
              <a:rPr b="0" lang="zh-CN" sz="1300" spc="-1" strike="noStrike">
                <a:solidFill>
                  <a:srgbClr val="ededed"/>
                </a:solidFill>
                <a:latin typeface="Calibri"/>
              </a:rPr>
              <a:t>ppt  http://www.eeppt.com/moban/chuangyi/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ppt</a:t>
            </a:r>
            <a:r>
              <a:rPr b="0" lang="zh-CN" sz="1300" spc="-1" strike="noStrike">
                <a:solidFill>
                  <a:srgbClr val="ededed"/>
                </a:solidFill>
                <a:latin typeface="Calibri"/>
              </a:rPr>
              <a:t>图表模板  </a:t>
            </a:r>
            <a:r>
              <a:rPr b="0" lang="zh-CN" sz="1300" spc="-1" strike="noStrike">
                <a:solidFill>
                  <a:srgbClr val="ededed"/>
                </a:solidFill>
                <a:latin typeface="Calibri"/>
              </a:rPr>
              <a:t>http://www.eeppt.com/tubiao/                  </a:t>
            </a:r>
            <a:r>
              <a:rPr b="0" lang="zh-CN" sz="1300" spc="-1" strike="noStrike">
                <a:solidFill>
                  <a:srgbClr val="ededed"/>
                </a:solidFill>
                <a:latin typeface="Calibri"/>
              </a:rPr>
              <a:t>论文答辩</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dabian/</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ppt</a:t>
            </a:r>
            <a:r>
              <a:rPr b="0" lang="zh-CN" sz="1300" spc="-1" strike="noStrike">
                <a:solidFill>
                  <a:srgbClr val="ededed"/>
                </a:solidFill>
                <a:latin typeface="Calibri"/>
              </a:rPr>
              <a:t>模板打包下载  </a:t>
            </a:r>
            <a:r>
              <a:rPr b="0" lang="zh-CN" sz="1300" spc="-1" strike="noStrike">
                <a:solidFill>
                  <a:srgbClr val="ededed"/>
                </a:solidFill>
                <a:latin typeface="Calibri"/>
              </a:rPr>
              <a:t>http://www.eeppt.com/moban/         </a:t>
            </a:r>
            <a:r>
              <a:rPr b="0" lang="zh-CN" sz="1300" spc="-1" strike="noStrike">
                <a:solidFill>
                  <a:srgbClr val="ededed"/>
                </a:solidFill>
                <a:latin typeface="Calibri"/>
              </a:rPr>
              <a:t>好看的</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jingpin/</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企业</a:t>
            </a:r>
            <a:r>
              <a:rPr b="0" lang="zh-CN" sz="1300" spc="-1" strike="noStrike">
                <a:solidFill>
                  <a:srgbClr val="ededed"/>
                </a:solidFill>
                <a:latin typeface="Calibri"/>
              </a:rPr>
              <a:t>ppt  http://www.eeppt.com/moban/qiye/                 </a:t>
            </a:r>
            <a:r>
              <a:rPr b="0" lang="zh-CN" sz="1300" spc="-1" strike="noStrike">
                <a:solidFill>
                  <a:srgbClr val="ededed"/>
                </a:solidFill>
                <a:latin typeface="Calibri"/>
              </a:rPr>
              <a:t>免费</a:t>
            </a:r>
            <a:r>
              <a:rPr b="0" lang="zh-CN" sz="1300" spc="-1" strike="noStrike">
                <a:solidFill>
                  <a:srgbClr val="ededed"/>
                </a:solidFill>
                <a:latin typeface="Calibri"/>
              </a:rPr>
              <a:t>ppt</a:t>
            </a:r>
            <a:r>
              <a:rPr b="0" lang="zh-CN" sz="1300" spc="-1" strike="noStrike">
                <a:solidFill>
                  <a:srgbClr val="ededed"/>
                </a:solidFill>
                <a:latin typeface="Calibri"/>
              </a:rPr>
              <a:t>课件下载  </a:t>
            </a:r>
            <a:r>
              <a:rPr b="0" lang="zh-CN" sz="1300" spc="-1" strike="noStrike">
                <a:solidFill>
                  <a:srgbClr val="ededed"/>
                </a:solidFill>
                <a:latin typeface="Calibri"/>
              </a:rPr>
              <a:t>http://www.eeppt.com/moban/kejian/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ppt</a:t>
            </a:r>
            <a:r>
              <a:rPr b="0" lang="zh-CN" sz="1300" spc="-1" strike="noStrike">
                <a:solidFill>
                  <a:srgbClr val="ededed"/>
                </a:solidFill>
                <a:latin typeface="Calibri"/>
              </a:rPr>
              <a:t>素材下载  </a:t>
            </a:r>
            <a:r>
              <a:rPr b="0" lang="zh-CN" sz="1300" spc="-1" strike="noStrike">
                <a:solidFill>
                  <a:srgbClr val="ededed"/>
                </a:solidFill>
                <a:latin typeface="Calibri"/>
              </a:rPr>
              <a:t>http://www.eeppt.com/sucai/                     </a:t>
            </a:r>
            <a:r>
              <a:rPr b="0" lang="zh-CN" sz="1300" spc="-1" strike="noStrike">
                <a:solidFill>
                  <a:srgbClr val="ededed"/>
                </a:solidFill>
                <a:latin typeface="Calibri"/>
              </a:rPr>
              <a:t>古典中国风</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zhongguofeng/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营销策划</a:t>
            </a:r>
            <a:r>
              <a:rPr b="0" lang="zh-CN" sz="1300" spc="-1" strike="noStrike">
                <a:solidFill>
                  <a:srgbClr val="ededed"/>
                </a:solidFill>
                <a:latin typeface="Calibri"/>
              </a:rPr>
              <a:t>ppt  http://www.eeppt.com/moban/yingxiao/  </a:t>
            </a:r>
            <a:r>
              <a:rPr b="0" lang="zh-CN" sz="1300" spc="-1" strike="noStrike">
                <a:solidFill>
                  <a:srgbClr val="ededed"/>
                </a:solidFill>
                <a:latin typeface="Calibri"/>
              </a:rPr>
              <a:t>经典商务</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shangwu/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外国</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guowai/   </a:t>
            </a:r>
            <a:r>
              <a:rPr b="0" lang="zh-CN" sz="1300" spc="-1" strike="noStrike">
                <a:solidFill>
                  <a:srgbClr val="ededed"/>
                </a:solidFill>
                <a:latin typeface="Calibri"/>
              </a:rPr>
              <a:t>工作总结</a:t>
            </a:r>
            <a:r>
              <a:rPr b="0" lang="zh-CN" sz="1300" spc="-1" strike="noStrike">
                <a:solidFill>
                  <a:srgbClr val="ededed"/>
                </a:solidFill>
                <a:latin typeface="Calibri"/>
              </a:rPr>
              <a:t>ppt</a:t>
            </a:r>
            <a:r>
              <a:rPr b="0" lang="zh-CN" sz="1300" spc="-1" strike="noStrike">
                <a:solidFill>
                  <a:srgbClr val="ededed"/>
                </a:solidFill>
                <a:latin typeface="Calibri"/>
              </a:rPr>
              <a:t>模板下载  </a:t>
            </a:r>
            <a:r>
              <a:rPr b="0" lang="zh-CN" sz="1300" spc="-1" strike="noStrike">
                <a:solidFill>
                  <a:srgbClr val="ededed"/>
                </a:solidFill>
                <a:latin typeface="Calibri"/>
              </a:rPr>
              <a:t>http://www.eeppt.com/moban/gongzuo/    </a:t>
            </a:r>
            <a:endParaRPr b="0" lang="en-US" sz="13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  </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4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1T05:24:29Z</dcterms:created>
  <dc:creator>幻灯片之家 http://www.eeppt.com</dc:creator>
  <dc:description>幻灯片之家 http://www.eeppt.com</dc:description>
  <cp:keywords>幻灯片之家 http:/www.eeppt.com</cp:keywords>
  <dc:language>en-US</dc:language>
  <cp:lastModifiedBy/>
  <dcterms:modified xsi:type="dcterms:W3CDTF">2015-07-20T06:37:15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