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A35-AF88-4015-B6DA-B8A791D5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DC2-CD79-4D2E-AD73-E759F87D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1B201-0FA0-404E-87E9-4FD7B6C1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CEFBD-62E3-4708-8DBE-B85FEBCB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2264C-72D6-4D1C-9086-FB624FAC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70DF9-7B78-4E15-9F41-D9A8D72D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DDDE0-E9F4-406C-99F2-265413B8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97BAB-8C53-42E4-A19A-B4E3938F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C1FCF-49D5-48A6-B151-6500B675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9DAD8-7E80-495B-ADDF-35F944BF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59636-962B-4A30-B950-CB763800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56E0C-E0B7-407D-A740-73A315E1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8A8-FB5E-4823-8F41-B2069C00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FE078-1F9D-4F6A-BAA9-D75D1C0B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577B5-053E-4F6E-9CDD-65B83FEA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3A246-C33A-4FD1-B7BC-23B96B0B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1AAA2-8984-47D5-AB9E-8A0DF72D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6B026-FCA4-4BC5-8177-214E9B53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52CE8-5692-46CE-9438-FD016F1E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DACAC-ED4E-481C-9A19-D5B2582E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3580A-887C-4F69-B34F-BF3EC155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D7213-2E43-4BF3-98B6-36AE500A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E60CB-02D4-42CC-BC16-1E49FAE5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FD8-6D79-48C2-A342-CA06C7E5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45484-0E79-4900-A672-1D8ED1CB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1635F-D5F7-4631-AD22-7DF3D61D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2DB0C-628C-4646-87FD-286B00B4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5DAD0-ADF0-4287-8D34-5593975D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79280-47AA-4930-BF50-5E64F4EF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66F06-7BE4-485E-878A-3F26220E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62EC5-A227-47B2-BBA1-D387A64A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C41FB-5404-41FF-BA35-F7E9AC3C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AC5E6-B556-4705-BEB6-70F7B133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23D70-1351-4F24-8917-99DB041D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147C-B313-4B22-AB0C-8C1785A6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2F0AF-144D-4574-80F2-C48CE77C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BED81-0CAC-4C1A-93AB-83D0BA60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46DD5-B5EA-44D9-A21A-F0A1BF29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EADAA-C666-40D9-AC9A-5AE24CD4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A71F6-7F6E-4B0E-B06A-09CCBC67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2FD12-F69E-40F3-BA1B-8263622B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F413B-161B-4002-AE9F-DCF2E11E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F7697-3A61-40FB-86A3-AEA03E69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26176-4E2E-479D-BE84-0EEFAF88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B5CB2-0952-43A0-8A4B-C7694E1C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065C-4D7D-493A-972E-F8ABE051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6B510-C2AA-4FC6-8424-90F7AF6B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6AD12-B636-44B5-80CD-27A85C17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D06F1-BF5B-4C4E-8B67-8C18C5E7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AFF39-C6AD-40BB-8F4C-3F7F0A64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332D0-29FA-4445-A79E-6407FA76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6714B-3279-4C80-8A17-F5BD93EB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E9BC7-4AD2-4A93-86B5-936C1DEE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E387E-D157-46D0-AC35-605BF319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1788B-440C-48F4-8211-482BEAF4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C4060-C0A5-443A-B247-F61D8529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E670-8C9E-4FBD-ABC6-DD161BF6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CDF2B-887B-4EE7-A706-ED882CE4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74CA6-0325-4F2D-8F88-0E45C4F0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B3EC1-64E1-407F-83C7-BA822E59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7DE7F-C730-4B40-9818-4A2A0415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4465F-C829-4447-942F-3A6279B6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90DE1-E3C7-4E8A-AA08-1418EF58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48420C-E9DF-423E-B57A-2C66A4A5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66B1-E135-411B-9821-6E59B16E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31F9-EB48-4E87-9C1B-7D032BCD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048B-5C88-441E-8DB4-9E44A3DC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9138-3FC1-43D8-8F5E-C4D98A7B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AA2-01ED-4A05-A24A-2A619C8F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3CC6-85C2-44F8-A517-488F9414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7B12-0D23-46BA-9B5D-606CB04F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7F45-1000-4330-A3EE-A7F028F6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DDC5-CCEF-4BA5-B9FB-F03F7972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F458-D6E8-4987-8398-632C5212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2DABC-BE1D-476B-8DA5-0A0388E1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B207-F2F8-45DA-9D84-9FE236B6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BCBF1-937B-4842-9956-A7983FBC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569AB-E35F-4ED6-90F2-0C9AF4D3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06FE2-91CA-4F7C-AB7F-13E703DE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451-DB0E-41A5-BBF6-4AF08F1B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5D03D-B00D-4C73-BE8C-0C392805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F87F-C76E-4E57-91F3-E1666890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2F2F-AF14-4D52-A1E0-A43091B9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F42EF-F466-4E01-B7CA-4B342A9E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F37E0-40CC-4BB0-9632-6312DA36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EEB06-8AB1-4AF4-844E-6EA9ED1A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E505-FF74-44A5-B9E8-D030C66D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ADD4D-5781-4AE5-9BB6-35EFC91C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DD9DB-CCB3-41A8-8E30-042819E0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EA253-338A-463D-B93C-8421ADFF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705-F828-4EA1-9607-40C282CF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84C86-73C2-42D4-9A3E-6C19AD07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06DA2-588D-49DD-85C8-F1723849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4F3B9-C3B8-4525-B900-7A601FF2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DF6AF-2190-4C87-9D22-E5FCCF86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69B5B-C558-4E70-86F7-DD6571E0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DEA76-0E4F-4496-B12C-91810499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9A393-AFE5-4D71-9DD6-D20EF01D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9F4B1-BF8A-4E71-88B0-3EA06278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F634E-D125-4929-9EC7-E306CE20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68C2D-B56C-4407-A3F2-06602090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BE78-088F-4EE1-8A71-02F03F5D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D746C-8704-4C0C-80B8-33CA0680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6F0B0-5C33-4D7A-A705-AC4CE871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25852-EB6F-4962-B9DE-77E16AA0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81416-1EDE-42E3-8758-F65E2DEA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5D19B-8240-4D96-A69C-34240058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BD318-6B10-4E16-9AC8-1EB8AF26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99A0B-F1BE-4CE5-ABA5-A490986C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36D38-699F-434A-A0B0-04A94AA4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2BB70-8F38-4425-8C4A-A4DC09C1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A7D35-CBE3-4772-81B3-A92A835E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67D-178D-4FC4-8801-1AAE7BE6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3B091-1974-4914-A049-8889964B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58C2B-7186-425A-A05D-FEDD177B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5AABD-81D1-478F-B830-DF73607D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9FFD1-160B-4B4A-A153-FE2E0FF6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21A7F-2421-4C05-AD22-08C7A2BD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69175-6691-49C2-A371-87DAC313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EAFEF-073F-4568-BA6A-BC4067DC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C1684-4B13-491F-AEB2-C8492D99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A1081-AFA1-4783-B136-8F0AB927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43E26-E8AB-4DE5-9BE4-D1B9F0D3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5E9-3F78-41B0-99FA-3D5F029C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F7705-5EB8-4F02-816D-FDDCFB9E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9F783-A38D-4407-9047-31DA6571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5CEF6-5D67-493F-B46A-B834BC4E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81FB7-08EF-451B-A649-9179D3F9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42FDE-2121-4D10-B3C1-C734C078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A29AD-0FC8-413F-BD33-65AAB3D5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058B6-8C5C-4EA9-9D6B-1A369F96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C4E0C-5204-4388-A9C8-4650AB59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987FD-31F9-455A-BEC2-4A4EBC05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5AC90-EA13-4FAD-AA67-01EDFD9F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4308-310E-496E-962B-A4EE7EA8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5F9D6-03B1-4672-9180-1EBE2DF8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2A9F5-2049-4446-984A-A62C77FE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4B871-0411-418A-A554-8E942EBF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65C96-956D-426C-B932-50E90269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CC4D0-04C6-4939-B220-D89784B2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C86C2-9D2F-4408-933E-B76EEE5F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2EEF2-2240-44AC-80E4-E21AD32F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4CAE2-1506-4FCB-91AA-F315751A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7FB1B-2233-43B2-BA19-60ADC481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A44B4-4E9D-4653-A324-9AA4363E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CB2-B304-466C-B9AA-F46F60A2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87325-7B08-4136-B2A2-E75EE194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026AE-EF72-4F9C-9195-49D0B6F4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5965B-A707-4892-B263-F8DD8710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D3246-A0B3-491B-B29E-77464CF9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EB4EB-84D9-4E65-95B1-FEF16CB6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5CC2F-250A-4DCF-B135-9DC443AA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57B6B-8955-4ADC-916E-1252A122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B75C4-1E7E-40A8-9D47-C48FB973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0A0D4-567C-4370-8B4D-C9F2E580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E8ADD-FE90-4B40-9720-A64AECEE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9DF8-E6F6-45C4-841F-5F608DC908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519D-4B5A-46C4-95B9-25FF861A6218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2D81-A6B3-402D-92FC-E6E03F03FCB0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CB3D-2025-4968-8C46-34942EB114F5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B5DB-FD63-42D9-AC71-2AA4880A8BC6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DBFC-18EF-4584-9FC6-A1C10A2EA52A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4C55-7784-4EA6-BEBD-7B5813F28373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800E-D031-43EC-BCCC-489A5F45914B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82C2-3052-45CB-9367-578C11B6C470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5602-9AA8-40FA-A16F-B17CA28E92BB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9B83-B08B-4F28-B625-D5F9A2928038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4F91-1D4A-41C0-BD30-D0B7C58902CD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3528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67216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67216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DF29-647E-4D4F-91FC-B1798C52D2A6}" type="slidenum">
              <a:rPr b="0" lang="zh-CN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bfa2"/>
            </a:gs>
            <a:gs pos="100000">
              <a:srgbClr val="e1db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9018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42c"/>
                </a:solidFill>
                <a:latin typeface="微软雅黑"/>
                <a:ea typeface="微软雅黑"/>
              </a:rPr>
              <a:t>office</a:t>
            </a:r>
            <a:r>
              <a:rPr b="1" lang="zh-CN" sz="4000" spc="-1" strike="noStrike">
                <a:solidFill>
                  <a:srgbClr val="66642c"/>
                </a:solidFill>
                <a:latin typeface="微软雅黑"/>
                <a:ea typeface="微软雅黑"/>
              </a:rPr>
              <a:t>小人故事之加班</a:t>
            </a:r>
            <a:r>
              <a:rPr b="1" lang="en-US" sz="4000" spc="-1" strike="noStrike">
                <a:solidFill>
                  <a:srgbClr val="66642c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66642c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0" y="574668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2"/>
          <p:cNvSpPr/>
          <p:nvPr/>
        </p:nvSpPr>
        <p:spPr>
          <a:xfrm>
            <a:off x="7164360" y="539640"/>
            <a:ext cx="1800360" cy="93672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还睡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09720" y="167760"/>
            <a:ext cx="732456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88960" y="1133640"/>
            <a:ext cx="79660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6994440" y="297000"/>
            <a:ext cx="1239840" cy="31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6:51:5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42:0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