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2D23-6B88-4AAA-9549-676F760A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35E-0968-45BB-8BCE-54EFE1C6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252-5825-4A49-B4D4-4952167A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3640-AEB7-43CB-829A-DDE30454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8FC-CB83-444C-83AF-73726A2A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F462-54A0-45CC-8661-3BB2E9A8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21CB-221C-4DB7-886A-82A8517E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9578-E82B-4B8F-9F8A-354BAC3D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A136-DBBA-429B-98D0-68D800072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A8F4-07E1-4112-AA4B-23750983A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2DB-35E7-4DB9-BDD2-C68A0501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3F2-FAAB-47C2-BA17-75E4F875E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3A69-A89F-44F9-97BF-1C045510017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BAAE-A188-4FE0-80A3-05012566F9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7"/>
          <p:cNvSpPr/>
          <p:nvPr/>
        </p:nvSpPr>
        <p:spPr>
          <a:xfrm>
            <a:off x="2228760" y="639144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5"/>
          <p:cNvSpPr/>
          <p:nvPr/>
        </p:nvSpPr>
        <p:spPr>
          <a:xfrm>
            <a:off x="5937120" y="1844640"/>
            <a:ext cx="346320" cy="3459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5"/>
          <p:cNvSpPr/>
          <p:nvPr/>
        </p:nvSpPr>
        <p:spPr>
          <a:xfrm>
            <a:off x="5584680" y="2190600"/>
            <a:ext cx="346320" cy="3463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5937120" y="2198520"/>
            <a:ext cx="346320" cy="3463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6296040" y="2190600"/>
            <a:ext cx="345960" cy="34632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5"/>
          <p:cNvSpPr/>
          <p:nvPr/>
        </p:nvSpPr>
        <p:spPr>
          <a:xfrm>
            <a:off x="6654960" y="2527200"/>
            <a:ext cx="345960" cy="34632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5"/>
          <p:cNvSpPr/>
          <p:nvPr/>
        </p:nvSpPr>
        <p:spPr>
          <a:xfrm>
            <a:off x="6296040" y="2544840"/>
            <a:ext cx="345960" cy="34596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5"/>
          <p:cNvSpPr/>
          <p:nvPr/>
        </p:nvSpPr>
        <p:spPr>
          <a:xfrm>
            <a:off x="5937120" y="2550960"/>
            <a:ext cx="346320" cy="346320"/>
          </a:xfrm>
          <a:prstGeom prst="ellipse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5"/>
          <p:cNvSpPr/>
          <p:nvPr/>
        </p:nvSpPr>
        <p:spPr>
          <a:xfrm>
            <a:off x="5584680" y="2544840"/>
            <a:ext cx="346320" cy="34596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5"/>
          <p:cNvSpPr/>
          <p:nvPr/>
        </p:nvSpPr>
        <p:spPr>
          <a:xfrm>
            <a:off x="5227560" y="2549520"/>
            <a:ext cx="346320" cy="34596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867200" y="2909880"/>
            <a:ext cx="346320" cy="34596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5227560" y="2901960"/>
            <a:ext cx="346320" cy="3459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5584680" y="2897280"/>
            <a:ext cx="346320" cy="345960"/>
          </a:xfrm>
          <a:prstGeom prst="ellipse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5937120" y="2903400"/>
            <a:ext cx="346320" cy="346320"/>
          </a:xfrm>
          <a:prstGeom prst="ellipse">
            <a:avLst/>
          </a:prstGeom>
          <a:blipFill rotWithShape="0">
            <a:blip r:embed="rId1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"/>
          <p:cNvSpPr/>
          <p:nvPr/>
        </p:nvSpPr>
        <p:spPr>
          <a:xfrm>
            <a:off x="6296040" y="2897280"/>
            <a:ext cx="345960" cy="345960"/>
          </a:xfrm>
          <a:prstGeom prst="ellipse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"/>
          <p:cNvSpPr/>
          <p:nvPr/>
        </p:nvSpPr>
        <p:spPr>
          <a:xfrm>
            <a:off x="6654960" y="2886120"/>
            <a:ext cx="345960" cy="345960"/>
          </a:xfrm>
          <a:prstGeom prst="ellipse">
            <a:avLst/>
          </a:prstGeom>
          <a:blipFill rotWithShape="0">
            <a:blip r:embed="rId1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5"/>
          <p:cNvSpPr/>
          <p:nvPr/>
        </p:nvSpPr>
        <p:spPr>
          <a:xfrm>
            <a:off x="7010280" y="2886120"/>
            <a:ext cx="346320" cy="345960"/>
          </a:xfrm>
          <a:prstGeom prst="ellipse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5"/>
          <p:cNvSpPr/>
          <p:nvPr/>
        </p:nvSpPr>
        <p:spPr>
          <a:xfrm>
            <a:off x="7370640" y="3252960"/>
            <a:ext cx="346320" cy="345960"/>
          </a:xfrm>
          <a:prstGeom prst="ellipse">
            <a:avLst/>
          </a:prstGeom>
          <a:blipFill rotWithShape="0">
            <a:blip r:embed="rId1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5"/>
          <p:cNvSpPr/>
          <p:nvPr/>
        </p:nvSpPr>
        <p:spPr>
          <a:xfrm>
            <a:off x="7010280" y="3246480"/>
            <a:ext cx="346320" cy="345960"/>
          </a:xfrm>
          <a:prstGeom prst="ellipse">
            <a:avLst/>
          </a:prstGeom>
          <a:blipFill rotWithShape="0">
            <a:blip r:embed="rId1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6654960" y="3243240"/>
            <a:ext cx="345960" cy="345960"/>
          </a:xfrm>
          <a:prstGeom prst="ellipse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5"/>
          <p:cNvSpPr/>
          <p:nvPr/>
        </p:nvSpPr>
        <p:spPr>
          <a:xfrm>
            <a:off x="6296040" y="3249720"/>
            <a:ext cx="345960" cy="345960"/>
          </a:xfrm>
          <a:prstGeom prst="ellipse">
            <a:avLst/>
          </a:prstGeom>
          <a:blipFill rotWithShape="0">
            <a:blip r:embed="rId2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5"/>
          <p:cNvSpPr/>
          <p:nvPr/>
        </p:nvSpPr>
        <p:spPr>
          <a:xfrm>
            <a:off x="5937120" y="3255840"/>
            <a:ext cx="346320" cy="346320"/>
          </a:xfrm>
          <a:prstGeom prst="ellipse">
            <a:avLst/>
          </a:prstGeom>
          <a:blipFill rotWithShape="0">
            <a:blip r:embed="rId2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5"/>
          <p:cNvSpPr/>
          <p:nvPr/>
        </p:nvSpPr>
        <p:spPr>
          <a:xfrm>
            <a:off x="5584680" y="3249720"/>
            <a:ext cx="346320" cy="345960"/>
          </a:xfrm>
          <a:prstGeom prst="ellipse">
            <a:avLst/>
          </a:prstGeom>
          <a:blipFill rotWithShape="0">
            <a:blip r:embed="rId2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5"/>
          <p:cNvSpPr/>
          <p:nvPr/>
        </p:nvSpPr>
        <p:spPr>
          <a:xfrm>
            <a:off x="5227560" y="3254400"/>
            <a:ext cx="346320" cy="345960"/>
          </a:xfrm>
          <a:prstGeom prst="ellipse">
            <a:avLst/>
          </a:prstGeom>
          <a:blipFill rotWithShape="0">
            <a:blip r:embed="rId2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5"/>
          <p:cNvSpPr/>
          <p:nvPr/>
        </p:nvSpPr>
        <p:spPr>
          <a:xfrm>
            <a:off x="4867200" y="3262320"/>
            <a:ext cx="346320" cy="345960"/>
          </a:xfrm>
          <a:prstGeom prst="ellipse">
            <a:avLst/>
          </a:prstGeom>
          <a:blipFill rotWithShape="0">
            <a:blip r:embed="rId2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5"/>
          <p:cNvSpPr/>
          <p:nvPr/>
        </p:nvSpPr>
        <p:spPr>
          <a:xfrm>
            <a:off x="4508640" y="3262320"/>
            <a:ext cx="345960" cy="345960"/>
          </a:xfrm>
          <a:prstGeom prst="ellipse">
            <a:avLst/>
          </a:prstGeom>
          <a:blipFill rotWithShape="0">
            <a:blip r:embed="rId2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5"/>
          <p:cNvSpPr/>
          <p:nvPr/>
        </p:nvSpPr>
        <p:spPr>
          <a:xfrm>
            <a:off x="4867200" y="3614760"/>
            <a:ext cx="346320" cy="345960"/>
          </a:xfrm>
          <a:prstGeom prst="ellipse">
            <a:avLst/>
          </a:prstGeom>
          <a:blipFill rotWithShape="0">
            <a:blip r:embed="rId2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227560" y="3606840"/>
            <a:ext cx="346320" cy="345960"/>
          </a:xfrm>
          <a:prstGeom prst="ellipse">
            <a:avLst/>
          </a:prstGeom>
          <a:blipFill rotWithShape="0">
            <a:blip r:embed="rId2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5"/>
          <p:cNvSpPr/>
          <p:nvPr/>
        </p:nvSpPr>
        <p:spPr>
          <a:xfrm>
            <a:off x="5584680" y="3602160"/>
            <a:ext cx="346320" cy="345960"/>
          </a:xfrm>
          <a:prstGeom prst="ellipse">
            <a:avLst/>
          </a:prstGeom>
          <a:blipFill rotWithShape="0">
            <a:blip r:embed="rId2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5"/>
          <p:cNvSpPr/>
          <p:nvPr/>
        </p:nvSpPr>
        <p:spPr>
          <a:xfrm>
            <a:off x="5937120" y="3608280"/>
            <a:ext cx="346320" cy="346320"/>
          </a:xfrm>
          <a:prstGeom prst="ellipse">
            <a:avLst/>
          </a:prstGeom>
          <a:blipFill rotWithShape="0">
            <a:blip r:embed="rId3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6296040" y="3602160"/>
            <a:ext cx="345960" cy="345960"/>
          </a:xfrm>
          <a:prstGeom prst="ellipse">
            <a:avLst/>
          </a:prstGeom>
          <a:blipFill rotWithShape="0">
            <a:blip r:embed="rId3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5"/>
          <p:cNvSpPr/>
          <p:nvPr/>
        </p:nvSpPr>
        <p:spPr>
          <a:xfrm>
            <a:off x="6654960" y="3602160"/>
            <a:ext cx="345960" cy="345960"/>
          </a:xfrm>
          <a:prstGeom prst="ellipse">
            <a:avLst/>
          </a:prstGeom>
          <a:blipFill rotWithShape="0">
            <a:blip r:embed="rId3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5"/>
          <p:cNvSpPr/>
          <p:nvPr/>
        </p:nvSpPr>
        <p:spPr>
          <a:xfrm>
            <a:off x="7010280" y="3605040"/>
            <a:ext cx="346320" cy="346320"/>
          </a:xfrm>
          <a:prstGeom prst="ellipse">
            <a:avLst/>
          </a:prstGeom>
          <a:blipFill rotWithShape="0">
            <a:blip r:embed="rId3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6654960" y="3960720"/>
            <a:ext cx="345960" cy="346320"/>
          </a:xfrm>
          <a:prstGeom prst="ellipse">
            <a:avLst/>
          </a:prstGeom>
          <a:blipFill rotWithShape="0">
            <a:blip r:embed="rId3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5"/>
          <p:cNvSpPr/>
          <p:nvPr/>
        </p:nvSpPr>
        <p:spPr>
          <a:xfrm>
            <a:off x="6296040" y="3954600"/>
            <a:ext cx="345960" cy="345960"/>
          </a:xfrm>
          <a:prstGeom prst="ellipse">
            <a:avLst/>
          </a:prstGeom>
          <a:blipFill rotWithShape="0">
            <a:blip r:embed="rId3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5937120" y="3960720"/>
            <a:ext cx="346320" cy="346320"/>
          </a:xfrm>
          <a:prstGeom prst="ellipse">
            <a:avLst/>
          </a:prstGeom>
          <a:blipFill rotWithShape="0">
            <a:blip r:embed="rId3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5584680" y="3954600"/>
            <a:ext cx="346320" cy="345960"/>
          </a:xfrm>
          <a:prstGeom prst="ellipse">
            <a:avLst/>
          </a:prstGeom>
          <a:blipFill rotWithShape="0">
            <a:blip r:embed="rId3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5"/>
          <p:cNvSpPr/>
          <p:nvPr/>
        </p:nvSpPr>
        <p:spPr>
          <a:xfrm>
            <a:off x="5227560" y="3959280"/>
            <a:ext cx="346320" cy="345960"/>
          </a:xfrm>
          <a:prstGeom prst="ellipse">
            <a:avLst/>
          </a:prstGeom>
          <a:blipFill rotWithShape="0">
            <a:blip r:embed="rId3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"/>
          <p:cNvSpPr/>
          <p:nvPr/>
        </p:nvSpPr>
        <p:spPr>
          <a:xfrm>
            <a:off x="5584680" y="4307040"/>
            <a:ext cx="346320" cy="345960"/>
          </a:xfrm>
          <a:prstGeom prst="ellipse">
            <a:avLst/>
          </a:prstGeom>
          <a:blipFill rotWithShape="0">
            <a:blip r:embed="rId3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5937120" y="4314960"/>
            <a:ext cx="346320" cy="345960"/>
          </a:xfrm>
          <a:prstGeom prst="ellipse">
            <a:avLst/>
          </a:prstGeom>
          <a:blipFill rotWithShape="0">
            <a:blip r:embed="rId4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5"/>
          <p:cNvSpPr/>
          <p:nvPr/>
        </p:nvSpPr>
        <p:spPr>
          <a:xfrm>
            <a:off x="6296040" y="4307040"/>
            <a:ext cx="345960" cy="345960"/>
          </a:xfrm>
          <a:prstGeom prst="ellipse">
            <a:avLst/>
          </a:prstGeom>
          <a:blipFill rotWithShape="0">
            <a:blip r:embed="rId4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5"/>
          <p:cNvSpPr/>
          <p:nvPr/>
        </p:nvSpPr>
        <p:spPr>
          <a:xfrm>
            <a:off x="5937120" y="4667400"/>
            <a:ext cx="346320" cy="345960"/>
          </a:xfrm>
          <a:prstGeom prst="ellipse">
            <a:avLst/>
          </a:prstGeom>
          <a:blipFill rotWithShape="0">
            <a:blip r:embed="rId4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51"/>
          <p:cNvSpPr/>
          <p:nvPr/>
        </p:nvSpPr>
        <p:spPr>
          <a:xfrm>
            <a:off x="5298480" y="1844640"/>
            <a:ext cx="162540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00000"/>
                </a:solidFill>
                <a:latin typeface="Intrepid ExtraBold"/>
                <a:ea typeface="方正综艺简体"/>
              </a:rPr>
              <a:t>5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52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53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54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55"/>
          <p:cNvSpPr/>
          <p:nvPr/>
        </p:nvSpPr>
        <p:spPr>
          <a:xfrm>
            <a:off x="5962680" y="1844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320" y="652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18360" y="214200"/>
            <a:ext cx="311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倒计时器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3" presetSubtype="16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23" presetSubtype="16" repeatCount="5000">
                                  <p:stCondLst>
                                    <p:cond delay="1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3" presetSubtype="16" repeatCount="5000">
                                  <p:stCondLst>
                                    <p:cond delay="2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16" repeatCount="5000">
                                  <p:stCondLst>
                                    <p:cond delay="3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4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3" presetSubtype="16" repeatCount="5000">
                                  <p:stCondLst>
                                    <p:cond delay="4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3" presetSubtype="16" repeatCount="5000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4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3" presetSubtype="16" repeatCount="5000">
                                  <p:stCondLst>
                                    <p:cond delay="6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3" presetSubtype="16" repeatCount="5000">
                                  <p:stCondLst>
                                    <p:cond delay="7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3" presetSubtype="16" repeatCount="5000">
                                  <p:stCondLst>
                                    <p:cond delay="8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6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 repeatCount="5000">
                                  <p:stCondLst>
                                    <p:cond delay="9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7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3" presetSubtype="16" repeatCount="500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23" presetSubtype="16" repeatCount="5000">
                                  <p:stCondLst>
                                    <p:cond delay="11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8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3" presetSubtype="16" repeatCount="5000">
                                  <p:stCondLst>
                                    <p:cond delay="12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9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3" presetSubtype="16" repeatCount="5000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23" presetSubtype="16" repeatCount="5000">
                                  <p:stCondLst>
                                    <p:cond delay="14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0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3" presetSubtype="16" repeatCount="500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1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3" presetSubtype="16" repeatCount="5000">
                                  <p:stCondLst>
                                    <p:cond delay="16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23" presetSubtype="16" repeatCount="5000">
                                  <p:stCondLst>
                                    <p:cond delay="17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23" presetSubtype="16" repeatCount="5000">
                                  <p:stCondLst>
                                    <p:cond delay="18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3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16" repeatCount="5000">
                                  <p:stCondLst>
                                    <p:cond delay="19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4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3" presetSubtype="16" repeatCount="500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23" presetSubtype="16" repeatCount="5000">
                                  <p:stCondLst>
                                    <p:cond delay="21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5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23" presetSubtype="16" repeatCount="5000">
                                  <p:stCondLst>
                                    <p:cond delay="22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6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23" presetSubtype="16" repeatCount="5000">
                                  <p:stCondLst>
                                    <p:cond delay="23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3" presetSubtype="16" repeatCount="5000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7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3" presetSubtype="16" repeatCount="500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8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23" presetSubtype="16" repeatCount="5000">
                                  <p:stCondLst>
                                    <p:cond delay="26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3" presetSubtype="16" repeatCount="5000">
                                  <p:stCondLst>
                                    <p:cond delay="27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1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3" presetSubtype="16" repeatCount="5000">
                                  <p:stCondLst>
                                    <p:cond delay="28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4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0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3" presetSubtype="16" repeatCount="5000">
                                  <p:stCondLst>
                                    <p:cond delay="29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1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23" presetSubtype="16" repeatCount="500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2" dur="indefinite" nodeType="withEffect" fill="hold" presetClass="entr" presetID="23" presetSubtype="16" repeatCount="5000">
                                  <p:stCondLst>
                                    <p:cond delay="31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2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3" presetSubtype="16" repeatCount="5000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4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3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23" presetSubtype="16" repeatCount="5000">
                                  <p:stCondLst>
                                    <p:cond delay="33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3" presetSubtype="16" repeatCount="5000">
                                  <p:stCondLst>
                                    <p:cond delay="34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4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3" presetSubtype="16" repeatCount="500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5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3" presetSubtype="16" repeatCount="5000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3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23" presetSubtype="16" repeatCount="5000">
                                  <p:stCondLst>
                                    <p:cond delay="37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6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0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23" presetSubtype="16" repeatCount="5000">
                                  <p:stCondLst>
                                    <p:cond delay="38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77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23" presetSubtype="16" repeatCount="5000">
                                  <p:stCondLst>
                                    <p:cond delay="39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4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84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3" presetSubtype="16" repeatCount="500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1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4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298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05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3" presetSubtype="16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2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23" presetSubtype="16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19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23" presetSubtype="16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  <p:animScale>
                                      <p:cBhvr>
                                        <p:cTn id="326" dur="4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0"/>
          <p:cNvSpPr/>
          <p:nvPr/>
        </p:nvSpPr>
        <p:spPr>
          <a:xfrm>
            <a:off x="5423040" y="5405400"/>
            <a:ext cx="360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http://weibo.com/huzhan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5423040" y="459432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璞石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/@</a:t>
            </a:r>
            <a:r>
              <a:rPr b="0" lang="zh-CN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璞石</a:t>
            </a:r>
            <a:r>
              <a:rPr b="0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14" descr=""/>
          <p:cNvPicPr/>
          <p:nvPr/>
        </p:nvPicPr>
        <p:blipFill>
          <a:blip r:embed="rId1"/>
          <a:stretch/>
        </p:blipFill>
        <p:spPr>
          <a:xfrm>
            <a:off x="5002200" y="4613400"/>
            <a:ext cx="351000" cy="350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002200" y="5425920"/>
            <a:ext cx="385920" cy="347760"/>
          </a:xfrm>
          <a:prstGeom prst="rect">
            <a:avLst/>
          </a:prstGeom>
          <a:ln w="0">
            <a:noFill/>
          </a:ln>
        </p:spPr>
      </p:pic>
      <p:grpSp>
        <p:nvGrpSpPr>
          <p:cNvPr id="95" name=""/>
          <p:cNvGrpSpPr/>
          <p:nvPr/>
        </p:nvGrpSpPr>
        <p:grpSpPr>
          <a:xfrm>
            <a:off x="4975200" y="4968720"/>
            <a:ext cx="3848040" cy="530280"/>
            <a:chOff x="4975200" y="4968720"/>
            <a:chExt cx="3848040" cy="530280"/>
          </a:xfrm>
        </p:grpSpPr>
        <p:sp>
          <p:nvSpPr>
            <p:cNvPr id="96" name="TextBox 12"/>
            <p:cNvSpPr/>
            <p:nvPr/>
          </p:nvSpPr>
          <p:spPr>
            <a:xfrm>
              <a:off x="5420160" y="5047200"/>
              <a:ext cx="340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http://pushi.yanj.c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"/>
            <p:cNvPicPr/>
            <p:nvPr/>
          </p:nvPicPr>
          <p:blipFill>
            <a:blip r:embed="rId3"/>
            <a:stretch/>
          </p:blipFill>
          <p:spPr>
            <a:xfrm>
              <a:off x="4992120" y="5062680"/>
              <a:ext cx="360000" cy="3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矩形 14"/>
            <p:cNvSpPr/>
            <p:nvPr/>
          </p:nvSpPr>
          <p:spPr>
            <a:xfrm>
              <a:off x="4975200" y="4968720"/>
              <a:ext cx="36039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矩形 15"/>
          <p:cNvSpPr/>
          <p:nvPr/>
        </p:nvSpPr>
        <p:spPr>
          <a:xfrm>
            <a:off x="5002200" y="5405400"/>
            <a:ext cx="38973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6" descr=""/>
          <p:cNvPicPr/>
          <p:nvPr/>
        </p:nvPicPr>
        <p:blipFill>
          <a:blip r:embed="rId4"/>
          <a:stretch/>
        </p:blipFill>
        <p:spPr>
          <a:xfrm>
            <a:off x="3502080" y="4516560"/>
            <a:ext cx="1316160" cy="1330200"/>
          </a:xfrm>
          <a:prstGeom prst="rect">
            <a:avLst/>
          </a:prstGeom>
          <a:ln w="0">
            <a:noFill/>
          </a:ln>
        </p:spPr>
      </p:pic>
      <p:sp>
        <p:nvSpPr>
          <p:cNvPr id="101" name="矩形 17"/>
          <p:cNvSpPr/>
          <p:nvPr/>
        </p:nvSpPr>
        <p:spPr>
          <a:xfrm>
            <a:off x="4902120" y="4516560"/>
            <a:ext cx="3997440" cy="1330200"/>
          </a:xfrm>
          <a:prstGeom prst="rect">
            <a:avLst/>
          </a:prstGeom>
          <a:noFill/>
          <a:ln w="3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8" descr=""/>
          <p:cNvPicPr/>
          <p:nvPr/>
        </p:nvPicPr>
        <p:blipFill>
          <a:blip r:embed="rId5"/>
          <a:srcRect l="0" t="4231" r="0" b="15963"/>
          <a:stretch/>
        </p:blipFill>
        <p:spPr>
          <a:xfrm>
            <a:off x="3502080" y="1550880"/>
            <a:ext cx="5397480" cy="2871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06200" y="63914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6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4D68-8AEB-4A44-97AB-B91E1DF0D7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07:12:00Z</dcterms:created>
  <dc:creator>胡占利</dc:creator>
  <dc:description/>
  <dc:language>en-US</dc:language>
  <cp:lastModifiedBy>ppt宝藏 www.pptbz.com提供漂亮ppt模板下载</cp:lastModifiedBy>
  <dcterms:modified xsi:type="dcterms:W3CDTF">2015-07-20T07:35:14Z</dcterms:modified>
  <cp:revision>1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