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8.png" ContentType="image/png"/>
  <Override PartName="/ppt/media/image5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A630-FD0C-4E2F-99AC-CF1F11B6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3884-1EFE-4BBA-BDC4-5AB6E7D7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78689-12F4-4210-920C-DB6B9615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DD4E6-8A2A-4DF4-B9BD-F34333FA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5DDFB-6C8C-4757-8670-228C1125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47F23-024E-42B3-9558-844CCB61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FF63B-D4E1-4E69-914C-07660944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3F79A-2C25-43C6-B76A-7637A3D0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5A356-A60B-4B58-98C9-2A7FEBB3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64FC6-2426-401A-AE62-76D82242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52650-B57B-4317-ACB0-C9FDEBD1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3CB28-1ED8-4F51-A03D-44338A79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AB45-AFAC-4A1B-8AC0-6765865F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EDF53-959E-418F-818E-50E6640F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841FD-4DD2-478F-83AD-2BF70898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8139A-DDE5-4988-AB01-1AA2A565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EA44A-C22B-4004-81C4-EEB38ED7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B7FA3-3133-411C-BE87-86BB59D3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54D51-32BA-4BD4-A731-48030C27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CC19D-0E15-410A-A27B-7F6A1FE8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F8075-C054-4A0C-9E79-C5291724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2EB53-F860-45FD-A4D9-BC4757E6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87445-CCEF-41F9-93F0-5270BBBE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200B-FF09-45DD-A72F-5EE9BFCC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0BB45-A914-426E-976F-3D5132DD0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B4CE3-3537-4F4F-8C05-B01A2AC2B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C4CC6-AE01-4685-92F7-B26ED557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D56C0-EB4E-4CA3-87C0-D01899FA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E397B-B5F5-4513-B848-81212372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5BEA1-5D3B-4371-B018-A195F915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28900-093D-4469-9210-F05C41F2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48265-B6AB-4E65-8F5D-2ABC2FA9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D5A6E-106E-48D9-818F-6039F5F6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AE761-9A44-45C0-A6A6-E5A4D79B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AC4B-3BEB-4E78-92C6-EF52530B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8B2F5-C0C4-4457-A19E-10457AA6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A8709-FC45-4259-8A97-2B1B4FAF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9FBEB-0CD8-46DF-8AED-AB4BB98D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D1347-649F-4B47-94EB-BF6FBB0A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C5D39-05AB-441F-9792-7225FC6D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1EBDA-B879-4F53-85A9-E143F5BD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A7028-228D-40EB-B905-3CC70651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4A04B-A1FA-4CE4-868D-B490D0CE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D9628-3D7F-4132-B225-3A5547F4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34DBB-95AB-42EF-ACA2-F4316205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6086-5B50-4E2D-BC82-B3DB6F6C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6BAD1-9F69-45B5-B6BC-453E6AA2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48CCA-D54F-4E71-B88A-2EE9A28A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67D976-A969-43C4-83F4-C8440E7A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52AAA-0AA9-4C99-9A30-57B40CAB3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6BBB1-7DBF-45E1-8870-EDEE0B10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D0374F-536E-4A1E-91B6-3DB806C8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9BCE7-2F06-4084-AD8E-9D58DEA6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B2C91A-9A0E-45AE-AFF6-509EBEF1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FAE408-7C86-4D0F-B04B-AFFD4B70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37B5A8-4DD1-4110-9754-DD6DD538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7455-0B69-48D1-B717-98799FE6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26BB2A-CEFA-4A4E-A674-851FD74F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A5328A-8BEB-4AF0-911A-808B8D27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2DDF01-E954-4D24-B5A2-DCC3CCFB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61057E-B982-44A5-ABF9-FA64FE06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7D05E6-11B5-466D-ABA6-1C635032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98A86F-81F7-4A2C-8F1F-D0F57E23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409F99-A938-45B9-ABC2-C412BC8B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5B28-22A9-4315-9036-C0F9625C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BACB-6B13-49E9-98C6-EAF8B655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1129-02AD-40F9-B7E8-3A9EC882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DC00-79EA-43EA-9BF1-516BCB4B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DE88-EBF9-47C4-8B0E-70B7B330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0D5B-EEAF-4972-813B-E8F29E80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23CA-8667-4EF9-A408-D88A0E51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99F9-825C-4349-8E26-B9323FB7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4463-8E32-4E9F-9451-DAB21F2D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A722-1D98-4087-AC1A-6FD5E10B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29E9F-0397-4843-8936-F2A2EA56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23047-0D38-41D3-AAA9-54BBBFDE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E783E-3F7A-4265-BB03-1919FEB1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BD5CE-FB9B-43FD-A457-F6A2387D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3ACFB-2A92-4745-8BBB-79EA1A97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2FDC-EF43-4F3A-BD50-0A2A5C4F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D3C02-6C46-4EE2-A80A-7EB42168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37BAE-9923-4C3A-AE14-11FEC814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B6D75-E92D-4205-A703-45BBA359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D099C-1AC8-42A3-8814-633466DA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2DDA8-1D1D-486A-B751-F20C7C2A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6C09A-E61A-4042-82D1-CB6B12D0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99C10-98E2-481B-8CAC-7F42C027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5C6AE-CB99-4FD5-A822-67CF32DB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8C38F-5CA9-4685-8A95-F68A55E6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6FA62-C888-4C01-8AA0-30159B83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DB2D-E64A-4E46-BA6F-3BF6D0F1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0F845-A844-4881-BB8D-4395F430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CB643-A80F-4716-AB7D-ABAEB012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F1797-F101-42B2-8360-B78540F7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C6DF2-E9F1-4DCC-9600-23C2FA2F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E8FAD-4E58-480E-8E70-151EE271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96C88-AC2A-48CD-AF26-3D309DFB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1663D-720B-4813-A633-93A0FD73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27724-CF60-4EFC-A6C7-6FE86709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A8EE3-2550-4625-AD37-6ED735E9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8D06F-BC08-430C-8407-BCAF9686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A5FF-948B-4BFD-9611-2C06585B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83CCE-17EF-4F5A-A4A6-D9B0F44D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B159C-3BE2-4B87-8E34-4ED949AA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C9EB7-0C4E-424C-BFC4-FC93099C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3817B-006B-4D4A-A6EF-8C61436B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75173-2F09-446D-A067-E59DF409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44046-9D81-4BC7-BED2-907F8860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5B60E-37CC-4CD9-87C2-6670D599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43CA0-3D22-464B-805F-EF15CEFA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4AE08-D922-4483-801D-42305E6D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18EDE-2AA8-40F2-82E3-994D13A6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FEBB-4606-4182-9AB9-4CAB8573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D01E8-2847-41F4-A699-C9FF061D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C9D47-3F99-493B-9119-0B9FDB5F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856B9-EFD8-4696-A8BB-6E54CA15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309AD-B83C-4F9F-A80F-7BC7DFD3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76AC0-F981-469A-8D5D-7CBB8B9C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EC011-6E28-4727-8262-A064B6D8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C3A39-22D6-4C2B-B3A6-B03524EA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EAEB9-A946-4C0C-B8AD-5C48FEFA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86155-2C8F-42B5-9D7A-CC4FCA47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F0C26-84E9-4D20-82C5-C127D704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3BA9-1C43-425C-9C9F-806C001A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147AD-1E6F-4714-86FB-767FFA6C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F08A0-FA32-435A-B9A4-2F99587C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08E68-D030-4690-836C-DB3987F7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1A13E-D7B8-4443-B21D-35A36B9E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F5920-02E4-4876-A1BF-5DE66FA0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620A5-A9F8-43E4-8B5D-320B4920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BCE6C-8CDA-457C-9A27-89607951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234EF-C214-4CF1-BFE1-75761FE7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FDC53-B08B-46A4-9639-59766A46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263C3-4807-4B1A-8425-DD1CEC7E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987D-E828-4F41-AFB6-994F40A5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C24E2-3923-4EBC-AF33-6129C41F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EF745-8EDA-4C85-AE0D-D5D6651B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4EE9C-D219-4DD1-95F2-7427BAF6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F87BF-782A-454F-9FCD-571B77BB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E12A1-855E-4B1B-9C79-8A3EB59A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06C61-818D-4F90-A5C2-D9DD67F6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28456-3383-4967-AA8F-173A554E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FB12B-8E39-49BE-B4DB-8C6B2F36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1F05E-F407-4720-85FB-E478FC72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FD238-C55A-4511-B5A8-6B8B5AA9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0AF0-0D47-47E0-ABC3-05EDBD05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22ADD-61C7-4970-89E8-B1604AAE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DEB97-128C-4450-9C78-962990BF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151E7-C4D1-4E2A-BBEC-899BA18D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8E888-7D96-4E3B-A107-279D4063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72696-2853-46B9-BF50-1CC8E535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63756-8C69-4256-96AC-F5CB24C7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ECA3F-D60F-45A7-B86D-5B1105A8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38636-ABDD-493F-8549-046DE3B2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2895B-2FE5-404D-9738-2DFD248E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BDBCF-F94B-4895-BB66-42326F7A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593A-4186-473C-A1B2-ABC93E69A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23D6-3ED9-4B70-AF24-0F2207D55B6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3404-3E5A-4DC1-8C8C-8EE692387D1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E2DF-81D5-41CC-AC31-AC5C76E8808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D877-1323-4F64-861A-2685760BC95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399C-82CD-4ABB-B7BE-88ADDA709E5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F11F-346E-45AB-B660-B45558FD2A9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7A4A-6666-4AEF-9D48-ED67777616C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BBAB-67F7-485E-AB1F-F77E2EA8760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BFAC-2A48-4922-ACCF-9D03922965D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3DFE-63D8-48A6-9F81-FD3942DABC5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9102-68DE-4F92-B1B0-46025DE52D4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73B3-1442-4C43-B413-F943E0F38D6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7" descr="C:\My Documents\My Pictures\天都峰.jpg"/>
          <p:cNvPicPr/>
          <p:nvPr/>
        </p:nvPicPr>
        <p:blipFill>
          <a:blip r:embed="rId1"/>
          <a:srcRect l="0" t="0" r="0" b="6946"/>
          <a:stretch/>
        </p:blipFill>
        <p:spPr>
          <a:xfrm>
            <a:off x="0" y="0"/>
            <a:ext cx="66294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8"/>
          <p:cNvSpPr/>
          <p:nvPr/>
        </p:nvSpPr>
        <p:spPr>
          <a:xfrm>
            <a:off x="7323840" y="549360"/>
            <a:ext cx="139932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爬天都峰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PPT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矩形 4"/>
          <p:cNvSpPr/>
          <p:nvPr/>
        </p:nvSpPr>
        <p:spPr>
          <a:xfrm>
            <a:off x="302400" y="645336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762120" y="91440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我奋力向峰顶爬去，</a:t>
            </a:r>
            <a:r>
              <a:rPr b="1" lang="zh-CN" sz="44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一会儿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攀着铁链上，</a:t>
            </a:r>
            <a:r>
              <a:rPr b="1" lang="zh-CN" sz="44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一会儿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手脚并用向上爬，像小猴子一样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1066680" y="38862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想一想：你从“奋力”  “手脚并用”中体会到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4" descr="C:\My Documents\My Pictures\仙女.gif"/>
          <p:cNvPicPr/>
          <p:nvPr/>
        </p:nvPicPr>
        <p:blipFill>
          <a:blip r:embed="rId1"/>
          <a:stretch/>
        </p:blipFill>
        <p:spPr>
          <a:xfrm>
            <a:off x="685800" y="3141720"/>
            <a:ext cx="990720" cy="89388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5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C:\My Documents\My Pictures\老夫子.jpg"/>
          <p:cNvPicPr/>
          <p:nvPr/>
        </p:nvPicPr>
        <p:blipFill>
          <a:blip r:embed="rId1"/>
          <a:stretch/>
        </p:blipFill>
        <p:spPr>
          <a:xfrm>
            <a:off x="457200" y="1981080"/>
            <a:ext cx="1066680" cy="12956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3" descr="C:\My Documents\My Pictures\小妹妹.jpg"/>
          <p:cNvPicPr/>
          <p:nvPr/>
        </p:nvPicPr>
        <p:blipFill>
          <a:blip r:embed="rId2"/>
          <a:stretch/>
        </p:blipFill>
        <p:spPr>
          <a:xfrm>
            <a:off x="533520" y="4114800"/>
            <a:ext cx="990360" cy="121932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4"/>
          <p:cNvSpPr/>
          <p:nvPr/>
        </p:nvSpPr>
        <p:spPr>
          <a:xfrm>
            <a:off x="1066680" y="53352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再读读老爷爷和小姑娘的对话，想想他们为什么要互相道谢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5"/>
          <p:cNvSpPr/>
          <p:nvPr/>
        </p:nvSpPr>
        <p:spPr>
          <a:xfrm>
            <a:off x="1676520" y="1828800"/>
            <a:ext cx="71625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“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谢谢你啦，小朋友，要不是你的勇气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鼓舞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我，我还下不了决心哩！现在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居然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爬上来了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“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不，老爷爷，我是看您也要爬天都峰，才有勇气向上爬的！我应该谢谢您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C:\My Documents\My Pictures\爸爸.jpg"/>
          <p:cNvPicPr/>
          <p:nvPr/>
        </p:nvPicPr>
        <p:blipFill>
          <a:blip r:embed="rId1"/>
          <a:stretch/>
        </p:blipFill>
        <p:spPr>
          <a:xfrm>
            <a:off x="380880" y="762120"/>
            <a:ext cx="1447920" cy="175248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3"/>
          <p:cNvSpPr/>
          <p:nvPr/>
        </p:nvSpPr>
        <p:spPr>
          <a:xfrm>
            <a:off x="1981080" y="7621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爸爸听了，笑着说：“你们这一老一小真有意思，都会从别人身上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汲取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力量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1066680" y="3581280"/>
            <a:ext cx="6782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我知道“汲取”的意思是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我还知道“我”和老爷爷是这样互相汲取力量的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矩形 8"/>
          <p:cNvSpPr/>
          <p:nvPr/>
        </p:nvSpPr>
        <p:spPr>
          <a:xfrm>
            <a:off x="2124000" y="5446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2" descr="C:\My Documents\My Pictures\tiandufeng.jpg"/>
          <p:cNvPicPr/>
          <p:nvPr/>
        </p:nvPicPr>
        <p:blipFill>
          <a:blip r:embed="rId1"/>
          <a:stretch/>
        </p:blipFill>
        <p:spPr>
          <a:xfrm>
            <a:off x="0" y="0"/>
            <a:ext cx="3352680" cy="263700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3"/>
          <p:cNvSpPr/>
          <p:nvPr/>
        </p:nvSpPr>
        <p:spPr>
          <a:xfrm>
            <a:off x="304920" y="2666880"/>
            <a:ext cx="8534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                                   </a:t>
            </a:r>
            <a:r>
              <a:rPr b="1" lang="zh-CN" sz="28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天都峰在黄山东南部，西对莲花峰，东联钵盂峰， 海拔</a:t>
            </a:r>
            <a:r>
              <a:rPr b="1" lang="en-US" sz="28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1,810</a:t>
            </a:r>
            <a:r>
              <a:rPr b="1" lang="zh-CN" sz="28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米，为三大主峰（莲花、天都、光明顶）中最险峻者，古称群仙所都，意为天上都会。峰顶平如掌，有“登峰造极”石刻，中有天然石室，可容百人，室外有石，象醉汉斜卧，名“仙人把洞门”。 以往顶极难登，后人凿石开路，装置石柱、铁链扶栏，今游人可安全登顶。峰头远眺，云山相接，俯瞰群山，千峰竞秀，古有诗赞到：“任他五岳归来客，一见天都也叫奇”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4038480" y="12952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我知道的天都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5" descr="C:\My Documents\戴崇洁\小动画\天使.gif"/>
          <p:cNvPicPr/>
          <p:nvPr/>
        </p:nvPicPr>
        <p:blipFill>
          <a:blip r:embed="rId2"/>
          <a:stretch/>
        </p:blipFill>
        <p:spPr>
          <a:xfrm>
            <a:off x="7696080" y="304920"/>
            <a:ext cx="1249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C:\My Documents\戴崇洁\小动画\进入梦想世界.gif"/>
          <p:cNvPicPr/>
          <p:nvPr/>
        </p:nvPicPr>
        <p:blipFill>
          <a:blip r:embed="rId1"/>
          <a:stretch/>
        </p:blipFill>
        <p:spPr>
          <a:xfrm>
            <a:off x="228600" y="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3"/>
          <p:cNvSpPr/>
          <p:nvPr/>
        </p:nvSpPr>
        <p:spPr>
          <a:xfrm>
            <a:off x="838080" y="838080"/>
            <a:ext cx="75438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笔陡   铁链    峰顶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石级  发颤   奋力   攀着    鲫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纪念   鼓舞   居然   汲取力量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似乎   咱们   爬山   白发苍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辫子  勇气    仰起脸    笑呵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990720" y="35053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s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2743200" y="1447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chà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7"/>
          <p:cNvSpPr/>
          <p:nvPr/>
        </p:nvSpPr>
        <p:spPr>
          <a:xfrm>
            <a:off x="7162920" y="1371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j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563868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j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C:\My Documents\戴崇洁\小动画\进入梦想世界.gif"/>
          <p:cNvPicPr/>
          <p:nvPr/>
        </p:nvPicPr>
        <p:blipFill>
          <a:blip r:embed="rId1"/>
          <a:stretch/>
        </p:blipFill>
        <p:spPr>
          <a:xfrm>
            <a:off x="228600" y="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3"/>
          <p:cNvSpPr/>
          <p:nvPr/>
        </p:nvSpPr>
        <p:spPr>
          <a:xfrm>
            <a:off x="2209680" y="6858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我觉得这几个字有点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1676520" y="16765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链     颤    攀    鲫    陡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685800" y="27432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比一比，再组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1143000" y="3657600"/>
            <a:ext cx="43434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辫（            </a:t>
            </a: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辨  </a:t>
            </a: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(         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辩  </a:t>
            </a: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(         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5105520" y="3809880"/>
            <a:ext cx="3352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峰（   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蜂（   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1981080" y="35812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6600cc"/>
                </a:solidFill>
                <a:latin typeface="Times New Roman"/>
              </a:rPr>
              <a:t>小辫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2438280" y="45720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Times New Roman"/>
              </a:rPr>
              <a:t>辨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2362320" y="5562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Times New Roman"/>
              </a:rPr>
              <a:t>辩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1"/>
          <p:cNvSpPr/>
          <p:nvPr/>
        </p:nvSpPr>
        <p:spPr>
          <a:xfrm>
            <a:off x="6172200" y="38098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Times New Roman"/>
              </a:rPr>
              <a:t>山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6248520" y="47242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Times New Roman"/>
              </a:rPr>
              <a:t>蜜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C:\My Documents\戴崇洁\小动画\进入梦想世界.gif"/>
          <p:cNvPicPr/>
          <p:nvPr/>
        </p:nvPicPr>
        <p:blipFill>
          <a:blip r:embed="rId1"/>
          <a:stretch/>
        </p:blipFill>
        <p:spPr>
          <a:xfrm>
            <a:off x="304920" y="1522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3"/>
          <p:cNvSpPr/>
          <p:nvPr/>
        </p:nvSpPr>
        <p:spPr>
          <a:xfrm>
            <a:off x="2209680" y="76212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陡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4191120" y="762120"/>
            <a:ext cx="14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攀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6172200" y="762120"/>
            <a:ext cx="146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颤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626400" y="2057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山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11"/>
          <p:cNvSpPr/>
          <p:nvPr/>
        </p:nvSpPr>
        <p:spPr>
          <a:xfrm>
            <a:off x="2455200" y="1981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辫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2"/>
          <p:cNvSpPr/>
          <p:nvPr/>
        </p:nvSpPr>
        <p:spPr>
          <a:xfrm>
            <a:off x="4436640" y="1981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呵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3"/>
          <p:cNvSpPr/>
          <p:nvPr/>
        </p:nvSpPr>
        <p:spPr>
          <a:xfrm>
            <a:off x="6417720" y="1981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仰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4"/>
          <p:cNvSpPr/>
          <p:nvPr/>
        </p:nvSpPr>
        <p:spPr>
          <a:xfrm>
            <a:off x="457200" y="3276720"/>
            <a:ext cx="14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苍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5"/>
          <p:cNvSpPr/>
          <p:nvPr/>
        </p:nvSpPr>
        <p:spPr>
          <a:xfrm>
            <a:off x="2455200" y="3200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忽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16"/>
          <p:cNvSpPr/>
          <p:nvPr/>
        </p:nvSpPr>
        <p:spPr>
          <a:xfrm>
            <a:off x="4267080" y="3124080"/>
            <a:ext cx="14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终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17"/>
          <p:cNvSpPr/>
          <p:nvPr/>
        </p:nvSpPr>
        <p:spPr>
          <a:xfrm>
            <a:off x="6417720" y="30481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奋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8"/>
          <p:cNvSpPr/>
          <p:nvPr/>
        </p:nvSpPr>
        <p:spPr>
          <a:xfrm>
            <a:off x="702720" y="4495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勇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9"/>
          <p:cNvSpPr/>
          <p:nvPr/>
        </p:nvSpPr>
        <p:spPr>
          <a:xfrm>
            <a:off x="2455200" y="44197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居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20"/>
          <p:cNvSpPr/>
          <p:nvPr/>
        </p:nvSpPr>
        <p:spPr>
          <a:xfrm>
            <a:off x="4512600" y="44197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相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21"/>
          <p:cNvSpPr/>
          <p:nvPr/>
        </p:nvSpPr>
        <p:spPr>
          <a:xfrm>
            <a:off x="6494040" y="4267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咱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22"/>
          <p:cNvSpPr/>
          <p:nvPr/>
        </p:nvSpPr>
        <p:spPr>
          <a:xfrm>
            <a:off x="779040" y="55627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鲫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23"/>
          <p:cNvSpPr/>
          <p:nvPr/>
        </p:nvSpPr>
        <p:spPr>
          <a:xfrm>
            <a:off x="2531520" y="55627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爬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5"/>
          <p:cNvSpPr/>
          <p:nvPr/>
        </p:nvSpPr>
        <p:spPr>
          <a:xfrm>
            <a:off x="4588920" y="5486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铁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26"/>
          <p:cNvSpPr/>
          <p:nvPr/>
        </p:nvSpPr>
        <p:spPr>
          <a:xfrm>
            <a:off x="6494040" y="5410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房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22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C:\My Documents\戴崇洁\小动画\进入梦想世界.gif"/>
          <p:cNvPicPr/>
          <p:nvPr/>
        </p:nvPicPr>
        <p:blipFill>
          <a:blip r:embed="rId1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583" name="WordArt 3"/>
          <p:cNvSpPr txBox="1"/>
          <p:nvPr/>
        </p:nvSpPr>
        <p:spPr>
          <a:xfrm>
            <a:off x="1752480" y="380880"/>
            <a:ext cx="1524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知道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1066680" y="1219320"/>
            <a:ext cx="76201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居然：表示出乎意料，没有想到的事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终于：表示经过 种种变化和等待之后出现的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鼓舞：使人振作起来，增强信心和勇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发颤：心在颤抖，说明心里害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石级：石头台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仰望：抬头向上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鲫鱼背：是天都峰最险的地方，它是一道长十几米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宽不过一米的狭长光滑的石脊，石脊两旁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万丈深渊。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4876920" y="838080"/>
            <a:ext cx="4267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我站在天都峰脚下抬头望：啊，峰顶这么高，</a:t>
            </a:r>
            <a:r>
              <a:rPr b="0" lang="zh-CN" sz="4000" spc="-1" strike="noStrike">
                <a:solidFill>
                  <a:srgbClr val="ff6600"/>
                </a:solidFill>
                <a:latin typeface="Times New Roman"/>
                <a:ea typeface="华文中宋"/>
              </a:rPr>
              <a:t>在云彩上面哩！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我爬得上去吗？再看看</a:t>
            </a:r>
            <a:r>
              <a:rPr b="0" lang="zh-CN" sz="4000" spc="-1" strike="noStrike">
                <a:solidFill>
                  <a:srgbClr val="ff6600"/>
                </a:solidFill>
                <a:latin typeface="Times New Roman"/>
                <a:ea typeface="华文中宋"/>
              </a:rPr>
              <a:t>笔陡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的石级，石级边上的铁链，</a:t>
            </a:r>
            <a:r>
              <a:rPr b="0" lang="zh-CN" sz="4000" spc="-1" strike="noStrike">
                <a:solidFill>
                  <a:srgbClr val="ff6600"/>
                </a:solidFill>
                <a:latin typeface="Times New Roman"/>
                <a:ea typeface="华文中宋"/>
              </a:rPr>
              <a:t>似乎是从天上挂下来的，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真叫人发颤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Picture 3" descr="C:\My Documents\My Pictures\天都峰.jpg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C:\My Documents\My Pictures\小妹妹.jpg"/>
          <p:cNvPicPr/>
          <p:nvPr/>
        </p:nvPicPr>
        <p:blipFill>
          <a:blip r:embed="rId1"/>
          <a:stretch/>
        </p:blipFill>
        <p:spPr>
          <a:xfrm>
            <a:off x="533520" y="3352680"/>
            <a:ext cx="704880" cy="83844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"/>
          <p:cNvSpPr/>
          <p:nvPr/>
        </p:nvSpPr>
        <p:spPr>
          <a:xfrm>
            <a:off x="990720" y="9144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9966ff"/>
                </a:solidFill>
                <a:latin typeface="Times New Roman"/>
              </a:rPr>
              <a:t>读读老爷爷和小妹妹的对话，说说你感受到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1295280" y="2514600"/>
            <a:ext cx="66294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“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小朋友，你也来爬天都峰？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“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老爷爷，您也来爬天都峰？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“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对，咱们一起爬吧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5" descr="C:\My Documents\My Pictures\老夫子.jpg"/>
          <p:cNvPicPr/>
          <p:nvPr/>
        </p:nvPicPr>
        <p:blipFill>
          <a:blip r:embed="rId2"/>
          <a:stretch/>
        </p:blipFill>
        <p:spPr>
          <a:xfrm>
            <a:off x="533520" y="2362320"/>
            <a:ext cx="685800" cy="8380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6" descr="C:\My Documents\My Pictures\老夫子.jpg"/>
          <p:cNvPicPr/>
          <p:nvPr/>
        </p:nvPicPr>
        <p:blipFill>
          <a:blip r:embed="rId3"/>
          <a:stretch/>
        </p:blipFill>
        <p:spPr>
          <a:xfrm>
            <a:off x="533520" y="4267080"/>
            <a:ext cx="6858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0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38:2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