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3003213" cy="888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9463-E4CF-43CD-8E4E-55FDB90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FF593-3D2D-4904-9826-DDBCBE3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A532-167D-48E2-8E1F-AF9702CD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C48D-D1B3-41A5-9D3D-5C70155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C972-8750-422D-B9DE-6C7D1D5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7A7CD-781B-4BF1-AC1D-4E7A02D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F893A-654E-4E13-8413-6E943BE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86ED-7B60-46FB-8102-4BE5F571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5910-E705-4485-8EF9-039F688E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CB7EE-E99B-4934-A881-07718338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FE55-E8B2-49EE-B562-7798FED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BAC9-4EB2-4302-AC44-0F3DDB8F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98D92-F73C-49AE-A3CE-377BD080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C83F-5D69-474C-90C3-3D9642A8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BCEF3-2223-411E-B553-FEF37BB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5D308-3AAC-453A-8D04-956C6FFA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E81CE-6F83-4F15-8CCD-181986B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F05AC-BEA7-4A2D-80D2-4230CD5D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7AD54-9786-41EF-A0CB-1C9F1F7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108CA-2A13-49F3-8CFF-1A79A41B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1D6DC-BBA5-4BC0-AB75-4E015BE9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06364-72D2-48B4-95DA-029C5430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DA46D-378D-4375-9036-5494B10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139A3-5EB0-4E38-BF4C-D3416FD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4824D-CB81-4A4B-801D-7B81D4A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515F-442A-4F8A-8125-270306A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353CC-0AC6-4F0E-AC88-4A28276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3C0E7-6E8A-4D61-AC8E-37224CFC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E42DD-01BB-4F26-A8BA-17BEFC2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367F2-E276-4DFD-9791-F5F229F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F30-C4CD-4F26-8115-37292E6A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FAB56-AEAA-41E5-A268-0FE4F54A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A9697-186B-48DB-92F2-F10026C6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07899-14D8-4E0A-B260-D4D98BB7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EF86B-AAA3-4BA1-9A6F-13AEBB71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FDC09-26C1-4780-9800-19B589F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521E1-A76F-4ED9-92C2-D279B1F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6960-2222-4D1F-83FB-F99B4CFA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2449A-2700-4ACA-84A2-EA6F797E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34392-0D2D-4780-BD10-97D99D4A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CDF6-ADE1-4ECB-8940-E320974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294-D817-4B8F-B11F-F88E872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84FC2-5106-4D7C-B53C-3B5AC5F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C8FC-359A-43BB-9704-ABA9C20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9D14-9107-4655-88CA-B088E55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73134-A879-4D61-B2F7-6AFFD855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7264F-C27D-402D-A494-4669875E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06C0E-B752-4E94-8938-DFA8CCDC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D48B-ABA7-4104-8F5F-C2206066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1473A-AA6F-4B67-8AC7-902E40AD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CC09B-29C3-4325-B636-3ED5843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9651A-28D3-49B6-AC4C-DBAF10CD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9B7-7357-4EC6-B1B6-84BE3EF3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76D5-C96C-4E44-A6A4-8D1C828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AF86-C39B-41C0-AC3F-D4197C4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01685-DFA2-4E39-8636-71B756F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BFDED-4E73-4765-8DBE-A010328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99326-C49C-4510-AE5F-6AF136C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9957A-403C-42AC-9956-936DF001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98554-C101-4AE5-9180-AEDD507F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79F-F481-4697-AEB6-393BDEF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741-1709-4C0E-83D9-15CB3133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EBB-2DCB-401A-8F55-6237676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97C-1774-409B-BA12-15420AA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D50-6E13-4D69-AEC2-9CFCD2C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B45-B9BC-422F-8980-5D50EE9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7FC-536B-43C7-A466-352E914D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210-021A-493B-96A7-461C61F0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7CE-1D55-4045-B0D1-5589FD64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DCDB-F8DF-4B71-B4C6-3A595BAC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741-B871-4FA7-9AF3-3C9F8FFC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0290-A84C-4E77-8A08-DE8B81B6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480-8C35-4BC2-BA0A-3D7655A9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737-88D9-413F-80B0-754BEFE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412-A733-4423-9CE6-6872E072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2E2-C922-4047-9C5E-6717CCE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B08-F0C3-4C46-8EBF-4740392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2217-3838-447B-A80D-E6DC17A4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BF8F-D5F7-490A-B0FA-2BC3D37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7144-1680-4C01-A30E-39D4D882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D4A-CA84-4A43-80C7-512E738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573A-2D12-45B1-850B-3520BE16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79C9-1A22-4006-801D-15EECFB8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AA06-335D-4204-A76B-A4613279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932A-6DAC-4AC6-9FE4-75409B8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B60E-E49C-4CCA-B407-C6F8CE66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B6FB-46AA-4AE6-89AB-6901A33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D1B3-5563-406C-9FF2-FD248995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B7D3-044E-4202-835D-57F30F3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2061-9A60-4E27-9F52-CCF776C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C9CE-C677-47BA-8665-570D299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166F-5C27-4573-8DA6-08A0F015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DB5F-7A10-44E8-9D19-0A3962A7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75FC-1FFE-422B-AB82-F8A5846F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CCF7-746B-495F-BE88-90412B5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FDFF-A161-47EA-89DC-61AAA550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F2CB-F555-48BC-A6F1-6FF486D4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BFBF-FDB2-487B-A662-2A77689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E1A6-F159-4CC1-89D2-76924CB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94C9-CCD5-4ED3-AEF5-8B36AE9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51EA-A43C-424F-8B37-FC913F7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BB6F-F9CE-49BC-B6BD-CF81661D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7F96-5D8F-48B0-AB61-536FFA3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E488-BE53-4526-B59D-C7C8BDE6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ED1F-ADFF-482C-B0B7-AD65EBE6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1517-B309-4A53-9CCD-37D81DBD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ED7B-FA4A-4CA5-9318-F28E5C6B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7A20-275D-4359-9033-F68A9EF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752D1-CC7A-4CDC-A6DD-4AA027B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644C-76C9-452C-B61A-5E26F4E4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F1A7-3BA0-43FE-93EB-917C655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1D7D2-174E-4258-BC37-38D08C1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E908-C5AC-4B9C-BA77-C14C8EC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1A06-922A-4DA7-9429-B521E14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9086-F509-4337-9FE3-81ACEEA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47FA-DB92-4C81-8079-83514DB2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0A98-D046-4ABA-B748-048A1BFB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A8A8-60CF-4EFD-8658-24AA545B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5EA4-E73A-4F0D-AEE7-2C540509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4829-6A97-465F-8DEE-2A8EAE6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8E9C-1654-4A8F-B590-97921DA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AF62-D7AC-41EC-8242-08C6338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FB47-7CF3-4302-A908-6C90495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B6EB-2AF8-4F46-9DF0-5B38859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04CA-EE7B-4EE1-9489-A76B9A8E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B7D9-15B6-4604-8838-6E66351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86FFE-82BE-4082-9EF9-6F6F4F3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9CD4-858E-4CF7-8470-36BF2755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23FB4-EBCB-4B8A-ABE3-42037A04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08CC-279D-405A-A0A9-6222868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E823-CFB1-4284-8D1A-CF426571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FD720-7198-4C48-A953-26968BD5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A7C7-498A-48CE-890E-85E4B0BE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D62D-DDEE-43A7-82F0-F3EEF62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2200"/>
              </a:spcBef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70F7-F65E-43AA-A825-3E30402B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5999C-0252-4094-BE17-53694BB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02D26-01CC-4D0D-8842-336964D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15D63-1E50-4622-88C1-3B81BD9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D2DD-CF92-40B0-93ED-F8435085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149C-F834-4406-9A6A-469E892C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290D-68CC-494C-8A3B-8F12168B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A8F0C-52A3-461B-8125-FC495655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2200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F708-DAE7-410D-A39E-E9DC796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16B6-6CE4-4B1F-BF0E-F8F099E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512-252F-485F-832B-36BF6FE862EB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6A6-3746-41BC-A161-68641A0413DD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C2A1-6E86-4E0D-86CB-319543D346C8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C696-C0BC-419F-BFCA-56EFF50E1510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486-F8A3-41A8-88E8-6C29DA26E44F}" type="slidenum">
              <a:rPr b="0" lang="zh-CN" sz="15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14A6-81C6-462E-A0C5-FB0FF2EE17C8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E02A-C4A2-49D4-BF8A-4ADA1F9DEC22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C0E-76D8-4AB0-9A66-CEE9E61EB62A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8E8A-173A-4109-AB57-FEB54C49BC50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1CD-D184-4330-B2B3-2464A5506CBE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58C-1136-4ABF-B707-5A4F15746700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50880" y="2074680"/>
            <a:ext cx="11702880" cy="58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369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481040" indent="-295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2073240" indent="-2952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2666880" indent="-29520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DFF-313B-4050-ACCB-74C4C32C3906}" type="slidenum">
              <a:rPr b="0" lang="zh-CN" sz="15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29" name="矩形 1"/>
          <p:cNvSpPr/>
          <p:nvPr/>
        </p:nvSpPr>
        <p:spPr>
          <a:xfrm>
            <a:off x="4849200" y="14209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ill Sans"/>
              </a:rPr>
              <a:t>培训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ill Sans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矩形 4"/>
          <p:cNvSpPr/>
          <p:nvPr/>
        </p:nvSpPr>
        <p:spPr>
          <a:xfrm>
            <a:off x="99720" y="853740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ill Sans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165240" y="8118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2325600" y="8550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82600" y="244080"/>
            <a:ext cx="1063944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15680" y="1646280"/>
            <a:ext cx="11572920" cy="67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8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0022040" y="431640"/>
            <a:ext cx="1800000" cy="4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Heiti SC Ligh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165240" y="8118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2:35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