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372-D80E-4B91-A6CC-88E01A5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8EF-5E74-416C-9BC0-2C3BFD3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173-0D48-4234-9126-AE9CACD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3F6-A321-42B6-86F4-3B6D834F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B14F-9956-49C7-82BA-89839837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700-2D72-46E2-BB83-38E54F6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328-F73F-4438-AE74-197962D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5A44-186E-4705-B032-2C090FA9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545E-7629-49E6-9F90-6C42B4F5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9AD-F5EF-4994-99B1-A6C36FF2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835C-DC48-499F-B1DD-6A12DF5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219-647E-496D-965B-D3452BCA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5E6-537B-4D5F-9A3D-A631779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6237-0CAB-44BE-970F-FB0F719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E9A0-89B5-4AE2-92BA-40C8EFC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134-6C1D-4203-9366-FA54FDE5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66D-BE21-4FC0-939F-084D4CC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322C-1CFD-4E8D-A083-B1B2A991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035D-4E9E-4A3F-9EE3-084A6FE2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7496-A4B5-4AEC-A80A-848E002B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4ACB-3F03-406B-B5B8-5173689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522C-3BF8-487C-837D-B5E7E70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BF1-CDC2-4D95-B578-96A6C6D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CA96-E2D1-42B2-BA7F-EC0E280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CBC5-8E0C-47C3-9E3A-0E1C1BF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6C20-A91D-446F-8918-D5260239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FE06-DE7D-4D18-A909-DAF2D604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186D-7B13-41E2-B441-B45DDF1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0B16-FEFF-4CF3-8934-D8C0557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4DBD-360C-459A-8AA4-93B0C63F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4D9-F370-480B-8A87-16DA40F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E17-EBB5-4723-B177-A37E222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5A5-9E4D-4259-9159-E4A2C81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CC2-5BA9-4307-9D9C-D02098D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945-68A4-4ADF-A47B-8D01C13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33A-F707-4D8C-94A3-758809D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2B8-752C-4137-916F-DC3BE7016A4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F7C0-97AE-430A-BC18-8B8F061FBD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4916520"/>
            <a:ext cx="9001080" cy="482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2160" y="216000"/>
            <a:ext cx="8096040" cy="900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2160" y="1258920"/>
            <a:ext cx="8096040" cy="3564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89000"/>
          </a:bodyPr>
          <a:p>
            <a:pPr marL="299520" indent="-299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920" indent="-2484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199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394280" indent="-198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216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C2B-5B8A-470C-80A9-BA666D3CD97F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3320" y="4916160"/>
            <a:ext cx="285264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120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ADB-EF37-44BC-8E15-24D92388C933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9C5-CF49-425A-AE4C-34FF8BE4C28F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42B-2874-460F-9484-7C82959899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"/>
          <p:cNvSpPr/>
          <p:nvPr/>
        </p:nvSpPr>
        <p:spPr>
          <a:xfrm>
            <a:off x="3061440" y="2544840"/>
            <a:ext cx="28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1"/>
          <p:cNvPicPr/>
          <p:nvPr/>
        </p:nvPicPr>
        <p:blipFill>
          <a:blip r:embed="rId3"/>
          <a:stretch/>
        </p:blipFill>
        <p:spPr>
          <a:xfrm>
            <a:off x="0" y="971640"/>
            <a:ext cx="8999640" cy="275904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7091280" y="4140360"/>
            <a:ext cx="180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6416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过去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13052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现在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7570800" y="414036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082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未来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69880" y="4043520"/>
            <a:ext cx="53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青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浪漫雅圆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85560" y="5003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832040" y="1417680"/>
            <a:ext cx="5641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9e002c"/>
                </a:solidFill>
                <a:latin typeface="Arial"/>
                <a:ea typeface="微软雅黑"/>
              </a:rPr>
              <a:t>不愿怠惰的青春爱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5720" y="2262240"/>
            <a:ext cx="5545080" cy="993600"/>
          </a:xfrm>
          <a:prstGeom prst="rect">
            <a:avLst/>
          </a:prstGeom>
          <a:solidFill>
            <a:srgbClr val="9e0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ffffff"/>
                </a:solidFill>
                <a:latin typeface="Arial"/>
                <a:ea typeface="微软雅黑"/>
              </a:rPr>
              <a:t>这一刻，爱吧！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765520" y="5013360"/>
            <a:ext cx="453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圆1"/>
          <p:cNvPicPr/>
          <p:nvPr/>
        </p:nvPicPr>
        <p:blipFill>
          <a:blip r:embed="rId1"/>
          <a:srcRect l="9507" t="0" r="0" b="0"/>
          <a:stretch/>
        </p:blipFill>
        <p:spPr>
          <a:xfrm>
            <a:off x="2398680" y="539640"/>
            <a:ext cx="4046400" cy="293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14"/>
          <p:cNvPicPr/>
          <p:nvPr/>
        </p:nvPicPr>
        <p:blipFill>
          <a:blip r:embed="rId2"/>
          <a:srcRect l="3215" t="0" r="19583" b="0"/>
          <a:stretch/>
        </p:blipFill>
        <p:spPr>
          <a:xfrm>
            <a:off x="2398680" y="539640"/>
            <a:ext cx="4035600" cy="2932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6"/>
          <p:cNvPicPr/>
          <p:nvPr/>
        </p:nvPicPr>
        <p:blipFill>
          <a:blip r:embed="rId3"/>
          <a:srcRect l="16020" t="0" r="6796" b="0"/>
          <a:stretch/>
        </p:blipFill>
        <p:spPr>
          <a:xfrm>
            <a:off x="2400480" y="541440"/>
            <a:ext cx="4044600" cy="2931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908000" y="3924360"/>
            <a:ext cx="5616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PPT</a:t>
            </a: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制作 ：小鱼         文案撰写：网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图片来源：网络         背景音乐：《这一刻，爱吧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第一</a:t>
            </a:r>
            <a:r>
              <a:rPr b="0" lang="en-US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PPT</a:t>
            </a: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，</a:t>
            </a:r>
            <a:r>
              <a:rPr b="0" lang="en-US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www.1ppt.com</a:t>
            </a:r>
            <a:r>
              <a:rPr b="0" lang="zh-CN" sz="1700" spc="-1" strike="noStrike">
                <a:solidFill>
                  <a:srgbClr val="9e002c"/>
                </a:solidFill>
                <a:latin typeface="微软雅黑"/>
                <a:ea typeface="微软雅黑"/>
              </a:rPr>
              <a:t>，优秀幻灯片下载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1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002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0080" y="149400"/>
            <a:ext cx="8078760" cy="452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200" y="1000080"/>
            <a:ext cx="8786880" cy="4108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172280" y="262080"/>
            <a:ext cx="136692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373480" y="1979640"/>
            <a:ext cx="4287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300" spc="-1" strike="noStrike">
                <a:solidFill>
                  <a:srgbClr val="ffffff"/>
                </a:solidFill>
                <a:latin typeface="Arial"/>
                <a:ea typeface="方正静蕾简体"/>
              </a:rPr>
              <a:t>谢谢观赏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959360" y="3527280"/>
            <a:ext cx="16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2013.5.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 flipV="1">
            <a:off x="-33480" y="12600"/>
            <a:ext cx="9029880" cy="11145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6661080" y="304920"/>
            <a:ext cx="71640" cy="10810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233960" y="611280"/>
            <a:ext cx="71280" cy="79200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908000" y="900000"/>
            <a:ext cx="71640" cy="5032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1058760" y="1296000"/>
            <a:ext cx="2057400" cy="2431440"/>
            <a:chOff x="1058760" y="1296000"/>
            <a:chExt cx="2057400" cy="2431440"/>
          </a:xfrm>
        </p:grpSpPr>
        <p:sp>
          <p:nvSpPr>
            <p:cNvPr id="138" name="Rectangle 7"/>
            <p:cNvSpPr/>
            <p:nvPr/>
          </p:nvSpPr>
          <p:spPr>
            <a:xfrm rot="21180000">
              <a:off x="1187640" y="1397160"/>
              <a:ext cx="1799280" cy="2228760"/>
            </a:xfrm>
            <a:prstGeom prst="rect">
              <a:avLst/>
            </a:prstGeom>
            <a:solidFill>
              <a:srgbClr val="9c0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8" descr="13"/>
            <p:cNvPicPr/>
            <p:nvPr/>
          </p:nvPicPr>
          <p:blipFill>
            <a:blip r:embed="rId1"/>
            <a:srcRect l="2089" t="0" r="0" b="0"/>
            <a:stretch/>
          </p:blipFill>
          <p:spPr>
            <a:xfrm flipH="1" rot="21180000">
              <a:off x="1168560" y="1563480"/>
              <a:ext cx="17377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9"/>
            <p:cNvSpPr/>
            <p:nvPr/>
          </p:nvSpPr>
          <p:spPr>
            <a:xfrm rot="21180000">
              <a:off x="1401840" y="2843280"/>
              <a:ext cx="15778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爱情考卷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这题有点难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435840" y="1302120"/>
            <a:ext cx="2058840" cy="2433240"/>
            <a:chOff x="3435840" y="1302120"/>
            <a:chExt cx="2058840" cy="2433240"/>
          </a:xfrm>
        </p:grpSpPr>
        <p:sp>
          <p:nvSpPr>
            <p:cNvPr id="142" name="Rectangle 11"/>
            <p:cNvSpPr/>
            <p:nvPr/>
          </p:nvSpPr>
          <p:spPr>
            <a:xfrm rot="21180000">
              <a:off x="3564720" y="1403280"/>
              <a:ext cx="180036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2" descr="4"/>
            <p:cNvPicPr/>
            <p:nvPr/>
          </p:nvPicPr>
          <p:blipFill>
            <a:blip r:embed="rId2"/>
            <a:srcRect l="0" t="0" r="42238" b="0"/>
            <a:stretch/>
          </p:blipFill>
          <p:spPr>
            <a:xfrm rot="21180000">
              <a:off x="3562200" y="1509840"/>
              <a:ext cx="1770480" cy="17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 rot="21180000">
              <a:off x="3740040" y="3270960"/>
              <a:ext cx="15800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最后的第一次约会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5882760" y="1270440"/>
            <a:ext cx="2058480" cy="2433240"/>
            <a:chOff x="5882760" y="1270440"/>
            <a:chExt cx="2058480" cy="2433240"/>
          </a:xfrm>
        </p:grpSpPr>
        <p:sp>
          <p:nvSpPr>
            <p:cNvPr id="146" name="Rectangle 15"/>
            <p:cNvSpPr/>
            <p:nvPr/>
          </p:nvSpPr>
          <p:spPr>
            <a:xfrm rot="21180000">
              <a:off x="6011640" y="1371600"/>
              <a:ext cx="180000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6" descr="1"/>
            <p:cNvPicPr/>
            <p:nvPr/>
          </p:nvPicPr>
          <p:blipFill>
            <a:blip r:embed="rId3"/>
            <a:srcRect l="11031" t="0" r="14862" b="0"/>
            <a:stretch/>
          </p:blipFill>
          <p:spPr>
            <a:xfrm rot="21180000">
              <a:off x="6000840" y="1450800"/>
              <a:ext cx="173304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7"/>
            <p:cNvSpPr/>
            <p:nvPr/>
          </p:nvSpPr>
          <p:spPr>
            <a:xfrm rot="21180000">
              <a:off x="6171840" y="2842920"/>
              <a:ext cx="15793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8</a:t>
              </a: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度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该沸腾吗？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1547640" y="2556000"/>
            <a:ext cx="5616720" cy="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4282920" y="755640"/>
            <a:ext cx="1800" cy="360036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164360" y="245736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相信真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03320" y="2457360"/>
            <a:ext cx="57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不信爱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011480" y="549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主动争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011480" y="435600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被动等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00364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真爱无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092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现实主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05092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哪有真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00364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恋人未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32000" y="2195640"/>
            <a:ext cx="6624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9e002c"/>
                </a:solidFill>
                <a:latin typeface="Arial"/>
                <a:ea typeface="微软雅黑"/>
              </a:rPr>
              <a:t>你的爱情在第几象限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2"/>
          <p:cNvPicPr/>
          <p:nvPr/>
        </p:nvPicPr>
        <p:blipFill>
          <a:blip r:embed="rId1"/>
          <a:stretch/>
        </p:blipFill>
        <p:spPr>
          <a:xfrm>
            <a:off x="4643280" y="1185840"/>
            <a:ext cx="3494160" cy="1955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484520" y="3403440"/>
            <a:ext cx="3816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爱情</a:t>
            </a:r>
            <a:r>
              <a:rPr b="1" lang="zh-CN" sz="6500" spc="-1" strike="noStrike">
                <a:solidFill>
                  <a:srgbClr val="990000"/>
                </a:solidFill>
                <a:latin typeface="Arial"/>
                <a:ea typeface="方正静蕾简体"/>
              </a:rPr>
              <a:t>放大</a:t>
            </a: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镜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555640" y="0"/>
            <a:ext cx="636840" cy="2482920"/>
            <a:chOff x="2555640" y="0"/>
            <a:chExt cx="636840" cy="2482920"/>
          </a:xfrm>
        </p:grpSpPr>
        <p:sp>
          <p:nvSpPr>
            <p:cNvPr id="163" name="Rectangle 5"/>
            <p:cNvSpPr/>
            <p:nvPr/>
          </p:nvSpPr>
          <p:spPr>
            <a:xfrm>
              <a:off x="2760840" y="0"/>
              <a:ext cx="431640" cy="23749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555640" y="108000"/>
              <a:ext cx="63684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昨天为什么没接我电话？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2236680" y="1440"/>
            <a:ext cx="433440" cy="2698920"/>
            <a:chOff x="2236680" y="1440"/>
            <a:chExt cx="433440" cy="2698920"/>
          </a:xfrm>
        </p:grpSpPr>
        <p:sp>
          <p:nvSpPr>
            <p:cNvPr id="166" name="Rectangle 8"/>
            <p:cNvSpPr/>
            <p:nvPr/>
          </p:nvSpPr>
          <p:spPr>
            <a:xfrm>
              <a:off x="2236680" y="1440"/>
              <a:ext cx="433440" cy="26276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2258640" y="108000"/>
              <a:ext cx="4086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今天是我们恋爱一周年耶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1501560" y="1440"/>
            <a:ext cx="636840" cy="3640320"/>
            <a:chOff x="1501560" y="1440"/>
            <a:chExt cx="636840" cy="3640320"/>
          </a:xfrm>
        </p:grpSpPr>
        <p:sp>
          <p:nvSpPr>
            <p:cNvPr id="169" name="Rectangle 11"/>
            <p:cNvSpPr/>
            <p:nvPr/>
          </p:nvSpPr>
          <p:spPr>
            <a:xfrm>
              <a:off x="1704960" y="1440"/>
              <a:ext cx="433440" cy="339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501560" y="108000"/>
              <a:ext cx="636840" cy="35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你跟公司的那位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MM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关系好像很不错哟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964800" y="1440"/>
            <a:ext cx="636840" cy="2783160"/>
            <a:chOff x="964800" y="1440"/>
            <a:chExt cx="636840" cy="2783160"/>
          </a:xfrm>
        </p:grpSpPr>
        <p:sp>
          <p:nvSpPr>
            <p:cNvPr id="172" name="Rectangle 14"/>
            <p:cNvSpPr/>
            <p:nvPr/>
          </p:nvSpPr>
          <p:spPr>
            <a:xfrm>
              <a:off x="1170000" y="1440"/>
              <a:ext cx="431640" cy="2783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964800" y="108720"/>
              <a:ext cx="636840" cy="23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亲爱的，我好像感冒了啦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20840" y="1440"/>
            <a:ext cx="657000" cy="3149640"/>
            <a:chOff x="420840" y="1440"/>
            <a:chExt cx="657000" cy="3149640"/>
          </a:xfrm>
        </p:grpSpPr>
        <p:sp>
          <p:nvSpPr>
            <p:cNvPr id="175" name="Rectangle 17"/>
            <p:cNvSpPr/>
            <p:nvPr/>
          </p:nvSpPr>
          <p:spPr>
            <a:xfrm>
              <a:off x="646200" y="1440"/>
              <a:ext cx="431640" cy="2698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840" y="108000"/>
              <a:ext cx="63684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你好久没带我去吃好吃的了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9" descr="未命名-1"/>
          <p:cNvPicPr/>
          <p:nvPr/>
        </p:nvPicPr>
        <p:blipFill>
          <a:blip r:embed="rId2"/>
          <a:stretch/>
        </p:blipFill>
        <p:spPr>
          <a:xfrm>
            <a:off x="2762280" y="2432160"/>
            <a:ext cx="447480" cy="668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未命名-2"/>
          <p:cNvPicPr/>
          <p:nvPr/>
        </p:nvPicPr>
        <p:blipFill>
          <a:blip r:embed="rId3"/>
          <a:stretch/>
        </p:blipFill>
        <p:spPr>
          <a:xfrm>
            <a:off x="1168560" y="2843280"/>
            <a:ext cx="433080" cy="64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未命名-3"/>
          <p:cNvPicPr/>
          <p:nvPr/>
        </p:nvPicPr>
        <p:blipFill>
          <a:blip r:embed="rId4"/>
          <a:stretch/>
        </p:blipFill>
        <p:spPr>
          <a:xfrm>
            <a:off x="2235240" y="2687760"/>
            <a:ext cx="450720" cy="57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未命名-4"/>
          <p:cNvPicPr/>
          <p:nvPr/>
        </p:nvPicPr>
        <p:blipFill>
          <a:blip r:embed="rId5"/>
          <a:stretch/>
        </p:blipFill>
        <p:spPr>
          <a:xfrm>
            <a:off x="647640" y="2746440"/>
            <a:ext cx="432000" cy="863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3"/>
          <p:cNvGrpSpPr/>
          <p:nvPr/>
        </p:nvGrpSpPr>
        <p:grpSpPr>
          <a:xfrm>
            <a:off x="5848200" y="3191040"/>
            <a:ext cx="1943280" cy="2050920"/>
            <a:chOff x="5848200" y="3191040"/>
            <a:chExt cx="1943280" cy="2050920"/>
          </a:xfrm>
        </p:grpSpPr>
        <p:grpSp>
          <p:nvGrpSpPr>
            <p:cNvPr id="182" name="Group 24"/>
            <p:cNvGrpSpPr/>
            <p:nvPr/>
          </p:nvGrpSpPr>
          <p:grpSpPr>
            <a:xfrm>
              <a:off x="7154280" y="4572360"/>
              <a:ext cx="637200" cy="669600"/>
              <a:chOff x="7154280" y="4572360"/>
              <a:chExt cx="637200" cy="669600"/>
            </a:xfrm>
          </p:grpSpPr>
          <p:sp>
            <p:nvSpPr>
              <p:cNvPr id="183" name="Oval 25"/>
              <p:cNvSpPr/>
              <p:nvPr/>
            </p:nvSpPr>
            <p:spPr>
              <a:xfrm>
                <a:off x="7683840" y="5134320"/>
                <a:ext cx="107640" cy="107640"/>
              </a:xfrm>
              <a:prstGeom prst="ellipse">
                <a:avLst/>
              </a:prstGeom>
              <a:solidFill>
                <a:srgbClr val="2d2a02"/>
              </a:solidFill>
              <a:ln w="9360">
                <a:solidFill>
                  <a:srgbClr val="2d2a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>
                <a:off x="7154280" y="4572360"/>
                <a:ext cx="579600" cy="612000"/>
              </a:xfrm>
              <a:prstGeom prst="line">
                <a:avLst/>
              </a:prstGeom>
              <a:ln w="127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27"/>
            <p:cNvSpPr/>
            <p:nvPr/>
          </p:nvSpPr>
          <p:spPr>
            <a:xfrm>
              <a:off x="5848200" y="3191040"/>
              <a:ext cx="1595520" cy="1595880"/>
            </a:xfrm>
            <a:prstGeom prst="ellipse">
              <a:avLst/>
            </a:prstGeom>
            <a:noFill/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Oval 28"/>
            <p:cNvGrpSpPr/>
            <p:nvPr/>
          </p:nvGrpSpPr>
          <p:grpSpPr>
            <a:xfrm>
              <a:off x="5906520" y="3249360"/>
              <a:ext cx="1487520" cy="1481040"/>
              <a:chOff x="5906520" y="3249360"/>
              <a:chExt cx="1487520" cy="1481040"/>
            </a:xfrm>
          </p:grpSpPr>
          <p:pic>
            <p:nvPicPr>
              <p:cNvPr id="187" name="Oval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906520" y="3249360"/>
                <a:ext cx="1487520" cy="14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30"/>
              <p:cNvSpPr/>
              <p:nvPr/>
            </p:nvSpPr>
            <p:spPr>
              <a:xfrm>
                <a:off x="6126480" y="3463920"/>
                <a:ext cx="104976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08520" y="2355840"/>
            <a:ext cx="1152360" cy="1152360"/>
          </a:xfrm>
          <a:prstGeom prst="rect">
            <a:avLst/>
          </a:prstGeom>
          <a:solidFill>
            <a:srgbClr val="b20000"/>
          </a:solidFill>
          <a:ln w="0">
            <a:noFill/>
          </a:ln>
          <a:effectLst>
            <a:outerShdw dist="17819" dir="2700000" blurRad="0" rotWithShape="0">
              <a:srgbClr val="6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3541680" y="844560"/>
            <a:ext cx="1871640" cy="1366920"/>
            <a:chOff x="3541680" y="844560"/>
            <a:chExt cx="1871640" cy="1366920"/>
          </a:xfrm>
        </p:grpSpPr>
        <p:sp>
          <p:nvSpPr>
            <p:cNvPr id="191" name="AutoShape 4"/>
            <p:cNvSpPr/>
            <p:nvPr/>
          </p:nvSpPr>
          <p:spPr>
            <a:xfrm>
              <a:off x="3541680" y="844560"/>
              <a:ext cx="1871640" cy="136692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920"/>
                <a:gd name="textAreaBottom" fmla="*/ 108216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693960" y="1014480"/>
              <a:ext cx="158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在式的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现在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2279520" y="1995480"/>
            <a:ext cx="1584360" cy="1871640"/>
            <a:chOff x="2279520" y="1995480"/>
            <a:chExt cx="1584360" cy="1871640"/>
          </a:xfrm>
        </p:grpSpPr>
        <p:sp>
          <p:nvSpPr>
            <p:cNvPr id="194" name="AutoShape 7"/>
            <p:cNvSpPr/>
            <p:nvPr/>
          </p:nvSpPr>
          <p:spPr>
            <a:xfrm flipH="1" rot="16200000">
              <a:off x="2125440" y="2247480"/>
              <a:ext cx="1871640" cy="136764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5120 h 1367640"/>
                <a:gd name="textAreaBottom" fmla="*/ 1082520 h 13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2279520" y="26283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过去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"/>
          <p:cNvGrpSpPr/>
          <p:nvPr/>
        </p:nvGrpSpPr>
        <p:grpSpPr>
          <a:xfrm>
            <a:off x="5092560" y="1995480"/>
            <a:ext cx="1582920" cy="1871640"/>
            <a:chOff x="5092560" y="1995480"/>
            <a:chExt cx="1582920" cy="1871640"/>
          </a:xfrm>
        </p:grpSpPr>
        <p:sp>
          <p:nvSpPr>
            <p:cNvPr id="197" name="AutoShape 10"/>
            <p:cNvSpPr/>
            <p:nvPr/>
          </p:nvSpPr>
          <p:spPr>
            <a:xfrm rot="5400000">
              <a:off x="4960080" y="2247840"/>
              <a:ext cx="1871640" cy="136656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560"/>
                <a:gd name="textAreaBottom" fmla="*/ 108180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5092560" y="2628360"/>
              <a:ext cx="158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未来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2"/>
          <p:cNvSpPr/>
          <p:nvPr/>
        </p:nvSpPr>
        <p:spPr>
          <a:xfrm>
            <a:off x="2549520" y="4797360"/>
            <a:ext cx="51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1730520" y="976320"/>
            <a:ext cx="504720" cy="3022560"/>
          </a:xfrm>
          <a:custGeom>
            <a:avLst/>
            <a:gdLst>
              <a:gd name="textAreaLeft" fmla="*/ 322560 w 504720"/>
              <a:gd name="textAreaRight" fmla="*/ 505080 w 504720"/>
              <a:gd name="textAreaTop" fmla="*/ 78480 h 3022560"/>
              <a:gd name="textAreaBottom" fmla="*/ 2944080 h 302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0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308320" y="124920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08320" y="231768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308320" y="333684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will  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722760" y="230364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升温的恋情里，总忍不住测试对方，收集爱的证据，谁爱谁多一点，真得打分衡量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722760" y="326232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恋人未满的状态，你们，真的会有可能吗？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98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度爱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该沸腾吗？如果因为害怕改变现状而退却，就永远感觉不到真爱沸腾的炽烈。不要犹豫，勇敢爱吧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722760" y="124920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曾经的暗恋对象，那些挥之不去的憧憬，却始终没有跨出这一步。为什么不向那个人诉说真心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932040" y="2195640"/>
            <a:ext cx="576000" cy="576000"/>
          </a:xfrm>
          <a:custGeom>
            <a:avLst/>
            <a:gdLst>
              <a:gd name="textAreaLeft" fmla="*/ 134280 w 576000"/>
              <a:gd name="textAreaRight" fmla="*/ 441720 w 576000"/>
              <a:gd name="textAreaTop" fmla="*/ 60480 h 576000"/>
              <a:gd name="textAreaBottom" fmla="*/ 364680 h 57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929320" y="2529000"/>
            <a:ext cx="162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1ppt.com/xiazai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2"/>
          <p:cNvPicPr/>
          <p:nvPr/>
        </p:nvPicPr>
        <p:blipFill>
          <a:blip r:embed="rId1"/>
          <a:srcRect l="3246" t="2861" r="11346" b="5217"/>
          <a:stretch/>
        </p:blipFill>
        <p:spPr>
          <a:xfrm>
            <a:off x="611280" y="755640"/>
            <a:ext cx="30906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0"/>
          <p:cNvPicPr/>
          <p:nvPr/>
        </p:nvPicPr>
        <p:blipFill>
          <a:blip r:embed="rId2"/>
          <a:stretch/>
        </p:blipFill>
        <p:spPr>
          <a:xfrm>
            <a:off x="5391000" y="755640"/>
            <a:ext cx="3036960" cy="1722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5"/>
          <p:cNvPicPr/>
          <p:nvPr/>
        </p:nvPicPr>
        <p:blipFill>
          <a:blip r:embed="rId3"/>
          <a:stretch/>
        </p:blipFill>
        <p:spPr>
          <a:xfrm>
            <a:off x="2562120" y="2629080"/>
            <a:ext cx="1281240" cy="1760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3"/>
          <p:cNvPicPr/>
          <p:nvPr/>
        </p:nvPicPr>
        <p:blipFill>
          <a:blip r:embed="rId4"/>
          <a:stretch/>
        </p:blipFill>
        <p:spPr>
          <a:xfrm>
            <a:off x="3924360" y="2620800"/>
            <a:ext cx="3144600" cy="176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6"/>
          <p:cNvPicPr/>
          <p:nvPr/>
        </p:nvPicPr>
        <p:blipFill>
          <a:blip r:embed="rId5"/>
          <a:srcRect l="0" t="0" r="40832" b="0"/>
          <a:stretch/>
        </p:blipFill>
        <p:spPr>
          <a:xfrm>
            <a:off x="612720" y="2629080"/>
            <a:ext cx="1852560" cy="176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7"/>
          <p:cNvPicPr/>
          <p:nvPr/>
        </p:nvPicPr>
        <p:blipFill>
          <a:blip r:embed="rId6"/>
          <a:stretch/>
        </p:blipFill>
        <p:spPr>
          <a:xfrm>
            <a:off x="3780000" y="755640"/>
            <a:ext cx="1530360" cy="1722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9"/>
          <p:cNvPicPr/>
          <p:nvPr/>
        </p:nvPicPr>
        <p:blipFill>
          <a:blip r:embed="rId7"/>
          <a:stretch/>
        </p:blipFill>
        <p:spPr>
          <a:xfrm>
            <a:off x="7149960" y="2629080"/>
            <a:ext cx="1278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03520" y="920880"/>
            <a:ext cx="56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e002c"/>
                </a:solidFill>
                <a:latin typeface="Arial"/>
                <a:ea typeface="微软雅黑"/>
              </a:rPr>
              <a:t>青春时代的爱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03240" y="1957320"/>
            <a:ext cx="5361120" cy="1572840"/>
          </a:xfrm>
          <a:prstGeom prst="rect">
            <a:avLst/>
          </a:pr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700" spc="-1" strike="noStrike">
                <a:solidFill>
                  <a:srgbClr val="ffffff"/>
                </a:solidFill>
                <a:latin typeface="Arial"/>
                <a:ea typeface="微软雅黑"/>
              </a:rPr>
              <a:t>如何抉择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689120" y="3657600"/>
            <a:ext cx="574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关于爱情的考卷，这题有点难！！！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5-07-21T01:51:01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