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4DB-81E7-4039-8E9E-ABD3EE2F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B87-412E-4CA1-B88C-5E99EFED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95F-2AD0-4474-9641-BD9194C4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D68-7EEE-4628-8B1B-D8EEEDCC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C17-0C29-4E55-B048-CEFEBA97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980-D533-4CFD-8074-46B7C896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E85-5D38-4E9F-B232-C7FB523F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30D-E9E3-4DB3-9D32-5FAA682E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606-E6BE-4A6B-A2F3-E976E893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A27-DE1A-4744-AEF7-453D7320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3BD-DA88-46E1-B4AA-EEBFA4B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13D-D27B-40D3-8DD7-0353B9B8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6CB-093D-4B1A-9AE6-467FBF509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hyperlink" Target="http://baike.baidu.com/view/4141.htm" TargetMode="External"/><Relationship Id="rId4" Type="http://schemas.openxmlformats.org/officeDocument/2006/relationships/hyperlink" Target="http://baike.baidu.com/view/260073.htm" TargetMode="External"/><Relationship Id="rId5" Type="http://schemas.openxmlformats.org/officeDocument/2006/relationships/hyperlink" Target="http://baike.baidu.com/view/4516.htm" TargetMode="External"/><Relationship Id="rId6" Type="http://schemas.openxmlformats.org/officeDocument/2006/relationships/hyperlink" Target="http://baike.baidu.com/view/167452.htm" TargetMode="External"/><Relationship Id="rId7" Type="http://schemas.openxmlformats.org/officeDocument/2006/relationships/hyperlink" Target="http://baike.baidu.com/view/4224915.htm" TargetMode="External"/><Relationship Id="rId8" Type="http://schemas.openxmlformats.org/officeDocument/2006/relationships/hyperlink" Target="http://baike.baidu.com/view/113514.htm" TargetMode="External"/><Relationship Id="rId9" Type="http://schemas.openxmlformats.org/officeDocument/2006/relationships/hyperlink" Target="http://baike.baidu.com/view/274446.htm" TargetMode="External"/><Relationship Id="rId10" Type="http://schemas.openxmlformats.org/officeDocument/2006/relationships/hyperlink" Target="http://baike.baidu.com/view/7468.htm" TargetMode="External"/><Relationship Id="rId11" Type="http://schemas.openxmlformats.org/officeDocument/2006/relationships/hyperlink" Target="http://baike.baidu.com/view/6715.htm" TargetMode="External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9%F1%D6%DB%CE%E5%BA%C5%D4%D8%C8&#759;&#628;%AC%BA%CD%D1%EE%C0%FB&#944;%CF%E0&#428;&amp;in=26647&amp;cl=2&amp;lm=-1&amp;pn=92&amp;rn=1&amp;di=29803342125&amp;ln=2000&amp;fr=ala0&amp;fmq=&amp;ic=0&amp;s=0&amp;se=1&amp;sme=0&amp;tab=&amp;width=&amp;height=&amp;face=0&amp;is=&amp;istype=2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.baidu.com/i?ct=503316480&amp;z=&amp;tn=baiduimagedetail&amp;word=%C9%F1%D6%DB%CE%E5%BA%C5%D4%D8%C8&#759;&#628;%AC%BA%CD%D1%EE%C0%FB&#944;%CF%E0&#428;&amp;in=23048&amp;cl=2&amp;lm=-1&amp;pn=84&amp;rn=1&amp;di=37668838215&amp;ln=2000&amp;fr=ala0&amp;fmq=&amp;ic=0&amp;s=0&amp;se=1&amp;sme=0&amp;tab=&amp;width=&amp;height=&amp;face=0&amp;is=&amp;istype=2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.baidu.com/i?ct=503316480&amp;z=&amp;tn=baiduimagedetail&amp;word=%C9%F1%D6%DB%CE%E5%BA%C5%D4%D8%C8&#759;&#628;%AC%BA%CD%D1%EE%C0%FB&#944;%CF%E0&#428;&amp;in=30643&amp;cl=2&amp;lm=-1&amp;pn=219&amp;rn=1&amp;di=5900643750&amp;ln=2000&amp;fr=ala0&amp;fmq=&amp;ic=0&amp;s=0&amp;se=1&amp;sme=0&amp;tab=&amp;width=&amp;height=&amp;face=0&amp;is=&amp;istype=2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9%F1%D6%DB%CE%E5%BA&#375;%A2%C9%E4&#892;&amp;in=17799&amp;cl=2&amp;lm=-1&amp;pn=30&amp;rn=1&amp;di=17197210665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6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144880" y="620640"/>
            <a:ext cx="67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义务教育课程标准试验教科书人教版小学语文六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 Box 5" descr=""/>
          <p:cNvPicPr/>
          <p:nvPr/>
        </p:nvPicPr>
        <p:blipFill>
          <a:blip r:embed="rId2"/>
          <a:stretch/>
        </p:blipFill>
        <p:spPr>
          <a:xfrm>
            <a:off x="585720" y="85680"/>
            <a:ext cx="1760760" cy="6394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3101600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5766480" y="692280"/>
            <a:ext cx="13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飞升中的神舟五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2260861348921659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771640" y="549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升空后的飞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E92-9A45-4F99-855B-38E7DD79CB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348000" y="404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新生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184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549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九天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lǎ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              绚（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xu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à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烂          先驱（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q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cāng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qi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ó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n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       积劳成疾（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j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风华正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m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à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                 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qi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舍       里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ch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é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ng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碑（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be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79280" y="189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会近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50920" y="1052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绚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059280" y="105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崭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zh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ǎ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50920" y="17733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锲而不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619280" y="1052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绚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5580000" y="112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簇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(c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ù)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268360" y="177336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坚持不懈（</a:t>
            </a: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xi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è</a:t>
            </a: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08000" y="2852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会反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95280" y="357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崭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132000" y="3573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辽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阔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468360" y="4437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锲而不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835280" y="35733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陈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5292720" y="364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狭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(xiá)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窄（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zǎi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2411280" y="4437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半途（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tú)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而废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(fè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527280" y="476280"/>
            <a:ext cx="19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朗 读 感 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0" y="549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感情的朗读课文，了解文中大概意思，并回答以下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23040" y="1125360"/>
            <a:ext cx="8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谁是世界历史上第一个试验乘火箭上天的中国人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396120" y="1125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明代官员万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846720" y="170028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神舟五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发射时间及地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398480" y="1700280"/>
            <a:ext cx="43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黑体"/>
                <a:ea typeface="黑体"/>
              </a:rPr>
              <a:t>2003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年</a:t>
            </a:r>
            <a:r>
              <a:rPr b="1" lang="en-US" sz="2000" spc="-1" strike="noStrike">
                <a:solidFill>
                  <a:srgbClr val="cc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月</a:t>
            </a:r>
            <a:r>
              <a:rPr b="1" lang="en-US" sz="2000" spc="-1" strike="noStrike">
                <a:solidFill>
                  <a:srgbClr val="cc0000"/>
                </a:solidFill>
                <a:latin typeface="黑体"/>
                <a:ea typeface="黑体"/>
              </a:rPr>
              <a:t>15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日</a:t>
            </a:r>
            <a:r>
              <a:rPr b="1" lang="en-US" sz="2000" spc="-1" strike="noStrike">
                <a:solidFill>
                  <a:srgbClr val="cc0000"/>
                </a:solidFill>
                <a:latin typeface="黑体"/>
                <a:ea typeface="黑体"/>
              </a:rPr>
              <a:t>09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时在酒泉卫星发射中心发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79280" y="213372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志着中国在发展载人航天技术，进行有人参与的空间活动方面，取得理有一个具有里程碑意义的重大胜利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4681800" y="2492280"/>
            <a:ext cx="39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黑体"/>
                <a:ea typeface="黑体"/>
              </a:rPr>
              <a:t>2005</a:t>
            </a: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年</a:t>
            </a:r>
            <a:r>
              <a:rPr b="1" lang="en-US" sz="1800" spc="-1" strike="noStrike">
                <a:solidFill>
                  <a:srgbClr val="cc0000"/>
                </a:solidFill>
                <a:latin typeface="黑体"/>
                <a:ea typeface="黑体"/>
              </a:rPr>
              <a:t>10</a:t>
            </a: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月</a:t>
            </a:r>
            <a:r>
              <a:rPr b="1" lang="en-US" sz="1800" spc="-1" strike="noStrike">
                <a:solidFill>
                  <a:srgbClr val="cc0000"/>
                </a:solidFill>
                <a:latin typeface="黑体"/>
                <a:ea typeface="黑体"/>
              </a:rPr>
              <a:t>12</a:t>
            </a: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日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“</a:t>
            </a: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神舟六号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”</a:t>
            </a: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载人航天飞船的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0" y="544500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354240" y="2997360"/>
            <a:ext cx="9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2199960" y="34606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课文围绕千年梦圆写了哪几件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2211480" y="522936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熟读课文，自己简单概括每件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684360" y="386064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468360" y="3860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炎黄子孙梦想飞离地球遨游太空，万户尝试人类首次火箭飞行，人们遭受失败没有放弃，人造卫星发射成功，载人航天工程艰苦实施，“神五”首次航天飞行，“神六”成功升天，炎黄子孙的新梦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登月球、探火星，甚至更深更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W020101213507196745296"/>
          <p:cNvPicPr/>
          <p:nvPr/>
        </p:nvPicPr>
        <p:blipFill>
          <a:blip r:embed="rId2"/>
          <a:stretch/>
        </p:blipFill>
        <p:spPr>
          <a:xfrm>
            <a:off x="0" y="0"/>
            <a:ext cx="4678200" cy="685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W020101213507178778434"/>
          <p:cNvPicPr/>
          <p:nvPr/>
        </p:nvPicPr>
        <p:blipFill>
          <a:blip r:embed="rId3"/>
          <a:stretch/>
        </p:blipFill>
        <p:spPr>
          <a:xfrm>
            <a:off x="4465800" y="0"/>
            <a:ext cx="46782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W020101213507165959597"/>
          <p:cNvPicPr/>
          <p:nvPr/>
        </p:nvPicPr>
        <p:blipFill>
          <a:blip r:embed="rId2"/>
          <a:stretch/>
        </p:blipFill>
        <p:spPr>
          <a:xfrm>
            <a:off x="0" y="-4680"/>
            <a:ext cx="4678200" cy="6862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W020101213507150495407"/>
          <p:cNvPicPr/>
          <p:nvPr/>
        </p:nvPicPr>
        <p:blipFill>
          <a:blip r:embed="rId3"/>
          <a:stretch/>
        </p:blipFill>
        <p:spPr>
          <a:xfrm>
            <a:off x="4465800" y="-4680"/>
            <a:ext cx="46782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6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27"/>
          <p:cNvSpPr/>
          <p:nvPr/>
        </p:nvSpPr>
        <p:spPr>
          <a:xfrm>
            <a:off x="3564000" y="189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导语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348000" y="7452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文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69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飞离地球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遨游太空是中华民族很久以来的梦想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中国的古代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早就流传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嫦娥奔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神话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人飞于天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车走空中的传说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鲲鹏展翅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九天揽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奇妙想象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富有激情和超凡想象力的炎黄子孙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只是在简单地描绘着瑰丽绚烂的飞天之梦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他们还于千百年的岁月流转之中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断地尝试实现自己的美好愿望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335772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经过十多年的努力，１９７０年４月２４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寂寞而辽阔的茫茫太空中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一次响起了中国人的声音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那穿越苍穹的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&lt;&lt;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东方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&gt;&gt;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乐曲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让海内外华人振奋不已。中国成为世界上第五个能够发射卫星的国家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F2003101615400400000"/>
          <p:cNvPicPr/>
          <p:nvPr/>
        </p:nvPicPr>
        <p:blipFill>
          <a:blip r:embed="rId2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4500720" y="3573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众志成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有的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了工作的及时、方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铺盖搬到了工厂车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有的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积劳成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几次住进了医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有的年轻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虽风华正茂却华发早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有的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甚至为此付出了全部心血与生命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未能等到成功的那一天便猝然长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3284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航天员杨利伟在着陆场即将登机返回北京的时候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用三句话概括了他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的太空旅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飞船飞行正常</a:t>
            </a:r>
            <a:r>
              <a:rPr b="1" lang="en-US" sz="2800" spc="-1" strike="noStrike">
                <a:solidFill>
                  <a:srgbClr val="00ff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我自我感觉良好</a:t>
            </a:r>
            <a:r>
              <a:rPr b="1" lang="en-US" sz="2800" spc="-1" strike="noStrike">
                <a:solidFill>
                  <a:srgbClr val="00ff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我为祖国骄傲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"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简单的三句话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无数参与航天工程建设的人们作出了崇高的评价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没有他们的辛勤努力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不会有这飞行正常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使人感觉良好的飞船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不会有这次载人航天飞行的成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95280" y="5805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203640" y="333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71640" y="1484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古人的奇妙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859280" y="1413000"/>
            <a:ext cx="30592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─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美好的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971640" y="234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万户的火箭飞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435640" y="227664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──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大胆的尝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971640" y="32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造卫星的发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508720" y="3213000"/>
            <a:ext cx="35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──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突破性进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971640" y="4149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载人航天工程的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543640" y="4076640"/>
            <a:ext cx="360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──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艰苦的努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971640" y="5084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州五号”载人飞船发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5580000" y="5084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──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巨大的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3276720" y="4762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主题解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50920" y="1557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课文叙述了中华民族几千年来为实现飞离地球、遨游太空的美好梦想所进行的不断的尝试和追求，重点记述了新中国成立以来，中国航天事业的蓬勃发展，在广大科技工作者、工人和解放军官兵的共同努力下，“神舟五号”飞船的发射成功，标志着我国已经成为世界上第三个独立掌握载人航天技术的国家，载人航天的千年梦想终于实现了。文章热情赞扬了中国航天工作人员热爱国家、团结合作、默默无闻、勇于探索、锲而不舍的科学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771640" y="54936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感悟心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从第一颗人造卫星的成功发射到中国首次载人航天飞行的圆满成功，凝结着广大科技人员、工作和解放军官兵的智慧和汗水。是他们用智慧、心血和汗水创造了中国航天的奇迹，圆了中国千年的飞天梦，这举世瞩目的成就值得每一个炎黄子孙为之自豪，为之骄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0" y="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教你一写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08000" y="765000"/>
            <a:ext cx="39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首尾呼应的用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0" y="4221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，怎样做到首尾呼应呢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08000" y="4724280"/>
            <a:ext cx="90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 .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要把握好构思关。构思文章，不光要搭好架子，还应当注意到前后的照应。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要写好开篇交代句和末尾总结句，增强文章的照应性。结尾照应开头，首尾呼应，给人以完整、严谨的感觉，使人在阅读时，进一步感到全文内容的前后连贯、紧凑集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79280" y="1341360"/>
            <a:ext cx="89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所谓首尾呼应，就是指文章的开头和结尾在内容上互相照应、互相呼应，前面讲的内容，后面要做出相应的交代。这篇课文就采用了这样的方法：开头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飞离地球、遨游太空是中华民族很久以来的梦想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引起下文，结尾处又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载人航天梦想的实现，让富有激情与魄力的炎黄子孙又了更高远更绚丽的梦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登临月球、探索火星，遨游于更深、更远的太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呼应开头，深化主题。这样既强调了主题，加深了印象，又能引起读者的共鸣。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W020051013612954218950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3348000" y="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扩展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419640" y="765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炎黄飞天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蔡桂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97600" y="-148320"/>
            <a:ext cx="2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297600" y="584640"/>
            <a:ext cx="221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297600" y="1043280"/>
            <a:ext cx="221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297960" y="1456560"/>
            <a:ext cx="2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297600" y="2419560"/>
            <a:ext cx="221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297600" y="2787120"/>
            <a:ext cx="2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3297600" y="5078880"/>
            <a:ext cx="221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3297960" y="6409440"/>
            <a:ext cx="2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3298680" y="682272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826920" y="1773360"/>
            <a:ext cx="4608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嫦娥奔月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那是神话； 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女娲补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更是传说。 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九万里遥想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九万里追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一朝相约！ 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听天风浩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迎接远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看天庭结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与我伴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5148360" y="1773360"/>
            <a:ext cx="36716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哪里是我的长城？ 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那里是我的黄河？ 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站在星河岸边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亲亲地唤一声</a:t>
            </a: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---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我的中国！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啊，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一瞬间的改变，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一瞬间的飞跃，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五千年的梦啊，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今天圆了！　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W020051013612954218950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85582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2700360" y="260280"/>
            <a:ext cx="352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1268280"/>
            <a:ext cx="12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蔡桂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0" y="1700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性　别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男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;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生年月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, 1960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民　族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汉族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江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金坛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人。中共党员。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990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毕业于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华中师范大学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中文系。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978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应征入伍，历任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济南军区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陆军第七十八师战士、文书、班长，济南军区后勤干部训练大队新闻干事、政治部宣传干事、第九分部副政治教导员，济南军区政治部创作室专业作家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文学创作二级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978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开始发表作品。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99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加入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中国作家协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。著有文化丛书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座右铭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，美学论丛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幽默纵横论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，评论集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文学的当代思考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苦恋的激情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蔡桂林文学评论选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，长篇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纪实文学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中国流失生纪实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成吉思汗灵梓西迁纪实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东方际遇：中国犹太人千年历史揭秘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炎黄飞天梦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千古大运河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，理论专著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冲浪：在军事文学的海面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等。其作品曾获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99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山东省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社会科学优秀成果奖、中共山东省委宣传部首届文学评论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刘勰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奖提名奖、作家协会首届文学评论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8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-1836720" y="83664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0" y="1052640"/>
            <a:ext cx="921708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古往今来，飞离地球，遨游太空是炎黄子孙们很久     以来的梦想。在中国古代，流传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嫦娥奔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玉兔捣   药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以及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鲲鹏展翅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九天揽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的传说。炎黄子孙们用他们富有激情和超凡想象力，简单地刻绘着那赋有瑰丽绚烂的炎黄飞天梦。这首小诗表达了作者对神舟五号升天的自豪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激动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190400" y="333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读后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0" descr="3809011_09043428217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3132000" y="404640"/>
            <a:ext cx="33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神舟六号飞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26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27"/>
          <p:cNvSpPr/>
          <p:nvPr/>
        </p:nvSpPr>
        <p:spPr>
          <a:xfrm>
            <a:off x="1763640" y="189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年执著为圆梦，飞向太空在今朝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28"/>
          <p:cNvSpPr/>
          <p:nvPr/>
        </p:nvSpPr>
        <p:spPr>
          <a:xfrm>
            <a:off x="0" y="83664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中国人民在很早以前就对火箭进行研究，明代的官员万户便是其中之一，也是世界历史上 第一个实验乘火箭上天的人。之后勤劳的中国人对这进行了更积极、深刻的研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30"/>
          <p:cNvSpPr/>
          <p:nvPr/>
        </p:nvSpPr>
        <p:spPr>
          <a:xfrm>
            <a:off x="0" y="1773360"/>
            <a:ext cx="38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终于在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0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日上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点，在我国九泉卫星发射中心，随着一声震耳欲聋的巨响，我国自行研制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神州五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飞船被送上太空。这次载人航天飞行的成功，向全世界宣告了：中国已经成为第三个独立掌握载人航天技术的国家。一瞬间的改变，一瞬间的飞跃，实现了中华民族几千年的飞天梦想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20080923103832408"/>
          <p:cNvPicPr/>
          <p:nvPr/>
        </p:nvPicPr>
        <p:blipFill>
          <a:blip r:embed="rId1"/>
          <a:stretch/>
        </p:blipFill>
        <p:spPr>
          <a:xfrm>
            <a:off x="4572000" y="-2700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xin_021002101111827298398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5510160" y="274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费俊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69080" y="274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聂海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2009214239229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Img2597505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2195640" y="404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神 七 三 英 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2757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407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fb0cc7da01f8a712ccbf1aaa"/>
          <p:cNvPicPr/>
          <p:nvPr/>
        </p:nvPicPr>
        <p:blipFill>
          <a:blip r:embed="rId2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7443720" y="1773360"/>
            <a:ext cx="152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嫦  娥  奔  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276720" y="620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业布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184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真朗读课文，完成课后习题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24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搜集有关航天事业的资料，了解航天知识，进而更好地了解课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20100102_a0b0be3f98605c598b9c7X7xe6hq69w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643320" y="1628640"/>
            <a:ext cx="127764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万 户 飞 天 雕 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0071026121231233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190600" y="1895400"/>
            <a:ext cx="47628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1034492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830880" y="260280"/>
            <a:ext cx="7898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人  类  第  一  飞   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img102590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2199960" y="1989000"/>
            <a:ext cx="729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神  舟  五  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u=752605357,2267681366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u=2855478626,4194730538&amp;fm=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=258440383,2920121466&amp;fm=0&amp;gp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3645000"/>
            <a:ext cx="4643280" cy="3213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3894840" y="2060640"/>
            <a:ext cx="13993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杨   利    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95280" y="1268280"/>
            <a:ext cx="4586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71960" y="1268280"/>
            <a:ext cx="667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神  舟  五  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31016001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590120" y="981000"/>
            <a:ext cx="13993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发 射 前 的 神 舟 五 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u=1096372348,2319066961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1445400" y="981000"/>
            <a:ext cx="13993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声巨响火箭飞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7:35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1:59:57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