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23F-1C18-4D11-94B9-3629F913230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B27-ACB4-49C4-ABC3-72448D16669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-3797280" y="0"/>
            <a:ext cx="7810560" cy="58579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212400" y="571680"/>
            <a:ext cx="5645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-3905280" y="0"/>
            <a:ext cx="8794800" cy="65959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 rot="20922000">
            <a:off x="394560" y="968040"/>
            <a:ext cx="321156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5F8-2C94-49F9-B4AA-4395179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F5C-EA81-4B18-9E2C-35C3BE0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103D5-5E21-4239-9579-75843EC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F7D13-1830-44CD-9BBF-3A8B04A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53CC9-3210-4B7C-8A88-2D5C0B31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91B46-C35C-4BFD-A2CE-958EE2E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0E00-4138-46F1-BC42-2FEEE24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FAFD7-5D4A-41C4-83E3-4F06454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38E2C-49A8-4BA1-9DF0-225E6E79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F7DBF-5666-4D47-A528-B18A1399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5EE2B-66F2-42B4-9CE1-AC4587CC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2E42B-F4AC-4C4E-A084-6E996D96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4BE-532A-4A70-B8B3-7E905714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BA6A3-232F-4C31-B47D-23D16723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15E7D-49F1-47A4-BA65-431A266C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B099A-DF02-40F7-82E6-86E8429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31065-E84F-4FE5-AB94-FB161BE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51818-EB60-4FCE-93DF-E78038A4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234B-C8C4-40ED-A26D-589163C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E59F5-90DE-4138-A6F5-EBAFC6D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993CC-A4B2-41AE-ADF0-D6180FD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AB8BE-5ED0-4D42-AC7D-54E730EB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EECF8-9B04-4E5F-8D56-88AB0EAE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768-9202-4F71-AD85-DA1108C1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E29AF-E0DA-4673-A9EB-DB43762F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ECD63-C0FA-4A8E-85D6-8801E838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D969E-D594-4A44-89B3-A8080CA1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A073-2CDA-463C-AEA8-2ECC0DF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B6848-E782-430D-838E-053F84A0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5CB32-EF02-4A41-B37A-BB73957A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7EB1B-DFEA-4F7E-B8E3-9DD314E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7A971-D4E2-4C94-83F6-A5D1277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1CC7-85A3-4D1B-B14A-58E1C0B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BECFB-D2D0-423D-A461-EDBA0A9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A841-C460-42D3-AAA9-47576079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8D882-4549-41A4-8EB1-F690C72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5B940-DCE3-482A-A583-0B497452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7ACF-72BF-4A44-9EEE-251B0B1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076EA-103B-4C22-8617-68602F61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7337E-F260-4A58-9580-51D99B0C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4CFCF-E30A-40AE-98BD-3E04C7E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417DA-D799-44CF-A1E8-8DB4F0E8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95C60-4535-4898-927C-B3C2259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96FF3-D9CA-43AF-BDAE-57A0446E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40514-CA34-4EC6-9E4A-8BE1B69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B349-8E20-4804-9EF8-933D357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EA510-974D-4CBF-8300-BCDE50C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876DB-9249-4F1E-969D-9CA85FA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8E5EA-CE72-42DB-A51A-0495C16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9DA5A-1480-4CF0-A214-D484B545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631FD-0A80-48E5-9C65-2B37621E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22F95-BD31-46B6-A375-28EEC388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B116C-2E70-4DF0-BE35-B66B230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542B7-94C9-42B7-BCC1-4A01D16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375BE-96CE-4AA5-91D4-6B88C38C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3EF43-4B23-4C68-A619-ACEB7DB2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A55-BC75-4AB7-B72D-D5CDF045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274D8-9D71-4E84-AF73-2E3D7C7C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E3266-B811-46D7-AEE2-CE53C10B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DBE44-F9BD-4C5B-8D2B-25274CA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36EE3-3497-440B-B56A-E40F45DA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6B3BE8-9FBF-454E-90EE-6A05D3B5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1CB16-D871-4301-91E2-2053057A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CB893-F402-471D-960D-565125FC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DF1F-2D79-4253-946C-57459DCD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A24D-9AEA-4E8A-9636-9338DD46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8E1-37AB-40BF-89D6-E09947B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598B-FF63-4083-A77E-7F9ACB5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407-C82B-44A1-9482-8B0382F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D0FA-5609-4491-A1ED-F094D9C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6240-CB5D-4167-A666-C20883C8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77C-E565-42B2-8B92-4E936808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697-E137-4D38-8EE6-2FF5A754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47C0-9B30-4B43-91B9-28012A69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69FB-C283-4172-A4CC-1EB5D64D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CAFE-56B7-445D-A230-A63CF234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FD66-DEBE-4911-AE77-3000F276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91C1-DAF6-4C69-B29D-FF8D73B2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FA75-D4AC-4243-9278-96A90CD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CCC-72DD-495B-B19F-B6880BEC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CC24-FF5F-4296-B3A7-BE8B1347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5E38-45A8-43E7-9E26-AED3F99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92B4-5772-4B6A-A67D-50D6EE2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7826-5797-463A-88B2-9CD2719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2335-3A74-4B23-80E9-F79A543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08E8-BEDE-4F44-8507-D675AB9B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CC16-AED2-458C-A7E4-3999944C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C12C-BF3A-4605-834B-CFCDC799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A33A-46F7-40A3-8BFF-F361038C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08029-FFA5-41C2-99B1-B406916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712-79EE-47F8-8111-34F3120C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6686-8A42-433F-ADB4-FFB4D64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6637-4409-45C6-AE67-DE35B7C7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5837-6D8F-435E-95CE-6D93F74E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5B81-448A-46BB-8159-2909A49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F757-0B42-4FE7-81C3-9AB3B93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4A60-96A8-456A-BDF4-344B68E8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AD26-ABC5-4B56-830B-1548222D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46D0-1AF3-4765-A2A0-1B1BAC0E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9C83-0C05-40D5-A2B3-8449655A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DC521-53A4-4645-A2D2-2DCB96D6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AF5-DB9F-4003-9ED5-CD6AB22A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0CC3-A095-414A-A693-ADFD09E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4DD6-4192-4AC2-BF6C-72F7FEBF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D6145-4A3A-448D-B81D-D139C21B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FE0A-BB96-49A5-A027-75DD898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11970-90B3-4795-8E2A-004BF837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2490F-C8C4-494C-BCAF-E8C47F8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B4AF7-9480-4D89-9210-DBF91F6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85FE-AA38-42C8-94DA-AE450EF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5FE1-4FD2-4108-B7EA-34AF878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1CAF-8CE5-4484-A29E-4B3A9BDE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4D7-CA15-4FCC-B485-8F960F95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CC5C6-640B-4979-9869-A0DC75B2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957E-A46C-4F33-B4CE-A7337B53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C37F-1574-41CB-9C8B-975CD693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C004-A858-4FAE-A949-11C5A963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9405-80F1-465A-9514-4C56569D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060E9-5EC7-46FC-B26F-DC35701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5A01-6649-4BE8-B0E7-815C1F9A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D98D-0E33-48C6-B7E3-02EAFE7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5D96A-E3A5-4A4E-93B5-9184151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2AD1-A6AD-4D9D-9C55-ACC55AE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664-14F4-4651-85B5-7611F23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541DE-8740-461B-806A-F99F2125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940E-EB77-42E1-ACCB-F5622D21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DACED-63C7-4293-81E9-665AAF05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FBE4-09F0-4ABA-AF6D-540948D2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8C6C-1861-4B15-AA53-DB235ED4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C0C8F-0B1A-4671-AB5E-9FDAAF6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E362-5ABB-4CB1-A0F6-94C41B50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7014-EFA8-4A4D-99D1-DA159C52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D5D3-85F9-491B-9364-4DA97D5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706A9-1233-41AF-BA18-7575F69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50C-2A60-4D0A-87DB-DAF4820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6E4A2-34A4-46C6-966E-929FCDC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AFF9-3FE3-4F56-9C1E-8170966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DEB9A-A81F-48EA-A767-C9CE593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A27B-4AF8-443C-AEDF-06E5624A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6246-27A2-4931-970D-41F9602D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F5ED3-E004-4B2A-A898-375A2A5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715CC-06BB-4BFC-A396-DE69096B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B9EF-6A49-410D-8169-0B72509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3779-71EF-44BA-AF22-1EFF037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37DE5-E459-4FA5-A519-AC3FD48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CC5-C626-4E91-82B3-B1BDEA0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388E-9905-4410-9770-EC94433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DBD12-E620-4821-B0CA-0FF1FEEC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0278A-55BA-455D-81D6-155FBA1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5B544-7951-4F9A-A1C5-69B726D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4381F-277E-4D1D-B916-52EB5901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C9DC-E9AB-48BC-9591-D0273E7E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BC217-B4A0-46DC-94ED-7C58C84C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8594-22E7-4F17-8A2E-0D411B8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470AC-A19C-4309-8BCB-326CF0F8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62607-FC98-47C5-B302-CB811679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9E6-807E-425A-8BC0-534A4B6C57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851-85F7-40AE-9858-5B35B010D0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B610-309A-4FBF-97DE-F59B95EBC4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0BF8-2504-445F-8606-D5C7F14D75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275-2910-4C96-9402-B347FCA52F3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AB9D-0058-4E44-ADCC-F117C34286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82F-D5E0-4C5A-B46B-F6B1E590A8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55B-E27B-49F1-AC2C-A03192AFE3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978-98B4-4FEC-A201-45E95B57FF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9F14-5514-4468-B2A2-B01DE17458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C602-07D6-448C-BABD-152F93595D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F75-40EC-47BE-A900-BF6B6A6694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6800-97FF-44FC-B434-4E7CE8F1AE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DE15-DB7D-4828-816D-FC5C0EE721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52B-E2B1-474C-8666-B9E6C61670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DEA-F001-4C5C-9A2B-E4CF3F48C8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4ECE-D4D6-42D8-A8C9-98600C9F1A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117-3CF8-4CA6-857B-F55EAB1982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E707-4B48-47EA-B8FD-D72D23C1DB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6A93-A073-47C6-B07D-A7B198ABF9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182C-ACE3-499C-892C-7F7FB9B66CE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C673-7382-42FB-BDEE-9D09AE99CD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8AA-3BA6-462F-BB7F-23F1138751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5781-B935-43BB-8C31-6EF7719DA9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C909-62BC-467F-B61C-76140CAD8F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1CB-B55A-4DE9-A076-40F9406601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7" descr=""/>
          <p:cNvPicPr/>
          <p:nvPr/>
        </p:nvPicPr>
        <p:blipFill>
          <a:blip r:embed="rId1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542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8" descr="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546" name="矩形 17"/>
          <p:cNvSpPr/>
          <p:nvPr/>
        </p:nvSpPr>
        <p:spPr>
          <a:xfrm>
            <a:off x="-139680" y="23572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0" descr=""/>
          <p:cNvPicPr/>
          <p:nvPr/>
        </p:nvPicPr>
        <p:blipFill>
          <a:blip r:embed="rId3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49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1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占位符 7" descr=""/>
          <p:cNvPicPr/>
          <p:nvPr/>
        </p:nvPicPr>
        <p:blipFill>
          <a:blip r:embed="rId5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2" descr=""/>
          <p:cNvPicPr/>
          <p:nvPr/>
        </p:nvPicPr>
        <p:blipFill>
          <a:blip r:embed="rId6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  <p:sp>
        <p:nvSpPr>
          <p:cNvPr id="554" name="矩形 1"/>
          <p:cNvSpPr/>
          <p:nvPr/>
        </p:nvSpPr>
        <p:spPr>
          <a:xfrm>
            <a:off x="2467440" y="1722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浅色调生日派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A6F7-3FA0-4E76-A805-3BDADB3640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577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8C7-DC87-427E-B768-4CD73F015A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4"/>
          <p:cNvSpPr/>
          <p:nvPr/>
        </p:nvSpPr>
        <p:spPr>
          <a:xfrm rot="5166600">
            <a:off x="5443920" y="145476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247-AE1A-4142-ACB9-40E0F383A3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588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589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590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597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604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611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618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625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632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639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646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653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660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667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674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681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688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695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702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8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1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712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713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22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731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4"/>
          <p:cNvGrpSpPr/>
          <p:nvPr/>
        </p:nvGrpSpPr>
        <p:grpSpPr>
          <a:xfrm>
            <a:off x="-9360" y="3997440"/>
            <a:ext cx="9153360" cy="2789280"/>
            <a:chOff x="-9360" y="3997440"/>
            <a:chExt cx="9153360" cy="2789280"/>
          </a:xfrm>
        </p:grpSpPr>
        <p:pic>
          <p:nvPicPr>
            <p:cNvPr id="733" name="图片 11" descr=""/>
            <p:cNvPicPr/>
            <p:nvPr/>
          </p:nvPicPr>
          <p:blipFill>
            <a:blip r:embed="rId2"/>
            <a:stretch/>
          </p:blipFill>
          <p:spPr>
            <a:xfrm>
              <a:off x="-9360" y="4926240"/>
              <a:ext cx="501192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图片 12" descr=""/>
            <p:cNvPicPr/>
            <p:nvPr/>
          </p:nvPicPr>
          <p:blipFill>
            <a:blip r:embed="rId3"/>
            <a:stretch/>
          </p:blipFill>
          <p:spPr>
            <a:xfrm>
              <a:off x="4132080" y="4926240"/>
              <a:ext cx="501192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图片 13" descr=""/>
            <p:cNvPicPr/>
            <p:nvPr/>
          </p:nvPicPr>
          <p:blipFill>
            <a:blip r:embed="rId4"/>
            <a:stretch/>
          </p:blipFill>
          <p:spPr>
            <a:xfrm>
              <a:off x="4060800" y="3997440"/>
              <a:ext cx="277992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738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35Z</dcterms:modified>
  <cp:revision>0</cp:revision>
  <dc:subject/>
  <dc:title/>
</cp:coreProperties>
</file>