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B2D-1F29-4697-BE85-7CB8AE96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0A0-1D1E-4EBE-A757-D34FA56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2AB15-8C1C-4360-AE1C-8D020C8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E0D8F-237B-4B9F-8F6B-61CD6218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B603D-ADF4-4E5A-8629-E18B734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87F6A-9D12-40A8-9DEC-44F00E5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206A0-5815-49BF-8DDD-5875E57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66E4D-BC6E-4718-A32F-DF66DC8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064A5-0AA9-436E-BCD6-D3D7FEE2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65162-F663-4EA6-B3D4-9771C3A1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E6444-2291-4CF4-8DA1-11F9EE3B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F0685-E84A-42DA-BD72-3C043333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27A-DBBD-4E8D-A82D-BB6A74D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57EA-A094-4537-B203-FD09E6E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5A49A-D957-4F22-9FBD-F0D1E87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6F74-993A-49D6-9547-C43DF84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7957B-D5F3-4491-A1E9-7F096322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50D8D-9E53-487D-B06C-0E0DDED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AAEDF-7E1A-4728-97B5-F642A8A1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FEEF3-5FE9-4343-A0B9-7C97FDDE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2B7F-14E2-42C9-BAE4-A484EAB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0469F-391B-4176-AEC4-E70E380F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BD377-E39B-413E-B7FD-638FA4B5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657-007B-48CF-96B2-ECF4E3B4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45A91-592A-430A-975D-2B948083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006F7-FD47-479A-B68B-5EA3626D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5765-FFF3-4478-8F74-E852DFE4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6974D-75B2-4FF3-A4D4-85B8A8B6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F6FA3-0EA9-4235-A27B-44F8703D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CCBEF-8BA6-4526-8FF9-52B4C0DA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7580E-CCB8-4973-AF06-411EC93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4166E-72AC-46A4-9E0B-9213262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ABB3-11E2-4C2E-A515-EE34DF02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193C-4886-43D3-BC8E-01F50AE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F45D-53FC-403D-B8FE-D94452E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79D9C-A9DB-45C7-8A20-C35D392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9052-CBB4-4ACD-86E2-F86E362C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423D9-C433-4D73-BA41-91E3A4A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ACBB4-B98F-4E3B-AED6-EB7F5B64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A7962-0DFF-4726-A34A-F2606299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385E7-6241-4316-9D30-0BB99C3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A86FF-A304-47B6-A70A-415BBC9D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DE403-584D-4CAA-B33A-B149FFD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5C46C-CC20-4416-B69A-8BA2B5E9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C265F-3AA5-491B-92A6-B5C2CA1F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6D22-7430-4689-9A2C-B9613B29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BB6B3-7863-44BD-95B6-813A235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8AD40-A596-465C-BCC8-0F9578D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C2DF0-D5DB-4AAC-BC03-29FD51C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400DF-A50D-473F-8FC7-B52654FA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7D314-E1BD-446A-BD32-1443C577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2793D-9BD6-46A1-A063-69BDB614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EC474-DB34-4B5D-8F89-E78A608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996DC-566C-4719-AFC8-AA592CFE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A649A-489B-4E89-AB13-A702983D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8E1E5-E084-4D8C-806A-00BFAB84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49E6-12C7-441E-86B3-C8B9D2F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16771-24BD-4D2D-B832-D04AB83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BCFD0-2E4A-416B-B560-7A4CB26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60007-72A5-45F5-B4F0-B7D50E07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97C5A-18C6-41FC-BDEC-7FDA38D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17836-3D89-4F70-B3E4-EBE5C67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8BABC-EBDB-49FA-8BF2-5A7F7781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93407-7D72-4B44-BF0F-C806B67C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2AA92-3516-450D-AC0A-6A96AF33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7DBB8-04C0-4291-AAA2-252A1B0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B0C4D-B863-4AB9-A29E-29617998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949-125E-43E6-98C5-F00BC505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C41A7-A231-40C4-BE05-5B09388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D3413-DD3A-40E7-8A3F-95139D21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28E74-9413-4481-8DB1-AABC8955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35EF7-C124-4A98-A275-A3C182D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70FBA-3FA9-41E1-A0FA-1CB096F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92A1-A2D7-4402-A5B7-7BDCBF1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91FCE-6B17-4002-8F17-62E6E522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69F0A-646A-4160-AFF6-EE10FD24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3BB0F-194E-46C1-8B0B-09C27652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6322-0054-4CB5-B3DD-9A9996A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CF67-4DD7-474B-948C-CAD02CF4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552-75A2-441F-A693-5186843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9D6-3ED7-49D1-BB9E-9A0A4716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93D-64C7-4030-8026-5D75D30F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6EBD-81CD-4FC3-9F25-50B63DA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FD96-A1EB-41D7-B5CF-7ABE6F7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AD0-171D-4A55-A9A5-2435171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8D7B-0C59-476C-9A66-B4EC640E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0C41-492F-4668-9446-51FE75EA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D401-97E9-412B-AC6E-72D52661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44BD-1A5F-4CF5-BD15-BC1F859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196A-5848-453A-BA7D-C6B4551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B11B-D0A2-458A-82F3-E7A0285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579-02EC-42E3-A2BB-F28C2B88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ACBE-34D0-4D3B-B833-DA92322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2E99-A969-4D51-8686-7B2D9A3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A263-F805-4381-9042-874D9E3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F176-1847-44D4-ACEC-F1630F6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9100-D56E-432B-805A-6AFDA48B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9F11-CAC5-4B13-A164-12866B02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2DAFF-0DAC-485E-8900-9729213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2E07-0CCD-497F-B3B6-1D81ABE3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F332-FD4B-430C-8159-BFF7338B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6B7E-2E64-4418-99B2-88FD9F6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B81-88AF-46C9-96D0-1AE6898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0E54-EA81-4729-8AA7-697C90B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D2C8-9142-4CB6-8601-F9ACC83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952A-2A22-4EA1-8991-762C6F4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1FB14-C688-4A7D-A394-B928C68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70F8-09B9-42DB-AAEC-FC112AF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563B-4A53-437D-8A76-B2BC9DE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9C1C-515B-4B66-BAFC-008C10BF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2A60-F946-4572-A211-CAC95EC5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832D-D661-47B6-800A-3F3783A1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D2DE-43CE-4B1E-8B79-D7797574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C82-22B7-4349-B37C-318A46CE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53B3-DC63-4558-8A75-1312D648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7E85-3DCC-44BC-BAD1-9BB072B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6986-EA77-4118-8A88-6EA8A13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B1E6-094F-4CB7-9680-C025F3F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F955-602B-49A8-B296-0ED393FA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02D9-6045-4A27-9ED7-173EC66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37E8-FEC7-4BC5-9701-F6AFF58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A129-DA0D-488E-ACB7-1051660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38CB-FFA9-4E59-8609-68F097B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2D58-6920-46A7-A162-E78A409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E8F-D743-4FDD-BF4A-5A023FB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A68F-D7BE-4892-8F19-FE694E9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03C6-04E8-445E-BCE2-6FB0EA24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D778-E1F0-405C-8892-5D1703E6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BA042-C05D-435A-8B51-DBCABEC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6E2A-D523-4DD1-8465-D0D7E99F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E6C5-D10B-4D89-AEE0-8BC5D86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9DCB-A72F-40D0-B0E1-FA35FD1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5296-8111-41A9-88A8-A0ED0DA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5A98A-2F97-44E0-9B92-7D030CB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78878-6A37-4ECE-942E-9379467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882-33EB-4205-B5A3-259EEF6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F357-00A8-4FC1-A2C9-AE6C00EE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DC1C-A096-479C-8637-DD666844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BADC-B686-4192-8B47-FF767F14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3C4D4-CB3B-4115-BDAB-4B5A4B72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8801B-9C86-4C64-8215-914F10F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3CF00-ADD9-4084-8E25-89D1066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414A-FC9C-4ABC-A546-C4F6BF1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DF76-79E0-4A7A-8161-3BCB8E0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D3600-9146-4050-91E7-C0663A6B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5B649-570B-495A-A809-6053133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52B-C7A1-4CBE-B850-837FD04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46D9-0C4E-4AEC-83AD-F25FF28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16B7-591E-4B7A-8880-128AAD4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9C134-5783-4F7A-8276-B0CBC99F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553D-F94D-48CD-B414-333F4E1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7BB7-3CB0-4989-BE0E-31BA680D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82888-F1C9-48E4-8C81-11CF9681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1E20-B785-4431-B8C3-DFA936E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0374-36AC-472B-BF72-E2DDD4F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E992D-1982-4EE5-9B25-B919811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638D-7ED0-41AA-B6AF-6253860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FD7-290B-43F1-A822-765DC96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59DB8-AC0A-4591-8BFB-824B13B6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A665-535E-4EE4-A194-41EB023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EAC88-5FAC-4647-85B4-0907719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ABA2-5107-4FC6-A08B-19688A4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10EBC-537B-414A-9825-0DDC098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06F5-9D16-4F7F-8CA2-2E61F6DB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E5651-03F2-4D0C-969F-3CA6A904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61D80-5606-4543-A111-CB02E223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50D8A-A2AE-4B9C-A464-E50C77A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01AD-002B-4388-BFB5-3543DAF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8019-48B0-464C-8DD7-50D6B0C00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210440" y="549360"/>
            <a:ext cx="1817640" cy="1660320"/>
            <a:chOff x="7210440" y="549360"/>
            <a:chExt cx="1817640" cy="1660320"/>
          </a:xfrm>
        </p:grpSpPr>
        <p:sp>
          <p:nvSpPr>
            <p:cNvPr id="6" name="Rectangle 8"/>
            <p:cNvSpPr/>
            <p:nvPr/>
          </p:nvSpPr>
          <p:spPr>
            <a:xfrm>
              <a:off x="7210440" y="549360"/>
              <a:ext cx="1817640" cy="1660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 flipH="1" rot="48000">
              <a:off x="7415640" y="726480"/>
              <a:ext cx="1405080" cy="13057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7210440" y="2644920"/>
            <a:ext cx="1817640" cy="1660320"/>
            <a:chOff x="7210440" y="2644920"/>
            <a:chExt cx="1817640" cy="1660320"/>
          </a:xfrm>
        </p:grpSpPr>
        <p:sp>
          <p:nvSpPr>
            <p:cNvPr id="9" name="Rectangle 11"/>
            <p:cNvSpPr/>
            <p:nvPr/>
          </p:nvSpPr>
          <p:spPr>
            <a:xfrm>
              <a:off x="7210440" y="2644920"/>
              <a:ext cx="1817640" cy="1660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flipH="1" rot="48000">
              <a:off x="7415640" y="2822040"/>
              <a:ext cx="1405080" cy="13057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7210440" y="4740120"/>
            <a:ext cx="1817640" cy="1660680"/>
            <a:chOff x="7210440" y="4740120"/>
            <a:chExt cx="1817640" cy="1660680"/>
          </a:xfrm>
        </p:grpSpPr>
        <p:sp>
          <p:nvSpPr>
            <p:cNvPr id="12" name="Rectangle 14"/>
            <p:cNvSpPr/>
            <p:nvPr/>
          </p:nvSpPr>
          <p:spPr>
            <a:xfrm>
              <a:off x="7210440" y="4740120"/>
              <a:ext cx="1817640" cy="166068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 rot="48000">
              <a:off x="7415640" y="4917600"/>
              <a:ext cx="1405080" cy="130608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1C8-7013-4C0D-AFF9-D6141D452E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13F-697B-4E5F-B10B-373032E80A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178-29A9-421C-A075-50E15FFB34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2C6-0F33-4280-902E-B52DD650FF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575-4280-48B2-94EE-ED71B5F9F8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E22A-A86A-4608-B2A7-3C5AC5C0FE2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1835280" y="3139920"/>
            <a:ext cx="27352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590920" y="2498760"/>
            <a:ext cx="3976200" cy="3630240"/>
            <a:chOff x="2590920" y="2498760"/>
            <a:chExt cx="3976200" cy="3630240"/>
          </a:xfrm>
        </p:grpSpPr>
        <p:sp>
          <p:nvSpPr>
            <p:cNvPr id="93" name="Rectangle 9"/>
            <p:cNvSpPr/>
            <p:nvPr/>
          </p:nvSpPr>
          <p:spPr>
            <a:xfrm>
              <a:off x="2590920" y="2498760"/>
              <a:ext cx="3976200" cy="36302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flipH="1" rot="48000">
              <a:off x="3543480" y="3350160"/>
              <a:ext cx="2072880" cy="19285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27920" indent="-28008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2" marL="11199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3" marL="156816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4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5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6" marL="2016000" indent="-223920">
              <a:spcBef>
                <a:spcPts val="799"/>
              </a:spcBef>
              <a:buClr>
                <a:srgbClr val="a50021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488E-02D6-4018-B245-CDD1A1BCE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98A7-4A88-4B2E-BF74-4633A08059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BDB-4385-4775-AD4F-6A56F48B78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F535-46B5-4F8A-ACF6-F02E7666FF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E7BA-C667-4102-B94C-557D5EE880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E52F-87FD-4EEF-92E0-566610DB3D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781C-A146-43FF-BF17-D72FA8E26B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微软雅黑"/>
              </a:rPr>
              <a:t>七夕的心</a:t>
            </a:r>
            <a:r>
              <a:rPr b="0" lang="en-US" sz="4000" spc="-1" strike="noStrike">
                <a:solidFill>
                  <a:srgbClr val="a50021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a50021"/>
                </a:solidFill>
                <a:latin typeface="微软雅黑"/>
              </a:rPr>
              <a:t>模板免费下载</a:t>
            </a:r>
            <a:endParaRPr b="0" lang="en-US" sz="40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88" name="矩形 2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3200" spc="-1" strike="noStrike">
              <a:solidFill>
                <a:srgbClr val="a50021"/>
              </a:solidFill>
              <a:latin typeface="微软雅黑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本模版颜色构成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564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451160" y="2682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和线条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27079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阴影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3768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5" name="Text Box 16"/>
          <p:cNvSpPr/>
          <p:nvPr/>
        </p:nvSpPr>
        <p:spPr>
          <a:xfrm>
            <a:off x="483768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填充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6" name="Text Box 17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加粗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7" name="Text Box 18"/>
          <p:cNvSpPr/>
          <p:nvPr/>
        </p:nvSpPr>
        <p:spPr>
          <a:xfrm>
            <a:off x="690156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7599240" y="2682720"/>
            <a:ext cx="14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已访问过的超链接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你想对他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178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你想对她说的话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七夕庆祝日程表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31640" y="1916280"/>
          <a:ext cx="6229440" cy="327816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事项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爱心图表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 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(3 </a:t>
            </a: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色</a:t>
            </a:r>
            <a:r>
              <a:rPr b="0" lang="en-GB" sz="3600" spc="-1" strike="noStrike">
                <a:solidFill>
                  <a:srgbClr val="a50021"/>
                </a:solidFill>
                <a:latin typeface="微软雅黑"/>
              </a:rPr>
              <a:t>)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graphicFrame>
        <p:nvGraphicFramePr>
          <p:cNvPr id="615" name="Object 3"/>
          <p:cNvGraphicFramePr/>
          <p:nvPr/>
        </p:nvGraphicFramePr>
        <p:xfrm>
          <a:off x="252360" y="187308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87308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微软雅黑"/>
              </a:rPr>
              <a:t>照片墙</a:t>
            </a:r>
            <a:endParaRPr b="0" lang="en-US" sz="3600" spc="-1" strike="noStrike">
              <a:solidFill>
                <a:srgbClr val="a50021"/>
              </a:solidFill>
              <a:latin typeface="微软雅黑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生日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微软雅黑"/>
              </a:rPr>
              <a:t>旅游</a:t>
            </a:r>
            <a:endParaRPr b="0" lang="en-US" sz="2800" spc="-1" strike="noStrike">
              <a:solidFill>
                <a:srgbClr val="a50021"/>
              </a:solidFill>
              <a:latin typeface="微软雅黑"/>
            </a:endParaRPr>
          </a:p>
        </p:txBody>
      </p:sp>
      <p:pic>
        <p:nvPicPr>
          <p:cNvPr id="619" name="Picture 4" descr="snowdrop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9:1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3:3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