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29C-E9EC-437D-808E-0F588E5B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8C0-D7B8-4749-90A2-E617272F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8B931-82CC-47F5-91BD-1DB98ABA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60B46-6EB0-49C3-B145-ED984B65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AFBB8-0BD3-454B-9CCF-54710574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6DF38-8DE3-4D53-A477-D94E39D2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C75A4-EB9C-4EB5-BD2E-8BF4E418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F1F3F-0733-4CDF-931D-FE79D16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6690C-A94F-4E8A-9BB1-5AF35F22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00D36-2545-4C72-A869-9B9F6388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5B0EE-DEF2-4234-89C9-B9F6C836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78272-0216-4EE5-8F3B-27E83A70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2FE-A610-40F1-B4BB-E2B6884D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2BAA4-6397-4C1B-8CF0-3FFAE64E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A0B0B-CCD2-486E-9769-A76AF510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1D016-A7B9-4649-94DB-06FA8F24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CCE05-7C28-4D41-BC9F-70A8293F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DEA9A-04FB-4932-A0B6-0C03A11A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68C91-DEE7-4EB1-B443-BE2D08A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F6B87-EED7-46E0-BB6F-4B99AFF4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FAE53-E0F1-443D-9E50-BB28ED2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7944A-0F4C-46A0-A1B7-E31FC64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3A487-2C92-489B-ABC3-D125D509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FDE-ED1D-4F1F-A28B-BE355C82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3957A-E34D-48AC-93C6-BB206DD5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BB6E6-C759-4DC8-98A9-04E663BA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66941-7D50-41F8-9F84-BDDBB3FF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EF700-41CF-4415-A4F8-4B5E1948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6938F-FBCE-42E4-AC63-F1D22B9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FAFC0-E6D1-4DB4-98A2-4BAE13D0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0B28D-4F67-4D91-B62C-DA9B1A4F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FF565-15B9-430D-8796-CF7CE7DD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22422-BA5A-4626-817F-279B63B9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5D7A6-A526-4A47-91A7-ECFDD6E8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C91D-E48A-4C80-9EC0-C2AC4A37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7E4E7-580F-41E0-8C93-1957708A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8F7E2-6019-4AE1-834F-34E2D93D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50096-0B43-4268-94C5-ADAF592D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55D48-15F4-4EC3-988D-4D348A67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C2BEC-120E-4AC7-842B-DF6014E9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071C8-8AFB-4B67-A284-FD698AE8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B0277-520E-4C5F-8841-F3E9E1FD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4552A-F222-452D-A727-8E093F97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6AD98-1F59-4C17-AA3A-F1F08935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AAEA1-EB55-4F8D-B7F8-B3DFC7DE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DD08-01F1-4A0C-8AE0-8C356673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2B505-40A2-40E5-9D69-6B9909E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7E64C-76D3-4460-89ED-EF7FE98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1ABD0-0E00-4753-8B6F-F88BF8B1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463FB-F79E-4AF9-97C3-00C2AA50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F50E0-7F52-4FC5-BEA3-811AC342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C1E67-2074-4407-A048-D833D60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11E9F-2DB9-49B0-A516-AD783386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63637-245C-4ED0-90E9-6BF98F13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13920-449C-4AC1-B2DF-D9F2A4EA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C870B-7674-4AFE-978D-63D7F12E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3404-3F38-4133-BF8E-211A4562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3AAD7-64F0-4FB4-BFE7-9DDB5F10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A4B67-DD7F-44B3-B865-5473CFFB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8B2ED-0EF2-40C4-93B9-B6A057B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78825-8781-4CD1-BBDD-C4099B4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9C9D9-7084-411D-BA45-F02E91BC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0E48D-B4EC-4AD6-AB0A-A756FC88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55115-F521-4D3A-9BB4-BB11DEAC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99CB-B18F-46A8-A333-0432A9D5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D146-1EF5-4B1A-9F64-D7159F60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7B15-1893-46A6-9929-B50DD6E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A785-A62A-4D63-9B5E-7787EE76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748-7898-4E39-94C3-0314F345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6847-EEA8-4F72-838B-B32D2E8D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F387-840E-4916-A085-3FA57EA5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51FC-FA67-4CFF-BF7A-F844F99A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58E7-260C-40A3-B532-52FFA6A6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4419-3803-43FA-8EA8-4E382B64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49459-861A-4D14-AA09-7CCA62C2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D8D9-919F-4AC2-8351-9D9D29D3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F3C9-6967-4EF0-A2DF-18D608E6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B3A0-6B1A-485A-B2F2-078767AF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B2EC-05CF-40F8-9DA2-0C1D0FBF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362-57B4-4022-858C-7A899660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FC07-973F-4540-AE79-167DEED0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F27C-C4F1-4519-A583-C49E1BEE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CA1A-B6DB-41C4-A513-5298528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FED2-3C3B-44D9-9C3E-4B77B686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871B-4C24-4FE8-AB73-95733BF3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4899-FFED-4BFB-9B12-99FC0ACE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D52B-1D60-4992-A4D0-1916D81B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D901-B7F8-4E96-BBC8-FEC96503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D42F3-3D7F-4E73-925B-DBF17A88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3805-CAE6-43DE-9511-933618CE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6CA-077A-4986-84A1-251C54C2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61369-E6AA-4AAD-8F89-5BCF42B6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CD9B9-9867-4217-A0DA-FA16A1CD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F820-4034-494C-88B5-BC64453D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8978-03E2-49C7-B405-7F5772F9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1B430-6617-4E52-A849-E34526E1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EDAFB-1C58-45E3-A9FE-ECAA50A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532F-7CEA-486F-BB64-62114A71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52C7-080E-40C6-A218-557B5FE0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8C39-EA31-4088-B658-FB1F4551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C687-4E5A-496A-BA37-7CB6598D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1E7-C81C-433C-8C14-10E98717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4B25-CED9-4F5F-A5D9-6C646DA7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29E7-855A-494B-9F7D-56D0C3B6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ADE45-67BB-49C6-8087-8F90C8A6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42832-F92F-426E-AEFA-F88312FF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028DB-D851-4CA2-879D-B4ED45A7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9A178-783E-4451-9661-4D67E27F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A9C93-2263-44F3-AF64-9BD455B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70B9-69A5-4205-86E0-A6FA3B0A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1AC30-CF38-43D6-9D15-38A29867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229E3-9186-4668-9CA3-088BC91F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7D2-D123-479A-A24F-309E4C8D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23481-9D6F-4F22-BCFF-70D21F79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31B51-5EC2-40F5-828E-C6C11D0B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71158-883B-467A-A223-6C61F96C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A12EB-8C74-4957-A807-295A8F2C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78304-649B-44A7-B725-6C6D5599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A1973-CCFA-4C07-BB50-1D43904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E60AA-7C4C-4446-AC0A-8A5E61E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82B64-9171-4995-8F41-82AF6719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13F41-085A-41B3-867E-1567045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D846B-13E7-42DB-8996-78139A6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965-2A50-4498-88A1-C217AC4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AA81E-6D3E-4C5C-8E51-D9AE12EA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5E87-4A5B-45FB-8FD8-39262597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79ADC-F48F-4250-9706-E894ABCD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9CFB8-D3D4-4470-95E6-38D9863C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D194C-6D34-4C80-BBA8-23CFB317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F4D92-DFEA-45C5-A7EB-795FC434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30F63-0A88-4D47-A4BF-6AF87146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8BBF8-0856-42F8-9278-B470D78E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7FE52-0EF8-4A09-B87C-2EE6F74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915DE-CDAC-4CE4-B744-CF5D294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A61-80CF-42DA-9C94-E443F134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4808A-0FFF-4F66-9D95-C7C1A4E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EAC25-8170-49DF-ADB2-7603BF57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05DD8-4539-4AB8-B39A-B66F0609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0D0C0-8226-4F13-AA7E-37AC922A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D8B1E-D19B-47B0-8026-97EAFABA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7F284-E4AF-40C3-8DC8-9A8CD059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9B7DD-3D01-4A12-BE68-79FCB30D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F9972-2475-4F23-83BA-5670514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5FAC1-8F2A-46BC-9D12-FE8D53AA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6A480-2AEC-43CD-82C3-0E38E5DF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70D-D474-49F8-BB58-BFC27146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22E9-E486-419F-8D24-A2D94AED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E515D-8563-4FAA-80EF-F21BA7B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766E3-2519-4610-B18C-D701901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153EC-DB79-4F23-A35A-CAE4073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92714-4990-4EB8-A5CA-A1CBAFB4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7DCC7-A9A0-402F-B98F-D74425B3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2C0A1-0789-4366-97FE-C9B7330E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20AE6-1F45-40AD-8A5E-90B55CA5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C9A0F-8975-4746-95C9-E773037E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06BE1-3281-4BDD-9CF1-C2E6C460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-OTF 新ゴ Pro 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A23B-A59C-481B-9002-1197598A7A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-OTF 新ゴ Pro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8D81-61ED-4993-8945-9293CBB1B5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BE9E-119B-4177-9F26-D94AE2C0AA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917A-E0F3-44E7-9D2D-52B670C08C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896F-11D9-4ECE-BE14-85A7801584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A743-C8FC-484C-A84D-DC7C4AF17E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B482-4A48-4723-A3A2-7D3D5EE9E1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AA51-2327-4E41-B71C-380E61EE19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2FB5-0482-4AC3-90D6-1B680F05CD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73AF-D845-4B67-BFFD-FAD1C1CB8B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FF5A-584D-4753-A3CD-C2465E5C22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B185-8E44-4DEB-AB37-6A5317FFCB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8215-8935-4EB5-8573-667D933A95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5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88880" y="260280"/>
          <a:ext cx="3456000" cy="79236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Janu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158" descr=""/>
          <p:cNvPicPr/>
          <p:nvPr/>
        </p:nvPicPr>
        <p:blipFill>
          <a:blip r:embed="rId1"/>
          <a:srcRect l="0" t="0" r="0" b="16605"/>
          <a:stretch/>
        </p:blipFill>
        <p:spPr>
          <a:xfrm>
            <a:off x="7361280" y="1125360"/>
            <a:ext cx="2265480" cy="267840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537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元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矩形 1"/>
          <p:cNvSpPr/>
          <p:nvPr/>
        </p:nvSpPr>
        <p:spPr>
          <a:xfrm>
            <a:off x="3035880" y="-698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历欣赏个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矩形 10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3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454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498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7e2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9" name=""/>
          <p:cNvGraphicFramePr/>
          <p:nvPr/>
        </p:nvGraphicFramePr>
        <p:xfrm>
          <a:off x="488880" y="260280"/>
          <a:ext cx="4608720" cy="792360"/>
        </p:xfrm>
        <a:graphic>
          <a:graphicData uri="http://schemas.openxmlformats.org/drawingml/2006/table">
            <a:tbl>
              <a:tblPr/>
              <a:tblGrid>
                <a:gridCol w="4608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Octo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0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国庆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4" name="Picture 209" descr=""/>
          <p:cNvPicPr/>
          <p:nvPr/>
        </p:nvPicPr>
        <p:blipFill>
          <a:blip r:embed="rId1"/>
          <a:stretch/>
        </p:blipFill>
        <p:spPr>
          <a:xfrm>
            <a:off x="7400880" y="1525680"/>
            <a:ext cx="2232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5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556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00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cd1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1" name=""/>
          <p:cNvGraphicFramePr/>
          <p:nvPr/>
        </p:nvGraphicFramePr>
        <p:xfrm>
          <a:off x="488880" y="260280"/>
          <a:ext cx="4608720" cy="792360"/>
        </p:xfrm>
        <a:graphic>
          <a:graphicData uri="http://schemas.openxmlformats.org/drawingml/2006/table">
            <a:tbl>
              <a:tblPr/>
              <a:tblGrid>
                <a:gridCol w="4608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11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Nove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2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Gothic"/>
              </a:rPr>
              <a:t>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Gothic"/>
              </a:rPr>
              <a:t>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Gothic"/>
              </a:rPr>
              <a:t>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23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Arial"/>
                <a:ea typeface="MS Gothic"/>
              </a:rPr>
              <a:t>　　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6" name="Picture 211" descr=""/>
          <p:cNvPicPr/>
          <p:nvPr/>
        </p:nvPicPr>
        <p:blipFill>
          <a:blip r:embed="rId1"/>
          <a:srcRect l="7381" t="0" r="3683" b="0"/>
          <a:stretch/>
        </p:blipFill>
        <p:spPr>
          <a:xfrm>
            <a:off x="7400880" y="1916280"/>
            <a:ext cx="2225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7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658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02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010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3" name=""/>
          <p:cNvGraphicFramePr/>
          <p:nvPr/>
        </p:nvGraphicFramePr>
        <p:xfrm>
          <a:off x="488880" y="260280"/>
          <a:ext cx="4608720" cy="792360"/>
        </p:xfrm>
        <a:graphic>
          <a:graphicData uri="http://schemas.openxmlformats.org/drawingml/2006/table">
            <a:tbl>
              <a:tblPr/>
              <a:tblGrid>
                <a:gridCol w="4608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1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Dece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8" name="Picture 211" descr=""/>
          <p:cNvPicPr/>
          <p:nvPr/>
        </p:nvPicPr>
        <p:blipFill>
          <a:blip r:embed="rId1"/>
          <a:srcRect l="1923" t="1838" r="0" b="0"/>
          <a:stretch/>
        </p:blipFill>
        <p:spPr>
          <a:xfrm>
            <a:off x="7473960" y="1413000"/>
            <a:ext cx="22953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849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88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Rectangle 7"/>
          <p:cNvSpPr/>
          <p:nvPr/>
        </p:nvSpPr>
        <p:spPr>
          <a:xfrm>
            <a:off x="7667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189" descr=""/>
          <p:cNvPicPr/>
          <p:nvPr/>
        </p:nvPicPr>
        <p:blipFill>
          <a:blip r:embed="rId1"/>
          <a:stretch/>
        </p:blipFill>
        <p:spPr>
          <a:xfrm>
            <a:off x="7056360" y="1052640"/>
            <a:ext cx="2865600" cy="286524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3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639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83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29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Febru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Arial"/>
                <a:ea typeface="宋体"/>
              </a:rPr>
              <a:t>除夕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初一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初二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197" descr=""/>
          <p:cNvPicPr/>
          <p:nvPr/>
        </p:nvPicPr>
        <p:blipFill>
          <a:blip r:embed="rId1"/>
          <a:srcRect l="0" t="0" r="0" b="3687"/>
          <a:stretch/>
        </p:blipFill>
        <p:spPr>
          <a:xfrm>
            <a:off x="7473960" y="1160640"/>
            <a:ext cx="2122560" cy="2773080"/>
          </a:xfrm>
          <a:prstGeom prst="rect">
            <a:avLst/>
          </a:prstGeom>
          <a:ln w="0">
            <a:noFill/>
          </a:ln>
        </p:spPr>
      </p:pic>
      <p:grpSp>
        <p:nvGrpSpPr>
          <p:cNvPr id="740" name="Group 3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741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785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2901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M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7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妇女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23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Gothic"/>
              </a:rPr>
              <a:t>24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198" descr=""/>
          <p:cNvPicPr/>
          <p:nvPr/>
        </p:nvPicPr>
        <p:blipFill>
          <a:blip r:embed="rId1"/>
          <a:srcRect l="0" t="0" r="23750" b="0"/>
          <a:stretch/>
        </p:blipFill>
        <p:spPr>
          <a:xfrm>
            <a:off x="7219800" y="1268280"/>
            <a:ext cx="2451240" cy="2592360"/>
          </a:xfrm>
          <a:prstGeom prst="rect">
            <a:avLst/>
          </a:prstGeom>
          <a:ln w="0">
            <a:noFill/>
          </a:ln>
        </p:spPr>
      </p:pic>
      <p:grpSp>
        <p:nvGrpSpPr>
          <p:cNvPr id="842" name="Group 3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843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87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5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Apr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9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AutoShape 64"/>
          <p:cNvSpPr/>
          <p:nvPr/>
        </p:nvSpPr>
        <p:spPr>
          <a:xfrm>
            <a:off x="2381400" y="114300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944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88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85d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9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M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0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劳动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4" name="Picture 199" descr=""/>
          <p:cNvPicPr/>
          <p:nvPr/>
        </p:nvPicPr>
        <p:blipFill>
          <a:blip r:embed="rId1"/>
          <a:srcRect l="0" t="0" r="0" b="16605"/>
          <a:stretch/>
        </p:blipFill>
        <p:spPr>
          <a:xfrm>
            <a:off x="7400880" y="1184400"/>
            <a:ext cx="22208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046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90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c25c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1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Ju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2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儿童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8</a:t>
            </a:r>
            <a:br>
              <a:rPr sz="2000"/>
            </a:b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端午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6" name="Picture 200" descr=""/>
          <p:cNvPicPr/>
          <p:nvPr/>
        </p:nvPicPr>
        <p:blipFill>
          <a:blip r:embed="rId1"/>
          <a:srcRect l="0" t="0" r="0" b="12178"/>
          <a:stretch/>
        </p:blipFill>
        <p:spPr>
          <a:xfrm>
            <a:off x="7400880" y="1157400"/>
            <a:ext cx="223200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148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192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add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3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Ju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Picture 202" descr=""/>
          <p:cNvPicPr/>
          <p:nvPr/>
        </p:nvPicPr>
        <p:blipFill>
          <a:blip r:embed="rId1"/>
          <a:srcRect l="0" t="0" r="0" b="33222"/>
          <a:stretch/>
        </p:blipFill>
        <p:spPr>
          <a:xfrm>
            <a:off x="7292880" y="1125360"/>
            <a:ext cx="23400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250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294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5d71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5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Augu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解放军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纪念日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24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0" name="Picture 203" descr=""/>
          <p:cNvPicPr/>
          <p:nvPr/>
        </p:nvPicPr>
        <p:blipFill>
          <a:blip r:embed="rId1"/>
          <a:srcRect l="9531" t="0" r="19063" b="0"/>
          <a:stretch/>
        </p:blipFill>
        <p:spPr>
          <a:xfrm>
            <a:off x="7400880" y="1339920"/>
            <a:ext cx="2274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352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96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569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7" name=""/>
          <p:cNvGraphicFramePr/>
          <p:nvPr/>
        </p:nvGraphicFramePr>
        <p:xfrm>
          <a:off x="488880" y="260280"/>
          <a:ext cx="4176720" cy="79236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Septe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8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中秋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2" name="Picture 204" descr=""/>
          <p:cNvPicPr/>
          <p:nvPr/>
        </p:nvPicPr>
        <p:blipFill>
          <a:blip r:embed="rId1"/>
          <a:srcRect l="0" t="0" r="0" b="18455"/>
          <a:stretch/>
        </p:blipFill>
        <p:spPr>
          <a:xfrm>
            <a:off x="7365960" y="1197000"/>
            <a:ext cx="2340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18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_TemplateID">
    <vt:lpwstr>TC102508669990</vt:lpwstr>
  </property>
</Properties>
</file>