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85960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70000" y="3907440"/>
            <a:ext cx="85960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7000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96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6280" y="109656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82920" y="109656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70000" y="390744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6280" y="390744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82920" y="390744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B2FB-EF44-459E-92DB-223FB18E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70000" y="1096560"/>
            <a:ext cx="85960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EB2-0630-48F9-A17D-97699939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859608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934-3707-493D-8E84-443C81DC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CA6-E119-4D71-9FE3-55D01B06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433-320C-4EA3-87E3-5A75CE6D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70000" y="63360"/>
            <a:ext cx="859608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FDC-8214-4C4F-99C3-42F01644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000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BD8-F12F-4F46-9EE0-0E2E2943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70000" y="1096560"/>
            <a:ext cx="85960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96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8680-CD41-4D7C-A3C0-F5B81FB2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70000" y="3907440"/>
            <a:ext cx="85960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DCB-A649-462F-B684-5DF76BF7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85960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70000" y="3907440"/>
            <a:ext cx="85960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6A7F-D3F1-4476-B2BB-A3098140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7000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96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65C-F298-49C3-ABCB-FC342594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76280" y="109656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82920" y="109656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70000" y="390744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76280" y="390744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82920" y="390744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83D-E874-46B9-AC92-9F7C1E96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BCB3-F10B-4A0F-998B-0AF95D94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70000" y="1096560"/>
            <a:ext cx="8596080" cy="53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73D6-700E-446C-832B-9122EEF9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859608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100C-306B-49CC-96F7-146A05DD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F873-3E39-4750-B572-40479DF0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5CD1-4F62-4DE8-91A4-5C5134B1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859608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70000" y="63360"/>
            <a:ext cx="859608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E88C-4986-4809-B433-1B2784EE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7000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97BF-C9B1-4267-9377-AF9B8408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96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7FFA-655A-4CC4-9F62-9232A921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70000" y="3907440"/>
            <a:ext cx="85960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A2C8-7374-4C37-ACE1-FF5318F8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85960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70000" y="3907440"/>
            <a:ext cx="85960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EA8D-6441-49D6-B359-CA1847AA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7000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96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9A4E-685B-466B-A198-B4EE2960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76280" y="109656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2920" y="109656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270000" y="390744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76280" y="390744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2920" y="3907440"/>
            <a:ext cx="27676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F74B-3EFC-4557-83AE-68AA6B2C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70000" y="63360"/>
            <a:ext cx="859608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7000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960" y="390744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000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1096560"/>
            <a:ext cx="419472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70000" y="3907440"/>
            <a:ext cx="8596080" cy="25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278280" y="6443640"/>
            <a:ext cx="32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Eras Demi ITC"/>
                <a:ea typeface="微软雅黑"/>
              </a:rPr>
              <a:t>http://blog.sina.com.cn/xiaowenzi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68000"/>
            </a:blip>
            <a:srcRect/>
            <a:stretch/>
          </a:blip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8"/>
          <p:cNvSpPr/>
          <p:nvPr/>
        </p:nvSpPr>
        <p:spPr>
          <a:xfrm>
            <a:off x="0" y="0"/>
            <a:ext cx="9144000" cy="752400"/>
          </a:xfrm>
          <a:prstGeom prst="rect">
            <a:avLst/>
          </a:prstGeom>
          <a:gradFill rotWithShape="0">
            <a:gsLst>
              <a:gs pos="0">
                <a:srgbClr val="f95626"/>
              </a:gs>
              <a:gs pos="100000">
                <a:srgbClr val="f9862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Group 9"/>
          <p:cNvGrpSpPr/>
          <p:nvPr/>
        </p:nvGrpSpPr>
        <p:grpSpPr>
          <a:xfrm>
            <a:off x="6588000" y="112680"/>
            <a:ext cx="2556000" cy="533520"/>
            <a:chOff x="6588000" y="112680"/>
            <a:chExt cx="2556000" cy="533520"/>
          </a:xfrm>
        </p:grpSpPr>
        <p:sp>
          <p:nvSpPr>
            <p:cNvPr id="42" name="Rectangle 10"/>
            <p:cNvSpPr/>
            <p:nvPr/>
          </p:nvSpPr>
          <p:spPr>
            <a:xfrm>
              <a:off x="6588000" y="112680"/>
              <a:ext cx="601560" cy="5335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1"/>
            <p:cNvSpPr/>
            <p:nvPr/>
          </p:nvSpPr>
          <p:spPr>
            <a:xfrm flipH="1">
              <a:off x="7238160" y="112680"/>
              <a:ext cx="601560" cy="533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2"/>
            <p:cNvSpPr/>
            <p:nvPr/>
          </p:nvSpPr>
          <p:spPr>
            <a:xfrm>
              <a:off x="7889760" y="112680"/>
              <a:ext cx="601560" cy="5335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3"/>
            <p:cNvSpPr/>
            <p:nvPr/>
          </p:nvSpPr>
          <p:spPr>
            <a:xfrm>
              <a:off x="8542080" y="112680"/>
              <a:ext cx="601920" cy="5335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14"/>
          <p:cNvSpPr/>
          <p:nvPr/>
        </p:nvSpPr>
        <p:spPr>
          <a:xfrm>
            <a:off x="0" y="752400"/>
            <a:ext cx="9144000" cy="66600"/>
          </a:xfrm>
          <a:prstGeom prst="rect">
            <a:avLst/>
          </a:prstGeom>
          <a:solidFill>
            <a:srgbClr val="6d6d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40A7-2D66-4753-87BA-F71A28E709AB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270000" y="63360"/>
            <a:ext cx="8596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270000" y="1096560"/>
            <a:ext cx="859608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d4a444"/>
              </a:buClr>
              <a:buSzPct val="6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7817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e5c88f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7817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7817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7817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7817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7817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7817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e77817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4240" cy="6870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1196-779E-4BE0-82EF-DA4D599E6001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title"/>
          </p:nvPr>
        </p:nvSpPr>
        <p:spPr>
          <a:xfrm>
            <a:off x="685800" y="307008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77817"/>
                </a:solidFill>
                <a:latin typeface="微软雅黑"/>
              </a:rPr>
              <a:t>Click to edit the title text format</a:t>
            </a:r>
            <a:endParaRPr b="1" lang="en-US" sz="34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93" name="Rectangle 25"/>
          <p:cNvSpPr/>
          <p:nvPr/>
        </p:nvSpPr>
        <p:spPr>
          <a:xfrm>
            <a:off x="4314960" y="4649760"/>
            <a:ext cx="4276440" cy="9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:\教程\PPT\PPT素材\3D小人\小人\图片1.jpg"/>
          <p:cNvPicPr/>
          <p:nvPr/>
        </p:nvPicPr>
        <p:blipFill>
          <a:blip r:embed="rId1"/>
          <a:srcRect l="0" t="5497" r="0" b="14561"/>
          <a:stretch/>
        </p:blipFill>
        <p:spPr>
          <a:xfrm>
            <a:off x="12600" y="2406600"/>
            <a:ext cx="9131400" cy="4454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73080" y="677880"/>
            <a:ext cx="892800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数据分析技巧</a:t>
            </a:r>
            <a:r>
              <a:rPr b="1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模板下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、熟悉行业、公司业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0" y="1165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熟悉行业、公司业务及流程，若脱离行业认知和公司业务背景，分析的结果只会是脱了线的风筝，没有太大的实用价值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2" descr="D:\教程\PPT\PPT素材\3D小人\8\Comp_8030640356.jpg"/>
          <p:cNvPicPr/>
          <p:nvPr/>
        </p:nvPicPr>
        <p:blipFill>
          <a:blip r:embed="rId1"/>
          <a:stretch/>
        </p:blipFill>
        <p:spPr>
          <a:xfrm>
            <a:off x="2525760" y="2295360"/>
            <a:ext cx="40924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二、明确分析目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0" y="1165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常常有朋友问我这些数据可以做什么分析？这是典型的为了分析而分析。数据分析的前提需要先明确分析目的，这样分析才有意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D:\教程\PPT\PPT素材\3D小人\目标\目标2.jpg"/>
          <p:cNvPicPr/>
          <p:nvPr/>
        </p:nvPicPr>
        <p:blipFill>
          <a:blip r:embed="rId1"/>
          <a:stretch/>
        </p:blipFill>
        <p:spPr>
          <a:xfrm>
            <a:off x="2708280" y="2478240"/>
            <a:ext cx="372744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三、运用营销、管理等理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0" y="1165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、管理等理论是数据分析的指导思想，使分析思路系统化。例如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P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等，从哪几个维度去分析？考虑哪几个方面？故而使数据分析变得有血有肉有脉络，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真正做到理论指导实践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D:\教程\PPT\PPT素材\3D小人\2\www_tuweimei_comComp_22357487_KqjyNJsNtHzQcsMcA6CbqGKVyDCNTepd.jpg"/>
          <p:cNvPicPr/>
          <p:nvPr/>
        </p:nvPicPr>
        <p:blipFill>
          <a:blip r:embed="rId1"/>
          <a:stretch/>
        </p:blipFill>
        <p:spPr>
          <a:xfrm>
            <a:off x="2398680" y="2870280"/>
            <a:ext cx="434664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四、掌握有效数据分析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0" y="1165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数据分析流程，掌握数据分析基本原理与方法，并灵活运用到实践工作中，不论简单还是复杂的分析方法，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只要能解决问题的方法就是好方法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D:\教程\PPT\PPT素材\3D小人\8\Comp_8023312306.jpg"/>
          <p:cNvPicPr/>
          <p:nvPr/>
        </p:nvPicPr>
        <p:blipFill>
          <a:blip r:embed="rId1"/>
          <a:stretch/>
        </p:blipFill>
        <p:spPr>
          <a:xfrm>
            <a:off x="2581200" y="2881440"/>
            <a:ext cx="398160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五、玩转数据分析工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0" y="1165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分析工具，建议先玩转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CEL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透视表，有兴趣、时间、需要的话，再学习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SS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AS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等统计分析工具，同样，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只要能解决问题的工具就是好工具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D:\教程\PPT\PPT素材\3D小人\工程\锤子8.jpg"/>
          <p:cNvPicPr/>
          <p:nvPr/>
        </p:nvPicPr>
        <p:blipFill>
          <a:blip r:embed="rId1"/>
          <a:srcRect l="0" t="7036" r="0" b="0"/>
          <a:stretch/>
        </p:blipFill>
        <p:spPr>
          <a:xfrm>
            <a:off x="2417760" y="2954160"/>
            <a:ext cx="4308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六、学会用图表说话，玩转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等工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0" y="1165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会如何用图表有效展现分析结果，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助于数据分析结果展现， 达人必备；水晶易表亦对分析结果的展现有很大帮助，选择性使用；思维导图可帮助理清分析思路，根据需要选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D:\教程\PPT\PPT素材\3D小人\数据\图片3.png"/>
          <p:cNvPicPr/>
          <p:nvPr/>
        </p:nvPicPr>
        <p:blipFill>
          <a:blip r:embed="rId1"/>
          <a:stretch/>
        </p:blipFill>
        <p:spPr>
          <a:xfrm>
            <a:off x="2643120" y="2759040"/>
            <a:ext cx="385776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1" lang="en-US" sz="3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77817"/>
              </a:solidFill>
              <a:latin typeface="微软雅黑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8E8-E276-4F64-91FD-C55D346A3D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0"/>
          <p:cNvSpPr/>
          <p:nvPr/>
        </p:nvSpPr>
        <p:spPr>
          <a:xfrm>
            <a:off x="0" y="289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七、勤思考、多动手、多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0" y="1165320"/>
            <a:ext cx="91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要经常发问为什么是这样的？为什么不是那样的？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只有这样才有突破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靠脑袋想是不够的，需要多动手实践，不要怕错，大不了错了重来，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数据分析就是一个不断假设、验证的过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断总结分析方法、分析思路、分析流程，在总结中前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D:\教程\PPT\PPT素材\3D小人\问号-3D小人\问号29.jpg"/>
          <p:cNvPicPr/>
          <p:nvPr/>
        </p:nvPicPr>
        <p:blipFill>
          <a:blip r:embed="rId1"/>
          <a:srcRect l="0" t="0" r="0" b="6224"/>
          <a:stretch/>
        </p:blipFill>
        <p:spPr>
          <a:xfrm>
            <a:off x="2928960" y="3444840"/>
            <a:ext cx="317664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3:06:4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30:17Z</dcterms:modified>
  <cp:revision>1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106DEB7-A9D7-4F7F-BE86-B96C987C2C57</vt:lpwstr>
  </property>
  <property fmtid="{D5CDD505-2E9C-101B-9397-08002B2CF9AE}" pid="3" name="ArticulatePath">
    <vt:lpwstr>PPT达人装B指南</vt:lpwstr>
  </property>
  <property fmtid="{D5CDD505-2E9C-101B-9397-08002B2CF9AE}" pid="4" name="ArticulateProjectFull">
    <vt:lpwstr>F:\05.Training &amp; Lecture\PPT达人装B指南.ppta</vt:lpwstr>
  </property>
  <property fmtid="{D5CDD505-2E9C-101B-9397-08002B2CF9AE}" pid="5" name="ArticulateUseProject">
    <vt:lpwstr>1</vt:lpwstr>
  </property>
  <property fmtid="{D5CDD505-2E9C-101B-9397-08002B2CF9AE}" pid="6" name="KSOProductBuildVer">
    <vt:lpwstr>2052-9.1.0.4953</vt:lpwstr>
  </property>
</Properties>
</file>