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C4F-6E8A-4EF8-B31A-56AF8B8C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08F-46F9-47E0-B0F3-4BEA9CC5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585-2BB0-4988-BD1E-5A65AE1B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88F-0817-48B6-8C75-BF23215B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21C-BB0B-4E99-B907-17EBE921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02F-DB64-4286-BE2F-00AE4CC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C17-FFA4-4C5C-B1F8-453A2582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CD2-E8E0-46F1-8A90-3829BFA4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D9A-EFCE-4894-BFD6-0466EB09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992-990B-4F4C-A193-BE5A78EF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F7E-667F-4D47-B8F6-135FA67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B6F-CF92-4BC9-BB05-67A95257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5F4-6682-4F50-BE58-C16CFD3ACCE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DAD2-9BC1-4A1B-A3B8-0B16BBDAA50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矩形 25"/>
          <p:cNvSpPr/>
          <p:nvPr/>
        </p:nvSpPr>
        <p:spPr>
          <a:xfrm>
            <a:off x="6480" y="4149720"/>
            <a:ext cx="914400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26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表 9" descr=""/>
          <p:cNvPicPr/>
          <p:nvPr/>
        </p:nvPicPr>
        <p:blipFill>
          <a:blip r:embed="rId2"/>
          <a:stretch/>
        </p:blipFill>
        <p:spPr>
          <a:xfrm>
            <a:off x="-181080" y="2563920"/>
            <a:ext cx="4708800" cy="3458880"/>
          </a:xfrm>
          <a:prstGeom prst="rect">
            <a:avLst/>
          </a:prstGeom>
          <a:ln w="0">
            <a:noFill/>
          </a:ln>
        </p:spPr>
      </p:pic>
      <p:pic>
        <p:nvPicPr>
          <p:cNvPr id="47" name="图表 12" descr=""/>
          <p:cNvPicPr/>
          <p:nvPr/>
        </p:nvPicPr>
        <p:blipFill>
          <a:blip r:embed="rId3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4500720" y="3549600"/>
            <a:ext cx="461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004"/>
              <a:gd name="adj2" fmla="val 18694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009"/>
              <a:gd name="adj2" fmla="val 18694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8600" y="1173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数据分析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D95-4B06-4724-A57A-F3479478B2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5Z</dcterms:modified>
  <cp:revision>10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