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390-36AE-4890-9FE0-C4AD5425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A35-8B03-4E0F-9134-338DB3A8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82C5-58C3-4A98-B68F-37B371AC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F0ED-490E-4075-BE3D-64CBD163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3A73-B6E1-4D1D-A836-66BA6E52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3300-7643-4C5C-BCCE-3480AFAF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1A7B-9B47-4BD3-89E8-59CE5957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3AA4-11C9-4AD0-830E-DC9C359B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49BF-8988-4A03-89CB-F72913B6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3B98-45A0-41CC-B3C6-BAF306C7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5BF3-7B45-486E-9E76-EB18834E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522B-BE86-4FCA-9999-59144D6D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55F2-FE67-476C-987C-DC7E44EE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3793-BCC5-4A82-A1CE-D81AC646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2AAB-E715-4D3A-923C-1EFF1948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8AFA-7FE3-4F61-A50E-C99FF33C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DBD2-7355-4C54-A49B-D81F965F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4BE-C069-43F3-A49C-D2081DB8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E310-BD5B-450F-8EFF-90EB2CF4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3146-B3B9-434F-893F-E5B01AEA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FDC-071B-4982-8E5E-0A43B6D2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8C1F-93F1-42D5-8E09-61097E2F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9DFC-1790-4C07-8A23-F3166E0B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67D-8047-4A84-B54F-66B6C765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D3AA-B229-4048-BCD1-4F397CD79540}" type="slidenum"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843F-C479-41B8-B068-4C86957AA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72320" y="620640"/>
            <a:ext cx="118584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77777"/>
                </a:solidFill>
                <a:latin typeface="Arial"/>
                <a:ea typeface="华文仿宋"/>
              </a:rPr>
              <a:t>放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74320" y="1413000"/>
            <a:ext cx="39348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BatangChe"/>
              </a:rPr>
              <a:t>please let me fly in the s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523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87600" y="438120"/>
            <a:ext cx="232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537680" y="692280"/>
            <a:ext cx="8506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华文仿宋"/>
              </a:rPr>
              <a:t>放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31000" y="1365120"/>
            <a:ext cx="310644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心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幻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自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那個一直桎梏在籠中的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92200" y="6305400"/>
            <a:ext cx="52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03640" y="38037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  <a:ea typeface="华文仿宋"/>
              </a:rPr>
              <a:t>放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00560" y="4438800"/>
            <a:ext cx="248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Baskerville Old Face"/>
              </a:rPr>
              <a:t>please let me fly in the s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40" y="52560"/>
            <a:ext cx="3144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158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0440" y="333360"/>
            <a:ext cx="238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Arial"/>
                <a:ea typeface="华文仿宋"/>
              </a:rPr>
              <a:t>放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7360" y="1263600"/>
            <a:ext cx="6848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放飛就是遠離城市的喧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擺脫日常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家庭和事業的羈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縱情於山水之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看不同的錦繡風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看各地的風俗人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滿足好奇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求知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增加閱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賞心悅目而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92200" y="6305400"/>
            <a:ext cx="52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280480" y="1974960"/>
            <a:ext cx="1642680" cy="29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Arial"/>
                <a:ea typeface="华文仿宋"/>
              </a:rPr>
              <a:t>謝謝觀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80AA-8047-4A9F-B659-01BE2A2388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微软用户</cp:lastModifiedBy>
  <dcterms:modified xsi:type="dcterms:W3CDTF">2015-07-21T06:39:01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