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76C7-A769-46EC-8E8C-93FCD646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4848-4662-4819-BB45-0D1CAAA0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8B095-2906-4ED6-84BA-743BBDA6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EC75C-DCFF-4D04-A526-1DC7607A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8A109-08CD-4DCE-A9C0-2C2663C3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850EF-A828-4DEA-A3B6-BF2A50E3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B4B40-ED7F-472E-89E0-90FB084B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75D46-5051-4844-B044-68B9C6AC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C9C71-443A-45EE-8298-150832F9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D61DC-8FD4-468E-BB9C-D6479109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3693C-70D0-45EE-A683-502CFF5E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3B36C-7534-424A-BD6D-D99035B9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0B05-5991-4036-B342-8022745A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687D6-ED94-483B-993E-B9DD0E25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9C971-602E-4623-A0C4-09AD4920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67F3D-2DF7-4AA1-9C5C-C8663439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54F00-5E88-440A-B874-BF36E2FA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A997C-96AD-406C-ACD2-C5F8B82D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FE935-8633-4542-B74B-246F9DA7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B1359-60FA-487A-B363-5BDA95EC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E33DA-ED34-4B74-BE9B-B6E8516A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0D723-56D0-4DCF-8A6F-5B9BDE03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79DEA-95A2-4ECD-953C-9EA32FA4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BF4-13FD-4043-9405-9F48AADF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7B321-344E-4B73-A507-A9A4BFE6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7F085-77D5-4DA9-A445-23A02085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03954-884B-44CA-A716-9BB62F3B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EDCB0-39A2-416A-8310-41954288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460E0-DAE1-41CD-BA77-D90B0903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57090-07F2-41F2-B594-3089AA05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F0777-7A38-4126-951E-7C91EDF9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A0620-2554-4EE7-B0CD-3D2F23B7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09721-391E-4B01-BDF7-62D8517D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894F8-E490-4A23-B21E-A3A0012A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FB5E-9AD5-4BB9-993B-DB965F6F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71DC9-EE12-4890-8858-4EDEEA00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3663E-7744-463F-BC8D-3BCFD3EB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34182-4CBB-40A7-8D89-0B5F5444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D0AAB-A5A6-49A6-A23E-7CA0F8DF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8E65C-4586-44CE-A0F9-A6EB6011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B10B4-DED8-413C-A4ED-53AF65D7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058EE-6DAD-44EF-ADBA-461C89CF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E3772-CD1E-4051-8436-93BE2937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3111D-7BED-488B-9962-479EDF9A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A7443-084F-401E-AED7-A94CB01C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5E7F-BCC2-423E-880E-CEB599AB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EECED-29E1-4829-BBD8-BA49B1B6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FB58E-CB10-4281-92A9-A378C2AE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FB527-DC63-4313-A4BE-7E7BDDD0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5397E-770A-4AF3-8489-14B58AC5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0332E-2FFB-4FA1-AC16-8F3C0806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66609-1817-4E3F-B1FE-B1DF3F3F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A56BBD-77DB-44EE-8E95-44A1C1AE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51A817-4104-4ECA-B7EB-EED07704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8A861-E154-470F-8B58-49F487CF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E104EA-9CE9-4DB9-8B6C-4DBF1648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9F21-214E-470C-B40B-E3922BB4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0D5DE-C604-4185-84F4-FC1D4C51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DC7301-F14E-403E-B3A7-5F2EF894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127AAB-36EC-4436-8995-F56B54E8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0D3076-D6A6-429A-B2DA-F9BF473D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8C344C-93BB-48DD-B6CB-8F5F8C4E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541FA-17AA-4A16-A09C-AEA8D9FD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57D7B0-C2CB-4B34-9FD0-3D591611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57AA-32D1-4579-84B3-F1C1928A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B9E9-33F9-4DB2-BD32-E5290977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BF4F-55E5-43ED-AEB6-91D02AA0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BBD6-2011-45B3-8A90-B878BF6C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F907-9CAE-4DA9-A28B-1B528998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CDFD-3BE6-41E8-A8EB-6C421B24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1964-4F13-4A16-A150-86154E94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A9AD-9C80-4A8B-A71A-6F0151EC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81D7-D558-4122-825B-EA6E91D7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BE3A-0530-462A-880F-CFD09456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29E10-6B90-41E4-9261-20C64186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34399-B954-49AC-9E51-D1CE6F36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427BD-E557-4D70-A61B-30DDBC7B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56C85-C79A-4669-B3AF-758AC4B3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5551E-6861-4946-AAFD-3057D752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1CB-6566-493A-9A67-F4501755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F3CBA-D945-42A0-8A6A-2EBFD603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EDF9E-B029-4E9F-8AFF-0A6EBA84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71B95-ABD2-42A4-B807-90050C79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93ECB-4888-4752-A556-DD3B9DE5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7994D-3DD3-47C0-97CA-1042590D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7B1BD-1021-416F-9CB5-11E26ED9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0851F-7A37-4329-A005-1F1A3189E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05804-DAC5-47A3-B653-7E89CBDD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65D8B-6A97-4230-B53B-2CE50C30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C440B-A8B3-49ED-A6DB-B2B5ED41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1533-3693-4A25-A783-2B2FD919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43969-D1FF-41B9-B649-E28A0B15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CA856-3713-428E-9200-945C850B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DAF60-469A-4D7B-9FD1-28BDAEE6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1A552-F8FE-446A-9C17-3BF147F8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5766A-8F62-483C-81A1-D3754220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889CD-A281-4490-8517-813B6F4E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FD1F5-1648-45C7-9028-09F74192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352A9-0FCD-4D58-B6F0-4BF6EECB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04CFC-047E-49F4-AD75-050BFBBF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C5AC6-D098-44C8-BA9F-CFA501EB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A02-4432-447B-BAC8-BD12673F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FDB3C-E499-475B-A8BA-9FA5395E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2F7D0-3009-4DA7-A33D-15E2342C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F37B8-3CD9-456B-AC2D-2F5FE992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E7414-D039-4ADA-A070-1C6209E6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E96BE-FE26-4230-AB8D-55A5C72C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0B57C-8CF6-4585-8E40-34F8CCBC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3A322-D767-4490-9A28-EC1D680D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9BC1E-806D-44EA-8830-3F790A5E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E646C-72F3-4C77-B6A8-1C2CFECF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25ABE-DDFE-4E17-9F01-EBBCCDF6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A3CC-FA7F-4244-8026-DEF68AB1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ABFBF-3EE5-4D85-A500-B486DC61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7017E-8E81-4957-9687-5765C2BB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BC259-1196-417F-9A54-DFF589E9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1871A-4724-4594-B484-93733AB1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CA1EF-7422-402F-B818-BF4F1193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1259B-6B7F-4F9A-BD88-CDDD8D68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4318C-C876-4466-AA49-07A55845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21BC0-2B74-4F60-9535-8ED4323F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134B7-E496-4DA1-9171-38FD104F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8415A-3044-4FD3-B1E4-497C5672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C36C-381E-45EF-A4B4-0BBB226B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A5563-FE53-442D-B9CA-20266ED9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C83E2-4E80-40DA-8C88-C37BDA5F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57E5A-C06D-41FE-9750-67206AE8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AADDD-0CBD-4DB9-ACFE-41DD583E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929E2-3EE6-447A-985F-A29C85D0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72634-72A0-43D8-9155-CB0A2E2F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A8EE1-4FF5-4351-8198-71137D2A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DC4F1-45E9-4466-8265-9989A6F7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37DB4-8840-4DDF-A741-24EE28DC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E2DB9-D009-4D53-88CC-FA012B84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6E79-D6B9-4002-8598-B2611BA6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6C227-876C-47C7-AFA8-095E0075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E9018-0609-441C-B636-4C283684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06E4E-EE26-46F4-946C-B84EA5DE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7B93F-2B76-49AC-9B99-55286A65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93AD9-7619-498E-8D3E-E9813F70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D8221-51B5-4EF8-AB66-EB9CC558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90813-7FA0-4809-9977-27418CA1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1407C-FA6F-4213-94D0-EDB51CF3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4C11E-25A5-4BA7-B70E-7F10D051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4563F-96EE-4506-9A5D-A14D00EC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B25-9C04-41B6-9101-2BB7BC4C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3ABBD-6926-4559-A673-A75DBC37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991FB-B5C7-4BC4-9394-120D181F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D2B05-5989-46A6-A4ED-771768D9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99D91-FC95-41D8-82A8-86856265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83593-3834-4479-9400-3FACF337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03FC7-FA32-41A2-A138-C990A54F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3C9D1-2E19-42FD-B698-E863585F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19914-68E2-47E3-9625-9ED4D266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6E445-8E11-47E8-B95B-794B8E93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7E772-C4F9-47B2-9601-25B45452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"/>
          <p:cNvGraphicFramePr/>
          <p:nvPr/>
        </p:nvGraphicFramePr>
        <p:xfrm>
          <a:off x="0" y="-1440"/>
          <a:ext cx="99061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144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3FB8-43B9-4A5B-86DE-26F9EE7F099A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7FCC-5CF3-4E64-B22F-65BF9769D242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79A7-D030-46D0-9DB6-1AA8EA61EFB0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1CEE-4A52-4AFD-BA20-A7C362DA831B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126E-2162-4831-8563-E9AADDF8A18D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10FD-409A-4821-AEE6-AEAE599CED9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F6C3-3CBE-4B63-9AEF-408DA43B120E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FFBC-B1A3-4219-A02E-E16561BA5A3B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C1C6-94E8-4895-A774-033816B32866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DCCA-A100-475F-93A3-9D83F8BC5434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4F5D-EEE6-4401-933F-C6E07FEC5F9F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D47E-FBB8-405D-B48A-0E5295A8B83A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3970-7C4A-4D5F-AEE2-8C526FEAB626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그림 81" descr="BG_004.jpg"/>
          <p:cNvPicPr/>
          <p:nvPr/>
        </p:nvPicPr>
        <p:blipFill>
          <a:blip r:embed="rId1"/>
          <a:stretch/>
        </p:blipFill>
        <p:spPr>
          <a:xfrm>
            <a:off x="0" y="0"/>
            <a:ext cx="992988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矩形 6"/>
          <p:cNvSpPr/>
          <p:nvPr/>
        </p:nvSpPr>
        <p:spPr>
          <a:xfrm>
            <a:off x="2874240" y="549360"/>
            <a:ext cx="383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华文隶书"/>
                <a:ea typeface="华文隶书"/>
              </a:rPr>
              <a:t>时尚女孩</a:t>
            </a:r>
            <a:r>
              <a:rPr b="0" lang="en-US" sz="4000" spc="-1" strike="noStrike">
                <a:solidFill>
                  <a:srgbClr val="c00000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c00000"/>
                </a:solidFill>
                <a:latin typeface="华文隶书"/>
                <a:ea typeface="华文隶书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7" name="矩形 4"/>
          <p:cNvSpPr/>
          <p:nvPr/>
        </p:nvSpPr>
        <p:spPr>
          <a:xfrm>
            <a:off x="102240" y="6453360"/>
            <a:ext cx="32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37"/>
          <p:cNvGrpSpPr/>
          <p:nvPr/>
        </p:nvGrpSpPr>
        <p:grpSpPr>
          <a:xfrm>
            <a:off x="2286000" y="2725560"/>
            <a:ext cx="5547600" cy="432000"/>
            <a:chOff x="2286000" y="2725560"/>
            <a:chExt cx="5547600" cy="432000"/>
          </a:xfrm>
        </p:grpSpPr>
        <p:sp>
          <p:nvSpPr>
            <p:cNvPr id="539" name="AutoShape 38"/>
            <p:cNvSpPr/>
            <p:nvPr/>
          </p:nvSpPr>
          <p:spPr>
            <a:xfrm>
              <a:off x="2286000" y="2725560"/>
              <a:ext cx="5547600" cy="43200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43a7e5"/>
                </a:gs>
                <a:gs pos="50000">
                  <a:srgbClr val="1a558a"/>
                </a:gs>
                <a:gs pos="100000">
                  <a:srgbClr val="43a7e5"/>
                </a:gs>
              </a:gsLst>
              <a:lin ang="0"/>
            </a:gradFill>
            <a:ln w="190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1b83c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0" name="AutoShape 39"/>
            <p:cNvSpPr/>
            <p:nvPr/>
          </p:nvSpPr>
          <p:spPr>
            <a:xfrm>
              <a:off x="2395800" y="2729520"/>
              <a:ext cx="532296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eff">
                    <a:alpha val="4117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41" name="Text Box 23"/>
          <p:cNvSpPr/>
          <p:nvPr/>
        </p:nvSpPr>
        <p:spPr>
          <a:xfrm>
            <a:off x="3189240" y="2743200"/>
            <a:ext cx="4495680" cy="3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Arial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2" name="Text Box 41"/>
          <p:cNvSpPr/>
          <p:nvPr/>
        </p:nvSpPr>
        <p:spPr>
          <a:xfrm>
            <a:off x="2300400" y="2743200"/>
            <a:ext cx="869760" cy="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Gulim"/>
                <a:ea typeface="Arial"/>
              </a:rPr>
              <a:t>01.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43" name="Group 112"/>
          <p:cNvGrpSpPr/>
          <p:nvPr/>
        </p:nvGrpSpPr>
        <p:grpSpPr>
          <a:xfrm>
            <a:off x="2286000" y="3335400"/>
            <a:ext cx="5547600" cy="431640"/>
            <a:chOff x="2286000" y="3335400"/>
            <a:chExt cx="5547600" cy="431640"/>
          </a:xfrm>
        </p:grpSpPr>
        <p:sp>
          <p:nvSpPr>
            <p:cNvPr id="544" name="AutoShape 113"/>
            <p:cNvSpPr/>
            <p:nvPr/>
          </p:nvSpPr>
          <p:spPr>
            <a:xfrm>
              <a:off x="2286000" y="3335400"/>
              <a:ext cx="5547600" cy="43164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43a7e5"/>
                </a:gs>
                <a:gs pos="50000">
                  <a:srgbClr val="1a558a"/>
                </a:gs>
                <a:gs pos="100000">
                  <a:srgbClr val="43a7e5"/>
                </a:gs>
              </a:gsLst>
              <a:lin ang="0"/>
            </a:gradFill>
            <a:ln w="190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1b83c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5" name="AutoShape 114"/>
            <p:cNvSpPr/>
            <p:nvPr/>
          </p:nvSpPr>
          <p:spPr>
            <a:xfrm>
              <a:off x="2395800" y="3339360"/>
              <a:ext cx="532296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eff">
                    <a:alpha val="4117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46" name="Text Box 115"/>
          <p:cNvSpPr/>
          <p:nvPr/>
        </p:nvSpPr>
        <p:spPr>
          <a:xfrm>
            <a:off x="3189240" y="3352680"/>
            <a:ext cx="4495680" cy="3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Arial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7" name="Text Box 116"/>
          <p:cNvSpPr/>
          <p:nvPr/>
        </p:nvSpPr>
        <p:spPr>
          <a:xfrm>
            <a:off x="2300400" y="3352680"/>
            <a:ext cx="869760" cy="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Gulim"/>
                <a:ea typeface="Arial"/>
              </a:rPr>
              <a:t>02.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48" name="Group 117"/>
          <p:cNvGrpSpPr/>
          <p:nvPr/>
        </p:nvGrpSpPr>
        <p:grpSpPr>
          <a:xfrm>
            <a:off x="2286000" y="3944880"/>
            <a:ext cx="5547600" cy="432000"/>
            <a:chOff x="2286000" y="3944880"/>
            <a:chExt cx="5547600" cy="432000"/>
          </a:xfrm>
        </p:grpSpPr>
        <p:sp>
          <p:nvSpPr>
            <p:cNvPr id="549" name="AutoShape 118"/>
            <p:cNvSpPr/>
            <p:nvPr/>
          </p:nvSpPr>
          <p:spPr>
            <a:xfrm>
              <a:off x="2286000" y="3944880"/>
              <a:ext cx="5547600" cy="43200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43a7e5"/>
                </a:gs>
                <a:gs pos="50000">
                  <a:srgbClr val="1a558a"/>
                </a:gs>
                <a:gs pos="100000">
                  <a:srgbClr val="43a7e5"/>
                </a:gs>
              </a:gsLst>
              <a:lin ang="0"/>
            </a:gradFill>
            <a:ln w="190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1b83c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0" name="AutoShape 119"/>
            <p:cNvSpPr/>
            <p:nvPr/>
          </p:nvSpPr>
          <p:spPr>
            <a:xfrm>
              <a:off x="2395800" y="3948840"/>
              <a:ext cx="532296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eff">
                    <a:alpha val="4117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51" name="Text Box 120"/>
          <p:cNvSpPr/>
          <p:nvPr/>
        </p:nvSpPr>
        <p:spPr>
          <a:xfrm>
            <a:off x="3189240" y="3962520"/>
            <a:ext cx="4495680" cy="3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Arial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2" name="Text Box 121"/>
          <p:cNvSpPr/>
          <p:nvPr/>
        </p:nvSpPr>
        <p:spPr>
          <a:xfrm>
            <a:off x="2300400" y="3962520"/>
            <a:ext cx="869760" cy="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Gulim"/>
                <a:ea typeface="Arial"/>
              </a:rPr>
              <a:t>03.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53" name="Group 122"/>
          <p:cNvGrpSpPr/>
          <p:nvPr/>
        </p:nvGrpSpPr>
        <p:grpSpPr>
          <a:xfrm>
            <a:off x="2286000" y="4554360"/>
            <a:ext cx="5547600" cy="432000"/>
            <a:chOff x="2286000" y="4554360"/>
            <a:chExt cx="5547600" cy="432000"/>
          </a:xfrm>
        </p:grpSpPr>
        <p:sp>
          <p:nvSpPr>
            <p:cNvPr id="554" name="AutoShape 123"/>
            <p:cNvSpPr/>
            <p:nvPr/>
          </p:nvSpPr>
          <p:spPr>
            <a:xfrm>
              <a:off x="2286000" y="4554360"/>
              <a:ext cx="5547600" cy="43200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43a7e5"/>
                </a:gs>
                <a:gs pos="50000">
                  <a:srgbClr val="1a558a"/>
                </a:gs>
                <a:gs pos="100000">
                  <a:srgbClr val="43a7e5"/>
                </a:gs>
              </a:gsLst>
              <a:lin ang="0"/>
            </a:gradFill>
            <a:ln w="190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1b83c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5" name="AutoShape 124"/>
            <p:cNvSpPr/>
            <p:nvPr/>
          </p:nvSpPr>
          <p:spPr>
            <a:xfrm>
              <a:off x="2395800" y="4558320"/>
              <a:ext cx="532296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eff">
                    <a:alpha val="4117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56" name="Text Box 125"/>
          <p:cNvSpPr/>
          <p:nvPr/>
        </p:nvSpPr>
        <p:spPr>
          <a:xfrm>
            <a:off x="3189240" y="4572000"/>
            <a:ext cx="4495680" cy="3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Arial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7" name="Text Box 126"/>
          <p:cNvSpPr/>
          <p:nvPr/>
        </p:nvSpPr>
        <p:spPr>
          <a:xfrm>
            <a:off x="2300400" y="4572000"/>
            <a:ext cx="869760" cy="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Gulim"/>
                <a:ea typeface="Arial"/>
              </a:rPr>
              <a:t>04.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58" name="Group 127"/>
          <p:cNvGrpSpPr/>
          <p:nvPr/>
        </p:nvGrpSpPr>
        <p:grpSpPr>
          <a:xfrm>
            <a:off x="2286000" y="5164200"/>
            <a:ext cx="5547600" cy="431640"/>
            <a:chOff x="2286000" y="5164200"/>
            <a:chExt cx="5547600" cy="431640"/>
          </a:xfrm>
        </p:grpSpPr>
        <p:sp>
          <p:nvSpPr>
            <p:cNvPr id="559" name="AutoShape 128"/>
            <p:cNvSpPr/>
            <p:nvPr/>
          </p:nvSpPr>
          <p:spPr>
            <a:xfrm>
              <a:off x="2286000" y="5164200"/>
              <a:ext cx="5547600" cy="43164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43a7e5"/>
                </a:gs>
                <a:gs pos="50000">
                  <a:srgbClr val="1a558a"/>
                </a:gs>
                <a:gs pos="100000">
                  <a:srgbClr val="43a7e5"/>
                </a:gs>
              </a:gsLst>
              <a:lin ang="0"/>
            </a:gradFill>
            <a:ln w="190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1b83c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0" name="AutoShape 129"/>
            <p:cNvSpPr/>
            <p:nvPr/>
          </p:nvSpPr>
          <p:spPr>
            <a:xfrm>
              <a:off x="2395800" y="5168160"/>
              <a:ext cx="532296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eff">
                    <a:alpha val="4117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61" name="Text Box 130"/>
          <p:cNvSpPr/>
          <p:nvPr/>
        </p:nvSpPr>
        <p:spPr>
          <a:xfrm>
            <a:off x="3189240" y="5181480"/>
            <a:ext cx="4495680" cy="3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Arial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2" name="Text Box 131"/>
          <p:cNvSpPr/>
          <p:nvPr/>
        </p:nvSpPr>
        <p:spPr>
          <a:xfrm>
            <a:off x="2300400" y="5181480"/>
            <a:ext cx="869760" cy="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Gulim"/>
                <a:ea typeface="Arial"/>
              </a:rPr>
              <a:t>05.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563" name="Picture 22" descr="bar"/>
          <p:cNvPicPr/>
          <p:nvPr/>
        </p:nvPicPr>
        <p:blipFill>
          <a:blip r:embed="rId1"/>
          <a:stretch/>
        </p:blipFill>
        <p:spPr>
          <a:xfrm>
            <a:off x="2405160" y="1773360"/>
            <a:ext cx="5427720" cy="59364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13"/>
          <p:cNvSpPr/>
          <p:nvPr/>
        </p:nvSpPr>
        <p:spPr>
          <a:xfrm>
            <a:off x="2865600" y="184464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직사각형 17"/>
          <p:cNvSpPr/>
          <p:nvPr/>
        </p:nvSpPr>
        <p:spPr>
          <a:xfrm>
            <a:off x="2571840" y="3143160"/>
            <a:ext cx="5000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6a6a6"/>
                </a:solidFill>
                <a:latin typeface="Tahoma"/>
                <a:ea typeface="Galapogos BRK"/>
              </a:rPr>
              <a:t>Insert Text</a:t>
            </a:r>
            <a:endParaRPr b="0" lang="en-US" sz="50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566" name="직사각형 21" descr=""/>
          <p:cNvPicPr/>
          <p:nvPr/>
        </p:nvPicPr>
        <p:blipFill>
          <a:blip r:embed="rId1"/>
          <a:stretch/>
        </p:blipFill>
        <p:spPr>
          <a:xfrm>
            <a:off x="0" y="122400"/>
            <a:ext cx="3144960" cy="9936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2"/>
          <p:cNvSpPr/>
          <p:nvPr/>
        </p:nvSpPr>
        <p:spPr>
          <a:xfrm>
            <a:off x="3405960" y="3032280"/>
            <a:ext cx="319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HC헤드라인1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9" name="矩形 2"/>
          <p:cNvSpPr/>
          <p:nvPr/>
        </p:nvSpPr>
        <p:spPr>
          <a:xfrm>
            <a:off x="2268360" y="270828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5:05:3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39:2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