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68A-3DA9-426A-9901-084B93D1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5CF-BBE7-4E4E-BFBB-F1B988D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686-9ECB-4C51-8E25-52FC0472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98F-360B-4507-B87C-77DBA679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E3FA-188E-4BD7-9A3F-B578DAF0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DD2E-014F-45A9-8961-25CEB8F2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EBEE-8B59-407F-B6DE-A0EC8313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A74E-6E10-41C1-9139-1F5DAC53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059F-1184-421E-AD16-15B49504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313C-2D3A-4AAB-A0EC-481713B5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436-0069-4E1C-9AF0-D2ED9ECE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9AE-29C6-41A3-B8B5-2FC60F9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532E-C830-4C97-B60B-981AF743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62BF-5123-4F92-8147-9F35D57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FF92-9D99-4503-962A-64138719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74A-4F58-4586-A4C4-C4FC893D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D33-FF7C-4DBD-94E0-B8EF01C7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CB0F-1CE8-440F-931B-4FE6F1A7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8CFBF-D998-4EDF-8476-5FFDA933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18B9-56F6-470C-8152-4EAA2A71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0C1C2-36A1-4640-93A9-3ED6573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3C05-5A35-4143-830D-746B5352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175-8722-4A35-9813-4C993C5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D0D85-CEAE-4F4D-BED3-FF22D7B4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E14C0-154B-4DC2-B799-B304959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17944-3828-4046-B20D-F39F28E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8F244-6097-4492-90A8-DC0E90C5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53C0-DE4E-4792-87DA-531402AB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B58C-1D40-43BE-9E1D-C08F700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16C3-BAAC-462D-B6B5-58BFC467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6EE-904B-45C2-9AB4-1CB1A92F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765-FB8D-482F-9C1B-A36BC8F1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A88-A63E-4C82-BEC4-1A8DE6A6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4DF-4738-4464-9AC7-05F602E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61E-2B08-438C-AA8B-1A7F59E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1B4D-51F4-4992-93CA-5B77403B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DFA-072C-4434-9CD7-251D2D4D4A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23F3-57CE-4889-A5C7-58CCBE7955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E89-114A-4340-9A02-A00B86EC7A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a5c47a80bfbfeef9bd3e1e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1692360" y="404640"/>
            <a:ext cx="60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松鼠完整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驯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良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 榛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子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榉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实  橡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栗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矫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玲珑    帽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缨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 船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舵  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蛰伏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苔藓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狭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窄  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勉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强  圆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你会认吗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8360" y="1197000"/>
            <a:ext cx="842472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ùn       zhēn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ǔ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lì      jiǎ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óng      yīng      duò   zhé        tái x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á         miǎn        zh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你能记住吗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915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乖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巧、驯良、清秀、矫健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机警、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玲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珑、躲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藏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、追逐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强烈、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溪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流、警觉、触动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锐利、错杂、狭窄、勉强、遮</a:t>
            </a:r>
            <a:r>
              <a:rPr b="1" lang="zh-CN" sz="4600" spc="-1" strike="noStrike">
                <a:solidFill>
                  <a:srgbClr val="ff3300"/>
                </a:solidFill>
                <a:latin typeface="Arial"/>
              </a:rPr>
              <a:t>蔽</a:t>
            </a: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0092117464721877801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6588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你知道文章是从哪些方面介绍我的吗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2585880" cy="4508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3708360" y="2421000"/>
            <a:ext cx="381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漂亮的外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驯良的性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乖巧的行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8dcfac090280ba8c2eddd49e"/>
          <p:cNvPicPr/>
          <p:nvPr/>
        </p:nvPicPr>
        <p:blipFill>
          <a:blip r:embed="rId1"/>
          <a:stretch/>
        </p:blipFill>
        <p:spPr>
          <a:xfrm>
            <a:off x="4859280" y="4334040"/>
            <a:ext cx="4284720" cy="25239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如：我是一只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漂亮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小松鼠，我有</a:t>
            </a:r>
            <a:r>
              <a:rPr b="1" lang="zh-CN" sz="33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玲珑的面孔，还有一条帽缨形的大尾巴，显得格外漂亮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Garamond"/>
              </a:rPr>
              <a:t>假如你是一只会说话的小松鼠，你准备怎样向别人介绍自己呢？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2997360"/>
            <a:ext cx="914400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我是一只</a:t>
            </a:r>
            <a:r>
              <a:rPr b="1" lang="zh-CN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的小松鼠，我有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会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en-US" sz="33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      </a:t>
            </a:r>
            <a:r>
              <a:rPr b="1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2bdcc658d4871c082934f0a2"/>
          <p:cNvPicPr/>
          <p:nvPr/>
        </p:nvPicPr>
        <p:blipFill>
          <a:blip r:embed="rId2"/>
          <a:stretch/>
        </p:blipFill>
        <p:spPr>
          <a:xfrm>
            <a:off x="0" y="4341960"/>
            <a:ext cx="40672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想想课文在表达上与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《</a:t>
            </a: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鲸</a:t>
            </a: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》</a:t>
            </a:r>
            <a:r>
              <a:rPr b="1" lang="zh-CN" sz="3000" spc="-1" strike="noStrike">
                <a:solidFill>
                  <a:srgbClr val="006633"/>
                </a:solidFill>
                <a:latin typeface="Garamond"/>
              </a:rPr>
              <a:t>有什么相同与不同？</a:t>
            </a:r>
            <a:br>
              <a:rPr sz="30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628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明的角度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侧重于介绍鲸的形体特点和生活习性，而本文侧重于介绍松鼠的外貌、性格和行动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表达的方法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运用了列数字、举例子、打比方、作比较、分类别等说明方法，而本文主要是采用比喻、拟人手法生动形象地说明事物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语言风格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上来看，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鲸</a:t>
            </a: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ff00ff"/>
                </a:solidFill>
                <a:latin typeface="Arial"/>
              </a:rPr>
              <a:t>的语言精炼平实，而本文的语言生动传神，极具文学色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5280" y="1052640"/>
            <a:ext cx="8569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两篇课文都介绍了动物的外形和生活习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两篇课文都是条理地按顺序叙述的，语言都很简练准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28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1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