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057-62E1-467D-83EE-37780464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3F7-9FE0-4A38-8F30-FD47DD63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4B80B-151A-4827-8A63-D0036F78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AE3D0-48FA-4EC5-A9C0-BBEB087B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D93A5-9CF0-45E1-B8D3-34C8AA25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6D174-D02D-427F-850A-6EB417D3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C3DA4-1A6E-4742-8AC1-3DA73918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F14C5-5262-4100-8B6B-638B395C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09E36-781D-481C-AD45-BF14BFA8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84D24-FB17-49AD-A6CE-B1B37256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F8CA4-C5B3-4474-B5DB-879B1F47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FEB94-032A-418C-B51D-67AA4E0F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C21-9217-4AFF-8D62-00E362FD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E9D11-BD41-460B-A2A7-392DBCBA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88FF9-5E3F-4173-B224-24A467BB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93472-DABF-4CE1-B373-9FCF1F0F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784AB-ADDD-4F80-9561-092A1308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F0126-B35A-4F7E-913F-E2C6DFC6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11EE5-1D15-47EA-81C4-0919E51D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DCD72-3FAC-40F0-AB94-356F2E10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A391F-73F0-41B7-B697-C8BDDBCC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C46A4-CA43-4FAF-A82B-94CF12DE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2E816-F2CB-47C3-B8F3-2374135E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A1D-24FC-4F19-9DE7-DB5D3877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AB15A-D646-4C57-A108-FF527366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EAF17-B25C-44D4-89EA-3F8A882C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A604C-9DEA-4CED-8E10-330E4B97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BBA8B-3E18-48BE-AFDE-53F633AC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6BDFC-64E2-4BAA-8A69-D9D76218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521A5-3D93-4722-8F10-263A68F0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5D86F-60EA-41B3-94C5-7C79003F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6216D-2B9E-431D-800B-59D2DA6D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8CFF5-60D2-4A2B-BF4B-E021D401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8BB78-CFC0-48EC-BA1B-55315EAA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14CA-8BFF-4F61-9D40-4EEBFC6F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8A59A-EC7E-4A58-84DF-0D5B5BD4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D49E9-47C4-44A6-986C-75A7FA6A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C1B95-AB64-4C00-8D37-8C9F7088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E194D-4811-4014-ABE9-0D723E67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58E1F-A1DB-4ADC-8EBE-245C4482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85A2A-1179-454A-9229-ECCE5570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30051-AF56-46D3-9D95-4A86961E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A2113-F49B-4E15-9030-13ADE2A0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D89A5-FFEE-4128-B7D4-EF83FE2B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76607-2AA6-4349-82B8-4D93E7D1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16E1-0160-4E2A-B4E3-8882F67A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4083C-F522-4F3D-B91A-670277B6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4D8A8-A1C1-4CAD-9A17-09FF97F3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7FE9C-350D-4E43-8F72-A5B5A7ED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1C003-B782-406C-8EA4-1E391753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9210A-E927-4F1B-AF9C-1373DD5C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EBE52-D411-469F-B962-AF43B47A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E0184-13F2-4449-BA22-2EBB8056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D6F6B-0D82-419E-974F-9B44E984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57CC0-A465-4C46-90F4-CACAC99E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06D7E-126F-4132-9252-01621B6E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90EE-62DA-4259-9367-4533F4A4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DCF95-B967-4EF9-9B76-21DF6DBE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2FBA7-3DD9-467F-AC19-C9D0F0C7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DA899-0CD5-48AB-8DBD-36EBD16F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36555-7A35-4568-A1A2-6D4319D2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9185C-0B93-4B21-9AB0-DF38C769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89E30-F93C-43EB-AB3A-83DBB363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C11EB-7CE9-48EC-8E69-E3D85626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44CF-69D1-48BA-AB06-2755BA8A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484D-C319-4246-909F-E9CB34EA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E903-4D52-4C89-BED5-48ACF8DD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6A51-756A-4DEF-B53C-C0AB646D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128-6BE1-4037-B3BB-4848CD47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ACAB-4878-43C9-A69A-67D39CA0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8075-ECF9-4F3C-AC02-C75C3EF5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9FB2-33A2-442A-BE33-450E70EF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6109-D66A-49B5-8A7C-4D861A21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15C0-22EC-4188-ADCB-D39DA932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D9B5C-7C24-4615-986B-47DBE226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6D08-F0E4-4C75-9656-A060D480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A2306-8829-49DE-B696-4326368E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51662-75BF-424F-B67B-019E0628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D979D-4ADD-4F3A-B355-7148DBE0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7ED-4421-4C3A-86D6-F46CA215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E06B7-9B0E-4E3A-9E2A-111A80B5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8E19E-F316-4557-A6DC-274AFDD9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6486-5694-4D48-B1A7-36D560AF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0CEF0-AE38-410B-A039-DCF362CD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E545E-847F-4023-9D58-B56D91AB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7C74-14EE-427E-85CE-75ABF6AD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889C3-A77D-4663-939F-04099201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4E549-92D3-49A5-AE93-F965C92D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FC5B6-7DF1-4C17-9B94-0E8FFF90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0A2E6-9C67-4206-821B-EC9AA7ED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DDC-6BA3-4F97-B719-FCEBA892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B017-C025-4DC2-B6BB-16F03AA7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4CD59-6BD9-490D-B7D0-34EA5F82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EB637-E601-4B72-B7A9-FA5ADAFC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81253-DAA2-4136-9426-E6232A40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4490D-6A31-436C-80B9-EE462199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C66A1-FFF0-406D-8B24-CEDE16FF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4C9E7-B855-4C45-9A25-4ADDEE8E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C0AA4-EDFD-4F8A-8157-8BDA12E1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2FCB9-BBC6-42AE-AAC6-DEC708C9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DF799-CD32-4234-8CEA-F7326AC5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BA1-8836-4720-8259-9A4BC828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C6734-35F9-4FF6-86B0-839EB83D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C97F4-BF09-4396-9017-F7DB2423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75C90-6B94-4FA5-BBE2-463FAF68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69147-776B-4BDA-BFB2-6FFE11CA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2A6DA-80F3-497E-B0F0-4483D707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F43E0-372A-4AE2-8026-6BAC8ED0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C2784-7C21-45F3-8954-78B0B8C7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22D59-5BB8-445B-9E9A-8FC4F381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0F13E-9858-443F-8C25-88E5DA57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1E1BE-1AF7-4A18-84D3-B661F3BC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2E7-2CAD-4A64-9B6B-FF32E9A1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1D3CB-54A4-41E3-AE06-627CA57B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BDC85-7F7B-4AEF-960D-C2A442AB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CBF5B-6FFA-4DC9-89AE-9E615B67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9769C-3FBA-44C1-A1E2-249C51D7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C7F96-4DFD-48C9-A373-19C0EF79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0E67E-75D2-4B7B-98D7-8B4F05CE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21C15-680B-48CD-B737-321571CF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BF50D-F61A-46AB-9226-FCA3A127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DA07F-0EBA-4309-B24B-F6441DCE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736C4-0370-483B-91C1-8D77C25D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37C-7075-4CF9-82F6-C7A704AB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9280E-BC16-416E-989B-EADD0791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CF414-7B75-43B6-BEBC-030B4593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E9939-C2EE-4537-B305-A8EE02B7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8385A-6F47-4400-BCEE-09728C60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80F30-F21C-4E37-94F9-CE310BBE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948B7-53D4-4092-9802-BD5410D9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09406-3229-4B35-A447-D8780BC2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BDC09-8061-45CC-874A-3BEB5350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7C88B-6890-4EE7-87FB-8346F48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09E00-5B1D-4D7F-B5FC-647445CB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BAC-6D6D-4A90-AA86-F82D95A5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99DE5-15C6-451A-805B-45308D37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8AE3F-4100-43D4-AF6F-BE18ADFD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A70E0-53AC-4A8E-B954-5661CC25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BF58A-5D10-4BCC-93A2-4347C07C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7798D-4747-4A6D-A38F-4E6CC51E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6BA51-3759-4EBB-BCF9-602C143A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09306-F295-49E7-A257-6745324F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228F4-3F47-4895-914F-2A813009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D1508-3442-46F3-B451-E1DD4AFC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16C8C-C8DE-403C-95FF-53B01BB9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02F-F911-4CF6-84D4-9FA04089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9129B-9CD6-4834-AD7A-7055BBC3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10BC5-D70C-4D59-A9F0-C1AB1FAD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1EDD4-790D-4464-B91D-58F7C676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9A963-0475-4B1D-ABCB-14FAD7D2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7BF71-EEB8-4BAE-8717-97954F34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DA973-5D8C-4BCA-8C5D-EA6828B0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85E42-938D-40FF-92FE-B9623061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DA8B7-04B4-43D2-93CF-86672BFF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EFD79-EC92-4107-AF31-4156B589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C5398-E093-4751-AF3B-4D666B24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0E98E-F2A6-4D21-AF30-C1CB04188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AF125-2E88-4F65-B0BF-BB2A4653CDC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F5E6A-ADCE-46A5-B61B-015B45FF7DD4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B35BB-F363-4D93-B383-025E469CBCEB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5F29A-C8D8-46DA-B856-D1D753BDE63B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246A440-A755-4C81-BE8B-C7A75AC0A5D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75098-0097-4FC7-B8B5-2EB66C2A2999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2EEB5-C18D-4596-9B06-681BF23B00DD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E1264-24ED-451F-91EE-50E321807561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CFA1A-1FE6-40C0-A09C-EDE154D3A8D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33DC5-1748-4A48-A5AD-42ACD2ED836C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3BBEF-B33E-411C-8213-9CD29575B6D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E6B76-64EB-45FA-90FD-B48E325E7E4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3" descr="未标题-1.png"/>
          <p:cNvPicPr/>
          <p:nvPr/>
        </p:nvPicPr>
        <p:blipFill>
          <a:blip r:embed="rId2"/>
          <a:stretch/>
        </p:blipFill>
        <p:spPr>
          <a:xfrm>
            <a:off x="2070000" y="361800"/>
            <a:ext cx="7061400" cy="354348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14" descr="未标题-2.png"/>
          <p:cNvPicPr/>
          <p:nvPr/>
        </p:nvPicPr>
        <p:blipFill>
          <a:blip r:embed="rId3"/>
          <a:stretch/>
        </p:blipFill>
        <p:spPr>
          <a:xfrm>
            <a:off x="304920" y="1440"/>
            <a:ext cx="2043000" cy="272124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15" descr="未标题-4.png"/>
          <p:cNvPicPr/>
          <p:nvPr/>
        </p:nvPicPr>
        <p:blipFill>
          <a:blip r:embed="rId4"/>
          <a:stretch/>
        </p:blipFill>
        <p:spPr>
          <a:xfrm>
            <a:off x="0" y="1762200"/>
            <a:ext cx="3352680" cy="3344760"/>
          </a:xfrm>
          <a:prstGeom prst="rect">
            <a:avLst/>
          </a:prstGeom>
          <a:ln w="0">
            <a:noFill/>
          </a:ln>
        </p:spPr>
      </p:pic>
      <p:sp>
        <p:nvSpPr>
          <p:cNvPr id="536" name="矩形 16"/>
          <p:cNvSpPr/>
          <p:nvPr/>
        </p:nvSpPr>
        <p:spPr>
          <a:xfrm>
            <a:off x="609480" y="-19080"/>
            <a:ext cx="106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殊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7" descr="未标题-3.png"/>
          <p:cNvPicPr/>
          <p:nvPr/>
        </p:nvPicPr>
        <p:blipFill>
          <a:blip r:embed="rId5"/>
          <a:stretch/>
        </p:blipFill>
        <p:spPr>
          <a:xfrm>
            <a:off x="1289160" y="1504800"/>
            <a:ext cx="1073160" cy="1078200"/>
          </a:xfrm>
          <a:prstGeom prst="rect">
            <a:avLst/>
          </a:prstGeom>
          <a:ln w="0">
            <a:noFill/>
          </a:ln>
        </p:spPr>
      </p:pic>
      <p:sp>
        <p:nvSpPr>
          <p:cNvPr id="538" name="矩形 1"/>
          <p:cNvSpPr/>
          <p:nvPr/>
        </p:nvSpPr>
        <p:spPr>
          <a:xfrm>
            <a:off x="3031920" y="638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殊途完整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7"/>
          <p:cNvSpPr/>
          <p:nvPr/>
        </p:nvSpPr>
        <p:spPr>
          <a:xfrm>
            <a:off x="329400" y="47689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4" descr="未标题-2.png"/>
          <p:cNvPicPr/>
          <p:nvPr/>
        </p:nvPicPr>
        <p:blipFill>
          <a:blip r:embed="rId2"/>
          <a:stretch/>
        </p:blipFill>
        <p:spPr>
          <a:xfrm>
            <a:off x="304920" y="1440"/>
            <a:ext cx="2043000" cy="272124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5" descr="未标题-5.png"/>
          <p:cNvPicPr/>
          <p:nvPr/>
        </p:nvPicPr>
        <p:blipFill>
          <a:blip r:embed="rId3"/>
          <a:stretch/>
        </p:blipFill>
        <p:spPr>
          <a:xfrm>
            <a:off x="6477120" y="229860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42" name="矩形 6"/>
          <p:cNvSpPr/>
          <p:nvPr/>
        </p:nvSpPr>
        <p:spPr>
          <a:xfrm>
            <a:off x="1143000" y="-190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叶落作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图片 7" descr="未标题-3.png"/>
          <p:cNvPicPr/>
          <p:nvPr/>
        </p:nvPicPr>
        <p:blipFill>
          <a:blip r:embed="rId4"/>
          <a:stretch/>
        </p:blipFill>
        <p:spPr>
          <a:xfrm>
            <a:off x="525600" y="1657440"/>
            <a:ext cx="846000" cy="84924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6"/>
          <p:cNvSpPr/>
          <p:nvPr/>
        </p:nvSpPr>
        <p:spPr>
          <a:xfrm>
            <a:off x="762120" y="48387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04:0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